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E5E-4C1F-4511-B8C4-B858A69A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74C-32AC-4A07-8219-7F5EB4F7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CB1-3DB4-4239-A0F5-91CD4370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62F-5722-45C0-B7C3-06FB92B5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443-8FA1-4425-85E1-43A8610D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BB9-FA09-4DDD-A4E2-EFB2C390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7A3-80F5-403C-A740-4058D7D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108-E404-47B9-98B0-F6A48317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F92-F1EB-425C-B970-CB2A241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3EE-1ECD-4DEC-BC20-E084B034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A7B-E938-4E82-85C2-D9F074D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8EC-972B-4CA0-8B4A-B16F48E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C242-D13F-493F-B768-4C62FC683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Times New Roman"/>
              </a:rPr>
              <a:t>AUTÓMAT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195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Optimización de redes neurona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8248680"/>
            <a:ext cx="601992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º Ingeniería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Superior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52578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 u="sng">
                <a:solidFill>
                  <a:srgbClr val="000000"/>
                </a:solidFill>
                <a:uFillTx/>
                <a:latin typeface="Times New Roman"/>
              </a:rPr>
              <a:t>EN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0:44:43Z</dcterms:created>
  <dc:creator>Oscar Martínez Valpuesta</dc:creator>
  <dc:description/>
  <dc:language>en-US</dc:language>
  <cp:lastModifiedBy>Oscar Martínez Valpuesta</cp:lastModifiedBy>
  <dcterms:modified xsi:type="dcterms:W3CDTF">2001-04-19T20:44:52Z</dcterms:modified>
  <cp:revision>1</cp:revision>
  <dc:subject/>
  <dc:title>Presentación de PowerPoint</dc:title>
</cp:coreProperties>
</file>