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D34-C363-47F4-81C6-5A48DF17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FED-E1E4-4DF6-B8C5-C303465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97F-21E5-4775-B73A-D07ADA71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412-88C8-4894-BE07-735ED51C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68A-D82E-47D7-AAA5-0B8DEFFC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53E-1BB0-4B34-8708-CD27F30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3DF-789C-4F93-BA53-D42A2435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EE9-8116-49F1-AEF0-C1C2D80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93B-F884-4605-A243-E276F4D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153-B855-445F-A970-55B2B9F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6E6-7E5B-4178-AB36-6EB2004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87A-1879-49D4-B8C0-EAB1A2C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2DC-E281-431B-A0C3-BD8C133F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8288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s Avanzados de Sistema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4766760"/>
            <a:ext cx="54291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uffer caché de disco para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82296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8518680"/>
            <a:ext cx="47246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Óscar Martínez Val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so 99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u1571@csi.ull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6002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6858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Superior de Informática – Universidad de La La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º Ingeniería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2:54:16Z</dcterms:created>
  <dc:creator>Oscar Martínez Valpuesta</dc:creator>
  <dc:description/>
  <dc:language>en-US</dc:language>
  <cp:lastModifiedBy>Oscar Martínez Valpuesta</cp:lastModifiedBy>
  <dcterms:modified xsi:type="dcterms:W3CDTF">2000-07-10T13:07:34Z</dcterms:modified>
  <cp:revision>2</cp:revision>
  <dc:subject/>
  <dc:title>Conceptos Avanzados de Sistemas Operativos</dc:title>
</cp:coreProperties>
</file>