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311-E225-49BA-A468-CA5481DB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2CB-17E5-40CA-A354-9FAE8D06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12A-DE5B-45BC-AD2C-B48A4BC6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CC84-5C42-42AF-A463-6C04CDE7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33F-09C0-4083-8C6A-B9E7FED8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A21-4F67-4115-9446-FC58082E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DCE-CC88-435D-ACE2-933B776F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F19-54AC-4A92-A531-82327A45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168-6221-4ACC-A552-5EC38C94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5B5-91AF-4105-ACDF-D73AA266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041-8244-4649-A637-93543CC8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5E0-C9F5-4579-80EA-FCE8C3C1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99CF-5EFD-40A7-BC93-3AC4C0A81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58291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Times New Roman"/>
              </a:rPr>
              <a:t>Inteligencia Artificial: Búsque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45716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Búsquedas a cieg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profund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amplit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direc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Búsquedas informa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a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cristalización simu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goritmo 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255420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255420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55420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554200"/>
            <a:ext cx="22860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33544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33544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33544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33544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4040280"/>
            <a:ext cx="228600" cy="228600"/>
          </a:xfrm>
          <a:prstGeom prst="flowChartConnector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40402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40402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40402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6686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34686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34686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4686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668680"/>
            <a:ext cx="685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81360" y="2782800"/>
            <a:ext cx="0" cy="571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95760" y="2782800"/>
            <a:ext cx="0" cy="57168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10160" y="2782800"/>
            <a:ext cx="0" cy="571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980720" y="4154400"/>
            <a:ext cx="685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66960" y="35830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95760" y="3583080"/>
            <a:ext cx="0" cy="45720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10160" y="35830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895120" y="4154400"/>
            <a:ext cx="685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2438280"/>
            <a:ext cx="3429000" cy="19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90676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scar Martínez Val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1T21:17:53Z</dcterms:created>
  <dc:creator>Oscar Martínez Valpuesta</dc:creator>
  <dc:description/>
  <dc:language>en-US</dc:language>
  <cp:lastModifiedBy>Oscar Martínez Valpuesta</cp:lastModifiedBy>
  <dcterms:modified xsi:type="dcterms:W3CDTF">2000-05-21T21:24:25Z</dcterms:modified>
  <cp:revision>2</cp:revision>
  <dc:subject/>
  <dc:title>Inteligencia Artificial: Búsquedas</dc:title>
</cp:coreProperties>
</file>