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0B9-E0AE-413C-90DD-7DC98CA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032-8A82-4048-ADAD-02484DB4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5EE-4131-4DD2-B583-3557BCC3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415-1E43-46FB-86C1-ED8967D3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D513-411A-41BC-B454-255514F1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89FB-AD33-4A57-8F77-04162D5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E3F-4056-43FC-ADD8-7B00B29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726-70AB-4F9C-AD56-ED1E147F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3D35-3430-48E0-9B06-7A205CEA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A561-0BC7-40E7-9E35-5AE6031C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513-1564-48EC-915C-E68D494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2D9-929F-40CD-81E9-816DCDD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05E-3A05-4A99-AD5E-8449024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2EC2-0DB6-49F0-9180-6A10499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8258-2005-4905-87F4-955E4EB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561-381B-44DE-98F8-3D9CFA2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C47D-2B82-4F07-B9C2-A17E8EDF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756-F3C7-4D7D-AA66-31113A1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351-7831-4FEE-BF26-CF51640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E83-D9F6-4A51-BFBE-537154C2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F5D-3A07-423E-A6B4-E8279AF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B4B-FA27-4EDD-A280-C9123D1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03A-43F3-43A2-ABA8-0263B2D6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479-5DE9-4C23-9671-5F829CB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660-8294-4CBF-BC66-A4FC69C055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F482-9A10-47D7-801B-DE3B9BF2F7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Proyecto CARVIS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4952880"/>
            <a:ext cx="3733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arvisa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309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bjetivo de la empre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de la organiz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28800" y="2971800"/>
          <a:ext cx="52578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52578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62120" y="6019920"/>
            <a:ext cx="6248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bcbcb"/>
                </a:solidFill>
                <a:latin typeface="Times New Roman"/>
              </a:rPr>
              <a:t>Descripción</a:t>
            </a: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 del </a:t>
            </a: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cturación, contabil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yuda ru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tre las se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ul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estriccio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 exist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rdenador de temas burocrá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eso a las aplic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edidos y facturación on-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1" lang="es-ES" sz="4400" spc="-1" strike="noStrike">
                <a:solidFill>
                  <a:srgbClr val="cbcbcb"/>
                </a:solidFill>
                <a:latin typeface="Times New Roman"/>
              </a:rPr>
              <a:t>ecurs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istema de desarrol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3048120"/>
          <a:ext cx="6172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172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120" y="5181480"/>
            <a:ext cx="7315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iesg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obo servidor e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allo comunicaciones co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rte de suministro eléctrico e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chas clave d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plan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105520"/>
            <a:ext cx="6400800" cy="485640"/>
          </a:xfrm>
          <a:prstGeom prst="rightArrow">
            <a:avLst>
              <a:gd name="adj1" fmla="val 36602"/>
              <a:gd name="adj2" fmla="val 5418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24080" y="5460840"/>
            <a:ext cx="657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8 M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48640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15 M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5486400"/>
            <a:ext cx="64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30 J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486400"/>
            <a:ext cx="730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21 Ju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352680"/>
            <a:ext cx="243864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dquisición de mate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886200"/>
            <a:ext cx="190512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343400"/>
            <a:ext cx="411480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800600"/>
            <a:ext cx="167652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m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Cos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696.809 ptas. (10.198,03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00.900 ptas. (1.808,45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manos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244.000 ptas. (7.476,59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tros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67.000 ptas. (1.003,69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05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tal: 3.362.773 ptas (20.210,67 €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car Martínez Valpuesta</cp:lastModifiedBy>
  <dcterms:modified xsi:type="dcterms:W3CDTF">2000-05-17T13:32:30Z</dcterms:modified>
  <cp:revision>36</cp:revision>
  <dc:subject/>
  <dc:title>Presentación de PowerPoint</dc:title>
</cp:coreProperties>
</file>