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C01-1A78-4701-B40E-5B870DFA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59C-3A07-4799-94BB-EFA235CF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A75-09B2-4871-8079-FFC9E522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14F-96FF-4ED1-B4CA-E651D480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685-108D-47A0-9403-46C4B09F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57F-3EEA-4525-A257-EBC0AABA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5BF-A8AA-4E5D-A7E9-A239819B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1B2-CAFA-49DB-898D-BD61B31C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15C-5BBE-4335-9274-AAE4C4E7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9CD-A467-45ED-8D41-0BA8BAEE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87B-F007-417D-AE83-14E1A98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C8F-02E0-4B14-82A8-AF91AD41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372-EDBB-4338-A373-49999E895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ROBÓTICA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uñeca-robot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67057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ipulador PU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8686800"/>
            <a:ext cx="44197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º Ingeniería Superior 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entro Superior de 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6T09:01:57Z</dcterms:created>
  <dc:creator>Oscar Matinez</dc:creator>
  <dc:description/>
  <dc:language>en-US</dc:language>
  <cp:lastModifiedBy>Oscar Martínez Valpuesta</cp:lastModifiedBy>
  <dcterms:modified xsi:type="dcterms:W3CDTF">2001-02-18T22:29:27Z</dcterms:modified>
  <cp:revision>5</cp:revision>
  <dc:subject/>
  <dc:title>Sin título de diapositiva</dc:title>
</cp:coreProperties>
</file>