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ACAEFC-FF87-4BAF-B35B-CC383D9F1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main poin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800" y="6324480"/>
            <a:ext cx="4114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(c) 1996 David M. Howard  www.greatbasin.net/~daveh   </a:t>
            </a:r>
            <a:fld id="{ED813227-4D19-42DF-90D5-95A829189607}" type="slidenum">
              <a:rPr b="0" lang="en-US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Embedded Web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M. Howard www.greatbasin.net/~dave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h@hendrix.reno.nv.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28640" y="666720"/>
            <a:ext cx="1952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xample HT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tml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head&gt;&lt;title&gt;Hello World&lt;/title&gt;&lt;/head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body&gt;Hello World&lt;/body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A HREF=“next.html”&gt;next slide&lt;/A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/html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Content -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Graph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P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P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build on the fly,  usually ca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ontain anim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a lot of storag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Content - Execu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script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X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ckwave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o and Video Play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Applications and Plug-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</a:t>
            </a:r>
            <a:r>
              <a:rPr b="0" lang="en-US" sz="4400" spc="-1" strike="noStrike">
                <a:solidFill>
                  <a:srgbClr val="f6bf69"/>
                </a:solidFill>
                <a:latin typeface="Symbol"/>
                <a:ea typeface="Symbol"/>
              </a:rPr>
              <a:t>™ </a:t>
            </a: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d Embedded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t feasible? If not now, then so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 the Java from the embedded system, run it on the Client to provide the user interface,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face goes with the embedded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oss platform portability of Java applets cuts loose any host configuration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on the embedded target enables third party enhancements to standard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43720" y="5353200"/>
            <a:ext cx="7714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chanism of the Web  Server 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ted on the fly by executables run by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ervers have some sort of API for running executable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-BIN, Database Back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734000" y="1943280"/>
            <a:ext cx="2957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UR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niform Resource Locator is a general mechanism that identifies a network resour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maps the protocol and ‘hostname’ part to a ‘net resource’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erver maps the URL to a ‘document’ and returns it to the cli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‘document’ is not necessarily a file, it is a datastream that comes back, regardless of how it was generated. Any resemblance to a directory structure is coincident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96080" y="504720"/>
            <a:ext cx="8859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greatbasin.net/~daveh/index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greatbasin.n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daveh/index.htm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yahoo.com/search?p=tar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p=searc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62160" y="352440"/>
            <a:ext cx="13431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ypertext Transfer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latest HTTP RFC from www.w3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Chapter 13, TCP/IP Illustrated, Vol 3, Stev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stateless client/server procot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pens a TCP connection, issue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QUE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erver replies with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PO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closes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tocol data is ASC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 sp URL  sp HTTP-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RLF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ty-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GET”, “POST”, “HEA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/index.htm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-Versio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/1.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GET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whatever information is associated with the URL and send it b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 contain additional information about the request and the client that control and arbitrate protocol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is enough to implement a complete interface with the exception of  large client to server downlo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s on User Interfaces and how the Web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age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 of the Web : HTTP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ing the 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Web Server Design and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GET Requ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75248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 from Netscape Navigator v3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 /index.htm HTTP/1.0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nection: Keep-Aliv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ser-Agent: Mozilla/3.0 (Win95; I)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ost: hendri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ccept: image/gif, image/x-xbitmap, image/jpeg, image/pjpeg, */*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GET with Arg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 /cgi-bin/f1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?p1=1&amp;p2=2&amp;p3=3&amp;p4=%2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/1.0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onnection: Keep-Alive 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User-Agent: Mozilla/3.0 (Win95; I)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ost: hendri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ccept: image/gif, image/x-xbitmap, image/jpeg, image/pjpeg, */*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Respo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-Version Status-Code Reason-Ph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RLF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ty-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-Version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HTTP/1.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-Cod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20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son-Phra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O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- Respon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Frontpage Personal Server, using htest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/1.0 200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at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Sunday, 15-Sep-96 04:03:30 G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rver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FrontPage-PWS32/1.1.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nt-typ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text/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ast-modifie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Thursday, 18-Apr-96 07:00:00 G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ntent-lengt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: 8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crlf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lt;html&gt; .... (body is 829 bytes exact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TP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ificant overhead from use of a new TCP connection for each trans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-aliv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ime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can be a lot of ‘closing’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excess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make multiple simultaneous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urrent multi-threaded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cache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“Expires: “ header to prevent 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esigning the Web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inciples of good user interface 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techniques of web page 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type on work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requirements are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synergy of the various available content typ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Content And Techniq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Rate Stati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and G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Rate Dynami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Rate Inp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Rate Da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ve Inp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/custom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o Is doing it n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90512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tice they are all network produ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b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.tribe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sco Syste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www.cisco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 ro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ma 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 La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Sof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tec In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705720" y="2638440"/>
            <a:ext cx="99072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ther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Support (SS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 vs.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enough IP addresses! - IP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09480" y="29718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Embedded Web Server Design and Imple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667480" y="666720"/>
            <a:ext cx="195264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bedded Systems User Interfaces are Problema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nsive to Devel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 Depen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/Performance Tradeo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 special skill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286680" y="2333520"/>
            <a:ext cx="1641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esign Requir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concurrent ser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Network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HTT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d in content, no filesystem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implementation for Windows/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d, statically allocated resource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, connections,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rver Archite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owing components are requi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 and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Dispat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dispat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Init and TCP/IP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680" y="55627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ILE : EWSW95T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52520" y="1743120"/>
            <a:ext cx="643104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Connection Disp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5000" y="1981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ILE : EWSW95T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698480"/>
            <a:ext cx="53341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Embedded Server Th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791320" y="22860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ILE : EWS001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41400" y="1523880"/>
            <a:ext cx="72118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_io_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IO functions link system independent server core to particular tar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callo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m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14400" y="5410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EWSW95T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_request_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Object contains data that represents the results of a received and parse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a request is received,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gument 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includes buffers for received and parsing GET request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800600" y="54100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EWS003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RL Dispatc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SessionRespons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 linear table lookup that matches the URL from the GET request to a function pointer to the ‘head’ function corresponding to the URL. The web master sets this table up with the URL’s and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’ function fills in respons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specific, system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48480" y="428760"/>
            <a:ext cx="135252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5867280" y="571500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_response_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05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Object is filled in by application ‘head’ function (called by URL dispatcher), and is used by the server core to send the response h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processing, the response object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_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_typ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tml,plain text,gif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to application ‘body’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URL Handl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d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ntent_length or 0 if can’t deter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ontent_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s the entity-body of th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utput whatever it w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in BINAPP.C for various content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macros in BINAPP.C for static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19051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Web User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thing you see on the web could come from an embedded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and Netscape do the hard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computer User’s can deal with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er interface goes with the embedded system. Distribution Problem S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an easily mastered skill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HTML stored as a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HTML output of system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HTML/GIF stored a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URL fet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Streaming U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tat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d as a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char *html =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&lt;html&gt;&lt;body&gt;hello world&lt;/body&gt;&lt;/html&gt;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d as ‘hex’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directory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hex program converts text file to compilable hex data in char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char *hex = {0x20,0x40...}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Dynamic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HTML or binary data generated in the ‘body’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way you return html pages with system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 boilerplate can be strings. Fill in field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nt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orm Inp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d as a dynamic head/body 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dy can look at ‘rqp-&gt;Arg’ to get raw argument st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functions parse argument into separate st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y processes arg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return canned HTML or dynamic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</a:t>
            </a:r>
            <a:r>
              <a:rPr b="0" lang="en-US" sz="4400" spc="-1" strike="noStrike">
                <a:solidFill>
                  <a:srgbClr val="f6bf69"/>
                </a:solidFill>
                <a:latin typeface="Symbol"/>
                <a:ea typeface="Symbol"/>
              </a:rPr>
              <a:t>™ </a:t>
            </a: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76520"/>
            <a:ext cx="777240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Applets are a network secure subset of the entire Java programming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 Windows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ockets and UR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ts are restricted on the client 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read or write client side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only connect to server it cam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ore is needed, distribute a Java application rather than an app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48640" y="2409840"/>
            <a:ext cx="9763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d as ‘hex’ data as HTML w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directory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name must match original ‘applet.class’ filename. Java is very case sen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uploads and runs the applet, which then communicates back to the target either via the web server or dedicated soc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 URL Fe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va makes it very easy to fetch data from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plet spawns a thread which periodically fetches a URL from the web server that has dynamic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Java applet parses the data and displays it in fields on the applet wind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086600" y="515880"/>
            <a:ext cx="905040" cy="1312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048120" y="55627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ct.java and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  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Java Streaming UR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peed up the previous example, the java applet has a thread that opens the URL and reads from it continuously, stor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RL handler runs and outputs data until the Java applet kills the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parate Java thread updates the display objects periodical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76440" y="600120"/>
            <a:ext cx="1228680" cy="941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048120" y="56386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streaming.java and BINAPP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133720" y="60948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orting the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s bad as snarfling the Garth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EWS00?.C are portable as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EWSW95T contains all system dependen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QW95T.C contains implementations of blocking FIFO queue for windows threa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BINAPP.C contains the Web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all files, link them together and enter at ‘main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 iterative server, set NUMBER_OF_SERVER_TASKS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38240" y="428760"/>
            <a:ext cx="124776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Other Implem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ux Multiprocess - at daveh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cp/ip - put server on host, communicate to embedded system over serial line with proprietary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OS proof of concept - thanks to Microtec Inc. for providing VRTXSA/86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    </a:t>
            </a: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ernet Appli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ances/Net PC’s are the mirror image of this concep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on the network bandwagon. Get rid of all knobs, dials, switches, buttons. Buy an internet appliance/net PC and use that for the inter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42840" y="466560"/>
            <a:ext cx="1495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elper To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with Server Distrib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h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filename LS and GREP for W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Recommend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t you have to buy th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 Navigator and MS Internet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Frontpage, Hotdog Pro, Gimpel L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VC++ 4.x, Microtec VRTXsa/86 for P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Cl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.netscape.com &amp; www.microsof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w3.org &amp; www.apache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greatbasin.net/~dave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s, RFC’s and Drafts at www.w3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ypertext Transfer Protoco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ra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ypertext Markup Languag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fc18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Universal Resource Locat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fc173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96200" y="581040"/>
            <a:ext cx="1276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mbedded system is just another web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Design and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2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43080" y="581040"/>
            <a:ext cx="48481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mbedded Server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Connec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’ an IO descriptor (sock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’ reques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arse request data into local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Resp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ll application URL dispatc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’ canned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all application ‘bod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ssionDis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os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DL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472428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: EWS001.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Interface Applicatio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75248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ystem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TTY/Tel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752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SH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upload/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ub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4800600"/>
            <a:ext cx="73152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blown, dynamic, complete user interface with Java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  <a:ea typeface="Arial"/>
              </a:rPr>
              <a:t>Mechanism of the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2600" y="1676520"/>
            <a:ext cx="6362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echanism of the Web   Client S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ed from the server, rendered by the Client according to the client’s rules and what it suppo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oaded from the server, executed on the client, renders based on the runtime environ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ncurrent Requ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Other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eb Page Content -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T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i format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 in cell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s or bulle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yaho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 mechan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al too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.netscape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  <a:tabLst>
                <a:tab algn="l" pos="1430280"/>
                <a:tab algn="l" pos="47480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M. Howard</dc:creator>
  <dc:description/>
  <dc:language>en-US</dc:language>
  <cp:lastModifiedBy>David Howard</cp:lastModifiedBy>
  <cp:revision>0</cp:revision>
  <dc:subject/>
  <dc:title>Embedded Web Server Presentation</dc:title>
</cp:coreProperties>
</file>