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A38-C655-4980-89B2-E2696392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CF6-AFDC-4F54-ADBA-71745E24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3E7-1392-4086-9133-BA698B13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1A6-4B5E-4718-A622-F23223B9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076-27C1-4107-ADAE-E9E250AA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9E1-EBE2-4FE5-BDFA-0D622B5F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2A1-390C-468C-92E7-4DADFDA9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7B9-CB50-476E-A009-B5EC67F3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3F1-2A88-4F9E-874A-4ED67739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457-7465-498B-8CF9-F09DBB47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0C4-6E13-4453-9CCD-04C02152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EFE-910E-4300-A150-C84015E3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B08E-6C12-453C-A18D-990F6CD95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631880"/>
            <a:ext cx="70866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imes New Roman"/>
              </a:rPr>
              <a:t>Comunicación entre proces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imes New Roman"/>
              </a:rPr>
              <a:t>utilizando sockets de 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(Modelo Cliente-Servidor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5286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34320" y="449568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55627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5286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79600" y="556272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34320" y="449568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55627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5286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79600" y="556272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48720" y="52578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ctura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34320" y="449568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57150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33920" y="55627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" y="5286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79600" y="556272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48720" y="52578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ctura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848720" y="597204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ierre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83120" y="37944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orientada a conexión (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934320" y="54864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33920" y="53341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5057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90520" y="537840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48720" y="5029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cepción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848720" y="574344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ierre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838080"/>
            <a:ext cx="182880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Abrir el canal de 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743120"/>
            <a:ext cx="182880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Comunicar a la red la dirección del ca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3983040"/>
            <a:ext cx="129564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Times New Roman"/>
              </a:rPr>
              <a:t>fork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4867200"/>
            <a:ext cx="129528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Atender al 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5791320"/>
            <a:ext cx="129528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Fin del proceso hi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9066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Esperar petición de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2774880"/>
            <a:ext cx="1600200" cy="76212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914400"/>
            <a:ext cx="198108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Abrir el canal de 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1819440"/>
            <a:ext cx="198108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Conectar con la dirección del serv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2809800"/>
            <a:ext cx="198108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Pedir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50958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Fin del proceso 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3713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Esperar respue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3581280"/>
            <a:ext cx="1600200" cy="76212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77840" y="30492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72760" y="304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371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228600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350532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144792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236232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312408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4343400"/>
            <a:ext cx="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680" y="3200400"/>
            <a:ext cx="952200" cy="990720"/>
          </a:xfrm>
          <a:custGeom>
            <a:avLst/>
            <a:gdLst/>
            <a:ahLst/>
            <a:rect l="l" t="t" r="r" b="b"/>
            <a:pathLst>
              <a:path w="600" h="624">
                <a:moveTo>
                  <a:pt x="600" y="624"/>
                </a:moveTo>
                <a:cubicBezTo>
                  <a:pt x="324" y="484"/>
                  <a:pt x="48" y="344"/>
                  <a:pt x="24" y="240"/>
                </a:cubicBezTo>
                <a:cubicBezTo>
                  <a:pt x="0" y="136"/>
                  <a:pt x="336" y="48"/>
                  <a:pt x="456" y="0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4114800"/>
            <a:ext cx="38088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cubicBezTo>
                  <a:pt x="112" y="8"/>
                  <a:pt x="224" y="16"/>
                  <a:pt x="288" y="96"/>
                </a:cubicBezTo>
                <a:cubicBezTo>
                  <a:pt x="352" y="176"/>
                  <a:pt x="368" y="328"/>
                  <a:pt x="384" y="480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946240"/>
            <a:ext cx="2819520" cy="177840"/>
          </a:xfrm>
          <a:custGeom>
            <a:avLst/>
            <a:gdLst/>
            <a:ahLst/>
            <a:rect l="l" t="t" r="r" b="b"/>
            <a:pathLst>
              <a:path w="1776" h="112">
                <a:moveTo>
                  <a:pt x="1776" y="16"/>
                </a:moveTo>
                <a:cubicBezTo>
                  <a:pt x="1420" y="8"/>
                  <a:pt x="1064" y="0"/>
                  <a:pt x="768" y="16"/>
                </a:cubicBezTo>
                <a:cubicBezTo>
                  <a:pt x="472" y="32"/>
                  <a:pt x="120" y="96"/>
                  <a:pt x="0" y="112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3962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20" y="720"/>
                  <a:pt x="440" y="672"/>
                  <a:pt x="576" y="576"/>
                </a:cubicBezTo>
                <a:cubicBezTo>
                  <a:pt x="712" y="480"/>
                  <a:pt x="704" y="288"/>
                  <a:pt x="816" y="192"/>
                </a:cubicBezTo>
                <a:cubicBezTo>
                  <a:pt x="928" y="96"/>
                  <a:pt x="1088" y="48"/>
                  <a:pt x="1248" y="0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88620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o pa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40384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o h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3049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sque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" y="5057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33920" y="53341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8600" y="5057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90520" y="537840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733920" y="53341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8600" y="5057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90520" y="537840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848720" y="5029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cepción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934320" y="54864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733920" y="53341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8600" y="5057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90520" y="537840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848720" y="5029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cepción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48720" y="574344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ierre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837360" y="523800"/>
            <a:ext cx="72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Compilación de programas en C que usan so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62120" y="1523880"/>
            <a:ext cx="7407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#include &lt;sys/types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#include &lt;sys/socket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tilizar </a:t>
            </a: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cc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con las opciones </a:t>
            </a: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-lsocket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-ln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.e.: </a:t>
            </a: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$cc -lsocket -lnsl programa.c -o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odas las llamadas de sockets regresan -1 si no tuvieron éxit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ablecen la variable externa er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449568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57150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55627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286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79600" y="556272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52578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ctura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597204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ierre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8312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orientada a conexión (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274320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2743200"/>
            <a:ext cx="0" cy="9907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1T20:23:11Z</dcterms:created>
  <dc:creator>Ignacio A. Vargas</dc:creator>
  <dc:description/>
  <dc:language>en-US</dc:language>
  <cp:lastModifiedBy>Compaq User</cp:lastModifiedBy>
  <dcterms:modified xsi:type="dcterms:W3CDTF">1998-10-01T22:44:35Z</dcterms:modified>
  <cp:revision>7</cp:revision>
  <dc:subject/>
  <dc:title>Sin título de diapositiva</dc:title>
</cp:coreProperties>
</file>