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5F7-4B98-4BDF-8A9E-D151FCFA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7EC-37B3-4D18-A497-848FF03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D9F-7AFD-4BE4-B987-71EB7A90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657-FE7E-4323-8E27-37B3A16F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EB2-2C75-406E-87D5-C5DD8E6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7B1-B3C1-462D-94A4-CAA51AF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88A-F23F-47D9-9A19-C994D04A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06A-5F4D-4F5C-9EB1-5ABF7E4E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B20-29F8-4863-864F-71CFDA1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F09-8518-457E-94A9-4BEF37A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A85-49F0-4122-896B-14DEFB0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B68-33F2-49F9-86D2-C428001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93D7-A552-4703-8C88-1EEFC1D3B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Llamadas a Procedimientos Remotos / R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 Remote Procedure Call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295280"/>
            <a:ext cx="761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 pesar de sus ventajas, el empleo de RPCs tiene algu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inconven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las máquinas pueden ser diferentes, es necesario utilizar algún formato estándar para el intercambio de datos (p.e. X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os datos deben ser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aplanad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(marshalling) para poder ser enviados y recibidos correctamente por el canal de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ueden ocurrir errores en la comunicación de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cliente no encuentra a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pierde la solicitud del cliente a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pierde el mensaje de respuesta de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servidor falla antes de recibir una solic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cliente falla después de enviar una solic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295280"/>
            <a:ext cx="7620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n RPC se pueden implementar comunicaciones bloqueantes y no-bloque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Generalmente utilizan TCP, aunque pueden usa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sistema más conocido de RPC, fue desarrollado por Sun Micr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tocolos para RP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430880"/>
            <a:ext cx="693396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Nombre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  Cliente       Servidor     Cliente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R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     Repl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R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     Repl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cknowledge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nví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read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un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80060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0552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41008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4020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295280"/>
            <a:ext cx="761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forma más natural de desarrollar RPCs es depurarlas primero como funciones locales y después analizar las alteraciones que sufrirán por la ejecución rem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ara facilitar la tarea de conversión UNIX ofrece el comando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rpcgen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que genera la versión remota a partir de un archivo de especificación cuyo nombre termina con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rpcgen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utiliza información contenida en los prototipos de las funciones (tipo del valor devuelto y tipos de parámetros) y cre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squelet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de funciones en los que el programador inserta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os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squelet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indican cómo llamar a las funciones remotas y en qué forma dichas funciones devuelven su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362240"/>
            <a:ext cx="792504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jemplo: math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/*  math.x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struct intpair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estructura definida usad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a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como parámetro de ADD y MULTIPLY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program MATHPROG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nombre del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version MATHVERS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versión del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ADD(intpair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1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servicios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MULTIPLY(intpair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2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ofrecidos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CUBE(int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3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por serv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 = 1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número de versió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 = 536870920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id del programa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295280"/>
            <a:ext cx="76197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reación de archivos de sopo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$rpcgen -a math.x 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La opción -a indica que genere todos los arch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adicionales para soporte (</a:t>
            </a:r>
            <a:r>
              <a:rPr b="0" i="1" lang="es-ES_tradnl" sz="1600" spc="-1" strike="noStrike">
                <a:solidFill>
                  <a:srgbClr val="ffff66"/>
                </a:solidFill>
                <a:latin typeface="Arial"/>
              </a:rPr>
              <a:t>marcados con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   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00" y="4267080"/>
            <a:ext cx="10951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1120" y="2743200"/>
            <a:ext cx="2161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erve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27672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vc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96252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xd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47048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952880"/>
            <a:ext cx="23619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kefile.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68944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6146640"/>
            <a:ext cx="22096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ie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29000" y="2971440"/>
            <a:ext cx="9907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50496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41907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80060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876920"/>
            <a:ext cx="9144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952880"/>
            <a:ext cx="10670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5720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267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rpc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495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9880"/>
            <a:ext cx="7848360" cy="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562720"/>
            <a:ext cx="7848360" cy="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59320" y="2828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7720" y="436896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59320" y="587700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2154240"/>
            <a:ext cx="228600" cy="2005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219320"/>
            <a:ext cx="5486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Esqueleto del código del servidor, donde están las funciones a ejecutar localmente. Se completa con el código real de las funcion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ódigo de llamadas al sistema de rpc del servido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Filtros XDR del cliente y el servido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Header para los filtros XD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Archivo makefile para compil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ódigo de llamadas al sistema de rpc del cliente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Esqueleto del código del cliente. Se completa con el código real de llamado a las funciones rem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4920" y="1295280"/>
            <a:ext cx="2161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erve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3367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vc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12408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xd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9369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470480"/>
            <a:ext cx="236232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kefile.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0799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918040"/>
            <a:ext cx="22096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ie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946240"/>
            <a:ext cx="5486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nalizar y probar el código del programa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math.x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que es una calculadora simple basada en 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034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blema: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utilización del modelo cliente-servidor está basada en la transmisión y recepción de mensajes con el empleo de funciones típicas de entrada/sal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[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end( )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receive( )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to va en contra de la idea de que el usuario vea al sistema distribuido como un sistem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centr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2034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blema: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utilización del modelo cliente-servidor está basada en la transmisión y recepción de mensajes con el empleo de funciones típicas de entrada/sal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[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end( )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receive( )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to va en contra de la idea de que el usuario vea al sistema distribuido como un sistem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centr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581280"/>
            <a:ext cx="761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Una forma de evitar este problema e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ntener ocultos los  detalles de implementación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de las 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utilizan construcciones de mayor nivel, don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gramador no tiene que preocuparse de cómo resolver esos detalles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ermite concentrarse más en resolver el problema general de la aplicación que se está desarrollando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a de estas construcciones es l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lamada a procedimiento remot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4724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414324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Inicia ejecución de ad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24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64796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520" y="52578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14324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Inicia ejecución de ad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56386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add() regresa resu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4724280"/>
            <a:ext cx="327636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ceso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327636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19810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gr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473280"/>
            <a:ext cx="1828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terfaz 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369040"/>
            <a:ext cx="182880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rvicios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am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987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cle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4724280"/>
            <a:ext cx="327636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295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ceso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219320"/>
            <a:ext cx="327636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9810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grama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473280"/>
            <a:ext cx="1828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terfaz 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369040"/>
            <a:ext cx="182880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rvicios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am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5987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cleo del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5562720"/>
            <a:ext cx="29718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5911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057400"/>
            <a:ext cx="297180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438280"/>
            <a:ext cx="297180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1371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l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4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Ignacio A. Vargas</cp:lastModifiedBy>
  <dcterms:modified xsi:type="dcterms:W3CDTF">1998-10-20T19:18:16Z</dcterms:modified>
  <cp:revision>14</cp:revision>
  <dc:subject/>
  <dc:title>Sin título de diapositiva</dc:title>
</cp:coreProperties>
</file>