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0C33B-1419-42C4-8595-B0035CAD52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993AC-6DE7-4875-8D86-825EF669F9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D35EE-3795-4F14-B49C-FB4A6B17A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72F9-7A58-4A65-AB81-CC52D9F75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8B80C-F212-4048-A95B-BFA449F727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464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5600" y="20574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140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464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5600" y="39679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1C5BC-B132-4D7A-9263-16148F285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097C0-8925-41AE-A580-0A22517242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6914B-505E-463A-9914-594B562107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400" y="6091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EAC36-E745-47C7-8A96-EFF0CB3A4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8EE8-CA6C-47F8-B6FB-3230E68CF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79720" y="39679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4116E-BD05-4C74-8AE9-A552555F9E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9720" y="20574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39679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7804-9ACC-4C97-82A2-BC3C2BB5CB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0574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Click to edit the outline text format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616680" indent="-23724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48600" indent="-18972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3" marL="1328040" indent="-189720">
              <a:spcBef>
                <a:spcPts val="1950"/>
              </a:spcBef>
              <a:buClr>
                <a:srgbClr val="4d4d4d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our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4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Fif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5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ix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6" marL="1707480" indent="-189720">
              <a:spcBef>
                <a:spcPts val="1950"/>
              </a:spcBef>
              <a:buClr>
                <a:srgbClr val="4d4d4d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d4d4d"/>
                </a:solidFill>
                <a:latin typeface="Tahoma"/>
              </a:rPr>
              <a:t>Seventh Outline Level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d4d4d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B528-5C4F-4B2E-8EEB-B2E4D6D01982}" type="slidenum">
              <a:rPr b="0" lang="en-US" sz="1400" spc="-1" strike="noStrike">
                <a:solidFill>
                  <a:srgbClr val="4d4d4d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99cc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d4d4d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Marketing de um site Web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mo aumentar o tráfego qualificado no sit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scolha do nome do sit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olocação destacada nos sites de pesquisa: (até um 70% do tráfego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rie ou alugue listas de e-mails qualificad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eça, troque ou compre links de sites concorrido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Faça marketing off-line por todas as vias possívei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53A6-5ED3-439D-B85A-350D6E8828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riptografia de chave simétrica</a:t>
            </a:r>
            <a:br>
              <a:rPr sz="3400"/>
            </a:b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305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Mais simples, utiliza uma única chave para criptografar e recuperar os dado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É rápido desde o ponto de vista computacional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nível de segurança depende do tamanho da chave até um limit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Grande problema: gerenciamento da chav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adrão DES (utilizado nos órgãos do governo dos EUA) chave simétrica de 56 bits, mas na prática são utilizados apenas 40 bits. Já foi quebrad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750E4-0BBB-48C4-81B6-C2803DC4F74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riptografia de chave pública</a:t>
            </a:r>
            <a:br>
              <a:rPr sz="3400"/>
            </a:b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tiliza duas chaves: a pública e a privada, cada uma a inversa da outr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álculo complexo: chega a ser até 1000 vezes mais lento que o sistema anterior e precisa de chaves até 10 vezes maior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so combinado: sistema de chave pública para estabelecer uma comunicação segura e só então trocar a chave de algum sistema de chave simétrica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algoritmo de chave pública mais conhecido é o RSA (Rives-Shamir-Adleman, 1977) com chaves de 512, 1024 e 2048 bit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210A-9C0F-4135-B0FE-37B32F8EEA9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Quebra por força bruta.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1200240"/>
            <a:ext cx="8381880" cy="44384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247400" y="5698080"/>
            <a:ext cx="474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ASIC: Application Specific IC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Verdana"/>
              </a:rPr>
              <a:t>FPGA: Field-programmable Gate Array</a:t>
            </a:r>
            <a:endParaRPr b="0" lang="en-US" sz="20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C43AB-6BE8-4186-840F-2066C86238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ertificados Digitais (CDs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ecessidade de identificaçã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Baseados na criptografia de chave públic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s CDs podem ser usados em quatro área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estabelecer conexões Web seguras (SSL 3.0 ou HTTPS;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autenticação de clientes Web;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assinar e criptografar e-mail;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publicar softwar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E03A9-8EDE-4D14-AC9F-3C4E3571E0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Certificados Digitais (CDs)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São emitidos pelas autoridades certificadoras, ligação entre a chave (um número) e uma entidade (pessoa, organização, conta, equipamento, etc.)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Qualquer organização pode ser uma autoridade certificadora. Mais difícil é encontrar clientes que a levem a serio. Ex: Verisign, Thawte, etc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Ds mais comuns: certificados de assinaturas (contêm informações básicas (nome, organização, local, e-mail, etc.), a chave pública e a assinatura digital)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Outro tipo comum de CD: de intercâmbio de chaves que é utilizado para criptografar os dados a serem enviados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063BA-B2FF-4D0C-943D-BD5DDC47DD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Secure Socket Layer SSL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rotocolo de segurança mais utilizado na Internet (Netscape Navigator 1.0 e MS IE 3.0)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riptografa os dados na pilha TCP/IP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Garante a segurança durante a sessão de comunicações navegador-servidor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291600" indent="-29160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stabelecendo comunicação segura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protocolo de handshake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2" marL="971280" indent="-194040">
              <a:lnSpc>
                <a:spcPct val="95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intercâmbio de CDs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Perigos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Solução SSL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Confidenciabilidade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-&gt;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Criptografia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Manipulação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-&gt;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Integridade dos dados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  <a:p>
            <a:pPr marL="291600" indent="0">
              <a:lnSpc>
                <a:spcPct val="4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Falsa identidade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-&gt;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Certificado</a:t>
            </a:r>
            <a:r>
              <a:rPr b="0" lang="pt-BR" sz="2200" spc="-1" strike="noStrike">
                <a:solidFill>
                  <a:srgbClr val="4d4d4d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B2819-4941-4B50-822C-03D9932EC22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Secure Electronic Transaction SET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8153280" cy="4187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626200" y="1218960"/>
            <a:ext cx="2698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(www.setco.org)</a:t>
            </a:r>
            <a:endParaRPr b="0" lang="en-US" sz="2600" spc="-1" strike="noStrike">
              <a:solidFill>
                <a:srgbClr val="4d4d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5089-FC2C-41BB-9520-67DEED282B5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Tendências na padronização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xtensible Markup Language XML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08520" indent="-30852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Electronic Commerce Modeling Language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 ECML (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www.ecml.org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): carteira eletrônica com formato universal, lançada por grandes companhias. Em conjunto com SSL e SET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08520" indent="-30852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Electronic Commerce and Consumer Protection Group: coalizão de grandes companhias para estabelecer um ambiente legal mundial “estável e previsível”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08520" indent="-30852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www.bolero.net - Sistema de importação e exportação pela Internet permite que empresas façam negócios internacionais de forma padronizad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9F993-7C10-4D4F-ADD2-49603A43384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Linux e E-commerce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olução in-house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usto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Desempenho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Estabilidad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Flexibilidad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Ferramentas existentes: BD (MySQL, </a:t>
            </a:r>
            <a:r>
              <a:rPr b="0" lang="en-US" sz="2400" spc="-1" strike="noStrike">
                <a:solidFill>
                  <a:srgbClr val="4d4d4d"/>
                </a:solidFill>
                <a:latin typeface="Tahoma"/>
              </a:rPr>
              <a:t>PostgreSQL</a:t>
            </a: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), SSL, PERL, etc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Suporte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DB85-D171-4638-AD9D-AC1BEF919A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Linux e E-commerce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olução prontas: MiniVend (</a:t>
            </a: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www.minivend.com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istema completo de comércio eletrônico (catálogo eletrónico com sistema de vendas) </a:t>
            </a:r>
            <a:r>
              <a:rPr b="1" lang="pt-BR" sz="2600" spc="-1" strike="noStrike">
                <a:solidFill>
                  <a:srgbClr val="4d4d4d"/>
                </a:solidFill>
                <a:latin typeface="Verdana"/>
              </a:rPr>
              <a:t>gratuito</a:t>
            </a: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 (GNU)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Trabalha em Unix, Windows 95, 98, NT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Processamento online de cartões de crédito com  CyberCash, Authorize.Net, e PaymentNet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egurança com SSL e PGP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32640" indent="-33264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mpla conectividade com BD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E1212-16C6-4C38-81D3-BA675E066C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Marketing de um site Web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otas jornalísticas para anunciar seu site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Troque ou compre banners em outro sites (curta duração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ague comissão aos afiliados que mandam client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Marketing cuidadoso em salas de chat, newsgroups e listas de discussão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Seja o patrocinador de sites com tráfic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Não faça spam!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0BA68-9773-45B0-939F-F21570826A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Intershop (</a:t>
            </a:r>
            <a:r>
              <a:rPr b="0" lang="pt-BR" sz="3000" spc="-1" strike="noStrike">
                <a:solidFill>
                  <a:srgbClr val="4d4d4d"/>
                </a:solidFill>
                <a:latin typeface="Verdana"/>
              </a:rPr>
              <a:t>www.intershop.com</a:t>
            </a: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Sistema completo para a criação de lojas virtuais massiva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Integração com os sistemas de gerenciamento empresarial existentes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spcBef>
                <a:spcPts val="975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Facilidades de administração (para o Commerce Service Provider CSP e para o comerciante, conceito de ePage), Store Design Wizard, ajuda em contexto com busca total, gerenciamento de comunidades,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F2EAD-B210-4C2E-89E5-E9B628238ED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Verdana"/>
              </a:rPr>
              <a:t>Posição nos sistemas de pesquisa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950"/>
              </a:spcBef>
              <a:buClr>
                <a:srgbClr val="4d4d4d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Tahoma"/>
              </a:rPr>
              <a:t>Alguns fato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Mais de 95% dos usuários da Web encontram informação partindo dos 6 principais sistemas de pesquisa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Yahoo teve ~40 milhões de visitantes únicos em agosto de 1999.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As pessoas raras vezes conferem a partir dos primeiros 30 itens encontrados na pesquisa (90% do tráfego)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D888F-721D-4848-94E0-1862F1DB57D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ont.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tilizar páginas pontes (ou "doorway")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Utilize sites especializados no cadastro em sistemas de pesquis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301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aracterísticas das páginas: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Utilize um &lt;TITLE&gt; o mais descritivo possível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Inclua uma descrição do site bem no começo da página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Utilize tags &lt;META&gt;, exemplo: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0">
              <a:lnSpc>
                <a:spcPct val="95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Ex:     &lt;META name="keywords" content="HTML, programação, Web design"&gt;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8271-39EB-4FEA-A54E-0FDDE992855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egurança na Web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82% dos problemas de segurança teve origem nos próprios quadros das empresa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Causadores de problemas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Empregados Autorizados - 58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Empregados não-autorizados - 24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Ex-empregados - 13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Hackers, terroristas - 3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Concorrentes - 3%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(Fonte: PricewaterhouseCoopers e InformationWeek)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0963A-F00A-424F-8843-A67C96F69C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egurança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Requerimentos de Segurança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onfidenciabilidade: Proteção contra pessoas não autorizadas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Integridade: Manter a consistência dos dados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Autenticação: Garantia da identidade da pessoa que cria os dados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Não repudio:  O criador dos dados pode ser identificado como tal. 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2B406-15C7-4FB9-AE04-2A9FF1E4369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egurança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meaças à segurança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vazamento de informações,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violação da integridade,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troca de identidade,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negação de serviço,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uso ilegítimo.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A maior parte dos problemas de segurança na Internet são do tipo controle de acesso e de autenticação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0DB9F-92FA-47B1-980F-C7F5DBDFE1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Segurança (Cont.)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O elemento cultural: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política de controle de acesso à informação, 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lvl="2" marL="1143000" indent="-228600">
              <a:lnSpc>
                <a:spcPct val="95000"/>
              </a:lnSpc>
              <a:spcBef>
                <a:spcPts val="876"/>
              </a:spcBef>
              <a:buClr>
                <a:srgbClr val="4d4d4d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4d4d4d"/>
                </a:solidFill>
                <a:latin typeface="Verdana"/>
              </a:rPr>
              <a:t>cultura de gerenciamento de informação confidencial</a:t>
            </a:r>
            <a:endParaRPr b="0" lang="en-US" sz="20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=&gt; Uma forma eficiente de atacar a segurança de um sistema é começar com o teste dos usuários pouco cuidadosos. 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Programas grandes (um servidor Web) contêm erros. =&gt; manter-se atualizado sobre os upgrades existentes para o seu sistema.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4F77-BFDC-4136-8DD8-2D6A7267E0E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4d4d4d"/>
                </a:solidFill>
                <a:latin typeface="Tahoma"/>
              </a:rPr>
              <a:t>Criptografia</a:t>
            </a:r>
            <a:endParaRPr b="0" lang="en-US" sz="34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950"/>
              </a:spcBef>
              <a:buClr>
                <a:srgbClr val="4d4d4d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4d4d4d"/>
                </a:solidFill>
                <a:latin typeface="Verdana"/>
              </a:rPr>
              <a:t>Duas grandes categorias de algoritmos</a:t>
            </a: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riptografia de chave simétrica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4d4d4d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4d4d4d"/>
                </a:solidFill>
                <a:latin typeface="Verdana"/>
              </a:rPr>
              <a:t>criptografia de chave pública (assimétrica)</a:t>
            </a:r>
            <a:endParaRPr b="0" lang="en-US" sz="24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77B88-3B6F-42AE-8A95-0FE651D49C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1:37:13Z</dcterms:created>
  <dc:creator>Reinaldo Pérez Sánchez</dc:creator>
  <dc:description/>
  <dc:language>en-US</dc:language>
  <cp:lastModifiedBy>Reinaldo Pérez Sánchez</cp:lastModifiedBy>
  <dcterms:modified xsi:type="dcterms:W3CDTF">1999-09-28T16:59:38Z</dcterms:modified>
  <cp:revision>50</cp:revision>
  <dc:subject/>
  <dc:title>Marketing, Segurança e Exemplos</dc:title>
</cp:coreProperties>
</file>