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FCC3-39E8-4321-95BA-D7AC2DC7A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5AEF-2591-4BFD-ABB9-5928BF161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9519-34E0-4DD8-BC03-7CAA546D8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9CCF-F35E-4DE9-96A1-D707BB1A7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F5EE-D7C8-4797-8DD6-8121DA572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1AD1-0B88-486A-B9FC-3C10913B5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F240-4087-443D-A602-B3ECDBD3C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A3B7-1A72-4742-81FC-BB8F226A9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25C4-444F-4B4C-8055-E8344105C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6F0C-54DA-4659-83EA-8B13FC17F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B733-6C91-479A-984C-E60960619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C154-A3F9-4580-903C-AA27E2B6F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B8AD-0254-4020-9A6C-7E719602B806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2692440"/>
            <a:ext cx="6705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Idéias muito otimistas sobre o comércio eletrônico e como funciona na realidad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d4d4d"/>
                </a:solidFill>
                <a:latin typeface="Tahoma"/>
              </a:rPr>
              <a:t>Os mitos 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onverte os produtos em "comodities”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riceline.com: você da o preço e os fornecedores competem com ofertas (só na Web), OnSale.com, eBay.com, 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gentes de compra on-line: Excite Product Finder, MySimon, et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s preço não é tudo, o cliente quer marcas e serviços de confiança, (Dell e Amazon não têm os menores preços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diferenciação dos produtos agregando valor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2BED-F87B-4186-911E-E156C6054C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Resumind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o comércio eletrônico é uma tendência econômica significativ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rém, muitas das regras fundamentais dos negócios não mudam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é necessário: capital, liderança e execução novadoras, marketing abrangente, persistência e aplicação inteligente das tecnologias da inform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1727-4EBA-4B4D-B861-5E58472EC1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Introdu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escimento exponencial além das prediçõ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tuação de “gold-rush”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=&gt; exageração e simplificação da realida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2407-161E-4ADF-ACE1-352F203E4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É fácil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 barreiras para entrar são muito baix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edir que funcione de forma efetiva, que seja escalável e que tenha êxito torna a tarefa muito difícil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integração com a infra-estrutura de informática: ao site Web como a parte visíve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o garantir o tráfego de cli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ecnologia em constante evolução.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nstruir o site é apenas uma peça do projet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9555-8399-4F68-8F35-4C566DD65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É barato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 fato, se comparado com uma empresa real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rém, um projeto completo de site para comércio nunca é barato, (MS Site Server Commerce Edition: &gt;US$5,000.00; em média projeto básico: US$750,000.00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spcBef>
                <a:spcPts val="488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grande parte do trabalho (e dos recursos) é com os integrador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spcBef>
                <a:spcPts val="488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rketing: Amazon.com ~ US$30M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4834-5B4B-4E1B-A0D1-84BC3B86B4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Todos estão fazendo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er um site corporativo não significa estar trabalhando com comércio eletrônic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(Rupert Murdoch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mércio eletrônico não é necessariamente a opção para todos, não agor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hances como a da Amazon.com são pouc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m alguns casos, tem que esperar passar uma geração de executiv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253D-DE7C-48DD-8A69-A7BC55C3D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É lucrativo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ra cada Dell existem muitos casos de fracass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compra de produtos “subjetivos” tem falhad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os sistemas de pagamento não são adequad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s vendas on-line são apenas uma fração das vendas totais. Exemplo: % do total nos EUA em 1998 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564480" indent="-217080"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ndas on-line de livros: 5%, música: 2%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564480" indent="-217080"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ndas de viagens 1% do total de US$488 billion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564480" indent="-217080"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propaganda na Web ganho apenas 0.4%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usiness-to-Business: in 2003 -&gt; trilhões US$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uitas empresas estão pelo potencial do mercado, não pelos lucr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0418-6BED-4CE1-B0B4-83EF21D2FB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A Web iguala os concorrente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upostamente, empresas iniciantes concorrem diretamente com grandes corporaçõ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emplos: Amazon, E-Trade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m notáveis exceções os maiores jogadores no comércio eletrônico são grandes empres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manho significa: poder da marca, confiança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Internet não mudou a forma de ganhar a confiança, apenas igualou a troca de informaçõ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cesso a mercados globais não significa êxito no funcionamento nesse mercad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Web permite diminuir o número de fornecedores: concentração nos grande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8FDE-A002-4CFB-97EA-765B2909E3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Elimina os intermediário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m princípio a Web fornece acesso global instantâneo, então eliminemos os intermediári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ll vende ~ US$10M em PCs por di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mo regra, a Web complementa os canais de distribuição existentes, não substitui el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isco: 70% das vendas on-line são para revendedor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os distribuidores tradicionais estão entrando na Web, é muito vantajos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urgem intermediários de industrias específicas: PlasticsNet, ChemDex, MetalSite, pcOrder, etc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vários fornecedores =&gt; intermediári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BD8B-6B86-4A2B-9EAF-3C464C5803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ignifica o fim do marketing de massa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Web permite o marketing one-to-one a baixo custo e em grande escal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ersonalização permite manter os clientes mas não atrair novo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uma vez, a marca é que cont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Yahoo compra tempo de propaganda no estádio durante as Series Mundiais, Dell compra propaganda impressa em várias revist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o comércio eletrônico a construção da marca com marketing de massas é mais importante que nunc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C7DC-7F8A-4765-86DA-50701FEB0B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09-14T14:36:03Z</dcterms:modified>
  <cp:revision>31</cp:revision>
  <dc:subject/>
  <dc:title>Webonomics</dc:title>
</cp:coreProperties>
</file>