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221-EE80-47F5-9EA1-B493518A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D21-E348-436A-88E1-24C1E449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309-E294-4F4A-AF65-920369B8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5E7-39BF-4609-A78A-B9A4BB2F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81E4-344C-414F-82C2-2D1C18FB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F8C3-9D17-4B5B-9BD0-12CB52F9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3FEF-C2E1-46A7-8D29-0C25992A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0EA8-5EDE-448A-8FA7-00D9FD8D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D9F5-6FAF-4E5B-B4C9-0739830B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5BDD-53CF-42EF-AA21-4B33BE41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4C10-631E-49BE-89A6-91FD884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5A5-E6F1-419F-85CC-6DDEC870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95AC-108B-4807-9190-A4BE7544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CB98-5585-4AC3-B54A-45A7B731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0566-3663-41A9-9A64-3F493EEB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5FDA-0B08-47E9-82C7-2AE911C5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7744-3BCA-4844-91CA-3980085A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C9B-6557-43B5-82C3-4A548747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0C8-7059-4D6C-B00A-564C9E9F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67F-5DBE-43C3-8D9E-F9A958B1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A7B-5184-4533-878E-FC602AFF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52F-B74E-4809-B0C6-19C0AA9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341-96EF-41CB-BFAC-2860F69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044-77CF-4EF5-A5DF-9014BC9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Internet-Intranet F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36AF-6CCB-4BF1-BCF4-A0F1244D466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A369-6740-4A82-AB36-6911CEF24B4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errament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blemas com a organização da informação na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 ferramentas de pesquisa Internet procuram recursos que contêm certas palavras chaves que você forne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o de us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erramentas gratuit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D5A-28F2-494D-AC0F-4238375D38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Yahoo!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www.yahoo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retório de +200000 si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mado pelo cadastro de usuá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ácil de usar e bem organiz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Yaho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vegar pela hierarquia de serviços, subcategorias e si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C94-FDE3-4FAD-9409-48536AFF41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utros sistem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é?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www.cade.com.b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iner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taMiner, BookMiner, NewsMiner, SoftMiner, CDMiner, CopaMiner.                          (www.miner.dcc.ufmg.b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nde Achar: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ww.ondeachar.com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necedores de conteú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069-3980-46D6-BF16-78AB693E00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colher a ferramen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EF3-C6F5-46FD-B0C1-1B09346F9E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cebendo a informação em ca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 Pu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intCast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nais Microsoft e Netsc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108-8ADC-4C0D-9933-8610B419E0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egurança na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ternet é inerentemente insegura: dados trafegando por rou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ta situação não é exclusiva da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oluçõ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ptografia de chave pú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sinatura dig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ertificado dig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773-171E-4A77-B3C5-090D16A115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egurança na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iscos de segurança ao enviar 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rceiros escut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rceiros manipulando a inform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alsa identid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ros ris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ír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terial não-desejado (para crianç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ok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2B3-F52C-42EF-8E23-E421F1E739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gando a conta na We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-cash ou Cyber-coins: wallet eletrôn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icropagamentos, chaves +768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cure Electronic Transaction (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fiabilidade do pagamento e do ped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gridade dos dados transmit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abelecer identidade do dono do cart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e Socket Layer (SSL):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tes seguros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tps://  &amp; cade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65F-4736-4336-973E-9BFB67973D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errament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a dois tipos de ferramentas de pesquis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Índice de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retório de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binados com outros serviç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térios de sele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preensão dos result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figuração da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levância dos result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1F3-5E2A-4A65-A260-A95C41360E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Índice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 três par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obot (ou spider, ou worm, ou crawl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dexad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otor de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: Altavis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36E-C3AA-44EE-8FAB-639F085A8C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iretório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varrem a Internet procurando páginas Web: os usuários registram suas pági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resultado pode ser igual àquele dos índices de pesqui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: Yaho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0EE-1256-486B-956A-950A566C6E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écnic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ja específ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use palavras comu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renda a ajustar sua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variações de palav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sinôni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frases entre asp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maiúsculas se desej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enda a ferramenta que está us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4D3-92F1-484E-841A-810899463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binando palavr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booleana: AND, NEAR, OR, 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net AND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ranet NEAR bui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aguar NOT car NOT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cluindo ou omitindo: +,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+Tutorial + HTML -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urar índices do assu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2C4-82DF-48A1-B48B-55AF985493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ltavista  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altavista.digital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Índice de de +35 milhões de páginas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Web e Use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simples e avança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sultado: Link com primeiras frases da pág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finamento de uma pesqu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radução de páginas encontr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495-2BE3-4889-AB4B-DA9F241B26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cite 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www.excite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Web e Use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Índice e catálogo editorial (+60000 sit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boolea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por exemp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versos serviços.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People Finder, E-mail Lookup, Yellow Pages, Maps, Stock Quotes, Book Flights, Newsgroups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514-AB9F-4525-A3B8-3C25E38608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foseek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www.infoseek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dexa +55 milhões de páginas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ierarquia de catego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torna resultados altamente releva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tem pesquisa booleana, mas encadeia pesquis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variantes de palav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ros serviç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A91-6577-4810-824B-142CCB5349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einaldo Pérez Sánchez</cp:lastModifiedBy>
  <cp:lastPrinted>1998-10-27T18:32:18Z</cp:lastPrinted>
  <dcterms:modified xsi:type="dcterms:W3CDTF">1999-09-15T18:07:50Z</dcterms:modified>
  <cp:revision>69</cp:revision>
  <dc:subject/>
  <dc:title>CURSO INTERNET, INTRANET.</dc:title>
</cp:coreProperties>
</file>