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9C0-B6FB-4A98-A5AF-AC623B16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3BA-6BA9-4E90-AFAE-D9322670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CC1-C285-4790-8A5A-5B283B81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4397-F037-4F69-9EA8-A7906FF6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B6B8-3675-4B9A-89D5-F9A17A76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948D-E2C6-4449-A0FE-57632FFB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BC25-6D53-4D15-AF61-B134054A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0BE4-B0AD-465D-96E0-A7D85255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874F-485B-41C7-8E04-25E4A33D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03FD-166D-48F1-BC20-8EEB6AE0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1B8C-91B7-4DD4-983B-D524EEAE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973-6E59-41DD-9D5B-1B396027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C9F1-866C-4FFB-A0D7-59B65C46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AB9D-5EC8-4659-ABEA-5CCD513E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B8A2-883B-47D9-8067-27F9E86F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8E30-1892-49FA-8FA1-560E5149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EC86-C55F-4DFF-AB31-8C2A1028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207-413B-427C-BB16-D5C53CF3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ECE-0097-4642-86F3-AB40367A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8B9-51CE-44CC-9CDE-71C9B12E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571-476E-48AC-AAC7-AB0D321D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89C-FED9-4FF3-A3D7-52771E63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5F1-CB74-41E7-8F9E-0F39DE2F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97B-8291-463B-B07B-B842461A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Internet-Intranet F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F829-AEFC-44E9-9F89-65FE1C979711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7CB8-5765-48C8-AB3C-C45447FA5A54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artilha de recurs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rtilha =&gt; economia de recur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rtilha =&gt; demora na transmiss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utação de pac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vita demora de dados pequ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dentificação de pac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amanhos variáve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ransmissão instantânea (pare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uncionamento automá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1AC-BF16-4307-8A15-E255B62297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NS: Exemp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Z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ervidores: Primário, Secundário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olução de nom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ursiv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ativ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ver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dns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876560" cy="385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69B2-3F2C-4ED1-BC3D-378B5F3C97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orque a Internet trabalha bem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ternet trabalha b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umento do número de computadores, do trafego, velocidade dos computadores, velocidade das redes, et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P fornece flexibil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CP fornece estabilida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CP/IP foi desenvolvido visando maximizar a eficiência e o desempenh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885-2CC4-43ED-B334-2B90768F25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utros protocolos da Inter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licativos de nível superior que utilizam o protocolo TC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lnet (Telecomunication  Network): permite trabalhar em um host dista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TP (File Transfer Protocol): transmite arquivos pela Intern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MTP (Simple Mail Transfer Protocol): transmissão de e-mail na Internet (ligado ao POP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38E-1424-4EC3-AEFC-2A167E2E9D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ipos de U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opher:/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tp:/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ile:/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ail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w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lnet:/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59092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gopher://gopher.umc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tp://ftp.mcp.com/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ile://c:windows/readme.t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http://www.fasp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ailto:reyps@net.ipen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ws:alt.fan.eny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elnet://onramp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B1E5-946B-4A43-A11A-11C230618C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WWW: A We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ipertexto e hipermíd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impõe ordem na inform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lações múltiplas entre informa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áginas We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avegação: brows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ter, display, salvar, imprimir, nave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terativ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o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saic, Navigator, Explorer, (Oper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C1C-9BDA-4F0E-ABC1-E57BBEBD68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WWW: Como funcio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rquitetura cliente-serv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inks com URL.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ttp://www.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pen.br/te/ted/index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ceso a diferentes serviç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tuitivo =&gt; pop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00C-FE5D-4DF3-A1B8-62256A0B62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SI Reference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705040" cy="3962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352680" y="1828800"/>
            <a:ext cx="5791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1983: Open Systems Interconne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imes New Roman"/>
              </a:rPr>
              <a:t>Referência padrão e ferramenta de estudo para redes de d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FE3-A1BB-423E-90FD-1519AFB2F8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ilha TCP/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9880" y="175212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senvolvimento desde 1975. Lançado em 1983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rrespondência com O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imetria de protocolos: comunicação entre cam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alidade do serviço: utilizar apenas os serviços necessár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2971800" cy="26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E75-A3A6-40E4-B74B-C84BE21A1F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tocolo 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protocolo IP: como é formado um pacote e como o router deve passar um paco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oftware I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atagramas I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atagramas IP em outras re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lusão de uma rede s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dereço único para cada computador:          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200.136.52.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E6D-2073-452B-B987-38EFEEDEF1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tocolo TC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fine como a informação será dividida em pacotes e enviada pela Internet. 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CP ajuda ao IP a garantir a transferê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acotes duplicados, desordenados, perdidos 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cuperação de pacotes perdidos: reconhecimento e timeout variáv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CP e IP trabalham jun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22B-EEEC-4DAA-9E4B-2C97C8EBD1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ncapsulamento dos d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92468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D08-19B8-4295-AFE3-B6F2020AD6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ndereços 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istema independente de endereç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gistro de endereços I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lasses de endereços I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3352680"/>
          <a:ext cx="6629400" cy="297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352680"/>
                    <a:ext cx="66294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278-1137-4977-982F-D4B1B24890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plicando os h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57800" y="1904760"/>
            <a:ext cx="3657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ndereçam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ragment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ste de err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trole de flux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7242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578-F8DF-47A3-892D-EC0DC0832B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46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NS: Nomeando computad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mes em lugar do endereço I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me mais usado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enus, thor, merlin, calvin, gandal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mes únicos:  &lt;=  sufixo. (organiz., país): 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http://www.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pen.br/te/ted/index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NS: Domain Name System:banco de dados distribui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P e nomes não estão relacion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ED8-0DDF-40BB-804A-ACB7541BCF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einaldo Pérez Sánchez</cp:lastModifiedBy>
  <cp:lastPrinted>1998-10-27T18:32:18Z</cp:lastPrinted>
  <dcterms:modified xsi:type="dcterms:W3CDTF">1999-09-15T18:07:05Z</dcterms:modified>
  <cp:revision>69</cp:revision>
  <dc:subject/>
  <dc:title>CURSO INTERNET, INTRANET.</dc:title>
</cp:coreProperties>
</file>