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A1F2-9E1C-41C4-B56E-9C0861733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773E-D8D1-4498-BB07-64B790B1C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8DEC-0837-4876-8682-F07658D8E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B7C7-D695-4E4F-9A47-B2B898E0D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2FCC-2952-4EA6-9E3F-FB547B4B6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93B8-631D-4791-84CC-197DA11C4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E32F-E905-464D-A534-0CE6FEC03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4E94-CD32-4AA6-804B-C0B260D8D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3C50-6473-47A8-9935-265F2B302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FED4-2F02-44B4-BF7C-F688CF3E6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C340-5C9F-4B48-990C-11290B5C5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F09D-F446-4FFE-A553-5A344B425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24DA-8122-447F-8684-92337DCDB7D6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69244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Verdana"/>
              </a:rPr>
              <a:t>Princípios essenciais para fazer crescer os negócios na Web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Webonomics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té o menor dos negócios pode competir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a Web qualquer negócio pode virar global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criatividade, a inteligência e as habilidades humanas importam cada vez mai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quenas companhias agindo como se fossem grandes, e a grandes companhias apresentando a agilidade das pequen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nteúdo em inglês é predominante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queda dos preços e o aumento da disponibilidade dos serviços de telecomunicaçõ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D13E-A7E3-4236-ADAB-8A53B56E6F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gilidade para acompanhar o mercad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a Web a vantagem competitiva dura pouc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us clientes são seus melhores juize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ra mudar rapidamente: prestar atenção aos interesses dos client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site deve acrescentar novas características, melhoras e serviços a intervalos regular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ecnologias revolucionarias podem acabar com o seu negóci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55C8-DECF-43E4-8CBA-AC98040A1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Introdu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Livro de  E. I. Schwartz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Webonomics: o estudo da produção, distribuição e consumo de produtos, serviços e idéias na Web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xiste uma nova economia</a:t>
            </a:r>
            <a:r>
              <a:rPr b="0" lang="pt-BR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2720-32F7-4E6C-A1B2-596EA72B2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8680" y="1279440"/>
            <a:ext cx="7423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Quantidade é menos importante do que a qualidade da experiênci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egócios na Web necessitam das pessoas voltando a visitar o site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ma comunidade on-line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 não é um mídia de massas, é uma mídia interativ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 publicações on-line não substituirão às publicações impress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sites de informação serão lucrativos por cobrar por novos serviços. 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9731-2054-4114-ACA0-AB0F1CE9A2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8680" y="1279440"/>
            <a:ext cx="7423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é para obter resultado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 começa onde a propaganda tradicional termin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te de marketing precisa alcançar resultad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consumidores na Web procuram ativamente informação (push-pull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odelo de preços e vendas de propagand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importância da propaganda nas mídias de massas diminui: saturação, click-away, cinismo do público e concorrênci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vias principais para fazer o marketing de um site.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95ED-A677-4BCC-8211-C576F604F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ompensar os clientes por revelar dados pessoai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eocupação com privacidade dos dados pessoai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requer algo significativo em troc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insuficiente coletar informações pessoais, é necessário que sejam utilizad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ode ser mais útil oferecer descontos, do que oferecer algo nov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xistem limites à coleta de tais dados: políticas claras sobre o uso desses da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B7F3-4EB2-4379-9F48-56C226C15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ompras on-line só de produtos de alto conteúdo de informa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informação é o que vende produtos na Web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geografia é irrelevante na Web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iferenciação: maior seleção, experiência superior no ramo e menores preç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pras on-line nunca suplantarão a experiência pessoal de compra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pras on-line: livros, CDs, vinhos, imóveis, carros, seguros, computadores, boletos aéreos, et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4C5B-D0A7-4A2B-8E5F-219733A84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uto-serviço: grau máximo de confor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uto-serviço: imprescindível em muitas industri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berta 24h x 7 dias, ideal auto-serviç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m alguns casos é a via para reduzir custos, aumentar a eficiência e encorajar a reforçar dos client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bancos estão virando lojas financeir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pessoal de serviços não deve virar obsolet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1C93-AFC6-4E25-A51E-8D75C8E8C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oedas baseadas em valores: sistemas monetários próprio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BV: clientes leais ganham pontos que trocam por produtos e serviços reais (empresas aeronáuticas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: ferramenta para gerenciar suas contas nestas novas moed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inheiro digital: não têm conseguido decolar ou têm sido integrados no cartão de crédit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stema de micro-pagament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confiança é a qualidade de mais valor no cyberespaço: emitir e respaldar MBV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692D-60AF-4D46-A9F0-80E443BAE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cas importam ainda mais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rcas estão sendo reavaliadas na economia da Web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lientes: marcas são mais que frases de marketing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difícil estabelecer uma marca nova na Web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 para lançar uma marca além dos produtos aos que ela está associada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unidade de interesses em torno da marc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89FA-4816-4DA0-B8A0-6F05C7A6E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14T03:21:33Z</dcterms:modified>
  <cp:revision>14</cp:revision>
  <dc:subject/>
  <dc:title>Webonomics</dc:title>
</cp:coreProperties>
</file>