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96AB-200C-43DA-9787-BACEB140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Informação: A dosagem de um determidado remédio que um paciente preci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Dado: Registro físico - em papel, p.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FFD-1537-4D18-9EF4-802F6EDD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5D7-495B-4726-97B2-4B8BA555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F74-6B3F-4F80-86D7-193CFDF2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483-7E33-4294-8030-09146F6D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5834-D70B-4FF2-B0CE-C3AF4949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F763-AA6D-44A6-A537-75E78FCD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E6F0-8E2D-47BB-9777-7EB34140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4B01-401A-4BFA-94F5-BE66AA7C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9DC1-6FDB-49E7-842F-44BAA0B7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0B8C-7DEA-434F-88BD-1D354681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B960-DB72-4371-948A-0371666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7B7-DCFB-44F8-8359-15099BFC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A29F-D79A-472C-9592-A605ACF3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2233-3FC3-41A6-A048-717F0DEE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CB55-90C1-47F8-AB6E-7F2CB80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0279-0474-4D23-BBA9-5A3E26E8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033B-6212-490E-8B38-96913B0C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B9E-625E-4B78-B039-75937968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464-386B-4E85-8A6D-B2485587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535-BF3D-4722-948C-D62E6C67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F47-8BF9-4EF6-ABA0-4598091C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CD8-939F-458F-A7DD-0C957BE9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9EA-BCFF-4B29-B129-3CA058FC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599-4B50-42AC-8251-D5271798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91CC-D26A-4E15-982B-F31CC33B8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CC3-5E05-4DF8-BFA6-A7BDE5A9C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cc66"/>
                </a:solidFill>
                <a:latin typeface="Times New Roman"/>
              </a:rPr>
              <a:t>Banco de Dados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Fundamentos Bás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286000" cy="224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Atribu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entidade é representada por um conjunto de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atribut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.: atributos de um conjunto-entidade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dem ser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nome-clie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RG-clie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r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idade-clie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utro Ex.: atributos do conjunto-entidade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Conta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sã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nº-cont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ald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lacionam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a associação entre diversas ent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66680" y="2743200"/>
            <a:ext cx="3200400" cy="3416040"/>
            <a:chOff x="1066680" y="2743200"/>
            <a:chExt cx="3200400" cy="3416040"/>
          </a:xfrm>
        </p:grpSpPr>
        <p:grpSp>
          <p:nvGrpSpPr>
            <p:cNvPr id="250" name=""/>
            <p:cNvGrpSpPr/>
            <p:nvPr/>
          </p:nvGrpSpPr>
          <p:grpSpPr>
            <a:xfrm>
              <a:off x="1066680" y="2743200"/>
              <a:ext cx="3200400" cy="2790360"/>
              <a:chOff x="1066680" y="2743200"/>
              <a:chExt cx="3200400" cy="2790360"/>
            </a:xfrm>
          </p:grpSpPr>
          <p:sp>
            <p:nvSpPr>
              <p:cNvPr id="251" name=""/>
              <p:cNvSpPr/>
              <p:nvPr/>
            </p:nvSpPr>
            <p:spPr>
              <a:xfrm>
                <a:off x="2154240" y="4878000"/>
                <a:ext cx="566640" cy="655560"/>
              </a:xfrm>
              <a:custGeom>
                <a:avLst/>
                <a:gdLst/>
                <a:ahLst/>
                <a:rect l="l" t="t" r="r" b="b"/>
                <a:pathLst>
                  <a:path w="716" h="827">
                    <a:moveTo>
                      <a:pt x="343" y="0"/>
                    </a:moveTo>
                    <a:lnTo>
                      <a:pt x="716" y="0"/>
                    </a:lnTo>
                    <a:lnTo>
                      <a:pt x="611" y="827"/>
                    </a:lnTo>
                    <a:lnTo>
                      <a:pt x="0" y="827"/>
                    </a:lnTo>
                    <a:lnTo>
                      <a:pt x="34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09560" y="4878000"/>
                <a:ext cx="755640" cy="655560"/>
              </a:xfrm>
              <a:custGeom>
                <a:avLst/>
                <a:gdLst/>
                <a:ahLst/>
                <a:rect l="l" t="t" r="r" b="b"/>
                <a:pathLst>
                  <a:path w="952" h="827">
                    <a:moveTo>
                      <a:pt x="579" y="0"/>
                    </a:moveTo>
                    <a:lnTo>
                      <a:pt x="952" y="0"/>
                    </a:lnTo>
                    <a:lnTo>
                      <a:pt x="611" y="827"/>
                    </a:lnTo>
                    <a:lnTo>
                      <a:pt x="0" y="827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66680" y="4878000"/>
                <a:ext cx="944640" cy="655560"/>
              </a:xfrm>
              <a:custGeom>
                <a:avLst/>
                <a:gdLst/>
                <a:ahLst/>
                <a:rect l="l" t="t" r="r" b="b"/>
                <a:pathLst>
                  <a:path w="1191" h="827">
                    <a:moveTo>
                      <a:pt x="818" y="0"/>
                    </a:moveTo>
                    <a:lnTo>
                      <a:pt x="1191" y="0"/>
                    </a:lnTo>
                    <a:lnTo>
                      <a:pt x="611" y="827"/>
                    </a:lnTo>
                    <a:lnTo>
                      <a:pt x="0" y="827"/>
                    </a:lnTo>
                    <a:lnTo>
                      <a:pt x="8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11440" y="4878000"/>
                <a:ext cx="755640" cy="655560"/>
              </a:xfrm>
              <a:custGeom>
                <a:avLst/>
                <a:gdLst/>
                <a:ahLst/>
                <a:rect l="l" t="t" r="r" b="b"/>
                <a:pathLst>
                  <a:path w="952" h="827">
                    <a:moveTo>
                      <a:pt x="0" y="0"/>
                    </a:moveTo>
                    <a:lnTo>
                      <a:pt x="431" y="0"/>
                    </a:lnTo>
                    <a:lnTo>
                      <a:pt x="952" y="827"/>
                    </a:lnTo>
                    <a:lnTo>
                      <a:pt x="343" y="8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35240" y="4878000"/>
                <a:ext cx="588960" cy="655560"/>
              </a:xfrm>
              <a:custGeom>
                <a:avLst/>
                <a:gdLst/>
                <a:ahLst/>
                <a:rect l="l" t="t" r="r" b="b"/>
                <a:pathLst>
                  <a:path w="741" h="827">
                    <a:moveTo>
                      <a:pt x="0" y="0"/>
                    </a:moveTo>
                    <a:lnTo>
                      <a:pt x="400" y="0"/>
                    </a:lnTo>
                    <a:lnTo>
                      <a:pt x="741" y="827"/>
                    </a:lnTo>
                    <a:lnTo>
                      <a:pt x="134" y="8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7120" y="4878000"/>
                <a:ext cx="484200" cy="655560"/>
              </a:xfrm>
              <a:custGeom>
                <a:avLst/>
                <a:gdLst/>
                <a:ahLst/>
                <a:rect l="l" t="t" r="r" b="b"/>
                <a:pathLst>
                  <a:path w="611" h="827">
                    <a:moveTo>
                      <a:pt x="104" y="0"/>
                    </a:moveTo>
                    <a:lnTo>
                      <a:pt x="477" y="0"/>
                    </a:lnTo>
                    <a:lnTo>
                      <a:pt x="611" y="827"/>
                    </a:lnTo>
                    <a:lnTo>
                      <a:pt x="0" y="827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25720" y="3284280"/>
                <a:ext cx="262080" cy="321840"/>
              </a:xfrm>
              <a:custGeom>
                <a:avLst/>
                <a:gdLst/>
                <a:ahLst/>
                <a:rect l="l" t="t" r="r" b="b"/>
                <a:pathLst>
                  <a:path w="328" h="407">
                    <a:moveTo>
                      <a:pt x="137" y="0"/>
                    </a:moveTo>
                    <a:lnTo>
                      <a:pt x="0" y="193"/>
                    </a:lnTo>
                    <a:lnTo>
                      <a:pt x="183" y="407"/>
                    </a:lnTo>
                    <a:lnTo>
                      <a:pt x="328" y="254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92320" y="3265200"/>
                <a:ext cx="344520" cy="426600"/>
              </a:xfrm>
              <a:custGeom>
                <a:avLst/>
                <a:gdLst/>
                <a:ahLst/>
                <a:rect l="l" t="t" r="r" b="b"/>
                <a:pathLst>
                  <a:path w="435" h="537">
                    <a:moveTo>
                      <a:pt x="185" y="0"/>
                    </a:moveTo>
                    <a:lnTo>
                      <a:pt x="0" y="207"/>
                    </a:lnTo>
                    <a:lnTo>
                      <a:pt x="230" y="537"/>
                    </a:lnTo>
                    <a:lnTo>
                      <a:pt x="435" y="276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60720" y="3277800"/>
                <a:ext cx="384120" cy="628560"/>
              </a:xfrm>
              <a:custGeom>
                <a:avLst/>
                <a:gdLst/>
                <a:ahLst/>
                <a:rect l="l" t="t" r="r" b="b"/>
                <a:pathLst>
                  <a:path w="485" h="791">
                    <a:moveTo>
                      <a:pt x="276" y="0"/>
                    </a:moveTo>
                    <a:lnTo>
                      <a:pt x="0" y="106"/>
                    </a:lnTo>
                    <a:lnTo>
                      <a:pt x="77" y="336"/>
                    </a:lnTo>
                    <a:lnTo>
                      <a:pt x="13" y="766"/>
                    </a:lnTo>
                    <a:lnTo>
                      <a:pt x="485" y="791"/>
                    </a:lnTo>
                    <a:lnTo>
                      <a:pt x="466" y="438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05080" y="3868560"/>
                <a:ext cx="417600" cy="294840"/>
              </a:xfrm>
              <a:custGeom>
                <a:avLst/>
                <a:gdLst/>
                <a:ahLst/>
                <a:rect l="l" t="t" r="r" b="b"/>
                <a:pathLst>
                  <a:path w="526" h="373">
                    <a:moveTo>
                      <a:pt x="69" y="0"/>
                    </a:moveTo>
                    <a:lnTo>
                      <a:pt x="0" y="361"/>
                    </a:lnTo>
                    <a:lnTo>
                      <a:pt x="245" y="373"/>
                    </a:lnTo>
                    <a:lnTo>
                      <a:pt x="526" y="373"/>
                    </a:lnTo>
                    <a:lnTo>
                      <a:pt x="467" y="1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76720" y="3681000"/>
                <a:ext cx="279360" cy="258480"/>
              </a:xfrm>
              <a:custGeom>
                <a:avLst/>
                <a:gdLst/>
                <a:ahLst/>
                <a:rect l="l" t="t" r="r" b="b"/>
                <a:pathLst>
                  <a:path w="353" h="325">
                    <a:moveTo>
                      <a:pt x="0" y="5"/>
                    </a:moveTo>
                    <a:lnTo>
                      <a:pt x="343" y="0"/>
                    </a:lnTo>
                    <a:lnTo>
                      <a:pt x="353" y="291"/>
                    </a:lnTo>
                    <a:lnTo>
                      <a:pt x="26" y="32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87800" y="3354120"/>
                <a:ext cx="398520" cy="483840"/>
              </a:xfrm>
              <a:custGeom>
                <a:avLst/>
                <a:gdLst/>
                <a:ahLst/>
                <a:rect l="l" t="t" r="r" b="b"/>
                <a:pathLst>
                  <a:path w="503" h="609">
                    <a:moveTo>
                      <a:pt x="0" y="83"/>
                    </a:moveTo>
                    <a:lnTo>
                      <a:pt x="217" y="0"/>
                    </a:lnTo>
                    <a:lnTo>
                      <a:pt x="464" y="55"/>
                    </a:lnTo>
                    <a:lnTo>
                      <a:pt x="503" y="521"/>
                    </a:lnTo>
                    <a:lnTo>
                      <a:pt x="56" y="609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33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65320" y="3374640"/>
                <a:ext cx="317520" cy="336240"/>
              </a:xfrm>
              <a:custGeom>
                <a:avLst/>
                <a:gdLst/>
                <a:ahLst/>
                <a:rect l="l" t="t" r="r" b="b"/>
                <a:pathLst>
                  <a:path w="400" h="425">
                    <a:moveTo>
                      <a:pt x="400" y="101"/>
                    </a:moveTo>
                    <a:lnTo>
                      <a:pt x="264" y="0"/>
                    </a:lnTo>
                    <a:lnTo>
                      <a:pt x="0" y="395"/>
                    </a:lnTo>
                    <a:lnTo>
                      <a:pt x="147" y="425"/>
                    </a:lnTo>
                    <a:lnTo>
                      <a:pt x="40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79880" y="3025440"/>
                <a:ext cx="322200" cy="388800"/>
              </a:xfrm>
              <a:custGeom>
                <a:avLst/>
                <a:gdLst/>
                <a:ahLst/>
                <a:rect l="l" t="t" r="r" b="b"/>
                <a:pathLst>
                  <a:path w="405" h="490">
                    <a:moveTo>
                      <a:pt x="297" y="0"/>
                    </a:moveTo>
                    <a:lnTo>
                      <a:pt x="405" y="129"/>
                    </a:lnTo>
                    <a:lnTo>
                      <a:pt x="394" y="283"/>
                    </a:lnTo>
                    <a:lnTo>
                      <a:pt x="323" y="322"/>
                    </a:lnTo>
                    <a:lnTo>
                      <a:pt x="333" y="468"/>
                    </a:lnTo>
                    <a:lnTo>
                      <a:pt x="154" y="490"/>
                    </a:lnTo>
                    <a:lnTo>
                      <a:pt x="162" y="383"/>
                    </a:lnTo>
                    <a:lnTo>
                      <a:pt x="90" y="371"/>
                    </a:lnTo>
                    <a:lnTo>
                      <a:pt x="55" y="325"/>
                    </a:lnTo>
                    <a:lnTo>
                      <a:pt x="36" y="254"/>
                    </a:lnTo>
                    <a:lnTo>
                      <a:pt x="0" y="237"/>
                    </a:lnTo>
                    <a:lnTo>
                      <a:pt x="65" y="118"/>
                    </a:lnTo>
                    <a:lnTo>
                      <a:pt x="132" y="0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30400" y="3369960"/>
                <a:ext cx="393840" cy="672840"/>
              </a:xfrm>
              <a:custGeom>
                <a:avLst/>
                <a:gdLst/>
                <a:ahLst/>
                <a:rect l="l" t="t" r="r" b="b"/>
                <a:pathLst>
                  <a:path w="496" h="850">
                    <a:moveTo>
                      <a:pt x="469" y="57"/>
                    </a:moveTo>
                    <a:lnTo>
                      <a:pt x="488" y="0"/>
                    </a:lnTo>
                    <a:lnTo>
                      <a:pt x="277" y="4"/>
                    </a:lnTo>
                    <a:lnTo>
                      <a:pt x="0" y="391"/>
                    </a:lnTo>
                    <a:lnTo>
                      <a:pt x="153" y="575"/>
                    </a:lnTo>
                    <a:lnTo>
                      <a:pt x="295" y="530"/>
                    </a:lnTo>
                    <a:lnTo>
                      <a:pt x="199" y="780"/>
                    </a:lnTo>
                    <a:lnTo>
                      <a:pt x="496" y="850"/>
                    </a:lnTo>
                    <a:lnTo>
                      <a:pt x="433" y="417"/>
                    </a:lnTo>
                    <a:lnTo>
                      <a:pt x="413" y="244"/>
                    </a:lnTo>
                    <a:lnTo>
                      <a:pt x="349" y="258"/>
                    </a:lnTo>
                    <a:lnTo>
                      <a:pt x="469" y="5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138480" y="3341520"/>
                <a:ext cx="212760" cy="497880"/>
              </a:xfrm>
              <a:custGeom>
                <a:avLst/>
                <a:gdLst/>
                <a:ahLst/>
                <a:rect l="l" t="t" r="r" b="b"/>
                <a:pathLst>
                  <a:path w="268" h="629">
                    <a:moveTo>
                      <a:pt x="158" y="0"/>
                    </a:moveTo>
                    <a:lnTo>
                      <a:pt x="258" y="201"/>
                    </a:lnTo>
                    <a:lnTo>
                      <a:pt x="268" y="490"/>
                    </a:lnTo>
                    <a:lnTo>
                      <a:pt x="0" y="629"/>
                    </a:lnTo>
                    <a:lnTo>
                      <a:pt x="5" y="582"/>
                    </a:lnTo>
                    <a:lnTo>
                      <a:pt x="209" y="435"/>
                    </a:lnTo>
                    <a:lnTo>
                      <a:pt x="192" y="222"/>
                    </a:lnTo>
                    <a:lnTo>
                      <a:pt x="88" y="13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44960" y="3597120"/>
                <a:ext cx="196560" cy="9648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80" y="121"/>
                    </a:moveTo>
                    <a:lnTo>
                      <a:pt x="247" y="37"/>
                    </a:lnTo>
                    <a:lnTo>
                      <a:pt x="207" y="0"/>
                    </a:lnTo>
                    <a:lnTo>
                      <a:pt x="0" y="28"/>
                    </a:lnTo>
                    <a:lnTo>
                      <a:pt x="80" y="121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22640" y="4065480"/>
                <a:ext cx="309600" cy="556560"/>
              </a:xfrm>
              <a:custGeom>
                <a:avLst/>
                <a:gdLst/>
                <a:ahLst/>
                <a:rect l="l" t="t" r="r" b="b"/>
                <a:pathLst>
                  <a:path w="391" h="700">
                    <a:moveTo>
                      <a:pt x="118" y="37"/>
                    </a:moveTo>
                    <a:lnTo>
                      <a:pt x="391" y="0"/>
                    </a:lnTo>
                    <a:lnTo>
                      <a:pt x="187" y="700"/>
                    </a:lnTo>
                    <a:lnTo>
                      <a:pt x="108" y="687"/>
                    </a:lnTo>
                    <a:lnTo>
                      <a:pt x="0" y="604"/>
                    </a:lnTo>
                    <a:lnTo>
                      <a:pt x="118" y="37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11360" y="4173120"/>
                <a:ext cx="233640" cy="487080"/>
              </a:xfrm>
              <a:custGeom>
                <a:avLst/>
                <a:gdLst/>
                <a:ahLst/>
                <a:rect l="l" t="t" r="r" b="b"/>
                <a:pathLst>
                  <a:path w="294" h="614">
                    <a:moveTo>
                      <a:pt x="250" y="0"/>
                    </a:moveTo>
                    <a:lnTo>
                      <a:pt x="0" y="67"/>
                    </a:lnTo>
                    <a:lnTo>
                      <a:pt x="124" y="614"/>
                    </a:lnTo>
                    <a:lnTo>
                      <a:pt x="248" y="601"/>
                    </a:lnTo>
                    <a:lnTo>
                      <a:pt x="294" y="546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65480" y="4600440"/>
                <a:ext cx="187200" cy="416880"/>
              </a:xfrm>
              <a:custGeom>
                <a:avLst/>
                <a:gdLst/>
                <a:ahLst/>
                <a:rect l="l" t="t" r="r" b="b"/>
                <a:pathLst>
                  <a:path w="237" h="526">
                    <a:moveTo>
                      <a:pt x="178" y="0"/>
                    </a:moveTo>
                    <a:lnTo>
                      <a:pt x="0" y="45"/>
                    </a:lnTo>
                    <a:lnTo>
                      <a:pt x="120" y="487"/>
                    </a:lnTo>
                    <a:lnTo>
                      <a:pt x="237" y="526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97400" y="4690800"/>
                <a:ext cx="141120" cy="383760"/>
              </a:xfrm>
              <a:custGeom>
                <a:avLst/>
                <a:gdLst/>
                <a:ahLst/>
                <a:rect l="l" t="t" r="r" b="b"/>
                <a:pathLst>
                  <a:path w="178" h="484">
                    <a:moveTo>
                      <a:pt x="0" y="33"/>
                    </a:moveTo>
                    <a:lnTo>
                      <a:pt x="174" y="0"/>
                    </a:lnTo>
                    <a:lnTo>
                      <a:pt x="178" y="430"/>
                    </a:lnTo>
                    <a:lnTo>
                      <a:pt x="65" y="48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49560" y="5024160"/>
                <a:ext cx="298440" cy="210960"/>
              </a:xfrm>
              <a:custGeom>
                <a:avLst/>
                <a:gdLst/>
                <a:ahLst/>
                <a:rect l="l" t="t" r="r" b="b"/>
                <a:pathLst>
                  <a:path w="376" h="266">
                    <a:moveTo>
                      <a:pt x="237" y="0"/>
                    </a:moveTo>
                    <a:lnTo>
                      <a:pt x="57" y="116"/>
                    </a:lnTo>
                    <a:lnTo>
                      <a:pt x="0" y="180"/>
                    </a:lnTo>
                    <a:lnTo>
                      <a:pt x="167" y="266"/>
                    </a:lnTo>
                    <a:lnTo>
                      <a:pt x="289" y="144"/>
                    </a:lnTo>
                    <a:lnTo>
                      <a:pt x="376" y="132"/>
                    </a:lnTo>
                    <a:lnTo>
                      <a:pt x="356" y="2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25840" y="5076720"/>
                <a:ext cx="307800" cy="193320"/>
              </a:xfrm>
              <a:custGeom>
                <a:avLst/>
                <a:gdLst/>
                <a:ahLst/>
                <a:rect l="l" t="t" r="r" b="b"/>
                <a:pathLst>
                  <a:path w="388" h="243">
                    <a:moveTo>
                      <a:pt x="101" y="0"/>
                    </a:moveTo>
                    <a:lnTo>
                      <a:pt x="313" y="93"/>
                    </a:lnTo>
                    <a:lnTo>
                      <a:pt x="388" y="171"/>
                    </a:lnTo>
                    <a:lnTo>
                      <a:pt x="243" y="243"/>
                    </a:lnTo>
                    <a:lnTo>
                      <a:pt x="93" y="129"/>
                    </a:lnTo>
                    <a:lnTo>
                      <a:pt x="0" y="124"/>
                    </a:lnTo>
                    <a:lnTo>
                      <a:pt x="8" y="4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78160" y="3490560"/>
                <a:ext cx="150840" cy="168120"/>
              </a:xfrm>
              <a:custGeom>
                <a:avLst/>
                <a:gdLst/>
                <a:ahLst/>
                <a:rect l="l" t="t" r="r" b="b"/>
                <a:pathLst>
                  <a:path w="192" h="213">
                    <a:moveTo>
                      <a:pt x="58" y="213"/>
                    </a:moveTo>
                    <a:lnTo>
                      <a:pt x="192" y="172"/>
                    </a:lnTo>
                    <a:lnTo>
                      <a:pt x="179" y="36"/>
                    </a:lnTo>
                    <a:lnTo>
                      <a:pt x="30" y="0"/>
                    </a:lnTo>
                    <a:lnTo>
                      <a:pt x="2" y="85"/>
                    </a:lnTo>
                    <a:lnTo>
                      <a:pt x="61" y="105"/>
                    </a:lnTo>
                    <a:lnTo>
                      <a:pt x="77" y="75"/>
                    </a:lnTo>
                    <a:lnTo>
                      <a:pt x="107" y="77"/>
                    </a:lnTo>
                    <a:lnTo>
                      <a:pt x="0" y="136"/>
                    </a:lnTo>
                    <a:lnTo>
                      <a:pt x="58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62280" y="3993840"/>
                <a:ext cx="207720" cy="579240"/>
              </a:xfrm>
              <a:custGeom>
                <a:avLst/>
                <a:gdLst/>
                <a:ahLst/>
                <a:rect l="l" t="t" r="r" b="b"/>
                <a:pathLst>
                  <a:path w="263" h="728">
                    <a:moveTo>
                      <a:pt x="0" y="90"/>
                    </a:moveTo>
                    <a:lnTo>
                      <a:pt x="263" y="0"/>
                    </a:lnTo>
                    <a:lnTo>
                      <a:pt x="203" y="706"/>
                    </a:lnTo>
                    <a:lnTo>
                      <a:pt x="125" y="728"/>
                    </a:lnTo>
                    <a:lnTo>
                      <a:pt x="2" y="66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58840" y="4012920"/>
                <a:ext cx="260640" cy="542520"/>
              </a:xfrm>
              <a:custGeom>
                <a:avLst/>
                <a:gdLst/>
                <a:ahLst/>
                <a:rect l="l" t="t" r="r" b="b"/>
                <a:pathLst>
                  <a:path w="328" h="684">
                    <a:moveTo>
                      <a:pt x="246" y="0"/>
                    </a:moveTo>
                    <a:lnTo>
                      <a:pt x="0" y="80"/>
                    </a:lnTo>
                    <a:lnTo>
                      <a:pt x="163" y="684"/>
                    </a:lnTo>
                    <a:lnTo>
                      <a:pt x="286" y="684"/>
                    </a:lnTo>
                    <a:lnTo>
                      <a:pt x="328" y="625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06560" y="4595400"/>
                <a:ext cx="133200" cy="393480"/>
              </a:xfrm>
              <a:custGeom>
                <a:avLst/>
                <a:gdLst/>
                <a:ahLst/>
                <a:rect l="l" t="t" r="r" b="b"/>
                <a:pathLst>
                  <a:path w="168" h="495">
                    <a:moveTo>
                      <a:pt x="168" y="24"/>
                    </a:moveTo>
                    <a:lnTo>
                      <a:pt x="0" y="0"/>
                    </a:lnTo>
                    <a:lnTo>
                      <a:pt x="16" y="438"/>
                    </a:lnTo>
                    <a:lnTo>
                      <a:pt x="129" y="495"/>
                    </a:lnTo>
                    <a:lnTo>
                      <a:pt x="132" y="343"/>
                    </a:lnTo>
                    <a:lnTo>
                      <a:pt x="168" y="196"/>
                    </a:lnTo>
                    <a:lnTo>
                      <a:pt x="168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58920" y="4535280"/>
                <a:ext cx="136440" cy="448920"/>
              </a:xfrm>
              <a:custGeom>
                <a:avLst/>
                <a:gdLst/>
                <a:ahLst/>
                <a:rect l="l" t="t" r="r" b="b"/>
                <a:pathLst>
                  <a:path w="173" h="567">
                    <a:moveTo>
                      <a:pt x="0" y="0"/>
                    </a:moveTo>
                    <a:lnTo>
                      <a:pt x="173" y="82"/>
                    </a:lnTo>
                    <a:lnTo>
                      <a:pt x="114" y="547"/>
                    </a:lnTo>
                    <a:lnTo>
                      <a:pt x="31" y="567"/>
                    </a:lnTo>
                    <a:lnTo>
                      <a:pt x="19" y="392"/>
                    </a:lnTo>
                    <a:lnTo>
                      <a:pt x="4" y="3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20800" y="4992480"/>
                <a:ext cx="298440" cy="210600"/>
              </a:xfrm>
              <a:custGeom>
                <a:avLst/>
                <a:gdLst/>
                <a:ahLst/>
                <a:rect l="l" t="t" r="r" b="b"/>
                <a:pathLst>
                  <a:path w="378" h="264">
                    <a:moveTo>
                      <a:pt x="242" y="0"/>
                    </a:moveTo>
                    <a:lnTo>
                      <a:pt x="59" y="112"/>
                    </a:lnTo>
                    <a:lnTo>
                      <a:pt x="0" y="173"/>
                    </a:lnTo>
                    <a:lnTo>
                      <a:pt x="164" y="264"/>
                    </a:lnTo>
                    <a:lnTo>
                      <a:pt x="290" y="145"/>
                    </a:lnTo>
                    <a:lnTo>
                      <a:pt x="378" y="139"/>
                    </a:lnTo>
                    <a:lnTo>
                      <a:pt x="360" y="24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63600" y="4998960"/>
                <a:ext cx="308160" cy="198000"/>
              </a:xfrm>
              <a:custGeom>
                <a:avLst/>
                <a:gdLst/>
                <a:ahLst/>
                <a:rect l="l" t="t" r="r" b="b"/>
                <a:pathLst>
                  <a:path w="387" h="250">
                    <a:moveTo>
                      <a:pt x="108" y="0"/>
                    </a:moveTo>
                    <a:lnTo>
                      <a:pt x="315" y="105"/>
                    </a:lnTo>
                    <a:lnTo>
                      <a:pt x="387" y="187"/>
                    </a:lnTo>
                    <a:lnTo>
                      <a:pt x="237" y="250"/>
                    </a:lnTo>
                    <a:lnTo>
                      <a:pt x="92" y="128"/>
                    </a:lnTo>
                    <a:lnTo>
                      <a:pt x="0" y="118"/>
                    </a:lnTo>
                    <a:lnTo>
                      <a:pt x="13" y="35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16280" y="3732120"/>
                <a:ext cx="272880" cy="112320"/>
              </a:xfrm>
              <a:custGeom>
                <a:avLst/>
                <a:gdLst/>
                <a:ahLst/>
                <a:rect l="l" t="t" r="r" b="b"/>
                <a:pathLst>
                  <a:path w="345" h="142">
                    <a:moveTo>
                      <a:pt x="0" y="5"/>
                    </a:moveTo>
                    <a:lnTo>
                      <a:pt x="345" y="0"/>
                    </a:lnTo>
                    <a:lnTo>
                      <a:pt x="345" y="65"/>
                    </a:lnTo>
                    <a:lnTo>
                      <a:pt x="16" y="14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19440" y="3282840"/>
                <a:ext cx="401400" cy="483840"/>
              </a:xfrm>
              <a:custGeom>
                <a:avLst/>
                <a:gdLst/>
                <a:ahLst/>
                <a:rect l="l" t="t" r="r" b="b"/>
                <a:pathLst>
                  <a:path w="506" h="609">
                    <a:moveTo>
                      <a:pt x="0" y="83"/>
                    </a:moveTo>
                    <a:lnTo>
                      <a:pt x="220" y="0"/>
                    </a:lnTo>
                    <a:lnTo>
                      <a:pt x="465" y="57"/>
                    </a:lnTo>
                    <a:lnTo>
                      <a:pt x="506" y="523"/>
                    </a:lnTo>
                    <a:lnTo>
                      <a:pt x="57" y="609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33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5280" y="3355560"/>
                <a:ext cx="314280" cy="328320"/>
              </a:xfrm>
              <a:custGeom>
                <a:avLst/>
                <a:gdLst/>
                <a:ahLst/>
                <a:rect l="l" t="t" r="r" b="b"/>
                <a:pathLst>
                  <a:path w="397" h="413">
                    <a:moveTo>
                      <a:pt x="397" y="109"/>
                    </a:moveTo>
                    <a:lnTo>
                      <a:pt x="263" y="0"/>
                    </a:lnTo>
                    <a:lnTo>
                      <a:pt x="0" y="256"/>
                    </a:lnTo>
                    <a:lnTo>
                      <a:pt x="51" y="413"/>
                    </a:lnTo>
                    <a:lnTo>
                      <a:pt x="397" y="10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98520" y="3240000"/>
                <a:ext cx="297000" cy="172440"/>
              </a:xfrm>
              <a:custGeom>
                <a:avLst/>
                <a:gdLst/>
                <a:ahLst/>
                <a:rect l="l" t="t" r="r" b="b"/>
                <a:pathLst>
                  <a:path w="374" h="219">
                    <a:moveTo>
                      <a:pt x="0" y="86"/>
                    </a:moveTo>
                    <a:lnTo>
                      <a:pt x="48" y="219"/>
                    </a:lnTo>
                    <a:lnTo>
                      <a:pt x="360" y="145"/>
                    </a:lnTo>
                    <a:lnTo>
                      <a:pt x="374" y="0"/>
                    </a:lnTo>
                    <a:lnTo>
                      <a:pt x="281" y="1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76240" y="3796920"/>
                <a:ext cx="611280" cy="553680"/>
              </a:xfrm>
              <a:custGeom>
                <a:avLst/>
                <a:gdLst/>
                <a:ahLst/>
                <a:rect l="l" t="t" r="r" b="b"/>
                <a:pathLst>
                  <a:path w="769" h="698">
                    <a:moveTo>
                      <a:pt x="145" y="0"/>
                    </a:moveTo>
                    <a:lnTo>
                      <a:pt x="0" y="595"/>
                    </a:lnTo>
                    <a:lnTo>
                      <a:pt x="769" y="698"/>
                    </a:lnTo>
                    <a:lnTo>
                      <a:pt x="545" y="1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3614400"/>
                <a:ext cx="279360" cy="249120"/>
              </a:xfrm>
              <a:custGeom>
                <a:avLst/>
                <a:gdLst/>
                <a:ahLst/>
                <a:rect l="l" t="t" r="r" b="b"/>
                <a:pathLst>
                  <a:path w="352" h="314">
                    <a:moveTo>
                      <a:pt x="46" y="0"/>
                    </a:moveTo>
                    <a:lnTo>
                      <a:pt x="337" y="39"/>
                    </a:lnTo>
                    <a:lnTo>
                      <a:pt x="352" y="314"/>
                    </a:lnTo>
                    <a:lnTo>
                      <a:pt x="0" y="26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685880" y="3663720"/>
                <a:ext cx="322200" cy="266400"/>
              </a:xfrm>
              <a:custGeom>
                <a:avLst/>
                <a:gdLst/>
                <a:ahLst/>
                <a:rect l="l" t="t" r="r" b="b"/>
                <a:pathLst>
                  <a:path w="407" h="337">
                    <a:moveTo>
                      <a:pt x="62" y="0"/>
                    </a:moveTo>
                    <a:lnTo>
                      <a:pt x="407" y="30"/>
                    </a:lnTo>
                    <a:lnTo>
                      <a:pt x="391" y="337"/>
                    </a:lnTo>
                    <a:lnTo>
                      <a:pt x="0" y="328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69960" y="3595320"/>
                <a:ext cx="235080" cy="306000"/>
              </a:xfrm>
              <a:custGeom>
                <a:avLst/>
                <a:gdLst/>
                <a:ahLst/>
                <a:rect l="l" t="t" r="r" b="b"/>
                <a:pathLst>
                  <a:path w="296" h="385">
                    <a:moveTo>
                      <a:pt x="0" y="151"/>
                    </a:moveTo>
                    <a:lnTo>
                      <a:pt x="253" y="385"/>
                    </a:lnTo>
                    <a:lnTo>
                      <a:pt x="296" y="312"/>
                    </a:lnTo>
                    <a:lnTo>
                      <a:pt x="49" y="0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00200" y="3079440"/>
                <a:ext cx="195480" cy="232920"/>
              </a:xfrm>
              <a:custGeom>
                <a:avLst/>
                <a:gdLst/>
                <a:ahLst/>
                <a:rect l="l" t="t" r="r" b="b"/>
                <a:pathLst>
                  <a:path w="245" h="292">
                    <a:moveTo>
                      <a:pt x="135" y="292"/>
                    </a:moveTo>
                    <a:lnTo>
                      <a:pt x="245" y="16"/>
                    </a:lnTo>
                    <a:lnTo>
                      <a:pt x="160" y="0"/>
                    </a:lnTo>
                    <a:lnTo>
                      <a:pt x="0" y="247"/>
                    </a:lnTo>
                    <a:lnTo>
                      <a:pt x="135" y="29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35200" y="3830400"/>
                <a:ext cx="162000" cy="15516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0" y="77"/>
                    </a:moveTo>
                    <a:lnTo>
                      <a:pt x="79" y="196"/>
                    </a:lnTo>
                    <a:lnTo>
                      <a:pt x="205" y="144"/>
                    </a:lnTo>
                    <a:lnTo>
                      <a:pt x="58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60680" y="2800080"/>
                <a:ext cx="230040" cy="274320"/>
              </a:xfrm>
              <a:custGeom>
                <a:avLst/>
                <a:gdLst/>
                <a:ahLst/>
                <a:rect l="l" t="t" r="r" b="b"/>
                <a:pathLst>
                  <a:path w="289" h="346">
                    <a:moveTo>
                      <a:pt x="159" y="346"/>
                    </a:moveTo>
                    <a:lnTo>
                      <a:pt x="26" y="302"/>
                    </a:lnTo>
                    <a:lnTo>
                      <a:pt x="0" y="261"/>
                    </a:lnTo>
                    <a:lnTo>
                      <a:pt x="75" y="237"/>
                    </a:lnTo>
                    <a:lnTo>
                      <a:pt x="18" y="105"/>
                    </a:lnTo>
                    <a:lnTo>
                      <a:pt x="46" y="59"/>
                    </a:lnTo>
                    <a:lnTo>
                      <a:pt x="116" y="175"/>
                    </a:lnTo>
                    <a:lnTo>
                      <a:pt x="85" y="15"/>
                    </a:lnTo>
                    <a:lnTo>
                      <a:pt x="126" y="0"/>
                    </a:lnTo>
                    <a:lnTo>
                      <a:pt x="157" y="172"/>
                    </a:lnTo>
                    <a:lnTo>
                      <a:pt x="173" y="18"/>
                    </a:lnTo>
                    <a:lnTo>
                      <a:pt x="227" y="20"/>
                    </a:lnTo>
                    <a:lnTo>
                      <a:pt x="203" y="193"/>
                    </a:lnTo>
                    <a:lnTo>
                      <a:pt x="255" y="56"/>
                    </a:lnTo>
                    <a:lnTo>
                      <a:pt x="289" y="47"/>
                    </a:lnTo>
                    <a:lnTo>
                      <a:pt x="227" y="281"/>
                    </a:lnTo>
                    <a:lnTo>
                      <a:pt x="159" y="346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51120" y="2954160"/>
                <a:ext cx="322200" cy="479160"/>
              </a:xfrm>
              <a:custGeom>
                <a:avLst/>
                <a:gdLst/>
                <a:ahLst/>
                <a:rect l="l" t="t" r="r" b="b"/>
                <a:pathLst>
                  <a:path w="406" h="605">
                    <a:moveTo>
                      <a:pt x="107" y="0"/>
                    </a:moveTo>
                    <a:lnTo>
                      <a:pt x="0" y="130"/>
                    </a:lnTo>
                    <a:lnTo>
                      <a:pt x="10" y="283"/>
                    </a:lnTo>
                    <a:lnTo>
                      <a:pt x="82" y="324"/>
                    </a:lnTo>
                    <a:lnTo>
                      <a:pt x="84" y="339"/>
                    </a:lnTo>
                    <a:lnTo>
                      <a:pt x="85" y="376"/>
                    </a:lnTo>
                    <a:lnTo>
                      <a:pt x="85" y="424"/>
                    </a:lnTo>
                    <a:lnTo>
                      <a:pt x="77" y="469"/>
                    </a:lnTo>
                    <a:lnTo>
                      <a:pt x="87" y="500"/>
                    </a:lnTo>
                    <a:lnTo>
                      <a:pt x="100" y="527"/>
                    </a:lnTo>
                    <a:lnTo>
                      <a:pt x="116" y="549"/>
                    </a:lnTo>
                    <a:lnTo>
                      <a:pt x="134" y="567"/>
                    </a:lnTo>
                    <a:lnTo>
                      <a:pt x="154" y="582"/>
                    </a:lnTo>
                    <a:lnTo>
                      <a:pt x="174" y="594"/>
                    </a:lnTo>
                    <a:lnTo>
                      <a:pt x="195" y="602"/>
                    </a:lnTo>
                    <a:lnTo>
                      <a:pt x="214" y="605"/>
                    </a:lnTo>
                    <a:lnTo>
                      <a:pt x="232" y="603"/>
                    </a:lnTo>
                    <a:lnTo>
                      <a:pt x="249" y="600"/>
                    </a:lnTo>
                    <a:lnTo>
                      <a:pt x="262" y="592"/>
                    </a:lnTo>
                    <a:lnTo>
                      <a:pt x="270" y="579"/>
                    </a:lnTo>
                    <a:lnTo>
                      <a:pt x="275" y="562"/>
                    </a:lnTo>
                    <a:lnTo>
                      <a:pt x="273" y="543"/>
                    </a:lnTo>
                    <a:lnTo>
                      <a:pt x="267" y="518"/>
                    </a:lnTo>
                    <a:lnTo>
                      <a:pt x="254" y="491"/>
                    </a:lnTo>
                    <a:lnTo>
                      <a:pt x="247" y="463"/>
                    </a:lnTo>
                    <a:lnTo>
                      <a:pt x="244" y="427"/>
                    </a:lnTo>
                    <a:lnTo>
                      <a:pt x="244" y="397"/>
                    </a:lnTo>
                    <a:lnTo>
                      <a:pt x="244" y="384"/>
                    </a:lnTo>
                    <a:lnTo>
                      <a:pt x="317" y="371"/>
                    </a:lnTo>
                    <a:lnTo>
                      <a:pt x="352" y="326"/>
                    </a:lnTo>
                    <a:lnTo>
                      <a:pt x="370" y="255"/>
                    </a:lnTo>
                    <a:lnTo>
                      <a:pt x="406" y="237"/>
                    </a:lnTo>
                    <a:lnTo>
                      <a:pt x="342" y="118"/>
                    </a:lnTo>
                    <a:lnTo>
                      <a:pt x="275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581120" y="2743200"/>
                <a:ext cx="558720" cy="456840"/>
              </a:xfrm>
              <a:custGeom>
                <a:avLst/>
                <a:gdLst/>
                <a:ahLst/>
                <a:rect l="l" t="t" r="r" b="b"/>
                <a:pathLst>
                  <a:path w="702" h="577">
                    <a:moveTo>
                      <a:pt x="468" y="389"/>
                    </a:moveTo>
                    <a:lnTo>
                      <a:pt x="519" y="405"/>
                    </a:lnTo>
                    <a:lnTo>
                      <a:pt x="555" y="407"/>
                    </a:lnTo>
                    <a:lnTo>
                      <a:pt x="578" y="399"/>
                    </a:lnTo>
                    <a:lnTo>
                      <a:pt x="594" y="386"/>
                    </a:lnTo>
                    <a:lnTo>
                      <a:pt x="609" y="371"/>
                    </a:lnTo>
                    <a:lnTo>
                      <a:pt x="625" y="358"/>
                    </a:lnTo>
                    <a:lnTo>
                      <a:pt x="650" y="351"/>
                    </a:lnTo>
                    <a:lnTo>
                      <a:pt x="687" y="356"/>
                    </a:lnTo>
                    <a:lnTo>
                      <a:pt x="699" y="329"/>
                    </a:lnTo>
                    <a:lnTo>
                      <a:pt x="702" y="302"/>
                    </a:lnTo>
                    <a:lnTo>
                      <a:pt x="699" y="278"/>
                    </a:lnTo>
                    <a:lnTo>
                      <a:pt x="689" y="257"/>
                    </a:lnTo>
                    <a:lnTo>
                      <a:pt x="676" y="237"/>
                    </a:lnTo>
                    <a:lnTo>
                      <a:pt x="658" y="221"/>
                    </a:lnTo>
                    <a:lnTo>
                      <a:pt x="638" y="206"/>
                    </a:lnTo>
                    <a:lnTo>
                      <a:pt x="615" y="196"/>
                    </a:lnTo>
                    <a:lnTo>
                      <a:pt x="589" y="190"/>
                    </a:lnTo>
                    <a:lnTo>
                      <a:pt x="560" y="185"/>
                    </a:lnTo>
                    <a:lnTo>
                      <a:pt x="527" y="185"/>
                    </a:lnTo>
                    <a:lnTo>
                      <a:pt x="495" y="185"/>
                    </a:lnTo>
                    <a:lnTo>
                      <a:pt x="464" y="190"/>
                    </a:lnTo>
                    <a:lnTo>
                      <a:pt x="436" y="196"/>
                    </a:lnTo>
                    <a:lnTo>
                      <a:pt x="413" y="204"/>
                    </a:lnTo>
                    <a:lnTo>
                      <a:pt x="397" y="214"/>
                    </a:lnTo>
                    <a:lnTo>
                      <a:pt x="388" y="191"/>
                    </a:lnTo>
                    <a:lnTo>
                      <a:pt x="377" y="164"/>
                    </a:lnTo>
                    <a:lnTo>
                      <a:pt x="362" y="132"/>
                    </a:lnTo>
                    <a:lnTo>
                      <a:pt x="343" y="101"/>
                    </a:lnTo>
                    <a:lnTo>
                      <a:pt x="321" y="72"/>
                    </a:lnTo>
                    <a:lnTo>
                      <a:pt x="295" y="44"/>
                    </a:lnTo>
                    <a:lnTo>
                      <a:pt x="264" y="21"/>
                    </a:lnTo>
                    <a:lnTo>
                      <a:pt x="230" y="7"/>
                    </a:lnTo>
                    <a:lnTo>
                      <a:pt x="187" y="0"/>
                    </a:lnTo>
                    <a:lnTo>
                      <a:pt x="145" y="5"/>
                    </a:lnTo>
                    <a:lnTo>
                      <a:pt x="106" y="18"/>
                    </a:lnTo>
                    <a:lnTo>
                      <a:pt x="68" y="38"/>
                    </a:lnTo>
                    <a:lnTo>
                      <a:pt x="39" y="62"/>
                    </a:lnTo>
                    <a:lnTo>
                      <a:pt x="16" y="90"/>
                    </a:lnTo>
                    <a:lnTo>
                      <a:pt x="1" y="118"/>
                    </a:lnTo>
                    <a:lnTo>
                      <a:pt x="0" y="146"/>
                    </a:lnTo>
                    <a:lnTo>
                      <a:pt x="6" y="172"/>
                    </a:lnTo>
                    <a:lnTo>
                      <a:pt x="14" y="196"/>
                    </a:lnTo>
                    <a:lnTo>
                      <a:pt x="24" y="219"/>
                    </a:lnTo>
                    <a:lnTo>
                      <a:pt x="31" y="240"/>
                    </a:lnTo>
                    <a:lnTo>
                      <a:pt x="36" y="262"/>
                    </a:lnTo>
                    <a:lnTo>
                      <a:pt x="34" y="281"/>
                    </a:lnTo>
                    <a:lnTo>
                      <a:pt x="24" y="297"/>
                    </a:lnTo>
                    <a:lnTo>
                      <a:pt x="6" y="312"/>
                    </a:lnTo>
                    <a:lnTo>
                      <a:pt x="36" y="304"/>
                    </a:lnTo>
                    <a:lnTo>
                      <a:pt x="65" y="291"/>
                    </a:lnTo>
                    <a:lnTo>
                      <a:pt x="93" y="275"/>
                    </a:lnTo>
                    <a:lnTo>
                      <a:pt x="117" y="255"/>
                    </a:lnTo>
                    <a:lnTo>
                      <a:pt x="138" y="234"/>
                    </a:lnTo>
                    <a:lnTo>
                      <a:pt x="155" y="214"/>
                    </a:lnTo>
                    <a:lnTo>
                      <a:pt x="166" y="195"/>
                    </a:lnTo>
                    <a:lnTo>
                      <a:pt x="173" y="180"/>
                    </a:lnTo>
                    <a:lnTo>
                      <a:pt x="176" y="168"/>
                    </a:lnTo>
                    <a:lnTo>
                      <a:pt x="183" y="159"/>
                    </a:lnTo>
                    <a:lnTo>
                      <a:pt x="191" y="152"/>
                    </a:lnTo>
                    <a:lnTo>
                      <a:pt x="199" y="150"/>
                    </a:lnTo>
                    <a:lnTo>
                      <a:pt x="209" y="150"/>
                    </a:lnTo>
                    <a:lnTo>
                      <a:pt x="217" y="155"/>
                    </a:lnTo>
                    <a:lnTo>
                      <a:pt x="225" y="165"/>
                    </a:lnTo>
                    <a:lnTo>
                      <a:pt x="230" y="180"/>
                    </a:lnTo>
                    <a:lnTo>
                      <a:pt x="236" y="196"/>
                    </a:lnTo>
                    <a:lnTo>
                      <a:pt x="250" y="209"/>
                    </a:lnTo>
                    <a:lnTo>
                      <a:pt x="264" y="219"/>
                    </a:lnTo>
                    <a:lnTo>
                      <a:pt x="281" y="227"/>
                    </a:lnTo>
                    <a:lnTo>
                      <a:pt x="299" y="234"/>
                    </a:lnTo>
                    <a:lnTo>
                      <a:pt x="317" y="239"/>
                    </a:lnTo>
                    <a:lnTo>
                      <a:pt x="331" y="242"/>
                    </a:lnTo>
                    <a:lnTo>
                      <a:pt x="344" y="242"/>
                    </a:lnTo>
                    <a:lnTo>
                      <a:pt x="333" y="268"/>
                    </a:lnTo>
                    <a:lnTo>
                      <a:pt x="320" y="299"/>
                    </a:lnTo>
                    <a:lnTo>
                      <a:pt x="303" y="335"/>
                    </a:lnTo>
                    <a:lnTo>
                      <a:pt x="289" y="373"/>
                    </a:lnTo>
                    <a:lnTo>
                      <a:pt x="277" y="409"/>
                    </a:lnTo>
                    <a:lnTo>
                      <a:pt x="271" y="441"/>
                    </a:lnTo>
                    <a:lnTo>
                      <a:pt x="269" y="469"/>
                    </a:lnTo>
                    <a:lnTo>
                      <a:pt x="277" y="489"/>
                    </a:lnTo>
                    <a:lnTo>
                      <a:pt x="300" y="515"/>
                    </a:lnTo>
                    <a:lnTo>
                      <a:pt x="323" y="538"/>
                    </a:lnTo>
                    <a:lnTo>
                      <a:pt x="346" y="556"/>
                    </a:lnTo>
                    <a:lnTo>
                      <a:pt x="367" y="569"/>
                    </a:lnTo>
                    <a:lnTo>
                      <a:pt x="387" y="577"/>
                    </a:lnTo>
                    <a:lnTo>
                      <a:pt x="403" y="577"/>
                    </a:lnTo>
                    <a:lnTo>
                      <a:pt x="415" y="569"/>
                    </a:lnTo>
                    <a:lnTo>
                      <a:pt x="421" y="552"/>
                    </a:lnTo>
                    <a:lnTo>
                      <a:pt x="434" y="526"/>
                    </a:lnTo>
                    <a:lnTo>
                      <a:pt x="434" y="502"/>
                    </a:lnTo>
                    <a:lnTo>
                      <a:pt x="428" y="477"/>
                    </a:lnTo>
                    <a:lnTo>
                      <a:pt x="419" y="453"/>
                    </a:lnTo>
                    <a:lnTo>
                      <a:pt x="415" y="431"/>
                    </a:lnTo>
                    <a:lnTo>
                      <a:pt x="418" y="413"/>
                    </a:lnTo>
                    <a:lnTo>
                      <a:pt x="434" y="399"/>
                    </a:lnTo>
                    <a:lnTo>
                      <a:pt x="468" y="38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5480" y="2966760"/>
                <a:ext cx="453960" cy="382320"/>
              </a:xfrm>
              <a:custGeom>
                <a:avLst/>
                <a:gdLst/>
                <a:ahLst/>
                <a:rect l="l" t="t" r="r" b="b"/>
                <a:pathLst>
                  <a:path w="572" h="482">
                    <a:moveTo>
                      <a:pt x="302" y="297"/>
                    </a:moveTo>
                    <a:lnTo>
                      <a:pt x="299" y="315"/>
                    </a:lnTo>
                    <a:lnTo>
                      <a:pt x="296" y="338"/>
                    </a:lnTo>
                    <a:lnTo>
                      <a:pt x="292" y="364"/>
                    </a:lnTo>
                    <a:lnTo>
                      <a:pt x="288" y="392"/>
                    </a:lnTo>
                    <a:lnTo>
                      <a:pt x="283" y="420"/>
                    </a:lnTo>
                    <a:lnTo>
                      <a:pt x="273" y="445"/>
                    </a:lnTo>
                    <a:lnTo>
                      <a:pt x="263" y="466"/>
                    </a:lnTo>
                    <a:lnTo>
                      <a:pt x="248" y="482"/>
                    </a:lnTo>
                    <a:lnTo>
                      <a:pt x="263" y="482"/>
                    </a:lnTo>
                    <a:lnTo>
                      <a:pt x="283" y="482"/>
                    </a:lnTo>
                    <a:lnTo>
                      <a:pt x="304" y="479"/>
                    </a:lnTo>
                    <a:lnTo>
                      <a:pt x="328" y="474"/>
                    </a:lnTo>
                    <a:lnTo>
                      <a:pt x="353" y="467"/>
                    </a:lnTo>
                    <a:lnTo>
                      <a:pt x="379" y="461"/>
                    </a:lnTo>
                    <a:lnTo>
                      <a:pt x="407" y="451"/>
                    </a:lnTo>
                    <a:lnTo>
                      <a:pt x="433" y="441"/>
                    </a:lnTo>
                    <a:lnTo>
                      <a:pt x="459" y="431"/>
                    </a:lnTo>
                    <a:lnTo>
                      <a:pt x="484" y="420"/>
                    </a:lnTo>
                    <a:lnTo>
                      <a:pt x="506" y="409"/>
                    </a:lnTo>
                    <a:lnTo>
                      <a:pt x="526" y="396"/>
                    </a:lnTo>
                    <a:lnTo>
                      <a:pt x="544" y="382"/>
                    </a:lnTo>
                    <a:lnTo>
                      <a:pt x="557" y="369"/>
                    </a:lnTo>
                    <a:lnTo>
                      <a:pt x="567" y="356"/>
                    </a:lnTo>
                    <a:lnTo>
                      <a:pt x="572" y="343"/>
                    </a:lnTo>
                    <a:lnTo>
                      <a:pt x="572" y="327"/>
                    </a:lnTo>
                    <a:lnTo>
                      <a:pt x="570" y="306"/>
                    </a:lnTo>
                    <a:lnTo>
                      <a:pt x="565" y="281"/>
                    </a:lnTo>
                    <a:lnTo>
                      <a:pt x="557" y="252"/>
                    </a:lnTo>
                    <a:lnTo>
                      <a:pt x="546" y="221"/>
                    </a:lnTo>
                    <a:lnTo>
                      <a:pt x="531" y="188"/>
                    </a:lnTo>
                    <a:lnTo>
                      <a:pt x="513" y="154"/>
                    </a:lnTo>
                    <a:lnTo>
                      <a:pt x="492" y="123"/>
                    </a:lnTo>
                    <a:lnTo>
                      <a:pt x="467" y="92"/>
                    </a:lnTo>
                    <a:lnTo>
                      <a:pt x="439" y="64"/>
                    </a:lnTo>
                    <a:lnTo>
                      <a:pt x="410" y="39"/>
                    </a:lnTo>
                    <a:lnTo>
                      <a:pt x="376" y="20"/>
                    </a:lnTo>
                    <a:lnTo>
                      <a:pt x="338" y="7"/>
                    </a:lnTo>
                    <a:lnTo>
                      <a:pt x="297" y="0"/>
                    </a:lnTo>
                    <a:lnTo>
                      <a:pt x="253" y="0"/>
                    </a:lnTo>
                    <a:lnTo>
                      <a:pt x="206" y="10"/>
                    </a:lnTo>
                    <a:lnTo>
                      <a:pt x="160" y="25"/>
                    </a:lnTo>
                    <a:lnTo>
                      <a:pt x="123" y="38"/>
                    </a:lnTo>
                    <a:lnTo>
                      <a:pt x="90" y="51"/>
                    </a:lnTo>
                    <a:lnTo>
                      <a:pt x="65" y="64"/>
                    </a:lnTo>
                    <a:lnTo>
                      <a:pt x="44" y="75"/>
                    </a:lnTo>
                    <a:lnTo>
                      <a:pt x="29" y="87"/>
                    </a:lnTo>
                    <a:lnTo>
                      <a:pt x="18" y="98"/>
                    </a:lnTo>
                    <a:lnTo>
                      <a:pt x="10" y="110"/>
                    </a:lnTo>
                    <a:lnTo>
                      <a:pt x="5" y="119"/>
                    </a:lnTo>
                    <a:lnTo>
                      <a:pt x="2" y="131"/>
                    </a:lnTo>
                    <a:lnTo>
                      <a:pt x="2" y="141"/>
                    </a:lnTo>
                    <a:lnTo>
                      <a:pt x="2" y="150"/>
                    </a:lnTo>
                    <a:lnTo>
                      <a:pt x="2" y="162"/>
                    </a:lnTo>
                    <a:lnTo>
                      <a:pt x="2" y="172"/>
                    </a:lnTo>
                    <a:lnTo>
                      <a:pt x="2" y="183"/>
                    </a:lnTo>
                    <a:lnTo>
                      <a:pt x="0" y="195"/>
                    </a:lnTo>
                    <a:lnTo>
                      <a:pt x="26" y="204"/>
                    </a:lnTo>
                    <a:lnTo>
                      <a:pt x="54" y="213"/>
                    </a:lnTo>
                    <a:lnTo>
                      <a:pt x="85" y="217"/>
                    </a:lnTo>
                    <a:lnTo>
                      <a:pt x="114" y="219"/>
                    </a:lnTo>
                    <a:lnTo>
                      <a:pt x="145" y="216"/>
                    </a:lnTo>
                    <a:lnTo>
                      <a:pt x="173" y="209"/>
                    </a:lnTo>
                    <a:lnTo>
                      <a:pt x="198" y="196"/>
                    </a:lnTo>
                    <a:lnTo>
                      <a:pt x="219" y="177"/>
                    </a:lnTo>
                    <a:lnTo>
                      <a:pt x="245" y="190"/>
                    </a:lnTo>
                    <a:lnTo>
                      <a:pt x="265" y="204"/>
                    </a:lnTo>
                    <a:lnTo>
                      <a:pt x="279" y="221"/>
                    </a:lnTo>
                    <a:lnTo>
                      <a:pt x="291" y="237"/>
                    </a:lnTo>
                    <a:lnTo>
                      <a:pt x="299" y="255"/>
                    </a:lnTo>
                    <a:lnTo>
                      <a:pt x="302" y="271"/>
                    </a:lnTo>
                    <a:lnTo>
                      <a:pt x="304" y="286"/>
                    </a:lnTo>
                    <a:lnTo>
                      <a:pt x="302" y="297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40040" y="3157200"/>
                <a:ext cx="44280" cy="106200"/>
              </a:xfrm>
              <a:custGeom>
                <a:avLst/>
                <a:gdLst/>
                <a:ahLst/>
                <a:rect l="l" t="t" r="r" b="b"/>
                <a:pathLst>
                  <a:path w="56" h="134">
                    <a:moveTo>
                      <a:pt x="20" y="0"/>
                    </a:moveTo>
                    <a:lnTo>
                      <a:pt x="0" y="124"/>
                    </a:lnTo>
                    <a:lnTo>
                      <a:pt x="56" y="13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43400" y="3358800"/>
                <a:ext cx="490320" cy="690480"/>
              </a:xfrm>
              <a:custGeom>
                <a:avLst/>
                <a:gdLst/>
                <a:ahLst/>
                <a:rect l="l" t="t" r="r" b="b"/>
                <a:pathLst>
                  <a:path w="617" h="869">
                    <a:moveTo>
                      <a:pt x="259" y="608"/>
                    </a:moveTo>
                    <a:lnTo>
                      <a:pt x="240" y="869"/>
                    </a:lnTo>
                    <a:lnTo>
                      <a:pt x="0" y="817"/>
                    </a:lnTo>
                    <a:lnTo>
                      <a:pt x="76" y="322"/>
                    </a:lnTo>
                    <a:lnTo>
                      <a:pt x="36" y="0"/>
                    </a:lnTo>
                    <a:lnTo>
                      <a:pt x="137" y="26"/>
                    </a:lnTo>
                    <a:lnTo>
                      <a:pt x="526" y="250"/>
                    </a:lnTo>
                    <a:lnTo>
                      <a:pt x="617" y="409"/>
                    </a:lnTo>
                    <a:lnTo>
                      <a:pt x="418" y="771"/>
                    </a:lnTo>
                    <a:lnTo>
                      <a:pt x="285" y="631"/>
                    </a:lnTo>
                    <a:lnTo>
                      <a:pt x="336" y="445"/>
                    </a:lnTo>
                    <a:lnTo>
                      <a:pt x="264" y="404"/>
                    </a:lnTo>
                    <a:lnTo>
                      <a:pt x="259" y="60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56080" y="3895560"/>
                <a:ext cx="176040" cy="169560"/>
              </a:xfrm>
              <a:custGeom>
                <a:avLst/>
                <a:gdLst/>
                <a:ahLst/>
                <a:rect l="l" t="t" r="r" b="b"/>
                <a:pathLst>
                  <a:path w="224" h="214">
                    <a:moveTo>
                      <a:pt x="106" y="0"/>
                    </a:moveTo>
                    <a:lnTo>
                      <a:pt x="0" y="96"/>
                    </a:lnTo>
                    <a:lnTo>
                      <a:pt x="70" y="214"/>
                    </a:lnTo>
                    <a:lnTo>
                      <a:pt x="224" y="181"/>
                    </a:lnTo>
                    <a:lnTo>
                      <a:pt x="211" y="93"/>
                    </a:lnTo>
                    <a:lnTo>
                      <a:pt x="149" y="99"/>
                    </a:lnTo>
                    <a:lnTo>
                      <a:pt x="145" y="135"/>
                    </a:lnTo>
                    <a:lnTo>
                      <a:pt x="119" y="145"/>
                    </a:lnTo>
                    <a:lnTo>
                      <a:pt x="190" y="4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676520" y="56386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imes New Roman"/>
                </a:rPr>
                <a:t>CLIENT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724280" y="3048120"/>
            <a:ext cx="3733920" cy="3111120"/>
            <a:chOff x="4724280" y="3048120"/>
            <a:chExt cx="3733920" cy="311112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5638680" y="3048120"/>
              <a:ext cx="1828800" cy="14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6629400" y="4114440"/>
              <a:ext cx="1828800" cy="14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4724280" y="4267080"/>
              <a:ext cx="1828800" cy="14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791320" y="56386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ffffff"/>
                  </a:solidFill>
                  <a:latin typeface="Times New Roman"/>
                </a:rPr>
                <a:t>CONTA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267080" y="3505320"/>
            <a:ext cx="1143000" cy="533160"/>
          </a:xfrm>
          <a:prstGeom prst="leftRightArrow">
            <a:avLst>
              <a:gd name="adj1" fmla="val 50000"/>
              <a:gd name="adj2" fmla="val 4267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peamento de Cardinalida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pressa o número de entidades as quais outra entidade pode ser associada por um relaciona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171612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4114800" cy="1762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ipos de Mapeamento -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00"/>
                </a:solidFill>
                <a:latin typeface="Times New Roman"/>
              </a:rPr>
              <a:t>Um-para-um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Uma entidade A está associada no máximo a uma entidade B e B está associada no máximo a uma entidada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1249560" cy="23623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1216080" cy="2362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981080" y="5943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SP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57600" y="4267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5334120"/>
            <a:ext cx="1752480" cy="228600"/>
          </a:xfrm>
          <a:prstGeom prst="leftArrow">
            <a:avLst>
              <a:gd name="adj1" fmla="val 50000"/>
              <a:gd name="adj2" fmla="val 191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ipos de Mapeamento -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00"/>
                </a:solidFill>
                <a:latin typeface="Times New Roman"/>
              </a:rPr>
              <a:t>Um-para-muito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Uma entidade A está associada a qualquer número de entidades B. No entanto, B só pode estas associada e úma única entidade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1209960" cy="2286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219320" y="6095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334120" y="3505320"/>
            <a:ext cx="2636640" cy="2450880"/>
            <a:chOff x="5334120" y="3505320"/>
            <a:chExt cx="2636640" cy="245088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5334120" y="3505320"/>
              <a:ext cx="243828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3"/>
            <a:stretch/>
          </p:blipFill>
          <p:spPr>
            <a:xfrm>
              <a:off x="5334120" y="4800600"/>
              <a:ext cx="2636640" cy="11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/>
          <p:cNvSpPr/>
          <p:nvPr/>
        </p:nvSpPr>
        <p:spPr>
          <a:xfrm>
            <a:off x="548640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DEPEN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117960" y="4174920"/>
            <a:ext cx="2151000" cy="1458720"/>
            <a:chOff x="3117960" y="4174920"/>
            <a:chExt cx="2151000" cy="1458720"/>
          </a:xfrm>
        </p:grpSpPr>
        <p:sp>
          <p:nvSpPr>
            <p:cNvPr id="326" name=""/>
            <p:cNvSpPr/>
            <p:nvPr/>
          </p:nvSpPr>
          <p:spPr>
            <a:xfrm rot="20758800">
              <a:off x="3124080" y="4419720"/>
              <a:ext cx="2057400" cy="304560"/>
            </a:xfrm>
            <a:prstGeom prst="rightArrow">
              <a:avLst>
                <a:gd name="adj1" fmla="val 50000"/>
                <a:gd name="adj2" fmla="val 16888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498600">
              <a:off x="3200040" y="5181480"/>
              <a:ext cx="2057400" cy="304920"/>
            </a:xfrm>
            <a:prstGeom prst="rightArrow">
              <a:avLst>
                <a:gd name="adj1" fmla="val 50000"/>
                <a:gd name="adj2" fmla="val 16868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 rot="20830200">
            <a:off x="3122640" y="3876480"/>
            <a:ext cx="1981080" cy="304560"/>
          </a:xfrm>
          <a:prstGeom prst="leftArrow">
            <a:avLst>
              <a:gd name="adj1" fmla="val 50000"/>
              <a:gd name="adj2" fmla="val 16261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1200">
            <a:off x="3130200" y="5708160"/>
            <a:ext cx="1981080" cy="228600"/>
          </a:xfrm>
          <a:prstGeom prst="leftArrow">
            <a:avLst>
              <a:gd name="adj1" fmla="val 50000"/>
              <a:gd name="adj2" fmla="val 216654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rot="20828400">
            <a:off x="4190760" y="5333760"/>
            <a:ext cx="1828800" cy="228600"/>
          </a:xfrm>
          <a:prstGeom prst="leftArrow">
            <a:avLst>
              <a:gd name="adj1" fmla="val 50000"/>
              <a:gd name="adj2" fmla="val 20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ipos de Mapeamento -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00"/>
                </a:solidFill>
                <a:latin typeface="Times New Roman"/>
              </a:rPr>
              <a:t>Muitos-para-um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Uma entidade A está associada no máximo a uma entidade B. B, entretanto, pode estar associada a qualquer número de entidades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143000" y="4343400"/>
            <a:ext cx="2743200" cy="536040"/>
            <a:chOff x="1143000" y="4343400"/>
            <a:chExt cx="2743200" cy="536040"/>
          </a:xfrm>
        </p:grpSpPr>
        <p:sp>
          <p:nvSpPr>
            <p:cNvPr id="334" name=""/>
            <p:cNvSpPr/>
            <p:nvPr/>
          </p:nvSpPr>
          <p:spPr>
            <a:xfrm>
              <a:off x="1143000" y="4343400"/>
              <a:ext cx="274320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95280" y="441972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Conta Corrente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143000" y="5638680"/>
            <a:ext cx="2743200" cy="536040"/>
            <a:chOff x="1143000" y="5638680"/>
            <a:chExt cx="2743200" cy="536040"/>
          </a:xfrm>
        </p:grpSpPr>
        <p:sp>
          <p:nvSpPr>
            <p:cNvPr id="337" name=""/>
            <p:cNvSpPr/>
            <p:nvPr/>
          </p:nvSpPr>
          <p:spPr>
            <a:xfrm>
              <a:off x="1143000" y="5638680"/>
              <a:ext cx="274320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95280" y="57150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Conta Corrente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128600" cy="2133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715000" y="5867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260960" y="4282920"/>
            <a:ext cx="1993680" cy="1860840"/>
            <a:chOff x="4260960" y="4282920"/>
            <a:chExt cx="1993680" cy="1860840"/>
          </a:xfrm>
        </p:grpSpPr>
        <p:sp>
          <p:nvSpPr>
            <p:cNvPr id="342" name=""/>
            <p:cNvSpPr/>
            <p:nvPr/>
          </p:nvSpPr>
          <p:spPr>
            <a:xfrm rot="480000">
              <a:off x="4267080" y="4419360"/>
              <a:ext cx="1981440" cy="228600"/>
            </a:xfrm>
            <a:prstGeom prst="rightArrow">
              <a:avLst>
                <a:gd name="adj1" fmla="val 50000"/>
                <a:gd name="adj2" fmla="val 21669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893200">
              <a:off x="4266720" y="5715000"/>
              <a:ext cx="1981440" cy="228600"/>
            </a:xfrm>
            <a:prstGeom prst="rightArrow">
              <a:avLst>
                <a:gd name="adj1" fmla="val 50000"/>
                <a:gd name="adj2" fmla="val 21669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rot="402600">
            <a:off x="4190760" y="4800240"/>
            <a:ext cx="1828800" cy="228600"/>
          </a:xfrm>
          <a:prstGeom prst="leftArrow">
            <a:avLst>
              <a:gd name="adj1" fmla="val 50000"/>
              <a:gd name="adj2" fmla="val 20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ipos de Mapeamento -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00"/>
                </a:solidFill>
                <a:latin typeface="Times New Roman"/>
              </a:rPr>
              <a:t>Muitos-para-muito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Uma entidade A está associada a qualquer número de entidades B e uma entidade B está associada a qualquer número de entidades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1028880" cy="1231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666880" y="4267080"/>
            <a:ext cx="1135080" cy="12286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1523880" y="5181480"/>
            <a:ext cx="1040040" cy="10288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917640" cy="19317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086600" y="4114800"/>
            <a:ext cx="955800" cy="2001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905120" y="6324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6172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VEND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362320" y="3657600"/>
            <a:ext cx="4647960" cy="1523880"/>
            <a:chOff x="2362320" y="3657600"/>
            <a:chExt cx="4647960" cy="1523880"/>
          </a:xfrm>
        </p:grpSpPr>
        <p:sp>
          <p:nvSpPr>
            <p:cNvPr id="355" name=""/>
            <p:cNvSpPr/>
            <p:nvPr/>
          </p:nvSpPr>
          <p:spPr>
            <a:xfrm>
              <a:off x="2362320" y="3657600"/>
              <a:ext cx="3581280" cy="380880"/>
            </a:xfrm>
            <a:custGeom>
              <a:avLst/>
              <a:gdLst/>
              <a:ahLst/>
              <a:rect l="l" t="t" r="r" b="b"/>
              <a:pathLst>
                <a:path w="2256" h="376">
                  <a:moveTo>
                    <a:pt x="0" y="376"/>
                  </a:moveTo>
                  <a:cubicBezTo>
                    <a:pt x="184" y="260"/>
                    <a:pt x="368" y="144"/>
                    <a:pt x="624" y="88"/>
                  </a:cubicBezTo>
                  <a:cubicBezTo>
                    <a:pt x="880" y="32"/>
                    <a:pt x="1264" y="0"/>
                    <a:pt x="1536" y="40"/>
                  </a:cubicBezTo>
                  <a:cubicBezTo>
                    <a:pt x="1808" y="80"/>
                    <a:pt x="2032" y="204"/>
                    <a:pt x="2256" y="32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2320" y="3886200"/>
              <a:ext cx="4647960" cy="1295280"/>
            </a:xfrm>
            <a:custGeom>
              <a:avLst/>
              <a:gdLst/>
              <a:ahLst/>
              <a:rect l="l" t="t" r="r" b="b"/>
              <a:pathLst>
                <a:path w="2928" h="816">
                  <a:moveTo>
                    <a:pt x="0" y="144"/>
                  </a:moveTo>
                  <a:cubicBezTo>
                    <a:pt x="308" y="72"/>
                    <a:pt x="616" y="0"/>
                    <a:pt x="912" y="0"/>
                  </a:cubicBezTo>
                  <a:cubicBezTo>
                    <a:pt x="1208" y="0"/>
                    <a:pt x="1512" y="56"/>
                    <a:pt x="1776" y="144"/>
                  </a:cubicBezTo>
                  <a:cubicBezTo>
                    <a:pt x="2040" y="232"/>
                    <a:pt x="2304" y="416"/>
                    <a:pt x="2496" y="528"/>
                  </a:cubicBezTo>
                  <a:cubicBezTo>
                    <a:pt x="2688" y="640"/>
                    <a:pt x="2808" y="728"/>
                    <a:pt x="2928" y="81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962520" y="4419720"/>
            <a:ext cx="3047760" cy="1218960"/>
            <a:chOff x="3962520" y="4419720"/>
            <a:chExt cx="3047760" cy="1218960"/>
          </a:xfrm>
        </p:grpSpPr>
        <p:sp>
          <p:nvSpPr>
            <p:cNvPr id="358" name=""/>
            <p:cNvSpPr/>
            <p:nvPr/>
          </p:nvSpPr>
          <p:spPr>
            <a:xfrm>
              <a:off x="3962520" y="4419720"/>
              <a:ext cx="1676160" cy="5331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336"/>
                  </a:moveTo>
                  <a:cubicBezTo>
                    <a:pt x="176" y="216"/>
                    <a:pt x="352" y="96"/>
                    <a:pt x="528" y="48"/>
                  </a:cubicBezTo>
                  <a:cubicBezTo>
                    <a:pt x="704" y="0"/>
                    <a:pt x="880" y="24"/>
                    <a:pt x="1056" y="48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62520" y="5105520"/>
              <a:ext cx="3047760" cy="533160"/>
            </a:xfrm>
            <a:custGeom>
              <a:avLst/>
              <a:gdLst/>
              <a:ahLst/>
              <a:rect l="l" t="t" r="r" b="b"/>
              <a:pathLst>
                <a:path w="1920" h="336">
                  <a:moveTo>
                    <a:pt x="0" y="0"/>
                  </a:moveTo>
                  <a:cubicBezTo>
                    <a:pt x="168" y="92"/>
                    <a:pt x="336" y="184"/>
                    <a:pt x="528" y="240"/>
                  </a:cubicBezTo>
                  <a:cubicBezTo>
                    <a:pt x="720" y="296"/>
                    <a:pt x="920" y="336"/>
                    <a:pt x="1152" y="336"/>
                  </a:cubicBezTo>
                  <a:cubicBezTo>
                    <a:pt x="1384" y="336"/>
                    <a:pt x="1652" y="288"/>
                    <a:pt x="1920" y="24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666880" y="5029200"/>
            <a:ext cx="4419720" cy="1397160"/>
            <a:chOff x="2666880" y="5029200"/>
            <a:chExt cx="4419720" cy="1397160"/>
          </a:xfrm>
        </p:grpSpPr>
        <p:sp>
          <p:nvSpPr>
            <p:cNvPr id="361" name=""/>
            <p:cNvSpPr/>
            <p:nvPr/>
          </p:nvSpPr>
          <p:spPr>
            <a:xfrm>
              <a:off x="2666880" y="5029200"/>
              <a:ext cx="3200400" cy="812880"/>
            </a:xfrm>
            <a:custGeom>
              <a:avLst/>
              <a:gdLst/>
              <a:ahLst/>
              <a:rect l="l" t="t" r="r" b="b"/>
              <a:pathLst>
                <a:path w="2016" h="512">
                  <a:moveTo>
                    <a:pt x="0" y="384"/>
                  </a:moveTo>
                  <a:cubicBezTo>
                    <a:pt x="144" y="428"/>
                    <a:pt x="288" y="472"/>
                    <a:pt x="480" y="480"/>
                  </a:cubicBezTo>
                  <a:cubicBezTo>
                    <a:pt x="672" y="488"/>
                    <a:pt x="896" y="512"/>
                    <a:pt x="1152" y="432"/>
                  </a:cubicBezTo>
                  <a:cubicBezTo>
                    <a:pt x="1408" y="352"/>
                    <a:pt x="1712" y="176"/>
                    <a:pt x="2016" y="0"/>
                  </a:cubicBezTo>
                </a:path>
              </a:pathLst>
            </a:custGeom>
            <a:noFill/>
            <a:ln w="28440">
              <a:solidFill>
                <a:srgbClr val="33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66880" y="5791320"/>
              <a:ext cx="4419720" cy="635040"/>
            </a:xfrm>
            <a:custGeom>
              <a:avLst/>
              <a:gdLst/>
              <a:ahLst/>
              <a:rect l="l" t="t" r="r" b="b"/>
              <a:pathLst>
                <a:path w="2784" h="400">
                  <a:moveTo>
                    <a:pt x="0" y="96"/>
                  </a:moveTo>
                  <a:cubicBezTo>
                    <a:pt x="108" y="168"/>
                    <a:pt x="216" y="240"/>
                    <a:pt x="384" y="288"/>
                  </a:cubicBezTo>
                  <a:cubicBezTo>
                    <a:pt x="552" y="336"/>
                    <a:pt x="760" y="376"/>
                    <a:pt x="1008" y="384"/>
                  </a:cubicBezTo>
                  <a:cubicBezTo>
                    <a:pt x="1256" y="392"/>
                    <a:pt x="1576" y="400"/>
                    <a:pt x="1872" y="336"/>
                  </a:cubicBezTo>
                  <a:cubicBezTo>
                    <a:pt x="2168" y="272"/>
                    <a:pt x="2476" y="136"/>
                    <a:pt x="2784" y="0"/>
                  </a:cubicBezTo>
                </a:path>
              </a:pathLst>
            </a:custGeom>
            <a:noFill/>
            <a:ln w="28440">
              <a:solidFill>
                <a:srgbClr val="33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ha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o conjunto de atributos que permite identificar unicamente uma entidade no conjunto-ent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553080" y="3124080"/>
            <a:ext cx="1060560" cy="2971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6400800" y="6095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3962520"/>
            <a:ext cx="2514600" cy="459720"/>
          </a:xfrm>
          <a:prstGeom prst="borderCallout1">
            <a:avLst>
              <a:gd name="adj1" fmla="val 43676"/>
              <a:gd name="adj2" fmla="val -3549"/>
              <a:gd name="adj3" fmla="val 982"/>
              <a:gd name="adj4" fmla="val -352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ta Cor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4724280"/>
            <a:ext cx="2514600" cy="459720"/>
          </a:xfrm>
          <a:prstGeom prst="borderCallout1">
            <a:avLst>
              <a:gd name="adj1" fmla="val 43020"/>
              <a:gd name="adj2" fmla="val -3566"/>
              <a:gd name="adj3" fmla="val 982"/>
              <a:gd name="adj4" fmla="val -352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5562720"/>
            <a:ext cx="2514600" cy="459720"/>
          </a:xfrm>
          <a:prstGeom prst="borderCallout1">
            <a:avLst>
              <a:gd name="adj1" fmla="val 43676"/>
              <a:gd name="adj2" fmla="val -3549"/>
              <a:gd name="adj3" fmla="val 982"/>
              <a:gd name="adj4" fmla="val -352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nde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3733920"/>
            <a:ext cx="3962520" cy="2514600"/>
          </a:xfrm>
          <a:prstGeom prst="flowChartAlternateProcess">
            <a:avLst/>
          </a:prstGeom>
          <a:noFill/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have Primár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a chave-candidata que permite identificar uma entidade dentro do conjunto ent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048040" cy="2819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4771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3728880"/>
            <a:ext cx="2361960" cy="459720"/>
          </a:xfrm>
          <a:prstGeom prst="borderCallout3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676520" y="3429000"/>
            <a:ext cx="1218960" cy="1218960"/>
            <a:chOff x="1676520" y="3429000"/>
            <a:chExt cx="1218960" cy="1218960"/>
          </a:xfrm>
        </p:grpSpPr>
        <p:sp>
          <p:nvSpPr>
            <p:cNvPr id="378" name=""/>
            <p:cNvSpPr/>
            <p:nvPr/>
          </p:nvSpPr>
          <p:spPr>
            <a:xfrm>
              <a:off x="1676520" y="3429000"/>
              <a:ext cx="1218960" cy="121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676520" y="3429000"/>
              <a:ext cx="1218960" cy="121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219320" y="4876920"/>
            <a:ext cx="2361960" cy="459720"/>
          </a:xfrm>
          <a:prstGeom prst="borderCallout3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ta Cor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572000"/>
            <a:ext cx="3200400" cy="1219320"/>
          </a:xfrm>
          <a:prstGeom prst="flowChartAlternateProcess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have Primá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junto Entidade Fra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possui atributos suficientes para determinação de uma chave primá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295280" y="3200400"/>
            <a:ext cx="6782040" cy="609480"/>
            <a:chOff x="1295280" y="3200400"/>
            <a:chExt cx="6782040" cy="609480"/>
          </a:xfrm>
        </p:grpSpPr>
        <p:sp>
          <p:nvSpPr>
            <p:cNvPr id="386" name=""/>
            <p:cNvSpPr/>
            <p:nvPr/>
          </p:nvSpPr>
          <p:spPr>
            <a:xfrm>
              <a:off x="6019920" y="3200400"/>
              <a:ext cx="205740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09880" y="3200400"/>
              <a:ext cx="205740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95280" y="3200400"/>
              <a:ext cx="236232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1080" y="32763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91120" y="32763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Telef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00800" y="32763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Endereç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sa-se então um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discriminado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ara determinar a chave primá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09480" y="5486400"/>
            <a:ext cx="7924320" cy="612000"/>
            <a:chOff x="609480" y="5486400"/>
            <a:chExt cx="7924320" cy="612000"/>
          </a:xfrm>
        </p:grpSpPr>
        <p:grpSp>
          <p:nvGrpSpPr>
            <p:cNvPr id="394" name=""/>
            <p:cNvGrpSpPr/>
            <p:nvPr/>
          </p:nvGrpSpPr>
          <p:grpSpPr>
            <a:xfrm>
              <a:off x="1752480" y="5486400"/>
              <a:ext cx="6781320" cy="609480"/>
              <a:chOff x="1752480" y="5486400"/>
              <a:chExt cx="6781320" cy="609480"/>
            </a:xfrm>
          </p:grpSpPr>
          <p:sp>
            <p:nvSpPr>
              <p:cNvPr id="395" name=""/>
              <p:cNvSpPr/>
              <p:nvPr/>
            </p:nvSpPr>
            <p:spPr>
              <a:xfrm>
                <a:off x="6476760" y="5486400"/>
                <a:ext cx="205704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66720" y="5486400"/>
                <a:ext cx="205704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52480" y="5486400"/>
                <a:ext cx="2361960" cy="6094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437920" y="55623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47960" y="556236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elefon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57640" y="5562360"/>
                <a:ext cx="137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609480" y="5486400"/>
              <a:ext cx="1143000" cy="609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480" y="56386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ódig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04920" y="5257800"/>
            <a:ext cx="1600200" cy="1219320"/>
          </a:xfrm>
          <a:prstGeom prst="flowChartAlternateProcess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ve primá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Informações e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FORMAÇÃ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acrescenta algo ao conhecimento da rea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AD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é um registro da inform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tratamento das INFORMAÇÕES dá origem a vários tipos de dados, porém o DADO deve registrar apenas os aspectos realmente relevantes da inform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haves primárias - observaçõ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oa chave primária mantém os custos de manutenção do banco de dados baix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haves primárias são melhores quando são curt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ão melhores quando são estáve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possível ter mais de uma chave primária. Neste caso chamam-s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haves alternativa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haves estrangeir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ndo a chave primária de uma tabela aparece como um campo de chave não primária em outra tabela, ela é chamada d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have estrangeir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43200" y="3581280"/>
            <a:ext cx="3733920" cy="609840"/>
            <a:chOff x="2743200" y="3581280"/>
            <a:chExt cx="3733920" cy="609840"/>
          </a:xfrm>
        </p:grpSpPr>
        <p:sp>
          <p:nvSpPr>
            <p:cNvPr id="410" name=""/>
            <p:cNvSpPr/>
            <p:nvPr/>
          </p:nvSpPr>
          <p:spPr>
            <a:xfrm>
              <a:off x="4648320" y="3581280"/>
              <a:ext cx="1752480" cy="60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43200" y="3581280"/>
              <a:ext cx="1752840" cy="60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19520" y="3657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odEst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0" y="36576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NomeEst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85800" y="5029200"/>
            <a:ext cx="8077320" cy="609480"/>
            <a:chOff x="685800" y="5029200"/>
            <a:chExt cx="8077320" cy="609480"/>
          </a:xfrm>
        </p:grpSpPr>
        <p:sp>
          <p:nvSpPr>
            <p:cNvPr id="415" name=""/>
            <p:cNvSpPr/>
            <p:nvPr/>
          </p:nvSpPr>
          <p:spPr>
            <a:xfrm>
              <a:off x="6858000" y="5029200"/>
              <a:ext cx="190512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00600" y="5029200"/>
              <a:ext cx="190512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43200" y="5029200"/>
              <a:ext cx="190512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800" y="5029200"/>
              <a:ext cx="190512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odEmpres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4320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7692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ida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3432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odEst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276720" y="4267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abela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abe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3022560"/>
            <a:ext cx="4432320" cy="1778040"/>
          </a:xfrm>
          <a:custGeom>
            <a:avLst/>
            <a:gdLst/>
            <a:ahLst/>
            <a:rect l="l" t="t" r="r" b="b"/>
            <a:pathLst>
              <a:path w="2792" h="1120">
                <a:moveTo>
                  <a:pt x="0" y="304"/>
                </a:moveTo>
                <a:cubicBezTo>
                  <a:pt x="220" y="208"/>
                  <a:pt x="440" y="112"/>
                  <a:pt x="672" y="64"/>
                </a:cubicBezTo>
                <a:cubicBezTo>
                  <a:pt x="904" y="16"/>
                  <a:pt x="1144" y="0"/>
                  <a:pt x="1392" y="16"/>
                </a:cubicBezTo>
                <a:cubicBezTo>
                  <a:pt x="1640" y="32"/>
                  <a:pt x="1944" y="48"/>
                  <a:pt x="2160" y="160"/>
                </a:cubicBezTo>
                <a:cubicBezTo>
                  <a:pt x="2376" y="272"/>
                  <a:pt x="2584" y="528"/>
                  <a:pt x="2688" y="688"/>
                </a:cubicBezTo>
                <a:cubicBezTo>
                  <a:pt x="2792" y="848"/>
                  <a:pt x="2788" y="984"/>
                  <a:pt x="2784" y="1120"/>
                </a:cubicBezTo>
              </a:path>
            </a:pathLst>
          </a:custGeom>
          <a:noFill/>
          <a:ln cap="rnd" w="2844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1680" y="4724280"/>
            <a:ext cx="2057400" cy="1219320"/>
          </a:xfrm>
          <a:prstGeom prst="flowChartAlternateProcess">
            <a:avLst/>
          </a:prstGeom>
          <a:noFill/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77120" y="5867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have estrangei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Integridade dos Bancos de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ntém os dados coerentes, evitando que os bancos de dados contenham más informações que levam a resultados impreci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124080" y="3505320"/>
            <a:ext cx="2341800" cy="308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Integridade da Entida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9900"/>
                </a:solidFill>
                <a:latin typeface="Times New Roman"/>
              </a:rPr>
              <a:t>A chave primária não pode ser vazia</a:t>
            </a:r>
            <a:r>
              <a:rPr b="0" i="1" lang="pt-BR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chave primária deve ser introduzida integralmente. Se a chave primária for composta (múltiplos campos), cada campo deve ser fornec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Integridade Referenc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9900"/>
                </a:solidFill>
                <a:latin typeface="Times New Roman"/>
              </a:rPr>
              <a:t>As relações entre a chave primária e as chaves estrangeiras não podem ser viol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é possível excluir um registro com relações entre outras tabelas usando chaves estrangei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ntidade-Relacion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 diagrama E-R consiste nos seguintes componen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14400" y="3200400"/>
            <a:ext cx="7315200" cy="533520"/>
            <a:chOff x="914400" y="3200400"/>
            <a:chExt cx="7315200" cy="533520"/>
          </a:xfrm>
        </p:grpSpPr>
        <p:sp>
          <p:nvSpPr>
            <p:cNvPr id="438" name=""/>
            <p:cNvSpPr/>
            <p:nvPr/>
          </p:nvSpPr>
          <p:spPr>
            <a:xfrm>
              <a:off x="914400" y="3200400"/>
              <a:ext cx="1219320" cy="5335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6000" y="32004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TÂNGULOS: conjunto-entida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914400" y="3962520"/>
            <a:ext cx="7391520" cy="533160"/>
            <a:chOff x="914400" y="3962520"/>
            <a:chExt cx="7391520" cy="533160"/>
          </a:xfrm>
        </p:grpSpPr>
        <p:sp>
          <p:nvSpPr>
            <p:cNvPr id="441" name=""/>
            <p:cNvSpPr/>
            <p:nvPr/>
          </p:nvSpPr>
          <p:spPr>
            <a:xfrm>
              <a:off x="914400" y="3962520"/>
              <a:ext cx="1219320" cy="5331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62320" y="39625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LIPSES: atribut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990720" y="4724280"/>
            <a:ext cx="7315200" cy="990720"/>
            <a:chOff x="990720" y="4724280"/>
            <a:chExt cx="7315200" cy="990720"/>
          </a:xfrm>
        </p:grpSpPr>
        <p:sp>
          <p:nvSpPr>
            <p:cNvPr id="444" name=""/>
            <p:cNvSpPr/>
            <p:nvPr/>
          </p:nvSpPr>
          <p:spPr>
            <a:xfrm>
              <a:off x="990720" y="4724280"/>
              <a:ext cx="1066680" cy="99072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62320" y="48769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OSANGOS: conjunto-relacion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914400" y="5638680"/>
            <a:ext cx="7696080" cy="825480"/>
            <a:chOff x="914400" y="5638680"/>
            <a:chExt cx="7696080" cy="825480"/>
          </a:xfrm>
        </p:grpSpPr>
        <p:sp>
          <p:nvSpPr>
            <p:cNvPr id="447" name=""/>
            <p:cNvSpPr/>
            <p:nvPr/>
          </p:nvSpPr>
          <p:spPr>
            <a:xfrm>
              <a:off x="914400" y="609588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62320" y="5638680"/>
              <a:ext cx="62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INHAS: ligam atributos a conjunto-entidade e conjunto-entidade a conjunto-relacion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s E-R: Exempl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295280" y="4572000"/>
            <a:ext cx="6553440" cy="1828800"/>
            <a:chOff x="1295280" y="4572000"/>
            <a:chExt cx="6553440" cy="1828800"/>
          </a:xfrm>
        </p:grpSpPr>
        <p:sp>
          <p:nvSpPr>
            <p:cNvPr id="451" name=""/>
            <p:cNvSpPr/>
            <p:nvPr/>
          </p:nvSpPr>
          <p:spPr>
            <a:xfrm>
              <a:off x="1295280" y="510552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7120" y="510552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57600" y="4572000"/>
              <a:ext cx="1828800" cy="182880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66880" y="5486400"/>
              <a:ext cx="99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86400" y="5486400"/>
              <a:ext cx="99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28600" y="3733920"/>
            <a:ext cx="1676520" cy="1371600"/>
            <a:chOff x="228600" y="3733920"/>
            <a:chExt cx="1676520" cy="1371600"/>
          </a:xfrm>
        </p:grpSpPr>
        <p:sp>
          <p:nvSpPr>
            <p:cNvPr id="457" name=""/>
            <p:cNvSpPr/>
            <p:nvPr/>
          </p:nvSpPr>
          <p:spPr>
            <a:xfrm>
              <a:off x="228600" y="3733920"/>
              <a:ext cx="167652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ida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1066320" y="4572000"/>
              <a:ext cx="30492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62120" y="2514600"/>
            <a:ext cx="1676160" cy="2590920"/>
            <a:chOff x="762120" y="2514600"/>
            <a:chExt cx="1676160" cy="2590920"/>
          </a:xfrm>
        </p:grpSpPr>
        <p:sp>
          <p:nvSpPr>
            <p:cNvPr id="460" name=""/>
            <p:cNvSpPr/>
            <p:nvPr/>
          </p:nvSpPr>
          <p:spPr>
            <a:xfrm>
              <a:off x="762120" y="2514600"/>
              <a:ext cx="167616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05120" y="3352680"/>
              <a:ext cx="152280" cy="1752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286000" y="1676520"/>
            <a:ext cx="1676520" cy="3429000"/>
            <a:chOff x="2286000" y="1676520"/>
            <a:chExt cx="1676520" cy="3429000"/>
          </a:xfrm>
        </p:grpSpPr>
        <p:sp>
          <p:nvSpPr>
            <p:cNvPr id="463" name=""/>
            <p:cNvSpPr/>
            <p:nvPr/>
          </p:nvSpPr>
          <p:spPr>
            <a:xfrm>
              <a:off x="2286000" y="1676520"/>
              <a:ext cx="167652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.G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286000" y="2514600"/>
              <a:ext cx="457200" cy="2590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514600" y="3657600"/>
            <a:ext cx="1828800" cy="1447920"/>
            <a:chOff x="2514600" y="3657600"/>
            <a:chExt cx="1828800" cy="1447920"/>
          </a:xfrm>
        </p:grpSpPr>
        <p:sp>
          <p:nvSpPr>
            <p:cNvPr id="466" name=""/>
            <p:cNvSpPr/>
            <p:nvPr/>
          </p:nvSpPr>
          <p:spPr>
            <a:xfrm>
              <a:off x="2666880" y="3657600"/>
              <a:ext cx="167652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ndereç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514600" y="4495680"/>
              <a:ext cx="838080" cy="609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33920" y="2666880"/>
            <a:ext cx="1676160" cy="1905120"/>
            <a:chOff x="3733920" y="2666880"/>
            <a:chExt cx="1676160" cy="1905120"/>
          </a:xfrm>
        </p:grpSpPr>
        <p:sp>
          <p:nvSpPr>
            <p:cNvPr id="469" name=""/>
            <p:cNvSpPr/>
            <p:nvPr/>
          </p:nvSpPr>
          <p:spPr>
            <a:xfrm>
              <a:off x="3733920" y="2666880"/>
              <a:ext cx="1676160" cy="8384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72000" y="3505320"/>
              <a:ext cx="0" cy="1066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715000" y="2057400"/>
            <a:ext cx="1676520" cy="3048120"/>
            <a:chOff x="5715000" y="2057400"/>
            <a:chExt cx="1676520" cy="3048120"/>
          </a:xfrm>
        </p:grpSpPr>
        <p:sp>
          <p:nvSpPr>
            <p:cNvPr id="472" name=""/>
            <p:cNvSpPr/>
            <p:nvPr/>
          </p:nvSpPr>
          <p:spPr>
            <a:xfrm>
              <a:off x="5715000" y="2057400"/>
              <a:ext cx="167652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úm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77120" y="2895480"/>
              <a:ext cx="609480" cy="2210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162920" y="3352680"/>
            <a:ext cx="1676160" cy="1752840"/>
            <a:chOff x="7162920" y="3352680"/>
            <a:chExt cx="1676160" cy="1752840"/>
          </a:xfrm>
        </p:grpSpPr>
        <p:sp>
          <p:nvSpPr>
            <p:cNvPr id="475" name=""/>
            <p:cNvSpPr/>
            <p:nvPr/>
          </p:nvSpPr>
          <p:spPr>
            <a:xfrm>
              <a:off x="7162920" y="3352680"/>
              <a:ext cx="1676160" cy="8384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467120" y="4191120"/>
              <a:ext cx="38124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um-para-mui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1905120"/>
            <a:ext cx="8610120" cy="4724280"/>
            <a:chOff x="304920" y="1905120"/>
            <a:chExt cx="8610120" cy="4724280"/>
          </a:xfrm>
        </p:grpSpPr>
        <p:sp>
          <p:nvSpPr>
            <p:cNvPr id="479" name=""/>
            <p:cNvSpPr/>
            <p:nvPr/>
          </p:nvSpPr>
          <p:spPr>
            <a:xfrm>
              <a:off x="1371600" y="533412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533412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3920" y="4800600"/>
              <a:ext cx="1828800" cy="182880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43200" y="57150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62720" y="5715000"/>
              <a:ext cx="99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838080" y="2743200"/>
              <a:ext cx="1676160" cy="2590920"/>
              <a:chOff x="838080" y="2743200"/>
              <a:chExt cx="1676160" cy="259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838080" y="274320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81080" y="3581280"/>
                <a:ext cx="152280" cy="1752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2361960" y="1905120"/>
              <a:ext cx="1676520" cy="3429000"/>
              <a:chOff x="2361960" y="1905120"/>
              <a:chExt cx="1676520" cy="3429000"/>
            </a:xfrm>
          </p:grpSpPr>
          <p:sp>
            <p:nvSpPr>
              <p:cNvPr id="488" name=""/>
              <p:cNvSpPr/>
              <p:nvPr/>
            </p:nvSpPr>
            <p:spPr>
              <a:xfrm>
                <a:off x="2362320" y="190512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R.G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2361960" y="2743200"/>
                <a:ext cx="456840" cy="2590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2590920" y="3886200"/>
              <a:ext cx="1828800" cy="1447920"/>
              <a:chOff x="2590920" y="3886200"/>
              <a:chExt cx="1828800" cy="1447920"/>
            </a:xfrm>
          </p:grpSpPr>
          <p:sp>
            <p:nvSpPr>
              <p:cNvPr id="491" name=""/>
              <p:cNvSpPr/>
              <p:nvPr/>
            </p:nvSpPr>
            <p:spPr>
              <a:xfrm>
                <a:off x="2743200" y="3886200"/>
                <a:ext cx="167652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2590920" y="4724280"/>
                <a:ext cx="838080" cy="609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3809880" y="2895480"/>
              <a:ext cx="1676160" cy="1905120"/>
              <a:chOff x="3809880" y="2895480"/>
              <a:chExt cx="1676160" cy="1905120"/>
            </a:xfrm>
          </p:grpSpPr>
          <p:sp>
            <p:nvSpPr>
              <p:cNvPr id="494" name=""/>
              <p:cNvSpPr/>
              <p:nvPr/>
            </p:nvSpPr>
            <p:spPr>
              <a:xfrm>
                <a:off x="3809880" y="2895480"/>
                <a:ext cx="1676160" cy="8384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647960" y="3733920"/>
                <a:ext cx="0" cy="1066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791320" y="2286000"/>
              <a:ext cx="1676160" cy="3048120"/>
              <a:chOff x="5791320" y="2286000"/>
              <a:chExt cx="1676160" cy="3048120"/>
            </a:xfrm>
          </p:grpSpPr>
          <p:sp>
            <p:nvSpPr>
              <p:cNvPr id="497" name=""/>
              <p:cNvSpPr/>
              <p:nvPr/>
            </p:nvSpPr>
            <p:spPr>
              <a:xfrm>
                <a:off x="5791320" y="228600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úmer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53080" y="3124080"/>
                <a:ext cx="609120" cy="2210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04920" y="3962520"/>
              <a:ext cx="1676160" cy="1371600"/>
              <a:chOff x="304920" y="3962520"/>
              <a:chExt cx="1676160" cy="1371600"/>
            </a:xfrm>
          </p:grpSpPr>
          <p:sp>
            <p:nvSpPr>
              <p:cNvPr id="500" name=""/>
              <p:cNvSpPr/>
              <p:nvPr/>
            </p:nvSpPr>
            <p:spPr>
              <a:xfrm>
                <a:off x="304920" y="396252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ida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flipV="1">
                <a:off x="1142640" y="4800600"/>
                <a:ext cx="304560" cy="533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7238880" y="3581280"/>
              <a:ext cx="1676160" cy="1752840"/>
              <a:chOff x="7238880" y="3581280"/>
              <a:chExt cx="1676160" cy="1752840"/>
            </a:xfrm>
          </p:grpSpPr>
          <p:sp>
            <p:nvSpPr>
              <p:cNvPr id="503" name=""/>
              <p:cNvSpPr/>
              <p:nvPr/>
            </p:nvSpPr>
            <p:spPr>
              <a:xfrm>
                <a:off x="7238880" y="3581280"/>
                <a:ext cx="1676160" cy="8384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543080" y="4419720"/>
                <a:ext cx="381240" cy="914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muitos-para-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04920" y="1828800"/>
            <a:ext cx="8610120" cy="4724280"/>
            <a:chOff x="304920" y="1828800"/>
            <a:chExt cx="8610120" cy="4724280"/>
          </a:xfrm>
        </p:grpSpPr>
        <p:grpSp>
          <p:nvGrpSpPr>
            <p:cNvPr id="507" name=""/>
            <p:cNvGrpSpPr/>
            <p:nvPr/>
          </p:nvGrpSpPr>
          <p:grpSpPr>
            <a:xfrm>
              <a:off x="304920" y="1828800"/>
              <a:ext cx="7619760" cy="4724280"/>
              <a:chOff x="304920" y="1828800"/>
              <a:chExt cx="7619760" cy="4724280"/>
            </a:xfrm>
          </p:grpSpPr>
          <p:sp>
            <p:nvSpPr>
              <p:cNvPr id="508" name=""/>
              <p:cNvSpPr/>
              <p:nvPr/>
            </p:nvSpPr>
            <p:spPr>
              <a:xfrm>
                <a:off x="1371600" y="5257800"/>
                <a:ext cx="1371600" cy="68580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53080" y="5257800"/>
                <a:ext cx="1371600" cy="68580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33920" y="4724280"/>
                <a:ext cx="1828800" cy="1828800"/>
              </a:xfrm>
              <a:prstGeom prst="diamond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43200" y="5638680"/>
                <a:ext cx="9907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62720" y="5638680"/>
                <a:ext cx="990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838080" y="2666880"/>
                <a:ext cx="1676160" cy="2590920"/>
                <a:chOff x="838080" y="2666880"/>
                <a:chExt cx="1676160" cy="25909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838080" y="266688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Nom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981080" y="3504960"/>
                  <a:ext cx="152280" cy="17528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361960" y="1828800"/>
                <a:ext cx="1676520" cy="3429000"/>
                <a:chOff x="2361960" y="1828800"/>
                <a:chExt cx="1676520" cy="34290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2362320" y="182880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R.G.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2361960" y="2666880"/>
                  <a:ext cx="456840" cy="259092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2590920" y="3809880"/>
                <a:ext cx="1828800" cy="1447920"/>
                <a:chOff x="2590920" y="3809880"/>
                <a:chExt cx="1828800" cy="144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743200" y="3809880"/>
                  <a:ext cx="167652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Endereço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2590920" y="4647960"/>
                  <a:ext cx="838080" cy="6098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809880" y="2819520"/>
                <a:ext cx="1676160" cy="1904400"/>
                <a:chOff x="3809880" y="2819520"/>
                <a:chExt cx="1676160" cy="19044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3809880" y="281952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Dat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647960" y="3657600"/>
                  <a:ext cx="0" cy="106632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5791320" y="2209680"/>
                <a:ext cx="1676160" cy="3048120"/>
                <a:chOff x="5791320" y="2209680"/>
                <a:chExt cx="1676160" cy="30481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5791320" y="220968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Número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553080" y="3047760"/>
                  <a:ext cx="609120" cy="22100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304920" y="3886200"/>
                <a:ext cx="1676160" cy="1371600"/>
                <a:chOff x="304920" y="3886200"/>
                <a:chExt cx="1676160" cy="13716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04920" y="3886200"/>
                  <a:ext cx="1676160" cy="838080"/>
                </a:xfrm>
                <a:prstGeom prst="ellipse">
                  <a:avLst/>
                </a:prstGeom>
                <a:noFill/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Cidad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>
                  <a:off x="1142640" y="4724280"/>
                  <a:ext cx="304560" cy="53352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7238880" y="3505320"/>
              <a:ext cx="1676160" cy="1752120"/>
              <a:chOff x="7238880" y="3505320"/>
              <a:chExt cx="1676160" cy="1752120"/>
            </a:xfrm>
          </p:grpSpPr>
          <p:sp>
            <p:nvSpPr>
              <p:cNvPr id="532" name=""/>
              <p:cNvSpPr/>
              <p:nvPr/>
            </p:nvSpPr>
            <p:spPr>
              <a:xfrm>
                <a:off x="7238880" y="350532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543080" y="4343400"/>
                <a:ext cx="381240" cy="914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um-para-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04920" y="1752480"/>
            <a:ext cx="8610120" cy="4724640"/>
            <a:chOff x="304920" y="1752480"/>
            <a:chExt cx="8610120" cy="4724640"/>
          </a:xfrm>
        </p:grpSpPr>
        <p:sp>
          <p:nvSpPr>
            <p:cNvPr id="536" name=""/>
            <p:cNvSpPr/>
            <p:nvPr/>
          </p:nvSpPr>
          <p:spPr>
            <a:xfrm>
              <a:off x="1371600" y="518148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53080" y="518148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33920" y="4648320"/>
              <a:ext cx="1828800" cy="182880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5627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720" y="556272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838080" y="2590920"/>
              <a:ext cx="1676160" cy="2590200"/>
              <a:chOff x="838080" y="2590920"/>
              <a:chExt cx="1676160" cy="2590200"/>
            </a:xfrm>
          </p:grpSpPr>
          <p:sp>
            <p:nvSpPr>
              <p:cNvPr id="542" name=""/>
              <p:cNvSpPr/>
              <p:nvPr/>
            </p:nvSpPr>
            <p:spPr>
              <a:xfrm>
                <a:off x="838080" y="2590920"/>
                <a:ext cx="1676160" cy="8377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981080" y="3428640"/>
                <a:ext cx="152280" cy="1752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361960" y="1752480"/>
              <a:ext cx="1676520" cy="3429000"/>
              <a:chOff x="2361960" y="1752480"/>
              <a:chExt cx="1676520" cy="3429000"/>
            </a:xfrm>
          </p:grpSpPr>
          <p:sp>
            <p:nvSpPr>
              <p:cNvPr id="545" name=""/>
              <p:cNvSpPr/>
              <p:nvPr/>
            </p:nvSpPr>
            <p:spPr>
              <a:xfrm>
                <a:off x="2362320" y="175248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R.G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2361960" y="2590560"/>
                <a:ext cx="456840" cy="2590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590920" y="3733920"/>
              <a:ext cx="1828800" cy="1446840"/>
              <a:chOff x="2590920" y="3733920"/>
              <a:chExt cx="1828800" cy="1446840"/>
            </a:xfrm>
          </p:grpSpPr>
          <p:sp>
            <p:nvSpPr>
              <p:cNvPr id="548" name=""/>
              <p:cNvSpPr/>
              <p:nvPr/>
            </p:nvSpPr>
            <p:spPr>
              <a:xfrm>
                <a:off x="2743200" y="3733920"/>
                <a:ext cx="1676520" cy="8377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2590920" y="4571280"/>
                <a:ext cx="838080" cy="609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809880" y="2743200"/>
              <a:ext cx="1676160" cy="1905120"/>
              <a:chOff x="3809880" y="2743200"/>
              <a:chExt cx="1676160" cy="1905120"/>
            </a:xfrm>
          </p:grpSpPr>
          <p:sp>
            <p:nvSpPr>
              <p:cNvPr id="551" name=""/>
              <p:cNvSpPr/>
              <p:nvPr/>
            </p:nvSpPr>
            <p:spPr>
              <a:xfrm>
                <a:off x="3809880" y="2743200"/>
                <a:ext cx="1676160" cy="8384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647960" y="3581640"/>
                <a:ext cx="0" cy="1066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791320" y="2133720"/>
              <a:ext cx="1676160" cy="3047400"/>
              <a:chOff x="5791320" y="2133720"/>
              <a:chExt cx="1676160" cy="3047400"/>
            </a:xfrm>
          </p:grpSpPr>
          <p:sp>
            <p:nvSpPr>
              <p:cNvPr id="554" name=""/>
              <p:cNvSpPr/>
              <p:nvPr/>
            </p:nvSpPr>
            <p:spPr>
              <a:xfrm>
                <a:off x="5791320" y="2133720"/>
                <a:ext cx="1676160" cy="8377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úmer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553080" y="2971440"/>
                <a:ext cx="609120" cy="2209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04920" y="3809880"/>
              <a:ext cx="1676160" cy="1371600"/>
              <a:chOff x="304920" y="3809880"/>
              <a:chExt cx="1676160" cy="1371600"/>
            </a:xfrm>
          </p:grpSpPr>
          <p:sp>
            <p:nvSpPr>
              <p:cNvPr id="557" name=""/>
              <p:cNvSpPr/>
              <p:nvPr/>
            </p:nvSpPr>
            <p:spPr>
              <a:xfrm>
                <a:off x="304920" y="380988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ida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 flipV="1">
                <a:off x="1142640" y="4647960"/>
                <a:ext cx="304560" cy="533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7238880" y="3429000"/>
              <a:ext cx="1676160" cy="1752120"/>
              <a:chOff x="7238880" y="3429000"/>
              <a:chExt cx="1676160" cy="1752120"/>
            </a:xfrm>
          </p:grpSpPr>
          <p:sp>
            <p:nvSpPr>
              <p:cNvPr id="560" name=""/>
              <p:cNvSpPr/>
              <p:nvPr/>
            </p:nvSpPr>
            <p:spPr>
              <a:xfrm>
                <a:off x="7238880" y="3429000"/>
                <a:ext cx="1676160" cy="8380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7543080" y="4267080"/>
                <a:ext cx="381240" cy="914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odelagem Conceit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gistro de um modelo que descreva o comportamento da rea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048120"/>
            <a:ext cx="2590920" cy="1295280"/>
          </a:xfrm>
          <a:prstGeom prst="cloudCallout">
            <a:avLst>
              <a:gd name="adj1" fmla="val -38111"/>
              <a:gd name="adj2" fmla="val 359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A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773000">
            <a:off x="2208960" y="3351960"/>
            <a:ext cx="1143000" cy="1220760"/>
          </a:xfrm>
          <a:custGeom>
            <a:avLst/>
            <a:gdLst>
              <a:gd name="textAreaLeft" fmla="*/ 259920 w 1143000"/>
              <a:gd name="textAreaRight" fmla="*/ 920160 w 1143000"/>
              <a:gd name="textAreaTop" fmla="*/ 868320 h 1220760"/>
              <a:gd name="textAreaBottom" fmla="*/ 982800 h 1220760"/>
            </a:gdLst>
            <a:ahLst/>
            <a:rect l="textAreaLeft" t="textAreaTop" r="textAreaRight" b="textAreaBottom"/>
            <a:pathLst>
              <a:path w="21600" h="21600">
                <a:moveTo>
                  <a:pt x="0" y="16375"/>
                </a:moveTo>
                <a:lnTo>
                  <a:pt x="4911" y="11150"/>
                </a:lnTo>
                <a:lnTo>
                  <a:pt x="4911" y="15362"/>
                </a:lnTo>
                <a:lnTo>
                  <a:pt x="15362" y="15362"/>
                </a:lnTo>
                <a:lnTo>
                  <a:pt x="15362" y="4911"/>
                </a:lnTo>
                <a:lnTo>
                  <a:pt x="11150" y="4911"/>
                </a:lnTo>
                <a:lnTo>
                  <a:pt x="16375" y="0"/>
                </a:lnTo>
                <a:lnTo>
                  <a:pt x="21600" y="4911"/>
                </a:lnTo>
                <a:lnTo>
                  <a:pt x="17388" y="4911"/>
                </a:lnTo>
                <a:lnTo>
                  <a:pt x="17388" y="17388"/>
                </a:lnTo>
                <a:lnTo>
                  <a:pt x="4911" y="17388"/>
                </a:lnTo>
                <a:lnTo>
                  <a:pt x="4911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1676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342880" y="5352840"/>
            <a:ext cx="1104840" cy="914400"/>
          </a:xfrm>
          <a:custGeom>
            <a:avLst/>
            <a:gdLst>
              <a:gd name="textAreaLeft" fmla="*/ 349200 w 1104840"/>
              <a:gd name="textAreaRight" fmla="*/ 839880 w 1104840"/>
              <a:gd name="textAreaTop" fmla="*/ 614880 h 914400"/>
              <a:gd name="textAreaBottom" fmla="*/ 6951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9706"/>
                </a:moveTo>
                <a:lnTo>
                  <a:pt x="14523" y="19706"/>
                </a:lnTo>
                <a:lnTo>
                  <a:pt x="14523" y="6825"/>
                </a:lnTo>
                <a:lnTo>
                  <a:pt x="9340" y="6825"/>
                </a:lnTo>
                <a:lnTo>
                  <a:pt x="15470" y="0"/>
                </a:lnTo>
                <a:lnTo>
                  <a:pt x="21600" y="6825"/>
                </a:lnTo>
                <a:lnTo>
                  <a:pt x="16417" y="6825"/>
                </a:lnTo>
                <a:lnTo>
                  <a:pt x="164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5638680"/>
            <a:ext cx="190512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962160" y="4952520"/>
            <a:ext cx="1600200" cy="685800"/>
          </a:xfrm>
          <a:custGeom>
            <a:avLst/>
            <a:gdLst>
              <a:gd name="textAreaLeft" fmla="*/ 418320 w 1600200"/>
              <a:gd name="textAreaRight" fmla="*/ 1282680 w 1600200"/>
              <a:gd name="textAreaTop" fmla="*/ 490680 h 685800"/>
              <a:gd name="textAreaBottom" fmla="*/ 5497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6382"/>
                </a:moveTo>
                <a:lnTo>
                  <a:pt x="5650" y="11164"/>
                </a:lnTo>
                <a:lnTo>
                  <a:pt x="5650" y="15450"/>
                </a:lnTo>
                <a:lnTo>
                  <a:pt x="15450" y="15450"/>
                </a:lnTo>
                <a:lnTo>
                  <a:pt x="15450" y="5650"/>
                </a:lnTo>
                <a:lnTo>
                  <a:pt x="11164" y="5650"/>
                </a:lnTo>
                <a:lnTo>
                  <a:pt x="16382" y="0"/>
                </a:lnTo>
                <a:lnTo>
                  <a:pt x="21600" y="5650"/>
                </a:lnTo>
                <a:lnTo>
                  <a:pt x="17314" y="5650"/>
                </a:lnTo>
                <a:lnTo>
                  <a:pt x="17314" y="17314"/>
                </a:lnTo>
                <a:lnTo>
                  <a:pt x="5650" y="17314"/>
                </a:lnTo>
                <a:lnTo>
                  <a:pt x="565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495680"/>
            <a:ext cx="1981440" cy="12956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4648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na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ini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ser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5638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rganiza Idé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scr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conj. entidade fra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04920" y="1905120"/>
            <a:ext cx="8534160" cy="4038480"/>
            <a:chOff x="304920" y="1905120"/>
            <a:chExt cx="8534160" cy="403848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114800"/>
              <a:ext cx="7543800" cy="1828800"/>
              <a:chOff x="990720" y="4114800"/>
              <a:chExt cx="7543800" cy="182880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572000"/>
                <a:ext cx="1371600" cy="83808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200400" y="4114800"/>
                <a:ext cx="1981440" cy="1828800"/>
              </a:xfrm>
              <a:prstGeom prst="diamond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LO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96240" y="4648320"/>
                <a:ext cx="2133360" cy="68580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TRANSAÇÃ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791320" y="4267080"/>
                <a:ext cx="2743200" cy="14479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2362320" y="5029200"/>
                <a:ext cx="8380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81840" y="502920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304920" y="1981080"/>
              <a:ext cx="1676160" cy="91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úm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05120" y="3124080"/>
              <a:ext cx="1676160" cy="91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43400" y="1905120"/>
              <a:ext cx="1828800" cy="9903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ransação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úm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19920" y="3048120"/>
              <a:ext cx="1676160" cy="91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62920" y="1905120"/>
              <a:ext cx="1676160" cy="9144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Quant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43000" y="2895480"/>
              <a:ext cx="380880" cy="1676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905120" y="4038480"/>
              <a:ext cx="76176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10080" y="2895480"/>
              <a:ext cx="685800" cy="1371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58000" y="3962520"/>
              <a:ext cx="0" cy="304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772040" y="2819520"/>
              <a:ext cx="304920" cy="1447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105520" y="4038480"/>
            <a:ext cx="3657600" cy="2593440"/>
            <a:chOff x="5105520" y="4038480"/>
            <a:chExt cx="3657600" cy="2593440"/>
          </a:xfrm>
        </p:grpSpPr>
        <p:sp>
          <p:nvSpPr>
            <p:cNvPr id="582" name=""/>
            <p:cNvSpPr/>
            <p:nvPr/>
          </p:nvSpPr>
          <p:spPr>
            <a:xfrm>
              <a:off x="5486400" y="4038480"/>
              <a:ext cx="3276720" cy="19051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781320" y="5943600"/>
              <a:ext cx="38124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5520" y="61722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Times New Roman"/>
                </a:rPr>
                <a:t>Conjunto-Entidade fra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 E-R Terná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09480" y="1600200"/>
            <a:ext cx="7620120" cy="4876920"/>
            <a:chOff x="609480" y="1600200"/>
            <a:chExt cx="7620120" cy="4876920"/>
          </a:xfrm>
        </p:grpSpPr>
        <p:sp>
          <p:nvSpPr>
            <p:cNvPr id="587" name=""/>
            <p:cNvSpPr/>
            <p:nvPr/>
          </p:nvSpPr>
          <p:spPr>
            <a:xfrm>
              <a:off x="1371600" y="518148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53080" y="5181480"/>
              <a:ext cx="137160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33920" y="4648320"/>
              <a:ext cx="1828800" cy="182880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ON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AGÊ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43200" y="5562720"/>
              <a:ext cx="99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5562720"/>
              <a:ext cx="99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1066680" y="3352680"/>
              <a:ext cx="1295640" cy="1828440"/>
              <a:chOff x="1066680" y="3352680"/>
              <a:chExt cx="1295640" cy="1828440"/>
            </a:xfrm>
          </p:grpSpPr>
          <p:sp>
            <p:nvSpPr>
              <p:cNvPr id="593" name=""/>
              <p:cNvSpPr/>
              <p:nvPr/>
            </p:nvSpPr>
            <p:spPr>
              <a:xfrm>
                <a:off x="1066680" y="3352680"/>
                <a:ext cx="1295640" cy="59148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950120" y="3944160"/>
                <a:ext cx="117360" cy="12369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2286000" y="2971800"/>
              <a:ext cx="914400" cy="2209680"/>
              <a:chOff x="2286000" y="2971800"/>
              <a:chExt cx="914400" cy="2209680"/>
            </a:xfrm>
          </p:grpSpPr>
          <p:sp>
            <p:nvSpPr>
              <p:cNvPr id="596" name=""/>
              <p:cNvSpPr/>
              <p:nvPr/>
            </p:nvSpPr>
            <p:spPr>
              <a:xfrm>
                <a:off x="2286000" y="2971800"/>
                <a:ext cx="914400" cy="5400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R.G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2286000" y="3511800"/>
                <a:ext cx="249120" cy="1669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438280" y="4267080"/>
              <a:ext cx="1371240" cy="913680"/>
              <a:chOff x="2438280" y="4267080"/>
              <a:chExt cx="1371240" cy="913680"/>
            </a:xfrm>
          </p:grpSpPr>
          <p:sp>
            <p:nvSpPr>
              <p:cNvPr id="599" name=""/>
              <p:cNvSpPr/>
              <p:nvPr/>
            </p:nvSpPr>
            <p:spPr>
              <a:xfrm>
                <a:off x="2552400" y="4267080"/>
                <a:ext cx="1257120" cy="5292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438280" y="4795920"/>
                <a:ext cx="628560" cy="384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5943600" y="3733920"/>
              <a:ext cx="1295280" cy="1447200"/>
              <a:chOff x="5943600" y="3733920"/>
              <a:chExt cx="1295280" cy="1447200"/>
            </a:xfrm>
          </p:grpSpPr>
          <p:sp>
            <p:nvSpPr>
              <p:cNvPr id="602" name=""/>
              <p:cNvSpPr/>
              <p:nvPr/>
            </p:nvSpPr>
            <p:spPr>
              <a:xfrm>
                <a:off x="5943600" y="3733920"/>
                <a:ext cx="1295280" cy="3978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Númer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532200" y="4131720"/>
                <a:ext cx="470880" cy="1049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09480" y="4343400"/>
              <a:ext cx="1295640" cy="837360"/>
              <a:chOff x="609480" y="4343400"/>
              <a:chExt cx="1295640" cy="837360"/>
            </a:xfrm>
          </p:grpSpPr>
          <p:sp>
            <p:nvSpPr>
              <p:cNvPr id="605" name=""/>
              <p:cNvSpPr/>
              <p:nvPr/>
            </p:nvSpPr>
            <p:spPr>
              <a:xfrm>
                <a:off x="609480" y="4343400"/>
                <a:ext cx="1295640" cy="51192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ida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1257120" y="4854960"/>
                <a:ext cx="235440" cy="32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7238880" y="4191120"/>
              <a:ext cx="990720" cy="990360"/>
              <a:chOff x="7238880" y="4191120"/>
              <a:chExt cx="990720" cy="990360"/>
            </a:xfrm>
          </p:grpSpPr>
          <p:sp>
            <p:nvSpPr>
              <p:cNvPr id="608" name=""/>
              <p:cNvSpPr/>
              <p:nvPr/>
            </p:nvSpPr>
            <p:spPr>
              <a:xfrm>
                <a:off x="7238880" y="4191120"/>
                <a:ext cx="990720" cy="4737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418880" y="4664880"/>
                <a:ext cx="225360" cy="516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3886200" y="3124080"/>
              <a:ext cx="1523880" cy="685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AGÊNC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48320" y="3809880"/>
              <a:ext cx="0" cy="838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76520" y="1752480"/>
              <a:ext cx="1752480" cy="6098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33920" y="1600200"/>
              <a:ext cx="1752480" cy="6094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ida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648320" y="2209680"/>
              <a:ext cx="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91320" y="1752480"/>
              <a:ext cx="1752480" cy="6098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Ativ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24080" y="2286000"/>
              <a:ext cx="1219320" cy="838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029200" y="2362320"/>
              <a:ext cx="1447920" cy="761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duzindo Diagramas E-R a Tabel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57200" y="2438280"/>
            <a:ext cx="8454960" cy="3429000"/>
            <a:chOff x="457200" y="2438280"/>
            <a:chExt cx="8454960" cy="3429000"/>
          </a:xfrm>
        </p:grpSpPr>
        <p:grpSp>
          <p:nvGrpSpPr>
            <p:cNvPr id="620" name=""/>
            <p:cNvGrpSpPr/>
            <p:nvPr/>
          </p:nvGrpSpPr>
          <p:grpSpPr>
            <a:xfrm>
              <a:off x="1098720" y="4540320"/>
              <a:ext cx="3942720" cy="1326960"/>
              <a:chOff x="1098720" y="4540320"/>
              <a:chExt cx="3942720" cy="1326960"/>
            </a:xfrm>
          </p:grpSpPr>
          <p:sp>
            <p:nvSpPr>
              <p:cNvPr id="621" name=""/>
              <p:cNvSpPr/>
              <p:nvPr/>
            </p:nvSpPr>
            <p:spPr>
              <a:xfrm>
                <a:off x="1098720" y="4927320"/>
                <a:ext cx="825120" cy="4975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ffff"/>
                    </a:solidFill>
                    <a:latin typeface="Times New Roman"/>
                  </a:rPr>
                  <a:t>CLIEN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216320" y="4927320"/>
                <a:ext cx="825120" cy="4975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520000" y="4540320"/>
                <a:ext cx="1100160" cy="1326960"/>
              </a:xfrm>
              <a:prstGeom prst="diamond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ffff"/>
                    </a:solidFill>
                    <a:latin typeface="Times New Roman"/>
                  </a:rPr>
                  <a:t>CLIEN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ffff"/>
                    </a:solidFill>
                    <a:latin typeface="Times New Roman"/>
                  </a:rPr>
                  <a:t>CONT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3840" y="5203800"/>
                <a:ext cx="59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20520" y="5203800"/>
                <a:ext cx="59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57200" y="3932280"/>
              <a:ext cx="1008000" cy="994680"/>
              <a:chOff x="457200" y="3932280"/>
              <a:chExt cx="1008000" cy="994680"/>
            </a:xfrm>
          </p:grpSpPr>
          <p:sp>
            <p:nvSpPr>
              <p:cNvPr id="627" name=""/>
              <p:cNvSpPr/>
              <p:nvPr/>
            </p:nvSpPr>
            <p:spPr>
              <a:xfrm>
                <a:off x="457200" y="3932280"/>
                <a:ext cx="1008000" cy="6080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Cida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960480" y="4539960"/>
                <a:ext cx="183240" cy="387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777960" y="3046320"/>
              <a:ext cx="1009440" cy="1881000"/>
              <a:chOff x="777960" y="3046320"/>
              <a:chExt cx="1009440" cy="1881000"/>
            </a:xfrm>
          </p:grpSpPr>
          <p:sp>
            <p:nvSpPr>
              <p:cNvPr id="630" name=""/>
              <p:cNvSpPr/>
              <p:nvPr/>
            </p:nvSpPr>
            <p:spPr>
              <a:xfrm>
                <a:off x="777960" y="3046320"/>
                <a:ext cx="1009440" cy="6084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No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466280" y="3654720"/>
                <a:ext cx="91440" cy="1272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1695240" y="2438280"/>
              <a:ext cx="1008360" cy="2489400"/>
              <a:chOff x="1695240" y="2438280"/>
              <a:chExt cx="1008360" cy="2489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695600" y="2438280"/>
                <a:ext cx="1008000" cy="60840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R.G</a:t>
                </a: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695240" y="3046680"/>
                <a:ext cx="274680" cy="1881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1833480" y="3876840"/>
              <a:ext cx="1099800" cy="1050120"/>
              <a:chOff x="1833480" y="3876840"/>
              <a:chExt cx="1099800" cy="1050120"/>
            </a:xfrm>
          </p:grpSpPr>
          <p:sp>
            <p:nvSpPr>
              <p:cNvPr id="636" name=""/>
              <p:cNvSpPr/>
              <p:nvPr/>
            </p:nvSpPr>
            <p:spPr>
              <a:xfrm>
                <a:off x="1924920" y="3876840"/>
                <a:ext cx="1008360" cy="60804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Endereç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1833480" y="4484520"/>
                <a:ext cx="504000" cy="442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567160" y="3157560"/>
              <a:ext cx="1008000" cy="1382400"/>
              <a:chOff x="2567160" y="3157560"/>
              <a:chExt cx="1008000" cy="1382400"/>
            </a:xfrm>
          </p:grpSpPr>
          <p:sp>
            <p:nvSpPr>
              <p:cNvPr id="639" name=""/>
              <p:cNvSpPr/>
              <p:nvPr/>
            </p:nvSpPr>
            <p:spPr>
              <a:xfrm>
                <a:off x="2567160" y="3157560"/>
                <a:ext cx="1008000" cy="60840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71160" y="3765960"/>
                <a:ext cx="0" cy="774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3759120" y="2714760"/>
              <a:ext cx="1008000" cy="2212920"/>
              <a:chOff x="3759120" y="2714760"/>
              <a:chExt cx="1008000" cy="2212920"/>
            </a:xfrm>
          </p:grpSpPr>
          <p:sp>
            <p:nvSpPr>
              <p:cNvPr id="642" name=""/>
              <p:cNvSpPr/>
              <p:nvPr/>
            </p:nvSpPr>
            <p:spPr>
              <a:xfrm>
                <a:off x="3759120" y="2714760"/>
                <a:ext cx="1008000" cy="60840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Númer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217400" y="3323160"/>
                <a:ext cx="366480" cy="1604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630680" y="3654360"/>
              <a:ext cx="1008000" cy="1272960"/>
              <a:chOff x="4630680" y="3654360"/>
              <a:chExt cx="1008000" cy="1272960"/>
            </a:xfrm>
          </p:grpSpPr>
          <p:sp>
            <p:nvSpPr>
              <p:cNvPr id="645" name=""/>
              <p:cNvSpPr/>
              <p:nvPr/>
            </p:nvSpPr>
            <p:spPr>
              <a:xfrm>
                <a:off x="4630680" y="3654360"/>
                <a:ext cx="1008000" cy="608760"/>
              </a:xfrm>
              <a:prstGeom prst="ellips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ff"/>
                    </a:solidFill>
                    <a:latin typeface="Times New Roman"/>
                  </a:rPr>
                  <a:t>Sald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4813560" y="4263120"/>
                <a:ext cx="228960" cy="6642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5532480" y="4646520"/>
              <a:ext cx="1187280" cy="1068480"/>
            </a:xfrm>
            <a:prstGeom prst="diamond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69120" y="4957920"/>
              <a:ext cx="1279440" cy="3999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imes New Roman"/>
                </a:rPr>
                <a:t>TRANSAÇÃ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85160" y="4734000"/>
              <a:ext cx="1644480" cy="8478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029200" y="5181480"/>
              <a:ext cx="503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19760" y="5181480"/>
              <a:ext cx="365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16480" y="3352680"/>
              <a:ext cx="1097280" cy="5796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Transação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núm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21600" y="4021200"/>
              <a:ext cx="1004760" cy="5349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07400" y="3352680"/>
              <a:ext cx="1004760" cy="53496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Quant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56560" y="3932280"/>
              <a:ext cx="411120" cy="801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724880" y="4556160"/>
              <a:ext cx="0" cy="177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8272080" y="3887640"/>
              <a:ext cx="182520" cy="846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362320" y="1752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Chaves primá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iagramas E-R e Tabel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ra cada conjunto-entidade e para cada conjunto-relacionamento no banco de dados existe uma única tabela que é designada  com o mesmo nome do conjunto-entidade  ou relacionamento correspond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a tabela tem um número de colunas (campos) que possui nomes ún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presentação de conjunto-entidade for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presentamos esta entidade com uma tabela com um número de campos igual ao número de atributos dessa ent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257800" y="175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o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800600" y="2209680"/>
            <a:ext cx="3276720" cy="4353120"/>
            <a:chOff x="4800600" y="2209680"/>
            <a:chExt cx="3276720" cy="4353120"/>
          </a:xfrm>
        </p:grpSpPr>
        <p:sp>
          <p:nvSpPr>
            <p:cNvPr id="665" name=""/>
            <p:cNvSpPr/>
            <p:nvPr/>
          </p:nvSpPr>
          <p:spPr>
            <a:xfrm>
              <a:off x="4876920" y="2209680"/>
              <a:ext cx="3200400" cy="43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número-conta     sal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259             1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630             2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401             15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700               5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99               9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115             1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225             25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4800600" y="2286000"/>
              <a:ext cx="3276720" cy="4267080"/>
              <a:chOff x="4800600" y="2286000"/>
              <a:chExt cx="3276720" cy="4267080"/>
            </a:xfrm>
          </p:grpSpPr>
          <p:sp>
            <p:nvSpPr>
              <p:cNvPr id="667" name=""/>
              <p:cNvSpPr/>
              <p:nvPr/>
            </p:nvSpPr>
            <p:spPr>
              <a:xfrm>
                <a:off x="4800600" y="2286000"/>
                <a:ext cx="3276720" cy="42670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1680" y="2286000"/>
                <a:ext cx="0" cy="4267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800600" y="2743200"/>
                <a:ext cx="327672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presentação de conjunto-entidade for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819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junto-entidade cliente, gera uma tabela com as seguintes colunas: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nome-cliente, cidade-cliente, RG-client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endereço-cliente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769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429000" y="2590920"/>
            <a:ext cx="5410080" cy="3581280"/>
            <a:chOff x="3429000" y="2590920"/>
            <a:chExt cx="5410080" cy="3581280"/>
          </a:xfrm>
        </p:grpSpPr>
        <p:sp>
          <p:nvSpPr>
            <p:cNvPr id="674" name=""/>
            <p:cNvSpPr/>
            <p:nvPr/>
          </p:nvSpPr>
          <p:spPr>
            <a:xfrm>
              <a:off x="3505320" y="2666880"/>
              <a:ext cx="5333760" cy="34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900" spc="-1" strike="noStrike">
                  <a:solidFill>
                    <a:srgbClr val="ffffff"/>
                  </a:solidFill>
                  <a:latin typeface="Times New Roman"/>
                </a:rPr>
                <a:t>Nome           RG             Endereço              Cidad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Oliver     10099222       R. Main, 34          Harris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Harris     12300433       R. North, 123       Ry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Marsh       9000899       R. Main, 34          Harris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Pepper    15099123       R. North, 123       Ry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Ratliff     23099983       R. Park, 2454       Pittsfiel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Brill        25689999       R. Putnam, 456    Stamfor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Evers      32990123       R. Nassau, 308    Princeton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9000" y="2590920"/>
              <a:ext cx="5257800" cy="358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19720" y="259092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5000" y="259092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259092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29000" y="3048120"/>
              <a:ext cx="5257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presentação de Conjunto-entidade fra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Tabela gerada contém uma coluna para cada entidade do conjunto-entidade fraco mais a chave primária estrangeira do conjunto-entidade forte lig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1905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Trans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581280" y="2438280"/>
            <a:ext cx="4953240" cy="4114800"/>
            <a:chOff x="3581280" y="2438280"/>
            <a:chExt cx="4953240" cy="4114800"/>
          </a:xfrm>
        </p:grpSpPr>
        <p:sp>
          <p:nvSpPr>
            <p:cNvPr id="684" name=""/>
            <p:cNvSpPr/>
            <p:nvPr/>
          </p:nvSpPr>
          <p:spPr>
            <a:xfrm>
              <a:off x="3657600" y="2514600"/>
              <a:ext cx="4800600" cy="39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transação-nº      data      quantia     conta-n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5             11/04/98       +50         2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11             17/04/98       +70         6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22             23/04/98      -300         40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69             28/04/98      -500         7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103             03/05/98     +900         1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6             07/05/98        -44         2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53             07/04/98     +120         1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104             13/05/98      -200         1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7             17/04/98        -79         2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2438280"/>
              <a:ext cx="4953240" cy="4114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81480" y="2438280"/>
              <a:ext cx="0" cy="411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48520" y="2438280"/>
              <a:ext cx="0" cy="411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15200" y="2438280"/>
              <a:ext cx="0" cy="411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81280" y="2895480"/>
              <a:ext cx="49532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presentação de Conjuntos-relacion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89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Tabela gerada possui uma coluna para cada atributo do conjunto-relacionamento mais cada chave primária de cada conjunto-entidade relacion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liente-Co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581280" y="2514600"/>
            <a:ext cx="5029200" cy="3581280"/>
            <a:chOff x="3581280" y="2514600"/>
            <a:chExt cx="5029200" cy="3581280"/>
          </a:xfrm>
        </p:grpSpPr>
        <p:sp>
          <p:nvSpPr>
            <p:cNvPr id="694" name=""/>
            <p:cNvSpPr/>
            <p:nvPr/>
          </p:nvSpPr>
          <p:spPr>
            <a:xfrm>
              <a:off x="3733920" y="2514600"/>
              <a:ext cx="4876560" cy="35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RG             Conta-nº            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0099222               259                   17/05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2300433               630                   17/04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9000899                401                   23/04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5099123               700                   28/04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23099983               199                   13/05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25689999               467                   07/05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32990123               115                   07/05/9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2514600"/>
              <a:ext cx="4724640" cy="358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81480" y="251460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81680" y="2514600"/>
              <a:ext cx="0" cy="358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81280" y="2971800"/>
              <a:ext cx="4724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is um exemplo - Relacionamento Terná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09680" y="1981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ABELA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liente-Conta-Ag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80880" y="2590920"/>
            <a:ext cx="8229600" cy="3907080"/>
            <a:chOff x="380880" y="2590920"/>
            <a:chExt cx="8229600" cy="3907080"/>
          </a:xfrm>
        </p:grpSpPr>
        <p:sp>
          <p:nvSpPr>
            <p:cNvPr id="702" name=""/>
            <p:cNvSpPr/>
            <p:nvPr/>
          </p:nvSpPr>
          <p:spPr>
            <a:xfrm>
              <a:off x="380880" y="2666880"/>
              <a:ext cx="8229600" cy="38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R.G.                       Conta-nº                    Nome-agênc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0099222                               259                                      Downtown                  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2300433                               630                                      Redwoo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9000899                               401                                      Perryridge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15099123                               700                                      Downtow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23099983                               199                                      Mianu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25689999                               467                                      Round Hill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0" lang="pt-BR" sz="1900" spc="-1" strike="noStrike">
                  <a:solidFill>
                    <a:srgbClr val="ffffff"/>
                  </a:solidFill>
                  <a:latin typeface="Times New Roman"/>
                </a:rPr>
                <a:t>32990123                               115                                      Pownal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14040" y="2590920"/>
              <a:ext cx="7391520" cy="3733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95480" y="2590920"/>
              <a:ext cx="0" cy="373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38680" y="2590920"/>
              <a:ext cx="0" cy="373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14040" y="3124080"/>
              <a:ext cx="7391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Normalizando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ntas tabelas o sistema deve con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is campos elas devem possui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is as relações que deverão existir entre essas tabel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2590560" cy="2117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od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Modelo Conceitual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Representa ou descreve a realidade do ambiente do problem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Modelo Lógic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fine o tipo de abordagem que será utilizada na implementação do sistema (hierárquico, rede ou relaciona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Modelo Físic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fine as estruturas que serão utilizadas para armazenar os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Normalização de Banco de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judam a criar Banco de Dados mais robustos, eficientes e mais facilmente modific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senvolvimento mais fácil da interface com o usuá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Sistema será mais flexível, permitindo mudanç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5943600" y="4267080"/>
            <a:ext cx="2666880" cy="1145520"/>
            <a:chOff x="5943600" y="4267080"/>
            <a:chExt cx="2666880" cy="1145520"/>
          </a:xfrm>
        </p:grpSpPr>
        <p:sp>
          <p:nvSpPr>
            <p:cNvPr id="713" name=""/>
            <p:cNvSpPr/>
            <p:nvPr/>
          </p:nvSpPr>
          <p:spPr>
            <a:xfrm>
              <a:off x="5943600" y="4267080"/>
              <a:ext cx="266688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elef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29400" y="4952880"/>
              <a:ext cx="136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ampo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200400" y="4267080"/>
            <a:ext cx="2666880" cy="1145520"/>
            <a:chOff x="3200400" y="4267080"/>
            <a:chExt cx="2666880" cy="1145520"/>
          </a:xfrm>
        </p:grpSpPr>
        <p:sp>
          <p:nvSpPr>
            <p:cNvPr id="716" name=""/>
            <p:cNvSpPr/>
            <p:nvPr/>
          </p:nvSpPr>
          <p:spPr>
            <a:xfrm>
              <a:off x="3200400" y="4267080"/>
              <a:ext cx="2666880" cy="533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ndereç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62520" y="4952880"/>
              <a:ext cx="136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ampo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Primeir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a ocorrência da chave primária deve corresponder a uma e somente uma informação de cada atributo - não deve conter grupos repetitiv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09480" y="4267080"/>
            <a:ext cx="2514600" cy="1145520"/>
            <a:chOff x="609480" y="4267080"/>
            <a:chExt cx="2514600" cy="1145520"/>
          </a:xfrm>
        </p:grpSpPr>
        <p:sp>
          <p:nvSpPr>
            <p:cNvPr id="721" name=""/>
            <p:cNvSpPr/>
            <p:nvPr/>
          </p:nvSpPr>
          <p:spPr>
            <a:xfrm>
              <a:off x="609480" y="4267080"/>
              <a:ext cx="251460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43000" y="4952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Camp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879480" y="3958560"/>
            <a:ext cx="7350120" cy="1531440"/>
            <a:chOff x="879480" y="3958560"/>
            <a:chExt cx="7350120" cy="1531440"/>
          </a:xfrm>
        </p:grpSpPr>
        <p:sp>
          <p:nvSpPr>
            <p:cNvPr id="724" name=""/>
            <p:cNvSpPr/>
            <p:nvPr/>
          </p:nvSpPr>
          <p:spPr>
            <a:xfrm>
              <a:off x="914400" y="4114800"/>
              <a:ext cx="731520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879480" y="3958560"/>
              <a:ext cx="7156440" cy="153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"/>
          <p:cNvGrpSpPr/>
          <p:nvPr/>
        </p:nvGrpSpPr>
        <p:grpSpPr>
          <a:xfrm>
            <a:off x="380880" y="2895480"/>
            <a:ext cx="8001000" cy="914400"/>
            <a:chOff x="380880" y="2895480"/>
            <a:chExt cx="8001000" cy="914400"/>
          </a:xfrm>
        </p:grpSpPr>
        <p:sp>
          <p:nvSpPr>
            <p:cNvPr id="727" name=""/>
            <p:cNvSpPr/>
            <p:nvPr/>
          </p:nvSpPr>
          <p:spPr>
            <a:xfrm>
              <a:off x="7086600" y="3352680"/>
              <a:ext cx="129528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ot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15000" y="3352680"/>
              <a:ext cx="129528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ipo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43400" y="3352680"/>
              <a:ext cx="129528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Quant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124080" y="3352680"/>
              <a:ext cx="11430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Un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23880" y="3352680"/>
              <a:ext cx="15242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rodu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0880" y="3352680"/>
              <a:ext cx="10670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NºPedi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480" y="28954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0000"/>
                  </a:solidFill>
                  <a:latin typeface="Times New Roman"/>
                </a:rPr>
                <a:t>Chave Primá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7200" y="312408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1800" y="312408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egund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a campo não pode depender parcialmente da chave primá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838080" y="2819160"/>
            <a:ext cx="7162560" cy="2895840"/>
            <a:chOff x="838080" y="2819160"/>
            <a:chExt cx="7162560" cy="2895840"/>
          </a:xfrm>
        </p:grpSpPr>
        <p:sp>
          <p:nvSpPr>
            <p:cNvPr id="739" name=""/>
            <p:cNvSpPr/>
            <p:nvPr/>
          </p:nvSpPr>
          <p:spPr>
            <a:xfrm>
              <a:off x="914040" y="2971800"/>
              <a:ext cx="7086600" cy="2743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838080" y="2819160"/>
              <a:ext cx="7086600" cy="2895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838080" y="3885840"/>
            <a:ext cx="6782040" cy="762480"/>
            <a:chOff x="838080" y="3885840"/>
            <a:chExt cx="6782040" cy="762480"/>
          </a:xfrm>
        </p:grpSpPr>
        <p:sp>
          <p:nvSpPr>
            <p:cNvPr id="742" name=""/>
            <p:cNvSpPr/>
            <p:nvPr/>
          </p:nvSpPr>
          <p:spPr>
            <a:xfrm>
              <a:off x="838080" y="3886200"/>
              <a:ext cx="0" cy="762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38080" y="4648320"/>
              <a:ext cx="3962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800600" y="3885840"/>
              <a:ext cx="0" cy="762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00600" y="4648320"/>
              <a:ext cx="2819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7620120" y="3885840"/>
              <a:ext cx="0" cy="7621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2133720" y="3886200"/>
            <a:ext cx="4114800" cy="1447920"/>
            <a:chOff x="2133720" y="3886200"/>
            <a:chExt cx="4114800" cy="1447920"/>
          </a:xfrm>
        </p:grpSpPr>
        <p:sp>
          <p:nvSpPr>
            <p:cNvPr id="748" name=""/>
            <p:cNvSpPr/>
            <p:nvPr/>
          </p:nvSpPr>
          <p:spPr>
            <a:xfrm>
              <a:off x="2133720" y="3886200"/>
              <a:ext cx="0" cy="144792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5334120"/>
              <a:ext cx="144756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581280" y="3886200"/>
              <a:ext cx="0" cy="144792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81280" y="5334120"/>
              <a:ext cx="266724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248520" y="3886200"/>
              <a:ext cx="0" cy="144792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egund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752480" y="2666880"/>
            <a:ext cx="5410440" cy="457200"/>
            <a:chOff x="1752480" y="2666880"/>
            <a:chExt cx="5410440" cy="457200"/>
          </a:xfrm>
        </p:grpSpPr>
        <p:sp>
          <p:nvSpPr>
            <p:cNvPr id="755" name=""/>
            <p:cNvSpPr/>
            <p:nvPr/>
          </p:nvSpPr>
          <p:spPr>
            <a:xfrm>
              <a:off x="5867280" y="2666880"/>
              <a:ext cx="129564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ot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95680" y="2666880"/>
              <a:ext cx="129564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Quant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95480" y="2666880"/>
              <a:ext cx="15242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rodu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752480" y="2666880"/>
              <a:ext cx="10670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NºPedi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362320" y="4800600"/>
            <a:ext cx="4114800" cy="457200"/>
            <a:chOff x="2362320" y="4800600"/>
            <a:chExt cx="4114800" cy="457200"/>
          </a:xfrm>
        </p:grpSpPr>
        <p:sp>
          <p:nvSpPr>
            <p:cNvPr id="760" name=""/>
            <p:cNvSpPr/>
            <p:nvPr/>
          </p:nvSpPr>
          <p:spPr>
            <a:xfrm>
              <a:off x="5181480" y="4800600"/>
              <a:ext cx="129564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Tipo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62520" y="4800600"/>
              <a:ext cx="11430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Un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362320" y="4800600"/>
              <a:ext cx="15238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rodu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3047760" y="3276720"/>
            <a:ext cx="2743560" cy="1447560"/>
            <a:chOff x="3047760" y="3276720"/>
            <a:chExt cx="2743560" cy="1447560"/>
          </a:xfrm>
        </p:grpSpPr>
        <p:sp>
          <p:nvSpPr>
            <p:cNvPr id="764" name=""/>
            <p:cNvSpPr/>
            <p:nvPr/>
          </p:nvSpPr>
          <p:spPr>
            <a:xfrm flipH="1">
              <a:off x="3047760" y="3276720"/>
              <a:ext cx="533160" cy="14475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52680" y="3809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lacion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erceir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odos os campos da tabela devem depender inteiramente da chave primá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38080" y="3124080"/>
            <a:ext cx="74678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Times New Roman"/>
              </a:rPr>
              <a:t>CodEmpresa  Endereço  Endereço-nº   Cidade      Estado   Nome-E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0001            Av. 1              1              São Paulo        SP     São Pa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0001            Av. 2              2              São Paulo        SP     São Pa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ff9900"/>
                </a:solidFill>
                <a:latin typeface="Times New Roman"/>
              </a:rPr>
              <a:t>0002            R. da Paz        1              Belém             PA     Par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120" y="4724280"/>
            <a:ext cx="8153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ampo Nome-Est só depende do campo Estado. Este é que depende da chave primária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have transitiv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erceiro Formulário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ra corrigir este problema, devemos criar outra tabela com o nome dos es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33520" y="2209680"/>
            <a:ext cx="7543800" cy="1575360"/>
            <a:chOff x="533520" y="2209680"/>
            <a:chExt cx="7543800" cy="1575360"/>
          </a:xfrm>
        </p:grpSpPr>
        <p:sp>
          <p:nvSpPr>
            <p:cNvPr id="773" name=""/>
            <p:cNvSpPr/>
            <p:nvPr/>
          </p:nvSpPr>
          <p:spPr>
            <a:xfrm>
              <a:off x="1295280" y="2362320"/>
              <a:ext cx="678204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9900"/>
                  </a:solidFill>
                  <a:latin typeface="Times New Roman"/>
                </a:rPr>
                <a:t>CodEmpresa  Endereço  Endereço-nº   Cidade      Cod-Estado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0001            Av. 1              1              São Paulo        SP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0001            Av. 2              2              São Paulo        SP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ff9900"/>
                  </a:solidFill>
                  <a:latin typeface="Times New Roman"/>
                </a:rPr>
                <a:t>0002            R. da Paz        1              Belém             PA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0720" y="2362320"/>
              <a:ext cx="304560" cy="12952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39240" y="27036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00"/>
                  </a:solidFill>
                  <a:latin typeface="Times New Roman"/>
                </a:rPr>
                <a:t>Tabela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09480" y="3962160"/>
            <a:ext cx="5333760" cy="1697760"/>
            <a:chOff x="609480" y="3962160"/>
            <a:chExt cx="5333760" cy="1697760"/>
          </a:xfrm>
        </p:grpSpPr>
        <p:sp>
          <p:nvSpPr>
            <p:cNvPr id="777" name=""/>
            <p:cNvSpPr/>
            <p:nvPr/>
          </p:nvSpPr>
          <p:spPr>
            <a:xfrm>
              <a:off x="1447560" y="4114800"/>
              <a:ext cx="449568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Cod-Estado                  Nome-Esta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SP                           São Paul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PA                           Par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1" i="1" lang="pt-BR" sz="2000" spc="-1" strike="noStrike">
                  <a:solidFill>
                    <a:srgbClr val="ffffff"/>
                  </a:solidFill>
                  <a:latin typeface="Times New Roman"/>
                </a:rPr>
                <a:t>RJ                           Rio de Janei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66680" y="4191120"/>
              <a:ext cx="304560" cy="13716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6200000">
              <a:off x="115560" y="44560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00"/>
                  </a:solidFill>
                  <a:latin typeface="Times New Roman"/>
                </a:rPr>
                <a:t>Tabela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Formulário Normal de Boyce-Cod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a revisão da 3FN (3ª Forma Norma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ndo um campo depende de outro (Estado e NomeEstado na tabela anterior), este campo é chamado de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determina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 FNBC, todos os determinantes são chaves-candidatas, isto é, podem ser chaves primá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Normalização FNB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la+Sala e Escola+Prof são determin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aves candidatas para </a:t>
            </a: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Alun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Aluno+EndAlun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Aluno+Sal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NomeAluno+Prof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f não é completamente dependente da Sala, nem Sala é completamente dependente  de Pr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f. depende completamente  de NomeAluno+Sala ou Sala depende completamente de NomeAluno+Pr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licando FNBC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85800" y="1219320"/>
            <a:ext cx="7772400" cy="457200"/>
            <a:chOff x="685800" y="1219320"/>
            <a:chExt cx="7772400" cy="457200"/>
          </a:xfrm>
        </p:grpSpPr>
        <p:sp>
          <p:nvSpPr>
            <p:cNvPr id="785" name=""/>
            <p:cNvSpPr/>
            <p:nvPr/>
          </p:nvSpPr>
          <p:spPr>
            <a:xfrm>
              <a:off x="7391160" y="1219320"/>
              <a:ext cx="106704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r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72200" y="12193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52880" y="12193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sc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733560" y="12193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a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360" y="1219320"/>
              <a:ext cx="152424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ndAlu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5800" y="1219320"/>
              <a:ext cx="13716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NomeAlu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219320" y="5105520"/>
            <a:ext cx="6629400" cy="457200"/>
            <a:chOff x="1219320" y="5105520"/>
            <a:chExt cx="6629400" cy="457200"/>
          </a:xfrm>
        </p:grpSpPr>
        <p:sp>
          <p:nvSpPr>
            <p:cNvPr id="792" name=""/>
            <p:cNvSpPr/>
            <p:nvPr/>
          </p:nvSpPr>
          <p:spPr>
            <a:xfrm>
              <a:off x="6705720" y="51055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86760" y="51055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sc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67440" y="51055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Na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67240" y="5105520"/>
              <a:ext cx="15238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ndAlu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19320" y="5105520"/>
              <a:ext cx="13716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NomeAlu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2743200" y="6019920"/>
            <a:ext cx="3504960" cy="457200"/>
            <a:chOff x="2743200" y="6019920"/>
            <a:chExt cx="3504960" cy="457200"/>
          </a:xfrm>
        </p:grpSpPr>
        <p:sp>
          <p:nvSpPr>
            <p:cNvPr id="798" name=""/>
            <p:cNvSpPr/>
            <p:nvPr/>
          </p:nvSpPr>
          <p:spPr>
            <a:xfrm>
              <a:off x="5181480" y="6019920"/>
              <a:ext cx="10666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r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62160" y="60199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Sa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43200" y="6019920"/>
              <a:ext cx="11430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sc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143000" y="5029200"/>
            <a:ext cx="304812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5943600"/>
            <a:ext cx="228600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Quarta Forma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entidade que está na 3FN também está na 4FN se ela não contiver mais do que um fato multivalo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523880" y="3352680"/>
            <a:ext cx="5867280" cy="457200"/>
            <a:chOff x="1523880" y="3352680"/>
            <a:chExt cx="5867280" cy="457200"/>
          </a:xfrm>
        </p:grpSpPr>
        <p:sp>
          <p:nvSpPr>
            <p:cNvPr id="806" name=""/>
            <p:cNvSpPr/>
            <p:nvPr/>
          </p:nvSpPr>
          <p:spPr>
            <a:xfrm>
              <a:off x="5410080" y="3352680"/>
              <a:ext cx="19810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Compra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809880" y="3352680"/>
              <a:ext cx="15238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eç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23880" y="3352680"/>
              <a:ext cx="220968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Fornece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76212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is fatos multivalorados: diversas peças compradas e os diversos compr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endência multivalorada entre CodFornecedor e CodPeça e entre CodFornecedor e CodCompra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a atualização é muito difíc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Quarta Forma Norm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vertendo para 4F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209680" y="3200400"/>
            <a:ext cx="4496040" cy="457200"/>
            <a:chOff x="2209680" y="3200400"/>
            <a:chExt cx="4496040" cy="457200"/>
          </a:xfrm>
        </p:grpSpPr>
        <p:sp>
          <p:nvSpPr>
            <p:cNvPr id="813" name=""/>
            <p:cNvSpPr/>
            <p:nvPr/>
          </p:nvSpPr>
          <p:spPr>
            <a:xfrm>
              <a:off x="4495680" y="3200400"/>
              <a:ext cx="221004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Peç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09680" y="3200400"/>
              <a:ext cx="221004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Fornece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286000" y="4800600"/>
            <a:ext cx="4267080" cy="457200"/>
            <a:chOff x="2286000" y="4800600"/>
            <a:chExt cx="4267080" cy="457200"/>
          </a:xfrm>
        </p:grpSpPr>
        <p:sp>
          <p:nvSpPr>
            <p:cNvPr id="816" name=""/>
            <p:cNvSpPr/>
            <p:nvPr/>
          </p:nvSpPr>
          <p:spPr>
            <a:xfrm>
              <a:off x="4572000" y="4800600"/>
              <a:ext cx="19810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Compra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86000" y="4800600"/>
              <a:ext cx="22096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dFornece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erm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Tabela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É um arquivo que contém dados relacionados. Possui linhas e colu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Linha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ados sobre um item - REGIST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Camp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Cada dado armazenado em um regist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Times New Roman"/>
              </a:rPr>
              <a:t>Banco de Dado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Coleção de tabelas que armazenam os dados. Refletem os aspectos de interesse da Rea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oteiro de Aplicação da Normaliz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 ou documento não normalizado, apresentando grupos repetitivos e certos problemas de atualiz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licação da 1F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compor a entidade em uma ou mais entidades, sem grupos repeti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tacar um ou mais atributos como chave prim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abelecer o relacionamento entre as ent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oteiro - Continu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s na 1F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licação da 2F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tacar atributos com dependências parcial com a chave prim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novas entidades para este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abelecer o relacionamento entre as novas ent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oteiro - Continu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s na 2F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licação da 3F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rificar atributos dependentes transitivos de outros que não pertencem à chave prim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novas entidades com esse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iminar os atributos que podem ser obtidos através de cálculos realizados a partir de outro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rificar se se aplica o FNB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oteiro - Continu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s na 3F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plicação da 4F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rificar se existem atributos que não pertençam à chave primária e que sejam multivalorados e independentes em relação a um mesmo valor da chave primá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novas entidades com esses atributos, herdando a chave primária da entidade desmemb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esnormaliz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odas as definições sobre as formas normais após 1FN ainda não foram exaustivamente examinadas, propiciando assim grandes controvérs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normalização pode encadear um efeito cascata na atualização, ocasionando um aumento bastante significativo no t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o se optar pela desnormalização, deve-se levar em conta o custo da redundância de dados e as anomalias de atualizações decorr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gras de Cod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 - Toda a informação num banco de dados relacional é apresentada a nível lógico por valores em tabe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 - Todo o dado em um banco relacional tem a garantia de ser logicamente acessível, recorrendo-se a uma combinação do nome da tabela, um valor de chave e o nome da colu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Regras de Codd - Cont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 - Tratamento sistemático de valores nul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4 - O SGBD relacional deve ter uma linguagem para definição, detalhamento e manipulação dos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5 - Tratamento de alto nível para inserção, atualização e eliminaçã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6 - Independência  dos dados físicos (mudança na memória e no método de aces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tructured Query Language - Linguagem Estruturada de Consul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74 - SEQUEL - Structured English Query Language - D.D. Chamberl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77 - Revisão SEQUEL - nome alterado para SQ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3303720" cy="2965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e SGB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QL/DS e DB2 (IB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ZIM (Sterling Softw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RACLE (Orac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DB (Digit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YBASE (Sybase IN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QL SERVER (Microso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ERBASE (Borland/Inpri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446640" cy="2779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Padroniz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1982 - Americam National Standard Institute (ANSI) - padroniz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smo padronizada, existem vari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SQL foi desenvolvida especialmente para o ambiente rel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105520" y="2057400"/>
            <a:ext cx="3105000" cy="3505320"/>
            <a:chOff x="5105520" y="2057400"/>
            <a:chExt cx="3105000" cy="3505320"/>
          </a:xfrm>
        </p:grpSpPr>
        <p:sp>
          <p:nvSpPr>
            <p:cNvPr id="841" name=""/>
            <p:cNvSpPr/>
            <p:nvPr/>
          </p:nvSpPr>
          <p:spPr>
            <a:xfrm>
              <a:off x="5216400" y="2649600"/>
              <a:ext cx="2994120" cy="2843280"/>
            </a:xfrm>
            <a:custGeom>
              <a:avLst/>
              <a:gdLst/>
              <a:ahLst/>
              <a:rect l="l" t="t" r="r" b="b"/>
              <a:pathLst>
                <a:path w="1886" h="1791">
                  <a:moveTo>
                    <a:pt x="1824" y="1035"/>
                  </a:moveTo>
                  <a:lnTo>
                    <a:pt x="1844" y="1001"/>
                  </a:lnTo>
                  <a:lnTo>
                    <a:pt x="1860" y="964"/>
                  </a:lnTo>
                  <a:lnTo>
                    <a:pt x="1872" y="927"/>
                  </a:lnTo>
                  <a:lnTo>
                    <a:pt x="1878" y="888"/>
                  </a:lnTo>
                  <a:lnTo>
                    <a:pt x="1879" y="849"/>
                  </a:lnTo>
                  <a:lnTo>
                    <a:pt x="1874" y="811"/>
                  </a:lnTo>
                  <a:lnTo>
                    <a:pt x="1863" y="773"/>
                  </a:lnTo>
                  <a:lnTo>
                    <a:pt x="1846" y="738"/>
                  </a:lnTo>
                  <a:lnTo>
                    <a:pt x="1828" y="711"/>
                  </a:lnTo>
                  <a:lnTo>
                    <a:pt x="1808" y="686"/>
                  </a:lnTo>
                  <a:lnTo>
                    <a:pt x="1788" y="661"/>
                  </a:lnTo>
                  <a:lnTo>
                    <a:pt x="1769" y="635"/>
                  </a:lnTo>
                  <a:lnTo>
                    <a:pt x="1752" y="610"/>
                  </a:lnTo>
                  <a:lnTo>
                    <a:pt x="1738" y="583"/>
                  </a:lnTo>
                  <a:lnTo>
                    <a:pt x="1728" y="555"/>
                  </a:lnTo>
                  <a:lnTo>
                    <a:pt x="1723" y="524"/>
                  </a:lnTo>
                  <a:lnTo>
                    <a:pt x="1721" y="500"/>
                  </a:lnTo>
                  <a:lnTo>
                    <a:pt x="1720" y="476"/>
                  </a:lnTo>
                  <a:lnTo>
                    <a:pt x="1717" y="452"/>
                  </a:lnTo>
                  <a:lnTo>
                    <a:pt x="1713" y="429"/>
                  </a:lnTo>
                  <a:lnTo>
                    <a:pt x="1708" y="405"/>
                  </a:lnTo>
                  <a:lnTo>
                    <a:pt x="1701" y="383"/>
                  </a:lnTo>
                  <a:lnTo>
                    <a:pt x="1693" y="362"/>
                  </a:lnTo>
                  <a:lnTo>
                    <a:pt x="1682" y="340"/>
                  </a:lnTo>
                  <a:lnTo>
                    <a:pt x="1660" y="308"/>
                  </a:lnTo>
                  <a:lnTo>
                    <a:pt x="1636" y="279"/>
                  </a:lnTo>
                  <a:lnTo>
                    <a:pt x="1609" y="252"/>
                  </a:lnTo>
                  <a:lnTo>
                    <a:pt x="1580" y="228"/>
                  </a:lnTo>
                  <a:lnTo>
                    <a:pt x="1550" y="207"/>
                  </a:lnTo>
                  <a:lnTo>
                    <a:pt x="1519" y="189"/>
                  </a:lnTo>
                  <a:lnTo>
                    <a:pt x="1485" y="174"/>
                  </a:lnTo>
                  <a:lnTo>
                    <a:pt x="1450" y="160"/>
                  </a:lnTo>
                  <a:lnTo>
                    <a:pt x="1415" y="150"/>
                  </a:lnTo>
                  <a:lnTo>
                    <a:pt x="1379" y="142"/>
                  </a:lnTo>
                  <a:lnTo>
                    <a:pt x="1342" y="137"/>
                  </a:lnTo>
                  <a:lnTo>
                    <a:pt x="1305" y="133"/>
                  </a:lnTo>
                  <a:lnTo>
                    <a:pt x="1267" y="132"/>
                  </a:lnTo>
                  <a:lnTo>
                    <a:pt x="1230" y="133"/>
                  </a:lnTo>
                  <a:lnTo>
                    <a:pt x="1193" y="136"/>
                  </a:lnTo>
                  <a:lnTo>
                    <a:pt x="1158" y="141"/>
                  </a:lnTo>
                  <a:lnTo>
                    <a:pt x="1123" y="128"/>
                  </a:lnTo>
                  <a:lnTo>
                    <a:pt x="1089" y="114"/>
                  </a:lnTo>
                  <a:lnTo>
                    <a:pt x="1055" y="101"/>
                  </a:lnTo>
                  <a:lnTo>
                    <a:pt x="1020" y="86"/>
                  </a:lnTo>
                  <a:lnTo>
                    <a:pt x="986" y="73"/>
                  </a:lnTo>
                  <a:lnTo>
                    <a:pt x="952" y="60"/>
                  </a:lnTo>
                  <a:lnTo>
                    <a:pt x="917" y="47"/>
                  </a:lnTo>
                  <a:lnTo>
                    <a:pt x="883" y="36"/>
                  </a:lnTo>
                  <a:lnTo>
                    <a:pt x="848" y="25"/>
                  </a:lnTo>
                  <a:lnTo>
                    <a:pt x="812" y="17"/>
                  </a:lnTo>
                  <a:lnTo>
                    <a:pt x="776" y="9"/>
                  </a:lnTo>
                  <a:lnTo>
                    <a:pt x="741" y="5"/>
                  </a:lnTo>
                  <a:lnTo>
                    <a:pt x="704" y="2"/>
                  </a:lnTo>
                  <a:lnTo>
                    <a:pt x="667" y="0"/>
                  </a:lnTo>
                  <a:lnTo>
                    <a:pt x="629" y="3"/>
                  </a:lnTo>
                  <a:lnTo>
                    <a:pt x="591" y="8"/>
                  </a:lnTo>
                  <a:lnTo>
                    <a:pt x="567" y="15"/>
                  </a:lnTo>
                  <a:lnTo>
                    <a:pt x="545" y="24"/>
                  </a:lnTo>
                  <a:lnTo>
                    <a:pt x="525" y="35"/>
                  </a:lnTo>
                  <a:lnTo>
                    <a:pt x="507" y="47"/>
                  </a:lnTo>
                  <a:lnTo>
                    <a:pt x="490" y="62"/>
                  </a:lnTo>
                  <a:lnTo>
                    <a:pt x="474" y="79"/>
                  </a:lnTo>
                  <a:lnTo>
                    <a:pt x="461" y="97"/>
                  </a:lnTo>
                  <a:lnTo>
                    <a:pt x="449" y="116"/>
                  </a:lnTo>
                  <a:lnTo>
                    <a:pt x="439" y="136"/>
                  </a:lnTo>
                  <a:lnTo>
                    <a:pt x="430" y="157"/>
                  </a:lnTo>
                  <a:lnTo>
                    <a:pt x="421" y="178"/>
                  </a:lnTo>
                  <a:lnTo>
                    <a:pt x="415" y="201"/>
                  </a:lnTo>
                  <a:lnTo>
                    <a:pt x="410" y="223"/>
                  </a:lnTo>
                  <a:lnTo>
                    <a:pt x="405" y="246"/>
                  </a:lnTo>
                  <a:lnTo>
                    <a:pt x="402" y="269"/>
                  </a:lnTo>
                  <a:lnTo>
                    <a:pt x="400" y="291"/>
                  </a:lnTo>
                  <a:lnTo>
                    <a:pt x="397" y="329"/>
                  </a:lnTo>
                  <a:lnTo>
                    <a:pt x="397" y="369"/>
                  </a:lnTo>
                  <a:lnTo>
                    <a:pt x="396" y="408"/>
                  </a:lnTo>
                  <a:lnTo>
                    <a:pt x="393" y="448"/>
                  </a:lnTo>
                  <a:lnTo>
                    <a:pt x="386" y="484"/>
                  </a:lnTo>
                  <a:lnTo>
                    <a:pt x="373" y="519"/>
                  </a:lnTo>
                  <a:lnTo>
                    <a:pt x="351" y="549"/>
                  </a:lnTo>
                  <a:lnTo>
                    <a:pt x="321" y="574"/>
                  </a:lnTo>
                  <a:lnTo>
                    <a:pt x="298" y="588"/>
                  </a:lnTo>
                  <a:lnTo>
                    <a:pt x="273" y="602"/>
                  </a:lnTo>
                  <a:lnTo>
                    <a:pt x="248" y="615"/>
                  </a:lnTo>
                  <a:lnTo>
                    <a:pt x="222" y="629"/>
                  </a:lnTo>
                  <a:lnTo>
                    <a:pt x="196" y="643"/>
                  </a:lnTo>
                  <a:lnTo>
                    <a:pt x="171" y="657"/>
                  </a:lnTo>
                  <a:lnTo>
                    <a:pt x="146" y="672"/>
                  </a:lnTo>
                  <a:lnTo>
                    <a:pt x="122" y="688"/>
                  </a:lnTo>
                  <a:lnTo>
                    <a:pt x="100" y="705"/>
                  </a:lnTo>
                  <a:lnTo>
                    <a:pt x="79" y="723"/>
                  </a:lnTo>
                  <a:lnTo>
                    <a:pt x="60" y="743"/>
                  </a:lnTo>
                  <a:lnTo>
                    <a:pt x="42" y="764"/>
                  </a:lnTo>
                  <a:lnTo>
                    <a:pt x="27" y="786"/>
                  </a:lnTo>
                  <a:lnTo>
                    <a:pt x="16" y="812"/>
                  </a:lnTo>
                  <a:lnTo>
                    <a:pt x="7" y="840"/>
                  </a:lnTo>
                  <a:lnTo>
                    <a:pt x="2" y="870"/>
                  </a:lnTo>
                  <a:lnTo>
                    <a:pt x="0" y="915"/>
                  </a:lnTo>
                  <a:lnTo>
                    <a:pt x="8" y="956"/>
                  </a:lnTo>
                  <a:lnTo>
                    <a:pt x="22" y="995"/>
                  </a:lnTo>
                  <a:lnTo>
                    <a:pt x="41" y="1033"/>
                  </a:lnTo>
                  <a:lnTo>
                    <a:pt x="63" y="1070"/>
                  </a:lnTo>
                  <a:lnTo>
                    <a:pt x="89" y="1105"/>
                  </a:lnTo>
                  <a:lnTo>
                    <a:pt x="116" y="1141"/>
                  </a:lnTo>
                  <a:lnTo>
                    <a:pt x="144" y="1177"/>
                  </a:lnTo>
                  <a:lnTo>
                    <a:pt x="160" y="1208"/>
                  </a:lnTo>
                  <a:lnTo>
                    <a:pt x="169" y="1239"/>
                  </a:lnTo>
                  <a:lnTo>
                    <a:pt x="174" y="1272"/>
                  </a:lnTo>
                  <a:lnTo>
                    <a:pt x="175" y="1304"/>
                  </a:lnTo>
                  <a:lnTo>
                    <a:pt x="174" y="1338"/>
                  </a:lnTo>
                  <a:lnTo>
                    <a:pt x="173" y="1371"/>
                  </a:lnTo>
                  <a:lnTo>
                    <a:pt x="173" y="1403"/>
                  </a:lnTo>
                  <a:lnTo>
                    <a:pt x="176" y="1436"/>
                  </a:lnTo>
                  <a:lnTo>
                    <a:pt x="182" y="1463"/>
                  </a:lnTo>
                  <a:lnTo>
                    <a:pt x="190" y="1490"/>
                  </a:lnTo>
                  <a:lnTo>
                    <a:pt x="204" y="1515"/>
                  </a:lnTo>
                  <a:lnTo>
                    <a:pt x="221" y="1538"/>
                  </a:lnTo>
                  <a:lnTo>
                    <a:pt x="240" y="1559"/>
                  </a:lnTo>
                  <a:lnTo>
                    <a:pt x="262" y="1578"/>
                  </a:lnTo>
                  <a:lnTo>
                    <a:pt x="286" y="1594"/>
                  </a:lnTo>
                  <a:lnTo>
                    <a:pt x="312" y="1606"/>
                  </a:lnTo>
                  <a:lnTo>
                    <a:pt x="321" y="1608"/>
                  </a:lnTo>
                  <a:lnTo>
                    <a:pt x="330" y="1610"/>
                  </a:lnTo>
                  <a:lnTo>
                    <a:pt x="340" y="1611"/>
                  </a:lnTo>
                  <a:lnTo>
                    <a:pt x="349" y="1611"/>
                  </a:lnTo>
                  <a:lnTo>
                    <a:pt x="358" y="1611"/>
                  </a:lnTo>
                  <a:lnTo>
                    <a:pt x="367" y="1610"/>
                  </a:lnTo>
                  <a:lnTo>
                    <a:pt x="376" y="1610"/>
                  </a:lnTo>
                  <a:lnTo>
                    <a:pt x="385" y="1610"/>
                  </a:lnTo>
                  <a:lnTo>
                    <a:pt x="388" y="1611"/>
                  </a:lnTo>
                  <a:lnTo>
                    <a:pt x="391" y="1615"/>
                  </a:lnTo>
                  <a:lnTo>
                    <a:pt x="393" y="1617"/>
                  </a:lnTo>
                  <a:lnTo>
                    <a:pt x="395" y="1618"/>
                  </a:lnTo>
                  <a:lnTo>
                    <a:pt x="402" y="1619"/>
                  </a:lnTo>
                  <a:lnTo>
                    <a:pt x="408" y="1619"/>
                  </a:lnTo>
                  <a:lnTo>
                    <a:pt x="413" y="1619"/>
                  </a:lnTo>
                  <a:lnTo>
                    <a:pt x="417" y="1619"/>
                  </a:lnTo>
                  <a:lnTo>
                    <a:pt x="442" y="1634"/>
                  </a:lnTo>
                  <a:lnTo>
                    <a:pt x="466" y="1651"/>
                  </a:lnTo>
                  <a:lnTo>
                    <a:pt x="487" y="1668"/>
                  </a:lnTo>
                  <a:lnTo>
                    <a:pt x="508" y="1686"/>
                  </a:lnTo>
                  <a:lnTo>
                    <a:pt x="529" y="1705"/>
                  </a:lnTo>
                  <a:lnTo>
                    <a:pt x="550" y="1722"/>
                  </a:lnTo>
                  <a:lnTo>
                    <a:pt x="572" y="1738"/>
                  </a:lnTo>
                  <a:lnTo>
                    <a:pt x="595" y="1751"/>
                  </a:lnTo>
                  <a:lnTo>
                    <a:pt x="614" y="1761"/>
                  </a:lnTo>
                  <a:lnTo>
                    <a:pt x="633" y="1769"/>
                  </a:lnTo>
                  <a:lnTo>
                    <a:pt x="653" y="1775"/>
                  </a:lnTo>
                  <a:lnTo>
                    <a:pt x="673" y="1778"/>
                  </a:lnTo>
                  <a:lnTo>
                    <a:pt x="694" y="1780"/>
                  </a:lnTo>
                  <a:lnTo>
                    <a:pt x="714" y="1780"/>
                  </a:lnTo>
                  <a:lnTo>
                    <a:pt x="735" y="1779"/>
                  </a:lnTo>
                  <a:lnTo>
                    <a:pt x="755" y="1775"/>
                  </a:lnTo>
                  <a:lnTo>
                    <a:pt x="780" y="1768"/>
                  </a:lnTo>
                  <a:lnTo>
                    <a:pt x="802" y="1757"/>
                  </a:lnTo>
                  <a:lnTo>
                    <a:pt x="822" y="1744"/>
                  </a:lnTo>
                  <a:lnTo>
                    <a:pt x="842" y="1730"/>
                  </a:lnTo>
                  <a:lnTo>
                    <a:pt x="861" y="1713"/>
                  </a:lnTo>
                  <a:lnTo>
                    <a:pt x="880" y="1697"/>
                  </a:lnTo>
                  <a:lnTo>
                    <a:pt x="899" y="1681"/>
                  </a:lnTo>
                  <a:lnTo>
                    <a:pt x="919" y="1665"/>
                  </a:lnTo>
                  <a:lnTo>
                    <a:pt x="932" y="1658"/>
                  </a:lnTo>
                  <a:lnTo>
                    <a:pt x="944" y="1654"/>
                  </a:lnTo>
                  <a:lnTo>
                    <a:pt x="957" y="1652"/>
                  </a:lnTo>
                  <a:lnTo>
                    <a:pt x="970" y="1649"/>
                  </a:lnTo>
                  <a:lnTo>
                    <a:pt x="982" y="1649"/>
                  </a:lnTo>
                  <a:lnTo>
                    <a:pt x="995" y="1651"/>
                  </a:lnTo>
                  <a:lnTo>
                    <a:pt x="1008" y="1652"/>
                  </a:lnTo>
                  <a:lnTo>
                    <a:pt x="1020" y="1655"/>
                  </a:lnTo>
                  <a:lnTo>
                    <a:pt x="1039" y="1663"/>
                  </a:lnTo>
                  <a:lnTo>
                    <a:pt x="1057" y="1671"/>
                  </a:lnTo>
                  <a:lnTo>
                    <a:pt x="1075" y="1680"/>
                  </a:lnTo>
                  <a:lnTo>
                    <a:pt x="1093" y="1689"/>
                  </a:lnTo>
                  <a:lnTo>
                    <a:pt x="1111" y="1699"/>
                  </a:lnTo>
                  <a:lnTo>
                    <a:pt x="1127" y="1709"/>
                  </a:lnTo>
                  <a:lnTo>
                    <a:pt x="1145" y="1718"/>
                  </a:lnTo>
                  <a:lnTo>
                    <a:pt x="1162" y="1728"/>
                  </a:lnTo>
                  <a:lnTo>
                    <a:pt x="1180" y="1737"/>
                  </a:lnTo>
                  <a:lnTo>
                    <a:pt x="1197" y="1746"/>
                  </a:lnTo>
                  <a:lnTo>
                    <a:pt x="1215" y="1753"/>
                  </a:lnTo>
                  <a:lnTo>
                    <a:pt x="1232" y="1761"/>
                  </a:lnTo>
                  <a:lnTo>
                    <a:pt x="1250" y="1768"/>
                  </a:lnTo>
                  <a:lnTo>
                    <a:pt x="1269" y="1772"/>
                  </a:lnTo>
                  <a:lnTo>
                    <a:pt x="1288" y="1777"/>
                  </a:lnTo>
                  <a:lnTo>
                    <a:pt x="1307" y="1779"/>
                  </a:lnTo>
                  <a:lnTo>
                    <a:pt x="1320" y="1780"/>
                  </a:lnTo>
                  <a:lnTo>
                    <a:pt x="1333" y="1781"/>
                  </a:lnTo>
                  <a:lnTo>
                    <a:pt x="1346" y="1784"/>
                  </a:lnTo>
                  <a:lnTo>
                    <a:pt x="1360" y="1786"/>
                  </a:lnTo>
                  <a:lnTo>
                    <a:pt x="1373" y="1788"/>
                  </a:lnTo>
                  <a:lnTo>
                    <a:pt x="1387" y="1789"/>
                  </a:lnTo>
                  <a:lnTo>
                    <a:pt x="1401" y="1790"/>
                  </a:lnTo>
                  <a:lnTo>
                    <a:pt x="1415" y="1791"/>
                  </a:lnTo>
                  <a:lnTo>
                    <a:pt x="1428" y="1791"/>
                  </a:lnTo>
                  <a:lnTo>
                    <a:pt x="1440" y="1790"/>
                  </a:lnTo>
                  <a:lnTo>
                    <a:pt x="1453" y="1788"/>
                  </a:lnTo>
                  <a:lnTo>
                    <a:pt x="1465" y="1785"/>
                  </a:lnTo>
                  <a:lnTo>
                    <a:pt x="1476" y="1780"/>
                  </a:lnTo>
                  <a:lnTo>
                    <a:pt x="1486" y="1774"/>
                  </a:lnTo>
                  <a:lnTo>
                    <a:pt x="1496" y="1766"/>
                  </a:lnTo>
                  <a:lnTo>
                    <a:pt x="1504" y="1756"/>
                  </a:lnTo>
                  <a:lnTo>
                    <a:pt x="1521" y="1724"/>
                  </a:lnTo>
                  <a:lnTo>
                    <a:pt x="1533" y="1691"/>
                  </a:lnTo>
                  <a:lnTo>
                    <a:pt x="1542" y="1657"/>
                  </a:lnTo>
                  <a:lnTo>
                    <a:pt x="1550" y="1623"/>
                  </a:lnTo>
                  <a:lnTo>
                    <a:pt x="1558" y="1589"/>
                  </a:lnTo>
                  <a:lnTo>
                    <a:pt x="1568" y="1556"/>
                  </a:lnTo>
                  <a:lnTo>
                    <a:pt x="1583" y="1525"/>
                  </a:lnTo>
                  <a:lnTo>
                    <a:pt x="1605" y="1496"/>
                  </a:lnTo>
                  <a:lnTo>
                    <a:pt x="1618" y="1485"/>
                  </a:lnTo>
                  <a:lnTo>
                    <a:pt x="1632" y="1474"/>
                  </a:lnTo>
                  <a:lnTo>
                    <a:pt x="1646" y="1464"/>
                  </a:lnTo>
                  <a:lnTo>
                    <a:pt x="1661" y="1455"/>
                  </a:lnTo>
                  <a:lnTo>
                    <a:pt x="1675" y="1446"/>
                  </a:lnTo>
                  <a:lnTo>
                    <a:pt x="1690" y="1438"/>
                  </a:lnTo>
                  <a:lnTo>
                    <a:pt x="1705" y="1430"/>
                  </a:lnTo>
                  <a:lnTo>
                    <a:pt x="1721" y="1422"/>
                  </a:lnTo>
                  <a:lnTo>
                    <a:pt x="1736" y="1415"/>
                  </a:lnTo>
                  <a:lnTo>
                    <a:pt x="1750" y="1406"/>
                  </a:lnTo>
                  <a:lnTo>
                    <a:pt x="1766" y="1398"/>
                  </a:lnTo>
                  <a:lnTo>
                    <a:pt x="1780" y="1389"/>
                  </a:lnTo>
                  <a:lnTo>
                    <a:pt x="1794" y="1379"/>
                  </a:lnTo>
                  <a:lnTo>
                    <a:pt x="1807" y="1369"/>
                  </a:lnTo>
                  <a:lnTo>
                    <a:pt x="1821" y="1358"/>
                  </a:lnTo>
                  <a:lnTo>
                    <a:pt x="1833" y="1345"/>
                  </a:lnTo>
                  <a:lnTo>
                    <a:pt x="1843" y="1334"/>
                  </a:lnTo>
                  <a:lnTo>
                    <a:pt x="1852" y="1323"/>
                  </a:lnTo>
                  <a:lnTo>
                    <a:pt x="1860" y="1311"/>
                  </a:lnTo>
                  <a:lnTo>
                    <a:pt x="1866" y="1298"/>
                  </a:lnTo>
                  <a:lnTo>
                    <a:pt x="1872" y="1285"/>
                  </a:lnTo>
                  <a:lnTo>
                    <a:pt x="1878" y="1272"/>
                  </a:lnTo>
                  <a:lnTo>
                    <a:pt x="1881" y="1258"/>
                  </a:lnTo>
                  <a:lnTo>
                    <a:pt x="1883" y="1245"/>
                  </a:lnTo>
                  <a:lnTo>
                    <a:pt x="1884" y="1220"/>
                  </a:lnTo>
                  <a:lnTo>
                    <a:pt x="1885" y="1196"/>
                  </a:lnTo>
                  <a:lnTo>
                    <a:pt x="1886" y="1171"/>
                  </a:lnTo>
                  <a:lnTo>
                    <a:pt x="1885" y="1146"/>
                  </a:lnTo>
                  <a:lnTo>
                    <a:pt x="1883" y="1123"/>
                  </a:lnTo>
                  <a:lnTo>
                    <a:pt x="1878" y="1100"/>
                  </a:lnTo>
                  <a:lnTo>
                    <a:pt x="1866" y="1080"/>
                  </a:lnTo>
                  <a:lnTo>
                    <a:pt x="1851" y="1062"/>
                  </a:lnTo>
                  <a:lnTo>
                    <a:pt x="1845" y="1055"/>
                  </a:lnTo>
                  <a:lnTo>
                    <a:pt x="1841" y="1047"/>
                  </a:lnTo>
                  <a:lnTo>
                    <a:pt x="1834" y="1039"/>
                  </a:lnTo>
                  <a:lnTo>
                    <a:pt x="1824" y="1035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104240" y="5008680"/>
              <a:ext cx="412560" cy="414360"/>
            </a:xfrm>
            <a:custGeom>
              <a:avLst/>
              <a:gdLst/>
              <a:ahLst/>
              <a:rect l="l" t="t" r="r" b="b"/>
              <a:pathLst>
                <a:path w="260" h="261">
                  <a:moveTo>
                    <a:pt x="0" y="96"/>
                  </a:moveTo>
                  <a:lnTo>
                    <a:pt x="28" y="243"/>
                  </a:lnTo>
                  <a:lnTo>
                    <a:pt x="28" y="224"/>
                  </a:lnTo>
                  <a:lnTo>
                    <a:pt x="30" y="181"/>
                  </a:lnTo>
                  <a:lnTo>
                    <a:pt x="33" y="141"/>
                  </a:lnTo>
                  <a:lnTo>
                    <a:pt x="41" y="124"/>
                  </a:lnTo>
                  <a:lnTo>
                    <a:pt x="49" y="127"/>
                  </a:lnTo>
                  <a:lnTo>
                    <a:pt x="61" y="130"/>
                  </a:lnTo>
                  <a:lnTo>
                    <a:pt x="76" y="133"/>
                  </a:lnTo>
                  <a:lnTo>
                    <a:pt x="93" y="137"/>
                  </a:lnTo>
                  <a:lnTo>
                    <a:pt x="107" y="141"/>
                  </a:lnTo>
                  <a:lnTo>
                    <a:pt x="121" y="143"/>
                  </a:lnTo>
                  <a:lnTo>
                    <a:pt x="130" y="146"/>
                  </a:lnTo>
                  <a:lnTo>
                    <a:pt x="133" y="147"/>
                  </a:lnTo>
                  <a:lnTo>
                    <a:pt x="206" y="261"/>
                  </a:lnTo>
                  <a:lnTo>
                    <a:pt x="178" y="124"/>
                  </a:lnTo>
                  <a:lnTo>
                    <a:pt x="228" y="74"/>
                  </a:lnTo>
                  <a:lnTo>
                    <a:pt x="247" y="110"/>
                  </a:lnTo>
                  <a:lnTo>
                    <a:pt x="260" y="24"/>
                  </a:lnTo>
                  <a:lnTo>
                    <a:pt x="160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81920" y="5002200"/>
              <a:ext cx="390600" cy="187200"/>
            </a:xfrm>
            <a:custGeom>
              <a:avLst/>
              <a:gdLst/>
              <a:ahLst/>
              <a:rect l="l" t="t" r="r" b="b"/>
              <a:pathLst>
                <a:path w="246" h="118">
                  <a:moveTo>
                    <a:pt x="123" y="0"/>
                  </a:moveTo>
                  <a:lnTo>
                    <a:pt x="0" y="82"/>
                  </a:lnTo>
                  <a:lnTo>
                    <a:pt x="151" y="118"/>
                  </a:lnTo>
                  <a:lnTo>
                    <a:pt x="246" y="2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81840" y="4913280"/>
              <a:ext cx="4680" cy="54000"/>
            </a:xfrm>
            <a:custGeom>
              <a:avLst/>
              <a:gdLst/>
              <a:ahLst/>
              <a:rect l="l" t="t" r="r" b="b"/>
              <a:pathLst>
                <a:path w="3" h="34">
                  <a:moveTo>
                    <a:pt x="2" y="34"/>
                  </a:moveTo>
                  <a:lnTo>
                    <a:pt x="0" y="26"/>
                  </a:lnTo>
                  <a:lnTo>
                    <a:pt x="0" y="17"/>
                  </a:lnTo>
                  <a:lnTo>
                    <a:pt x="0" y="9"/>
                  </a:lnTo>
                  <a:lnTo>
                    <a:pt x="1" y="0"/>
                  </a:lnTo>
                  <a:lnTo>
                    <a:pt x="2" y="8"/>
                  </a:lnTo>
                  <a:lnTo>
                    <a:pt x="3" y="17"/>
                  </a:lnTo>
                  <a:lnTo>
                    <a:pt x="3" y="26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05520" y="4102200"/>
              <a:ext cx="742680" cy="1089000"/>
            </a:xfrm>
            <a:custGeom>
              <a:avLst/>
              <a:gdLst/>
              <a:ahLst/>
              <a:rect l="l" t="t" r="r" b="b"/>
              <a:pathLst>
                <a:path w="468" h="686">
                  <a:moveTo>
                    <a:pt x="157" y="0"/>
                  </a:moveTo>
                  <a:lnTo>
                    <a:pt x="0" y="166"/>
                  </a:lnTo>
                  <a:lnTo>
                    <a:pt x="66" y="267"/>
                  </a:lnTo>
                  <a:lnTo>
                    <a:pt x="13" y="350"/>
                  </a:lnTo>
                  <a:lnTo>
                    <a:pt x="143" y="518"/>
                  </a:lnTo>
                  <a:lnTo>
                    <a:pt x="220" y="485"/>
                  </a:lnTo>
                  <a:lnTo>
                    <a:pt x="248" y="543"/>
                  </a:lnTo>
                  <a:lnTo>
                    <a:pt x="144" y="626"/>
                  </a:lnTo>
                  <a:lnTo>
                    <a:pt x="173" y="686"/>
                  </a:lnTo>
                  <a:lnTo>
                    <a:pt x="375" y="619"/>
                  </a:lnTo>
                  <a:lnTo>
                    <a:pt x="456" y="523"/>
                  </a:lnTo>
                  <a:lnTo>
                    <a:pt x="440" y="453"/>
                  </a:lnTo>
                  <a:lnTo>
                    <a:pt x="380" y="457"/>
                  </a:lnTo>
                  <a:lnTo>
                    <a:pt x="378" y="424"/>
                  </a:lnTo>
                  <a:lnTo>
                    <a:pt x="468" y="353"/>
                  </a:lnTo>
                  <a:lnTo>
                    <a:pt x="389" y="4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10360" y="4873680"/>
              <a:ext cx="807840" cy="679320"/>
            </a:xfrm>
            <a:custGeom>
              <a:avLst/>
              <a:gdLst/>
              <a:ahLst/>
              <a:rect l="l" t="t" r="r" b="b"/>
              <a:pathLst>
                <a:path w="509" h="428">
                  <a:moveTo>
                    <a:pt x="54" y="176"/>
                  </a:moveTo>
                  <a:lnTo>
                    <a:pt x="0" y="248"/>
                  </a:lnTo>
                  <a:lnTo>
                    <a:pt x="130" y="428"/>
                  </a:lnTo>
                  <a:lnTo>
                    <a:pt x="59" y="265"/>
                  </a:lnTo>
                  <a:lnTo>
                    <a:pt x="276" y="236"/>
                  </a:lnTo>
                  <a:lnTo>
                    <a:pt x="341" y="424"/>
                  </a:lnTo>
                  <a:lnTo>
                    <a:pt x="336" y="217"/>
                  </a:lnTo>
                  <a:lnTo>
                    <a:pt x="467" y="101"/>
                  </a:lnTo>
                  <a:lnTo>
                    <a:pt x="486" y="227"/>
                  </a:lnTo>
                  <a:lnTo>
                    <a:pt x="509" y="0"/>
                  </a:lnTo>
                  <a:lnTo>
                    <a:pt x="314" y="19"/>
                  </a:lnTo>
                  <a:lnTo>
                    <a:pt x="54" y="17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86400" y="4245120"/>
              <a:ext cx="263520" cy="374400"/>
            </a:xfrm>
            <a:custGeom>
              <a:avLst/>
              <a:gdLst/>
              <a:ahLst/>
              <a:rect l="l" t="t" r="r" b="b"/>
              <a:pathLst>
                <a:path w="166" h="236">
                  <a:moveTo>
                    <a:pt x="0" y="0"/>
                  </a:moveTo>
                  <a:lnTo>
                    <a:pt x="101" y="236"/>
                  </a:lnTo>
                  <a:lnTo>
                    <a:pt x="166" y="216"/>
                  </a:lnTo>
                  <a:lnTo>
                    <a:pt x="11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76840" y="5095800"/>
              <a:ext cx="41400" cy="17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2" y="0"/>
                  </a:moveTo>
                  <a:lnTo>
                    <a:pt x="0" y="10"/>
                  </a:lnTo>
                  <a:lnTo>
                    <a:pt x="17" y="11"/>
                  </a:lnTo>
                  <a:lnTo>
                    <a:pt x="26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16440" y="5067360"/>
              <a:ext cx="38160" cy="172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0" y="10"/>
                  </a:lnTo>
                  <a:lnTo>
                    <a:pt x="15" y="11"/>
                  </a:lnTo>
                  <a:lnTo>
                    <a:pt x="2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53160" y="503856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1" y="0"/>
                  </a:moveTo>
                  <a:lnTo>
                    <a:pt x="0" y="10"/>
                  </a:lnTo>
                  <a:lnTo>
                    <a:pt x="16" y="12"/>
                  </a:lnTo>
                  <a:lnTo>
                    <a:pt x="25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91320" y="501156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2" y="0"/>
                  </a:moveTo>
                  <a:lnTo>
                    <a:pt x="0" y="10"/>
                  </a:lnTo>
                  <a:lnTo>
                    <a:pt x="16" y="12"/>
                  </a:lnTo>
                  <a:lnTo>
                    <a:pt x="25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29480" y="4984920"/>
              <a:ext cx="3960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11" y="0"/>
                  </a:moveTo>
                  <a:lnTo>
                    <a:pt x="0" y="10"/>
                  </a:lnTo>
                  <a:lnTo>
                    <a:pt x="16" y="11"/>
                  </a:lnTo>
                  <a:lnTo>
                    <a:pt x="25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67280" y="4956120"/>
              <a:ext cx="3996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1" y="0"/>
                  </a:moveTo>
                  <a:lnTo>
                    <a:pt x="0" y="10"/>
                  </a:lnTo>
                  <a:lnTo>
                    <a:pt x="16" y="12"/>
                  </a:lnTo>
                  <a:lnTo>
                    <a:pt x="25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00760" y="4932360"/>
              <a:ext cx="41400" cy="17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2" y="0"/>
                  </a:moveTo>
                  <a:lnTo>
                    <a:pt x="0" y="10"/>
                  </a:lnTo>
                  <a:lnTo>
                    <a:pt x="17" y="11"/>
                  </a:lnTo>
                  <a:lnTo>
                    <a:pt x="26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64320" y="5094360"/>
              <a:ext cx="38160" cy="172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0" y="10"/>
                  </a:lnTo>
                  <a:lnTo>
                    <a:pt x="15" y="11"/>
                  </a:lnTo>
                  <a:lnTo>
                    <a:pt x="2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00680" y="5065560"/>
              <a:ext cx="41400" cy="190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13" y="0"/>
                  </a:moveTo>
                  <a:lnTo>
                    <a:pt x="0" y="10"/>
                  </a:lnTo>
                  <a:lnTo>
                    <a:pt x="17" y="12"/>
                  </a:lnTo>
                  <a:lnTo>
                    <a:pt x="2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40280" y="503856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0" y="9"/>
                  </a:lnTo>
                  <a:lnTo>
                    <a:pt x="15" y="11"/>
                  </a:lnTo>
                  <a:lnTo>
                    <a:pt x="2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77000" y="5010120"/>
              <a:ext cx="3960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12" y="0"/>
                  </a:moveTo>
                  <a:lnTo>
                    <a:pt x="0" y="10"/>
                  </a:lnTo>
                  <a:lnTo>
                    <a:pt x="17" y="11"/>
                  </a:lnTo>
                  <a:lnTo>
                    <a:pt x="25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15160" y="498168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12" y="0"/>
                  </a:moveTo>
                  <a:lnTo>
                    <a:pt x="0" y="10"/>
                  </a:lnTo>
                  <a:lnTo>
                    <a:pt x="17" y="13"/>
                  </a:lnTo>
                  <a:lnTo>
                    <a:pt x="26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952960" y="4956120"/>
              <a:ext cx="3996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12" y="0"/>
                  </a:moveTo>
                  <a:lnTo>
                    <a:pt x="0" y="9"/>
                  </a:lnTo>
                  <a:lnTo>
                    <a:pt x="16" y="11"/>
                  </a:lnTo>
                  <a:lnTo>
                    <a:pt x="2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987880" y="4930920"/>
              <a:ext cx="3996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12" y="0"/>
                  </a:moveTo>
                  <a:lnTo>
                    <a:pt x="0" y="10"/>
                  </a:lnTo>
                  <a:lnTo>
                    <a:pt x="16" y="11"/>
                  </a:lnTo>
                  <a:lnTo>
                    <a:pt x="2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13280" y="2057400"/>
              <a:ext cx="1957680" cy="3505320"/>
            </a:xfrm>
            <a:custGeom>
              <a:avLst/>
              <a:gdLst/>
              <a:ahLst/>
              <a:rect l="l" t="t" r="r" b="b"/>
              <a:pathLst>
                <a:path w="1233" h="2208">
                  <a:moveTo>
                    <a:pt x="152" y="1651"/>
                  </a:moveTo>
                  <a:lnTo>
                    <a:pt x="144" y="1657"/>
                  </a:lnTo>
                  <a:lnTo>
                    <a:pt x="138" y="1661"/>
                  </a:lnTo>
                  <a:lnTo>
                    <a:pt x="131" y="1667"/>
                  </a:lnTo>
                  <a:lnTo>
                    <a:pt x="125" y="1672"/>
                  </a:lnTo>
                  <a:lnTo>
                    <a:pt x="123" y="1684"/>
                  </a:lnTo>
                  <a:lnTo>
                    <a:pt x="120" y="1695"/>
                  </a:lnTo>
                  <a:lnTo>
                    <a:pt x="116" y="1706"/>
                  </a:lnTo>
                  <a:lnTo>
                    <a:pt x="112" y="1716"/>
                  </a:lnTo>
                  <a:lnTo>
                    <a:pt x="105" y="1726"/>
                  </a:lnTo>
                  <a:lnTo>
                    <a:pt x="98" y="1735"/>
                  </a:lnTo>
                  <a:lnTo>
                    <a:pt x="90" y="1742"/>
                  </a:lnTo>
                  <a:lnTo>
                    <a:pt x="78" y="1747"/>
                  </a:lnTo>
                  <a:lnTo>
                    <a:pt x="75" y="1747"/>
                  </a:lnTo>
                  <a:lnTo>
                    <a:pt x="73" y="1745"/>
                  </a:lnTo>
                  <a:lnTo>
                    <a:pt x="71" y="1741"/>
                  </a:lnTo>
                  <a:lnTo>
                    <a:pt x="71" y="1737"/>
                  </a:lnTo>
                  <a:lnTo>
                    <a:pt x="71" y="1734"/>
                  </a:lnTo>
                  <a:lnTo>
                    <a:pt x="71" y="1730"/>
                  </a:lnTo>
                  <a:lnTo>
                    <a:pt x="71" y="1726"/>
                  </a:lnTo>
                  <a:lnTo>
                    <a:pt x="71" y="1723"/>
                  </a:lnTo>
                  <a:lnTo>
                    <a:pt x="66" y="1727"/>
                  </a:lnTo>
                  <a:lnTo>
                    <a:pt x="60" y="1732"/>
                  </a:lnTo>
                  <a:lnTo>
                    <a:pt x="56" y="1736"/>
                  </a:lnTo>
                  <a:lnTo>
                    <a:pt x="50" y="1741"/>
                  </a:lnTo>
                  <a:lnTo>
                    <a:pt x="45" y="1745"/>
                  </a:lnTo>
                  <a:lnTo>
                    <a:pt x="39" y="1749"/>
                  </a:lnTo>
                  <a:lnTo>
                    <a:pt x="34" y="1751"/>
                  </a:lnTo>
                  <a:lnTo>
                    <a:pt x="27" y="1751"/>
                  </a:lnTo>
                  <a:lnTo>
                    <a:pt x="26" y="1738"/>
                  </a:lnTo>
                  <a:lnTo>
                    <a:pt x="29" y="1726"/>
                  </a:lnTo>
                  <a:lnTo>
                    <a:pt x="34" y="1715"/>
                  </a:lnTo>
                  <a:lnTo>
                    <a:pt x="36" y="1703"/>
                  </a:lnTo>
                  <a:lnTo>
                    <a:pt x="31" y="1705"/>
                  </a:lnTo>
                  <a:lnTo>
                    <a:pt x="28" y="1707"/>
                  </a:lnTo>
                  <a:lnTo>
                    <a:pt x="24" y="1711"/>
                  </a:lnTo>
                  <a:lnTo>
                    <a:pt x="19" y="1714"/>
                  </a:lnTo>
                  <a:lnTo>
                    <a:pt x="15" y="1717"/>
                  </a:lnTo>
                  <a:lnTo>
                    <a:pt x="11" y="1719"/>
                  </a:lnTo>
                  <a:lnTo>
                    <a:pt x="6" y="1722"/>
                  </a:lnTo>
                  <a:lnTo>
                    <a:pt x="1" y="1722"/>
                  </a:lnTo>
                  <a:lnTo>
                    <a:pt x="0" y="1716"/>
                  </a:lnTo>
                  <a:lnTo>
                    <a:pt x="0" y="1712"/>
                  </a:lnTo>
                  <a:lnTo>
                    <a:pt x="3" y="1706"/>
                  </a:lnTo>
                  <a:lnTo>
                    <a:pt x="6" y="1702"/>
                  </a:lnTo>
                  <a:lnTo>
                    <a:pt x="16" y="1689"/>
                  </a:lnTo>
                  <a:lnTo>
                    <a:pt x="25" y="1676"/>
                  </a:lnTo>
                  <a:lnTo>
                    <a:pt x="31" y="1662"/>
                  </a:lnTo>
                  <a:lnTo>
                    <a:pt x="38" y="1648"/>
                  </a:lnTo>
                  <a:lnTo>
                    <a:pt x="45" y="1633"/>
                  </a:lnTo>
                  <a:lnTo>
                    <a:pt x="52" y="1620"/>
                  </a:lnTo>
                  <a:lnTo>
                    <a:pt x="62" y="1608"/>
                  </a:lnTo>
                  <a:lnTo>
                    <a:pt x="73" y="1596"/>
                  </a:lnTo>
                  <a:lnTo>
                    <a:pt x="79" y="1593"/>
                  </a:lnTo>
                  <a:lnTo>
                    <a:pt x="87" y="1591"/>
                  </a:lnTo>
                  <a:lnTo>
                    <a:pt x="95" y="1588"/>
                  </a:lnTo>
                  <a:lnTo>
                    <a:pt x="103" y="1584"/>
                  </a:lnTo>
                  <a:lnTo>
                    <a:pt x="112" y="1581"/>
                  </a:lnTo>
                  <a:lnTo>
                    <a:pt x="120" y="1579"/>
                  </a:lnTo>
                  <a:lnTo>
                    <a:pt x="128" y="1575"/>
                  </a:lnTo>
                  <a:lnTo>
                    <a:pt x="134" y="1573"/>
                  </a:lnTo>
                  <a:lnTo>
                    <a:pt x="150" y="1566"/>
                  </a:lnTo>
                  <a:lnTo>
                    <a:pt x="166" y="1558"/>
                  </a:lnTo>
                  <a:lnTo>
                    <a:pt x="180" y="1551"/>
                  </a:lnTo>
                  <a:lnTo>
                    <a:pt x="196" y="1542"/>
                  </a:lnTo>
                  <a:lnTo>
                    <a:pt x="211" y="1533"/>
                  </a:lnTo>
                  <a:lnTo>
                    <a:pt x="227" y="1525"/>
                  </a:lnTo>
                  <a:lnTo>
                    <a:pt x="243" y="1516"/>
                  </a:lnTo>
                  <a:lnTo>
                    <a:pt x="258" y="1508"/>
                  </a:lnTo>
                  <a:lnTo>
                    <a:pt x="256" y="1500"/>
                  </a:lnTo>
                  <a:lnTo>
                    <a:pt x="253" y="1491"/>
                  </a:lnTo>
                  <a:lnTo>
                    <a:pt x="252" y="1484"/>
                  </a:lnTo>
                  <a:lnTo>
                    <a:pt x="259" y="1479"/>
                  </a:lnTo>
                  <a:lnTo>
                    <a:pt x="265" y="1476"/>
                  </a:lnTo>
                  <a:lnTo>
                    <a:pt x="272" y="1472"/>
                  </a:lnTo>
                  <a:lnTo>
                    <a:pt x="278" y="1470"/>
                  </a:lnTo>
                  <a:lnTo>
                    <a:pt x="284" y="1468"/>
                  </a:lnTo>
                  <a:lnTo>
                    <a:pt x="291" y="1465"/>
                  </a:lnTo>
                  <a:lnTo>
                    <a:pt x="297" y="1462"/>
                  </a:lnTo>
                  <a:lnTo>
                    <a:pt x="303" y="1459"/>
                  </a:lnTo>
                  <a:lnTo>
                    <a:pt x="309" y="1454"/>
                  </a:lnTo>
                  <a:lnTo>
                    <a:pt x="304" y="1443"/>
                  </a:lnTo>
                  <a:lnTo>
                    <a:pt x="299" y="1429"/>
                  </a:lnTo>
                  <a:lnTo>
                    <a:pt x="293" y="1413"/>
                  </a:lnTo>
                  <a:lnTo>
                    <a:pt x="287" y="1395"/>
                  </a:lnTo>
                  <a:lnTo>
                    <a:pt x="282" y="1380"/>
                  </a:lnTo>
                  <a:lnTo>
                    <a:pt x="276" y="1366"/>
                  </a:lnTo>
                  <a:lnTo>
                    <a:pt x="273" y="1356"/>
                  </a:lnTo>
                  <a:lnTo>
                    <a:pt x="272" y="1353"/>
                  </a:lnTo>
                  <a:lnTo>
                    <a:pt x="285" y="1355"/>
                  </a:lnTo>
                  <a:lnTo>
                    <a:pt x="300" y="1358"/>
                  </a:lnTo>
                  <a:lnTo>
                    <a:pt x="313" y="1363"/>
                  </a:lnTo>
                  <a:lnTo>
                    <a:pt x="327" y="1368"/>
                  </a:lnTo>
                  <a:lnTo>
                    <a:pt x="340" y="1374"/>
                  </a:lnTo>
                  <a:lnTo>
                    <a:pt x="353" y="1378"/>
                  </a:lnTo>
                  <a:lnTo>
                    <a:pt x="368" y="1382"/>
                  </a:lnTo>
                  <a:lnTo>
                    <a:pt x="381" y="1384"/>
                  </a:lnTo>
                  <a:lnTo>
                    <a:pt x="370" y="1373"/>
                  </a:lnTo>
                  <a:lnTo>
                    <a:pt x="361" y="1362"/>
                  </a:lnTo>
                  <a:lnTo>
                    <a:pt x="353" y="1349"/>
                  </a:lnTo>
                  <a:lnTo>
                    <a:pt x="349" y="1337"/>
                  </a:lnTo>
                  <a:lnTo>
                    <a:pt x="346" y="1325"/>
                  </a:lnTo>
                  <a:lnTo>
                    <a:pt x="344" y="1310"/>
                  </a:lnTo>
                  <a:lnTo>
                    <a:pt x="344" y="1296"/>
                  </a:lnTo>
                  <a:lnTo>
                    <a:pt x="347" y="1279"/>
                  </a:lnTo>
                  <a:lnTo>
                    <a:pt x="350" y="1263"/>
                  </a:lnTo>
                  <a:lnTo>
                    <a:pt x="354" y="1248"/>
                  </a:lnTo>
                  <a:lnTo>
                    <a:pt x="358" y="1232"/>
                  </a:lnTo>
                  <a:lnTo>
                    <a:pt x="357" y="1215"/>
                  </a:lnTo>
                  <a:lnTo>
                    <a:pt x="351" y="1213"/>
                  </a:lnTo>
                  <a:lnTo>
                    <a:pt x="344" y="1210"/>
                  </a:lnTo>
                  <a:lnTo>
                    <a:pt x="339" y="1206"/>
                  </a:lnTo>
                  <a:lnTo>
                    <a:pt x="332" y="1203"/>
                  </a:lnTo>
                  <a:lnTo>
                    <a:pt x="327" y="1200"/>
                  </a:lnTo>
                  <a:lnTo>
                    <a:pt x="322" y="1194"/>
                  </a:lnTo>
                  <a:lnTo>
                    <a:pt x="318" y="1190"/>
                  </a:lnTo>
                  <a:lnTo>
                    <a:pt x="314" y="1183"/>
                  </a:lnTo>
                  <a:lnTo>
                    <a:pt x="312" y="1172"/>
                  </a:lnTo>
                  <a:lnTo>
                    <a:pt x="312" y="1159"/>
                  </a:lnTo>
                  <a:lnTo>
                    <a:pt x="314" y="1147"/>
                  </a:lnTo>
                  <a:lnTo>
                    <a:pt x="320" y="1137"/>
                  </a:lnTo>
                  <a:lnTo>
                    <a:pt x="310" y="1127"/>
                  </a:lnTo>
                  <a:lnTo>
                    <a:pt x="302" y="1116"/>
                  </a:lnTo>
                  <a:lnTo>
                    <a:pt x="296" y="1103"/>
                  </a:lnTo>
                  <a:lnTo>
                    <a:pt x="294" y="1090"/>
                  </a:lnTo>
                  <a:lnTo>
                    <a:pt x="299" y="1061"/>
                  </a:lnTo>
                  <a:lnTo>
                    <a:pt x="309" y="1033"/>
                  </a:lnTo>
                  <a:lnTo>
                    <a:pt x="316" y="1005"/>
                  </a:lnTo>
                  <a:lnTo>
                    <a:pt x="316" y="975"/>
                  </a:lnTo>
                  <a:lnTo>
                    <a:pt x="313" y="955"/>
                  </a:lnTo>
                  <a:lnTo>
                    <a:pt x="309" y="934"/>
                  </a:lnTo>
                  <a:lnTo>
                    <a:pt x="305" y="913"/>
                  </a:lnTo>
                  <a:lnTo>
                    <a:pt x="304" y="892"/>
                  </a:lnTo>
                  <a:lnTo>
                    <a:pt x="293" y="891"/>
                  </a:lnTo>
                  <a:lnTo>
                    <a:pt x="282" y="890"/>
                  </a:lnTo>
                  <a:lnTo>
                    <a:pt x="271" y="888"/>
                  </a:lnTo>
                  <a:lnTo>
                    <a:pt x="259" y="885"/>
                  </a:lnTo>
                  <a:lnTo>
                    <a:pt x="248" y="882"/>
                  </a:lnTo>
                  <a:lnTo>
                    <a:pt x="239" y="876"/>
                  </a:lnTo>
                  <a:lnTo>
                    <a:pt x="231" y="870"/>
                  </a:lnTo>
                  <a:lnTo>
                    <a:pt x="225" y="860"/>
                  </a:lnTo>
                  <a:lnTo>
                    <a:pt x="223" y="835"/>
                  </a:lnTo>
                  <a:lnTo>
                    <a:pt x="227" y="812"/>
                  </a:lnTo>
                  <a:lnTo>
                    <a:pt x="235" y="789"/>
                  </a:lnTo>
                  <a:lnTo>
                    <a:pt x="244" y="767"/>
                  </a:lnTo>
                  <a:lnTo>
                    <a:pt x="237" y="765"/>
                  </a:lnTo>
                  <a:lnTo>
                    <a:pt x="231" y="762"/>
                  </a:lnTo>
                  <a:lnTo>
                    <a:pt x="225" y="759"/>
                  </a:lnTo>
                  <a:lnTo>
                    <a:pt x="219" y="755"/>
                  </a:lnTo>
                  <a:lnTo>
                    <a:pt x="212" y="750"/>
                  </a:lnTo>
                  <a:lnTo>
                    <a:pt x="208" y="745"/>
                  </a:lnTo>
                  <a:lnTo>
                    <a:pt x="204" y="739"/>
                  </a:lnTo>
                  <a:lnTo>
                    <a:pt x="200" y="732"/>
                  </a:lnTo>
                  <a:lnTo>
                    <a:pt x="195" y="714"/>
                  </a:lnTo>
                  <a:lnTo>
                    <a:pt x="193" y="695"/>
                  </a:lnTo>
                  <a:lnTo>
                    <a:pt x="197" y="677"/>
                  </a:lnTo>
                  <a:lnTo>
                    <a:pt x="205" y="661"/>
                  </a:lnTo>
                  <a:lnTo>
                    <a:pt x="210" y="654"/>
                  </a:lnTo>
                  <a:lnTo>
                    <a:pt x="217" y="650"/>
                  </a:lnTo>
                  <a:lnTo>
                    <a:pt x="224" y="645"/>
                  </a:lnTo>
                  <a:lnTo>
                    <a:pt x="231" y="642"/>
                  </a:lnTo>
                  <a:lnTo>
                    <a:pt x="239" y="638"/>
                  </a:lnTo>
                  <a:lnTo>
                    <a:pt x="247" y="636"/>
                  </a:lnTo>
                  <a:lnTo>
                    <a:pt x="255" y="634"/>
                  </a:lnTo>
                  <a:lnTo>
                    <a:pt x="263" y="632"/>
                  </a:lnTo>
                  <a:lnTo>
                    <a:pt x="262" y="607"/>
                  </a:lnTo>
                  <a:lnTo>
                    <a:pt x="267" y="584"/>
                  </a:lnTo>
                  <a:lnTo>
                    <a:pt x="276" y="562"/>
                  </a:lnTo>
                  <a:lnTo>
                    <a:pt x="289" y="541"/>
                  </a:lnTo>
                  <a:lnTo>
                    <a:pt x="301" y="521"/>
                  </a:lnTo>
                  <a:lnTo>
                    <a:pt x="312" y="500"/>
                  </a:lnTo>
                  <a:lnTo>
                    <a:pt x="321" y="477"/>
                  </a:lnTo>
                  <a:lnTo>
                    <a:pt x="324" y="453"/>
                  </a:lnTo>
                  <a:lnTo>
                    <a:pt x="329" y="426"/>
                  </a:lnTo>
                  <a:lnTo>
                    <a:pt x="333" y="400"/>
                  </a:lnTo>
                  <a:lnTo>
                    <a:pt x="340" y="375"/>
                  </a:lnTo>
                  <a:lnTo>
                    <a:pt x="354" y="352"/>
                  </a:lnTo>
                  <a:lnTo>
                    <a:pt x="360" y="343"/>
                  </a:lnTo>
                  <a:lnTo>
                    <a:pt x="365" y="333"/>
                  </a:lnTo>
                  <a:lnTo>
                    <a:pt x="370" y="324"/>
                  </a:lnTo>
                  <a:lnTo>
                    <a:pt x="375" y="314"/>
                  </a:lnTo>
                  <a:lnTo>
                    <a:pt x="380" y="305"/>
                  </a:lnTo>
                  <a:lnTo>
                    <a:pt x="387" y="296"/>
                  </a:lnTo>
                  <a:lnTo>
                    <a:pt x="395" y="287"/>
                  </a:lnTo>
                  <a:lnTo>
                    <a:pt x="404" y="279"/>
                  </a:lnTo>
                  <a:lnTo>
                    <a:pt x="417" y="263"/>
                  </a:lnTo>
                  <a:lnTo>
                    <a:pt x="433" y="248"/>
                  </a:lnTo>
                  <a:lnTo>
                    <a:pt x="450" y="235"/>
                  </a:lnTo>
                  <a:lnTo>
                    <a:pt x="467" y="224"/>
                  </a:lnTo>
                  <a:lnTo>
                    <a:pt x="485" y="214"/>
                  </a:lnTo>
                  <a:lnTo>
                    <a:pt x="504" y="203"/>
                  </a:lnTo>
                  <a:lnTo>
                    <a:pt x="523" y="195"/>
                  </a:lnTo>
                  <a:lnTo>
                    <a:pt x="541" y="186"/>
                  </a:lnTo>
                  <a:lnTo>
                    <a:pt x="552" y="183"/>
                  </a:lnTo>
                  <a:lnTo>
                    <a:pt x="565" y="181"/>
                  </a:lnTo>
                  <a:lnTo>
                    <a:pt x="577" y="180"/>
                  </a:lnTo>
                  <a:lnTo>
                    <a:pt x="589" y="179"/>
                  </a:lnTo>
                  <a:lnTo>
                    <a:pt x="602" y="178"/>
                  </a:lnTo>
                  <a:lnTo>
                    <a:pt x="614" y="178"/>
                  </a:lnTo>
                  <a:lnTo>
                    <a:pt x="626" y="178"/>
                  </a:lnTo>
                  <a:lnTo>
                    <a:pt x="638" y="179"/>
                  </a:lnTo>
                  <a:lnTo>
                    <a:pt x="634" y="177"/>
                  </a:lnTo>
                  <a:lnTo>
                    <a:pt x="629" y="174"/>
                  </a:lnTo>
                  <a:lnTo>
                    <a:pt x="625" y="172"/>
                  </a:lnTo>
                  <a:lnTo>
                    <a:pt x="619" y="170"/>
                  </a:lnTo>
                  <a:lnTo>
                    <a:pt x="615" y="168"/>
                  </a:lnTo>
                  <a:lnTo>
                    <a:pt x="609" y="164"/>
                  </a:lnTo>
                  <a:lnTo>
                    <a:pt x="605" y="161"/>
                  </a:lnTo>
                  <a:lnTo>
                    <a:pt x="600" y="157"/>
                  </a:lnTo>
                  <a:lnTo>
                    <a:pt x="596" y="157"/>
                  </a:lnTo>
                  <a:lnTo>
                    <a:pt x="591" y="155"/>
                  </a:lnTo>
                  <a:lnTo>
                    <a:pt x="587" y="154"/>
                  </a:lnTo>
                  <a:lnTo>
                    <a:pt x="583" y="153"/>
                  </a:lnTo>
                  <a:lnTo>
                    <a:pt x="578" y="152"/>
                  </a:lnTo>
                  <a:lnTo>
                    <a:pt x="574" y="151"/>
                  </a:lnTo>
                  <a:lnTo>
                    <a:pt x="569" y="149"/>
                  </a:lnTo>
                  <a:lnTo>
                    <a:pt x="566" y="146"/>
                  </a:lnTo>
                  <a:lnTo>
                    <a:pt x="579" y="144"/>
                  </a:lnTo>
                  <a:lnTo>
                    <a:pt x="593" y="144"/>
                  </a:lnTo>
                  <a:lnTo>
                    <a:pt x="606" y="144"/>
                  </a:lnTo>
                  <a:lnTo>
                    <a:pt x="619" y="145"/>
                  </a:lnTo>
                  <a:lnTo>
                    <a:pt x="633" y="148"/>
                  </a:lnTo>
                  <a:lnTo>
                    <a:pt x="646" y="151"/>
                  </a:lnTo>
                  <a:lnTo>
                    <a:pt x="659" y="153"/>
                  </a:lnTo>
                  <a:lnTo>
                    <a:pt x="672" y="155"/>
                  </a:lnTo>
                  <a:lnTo>
                    <a:pt x="660" y="149"/>
                  </a:lnTo>
                  <a:lnTo>
                    <a:pt x="646" y="143"/>
                  </a:lnTo>
                  <a:lnTo>
                    <a:pt x="633" y="138"/>
                  </a:lnTo>
                  <a:lnTo>
                    <a:pt x="619" y="132"/>
                  </a:lnTo>
                  <a:lnTo>
                    <a:pt x="605" y="127"/>
                  </a:lnTo>
                  <a:lnTo>
                    <a:pt x="590" y="123"/>
                  </a:lnTo>
                  <a:lnTo>
                    <a:pt x="576" y="119"/>
                  </a:lnTo>
                  <a:lnTo>
                    <a:pt x="562" y="113"/>
                  </a:lnTo>
                  <a:lnTo>
                    <a:pt x="558" y="113"/>
                  </a:lnTo>
                  <a:lnTo>
                    <a:pt x="553" y="112"/>
                  </a:lnTo>
                  <a:lnTo>
                    <a:pt x="549" y="111"/>
                  </a:lnTo>
                  <a:lnTo>
                    <a:pt x="545" y="110"/>
                  </a:lnTo>
                  <a:lnTo>
                    <a:pt x="540" y="110"/>
                  </a:lnTo>
                  <a:lnTo>
                    <a:pt x="536" y="108"/>
                  </a:lnTo>
                  <a:lnTo>
                    <a:pt x="531" y="107"/>
                  </a:lnTo>
                  <a:lnTo>
                    <a:pt x="527" y="106"/>
                  </a:lnTo>
                  <a:lnTo>
                    <a:pt x="538" y="103"/>
                  </a:lnTo>
                  <a:lnTo>
                    <a:pt x="549" y="99"/>
                  </a:lnTo>
                  <a:lnTo>
                    <a:pt x="561" y="98"/>
                  </a:lnTo>
                  <a:lnTo>
                    <a:pt x="575" y="98"/>
                  </a:lnTo>
                  <a:lnTo>
                    <a:pt x="587" y="98"/>
                  </a:lnTo>
                  <a:lnTo>
                    <a:pt x="600" y="99"/>
                  </a:lnTo>
                  <a:lnTo>
                    <a:pt x="614" y="101"/>
                  </a:lnTo>
                  <a:lnTo>
                    <a:pt x="626" y="102"/>
                  </a:lnTo>
                  <a:lnTo>
                    <a:pt x="638" y="104"/>
                  </a:lnTo>
                  <a:lnTo>
                    <a:pt x="651" y="107"/>
                  </a:lnTo>
                  <a:lnTo>
                    <a:pt x="663" y="111"/>
                  </a:lnTo>
                  <a:lnTo>
                    <a:pt x="675" y="115"/>
                  </a:lnTo>
                  <a:lnTo>
                    <a:pt x="687" y="120"/>
                  </a:lnTo>
                  <a:lnTo>
                    <a:pt x="699" y="124"/>
                  </a:lnTo>
                  <a:lnTo>
                    <a:pt x="710" y="130"/>
                  </a:lnTo>
                  <a:lnTo>
                    <a:pt x="721" y="135"/>
                  </a:lnTo>
                  <a:lnTo>
                    <a:pt x="714" y="123"/>
                  </a:lnTo>
                  <a:lnTo>
                    <a:pt x="706" y="112"/>
                  </a:lnTo>
                  <a:lnTo>
                    <a:pt x="695" y="101"/>
                  </a:lnTo>
                  <a:lnTo>
                    <a:pt x="684" y="89"/>
                  </a:lnTo>
                  <a:lnTo>
                    <a:pt x="673" y="78"/>
                  </a:lnTo>
                  <a:lnTo>
                    <a:pt x="661" y="68"/>
                  </a:lnTo>
                  <a:lnTo>
                    <a:pt x="650" y="58"/>
                  </a:lnTo>
                  <a:lnTo>
                    <a:pt x="638" y="49"/>
                  </a:lnTo>
                  <a:lnTo>
                    <a:pt x="653" y="51"/>
                  </a:lnTo>
                  <a:lnTo>
                    <a:pt x="666" y="56"/>
                  </a:lnTo>
                  <a:lnTo>
                    <a:pt x="680" y="61"/>
                  </a:lnTo>
                  <a:lnTo>
                    <a:pt x="692" y="68"/>
                  </a:lnTo>
                  <a:lnTo>
                    <a:pt x="703" y="76"/>
                  </a:lnTo>
                  <a:lnTo>
                    <a:pt x="716" y="85"/>
                  </a:lnTo>
                  <a:lnTo>
                    <a:pt x="727" y="94"/>
                  </a:lnTo>
                  <a:lnTo>
                    <a:pt x="739" y="102"/>
                  </a:lnTo>
                  <a:lnTo>
                    <a:pt x="747" y="108"/>
                  </a:lnTo>
                  <a:lnTo>
                    <a:pt x="756" y="115"/>
                  </a:lnTo>
                  <a:lnTo>
                    <a:pt x="764" y="122"/>
                  </a:lnTo>
                  <a:lnTo>
                    <a:pt x="770" y="130"/>
                  </a:lnTo>
                  <a:lnTo>
                    <a:pt x="778" y="136"/>
                  </a:lnTo>
                  <a:lnTo>
                    <a:pt x="785" y="144"/>
                  </a:lnTo>
                  <a:lnTo>
                    <a:pt x="792" y="153"/>
                  </a:lnTo>
                  <a:lnTo>
                    <a:pt x="797" y="161"/>
                  </a:lnTo>
                  <a:lnTo>
                    <a:pt x="793" y="145"/>
                  </a:lnTo>
                  <a:lnTo>
                    <a:pt x="788" y="130"/>
                  </a:lnTo>
                  <a:lnTo>
                    <a:pt x="784" y="115"/>
                  </a:lnTo>
                  <a:lnTo>
                    <a:pt x="778" y="99"/>
                  </a:lnTo>
                  <a:lnTo>
                    <a:pt x="773" y="85"/>
                  </a:lnTo>
                  <a:lnTo>
                    <a:pt x="767" y="69"/>
                  </a:lnTo>
                  <a:lnTo>
                    <a:pt x="761" y="55"/>
                  </a:lnTo>
                  <a:lnTo>
                    <a:pt x="755" y="39"/>
                  </a:lnTo>
                  <a:lnTo>
                    <a:pt x="763" y="44"/>
                  </a:lnTo>
                  <a:lnTo>
                    <a:pt x="771" y="49"/>
                  </a:lnTo>
                  <a:lnTo>
                    <a:pt x="779" y="56"/>
                  </a:lnTo>
                  <a:lnTo>
                    <a:pt x="787" y="64"/>
                  </a:lnTo>
                  <a:lnTo>
                    <a:pt x="794" y="72"/>
                  </a:lnTo>
                  <a:lnTo>
                    <a:pt x="802" y="80"/>
                  </a:lnTo>
                  <a:lnTo>
                    <a:pt x="808" y="89"/>
                  </a:lnTo>
                  <a:lnTo>
                    <a:pt x="814" y="98"/>
                  </a:lnTo>
                  <a:lnTo>
                    <a:pt x="812" y="82"/>
                  </a:lnTo>
                  <a:lnTo>
                    <a:pt x="808" y="65"/>
                  </a:lnTo>
                  <a:lnTo>
                    <a:pt x="804" y="49"/>
                  </a:lnTo>
                  <a:lnTo>
                    <a:pt x="797" y="34"/>
                  </a:lnTo>
                  <a:lnTo>
                    <a:pt x="798" y="25"/>
                  </a:lnTo>
                  <a:lnTo>
                    <a:pt x="797" y="17"/>
                  </a:lnTo>
                  <a:lnTo>
                    <a:pt x="794" y="8"/>
                  </a:lnTo>
                  <a:lnTo>
                    <a:pt x="793" y="0"/>
                  </a:lnTo>
                  <a:lnTo>
                    <a:pt x="798" y="6"/>
                  </a:lnTo>
                  <a:lnTo>
                    <a:pt x="803" y="13"/>
                  </a:lnTo>
                  <a:lnTo>
                    <a:pt x="807" y="20"/>
                  </a:lnTo>
                  <a:lnTo>
                    <a:pt x="813" y="26"/>
                  </a:lnTo>
                  <a:lnTo>
                    <a:pt x="816" y="37"/>
                  </a:lnTo>
                  <a:lnTo>
                    <a:pt x="822" y="47"/>
                  </a:lnTo>
                  <a:lnTo>
                    <a:pt x="827" y="58"/>
                  </a:lnTo>
                  <a:lnTo>
                    <a:pt x="833" y="68"/>
                  </a:lnTo>
                  <a:lnTo>
                    <a:pt x="839" y="78"/>
                  </a:lnTo>
                  <a:lnTo>
                    <a:pt x="845" y="88"/>
                  </a:lnTo>
                  <a:lnTo>
                    <a:pt x="851" y="98"/>
                  </a:lnTo>
                  <a:lnTo>
                    <a:pt x="856" y="108"/>
                  </a:lnTo>
                  <a:lnTo>
                    <a:pt x="861" y="119"/>
                  </a:lnTo>
                  <a:lnTo>
                    <a:pt x="864" y="129"/>
                  </a:lnTo>
                  <a:lnTo>
                    <a:pt x="869" y="138"/>
                  </a:lnTo>
                  <a:lnTo>
                    <a:pt x="873" y="146"/>
                  </a:lnTo>
                  <a:lnTo>
                    <a:pt x="878" y="157"/>
                  </a:lnTo>
                  <a:lnTo>
                    <a:pt x="883" y="165"/>
                  </a:lnTo>
                  <a:lnTo>
                    <a:pt x="888" y="174"/>
                  </a:lnTo>
                  <a:lnTo>
                    <a:pt x="892" y="184"/>
                  </a:lnTo>
                  <a:lnTo>
                    <a:pt x="894" y="158"/>
                  </a:lnTo>
                  <a:lnTo>
                    <a:pt x="893" y="130"/>
                  </a:lnTo>
                  <a:lnTo>
                    <a:pt x="889" y="104"/>
                  </a:lnTo>
                  <a:lnTo>
                    <a:pt x="882" y="79"/>
                  </a:lnTo>
                  <a:lnTo>
                    <a:pt x="893" y="95"/>
                  </a:lnTo>
                  <a:lnTo>
                    <a:pt x="901" y="112"/>
                  </a:lnTo>
                  <a:lnTo>
                    <a:pt x="907" y="131"/>
                  </a:lnTo>
                  <a:lnTo>
                    <a:pt x="913" y="149"/>
                  </a:lnTo>
                  <a:lnTo>
                    <a:pt x="916" y="121"/>
                  </a:lnTo>
                  <a:lnTo>
                    <a:pt x="915" y="94"/>
                  </a:lnTo>
                  <a:lnTo>
                    <a:pt x="910" y="67"/>
                  </a:lnTo>
                  <a:lnTo>
                    <a:pt x="903" y="42"/>
                  </a:lnTo>
                  <a:lnTo>
                    <a:pt x="915" y="53"/>
                  </a:lnTo>
                  <a:lnTo>
                    <a:pt x="922" y="64"/>
                  </a:lnTo>
                  <a:lnTo>
                    <a:pt x="928" y="76"/>
                  </a:lnTo>
                  <a:lnTo>
                    <a:pt x="932" y="88"/>
                  </a:lnTo>
                  <a:lnTo>
                    <a:pt x="936" y="102"/>
                  </a:lnTo>
                  <a:lnTo>
                    <a:pt x="939" y="116"/>
                  </a:lnTo>
                  <a:lnTo>
                    <a:pt x="943" y="129"/>
                  </a:lnTo>
                  <a:lnTo>
                    <a:pt x="947" y="142"/>
                  </a:lnTo>
                  <a:lnTo>
                    <a:pt x="948" y="153"/>
                  </a:lnTo>
                  <a:lnTo>
                    <a:pt x="948" y="165"/>
                  </a:lnTo>
                  <a:lnTo>
                    <a:pt x="947" y="177"/>
                  </a:lnTo>
                  <a:lnTo>
                    <a:pt x="947" y="188"/>
                  </a:lnTo>
                  <a:lnTo>
                    <a:pt x="948" y="189"/>
                  </a:lnTo>
                  <a:lnTo>
                    <a:pt x="950" y="189"/>
                  </a:lnTo>
                  <a:lnTo>
                    <a:pt x="953" y="189"/>
                  </a:lnTo>
                  <a:lnTo>
                    <a:pt x="954" y="188"/>
                  </a:lnTo>
                  <a:lnTo>
                    <a:pt x="959" y="177"/>
                  </a:lnTo>
                  <a:lnTo>
                    <a:pt x="966" y="167"/>
                  </a:lnTo>
                  <a:lnTo>
                    <a:pt x="972" y="157"/>
                  </a:lnTo>
                  <a:lnTo>
                    <a:pt x="978" y="145"/>
                  </a:lnTo>
                  <a:lnTo>
                    <a:pt x="981" y="146"/>
                  </a:lnTo>
                  <a:lnTo>
                    <a:pt x="983" y="145"/>
                  </a:lnTo>
                  <a:lnTo>
                    <a:pt x="984" y="142"/>
                  </a:lnTo>
                  <a:lnTo>
                    <a:pt x="986" y="140"/>
                  </a:lnTo>
                  <a:lnTo>
                    <a:pt x="989" y="130"/>
                  </a:lnTo>
                  <a:lnTo>
                    <a:pt x="993" y="119"/>
                  </a:lnTo>
                  <a:lnTo>
                    <a:pt x="995" y="108"/>
                  </a:lnTo>
                  <a:lnTo>
                    <a:pt x="995" y="96"/>
                  </a:lnTo>
                  <a:lnTo>
                    <a:pt x="1008" y="122"/>
                  </a:lnTo>
                  <a:lnTo>
                    <a:pt x="1014" y="150"/>
                  </a:lnTo>
                  <a:lnTo>
                    <a:pt x="1015" y="181"/>
                  </a:lnTo>
                  <a:lnTo>
                    <a:pt x="1016" y="211"/>
                  </a:lnTo>
                  <a:lnTo>
                    <a:pt x="1023" y="205"/>
                  </a:lnTo>
                  <a:lnTo>
                    <a:pt x="1030" y="198"/>
                  </a:lnTo>
                  <a:lnTo>
                    <a:pt x="1035" y="190"/>
                  </a:lnTo>
                  <a:lnTo>
                    <a:pt x="1041" y="181"/>
                  </a:lnTo>
                  <a:lnTo>
                    <a:pt x="1045" y="173"/>
                  </a:lnTo>
                  <a:lnTo>
                    <a:pt x="1050" y="164"/>
                  </a:lnTo>
                  <a:lnTo>
                    <a:pt x="1053" y="154"/>
                  </a:lnTo>
                  <a:lnTo>
                    <a:pt x="1055" y="145"/>
                  </a:lnTo>
                  <a:lnTo>
                    <a:pt x="1059" y="165"/>
                  </a:lnTo>
                  <a:lnTo>
                    <a:pt x="1060" y="187"/>
                  </a:lnTo>
                  <a:lnTo>
                    <a:pt x="1059" y="208"/>
                  </a:lnTo>
                  <a:lnTo>
                    <a:pt x="1057" y="228"/>
                  </a:lnTo>
                  <a:lnTo>
                    <a:pt x="1063" y="218"/>
                  </a:lnTo>
                  <a:lnTo>
                    <a:pt x="1069" y="207"/>
                  </a:lnTo>
                  <a:lnTo>
                    <a:pt x="1074" y="196"/>
                  </a:lnTo>
                  <a:lnTo>
                    <a:pt x="1080" y="183"/>
                  </a:lnTo>
                  <a:lnTo>
                    <a:pt x="1085" y="172"/>
                  </a:lnTo>
                  <a:lnTo>
                    <a:pt x="1089" y="160"/>
                  </a:lnTo>
                  <a:lnTo>
                    <a:pt x="1095" y="148"/>
                  </a:lnTo>
                  <a:lnTo>
                    <a:pt x="1100" y="136"/>
                  </a:lnTo>
                  <a:lnTo>
                    <a:pt x="1101" y="129"/>
                  </a:lnTo>
                  <a:lnTo>
                    <a:pt x="1104" y="120"/>
                  </a:lnTo>
                  <a:lnTo>
                    <a:pt x="1105" y="112"/>
                  </a:lnTo>
                  <a:lnTo>
                    <a:pt x="1106" y="103"/>
                  </a:lnTo>
                  <a:lnTo>
                    <a:pt x="1114" y="115"/>
                  </a:lnTo>
                  <a:lnTo>
                    <a:pt x="1116" y="131"/>
                  </a:lnTo>
                  <a:lnTo>
                    <a:pt x="1115" y="148"/>
                  </a:lnTo>
                  <a:lnTo>
                    <a:pt x="1114" y="164"/>
                  </a:lnTo>
                  <a:lnTo>
                    <a:pt x="1112" y="177"/>
                  </a:lnTo>
                  <a:lnTo>
                    <a:pt x="1114" y="189"/>
                  </a:lnTo>
                  <a:lnTo>
                    <a:pt x="1115" y="201"/>
                  </a:lnTo>
                  <a:lnTo>
                    <a:pt x="1111" y="214"/>
                  </a:lnTo>
                  <a:lnTo>
                    <a:pt x="1119" y="208"/>
                  </a:lnTo>
                  <a:lnTo>
                    <a:pt x="1128" y="201"/>
                  </a:lnTo>
                  <a:lnTo>
                    <a:pt x="1136" y="196"/>
                  </a:lnTo>
                  <a:lnTo>
                    <a:pt x="1145" y="189"/>
                  </a:lnTo>
                  <a:lnTo>
                    <a:pt x="1153" y="183"/>
                  </a:lnTo>
                  <a:lnTo>
                    <a:pt x="1162" y="178"/>
                  </a:lnTo>
                  <a:lnTo>
                    <a:pt x="1171" y="172"/>
                  </a:lnTo>
                  <a:lnTo>
                    <a:pt x="1180" y="167"/>
                  </a:lnTo>
                  <a:lnTo>
                    <a:pt x="1177" y="172"/>
                  </a:lnTo>
                  <a:lnTo>
                    <a:pt x="1172" y="177"/>
                  </a:lnTo>
                  <a:lnTo>
                    <a:pt x="1166" y="181"/>
                  </a:lnTo>
                  <a:lnTo>
                    <a:pt x="1164" y="187"/>
                  </a:lnTo>
                  <a:lnTo>
                    <a:pt x="1156" y="193"/>
                  </a:lnTo>
                  <a:lnTo>
                    <a:pt x="1150" y="201"/>
                  </a:lnTo>
                  <a:lnTo>
                    <a:pt x="1145" y="209"/>
                  </a:lnTo>
                  <a:lnTo>
                    <a:pt x="1137" y="216"/>
                  </a:lnTo>
                  <a:lnTo>
                    <a:pt x="1135" y="225"/>
                  </a:lnTo>
                  <a:lnTo>
                    <a:pt x="1129" y="231"/>
                  </a:lnTo>
                  <a:lnTo>
                    <a:pt x="1123" y="237"/>
                  </a:lnTo>
                  <a:lnTo>
                    <a:pt x="1118" y="245"/>
                  </a:lnTo>
                  <a:lnTo>
                    <a:pt x="1115" y="252"/>
                  </a:lnTo>
                  <a:lnTo>
                    <a:pt x="1110" y="257"/>
                  </a:lnTo>
                  <a:lnTo>
                    <a:pt x="1106" y="264"/>
                  </a:lnTo>
                  <a:lnTo>
                    <a:pt x="1101" y="271"/>
                  </a:lnTo>
                  <a:lnTo>
                    <a:pt x="1107" y="271"/>
                  </a:lnTo>
                  <a:lnTo>
                    <a:pt x="1111" y="268"/>
                  </a:lnTo>
                  <a:lnTo>
                    <a:pt x="1117" y="267"/>
                  </a:lnTo>
                  <a:lnTo>
                    <a:pt x="1123" y="265"/>
                  </a:lnTo>
                  <a:lnTo>
                    <a:pt x="1127" y="263"/>
                  </a:lnTo>
                  <a:lnTo>
                    <a:pt x="1133" y="260"/>
                  </a:lnTo>
                  <a:lnTo>
                    <a:pt x="1137" y="258"/>
                  </a:lnTo>
                  <a:lnTo>
                    <a:pt x="1143" y="257"/>
                  </a:lnTo>
                  <a:lnTo>
                    <a:pt x="1154" y="256"/>
                  </a:lnTo>
                  <a:lnTo>
                    <a:pt x="1171" y="253"/>
                  </a:lnTo>
                  <a:lnTo>
                    <a:pt x="1190" y="249"/>
                  </a:lnTo>
                  <a:lnTo>
                    <a:pt x="1207" y="247"/>
                  </a:lnTo>
                  <a:lnTo>
                    <a:pt x="1220" y="246"/>
                  </a:lnTo>
                  <a:lnTo>
                    <a:pt x="1223" y="247"/>
                  </a:lnTo>
                  <a:lnTo>
                    <a:pt x="1213" y="253"/>
                  </a:lnTo>
                  <a:lnTo>
                    <a:pt x="1186" y="264"/>
                  </a:lnTo>
                  <a:lnTo>
                    <a:pt x="1176" y="267"/>
                  </a:lnTo>
                  <a:lnTo>
                    <a:pt x="1166" y="273"/>
                  </a:lnTo>
                  <a:lnTo>
                    <a:pt x="1157" y="277"/>
                  </a:lnTo>
                  <a:lnTo>
                    <a:pt x="1147" y="284"/>
                  </a:lnTo>
                  <a:lnTo>
                    <a:pt x="1138" y="290"/>
                  </a:lnTo>
                  <a:lnTo>
                    <a:pt x="1129" y="296"/>
                  </a:lnTo>
                  <a:lnTo>
                    <a:pt x="1120" y="302"/>
                  </a:lnTo>
                  <a:lnTo>
                    <a:pt x="1111" y="307"/>
                  </a:lnTo>
                  <a:lnTo>
                    <a:pt x="1126" y="306"/>
                  </a:lnTo>
                  <a:lnTo>
                    <a:pt x="1142" y="305"/>
                  </a:lnTo>
                  <a:lnTo>
                    <a:pt x="1157" y="304"/>
                  </a:lnTo>
                  <a:lnTo>
                    <a:pt x="1173" y="303"/>
                  </a:lnTo>
                  <a:lnTo>
                    <a:pt x="1187" y="303"/>
                  </a:lnTo>
                  <a:lnTo>
                    <a:pt x="1203" y="302"/>
                  </a:lnTo>
                  <a:lnTo>
                    <a:pt x="1219" y="301"/>
                  </a:lnTo>
                  <a:lnTo>
                    <a:pt x="1233" y="300"/>
                  </a:lnTo>
                  <a:lnTo>
                    <a:pt x="1225" y="303"/>
                  </a:lnTo>
                  <a:lnTo>
                    <a:pt x="1219" y="305"/>
                  </a:lnTo>
                  <a:lnTo>
                    <a:pt x="1211" y="307"/>
                  </a:lnTo>
                  <a:lnTo>
                    <a:pt x="1203" y="311"/>
                  </a:lnTo>
                  <a:lnTo>
                    <a:pt x="1195" y="313"/>
                  </a:lnTo>
                  <a:lnTo>
                    <a:pt x="1188" y="315"/>
                  </a:lnTo>
                  <a:lnTo>
                    <a:pt x="1181" y="319"/>
                  </a:lnTo>
                  <a:lnTo>
                    <a:pt x="1174" y="322"/>
                  </a:lnTo>
                  <a:lnTo>
                    <a:pt x="1164" y="324"/>
                  </a:lnTo>
                  <a:lnTo>
                    <a:pt x="1154" y="326"/>
                  </a:lnTo>
                  <a:lnTo>
                    <a:pt x="1143" y="329"/>
                  </a:lnTo>
                  <a:lnTo>
                    <a:pt x="1133" y="331"/>
                  </a:lnTo>
                  <a:lnTo>
                    <a:pt x="1123" y="333"/>
                  </a:lnTo>
                  <a:lnTo>
                    <a:pt x="1112" y="335"/>
                  </a:lnTo>
                  <a:lnTo>
                    <a:pt x="1102" y="338"/>
                  </a:lnTo>
                  <a:lnTo>
                    <a:pt x="1093" y="341"/>
                  </a:lnTo>
                  <a:lnTo>
                    <a:pt x="1104" y="370"/>
                  </a:lnTo>
                  <a:lnTo>
                    <a:pt x="1110" y="400"/>
                  </a:lnTo>
                  <a:lnTo>
                    <a:pt x="1116" y="432"/>
                  </a:lnTo>
                  <a:lnTo>
                    <a:pt x="1120" y="462"/>
                  </a:lnTo>
                  <a:lnTo>
                    <a:pt x="1121" y="467"/>
                  </a:lnTo>
                  <a:lnTo>
                    <a:pt x="1120" y="472"/>
                  </a:lnTo>
                  <a:lnTo>
                    <a:pt x="1119" y="476"/>
                  </a:lnTo>
                  <a:lnTo>
                    <a:pt x="1117" y="481"/>
                  </a:lnTo>
                  <a:lnTo>
                    <a:pt x="1116" y="503"/>
                  </a:lnTo>
                  <a:lnTo>
                    <a:pt x="1115" y="525"/>
                  </a:lnTo>
                  <a:lnTo>
                    <a:pt x="1110" y="548"/>
                  </a:lnTo>
                  <a:lnTo>
                    <a:pt x="1101" y="567"/>
                  </a:lnTo>
                  <a:lnTo>
                    <a:pt x="1106" y="587"/>
                  </a:lnTo>
                  <a:lnTo>
                    <a:pt x="1112" y="607"/>
                  </a:lnTo>
                  <a:lnTo>
                    <a:pt x="1119" y="626"/>
                  </a:lnTo>
                  <a:lnTo>
                    <a:pt x="1124" y="647"/>
                  </a:lnTo>
                  <a:lnTo>
                    <a:pt x="1134" y="672"/>
                  </a:lnTo>
                  <a:lnTo>
                    <a:pt x="1138" y="700"/>
                  </a:lnTo>
                  <a:lnTo>
                    <a:pt x="1139" y="728"/>
                  </a:lnTo>
                  <a:lnTo>
                    <a:pt x="1139" y="757"/>
                  </a:lnTo>
                  <a:lnTo>
                    <a:pt x="1135" y="781"/>
                  </a:lnTo>
                  <a:lnTo>
                    <a:pt x="1130" y="805"/>
                  </a:lnTo>
                  <a:lnTo>
                    <a:pt x="1124" y="828"/>
                  </a:lnTo>
                  <a:lnTo>
                    <a:pt x="1114" y="851"/>
                  </a:lnTo>
                  <a:lnTo>
                    <a:pt x="1110" y="866"/>
                  </a:lnTo>
                  <a:lnTo>
                    <a:pt x="1107" y="882"/>
                  </a:lnTo>
                  <a:lnTo>
                    <a:pt x="1105" y="899"/>
                  </a:lnTo>
                  <a:lnTo>
                    <a:pt x="1105" y="916"/>
                  </a:lnTo>
                  <a:lnTo>
                    <a:pt x="1119" y="918"/>
                  </a:lnTo>
                  <a:lnTo>
                    <a:pt x="1133" y="920"/>
                  </a:lnTo>
                  <a:lnTo>
                    <a:pt x="1146" y="925"/>
                  </a:lnTo>
                  <a:lnTo>
                    <a:pt x="1159" y="930"/>
                  </a:lnTo>
                  <a:lnTo>
                    <a:pt x="1172" y="937"/>
                  </a:lnTo>
                  <a:lnTo>
                    <a:pt x="1183" y="946"/>
                  </a:lnTo>
                  <a:lnTo>
                    <a:pt x="1193" y="956"/>
                  </a:lnTo>
                  <a:lnTo>
                    <a:pt x="1202" y="968"/>
                  </a:lnTo>
                  <a:lnTo>
                    <a:pt x="1210" y="983"/>
                  </a:lnTo>
                  <a:lnTo>
                    <a:pt x="1213" y="999"/>
                  </a:lnTo>
                  <a:lnTo>
                    <a:pt x="1213" y="1016"/>
                  </a:lnTo>
                  <a:lnTo>
                    <a:pt x="1207" y="1033"/>
                  </a:lnTo>
                  <a:lnTo>
                    <a:pt x="1200" y="1046"/>
                  </a:lnTo>
                  <a:lnTo>
                    <a:pt x="1191" y="1058"/>
                  </a:lnTo>
                  <a:lnTo>
                    <a:pt x="1178" y="1065"/>
                  </a:lnTo>
                  <a:lnTo>
                    <a:pt x="1166" y="1071"/>
                  </a:lnTo>
                  <a:lnTo>
                    <a:pt x="1153" y="1077"/>
                  </a:lnTo>
                  <a:lnTo>
                    <a:pt x="1138" y="1080"/>
                  </a:lnTo>
                  <a:lnTo>
                    <a:pt x="1124" y="1083"/>
                  </a:lnTo>
                  <a:lnTo>
                    <a:pt x="1110" y="1087"/>
                  </a:lnTo>
                  <a:lnTo>
                    <a:pt x="1108" y="1109"/>
                  </a:lnTo>
                  <a:lnTo>
                    <a:pt x="1107" y="1131"/>
                  </a:lnTo>
                  <a:lnTo>
                    <a:pt x="1104" y="1153"/>
                  </a:lnTo>
                  <a:lnTo>
                    <a:pt x="1097" y="1174"/>
                  </a:lnTo>
                  <a:lnTo>
                    <a:pt x="1098" y="1202"/>
                  </a:lnTo>
                  <a:lnTo>
                    <a:pt x="1099" y="1229"/>
                  </a:lnTo>
                  <a:lnTo>
                    <a:pt x="1102" y="1255"/>
                  </a:lnTo>
                  <a:lnTo>
                    <a:pt x="1110" y="1281"/>
                  </a:lnTo>
                  <a:lnTo>
                    <a:pt x="1114" y="1293"/>
                  </a:lnTo>
                  <a:lnTo>
                    <a:pt x="1118" y="1305"/>
                  </a:lnTo>
                  <a:lnTo>
                    <a:pt x="1124" y="1315"/>
                  </a:lnTo>
                  <a:lnTo>
                    <a:pt x="1131" y="1324"/>
                  </a:lnTo>
                  <a:lnTo>
                    <a:pt x="1131" y="1326"/>
                  </a:lnTo>
                  <a:lnTo>
                    <a:pt x="1134" y="1327"/>
                  </a:lnTo>
                  <a:lnTo>
                    <a:pt x="1135" y="1329"/>
                  </a:lnTo>
                  <a:lnTo>
                    <a:pt x="1136" y="1332"/>
                  </a:lnTo>
                  <a:lnTo>
                    <a:pt x="1149" y="1363"/>
                  </a:lnTo>
                  <a:lnTo>
                    <a:pt x="1153" y="1397"/>
                  </a:lnTo>
                  <a:lnTo>
                    <a:pt x="1149" y="1432"/>
                  </a:lnTo>
                  <a:lnTo>
                    <a:pt x="1140" y="1466"/>
                  </a:lnTo>
                  <a:lnTo>
                    <a:pt x="1140" y="1471"/>
                  </a:lnTo>
                  <a:lnTo>
                    <a:pt x="1138" y="1477"/>
                  </a:lnTo>
                  <a:lnTo>
                    <a:pt x="1135" y="1481"/>
                  </a:lnTo>
                  <a:lnTo>
                    <a:pt x="1133" y="1487"/>
                  </a:lnTo>
                  <a:lnTo>
                    <a:pt x="1134" y="1505"/>
                  </a:lnTo>
                  <a:lnTo>
                    <a:pt x="1137" y="1522"/>
                  </a:lnTo>
                  <a:lnTo>
                    <a:pt x="1144" y="1536"/>
                  </a:lnTo>
                  <a:lnTo>
                    <a:pt x="1155" y="1550"/>
                  </a:lnTo>
                  <a:lnTo>
                    <a:pt x="1162" y="1586"/>
                  </a:lnTo>
                  <a:lnTo>
                    <a:pt x="1164" y="1624"/>
                  </a:lnTo>
                  <a:lnTo>
                    <a:pt x="1161" y="1664"/>
                  </a:lnTo>
                  <a:lnTo>
                    <a:pt x="1152" y="1698"/>
                  </a:lnTo>
                  <a:lnTo>
                    <a:pt x="1145" y="1714"/>
                  </a:lnTo>
                  <a:lnTo>
                    <a:pt x="1139" y="1731"/>
                  </a:lnTo>
                  <a:lnTo>
                    <a:pt x="1134" y="1749"/>
                  </a:lnTo>
                  <a:lnTo>
                    <a:pt x="1128" y="1765"/>
                  </a:lnTo>
                  <a:lnTo>
                    <a:pt x="1120" y="1781"/>
                  </a:lnTo>
                  <a:lnTo>
                    <a:pt x="1111" y="1795"/>
                  </a:lnTo>
                  <a:lnTo>
                    <a:pt x="1100" y="1809"/>
                  </a:lnTo>
                  <a:lnTo>
                    <a:pt x="1085" y="1819"/>
                  </a:lnTo>
                  <a:lnTo>
                    <a:pt x="1077" y="1826"/>
                  </a:lnTo>
                  <a:lnTo>
                    <a:pt x="1068" y="1830"/>
                  </a:lnTo>
                  <a:lnTo>
                    <a:pt x="1059" y="1835"/>
                  </a:lnTo>
                  <a:lnTo>
                    <a:pt x="1049" y="1837"/>
                  </a:lnTo>
                  <a:lnTo>
                    <a:pt x="1039" y="1839"/>
                  </a:lnTo>
                  <a:lnTo>
                    <a:pt x="1029" y="1841"/>
                  </a:lnTo>
                  <a:lnTo>
                    <a:pt x="1019" y="1844"/>
                  </a:lnTo>
                  <a:lnTo>
                    <a:pt x="1008" y="1846"/>
                  </a:lnTo>
                  <a:lnTo>
                    <a:pt x="1006" y="1858"/>
                  </a:lnTo>
                  <a:lnTo>
                    <a:pt x="1003" y="1869"/>
                  </a:lnTo>
                  <a:lnTo>
                    <a:pt x="998" y="1882"/>
                  </a:lnTo>
                  <a:lnTo>
                    <a:pt x="993" y="1893"/>
                  </a:lnTo>
                  <a:lnTo>
                    <a:pt x="986" y="1903"/>
                  </a:lnTo>
                  <a:lnTo>
                    <a:pt x="978" y="1913"/>
                  </a:lnTo>
                  <a:lnTo>
                    <a:pt x="968" y="1921"/>
                  </a:lnTo>
                  <a:lnTo>
                    <a:pt x="956" y="1926"/>
                  </a:lnTo>
                  <a:lnTo>
                    <a:pt x="941" y="1934"/>
                  </a:lnTo>
                  <a:lnTo>
                    <a:pt x="926" y="1939"/>
                  </a:lnTo>
                  <a:lnTo>
                    <a:pt x="909" y="1942"/>
                  </a:lnTo>
                  <a:lnTo>
                    <a:pt x="892" y="1945"/>
                  </a:lnTo>
                  <a:lnTo>
                    <a:pt x="875" y="1949"/>
                  </a:lnTo>
                  <a:lnTo>
                    <a:pt x="860" y="1953"/>
                  </a:lnTo>
                  <a:lnTo>
                    <a:pt x="844" y="1961"/>
                  </a:lnTo>
                  <a:lnTo>
                    <a:pt x="831" y="1972"/>
                  </a:lnTo>
                  <a:lnTo>
                    <a:pt x="812" y="1988"/>
                  </a:lnTo>
                  <a:lnTo>
                    <a:pt x="792" y="2001"/>
                  </a:lnTo>
                  <a:lnTo>
                    <a:pt x="770" y="2012"/>
                  </a:lnTo>
                  <a:lnTo>
                    <a:pt x="748" y="2022"/>
                  </a:lnTo>
                  <a:lnTo>
                    <a:pt x="726" y="2031"/>
                  </a:lnTo>
                  <a:lnTo>
                    <a:pt x="703" y="2040"/>
                  </a:lnTo>
                  <a:lnTo>
                    <a:pt x="681" y="2049"/>
                  </a:lnTo>
                  <a:lnTo>
                    <a:pt x="660" y="2059"/>
                  </a:lnTo>
                  <a:lnTo>
                    <a:pt x="654" y="2092"/>
                  </a:lnTo>
                  <a:lnTo>
                    <a:pt x="649" y="2131"/>
                  </a:lnTo>
                  <a:lnTo>
                    <a:pt x="644" y="2164"/>
                  </a:lnTo>
                  <a:lnTo>
                    <a:pt x="641" y="2180"/>
                  </a:lnTo>
                  <a:lnTo>
                    <a:pt x="636" y="2181"/>
                  </a:lnTo>
                  <a:lnTo>
                    <a:pt x="628" y="2185"/>
                  </a:lnTo>
                  <a:lnTo>
                    <a:pt x="616" y="2189"/>
                  </a:lnTo>
                  <a:lnTo>
                    <a:pt x="603" y="2193"/>
                  </a:lnTo>
                  <a:lnTo>
                    <a:pt x="588" y="2199"/>
                  </a:lnTo>
                  <a:lnTo>
                    <a:pt x="575" y="2204"/>
                  </a:lnTo>
                  <a:lnTo>
                    <a:pt x="564" y="2207"/>
                  </a:lnTo>
                  <a:lnTo>
                    <a:pt x="556" y="2208"/>
                  </a:lnTo>
                  <a:lnTo>
                    <a:pt x="561" y="2199"/>
                  </a:lnTo>
                  <a:lnTo>
                    <a:pt x="569" y="2190"/>
                  </a:lnTo>
                  <a:lnTo>
                    <a:pt x="578" y="2180"/>
                  </a:lnTo>
                  <a:lnTo>
                    <a:pt x="588" y="2170"/>
                  </a:lnTo>
                  <a:lnTo>
                    <a:pt x="596" y="2160"/>
                  </a:lnTo>
                  <a:lnTo>
                    <a:pt x="603" y="2151"/>
                  </a:lnTo>
                  <a:lnTo>
                    <a:pt x="607" y="2144"/>
                  </a:lnTo>
                  <a:lnTo>
                    <a:pt x="607" y="2139"/>
                  </a:lnTo>
                  <a:lnTo>
                    <a:pt x="603" y="2114"/>
                  </a:lnTo>
                  <a:lnTo>
                    <a:pt x="596" y="2081"/>
                  </a:lnTo>
                  <a:lnTo>
                    <a:pt x="590" y="2049"/>
                  </a:lnTo>
                  <a:lnTo>
                    <a:pt x="588" y="2032"/>
                  </a:lnTo>
                  <a:lnTo>
                    <a:pt x="594" y="2015"/>
                  </a:lnTo>
                  <a:lnTo>
                    <a:pt x="599" y="1996"/>
                  </a:lnTo>
                  <a:lnTo>
                    <a:pt x="606" y="1977"/>
                  </a:lnTo>
                  <a:lnTo>
                    <a:pt x="613" y="1958"/>
                  </a:lnTo>
                  <a:lnTo>
                    <a:pt x="619" y="1939"/>
                  </a:lnTo>
                  <a:lnTo>
                    <a:pt x="626" y="1920"/>
                  </a:lnTo>
                  <a:lnTo>
                    <a:pt x="632" y="1902"/>
                  </a:lnTo>
                  <a:lnTo>
                    <a:pt x="637" y="1884"/>
                  </a:lnTo>
                  <a:lnTo>
                    <a:pt x="617" y="1888"/>
                  </a:lnTo>
                  <a:lnTo>
                    <a:pt x="597" y="1892"/>
                  </a:lnTo>
                  <a:lnTo>
                    <a:pt x="576" y="1895"/>
                  </a:lnTo>
                  <a:lnTo>
                    <a:pt x="556" y="1898"/>
                  </a:lnTo>
                  <a:lnTo>
                    <a:pt x="534" y="1902"/>
                  </a:lnTo>
                  <a:lnTo>
                    <a:pt x="514" y="1904"/>
                  </a:lnTo>
                  <a:lnTo>
                    <a:pt x="493" y="1907"/>
                  </a:lnTo>
                  <a:lnTo>
                    <a:pt x="473" y="1911"/>
                  </a:lnTo>
                  <a:lnTo>
                    <a:pt x="467" y="1923"/>
                  </a:lnTo>
                  <a:lnTo>
                    <a:pt x="462" y="1935"/>
                  </a:lnTo>
                  <a:lnTo>
                    <a:pt x="457" y="1948"/>
                  </a:lnTo>
                  <a:lnTo>
                    <a:pt x="454" y="1961"/>
                  </a:lnTo>
                  <a:lnTo>
                    <a:pt x="451" y="1974"/>
                  </a:lnTo>
                  <a:lnTo>
                    <a:pt x="447" y="1987"/>
                  </a:lnTo>
                  <a:lnTo>
                    <a:pt x="444" y="2000"/>
                  </a:lnTo>
                  <a:lnTo>
                    <a:pt x="439" y="2013"/>
                  </a:lnTo>
                  <a:lnTo>
                    <a:pt x="429" y="2012"/>
                  </a:lnTo>
                  <a:lnTo>
                    <a:pt x="417" y="2013"/>
                  </a:lnTo>
                  <a:lnTo>
                    <a:pt x="404" y="2016"/>
                  </a:lnTo>
                  <a:lnTo>
                    <a:pt x="389" y="2019"/>
                  </a:lnTo>
                  <a:lnTo>
                    <a:pt x="375" y="2022"/>
                  </a:lnTo>
                  <a:lnTo>
                    <a:pt x="363" y="2026"/>
                  </a:lnTo>
                  <a:lnTo>
                    <a:pt x="353" y="2028"/>
                  </a:lnTo>
                  <a:lnTo>
                    <a:pt x="348" y="2029"/>
                  </a:lnTo>
                  <a:lnTo>
                    <a:pt x="349" y="2026"/>
                  </a:lnTo>
                  <a:lnTo>
                    <a:pt x="353" y="2020"/>
                  </a:lnTo>
                  <a:lnTo>
                    <a:pt x="360" y="2011"/>
                  </a:lnTo>
                  <a:lnTo>
                    <a:pt x="369" y="2000"/>
                  </a:lnTo>
                  <a:lnTo>
                    <a:pt x="378" y="1989"/>
                  </a:lnTo>
                  <a:lnTo>
                    <a:pt x="387" y="1978"/>
                  </a:lnTo>
                  <a:lnTo>
                    <a:pt x="395" y="1967"/>
                  </a:lnTo>
                  <a:lnTo>
                    <a:pt x="401" y="1958"/>
                  </a:lnTo>
                  <a:lnTo>
                    <a:pt x="400" y="1937"/>
                  </a:lnTo>
                  <a:lnTo>
                    <a:pt x="399" y="1918"/>
                  </a:lnTo>
                  <a:lnTo>
                    <a:pt x="399" y="1901"/>
                  </a:lnTo>
                  <a:lnTo>
                    <a:pt x="401" y="1880"/>
                  </a:lnTo>
                  <a:lnTo>
                    <a:pt x="407" y="1875"/>
                  </a:lnTo>
                  <a:lnTo>
                    <a:pt x="413" y="1868"/>
                  </a:lnTo>
                  <a:lnTo>
                    <a:pt x="418" y="1861"/>
                  </a:lnTo>
                  <a:lnTo>
                    <a:pt x="424" y="1855"/>
                  </a:lnTo>
                  <a:lnTo>
                    <a:pt x="429" y="1848"/>
                  </a:lnTo>
                  <a:lnTo>
                    <a:pt x="435" y="1841"/>
                  </a:lnTo>
                  <a:lnTo>
                    <a:pt x="442" y="1835"/>
                  </a:lnTo>
                  <a:lnTo>
                    <a:pt x="448" y="1829"/>
                  </a:lnTo>
                  <a:lnTo>
                    <a:pt x="437" y="1818"/>
                  </a:lnTo>
                  <a:lnTo>
                    <a:pt x="428" y="1806"/>
                  </a:lnTo>
                  <a:lnTo>
                    <a:pt x="423" y="1792"/>
                  </a:lnTo>
                  <a:lnTo>
                    <a:pt x="419" y="1778"/>
                  </a:lnTo>
                  <a:lnTo>
                    <a:pt x="417" y="1763"/>
                  </a:lnTo>
                  <a:lnTo>
                    <a:pt x="417" y="1747"/>
                  </a:lnTo>
                  <a:lnTo>
                    <a:pt x="417" y="1732"/>
                  </a:lnTo>
                  <a:lnTo>
                    <a:pt x="419" y="1716"/>
                  </a:lnTo>
                  <a:lnTo>
                    <a:pt x="408" y="1718"/>
                  </a:lnTo>
                  <a:lnTo>
                    <a:pt x="397" y="1722"/>
                  </a:lnTo>
                  <a:lnTo>
                    <a:pt x="387" y="1724"/>
                  </a:lnTo>
                  <a:lnTo>
                    <a:pt x="376" y="1726"/>
                  </a:lnTo>
                  <a:lnTo>
                    <a:pt x="365" y="1728"/>
                  </a:lnTo>
                  <a:lnTo>
                    <a:pt x="353" y="1731"/>
                  </a:lnTo>
                  <a:lnTo>
                    <a:pt x="342" y="1733"/>
                  </a:lnTo>
                  <a:lnTo>
                    <a:pt x="331" y="1735"/>
                  </a:lnTo>
                  <a:lnTo>
                    <a:pt x="324" y="1745"/>
                  </a:lnTo>
                  <a:lnTo>
                    <a:pt x="316" y="1753"/>
                  </a:lnTo>
                  <a:lnTo>
                    <a:pt x="310" y="1759"/>
                  </a:lnTo>
                  <a:lnTo>
                    <a:pt x="303" y="1763"/>
                  </a:lnTo>
                  <a:lnTo>
                    <a:pt x="297" y="1766"/>
                  </a:lnTo>
                  <a:lnTo>
                    <a:pt x="292" y="1770"/>
                  </a:lnTo>
                  <a:lnTo>
                    <a:pt x="287" y="1772"/>
                  </a:lnTo>
                  <a:lnTo>
                    <a:pt x="284" y="1774"/>
                  </a:lnTo>
                  <a:lnTo>
                    <a:pt x="280" y="1784"/>
                  </a:lnTo>
                  <a:lnTo>
                    <a:pt x="274" y="1794"/>
                  </a:lnTo>
                  <a:lnTo>
                    <a:pt x="268" y="1806"/>
                  </a:lnTo>
                  <a:lnTo>
                    <a:pt x="262" y="1814"/>
                  </a:lnTo>
                  <a:lnTo>
                    <a:pt x="254" y="1823"/>
                  </a:lnTo>
                  <a:lnTo>
                    <a:pt x="245" y="1830"/>
                  </a:lnTo>
                  <a:lnTo>
                    <a:pt x="235" y="1836"/>
                  </a:lnTo>
                  <a:lnTo>
                    <a:pt x="224" y="1839"/>
                  </a:lnTo>
                  <a:lnTo>
                    <a:pt x="220" y="1838"/>
                  </a:lnTo>
                  <a:lnTo>
                    <a:pt x="218" y="1836"/>
                  </a:lnTo>
                  <a:lnTo>
                    <a:pt x="217" y="1831"/>
                  </a:lnTo>
                  <a:lnTo>
                    <a:pt x="217" y="1828"/>
                  </a:lnTo>
                  <a:lnTo>
                    <a:pt x="218" y="1825"/>
                  </a:lnTo>
                  <a:lnTo>
                    <a:pt x="219" y="1821"/>
                  </a:lnTo>
                  <a:lnTo>
                    <a:pt x="219" y="1818"/>
                  </a:lnTo>
                  <a:lnTo>
                    <a:pt x="220" y="1813"/>
                  </a:lnTo>
                  <a:lnTo>
                    <a:pt x="215" y="1817"/>
                  </a:lnTo>
                  <a:lnTo>
                    <a:pt x="208" y="1820"/>
                  </a:lnTo>
                  <a:lnTo>
                    <a:pt x="202" y="1825"/>
                  </a:lnTo>
                  <a:lnTo>
                    <a:pt x="197" y="1828"/>
                  </a:lnTo>
                  <a:lnTo>
                    <a:pt x="191" y="1830"/>
                  </a:lnTo>
                  <a:lnTo>
                    <a:pt x="185" y="1832"/>
                  </a:lnTo>
                  <a:lnTo>
                    <a:pt x="179" y="1833"/>
                  </a:lnTo>
                  <a:lnTo>
                    <a:pt x="172" y="1833"/>
                  </a:lnTo>
                  <a:lnTo>
                    <a:pt x="173" y="1820"/>
                  </a:lnTo>
                  <a:lnTo>
                    <a:pt x="178" y="1809"/>
                  </a:lnTo>
                  <a:lnTo>
                    <a:pt x="185" y="1799"/>
                  </a:lnTo>
                  <a:lnTo>
                    <a:pt x="190" y="1788"/>
                  </a:lnTo>
                  <a:lnTo>
                    <a:pt x="186" y="1789"/>
                  </a:lnTo>
                  <a:lnTo>
                    <a:pt x="181" y="1791"/>
                  </a:lnTo>
                  <a:lnTo>
                    <a:pt x="177" y="1793"/>
                  </a:lnTo>
                  <a:lnTo>
                    <a:pt x="171" y="1795"/>
                  </a:lnTo>
                  <a:lnTo>
                    <a:pt x="167" y="1798"/>
                  </a:lnTo>
                  <a:lnTo>
                    <a:pt x="161" y="1799"/>
                  </a:lnTo>
                  <a:lnTo>
                    <a:pt x="157" y="1800"/>
                  </a:lnTo>
                  <a:lnTo>
                    <a:pt x="151" y="1799"/>
                  </a:lnTo>
                  <a:lnTo>
                    <a:pt x="151" y="1793"/>
                  </a:lnTo>
                  <a:lnTo>
                    <a:pt x="153" y="1789"/>
                  </a:lnTo>
                  <a:lnTo>
                    <a:pt x="157" y="1784"/>
                  </a:lnTo>
                  <a:lnTo>
                    <a:pt x="160" y="1781"/>
                  </a:lnTo>
                  <a:lnTo>
                    <a:pt x="172" y="1771"/>
                  </a:lnTo>
                  <a:lnTo>
                    <a:pt x="183" y="1759"/>
                  </a:lnTo>
                  <a:lnTo>
                    <a:pt x="192" y="1746"/>
                  </a:lnTo>
                  <a:lnTo>
                    <a:pt x="201" y="1733"/>
                  </a:lnTo>
                  <a:lnTo>
                    <a:pt x="211" y="1721"/>
                  </a:lnTo>
                  <a:lnTo>
                    <a:pt x="220" y="1709"/>
                  </a:lnTo>
                  <a:lnTo>
                    <a:pt x="233" y="1698"/>
                  </a:lnTo>
                  <a:lnTo>
                    <a:pt x="246" y="1689"/>
                  </a:lnTo>
                  <a:lnTo>
                    <a:pt x="253" y="1688"/>
                  </a:lnTo>
                  <a:lnTo>
                    <a:pt x="259" y="1687"/>
                  </a:lnTo>
                  <a:lnTo>
                    <a:pt x="266" y="1686"/>
                  </a:lnTo>
                  <a:lnTo>
                    <a:pt x="273" y="1686"/>
                  </a:lnTo>
                  <a:lnTo>
                    <a:pt x="278" y="1685"/>
                  </a:lnTo>
                  <a:lnTo>
                    <a:pt x="285" y="1685"/>
                  </a:lnTo>
                  <a:lnTo>
                    <a:pt x="292" y="1685"/>
                  </a:lnTo>
                  <a:lnTo>
                    <a:pt x="299" y="1684"/>
                  </a:lnTo>
                  <a:lnTo>
                    <a:pt x="309" y="1678"/>
                  </a:lnTo>
                  <a:lnTo>
                    <a:pt x="320" y="1674"/>
                  </a:lnTo>
                  <a:lnTo>
                    <a:pt x="330" y="1669"/>
                  </a:lnTo>
                  <a:lnTo>
                    <a:pt x="341" y="1664"/>
                  </a:lnTo>
                  <a:lnTo>
                    <a:pt x="352" y="1659"/>
                  </a:lnTo>
                  <a:lnTo>
                    <a:pt x="363" y="1655"/>
                  </a:lnTo>
                  <a:lnTo>
                    <a:pt x="375" y="1650"/>
                  </a:lnTo>
                  <a:lnTo>
                    <a:pt x="386" y="1645"/>
                  </a:lnTo>
                  <a:lnTo>
                    <a:pt x="378" y="1632"/>
                  </a:lnTo>
                  <a:lnTo>
                    <a:pt x="372" y="1620"/>
                  </a:lnTo>
                  <a:lnTo>
                    <a:pt x="368" y="1605"/>
                  </a:lnTo>
                  <a:lnTo>
                    <a:pt x="362" y="1592"/>
                  </a:lnTo>
                  <a:lnTo>
                    <a:pt x="356" y="1593"/>
                  </a:lnTo>
                  <a:lnTo>
                    <a:pt x="350" y="1595"/>
                  </a:lnTo>
                  <a:lnTo>
                    <a:pt x="343" y="1598"/>
                  </a:lnTo>
                  <a:lnTo>
                    <a:pt x="337" y="1599"/>
                  </a:lnTo>
                  <a:lnTo>
                    <a:pt x="330" y="1600"/>
                  </a:lnTo>
                  <a:lnTo>
                    <a:pt x="324" y="1601"/>
                  </a:lnTo>
                  <a:lnTo>
                    <a:pt x="318" y="1600"/>
                  </a:lnTo>
                  <a:lnTo>
                    <a:pt x="312" y="1598"/>
                  </a:lnTo>
                  <a:lnTo>
                    <a:pt x="308" y="1593"/>
                  </a:lnTo>
                  <a:lnTo>
                    <a:pt x="303" y="1589"/>
                  </a:lnTo>
                  <a:lnTo>
                    <a:pt x="300" y="1584"/>
                  </a:lnTo>
                  <a:lnTo>
                    <a:pt x="296" y="1580"/>
                  </a:lnTo>
                  <a:lnTo>
                    <a:pt x="282" y="1583"/>
                  </a:lnTo>
                  <a:lnTo>
                    <a:pt x="267" y="1586"/>
                  </a:lnTo>
                  <a:lnTo>
                    <a:pt x="253" y="1592"/>
                  </a:lnTo>
                  <a:lnTo>
                    <a:pt x="238" y="1596"/>
                  </a:lnTo>
                  <a:lnTo>
                    <a:pt x="224" y="1601"/>
                  </a:lnTo>
                  <a:lnTo>
                    <a:pt x="210" y="1607"/>
                  </a:lnTo>
                  <a:lnTo>
                    <a:pt x="196" y="1610"/>
                  </a:lnTo>
                  <a:lnTo>
                    <a:pt x="181" y="1613"/>
                  </a:lnTo>
                  <a:lnTo>
                    <a:pt x="179" y="1617"/>
                  </a:lnTo>
                  <a:lnTo>
                    <a:pt x="173" y="1627"/>
                  </a:lnTo>
                  <a:lnTo>
                    <a:pt x="164" y="1639"/>
                  </a:lnTo>
                  <a:lnTo>
                    <a:pt x="152" y="16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89800" y="3036960"/>
              <a:ext cx="266760" cy="223920"/>
            </a:xfrm>
            <a:custGeom>
              <a:avLst/>
              <a:gdLst/>
              <a:ahLst/>
              <a:rect l="l" t="t" r="r" b="b"/>
              <a:pathLst>
                <a:path w="168" h="141">
                  <a:moveTo>
                    <a:pt x="163" y="38"/>
                  </a:moveTo>
                  <a:lnTo>
                    <a:pt x="167" y="50"/>
                  </a:lnTo>
                  <a:lnTo>
                    <a:pt x="168" y="62"/>
                  </a:lnTo>
                  <a:lnTo>
                    <a:pt x="167" y="73"/>
                  </a:lnTo>
                  <a:lnTo>
                    <a:pt x="164" y="84"/>
                  </a:lnTo>
                  <a:lnTo>
                    <a:pt x="158" y="95"/>
                  </a:lnTo>
                  <a:lnTo>
                    <a:pt x="152" y="105"/>
                  </a:lnTo>
                  <a:lnTo>
                    <a:pt x="145" y="115"/>
                  </a:lnTo>
                  <a:lnTo>
                    <a:pt x="136" y="124"/>
                  </a:lnTo>
                  <a:lnTo>
                    <a:pt x="125" y="130"/>
                  </a:lnTo>
                  <a:lnTo>
                    <a:pt x="114" y="134"/>
                  </a:lnTo>
                  <a:lnTo>
                    <a:pt x="100" y="139"/>
                  </a:lnTo>
                  <a:lnTo>
                    <a:pt x="88" y="140"/>
                  </a:lnTo>
                  <a:lnTo>
                    <a:pt x="75" y="141"/>
                  </a:lnTo>
                  <a:lnTo>
                    <a:pt x="62" y="139"/>
                  </a:lnTo>
                  <a:lnTo>
                    <a:pt x="50" y="135"/>
                  </a:lnTo>
                  <a:lnTo>
                    <a:pt x="39" y="130"/>
                  </a:lnTo>
                  <a:lnTo>
                    <a:pt x="29" y="122"/>
                  </a:lnTo>
                  <a:lnTo>
                    <a:pt x="20" y="113"/>
                  </a:lnTo>
                  <a:lnTo>
                    <a:pt x="13" y="103"/>
                  </a:lnTo>
                  <a:lnTo>
                    <a:pt x="6" y="92"/>
                  </a:lnTo>
                  <a:lnTo>
                    <a:pt x="3" y="81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11" y="31"/>
                  </a:lnTo>
                  <a:lnTo>
                    <a:pt x="22" y="20"/>
                  </a:lnTo>
                  <a:lnTo>
                    <a:pt x="35" y="11"/>
                  </a:lnTo>
                  <a:lnTo>
                    <a:pt x="49" y="6"/>
                  </a:lnTo>
                  <a:lnTo>
                    <a:pt x="64" y="1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18" y="5"/>
                  </a:lnTo>
                  <a:lnTo>
                    <a:pt x="126" y="8"/>
                  </a:lnTo>
                  <a:lnTo>
                    <a:pt x="134" y="11"/>
                  </a:lnTo>
                  <a:lnTo>
                    <a:pt x="140" y="15"/>
                  </a:lnTo>
                  <a:lnTo>
                    <a:pt x="147" y="19"/>
                  </a:lnTo>
                  <a:lnTo>
                    <a:pt x="153" y="25"/>
                  </a:lnTo>
                  <a:lnTo>
                    <a:pt x="158" y="30"/>
                  </a:lnTo>
                  <a:lnTo>
                    <a:pt x="16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172200" y="3098880"/>
              <a:ext cx="77760" cy="14292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32"/>
                  </a:moveTo>
                  <a:lnTo>
                    <a:pt x="47" y="47"/>
                  </a:lnTo>
                  <a:lnTo>
                    <a:pt x="42" y="62"/>
                  </a:lnTo>
                  <a:lnTo>
                    <a:pt x="36" y="76"/>
                  </a:lnTo>
                  <a:lnTo>
                    <a:pt x="29" y="90"/>
                  </a:lnTo>
                  <a:lnTo>
                    <a:pt x="22" y="86"/>
                  </a:lnTo>
                  <a:lnTo>
                    <a:pt x="16" y="82"/>
                  </a:lnTo>
                  <a:lnTo>
                    <a:pt x="10" y="76"/>
                  </a:lnTo>
                  <a:lnTo>
                    <a:pt x="5" y="70"/>
                  </a:lnTo>
                  <a:lnTo>
                    <a:pt x="1" y="57"/>
                  </a:lnTo>
                  <a:lnTo>
                    <a:pt x="0" y="43"/>
                  </a:lnTo>
                  <a:lnTo>
                    <a:pt x="2" y="29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21" y="6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0" y="7"/>
                  </a:lnTo>
                  <a:lnTo>
                    <a:pt x="42" y="15"/>
                  </a:lnTo>
                  <a:lnTo>
                    <a:pt x="46" y="24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69040" y="4165560"/>
              <a:ext cx="1338120" cy="776160"/>
            </a:xfrm>
            <a:custGeom>
              <a:avLst/>
              <a:gdLst/>
              <a:ahLst/>
              <a:rect l="l" t="t" r="r" b="b"/>
              <a:pathLst>
                <a:path w="843" h="489">
                  <a:moveTo>
                    <a:pt x="814" y="164"/>
                  </a:moveTo>
                  <a:lnTo>
                    <a:pt x="820" y="182"/>
                  </a:lnTo>
                  <a:lnTo>
                    <a:pt x="827" y="201"/>
                  </a:lnTo>
                  <a:lnTo>
                    <a:pt x="833" y="219"/>
                  </a:lnTo>
                  <a:lnTo>
                    <a:pt x="840" y="238"/>
                  </a:lnTo>
                  <a:lnTo>
                    <a:pt x="843" y="257"/>
                  </a:lnTo>
                  <a:lnTo>
                    <a:pt x="843" y="276"/>
                  </a:lnTo>
                  <a:lnTo>
                    <a:pt x="838" y="294"/>
                  </a:lnTo>
                  <a:lnTo>
                    <a:pt x="825" y="311"/>
                  </a:lnTo>
                  <a:lnTo>
                    <a:pt x="821" y="324"/>
                  </a:lnTo>
                  <a:lnTo>
                    <a:pt x="814" y="337"/>
                  </a:lnTo>
                  <a:lnTo>
                    <a:pt x="808" y="349"/>
                  </a:lnTo>
                  <a:lnTo>
                    <a:pt x="802" y="362"/>
                  </a:lnTo>
                  <a:lnTo>
                    <a:pt x="795" y="375"/>
                  </a:lnTo>
                  <a:lnTo>
                    <a:pt x="791" y="388"/>
                  </a:lnTo>
                  <a:lnTo>
                    <a:pt x="789" y="403"/>
                  </a:lnTo>
                  <a:lnTo>
                    <a:pt x="789" y="418"/>
                  </a:lnTo>
                  <a:lnTo>
                    <a:pt x="785" y="433"/>
                  </a:lnTo>
                  <a:lnTo>
                    <a:pt x="779" y="444"/>
                  </a:lnTo>
                  <a:lnTo>
                    <a:pt x="770" y="454"/>
                  </a:lnTo>
                  <a:lnTo>
                    <a:pt x="760" y="462"/>
                  </a:lnTo>
                  <a:lnTo>
                    <a:pt x="747" y="469"/>
                  </a:lnTo>
                  <a:lnTo>
                    <a:pt x="734" y="475"/>
                  </a:lnTo>
                  <a:lnTo>
                    <a:pt x="721" y="482"/>
                  </a:lnTo>
                  <a:lnTo>
                    <a:pt x="710" y="489"/>
                  </a:lnTo>
                  <a:lnTo>
                    <a:pt x="691" y="489"/>
                  </a:lnTo>
                  <a:lnTo>
                    <a:pt x="672" y="485"/>
                  </a:lnTo>
                  <a:lnTo>
                    <a:pt x="656" y="481"/>
                  </a:lnTo>
                  <a:lnTo>
                    <a:pt x="638" y="475"/>
                  </a:lnTo>
                  <a:lnTo>
                    <a:pt x="621" y="469"/>
                  </a:lnTo>
                  <a:lnTo>
                    <a:pt x="604" y="461"/>
                  </a:lnTo>
                  <a:lnTo>
                    <a:pt x="587" y="454"/>
                  </a:lnTo>
                  <a:lnTo>
                    <a:pt x="569" y="447"/>
                  </a:lnTo>
                  <a:lnTo>
                    <a:pt x="583" y="446"/>
                  </a:lnTo>
                  <a:lnTo>
                    <a:pt x="595" y="446"/>
                  </a:lnTo>
                  <a:lnTo>
                    <a:pt x="609" y="448"/>
                  </a:lnTo>
                  <a:lnTo>
                    <a:pt x="622" y="451"/>
                  </a:lnTo>
                  <a:lnTo>
                    <a:pt x="635" y="454"/>
                  </a:lnTo>
                  <a:lnTo>
                    <a:pt x="649" y="456"/>
                  </a:lnTo>
                  <a:lnTo>
                    <a:pt x="662" y="457"/>
                  </a:lnTo>
                  <a:lnTo>
                    <a:pt x="676" y="459"/>
                  </a:lnTo>
                  <a:lnTo>
                    <a:pt x="676" y="457"/>
                  </a:lnTo>
                  <a:lnTo>
                    <a:pt x="675" y="456"/>
                  </a:lnTo>
                  <a:lnTo>
                    <a:pt x="672" y="456"/>
                  </a:lnTo>
                  <a:lnTo>
                    <a:pt x="671" y="455"/>
                  </a:lnTo>
                  <a:lnTo>
                    <a:pt x="660" y="451"/>
                  </a:lnTo>
                  <a:lnTo>
                    <a:pt x="650" y="447"/>
                  </a:lnTo>
                  <a:lnTo>
                    <a:pt x="639" y="444"/>
                  </a:lnTo>
                  <a:lnTo>
                    <a:pt x="628" y="442"/>
                  </a:lnTo>
                  <a:lnTo>
                    <a:pt x="615" y="440"/>
                  </a:lnTo>
                  <a:lnTo>
                    <a:pt x="604" y="437"/>
                  </a:lnTo>
                  <a:lnTo>
                    <a:pt x="593" y="436"/>
                  </a:lnTo>
                  <a:lnTo>
                    <a:pt x="581" y="435"/>
                  </a:lnTo>
                  <a:lnTo>
                    <a:pt x="569" y="434"/>
                  </a:lnTo>
                  <a:lnTo>
                    <a:pt x="557" y="434"/>
                  </a:lnTo>
                  <a:lnTo>
                    <a:pt x="545" y="434"/>
                  </a:lnTo>
                  <a:lnTo>
                    <a:pt x="534" y="434"/>
                  </a:lnTo>
                  <a:lnTo>
                    <a:pt x="521" y="435"/>
                  </a:lnTo>
                  <a:lnTo>
                    <a:pt x="509" y="436"/>
                  </a:lnTo>
                  <a:lnTo>
                    <a:pt x="498" y="437"/>
                  </a:lnTo>
                  <a:lnTo>
                    <a:pt x="486" y="440"/>
                  </a:lnTo>
                  <a:lnTo>
                    <a:pt x="470" y="442"/>
                  </a:lnTo>
                  <a:lnTo>
                    <a:pt x="454" y="444"/>
                  </a:lnTo>
                  <a:lnTo>
                    <a:pt x="440" y="447"/>
                  </a:lnTo>
                  <a:lnTo>
                    <a:pt x="424" y="452"/>
                  </a:lnTo>
                  <a:lnTo>
                    <a:pt x="408" y="456"/>
                  </a:lnTo>
                  <a:lnTo>
                    <a:pt x="394" y="461"/>
                  </a:lnTo>
                  <a:lnTo>
                    <a:pt x="378" y="465"/>
                  </a:lnTo>
                  <a:lnTo>
                    <a:pt x="364" y="470"/>
                  </a:lnTo>
                  <a:lnTo>
                    <a:pt x="348" y="474"/>
                  </a:lnTo>
                  <a:lnTo>
                    <a:pt x="334" y="478"/>
                  </a:lnTo>
                  <a:lnTo>
                    <a:pt x="318" y="481"/>
                  </a:lnTo>
                  <a:lnTo>
                    <a:pt x="302" y="483"/>
                  </a:lnTo>
                  <a:lnTo>
                    <a:pt x="287" y="484"/>
                  </a:lnTo>
                  <a:lnTo>
                    <a:pt x="271" y="485"/>
                  </a:lnTo>
                  <a:lnTo>
                    <a:pt x="255" y="484"/>
                  </a:lnTo>
                  <a:lnTo>
                    <a:pt x="239" y="482"/>
                  </a:lnTo>
                  <a:lnTo>
                    <a:pt x="232" y="480"/>
                  </a:lnTo>
                  <a:lnTo>
                    <a:pt x="224" y="476"/>
                  </a:lnTo>
                  <a:lnTo>
                    <a:pt x="216" y="473"/>
                  </a:lnTo>
                  <a:lnTo>
                    <a:pt x="208" y="469"/>
                  </a:lnTo>
                  <a:lnTo>
                    <a:pt x="202" y="463"/>
                  </a:lnTo>
                  <a:lnTo>
                    <a:pt x="196" y="457"/>
                  </a:lnTo>
                  <a:lnTo>
                    <a:pt x="192" y="450"/>
                  </a:lnTo>
                  <a:lnTo>
                    <a:pt x="190" y="441"/>
                  </a:lnTo>
                  <a:lnTo>
                    <a:pt x="192" y="425"/>
                  </a:lnTo>
                  <a:lnTo>
                    <a:pt x="192" y="408"/>
                  </a:lnTo>
                  <a:lnTo>
                    <a:pt x="190" y="393"/>
                  </a:lnTo>
                  <a:lnTo>
                    <a:pt x="187" y="377"/>
                  </a:lnTo>
                  <a:lnTo>
                    <a:pt x="194" y="374"/>
                  </a:lnTo>
                  <a:lnTo>
                    <a:pt x="201" y="371"/>
                  </a:lnTo>
                  <a:lnTo>
                    <a:pt x="208" y="370"/>
                  </a:lnTo>
                  <a:lnTo>
                    <a:pt x="216" y="369"/>
                  </a:lnTo>
                  <a:lnTo>
                    <a:pt x="222" y="383"/>
                  </a:lnTo>
                  <a:lnTo>
                    <a:pt x="228" y="395"/>
                  </a:lnTo>
                  <a:lnTo>
                    <a:pt x="235" y="407"/>
                  </a:lnTo>
                  <a:lnTo>
                    <a:pt x="242" y="419"/>
                  </a:lnTo>
                  <a:lnTo>
                    <a:pt x="247" y="421"/>
                  </a:lnTo>
                  <a:lnTo>
                    <a:pt x="253" y="422"/>
                  </a:lnTo>
                  <a:lnTo>
                    <a:pt x="260" y="422"/>
                  </a:lnTo>
                  <a:lnTo>
                    <a:pt x="265" y="422"/>
                  </a:lnTo>
                  <a:lnTo>
                    <a:pt x="271" y="421"/>
                  </a:lnTo>
                  <a:lnTo>
                    <a:pt x="277" y="419"/>
                  </a:lnTo>
                  <a:lnTo>
                    <a:pt x="282" y="418"/>
                  </a:lnTo>
                  <a:lnTo>
                    <a:pt x="288" y="417"/>
                  </a:lnTo>
                  <a:lnTo>
                    <a:pt x="304" y="413"/>
                  </a:lnTo>
                  <a:lnTo>
                    <a:pt x="321" y="408"/>
                  </a:lnTo>
                  <a:lnTo>
                    <a:pt x="337" y="403"/>
                  </a:lnTo>
                  <a:lnTo>
                    <a:pt x="353" y="396"/>
                  </a:lnTo>
                  <a:lnTo>
                    <a:pt x="368" y="388"/>
                  </a:lnTo>
                  <a:lnTo>
                    <a:pt x="383" y="379"/>
                  </a:lnTo>
                  <a:lnTo>
                    <a:pt x="396" y="368"/>
                  </a:lnTo>
                  <a:lnTo>
                    <a:pt x="410" y="356"/>
                  </a:lnTo>
                  <a:lnTo>
                    <a:pt x="414" y="343"/>
                  </a:lnTo>
                  <a:lnTo>
                    <a:pt x="417" y="331"/>
                  </a:lnTo>
                  <a:lnTo>
                    <a:pt x="420" y="318"/>
                  </a:lnTo>
                  <a:lnTo>
                    <a:pt x="421" y="304"/>
                  </a:lnTo>
                  <a:lnTo>
                    <a:pt x="416" y="310"/>
                  </a:lnTo>
                  <a:lnTo>
                    <a:pt x="413" y="318"/>
                  </a:lnTo>
                  <a:lnTo>
                    <a:pt x="408" y="325"/>
                  </a:lnTo>
                  <a:lnTo>
                    <a:pt x="403" y="333"/>
                  </a:lnTo>
                  <a:lnTo>
                    <a:pt x="387" y="347"/>
                  </a:lnTo>
                  <a:lnTo>
                    <a:pt x="369" y="359"/>
                  </a:lnTo>
                  <a:lnTo>
                    <a:pt x="351" y="369"/>
                  </a:lnTo>
                  <a:lnTo>
                    <a:pt x="332" y="377"/>
                  </a:lnTo>
                  <a:lnTo>
                    <a:pt x="313" y="383"/>
                  </a:lnTo>
                  <a:lnTo>
                    <a:pt x="293" y="388"/>
                  </a:lnTo>
                  <a:lnTo>
                    <a:pt x="273" y="391"/>
                  </a:lnTo>
                  <a:lnTo>
                    <a:pt x="252" y="395"/>
                  </a:lnTo>
                  <a:lnTo>
                    <a:pt x="258" y="365"/>
                  </a:lnTo>
                  <a:lnTo>
                    <a:pt x="256" y="334"/>
                  </a:lnTo>
                  <a:lnTo>
                    <a:pt x="251" y="305"/>
                  </a:lnTo>
                  <a:lnTo>
                    <a:pt x="245" y="276"/>
                  </a:lnTo>
                  <a:lnTo>
                    <a:pt x="256" y="270"/>
                  </a:lnTo>
                  <a:lnTo>
                    <a:pt x="268" y="263"/>
                  </a:lnTo>
                  <a:lnTo>
                    <a:pt x="279" y="257"/>
                  </a:lnTo>
                  <a:lnTo>
                    <a:pt x="291" y="252"/>
                  </a:lnTo>
                  <a:lnTo>
                    <a:pt x="303" y="247"/>
                  </a:lnTo>
                  <a:lnTo>
                    <a:pt x="317" y="243"/>
                  </a:lnTo>
                  <a:lnTo>
                    <a:pt x="329" y="238"/>
                  </a:lnTo>
                  <a:lnTo>
                    <a:pt x="342" y="235"/>
                  </a:lnTo>
                  <a:lnTo>
                    <a:pt x="355" y="233"/>
                  </a:lnTo>
                  <a:lnTo>
                    <a:pt x="368" y="232"/>
                  </a:lnTo>
                  <a:lnTo>
                    <a:pt x="382" y="232"/>
                  </a:lnTo>
                  <a:lnTo>
                    <a:pt x="395" y="232"/>
                  </a:lnTo>
                  <a:lnTo>
                    <a:pt x="407" y="233"/>
                  </a:lnTo>
                  <a:lnTo>
                    <a:pt x="421" y="236"/>
                  </a:lnTo>
                  <a:lnTo>
                    <a:pt x="434" y="239"/>
                  </a:lnTo>
                  <a:lnTo>
                    <a:pt x="446" y="245"/>
                  </a:lnTo>
                  <a:lnTo>
                    <a:pt x="448" y="245"/>
                  </a:lnTo>
                  <a:lnTo>
                    <a:pt x="448" y="244"/>
                  </a:lnTo>
                  <a:lnTo>
                    <a:pt x="448" y="244"/>
                  </a:lnTo>
                  <a:lnTo>
                    <a:pt x="449" y="244"/>
                  </a:lnTo>
                  <a:lnTo>
                    <a:pt x="439" y="236"/>
                  </a:lnTo>
                  <a:lnTo>
                    <a:pt x="429" y="229"/>
                  </a:lnTo>
                  <a:lnTo>
                    <a:pt x="417" y="224"/>
                  </a:lnTo>
                  <a:lnTo>
                    <a:pt x="406" y="220"/>
                  </a:lnTo>
                  <a:lnTo>
                    <a:pt x="394" y="217"/>
                  </a:lnTo>
                  <a:lnTo>
                    <a:pt x="382" y="215"/>
                  </a:lnTo>
                  <a:lnTo>
                    <a:pt x="369" y="213"/>
                  </a:lnTo>
                  <a:lnTo>
                    <a:pt x="357" y="213"/>
                  </a:lnTo>
                  <a:lnTo>
                    <a:pt x="344" y="213"/>
                  </a:lnTo>
                  <a:lnTo>
                    <a:pt x="331" y="214"/>
                  </a:lnTo>
                  <a:lnTo>
                    <a:pt x="318" y="216"/>
                  </a:lnTo>
                  <a:lnTo>
                    <a:pt x="306" y="218"/>
                  </a:lnTo>
                  <a:lnTo>
                    <a:pt x="293" y="220"/>
                  </a:lnTo>
                  <a:lnTo>
                    <a:pt x="281" y="224"/>
                  </a:lnTo>
                  <a:lnTo>
                    <a:pt x="270" y="227"/>
                  </a:lnTo>
                  <a:lnTo>
                    <a:pt x="259" y="232"/>
                  </a:lnTo>
                  <a:lnTo>
                    <a:pt x="251" y="236"/>
                  </a:lnTo>
                  <a:lnTo>
                    <a:pt x="242" y="239"/>
                  </a:lnTo>
                  <a:lnTo>
                    <a:pt x="233" y="244"/>
                  </a:lnTo>
                  <a:lnTo>
                    <a:pt x="225" y="248"/>
                  </a:lnTo>
                  <a:lnTo>
                    <a:pt x="216" y="253"/>
                  </a:lnTo>
                  <a:lnTo>
                    <a:pt x="209" y="260"/>
                  </a:lnTo>
                  <a:lnTo>
                    <a:pt x="203" y="266"/>
                  </a:lnTo>
                  <a:lnTo>
                    <a:pt x="198" y="275"/>
                  </a:lnTo>
                  <a:lnTo>
                    <a:pt x="189" y="279"/>
                  </a:lnTo>
                  <a:lnTo>
                    <a:pt x="180" y="282"/>
                  </a:lnTo>
                  <a:lnTo>
                    <a:pt x="171" y="286"/>
                  </a:lnTo>
                  <a:lnTo>
                    <a:pt x="164" y="290"/>
                  </a:lnTo>
                  <a:lnTo>
                    <a:pt x="155" y="294"/>
                  </a:lnTo>
                  <a:lnTo>
                    <a:pt x="146" y="298"/>
                  </a:lnTo>
                  <a:lnTo>
                    <a:pt x="137" y="301"/>
                  </a:lnTo>
                  <a:lnTo>
                    <a:pt x="128" y="304"/>
                  </a:lnTo>
                  <a:lnTo>
                    <a:pt x="126" y="293"/>
                  </a:lnTo>
                  <a:lnTo>
                    <a:pt x="121" y="282"/>
                  </a:lnTo>
                  <a:lnTo>
                    <a:pt x="116" y="272"/>
                  </a:lnTo>
                  <a:lnTo>
                    <a:pt x="110" y="261"/>
                  </a:lnTo>
                  <a:lnTo>
                    <a:pt x="104" y="251"/>
                  </a:lnTo>
                  <a:lnTo>
                    <a:pt x="101" y="239"/>
                  </a:lnTo>
                  <a:lnTo>
                    <a:pt x="99" y="227"/>
                  </a:lnTo>
                  <a:lnTo>
                    <a:pt x="99" y="214"/>
                  </a:lnTo>
                  <a:lnTo>
                    <a:pt x="100" y="195"/>
                  </a:lnTo>
                  <a:lnTo>
                    <a:pt x="100" y="176"/>
                  </a:lnTo>
                  <a:lnTo>
                    <a:pt x="99" y="158"/>
                  </a:lnTo>
                  <a:lnTo>
                    <a:pt x="97" y="139"/>
                  </a:lnTo>
                  <a:lnTo>
                    <a:pt x="92" y="145"/>
                  </a:lnTo>
                  <a:lnTo>
                    <a:pt x="89" y="154"/>
                  </a:lnTo>
                  <a:lnTo>
                    <a:pt x="86" y="163"/>
                  </a:lnTo>
                  <a:lnTo>
                    <a:pt x="83" y="173"/>
                  </a:lnTo>
                  <a:lnTo>
                    <a:pt x="82" y="186"/>
                  </a:lnTo>
                  <a:lnTo>
                    <a:pt x="81" y="199"/>
                  </a:lnTo>
                  <a:lnTo>
                    <a:pt x="79" y="213"/>
                  </a:lnTo>
                  <a:lnTo>
                    <a:pt x="78" y="225"/>
                  </a:lnTo>
                  <a:lnTo>
                    <a:pt x="73" y="226"/>
                  </a:lnTo>
                  <a:lnTo>
                    <a:pt x="69" y="227"/>
                  </a:lnTo>
                  <a:lnTo>
                    <a:pt x="65" y="228"/>
                  </a:lnTo>
                  <a:lnTo>
                    <a:pt x="61" y="229"/>
                  </a:lnTo>
                  <a:lnTo>
                    <a:pt x="56" y="230"/>
                  </a:lnTo>
                  <a:lnTo>
                    <a:pt x="52" y="232"/>
                  </a:lnTo>
                  <a:lnTo>
                    <a:pt x="47" y="233"/>
                  </a:lnTo>
                  <a:lnTo>
                    <a:pt x="43" y="233"/>
                  </a:lnTo>
                  <a:lnTo>
                    <a:pt x="38" y="224"/>
                  </a:lnTo>
                  <a:lnTo>
                    <a:pt x="34" y="215"/>
                  </a:lnTo>
                  <a:lnTo>
                    <a:pt x="28" y="206"/>
                  </a:lnTo>
                  <a:lnTo>
                    <a:pt x="24" y="197"/>
                  </a:lnTo>
                  <a:lnTo>
                    <a:pt x="18" y="188"/>
                  </a:lnTo>
                  <a:lnTo>
                    <a:pt x="12" y="179"/>
                  </a:lnTo>
                  <a:lnTo>
                    <a:pt x="6" y="171"/>
                  </a:lnTo>
                  <a:lnTo>
                    <a:pt x="0" y="162"/>
                  </a:lnTo>
                  <a:lnTo>
                    <a:pt x="5" y="160"/>
                  </a:lnTo>
                  <a:lnTo>
                    <a:pt x="9" y="157"/>
                  </a:lnTo>
                  <a:lnTo>
                    <a:pt x="14" y="152"/>
                  </a:lnTo>
                  <a:lnTo>
                    <a:pt x="19" y="148"/>
                  </a:lnTo>
                  <a:lnTo>
                    <a:pt x="24" y="145"/>
                  </a:lnTo>
                  <a:lnTo>
                    <a:pt x="28" y="144"/>
                  </a:lnTo>
                  <a:lnTo>
                    <a:pt x="32" y="147"/>
                  </a:lnTo>
                  <a:lnTo>
                    <a:pt x="34" y="153"/>
                  </a:lnTo>
                  <a:lnTo>
                    <a:pt x="38" y="156"/>
                  </a:lnTo>
                  <a:lnTo>
                    <a:pt x="42" y="153"/>
                  </a:lnTo>
                  <a:lnTo>
                    <a:pt x="44" y="149"/>
                  </a:lnTo>
                  <a:lnTo>
                    <a:pt x="47" y="147"/>
                  </a:lnTo>
                  <a:lnTo>
                    <a:pt x="56" y="144"/>
                  </a:lnTo>
                  <a:lnTo>
                    <a:pt x="65" y="141"/>
                  </a:lnTo>
                  <a:lnTo>
                    <a:pt x="73" y="138"/>
                  </a:lnTo>
                  <a:lnTo>
                    <a:pt x="82" y="133"/>
                  </a:lnTo>
                  <a:lnTo>
                    <a:pt x="90" y="130"/>
                  </a:lnTo>
                  <a:lnTo>
                    <a:pt x="98" y="125"/>
                  </a:lnTo>
                  <a:lnTo>
                    <a:pt x="105" y="121"/>
                  </a:lnTo>
                  <a:lnTo>
                    <a:pt x="113" y="116"/>
                  </a:lnTo>
                  <a:lnTo>
                    <a:pt x="116" y="122"/>
                  </a:lnTo>
                  <a:lnTo>
                    <a:pt x="120" y="126"/>
                  </a:lnTo>
                  <a:lnTo>
                    <a:pt x="124" y="130"/>
                  </a:lnTo>
                  <a:lnTo>
                    <a:pt x="130" y="133"/>
                  </a:lnTo>
                  <a:lnTo>
                    <a:pt x="138" y="133"/>
                  </a:lnTo>
                  <a:lnTo>
                    <a:pt x="145" y="130"/>
                  </a:lnTo>
                  <a:lnTo>
                    <a:pt x="150" y="124"/>
                  </a:lnTo>
                  <a:lnTo>
                    <a:pt x="157" y="120"/>
                  </a:lnTo>
                  <a:lnTo>
                    <a:pt x="165" y="130"/>
                  </a:lnTo>
                  <a:lnTo>
                    <a:pt x="173" y="140"/>
                  </a:lnTo>
                  <a:lnTo>
                    <a:pt x="180" y="151"/>
                  </a:lnTo>
                  <a:lnTo>
                    <a:pt x="187" y="161"/>
                  </a:lnTo>
                  <a:lnTo>
                    <a:pt x="194" y="172"/>
                  </a:lnTo>
                  <a:lnTo>
                    <a:pt x="202" y="182"/>
                  </a:lnTo>
                  <a:lnTo>
                    <a:pt x="209" y="194"/>
                  </a:lnTo>
                  <a:lnTo>
                    <a:pt x="217" y="204"/>
                  </a:lnTo>
                  <a:lnTo>
                    <a:pt x="221" y="210"/>
                  </a:lnTo>
                  <a:lnTo>
                    <a:pt x="226" y="217"/>
                  </a:lnTo>
                  <a:lnTo>
                    <a:pt x="231" y="223"/>
                  </a:lnTo>
                  <a:lnTo>
                    <a:pt x="237" y="227"/>
                  </a:lnTo>
                  <a:lnTo>
                    <a:pt x="244" y="211"/>
                  </a:lnTo>
                  <a:lnTo>
                    <a:pt x="247" y="195"/>
                  </a:lnTo>
                  <a:lnTo>
                    <a:pt x="251" y="177"/>
                  </a:lnTo>
                  <a:lnTo>
                    <a:pt x="254" y="160"/>
                  </a:lnTo>
                  <a:lnTo>
                    <a:pt x="266" y="161"/>
                  </a:lnTo>
                  <a:lnTo>
                    <a:pt x="280" y="163"/>
                  </a:lnTo>
                  <a:lnTo>
                    <a:pt x="292" y="166"/>
                  </a:lnTo>
                  <a:lnTo>
                    <a:pt x="304" y="168"/>
                  </a:lnTo>
                  <a:lnTo>
                    <a:pt x="318" y="170"/>
                  </a:lnTo>
                  <a:lnTo>
                    <a:pt x="330" y="172"/>
                  </a:lnTo>
                  <a:lnTo>
                    <a:pt x="344" y="176"/>
                  </a:lnTo>
                  <a:lnTo>
                    <a:pt x="356" y="177"/>
                  </a:lnTo>
                  <a:lnTo>
                    <a:pt x="369" y="179"/>
                  </a:lnTo>
                  <a:lnTo>
                    <a:pt x="382" y="180"/>
                  </a:lnTo>
                  <a:lnTo>
                    <a:pt x="395" y="181"/>
                  </a:lnTo>
                  <a:lnTo>
                    <a:pt x="407" y="181"/>
                  </a:lnTo>
                  <a:lnTo>
                    <a:pt x="421" y="180"/>
                  </a:lnTo>
                  <a:lnTo>
                    <a:pt x="433" y="178"/>
                  </a:lnTo>
                  <a:lnTo>
                    <a:pt x="446" y="176"/>
                  </a:lnTo>
                  <a:lnTo>
                    <a:pt x="459" y="171"/>
                  </a:lnTo>
                  <a:lnTo>
                    <a:pt x="468" y="167"/>
                  </a:lnTo>
                  <a:lnTo>
                    <a:pt x="478" y="162"/>
                  </a:lnTo>
                  <a:lnTo>
                    <a:pt x="487" y="158"/>
                  </a:lnTo>
                  <a:lnTo>
                    <a:pt x="496" y="153"/>
                  </a:lnTo>
                  <a:lnTo>
                    <a:pt x="505" y="149"/>
                  </a:lnTo>
                  <a:lnTo>
                    <a:pt x="515" y="144"/>
                  </a:lnTo>
                  <a:lnTo>
                    <a:pt x="524" y="141"/>
                  </a:lnTo>
                  <a:lnTo>
                    <a:pt x="534" y="137"/>
                  </a:lnTo>
                  <a:lnTo>
                    <a:pt x="543" y="129"/>
                  </a:lnTo>
                  <a:lnTo>
                    <a:pt x="552" y="123"/>
                  </a:lnTo>
                  <a:lnTo>
                    <a:pt x="562" y="120"/>
                  </a:lnTo>
                  <a:lnTo>
                    <a:pt x="573" y="116"/>
                  </a:lnTo>
                  <a:lnTo>
                    <a:pt x="583" y="114"/>
                  </a:lnTo>
                  <a:lnTo>
                    <a:pt x="594" y="112"/>
                  </a:lnTo>
                  <a:lnTo>
                    <a:pt x="605" y="110"/>
                  </a:lnTo>
                  <a:lnTo>
                    <a:pt x="615" y="107"/>
                  </a:lnTo>
                  <a:lnTo>
                    <a:pt x="624" y="104"/>
                  </a:lnTo>
                  <a:lnTo>
                    <a:pt x="634" y="101"/>
                  </a:lnTo>
                  <a:lnTo>
                    <a:pt x="643" y="97"/>
                  </a:lnTo>
                  <a:lnTo>
                    <a:pt x="653" y="94"/>
                  </a:lnTo>
                  <a:lnTo>
                    <a:pt x="662" y="91"/>
                  </a:lnTo>
                  <a:lnTo>
                    <a:pt x="671" y="86"/>
                  </a:lnTo>
                  <a:lnTo>
                    <a:pt x="680" y="82"/>
                  </a:lnTo>
                  <a:lnTo>
                    <a:pt x="688" y="75"/>
                  </a:lnTo>
                  <a:lnTo>
                    <a:pt x="697" y="72"/>
                  </a:lnTo>
                  <a:lnTo>
                    <a:pt x="705" y="67"/>
                  </a:lnTo>
                  <a:lnTo>
                    <a:pt x="713" y="63"/>
                  </a:lnTo>
                  <a:lnTo>
                    <a:pt x="720" y="57"/>
                  </a:lnTo>
                  <a:lnTo>
                    <a:pt x="728" y="53"/>
                  </a:lnTo>
                  <a:lnTo>
                    <a:pt x="736" y="48"/>
                  </a:lnTo>
                  <a:lnTo>
                    <a:pt x="744" y="44"/>
                  </a:lnTo>
                  <a:lnTo>
                    <a:pt x="753" y="42"/>
                  </a:lnTo>
                  <a:lnTo>
                    <a:pt x="760" y="35"/>
                  </a:lnTo>
                  <a:lnTo>
                    <a:pt x="766" y="28"/>
                  </a:lnTo>
                  <a:lnTo>
                    <a:pt x="774" y="23"/>
                  </a:lnTo>
                  <a:lnTo>
                    <a:pt x="782" y="17"/>
                  </a:lnTo>
                  <a:lnTo>
                    <a:pt x="790" y="12"/>
                  </a:lnTo>
                  <a:lnTo>
                    <a:pt x="799" y="8"/>
                  </a:lnTo>
                  <a:lnTo>
                    <a:pt x="806" y="5"/>
                  </a:lnTo>
                  <a:lnTo>
                    <a:pt x="815" y="0"/>
                  </a:lnTo>
                  <a:lnTo>
                    <a:pt x="824" y="20"/>
                  </a:lnTo>
                  <a:lnTo>
                    <a:pt x="828" y="40"/>
                  </a:lnTo>
                  <a:lnTo>
                    <a:pt x="827" y="61"/>
                  </a:lnTo>
                  <a:lnTo>
                    <a:pt x="823" y="81"/>
                  </a:lnTo>
                  <a:lnTo>
                    <a:pt x="820" y="102"/>
                  </a:lnTo>
                  <a:lnTo>
                    <a:pt x="815" y="123"/>
                  </a:lnTo>
                  <a:lnTo>
                    <a:pt x="813" y="143"/>
                  </a:lnTo>
                  <a:lnTo>
                    <a:pt x="814" y="164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851440" y="4460760"/>
              <a:ext cx="420840" cy="35424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147" y="93"/>
                  </a:moveTo>
                  <a:lnTo>
                    <a:pt x="140" y="98"/>
                  </a:lnTo>
                  <a:lnTo>
                    <a:pt x="133" y="105"/>
                  </a:lnTo>
                  <a:lnTo>
                    <a:pt x="126" y="113"/>
                  </a:lnTo>
                  <a:lnTo>
                    <a:pt x="120" y="120"/>
                  </a:lnTo>
                  <a:lnTo>
                    <a:pt x="112" y="128"/>
                  </a:lnTo>
                  <a:lnTo>
                    <a:pt x="106" y="135"/>
                  </a:lnTo>
                  <a:lnTo>
                    <a:pt x="98" y="141"/>
                  </a:lnTo>
                  <a:lnTo>
                    <a:pt x="89" y="145"/>
                  </a:lnTo>
                  <a:lnTo>
                    <a:pt x="81" y="164"/>
                  </a:lnTo>
                  <a:lnTo>
                    <a:pt x="76" y="184"/>
                  </a:lnTo>
                  <a:lnTo>
                    <a:pt x="69" y="204"/>
                  </a:lnTo>
                  <a:lnTo>
                    <a:pt x="58" y="221"/>
                  </a:lnTo>
                  <a:lnTo>
                    <a:pt x="60" y="203"/>
                  </a:lnTo>
                  <a:lnTo>
                    <a:pt x="62" y="185"/>
                  </a:lnTo>
                  <a:lnTo>
                    <a:pt x="63" y="167"/>
                  </a:lnTo>
                  <a:lnTo>
                    <a:pt x="66" y="152"/>
                  </a:lnTo>
                  <a:lnTo>
                    <a:pt x="64" y="152"/>
                  </a:lnTo>
                  <a:lnTo>
                    <a:pt x="63" y="152"/>
                  </a:lnTo>
                  <a:lnTo>
                    <a:pt x="61" y="153"/>
                  </a:lnTo>
                  <a:lnTo>
                    <a:pt x="60" y="153"/>
                  </a:lnTo>
                  <a:lnTo>
                    <a:pt x="54" y="162"/>
                  </a:lnTo>
                  <a:lnTo>
                    <a:pt x="50" y="171"/>
                  </a:lnTo>
                  <a:lnTo>
                    <a:pt x="44" y="181"/>
                  </a:lnTo>
                  <a:lnTo>
                    <a:pt x="39" y="190"/>
                  </a:lnTo>
                  <a:lnTo>
                    <a:pt x="32" y="199"/>
                  </a:lnTo>
                  <a:lnTo>
                    <a:pt x="26" y="207"/>
                  </a:lnTo>
                  <a:lnTo>
                    <a:pt x="20" y="216"/>
                  </a:lnTo>
                  <a:lnTo>
                    <a:pt x="12" y="223"/>
                  </a:lnTo>
                  <a:lnTo>
                    <a:pt x="12" y="223"/>
                  </a:lnTo>
                  <a:lnTo>
                    <a:pt x="12" y="223"/>
                  </a:lnTo>
                  <a:lnTo>
                    <a:pt x="12" y="223"/>
                  </a:lnTo>
                  <a:lnTo>
                    <a:pt x="11" y="223"/>
                  </a:lnTo>
                  <a:lnTo>
                    <a:pt x="19" y="204"/>
                  </a:lnTo>
                  <a:lnTo>
                    <a:pt x="28" y="186"/>
                  </a:lnTo>
                  <a:lnTo>
                    <a:pt x="36" y="167"/>
                  </a:lnTo>
                  <a:lnTo>
                    <a:pt x="43" y="150"/>
                  </a:lnTo>
                  <a:lnTo>
                    <a:pt x="41" y="148"/>
                  </a:lnTo>
                  <a:lnTo>
                    <a:pt x="38" y="147"/>
                  </a:lnTo>
                  <a:lnTo>
                    <a:pt x="35" y="148"/>
                  </a:lnTo>
                  <a:lnTo>
                    <a:pt x="32" y="150"/>
                  </a:lnTo>
                  <a:lnTo>
                    <a:pt x="26" y="160"/>
                  </a:lnTo>
                  <a:lnTo>
                    <a:pt x="19" y="167"/>
                  </a:lnTo>
                  <a:lnTo>
                    <a:pt x="8" y="175"/>
                  </a:lnTo>
                  <a:lnTo>
                    <a:pt x="0" y="181"/>
                  </a:lnTo>
                  <a:lnTo>
                    <a:pt x="3" y="173"/>
                  </a:lnTo>
                  <a:lnTo>
                    <a:pt x="8" y="166"/>
                  </a:lnTo>
                  <a:lnTo>
                    <a:pt x="13" y="158"/>
                  </a:lnTo>
                  <a:lnTo>
                    <a:pt x="19" y="151"/>
                  </a:lnTo>
                  <a:lnTo>
                    <a:pt x="23" y="144"/>
                  </a:lnTo>
                  <a:lnTo>
                    <a:pt x="28" y="135"/>
                  </a:lnTo>
                  <a:lnTo>
                    <a:pt x="31" y="127"/>
                  </a:lnTo>
                  <a:lnTo>
                    <a:pt x="33" y="118"/>
                  </a:lnTo>
                  <a:lnTo>
                    <a:pt x="45" y="103"/>
                  </a:lnTo>
                  <a:lnTo>
                    <a:pt x="58" y="91"/>
                  </a:lnTo>
                  <a:lnTo>
                    <a:pt x="68" y="86"/>
                  </a:lnTo>
                  <a:lnTo>
                    <a:pt x="79" y="81"/>
                  </a:lnTo>
                  <a:lnTo>
                    <a:pt x="89" y="80"/>
                  </a:lnTo>
                  <a:lnTo>
                    <a:pt x="99" y="78"/>
                  </a:lnTo>
                  <a:lnTo>
                    <a:pt x="111" y="76"/>
                  </a:lnTo>
                  <a:lnTo>
                    <a:pt x="124" y="71"/>
                  </a:lnTo>
                  <a:lnTo>
                    <a:pt x="139" y="63"/>
                  </a:lnTo>
                  <a:lnTo>
                    <a:pt x="155" y="55"/>
                  </a:lnTo>
                  <a:lnTo>
                    <a:pt x="171" y="46"/>
                  </a:lnTo>
                  <a:lnTo>
                    <a:pt x="187" y="37"/>
                  </a:lnTo>
                  <a:lnTo>
                    <a:pt x="203" y="28"/>
                  </a:lnTo>
                  <a:lnTo>
                    <a:pt x="219" y="19"/>
                  </a:lnTo>
                  <a:lnTo>
                    <a:pt x="234" y="9"/>
                  </a:lnTo>
                  <a:lnTo>
                    <a:pt x="250" y="0"/>
                  </a:lnTo>
                  <a:lnTo>
                    <a:pt x="254" y="6"/>
                  </a:lnTo>
                  <a:lnTo>
                    <a:pt x="259" y="13"/>
                  </a:lnTo>
                  <a:lnTo>
                    <a:pt x="261" y="21"/>
                  </a:lnTo>
                  <a:lnTo>
                    <a:pt x="265" y="28"/>
                  </a:lnTo>
                  <a:lnTo>
                    <a:pt x="259" y="32"/>
                  </a:lnTo>
                  <a:lnTo>
                    <a:pt x="249" y="40"/>
                  </a:lnTo>
                  <a:lnTo>
                    <a:pt x="233" y="48"/>
                  </a:lnTo>
                  <a:lnTo>
                    <a:pt x="215" y="57"/>
                  </a:lnTo>
                  <a:lnTo>
                    <a:pt x="196" y="67"/>
                  </a:lnTo>
                  <a:lnTo>
                    <a:pt x="177" y="76"/>
                  </a:lnTo>
                  <a:lnTo>
                    <a:pt x="161" y="85"/>
                  </a:lnTo>
                  <a:lnTo>
                    <a:pt x="147" y="9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7680" y="4624560"/>
              <a:ext cx="531720" cy="334800"/>
            </a:xfrm>
            <a:custGeom>
              <a:avLst/>
              <a:gdLst/>
              <a:ahLst/>
              <a:rect l="l" t="t" r="r" b="b"/>
              <a:pathLst>
                <a:path w="335" h="211">
                  <a:moveTo>
                    <a:pt x="146" y="110"/>
                  </a:moveTo>
                  <a:lnTo>
                    <a:pt x="159" y="107"/>
                  </a:lnTo>
                  <a:lnTo>
                    <a:pt x="170" y="102"/>
                  </a:lnTo>
                  <a:lnTo>
                    <a:pt x="182" y="99"/>
                  </a:lnTo>
                  <a:lnTo>
                    <a:pt x="193" y="95"/>
                  </a:lnTo>
                  <a:lnTo>
                    <a:pt x="206" y="91"/>
                  </a:lnTo>
                  <a:lnTo>
                    <a:pt x="218" y="88"/>
                  </a:lnTo>
                  <a:lnTo>
                    <a:pt x="229" y="83"/>
                  </a:lnTo>
                  <a:lnTo>
                    <a:pt x="241" y="80"/>
                  </a:lnTo>
                  <a:lnTo>
                    <a:pt x="254" y="76"/>
                  </a:lnTo>
                  <a:lnTo>
                    <a:pt x="265" y="72"/>
                  </a:lnTo>
                  <a:lnTo>
                    <a:pt x="277" y="68"/>
                  </a:lnTo>
                  <a:lnTo>
                    <a:pt x="288" y="63"/>
                  </a:lnTo>
                  <a:lnTo>
                    <a:pt x="301" y="60"/>
                  </a:lnTo>
                  <a:lnTo>
                    <a:pt x="312" y="55"/>
                  </a:lnTo>
                  <a:lnTo>
                    <a:pt x="324" y="51"/>
                  </a:lnTo>
                  <a:lnTo>
                    <a:pt x="335" y="47"/>
                  </a:lnTo>
                  <a:lnTo>
                    <a:pt x="335" y="34"/>
                  </a:lnTo>
                  <a:lnTo>
                    <a:pt x="333" y="23"/>
                  </a:lnTo>
                  <a:lnTo>
                    <a:pt x="332" y="11"/>
                  </a:lnTo>
                  <a:lnTo>
                    <a:pt x="331" y="0"/>
                  </a:lnTo>
                  <a:lnTo>
                    <a:pt x="317" y="5"/>
                  </a:lnTo>
                  <a:lnTo>
                    <a:pt x="303" y="11"/>
                  </a:lnTo>
                  <a:lnTo>
                    <a:pt x="288" y="16"/>
                  </a:lnTo>
                  <a:lnTo>
                    <a:pt x="275" y="22"/>
                  </a:lnTo>
                  <a:lnTo>
                    <a:pt x="260" y="28"/>
                  </a:lnTo>
                  <a:lnTo>
                    <a:pt x="246" y="33"/>
                  </a:lnTo>
                  <a:lnTo>
                    <a:pt x="230" y="38"/>
                  </a:lnTo>
                  <a:lnTo>
                    <a:pt x="216" y="41"/>
                  </a:lnTo>
                  <a:lnTo>
                    <a:pt x="205" y="45"/>
                  </a:lnTo>
                  <a:lnTo>
                    <a:pt x="193" y="50"/>
                  </a:lnTo>
                  <a:lnTo>
                    <a:pt x="182" y="54"/>
                  </a:lnTo>
                  <a:lnTo>
                    <a:pt x="170" y="59"/>
                  </a:lnTo>
                  <a:lnTo>
                    <a:pt x="159" y="63"/>
                  </a:lnTo>
                  <a:lnTo>
                    <a:pt x="146" y="67"/>
                  </a:lnTo>
                  <a:lnTo>
                    <a:pt x="135" y="70"/>
                  </a:lnTo>
                  <a:lnTo>
                    <a:pt x="123" y="73"/>
                  </a:lnTo>
                  <a:lnTo>
                    <a:pt x="121" y="73"/>
                  </a:lnTo>
                  <a:lnTo>
                    <a:pt x="114" y="74"/>
                  </a:lnTo>
                  <a:lnTo>
                    <a:pt x="105" y="76"/>
                  </a:lnTo>
                  <a:lnTo>
                    <a:pt x="94" y="78"/>
                  </a:lnTo>
                  <a:lnTo>
                    <a:pt x="80" y="82"/>
                  </a:lnTo>
                  <a:lnTo>
                    <a:pt x="68" y="88"/>
                  </a:lnTo>
                  <a:lnTo>
                    <a:pt x="56" y="96"/>
                  </a:lnTo>
                  <a:lnTo>
                    <a:pt x="45" y="106"/>
                  </a:lnTo>
                  <a:lnTo>
                    <a:pt x="40" y="114"/>
                  </a:lnTo>
                  <a:lnTo>
                    <a:pt x="36" y="121"/>
                  </a:lnTo>
                  <a:lnTo>
                    <a:pt x="30" y="128"/>
                  </a:lnTo>
                  <a:lnTo>
                    <a:pt x="23" y="135"/>
                  </a:lnTo>
                  <a:lnTo>
                    <a:pt x="17" y="140"/>
                  </a:lnTo>
                  <a:lnTo>
                    <a:pt x="11" y="147"/>
                  </a:lnTo>
                  <a:lnTo>
                    <a:pt x="6" y="154"/>
                  </a:lnTo>
                  <a:lnTo>
                    <a:pt x="0" y="161"/>
                  </a:lnTo>
                  <a:lnTo>
                    <a:pt x="6" y="158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1" y="151"/>
                  </a:lnTo>
                  <a:lnTo>
                    <a:pt x="26" y="147"/>
                  </a:lnTo>
                  <a:lnTo>
                    <a:pt x="30" y="144"/>
                  </a:lnTo>
                  <a:lnTo>
                    <a:pt x="35" y="139"/>
                  </a:lnTo>
                  <a:lnTo>
                    <a:pt x="38" y="135"/>
                  </a:lnTo>
                  <a:lnTo>
                    <a:pt x="40" y="135"/>
                  </a:lnTo>
                  <a:lnTo>
                    <a:pt x="44" y="135"/>
                  </a:lnTo>
                  <a:lnTo>
                    <a:pt x="47" y="135"/>
                  </a:lnTo>
                  <a:lnTo>
                    <a:pt x="49" y="137"/>
                  </a:lnTo>
                  <a:lnTo>
                    <a:pt x="45" y="146"/>
                  </a:lnTo>
                  <a:lnTo>
                    <a:pt x="39" y="154"/>
                  </a:lnTo>
                  <a:lnTo>
                    <a:pt x="32" y="163"/>
                  </a:lnTo>
                  <a:lnTo>
                    <a:pt x="27" y="171"/>
                  </a:lnTo>
                  <a:lnTo>
                    <a:pt x="20" y="178"/>
                  </a:lnTo>
                  <a:lnTo>
                    <a:pt x="14" y="187"/>
                  </a:lnTo>
                  <a:lnTo>
                    <a:pt x="9" y="195"/>
                  </a:lnTo>
                  <a:lnTo>
                    <a:pt x="3" y="204"/>
                  </a:lnTo>
                  <a:lnTo>
                    <a:pt x="3" y="204"/>
                  </a:lnTo>
                  <a:lnTo>
                    <a:pt x="4" y="204"/>
                  </a:lnTo>
                  <a:lnTo>
                    <a:pt x="4" y="204"/>
                  </a:lnTo>
                  <a:lnTo>
                    <a:pt x="4" y="204"/>
                  </a:lnTo>
                  <a:lnTo>
                    <a:pt x="13" y="197"/>
                  </a:lnTo>
                  <a:lnTo>
                    <a:pt x="21" y="191"/>
                  </a:lnTo>
                  <a:lnTo>
                    <a:pt x="29" y="184"/>
                  </a:lnTo>
                  <a:lnTo>
                    <a:pt x="37" y="176"/>
                  </a:lnTo>
                  <a:lnTo>
                    <a:pt x="44" y="168"/>
                  </a:lnTo>
                  <a:lnTo>
                    <a:pt x="51" y="161"/>
                  </a:lnTo>
                  <a:lnTo>
                    <a:pt x="58" y="153"/>
                  </a:lnTo>
                  <a:lnTo>
                    <a:pt x="65" y="145"/>
                  </a:lnTo>
                  <a:lnTo>
                    <a:pt x="66" y="145"/>
                  </a:lnTo>
                  <a:lnTo>
                    <a:pt x="67" y="145"/>
                  </a:lnTo>
                  <a:lnTo>
                    <a:pt x="69" y="145"/>
                  </a:lnTo>
                  <a:lnTo>
                    <a:pt x="70" y="145"/>
                  </a:lnTo>
                  <a:lnTo>
                    <a:pt x="65" y="159"/>
                  </a:lnTo>
                  <a:lnTo>
                    <a:pt x="60" y="176"/>
                  </a:lnTo>
                  <a:lnTo>
                    <a:pt x="55" y="194"/>
                  </a:lnTo>
                  <a:lnTo>
                    <a:pt x="49" y="211"/>
                  </a:lnTo>
                  <a:lnTo>
                    <a:pt x="57" y="204"/>
                  </a:lnTo>
                  <a:lnTo>
                    <a:pt x="64" y="196"/>
                  </a:lnTo>
                  <a:lnTo>
                    <a:pt x="68" y="187"/>
                  </a:lnTo>
                  <a:lnTo>
                    <a:pt x="74" y="178"/>
                  </a:lnTo>
                  <a:lnTo>
                    <a:pt x="78" y="168"/>
                  </a:lnTo>
                  <a:lnTo>
                    <a:pt x="83" y="158"/>
                  </a:lnTo>
                  <a:lnTo>
                    <a:pt x="88" y="149"/>
                  </a:lnTo>
                  <a:lnTo>
                    <a:pt x="95" y="142"/>
                  </a:lnTo>
                  <a:lnTo>
                    <a:pt x="104" y="140"/>
                  </a:lnTo>
                  <a:lnTo>
                    <a:pt x="111" y="137"/>
                  </a:lnTo>
                  <a:lnTo>
                    <a:pt x="116" y="134"/>
                  </a:lnTo>
                  <a:lnTo>
                    <a:pt x="122" y="129"/>
                  </a:lnTo>
                  <a:lnTo>
                    <a:pt x="127" y="124"/>
                  </a:lnTo>
                  <a:lnTo>
                    <a:pt x="133" y="119"/>
                  </a:lnTo>
                  <a:lnTo>
                    <a:pt x="139" y="115"/>
                  </a:lnTo>
                  <a:lnTo>
                    <a:pt x="146" y="11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99240" y="3110040"/>
              <a:ext cx="4140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13" y="32"/>
                  </a:moveTo>
                  <a:lnTo>
                    <a:pt x="18" y="31"/>
                  </a:lnTo>
                  <a:lnTo>
                    <a:pt x="22" y="28"/>
                  </a:lnTo>
                  <a:lnTo>
                    <a:pt x="25" y="23"/>
                  </a:lnTo>
                  <a:lnTo>
                    <a:pt x="26" y="17"/>
                  </a:lnTo>
                  <a:lnTo>
                    <a:pt x="25" y="10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28"/>
                  </a:lnTo>
                  <a:lnTo>
                    <a:pt x="8" y="31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45160" y="4281480"/>
              <a:ext cx="135000" cy="15732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27"/>
                  </a:moveTo>
                  <a:lnTo>
                    <a:pt x="48" y="99"/>
                  </a:lnTo>
                  <a:lnTo>
                    <a:pt x="85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9280" y="4265640"/>
              <a:ext cx="190440" cy="92160"/>
            </a:xfrm>
            <a:custGeom>
              <a:avLst/>
              <a:gdLst/>
              <a:ahLst/>
              <a:rect l="l" t="t" r="r" b="b"/>
              <a:pathLst>
                <a:path w="120" h="58">
                  <a:moveTo>
                    <a:pt x="0" y="0"/>
                  </a:moveTo>
                  <a:lnTo>
                    <a:pt x="21" y="58"/>
                  </a:lnTo>
                  <a:lnTo>
                    <a:pt x="79" y="27"/>
                  </a:lnTo>
                  <a:lnTo>
                    <a:pt x="110" y="44"/>
                  </a:lnTo>
                  <a:lnTo>
                    <a:pt x="120" y="30"/>
                  </a:lnTo>
                  <a:lnTo>
                    <a:pt x="107" y="13"/>
                  </a:lnTo>
                  <a:lnTo>
                    <a:pt x="8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27960" y="4176720"/>
              <a:ext cx="20520" cy="615960"/>
            </a:xfrm>
            <a:custGeom>
              <a:avLst/>
              <a:gdLst/>
              <a:ahLst/>
              <a:rect l="l" t="t" r="r" b="b"/>
              <a:pathLst>
                <a:path w="13" h="388">
                  <a:moveTo>
                    <a:pt x="0" y="7"/>
                  </a:moveTo>
                  <a:lnTo>
                    <a:pt x="0" y="388"/>
                  </a:lnTo>
                  <a:lnTo>
                    <a:pt x="2" y="379"/>
                  </a:lnTo>
                  <a:lnTo>
                    <a:pt x="6" y="369"/>
                  </a:lnTo>
                  <a:lnTo>
                    <a:pt x="9" y="360"/>
                  </a:lnTo>
                  <a:lnTo>
                    <a:pt x="13" y="35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13480" y="4243320"/>
              <a:ext cx="22320" cy="690480"/>
            </a:xfrm>
            <a:custGeom>
              <a:avLst/>
              <a:gdLst/>
              <a:ahLst/>
              <a:rect l="l" t="t" r="r" b="b"/>
              <a:pathLst>
                <a:path w="14" h="435">
                  <a:moveTo>
                    <a:pt x="0" y="9"/>
                  </a:moveTo>
                  <a:lnTo>
                    <a:pt x="0" y="435"/>
                  </a:lnTo>
                  <a:lnTo>
                    <a:pt x="4" y="433"/>
                  </a:lnTo>
                  <a:lnTo>
                    <a:pt x="7" y="432"/>
                  </a:lnTo>
                  <a:lnTo>
                    <a:pt x="11" y="430"/>
                  </a:lnTo>
                  <a:lnTo>
                    <a:pt x="14" y="427"/>
                  </a:lnTo>
                  <a:lnTo>
                    <a:pt x="14" y="0"/>
                  </a:lnTo>
                  <a:lnTo>
                    <a:pt x="11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300800" y="4311720"/>
              <a:ext cx="20880" cy="569880"/>
            </a:xfrm>
            <a:custGeom>
              <a:avLst/>
              <a:gdLst/>
              <a:ahLst/>
              <a:rect l="l" t="t" r="r" b="b"/>
              <a:pathLst>
                <a:path w="13" h="359">
                  <a:moveTo>
                    <a:pt x="0" y="4"/>
                  </a:moveTo>
                  <a:lnTo>
                    <a:pt x="0" y="354"/>
                  </a:lnTo>
                  <a:lnTo>
                    <a:pt x="3" y="355"/>
                  </a:lnTo>
                  <a:lnTo>
                    <a:pt x="7" y="356"/>
                  </a:lnTo>
                  <a:lnTo>
                    <a:pt x="10" y="358"/>
                  </a:lnTo>
                  <a:lnTo>
                    <a:pt x="13" y="359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3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00800" y="4888080"/>
              <a:ext cx="2088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0" y="24"/>
                  </a:lnTo>
                  <a:lnTo>
                    <a:pt x="3" y="25"/>
                  </a:lnTo>
                  <a:lnTo>
                    <a:pt x="7" y="26"/>
                  </a:lnTo>
                  <a:lnTo>
                    <a:pt x="10" y="27"/>
                  </a:lnTo>
                  <a:lnTo>
                    <a:pt x="13" y="28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86680" y="4344840"/>
              <a:ext cx="22320" cy="511200"/>
            </a:xfrm>
            <a:custGeom>
              <a:avLst/>
              <a:gdLst/>
              <a:ahLst/>
              <a:rect l="l" t="t" r="r" b="b"/>
              <a:pathLst>
                <a:path w="14" h="322">
                  <a:moveTo>
                    <a:pt x="0" y="2"/>
                  </a:moveTo>
                  <a:lnTo>
                    <a:pt x="0" y="321"/>
                  </a:lnTo>
                  <a:lnTo>
                    <a:pt x="4" y="322"/>
                  </a:lnTo>
                  <a:lnTo>
                    <a:pt x="7" y="322"/>
                  </a:lnTo>
                  <a:lnTo>
                    <a:pt x="10" y="322"/>
                  </a:lnTo>
                  <a:lnTo>
                    <a:pt x="14" y="32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86680" y="487368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1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4000" y="4394160"/>
              <a:ext cx="20520" cy="465120"/>
            </a:xfrm>
            <a:custGeom>
              <a:avLst/>
              <a:gdLst/>
              <a:ahLst/>
              <a:rect l="l" t="t" r="r" b="b"/>
              <a:pathLst>
                <a:path w="13" h="293">
                  <a:moveTo>
                    <a:pt x="0" y="6"/>
                  </a:moveTo>
                  <a:lnTo>
                    <a:pt x="0" y="293"/>
                  </a:lnTo>
                  <a:lnTo>
                    <a:pt x="3" y="292"/>
                  </a:lnTo>
                  <a:lnTo>
                    <a:pt x="7" y="292"/>
                  </a:lnTo>
                  <a:lnTo>
                    <a:pt x="10" y="292"/>
                  </a:lnTo>
                  <a:lnTo>
                    <a:pt x="13" y="29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59520" y="4545000"/>
              <a:ext cx="22320" cy="334800"/>
            </a:xfrm>
            <a:custGeom>
              <a:avLst/>
              <a:gdLst/>
              <a:ahLst/>
              <a:rect l="l" t="t" r="r" b="b"/>
              <a:pathLst>
                <a:path w="14" h="211">
                  <a:moveTo>
                    <a:pt x="0" y="0"/>
                  </a:moveTo>
                  <a:lnTo>
                    <a:pt x="0" y="211"/>
                  </a:lnTo>
                  <a:lnTo>
                    <a:pt x="4" y="209"/>
                  </a:lnTo>
                  <a:lnTo>
                    <a:pt x="7" y="208"/>
                  </a:lnTo>
                  <a:lnTo>
                    <a:pt x="10" y="208"/>
                  </a:lnTo>
                  <a:lnTo>
                    <a:pt x="14" y="207"/>
                  </a:lnTo>
                  <a:lnTo>
                    <a:pt x="14" y="6"/>
                  </a:lnTo>
                  <a:lnTo>
                    <a:pt x="10" y="5"/>
                  </a:lnTo>
                  <a:lnTo>
                    <a:pt x="7" y="3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959520" y="444492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0" y="3"/>
                  </a:moveTo>
                  <a:lnTo>
                    <a:pt x="0" y="56"/>
                  </a:lnTo>
                  <a:lnTo>
                    <a:pt x="4" y="58"/>
                  </a:lnTo>
                  <a:lnTo>
                    <a:pt x="7" y="60"/>
                  </a:lnTo>
                  <a:lnTo>
                    <a:pt x="10" y="62"/>
                  </a:lnTo>
                  <a:lnTo>
                    <a:pt x="14" y="66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45400" y="4533840"/>
              <a:ext cx="21960" cy="211320"/>
            </a:xfrm>
            <a:custGeom>
              <a:avLst/>
              <a:gdLst/>
              <a:ahLst/>
              <a:rect l="l" t="t" r="r" b="b"/>
              <a:pathLst>
                <a:path w="14" h="133">
                  <a:moveTo>
                    <a:pt x="0" y="1"/>
                  </a:moveTo>
                  <a:lnTo>
                    <a:pt x="0" y="133"/>
                  </a:lnTo>
                  <a:lnTo>
                    <a:pt x="4" y="130"/>
                  </a:lnTo>
                  <a:lnTo>
                    <a:pt x="7" y="128"/>
                  </a:lnTo>
                  <a:lnTo>
                    <a:pt x="11" y="127"/>
                  </a:lnTo>
                  <a:lnTo>
                    <a:pt x="14" y="125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45400" y="4776840"/>
              <a:ext cx="21960" cy="136440"/>
            </a:xfrm>
            <a:custGeom>
              <a:avLst/>
              <a:gdLst/>
              <a:ahLst/>
              <a:rect l="l" t="t" r="r" b="b"/>
              <a:pathLst>
                <a:path w="14" h="86">
                  <a:moveTo>
                    <a:pt x="0" y="8"/>
                  </a:moveTo>
                  <a:lnTo>
                    <a:pt x="0" y="86"/>
                  </a:lnTo>
                  <a:lnTo>
                    <a:pt x="4" y="85"/>
                  </a:lnTo>
                  <a:lnTo>
                    <a:pt x="7" y="84"/>
                  </a:lnTo>
                  <a:lnTo>
                    <a:pt x="11" y="82"/>
                  </a:lnTo>
                  <a:lnTo>
                    <a:pt x="14" y="81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5400" y="4448160"/>
              <a:ext cx="21960" cy="57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lnTo>
                    <a:pt x="0" y="35"/>
                  </a:lnTo>
                  <a:lnTo>
                    <a:pt x="4" y="35"/>
                  </a:lnTo>
                  <a:lnTo>
                    <a:pt x="7" y="35"/>
                  </a:lnTo>
                  <a:lnTo>
                    <a:pt x="11" y="36"/>
                  </a:lnTo>
                  <a:lnTo>
                    <a:pt x="14" y="3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30920" y="4425840"/>
              <a:ext cx="23760" cy="9216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0" y="0"/>
                  </a:moveTo>
                  <a:lnTo>
                    <a:pt x="0" y="58"/>
                  </a:lnTo>
                  <a:lnTo>
                    <a:pt x="3" y="56"/>
                  </a:lnTo>
                  <a:lnTo>
                    <a:pt x="7" y="55"/>
                  </a:lnTo>
                  <a:lnTo>
                    <a:pt x="10" y="55"/>
                  </a:lnTo>
                  <a:lnTo>
                    <a:pt x="15" y="54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30920" y="4822920"/>
              <a:ext cx="23760" cy="11088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0" y="3"/>
                  </a:moveTo>
                  <a:lnTo>
                    <a:pt x="0" y="70"/>
                  </a:lnTo>
                  <a:lnTo>
                    <a:pt x="3" y="70"/>
                  </a:lnTo>
                  <a:lnTo>
                    <a:pt x="8" y="69"/>
                  </a:lnTo>
                  <a:lnTo>
                    <a:pt x="11" y="69"/>
                  </a:lnTo>
                  <a:lnTo>
                    <a:pt x="15" y="69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3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30920" y="4557600"/>
              <a:ext cx="23760" cy="2253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0" y="6"/>
                  </a:moveTo>
                  <a:lnTo>
                    <a:pt x="0" y="142"/>
                  </a:lnTo>
                  <a:lnTo>
                    <a:pt x="3" y="141"/>
                  </a:lnTo>
                  <a:lnTo>
                    <a:pt x="8" y="140"/>
                  </a:lnTo>
                  <a:lnTo>
                    <a:pt x="11" y="140"/>
                  </a:lnTo>
                  <a:lnTo>
                    <a:pt x="15" y="139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18240" y="4487760"/>
              <a:ext cx="22320" cy="7956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3" y="48"/>
                  </a:lnTo>
                  <a:lnTo>
                    <a:pt x="6" y="45"/>
                  </a:lnTo>
                  <a:lnTo>
                    <a:pt x="10" y="44"/>
                  </a:lnTo>
                  <a:lnTo>
                    <a:pt x="14" y="42"/>
                  </a:lnTo>
                  <a:lnTo>
                    <a:pt x="14" y="19"/>
                  </a:lnTo>
                  <a:lnTo>
                    <a:pt x="10" y="14"/>
                  </a:lnTo>
                  <a:lnTo>
                    <a:pt x="6" y="10"/>
                  </a:lnTo>
                  <a:lnTo>
                    <a:pt x="3" y="5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18240" y="4751280"/>
              <a:ext cx="22320" cy="174600"/>
            </a:xfrm>
            <a:custGeom>
              <a:avLst/>
              <a:gdLst/>
              <a:ahLst/>
              <a:rect l="l" t="t" r="r" b="b"/>
              <a:pathLst>
                <a:path w="14" h="110">
                  <a:moveTo>
                    <a:pt x="0" y="0"/>
                  </a:moveTo>
                  <a:lnTo>
                    <a:pt x="0" y="104"/>
                  </a:lnTo>
                  <a:lnTo>
                    <a:pt x="3" y="105"/>
                  </a:lnTo>
                  <a:lnTo>
                    <a:pt x="7" y="107"/>
                  </a:lnTo>
                  <a:lnTo>
                    <a:pt x="11" y="109"/>
                  </a:lnTo>
                  <a:lnTo>
                    <a:pt x="14" y="110"/>
                  </a:lnTo>
                  <a:lnTo>
                    <a:pt x="14" y="29"/>
                  </a:lnTo>
                  <a:lnTo>
                    <a:pt x="10" y="21"/>
                  </a:lnTo>
                  <a:lnTo>
                    <a:pt x="6" y="15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504120" y="4356000"/>
              <a:ext cx="20520" cy="284400"/>
            </a:xfrm>
            <a:custGeom>
              <a:avLst/>
              <a:gdLst/>
              <a:ahLst/>
              <a:rect l="l" t="t" r="r" b="b"/>
              <a:pathLst>
                <a:path w="13" h="179">
                  <a:moveTo>
                    <a:pt x="12" y="0"/>
                  </a:moveTo>
                  <a:lnTo>
                    <a:pt x="9" y="2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79"/>
                  </a:lnTo>
                  <a:lnTo>
                    <a:pt x="3" y="176"/>
                  </a:lnTo>
                  <a:lnTo>
                    <a:pt x="7" y="175"/>
                  </a:lnTo>
                  <a:lnTo>
                    <a:pt x="10" y="173"/>
                  </a:lnTo>
                  <a:lnTo>
                    <a:pt x="13" y="17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389640" y="4371840"/>
              <a:ext cx="22320" cy="152640"/>
            </a:xfrm>
            <a:custGeom>
              <a:avLst/>
              <a:gdLst/>
              <a:ahLst/>
              <a:rect l="l" t="t" r="r" b="b"/>
              <a:pathLst>
                <a:path w="14" h="96">
                  <a:moveTo>
                    <a:pt x="0" y="8"/>
                  </a:moveTo>
                  <a:lnTo>
                    <a:pt x="0" y="96"/>
                  </a:lnTo>
                  <a:lnTo>
                    <a:pt x="2" y="96"/>
                  </a:lnTo>
                  <a:lnTo>
                    <a:pt x="3" y="95"/>
                  </a:lnTo>
                  <a:lnTo>
                    <a:pt x="4" y="95"/>
                  </a:lnTo>
                  <a:lnTo>
                    <a:pt x="5" y="95"/>
                  </a:lnTo>
                  <a:lnTo>
                    <a:pt x="6" y="83"/>
                  </a:lnTo>
                  <a:lnTo>
                    <a:pt x="7" y="69"/>
                  </a:lnTo>
                  <a:lnTo>
                    <a:pt x="8" y="56"/>
                  </a:lnTo>
                  <a:lnTo>
                    <a:pt x="10" y="43"/>
                  </a:lnTo>
                  <a:lnTo>
                    <a:pt x="12" y="40"/>
                  </a:lnTo>
                  <a:lnTo>
                    <a:pt x="13" y="36"/>
                  </a:lnTo>
                  <a:lnTo>
                    <a:pt x="13" y="32"/>
                  </a:lnTo>
                  <a:lnTo>
                    <a:pt x="14" y="29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6960" y="4403880"/>
              <a:ext cx="20520" cy="5544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1"/>
                  </a:moveTo>
                  <a:lnTo>
                    <a:pt x="0" y="16"/>
                  </a:lnTo>
                  <a:lnTo>
                    <a:pt x="3" y="20"/>
                  </a:lnTo>
                  <a:lnTo>
                    <a:pt x="7" y="25"/>
                  </a:lnTo>
                  <a:lnTo>
                    <a:pt x="10" y="30"/>
                  </a:lnTo>
                  <a:lnTo>
                    <a:pt x="13" y="35"/>
                  </a:lnTo>
                  <a:lnTo>
                    <a:pt x="13" y="0"/>
                  </a:lnTo>
                  <a:lnTo>
                    <a:pt x="10" y="3"/>
                  </a:lnTo>
                  <a:lnTo>
                    <a:pt x="7" y="7"/>
                  </a:lnTo>
                  <a:lnTo>
                    <a:pt x="3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13600" y="2359080"/>
              <a:ext cx="1206360" cy="2050920"/>
            </a:xfrm>
            <a:custGeom>
              <a:avLst/>
              <a:gdLst/>
              <a:ahLst/>
              <a:rect l="l" t="t" r="r" b="b"/>
              <a:pathLst>
                <a:path w="760" h="1292">
                  <a:moveTo>
                    <a:pt x="401" y="1272"/>
                  </a:moveTo>
                  <a:lnTo>
                    <a:pt x="401" y="1268"/>
                  </a:lnTo>
                  <a:lnTo>
                    <a:pt x="401" y="1263"/>
                  </a:lnTo>
                  <a:lnTo>
                    <a:pt x="401" y="1260"/>
                  </a:lnTo>
                  <a:lnTo>
                    <a:pt x="401" y="1259"/>
                  </a:lnTo>
                  <a:lnTo>
                    <a:pt x="416" y="1256"/>
                  </a:lnTo>
                  <a:lnTo>
                    <a:pt x="430" y="1251"/>
                  </a:lnTo>
                  <a:lnTo>
                    <a:pt x="443" y="1247"/>
                  </a:lnTo>
                  <a:lnTo>
                    <a:pt x="458" y="1241"/>
                  </a:lnTo>
                  <a:lnTo>
                    <a:pt x="471" y="1235"/>
                  </a:lnTo>
                  <a:lnTo>
                    <a:pt x="485" y="1230"/>
                  </a:lnTo>
                  <a:lnTo>
                    <a:pt x="497" y="1223"/>
                  </a:lnTo>
                  <a:lnTo>
                    <a:pt x="511" y="1215"/>
                  </a:lnTo>
                  <a:lnTo>
                    <a:pt x="523" y="1209"/>
                  </a:lnTo>
                  <a:lnTo>
                    <a:pt x="535" y="1201"/>
                  </a:lnTo>
                  <a:lnTo>
                    <a:pt x="547" y="1192"/>
                  </a:lnTo>
                  <a:lnTo>
                    <a:pt x="559" y="1183"/>
                  </a:lnTo>
                  <a:lnTo>
                    <a:pt x="570" y="1174"/>
                  </a:lnTo>
                  <a:lnTo>
                    <a:pt x="581" y="1165"/>
                  </a:lnTo>
                  <a:lnTo>
                    <a:pt x="592" y="1155"/>
                  </a:lnTo>
                  <a:lnTo>
                    <a:pt x="602" y="1145"/>
                  </a:lnTo>
                  <a:lnTo>
                    <a:pt x="617" y="1126"/>
                  </a:lnTo>
                  <a:lnTo>
                    <a:pt x="631" y="1107"/>
                  </a:lnTo>
                  <a:lnTo>
                    <a:pt x="645" y="1088"/>
                  </a:lnTo>
                  <a:lnTo>
                    <a:pt x="658" y="1069"/>
                  </a:lnTo>
                  <a:lnTo>
                    <a:pt x="669" y="1050"/>
                  </a:lnTo>
                  <a:lnTo>
                    <a:pt x="682" y="1030"/>
                  </a:lnTo>
                  <a:lnTo>
                    <a:pt x="692" y="1010"/>
                  </a:lnTo>
                  <a:lnTo>
                    <a:pt x="703" y="989"/>
                  </a:lnTo>
                  <a:lnTo>
                    <a:pt x="715" y="955"/>
                  </a:lnTo>
                  <a:lnTo>
                    <a:pt x="722" y="920"/>
                  </a:lnTo>
                  <a:lnTo>
                    <a:pt x="721" y="884"/>
                  </a:lnTo>
                  <a:lnTo>
                    <a:pt x="716" y="847"/>
                  </a:lnTo>
                  <a:lnTo>
                    <a:pt x="711" y="835"/>
                  </a:lnTo>
                  <a:lnTo>
                    <a:pt x="701" y="823"/>
                  </a:lnTo>
                  <a:lnTo>
                    <a:pt x="689" y="811"/>
                  </a:lnTo>
                  <a:lnTo>
                    <a:pt x="684" y="797"/>
                  </a:lnTo>
                  <a:lnTo>
                    <a:pt x="692" y="747"/>
                  </a:lnTo>
                  <a:lnTo>
                    <a:pt x="705" y="697"/>
                  </a:lnTo>
                  <a:lnTo>
                    <a:pt x="722" y="646"/>
                  </a:lnTo>
                  <a:lnTo>
                    <a:pt x="739" y="596"/>
                  </a:lnTo>
                  <a:lnTo>
                    <a:pt x="752" y="547"/>
                  </a:lnTo>
                  <a:lnTo>
                    <a:pt x="760" y="496"/>
                  </a:lnTo>
                  <a:lnTo>
                    <a:pt x="758" y="445"/>
                  </a:lnTo>
                  <a:lnTo>
                    <a:pt x="744" y="392"/>
                  </a:lnTo>
                  <a:lnTo>
                    <a:pt x="740" y="385"/>
                  </a:lnTo>
                  <a:lnTo>
                    <a:pt x="735" y="377"/>
                  </a:lnTo>
                  <a:lnTo>
                    <a:pt x="730" y="370"/>
                  </a:lnTo>
                  <a:lnTo>
                    <a:pt x="724" y="363"/>
                  </a:lnTo>
                  <a:lnTo>
                    <a:pt x="718" y="357"/>
                  </a:lnTo>
                  <a:lnTo>
                    <a:pt x="712" y="351"/>
                  </a:lnTo>
                  <a:lnTo>
                    <a:pt x="705" y="344"/>
                  </a:lnTo>
                  <a:lnTo>
                    <a:pt x="698" y="338"/>
                  </a:lnTo>
                  <a:lnTo>
                    <a:pt x="680" y="322"/>
                  </a:lnTo>
                  <a:lnTo>
                    <a:pt x="660" y="310"/>
                  </a:lnTo>
                  <a:lnTo>
                    <a:pt x="639" y="299"/>
                  </a:lnTo>
                  <a:lnTo>
                    <a:pt x="618" y="288"/>
                  </a:lnTo>
                  <a:lnTo>
                    <a:pt x="598" y="277"/>
                  </a:lnTo>
                  <a:lnTo>
                    <a:pt x="579" y="266"/>
                  </a:lnTo>
                  <a:lnTo>
                    <a:pt x="561" y="250"/>
                  </a:lnTo>
                  <a:lnTo>
                    <a:pt x="547" y="233"/>
                  </a:lnTo>
                  <a:lnTo>
                    <a:pt x="541" y="210"/>
                  </a:lnTo>
                  <a:lnTo>
                    <a:pt x="541" y="186"/>
                  </a:lnTo>
                  <a:lnTo>
                    <a:pt x="542" y="160"/>
                  </a:lnTo>
                  <a:lnTo>
                    <a:pt x="543" y="132"/>
                  </a:lnTo>
                  <a:lnTo>
                    <a:pt x="541" y="119"/>
                  </a:lnTo>
                  <a:lnTo>
                    <a:pt x="536" y="107"/>
                  </a:lnTo>
                  <a:lnTo>
                    <a:pt x="530" y="96"/>
                  </a:lnTo>
                  <a:lnTo>
                    <a:pt x="523" y="85"/>
                  </a:lnTo>
                  <a:lnTo>
                    <a:pt x="515" y="74"/>
                  </a:lnTo>
                  <a:lnTo>
                    <a:pt x="507" y="64"/>
                  </a:lnTo>
                  <a:lnTo>
                    <a:pt x="499" y="53"/>
                  </a:lnTo>
                  <a:lnTo>
                    <a:pt x="493" y="41"/>
                  </a:lnTo>
                  <a:lnTo>
                    <a:pt x="489" y="36"/>
                  </a:lnTo>
                  <a:lnTo>
                    <a:pt x="486" y="30"/>
                  </a:lnTo>
                  <a:lnTo>
                    <a:pt x="481" y="25"/>
                  </a:lnTo>
                  <a:lnTo>
                    <a:pt x="477" y="19"/>
                  </a:lnTo>
                  <a:lnTo>
                    <a:pt x="471" y="13"/>
                  </a:lnTo>
                  <a:lnTo>
                    <a:pt x="466" y="9"/>
                  </a:lnTo>
                  <a:lnTo>
                    <a:pt x="460" y="5"/>
                  </a:lnTo>
                  <a:lnTo>
                    <a:pt x="454" y="0"/>
                  </a:lnTo>
                  <a:lnTo>
                    <a:pt x="437" y="3"/>
                  </a:lnTo>
                  <a:lnTo>
                    <a:pt x="420" y="5"/>
                  </a:lnTo>
                  <a:lnTo>
                    <a:pt x="403" y="7"/>
                  </a:lnTo>
                  <a:lnTo>
                    <a:pt x="385" y="7"/>
                  </a:lnTo>
                  <a:lnTo>
                    <a:pt x="369" y="8"/>
                  </a:lnTo>
                  <a:lnTo>
                    <a:pt x="351" y="9"/>
                  </a:lnTo>
                  <a:lnTo>
                    <a:pt x="334" y="10"/>
                  </a:lnTo>
                  <a:lnTo>
                    <a:pt x="317" y="11"/>
                  </a:lnTo>
                  <a:lnTo>
                    <a:pt x="300" y="20"/>
                  </a:lnTo>
                  <a:lnTo>
                    <a:pt x="282" y="29"/>
                  </a:lnTo>
                  <a:lnTo>
                    <a:pt x="266" y="37"/>
                  </a:lnTo>
                  <a:lnTo>
                    <a:pt x="248" y="46"/>
                  </a:lnTo>
                  <a:lnTo>
                    <a:pt x="231" y="55"/>
                  </a:lnTo>
                  <a:lnTo>
                    <a:pt x="214" y="65"/>
                  </a:lnTo>
                  <a:lnTo>
                    <a:pt x="199" y="76"/>
                  </a:lnTo>
                  <a:lnTo>
                    <a:pt x="183" y="88"/>
                  </a:lnTo>
                  <a:lnTo>
                    <a:pt x="174" y="101"/>
                  </a:lnTo>
                  <a:lnTo>
                    <a:pt x="164" y="113"/>
                  </a:lnTo>
                  <a:lnTo>
                    <a:pt x="153" y="125"/>
                  </a:lnTo>
                  <a:lnTo>
                    <a:pt x="143" y="138"/>
                  </a:lnTo>
                  <a:lnTo>
                    <a:pt x="133" y="150"/>
                  </a:lnTo>
                  <a:lnTo>
                    <a:pt x="124" y="162"/>
                  </a:lnTo>
                  <a:lnTo>
                    <a:pt x="117" y="176"/>
                  </a:lnTo>
                  <a:lnTo>
                    <a:pt x="111" y="190"/>
                  </a:lnTo>
                  <a:lnTo>
                    <a:pt x="109" y="206"/>
                  </a:lnTo>
                  <a:lnTo>
                    <a:pt x="108" y="221"/>
                  </a:lnTo>
                  <a:lnTo>
                    <a:pt x="106" y="237"/>
                  </a:lnTo>
                  <a:lnTo>
                    <a:pt x="100" y="252"/>
                  </a:lnTo>
                  <a:lnTo>
                    <a:pt x="99" y="266"/>
                  </a:lnTo>
                  <a:lnTo>
                    <a:pt x="98" y="281"/>
                  </a:lnTo>
                  <a:lnTo>
                    <a:pt x="96" y="294"/>
                  </a:lnTo>
                  <a:lnTo>
                    <a:pt x="92" y="307"/>
                  </a:lnTo>
                  <a:lnTo>
                    <a:pt x="87" y="321"/>
                  </a:lnTo>
                  <a:lnTo>
                    <a:pt x="81" y="334"/>
                  </a:lnTo>
                  <a:lnTo>
                    <a:pt x="73" y="347"/>
                  </a:lnTo>
                  <a:lnTo>
                    <a:pt x="64" y="358"/>
                  </a:lnTo>
                  <a:lnTo>
                    <a:pt x="57" y="372"/>
                  </a:lnTo>
                  <a:lnTo>
                    <a:pt x="50" y="388"/>
                  </a:lnTo>
                  <a:lnTo>
                    <a:pt x="43" y="405"/>
                  </a:lnTo>
                  <a:lnTo>
                    <a:pt x="38" y="420"/>
                  </a:lnTo>
                  <a:lnTo>
                    <a:pt x="34" y="437"/>
                  </a:lnTo>
                  <a:lnTo>
                    <a:pt x="34" y="454"/>
                  </a:lnTo>
                  <a:lnTo>
                    <a:pt x="37" y="471"/>
                  </a:lnTo>
                  <a:lnTo>
                    <a:pt x="43" y="487"/>
                  </a:lnTo>
                  <a:lnTo>
                    <a:pt x="51" y="482"/>
                  </a:lnTo>
                  <a:lnTo>
                    <a:pt x="60" y="479"/>
                  </a:lnTo>
                  <a:lnTo>
                    <a:pt x="68" y="476"/>
                  </a:lnTo>
                  <a:lnTo>
                    <a:pt x="78" y="474"/>
                  </a:lnTo>
                  <a:lnTo>
                    <a:pt x="87" y="474"/>
                  </a:lnTo>
                  <a:lnTo>
                    <a:pt x="97" y="473"/>
                  </a:lnTo>
                  <a:lnTo>
                    <a:pt x="106" y="473"/>
                  </a:lnTo>
                  <a:lnTo>
                    <a:pt x="116" y="472"/>
                  </a:lnTo>
                  <a:lnTo>
                    <a:pt x="128" y="468"/>
                  </a:lnTo>
                  <a:lnTo>
                    <a:pt x="140" y="467"/>
                  </a:lnTo>
                  <a:lnTo>
                    <a:pt x="154" y="466"/>
                  </a:lnTo>
                  <a:lnTo>
                    <a:pt x="166" y="465"/>
                  </a:lnTo>
                  <a:lnTo>
                    <a:pt x="180" y="465"/>
                  </a:lnTo>
                  <a:lnTo>
                    <a:pt x="192" y="466"/>
                  </a:lnTo>
                  <a:lnTo>
                    <a:pt x="205" y="466"/>
                  </a:lnTo>
                  <a:lnTo>
                    <a:pt x="218" y="467"/>
                  </a:lnTo>
                  <a:lnTo>
                    <a:pt x="219" y="461"/>
                  </a:lnTo>
                  <a:lnTo>
                    <a:pt x="222" y="454"/>
                  </a:lnTo>
                  <a:lnTo>
                    <a:pt x="227" y="448"/>
                  </a:lnTo>
                  <a:lnTo>
                    <a:pt x="232" y="444"/>
                  </a:lnTo>
                  <a:lnTo>
                    <a:pt x="238" y="441"/>
                  </a:lnTo>
                  <a:lnTo>
                    <a:pt x="243" y="436"/>
                  </a:lnTo>
                  <a:lnTo>
                    <a:pt x="250" y="433"/>
                  </a:lnTo>
                  <a:lnTo>
                    <a:pt x="256" y="429"/>
                  </a:lnTo>
                  <a:lnTo>
                    <a:pt x="272" y="422"/>
                  </a:lnTo>
                  <a:lnTo>
                    <a:pt x="290" y="416"/>
                  </a:lnTo>
                  <a:lnTo>
                    <a:pt x="309" y="413"/>
                  </a:lnTo>
                  <a:lnTo>
                    <a:pt x="329" y="411"/>
                  </a:lnTo>
                  <a:lnTo>
                    <a:pt x="348" y="413"/>
                  </a:lnTo>
                  <a:lnTo>
                    <a:pt x="369" y="417"/>
                  </a:lnTo>
                  <a:lnTo>
                    <a:pt x="386" y="424"/>
                  </a:lnTo>
                  <a:lnTo>
                    <a:pt x="402" y="433"/>
                  </a:lnTo>
                  <a:lnTo>
                    <a:pt x="411" y="438"/>
                  </a:lnTo>
                  <a:lnTo>
                    <a:pt x="419" y="446"/>
                  </a:lnTo>
                  <a:lnTo>
                    <a:pt x="426" y="454"/>
                  </a:lnTo>
                  <a:lnTo>
                    <a:pt x="430" y="463"/>
                  </a:lnTo>
                  <a:lnTo>
                    <a:pt x="435" y="473"/>
                  </a:lnTo>
                  <a:lnTo>
                    <a:pt x="438" y="482"/>
                  </a:lnTo>
                  <a:lnTo>
                    <a:pt x="439" y="493"/>
                  </a:lnTo>
                  <a:lnTo>
                    <a:pt x="440" y="503"/>
                  </a:lnTo>
                  <a:lnTo>
                    <a:pt x="445" y="504"/>
                  </a:lnTo>
                  <a:lnTo>
                    <a:pt x="449" y="505"/>
                  </a:lnTo>
                  <a:lnTo>
                    <a:pt x="455" y="505"/>
                  </a:lnTo>
                  <a:lnTo>
                    <a:pt x="459" y="505"/>
                  </a:lnTo>
                  <a:lnTo>
                    <a:pt x="478" y="510"/>
                  </a:lnTo>
                  <a:lnTo>
                    <a:pt x="497" y="513"/>
                  </a:lnTo>
                  <a:lnTo>
                    <a:pt x="517" y="515"/>
                  </a:lnTo>
                  <a:lnTo>
                    <a:pt x="537" y="518"/>
                  </a:lnTo>
                  <a:lnTo>
                    <a:pt x="556" y="519"/>
                  </a:lnTo>
                  <a:lnTo>
                    <a:pt x="576" y="521"/>
                  </a:lnTo>
                  <a:lnTo>
                    <a:pt x="596" y="524"/>
                  </a:lnTo>
                  <a:lnTo>
                    <a:pt x="615" y="528"/>
                  </a:lnTo>
                  <a:lnTo>
                    <a:pt x="627" y="532"/>
                  </a:lnTo>
                  <a:lnTo>
                    <a:pt x="639" y="536"/>
                  </a:lnTo>
                  <a:lnTo>
                    <a:pt x="653" y="540"/>
                  </a:lnTo>
                  <a:lnTo>
                    <a:pt x="665" y="545"/>
                  </a:lnTo>
                  <a:lnTo>
                    <a:pt x="677" y="549"/>
                  </a:lnTo>
                  <a:lnTo>
                    <a:pt x="688" y="553"/>
                  </a:lnTo>
                  <a:lnTo>
                    <a:pt x="701" y="558"/>
                  </a:lnTo>
                  <a:lnTo>
                    <a:pt x="712" y="562"/>
                  </a:lnTo>
                  <a:lnTo>
                    <a:pt x="702" y="560"/>
                  </a:lnTo>
                  <a:lnTo>
                    <a:pt x="691" y="558"/>
                  </a:lnTo>
                  <a:lnTo>
                    <a:pt x="680" y="556"/>
                  </a:lnTo>
                  <a:lnTo>
                    <a:pt x="670" y="553"/>
                  </a:lnTo>
                  <a:lnTo>
                    <a:pt x="659" y="551"/>
                  </a:lnTo>
                  <a:lnTo>
                    <a:pt x="649" y="549"/>
                  </a:lnTo>
                  <a:lnTo>
                    <a:pt x="638" y="547"/>
                  </a:lnTo>
                  <a:lnTo>
                    <a:pt x="628" y="543"/>
                  </a:lnTo>
                  <a:lnTo>
                    <a:pt x="625" y="543"/>
                  </a:lnTo>
                  <a:lnTo>
                    <a:pt x="622" y="543"/>
                  </a:lnTo>
                  <a:lnTo>
                    <a:pt x="620" y="543"/>
                  </a:lnTo>
                  <a:lnTo>
                    <a:pt x="618" y="541"/>
                  </a:lnTo>
                  <a:lnTo>
                    <a:pt x="611" y="542"/>
                  </a:lnTo>
                  <a:lnTo>
                    <a:pt x="602" y="541"/>
                  </a:lnTo>
                  <a:lnTo>
                    <a:pt x="594" y="540"/>
                  </a:lnTo>
                  <a:lnTo>
                    <a:pt x="587" y="537"/>
                  </a:lnTo>
                  <a:lnTo>
                    <a:pt x="568" y="538"/>
                  </a:lnTo>
                  <a:lnTo>
                    <a:pt x="549" y="537"/>
                  </a:lnTo>
                  <a:lnTo>
                    <a:pt x="530" y="536"/>
                  </a:lnTo>
                  <a:lnTo>
                    <a:pt x="511" y="533"/>
                  </a:lnTo>
                  <a:lnTo>
                    <a:pt x="493" y="531"/>
                  </a:lnTo>
                  <a:lnTo>
                    <a:pt x="474" y="529"/>
                  </a:lnTo>
                  <a:lnTo>
                    <a:pt x="456" y="528"/>
                  </a:lnTo>
                  <a:lnTo>
                    <a:pt x="437" y="527"/>
                  </a:lnTo>
                  <a:lnTo>
                    <a:pt x="432" y="534"/>
                  </a:lnTo>
                  <a:lnTo>
                    <a:pt x="428" y="543"/>
                  </a:lnTo>
                  <a:lnTo>
                    <a:pt x="423" y="552"/>
                  </a:lnTo>
                  <a:lnTo>
                    <a:pt x="419" y="560"/>
                  </a:lnTo>
                  <a:lnTo>
                    <a:pt x="413" y="568"/>
                  </a:lnTo>
                  <a:lnTo>
                    <a:pt x="407" y="576"/>
                  </a:lnTo>
                  <a:lnTo>
                    <a:pt x="399" y="581"/>
                  </a:lnTo>
                  <a:lnTo>
                    <a:pt x="389" y="585"/>
                  </a:lnTo>
                  <a:lnTo>
                    <a:pt x="371" y="590"/>
                  </a:lnTo>
                  <a:lnTo>
                    <a:pt x="353" y="594"/>
                  </a:lnTo>
                  <a:lnTo>
                    <a:pt x="334" y="595"/>
                  </a:lnTo>
                  <a:lnTo>
                    <a:pt x="315" y="594"/>
                  </a:lnTo>
                  <a:lnTo>
                    <a:pt x="297" y="590"/>
                  </a:lnTo>
                  <a:lnTo>
                    <a:pt x="279" y="585"/>
                  </a:lnTo>
                  <a:lnTo>
                    <a:pt x="262" y="576"/>
                  </a:lnTo>
                  <a:lnTo>
                    <a:pt x="248" y="566"/>
                  </a:lnTo>
                  <a:lnTo>
                    <a:pt x="239" y="557"/>
                  </a:lnTo>
                  <a:lnTo>
                    <a:pt x="231" y="548"/>
                  </a:lnTo>
                  <a:lnTo>
                    <a:pt x="225" y="538"/>
                  </a:lnTo>
                  <a:lnTo>
                    <a:pt x="220" y="528"/>
                  </a:lnTo>
                  <a:lnTo>
                    <a:pt x="215" y="517"/>
                  </a:lnTo>
                  <a:lnTo>
                    <a:pt x="213" y="505"/>
                  </a:lnTo>
                  <a:lnTo>
                    <a:pt x="212" y="493"/>
                  </a:lnTo>
                  <a:lnTo>
                    <a:pt x="212" y="481"/>
                  </a:lnTo>
                  <a:lnTo>
                    <a:pt x="206" y="480"/>
                  </a:lnTo>
                  <a:lnTo>
                    <a:pt x="202" y="480"/>
                  </a:lnTo>
                  <a:lnTo>
                    <a:pt x="196" y="480"/>
                  </a:lnTo>
                  <a:lnTo>
                    <a:pt x="191" y="480"/>
                  </a:lnTo>
                  <a:lnTo>
                    <a:pt x="185" y="480"/>
                  </a:lnTo>
                  <a:lnTo>
                    <a:pt x="181" y="480"/>
                  </a:lnTo>
                  <a:lnTo>
                    <a:pt x="175" y="480"/>
                  </a:lnTo>
                  <a:lnTo>
                    <a:pt x="171" y="480"/>
                  </a:lnTo>
                  <a:lnTo>
                    <a:pt x="156" y="481"/>
                  </a:lnTo>
                  <a:lnTo>
                    <a:pt x="143" y="482"/>
                  </a:lnTo>
                  <a:lnTo>
                    <a:pt x="129" y="485"/>
                  </a:lnTo>
                  <a:lnTo>
                    <a:pt x="116" y="489"/>
                  </a:lnTo>
                  <a:lnTo>
                    <a:pt x="104" y="493"/>
                  </a:lnTo>
                  <a:lnTo>
                    <a:pt x="91" y="498"/>
                  </a:lnTo>
                  <a:lnTo>
                    <a:pt x="79" y="502"/>
                  </a:lnTo>
                  <a:lnTo>
                    <a:pt x="67" y="508"/>
                  </a:lnTo>
                  <a:lnTo>
                    <a:pt x="54" y="511"/>
                  </a:lnTo>
                  <a:lnTo>
                    <a:pt x="51" y="522"/>
                  </a:lnTo>
                  <a:lnTo>
                    <a:pt x="50" y="534"/>
                  </a:lnTo>
                  <a:lnTo>
                    <a:pt x="41" y="543"/>
                  </a:lnTo>
                  <a:lnTo>
                    <a:pt x="35" y="558"/>
                  </a:lnTo>
                  <a:lnTo>
                    <a:pt x="29" y="572"/>
                  </a:lnTo>
                  <a:lnTo>
                    <a:pt x="22" y="587"/>
                  </a:lnTo>
                  <a:lnTo>
                    <a:pt x="15" y="602"/>
                  </a:lnTo>
                  <a:lnTo>
                    <a:pt x="10" y="616"/>
                  </a:lnTo>
                  <a:lnTo>
                    <a:pt x="4" y="631"/>
                  </a:lnTo>
                  <a:lnTo>
                    <a:pt x="1" y="646"/>
                  </a:lnTo>
                  <a:lnTo>
                    <a:pt x="0" y="663"/>
                  </a:lnTo>
                  <a:lnTo>
                    <a:pt x="1" y="666"/>
                  </a:lnTo>
                  <a:lnTo>
                    <a:pt x="2" y="669"/>
                  </a:lnTo>
                  <a:lnTo>
                    <a:pt x="4" y="671"/>
                  </a:lnTo>
                  <a:lnTo>
                    <a:pt x="6" y="673"/>
                  </a:lnTo>
                  <a:lnTo>
                    <a:pt x="11" y="676"/>
                  </a:lnTo>
                  <a:lnTo>
                    <a:pt x="15" y="680"/>
                  </a:lnTo>
                  <a:lnTo>
                    <a:pt x="20" y="681"/>
                  </a:lnTo>
                  <a:lnTo>
                    <a:pt x="25" y="682"/>
                  </a:lnTo>
                  <a:lnTo>
                    <a:pt x="31" y="682"/>
                  </a:lnTo>
                  <a:lnTo>
                    <a:pt x="37" y="682"/>
                  </a:lnTo>
                  <a:lnTo>
                    <a:pt x="42" y="682"/>
                  </a:lnTo>
                  <a:lnTo>
                    <a:pt x="48" y="681"/>
                  </a:lnTo>
                  <a:lnTo>
                    <a:pt x="58" y="680"/>
                  </a:lnTo>
                  <a:lnTo>
                    <a:pt x="69" y="679"/>
                  </a:lnTo>
                  <a:lnTo>
                    <a:pt x="79" y="678"/>
                  </a:lnTo>
                  <a:lnTo>
                    <a:pt x="90" y="679"/>
                  </a:lnTo>
                  <a:lnTo>
                    <a:pt x="101" y="680"/>
                  </a:lnTo>
                  <a:lnTo>
                    <a:pt x="111" y="683"/>
                  </a:lnTo>
                  <a:lnTo>
                    <a:pt x="120" y="688"/>
                  </a:lnTo>
                  <a:lnTo>
                    <a:pt x="128" y="694"/>
                  </a:lnTo>
                  <a:lnTo>
                    <a:pt x="132" y="695"/>
                  </a:lnTo>
                  <a:lnTo>
                    <a:pt x="134" y="698"/>
                  </a:lnTo>
                  <a:lnTo>
                    <a:pt x="137" y="700"/>
                  </a:lnTo>
                  <a:lnTo>
                    <a:pt x="138" y="703"/>
                  </a:lnTo>
                  <a:lnTo>
                    <a:pt x="136" y="705"/>
                  </a:lnTo>
                  <a:lnTo>
                    <a:pt x="133" y="709"/>
                  </a:lnTo>
                  <a:lnTo>
                    <a:pt x="130" y="710"/>
                  </a:lnTo>
                  <a:lnTo>
                    <a:pt x="127" y="711"/>
                  </a:lnTo>
                  <a:lnTo>
                    <a:pt x="120" y="714"/>
                  </a:lnTo>
                  <a:lnTo>
                    <a:pt x="115" y="718"/>
                  </a:lnTo>
                  <a:lnTo>
                    <a:pt x="108" y="721"/>
                  </a:lnTo>
                  <a:lnTo>
                    <a:pt x="101" y="725"/>
                  </a:lnTo>
                  <a:lnTo>
                    <a:pt x="96" y="729"/>
                  </a:lnTo>
                  <a:lnTo>
                    <a:pt x="90" y="733"/>
                  </a:lnTo>
                  <a:lnTo>
                    <a:pt x="85" y="737"/>
                  </a:lnTo>
                  <a:lnTo>
                    <a:pt x="79" y="741"/>
                  </a:lnTo>
                  <a:lnTo>
                    <a:pt x="82" y="759"/>
                  </a:lnTo>
                  <a:lnTo>
                    <a:pt x="85" y="778"/>
                  </a:lnTo>
                  <a:lnTo>
                    <a:pt x="86" y="796"/>
                  </a:lnTo>
                  <a:lnTo>
                    <a:pt x="83" y="814"/>
                  </a:lnTo>
                  <a:lnTo>
                    <a:pt x="83" y="836"/>
                  </a:lnTo>
                  <a:lnTo>
                    <a:pt x="80" y="859"/>
                  </a:lnTo>
                  <a:lnTo>
                    <a:pt x="75" y="879"/>
                  </a:lnTo>
                  <a:lnTo>
                    <a:pt x="69" y="900"/>
                  </a:lnTo>
                  <a:lnTo>
                    <a:pt x="67" y="908"/>
                  </a:lnTo>
                  <a:lnTo>
                    <a:pt x="68" y="917"/>
                  </a:lnTo>
                  <a:lnTo>
                    <a:pt x="70" y="924"/>
                  </a:lnTo>
                  <a:lnTo>
                    <a:pt x="75" y="930"/>
                  </a:lnTo>
                  <a:lnTo>
                    <a:pt x="86" y="934"/>
                  </a:lnTo>
                  <a:lnTo>
                    <a:pt x="98" y="935"/>
                  </a:lnTo>
                  <a:lnTo>
                    <a:pt x="110" y="936"/>
                  </a:lnTo>
                  <a:lnTo>
                    <a:pt x="123" y="936"/>
                  </a:lnTo>
                  <a:lnTo>
                    <a:pt x="136" y="936"/>
                  </a:lnTo>
                  <a:lnTo>
                    <a:pt x="148" y="936"/>
                  </a:lnTo>
                  <a:lnTo>
                    <a:pt x="159" y="937"/>
                  </a:lnTo>
                  <a:lnTo>
                    <a:pt x="171" y="939"/>
                  </a:lnTo>
                  <a:lnTo>
                    <a:pt x="165" y="927"/>
                  </a:lnTo>
                  <a:lnTo>
                    <a:pt x="159" y="913"/>
                  </a:lnTo>
                  <a:lnTo>
                    <a:pt x="154" y="900"/>
                  </a:lnTo>
                  <a:lnTo>
                    <a:pt x="149" y="888"/>
                  </a:lnTo>
                  <a:lnTo>
                    <a:pt x="157" y="894"/>
                  </a:lnTo>
                  <a:lnTo>
                    <a:pt x="164" y="901"/>
                  </a:lnTo>
                  <a:lnTo>
                    <a:pt x="171" y="908"/>
                  </a:lnTo>
                  <a:lnTo>
                    <a:pt x="176" y="915"/>
                  </a:lnTo>
                  <a:lnTo>
                    <a:pt x="182" y="922"/>
                  </a:lnTo>
                  <a:lnTo>
                    <a:pt x="187" y="930"/>
                  </a:lnTo>
                  <a:lnTo>
                    <a:pt x="192" y="938"/>
                  </a:lnTo>
                  <a:lnTo>
                    <a:pt x="196" y="946"/>
                  </a:lnTo>
                  <a:lnTo>
                    <a:pt x="199" y="958"/>
                  </a:lnTo>
                  <a:lnTo>
                    <a:pt x="199" y="970"/>
                  </a:lnTo>
                  <a:lnTo>
                    <a:pt x="196" y="984"/>
                  </a:lnTo>
                  <a:lnTo>
                    <a:pt x="192" y="995"/>
                  </a:lnTo>
                  <a:lnTo>
                    <a:pt x="190" y="984"/>
                  </a:lnTo>
                  <a:lnTo>
                    <a:pt x="186" y="973"/>
                  </a:lnTo>
                  <a:lnTo>
                    <a:pt x="181" y="962"/>
                  </a:lnTo>
                  <a:lnTo>
                    <a:pt x="176" y="951"/>
                  </a:lnTo>
                  <a:lnTo>
                    <a:pt x="165" y="951"/>
                  </a:lnTo>
                  <a:lnTo>
                    <a:pt x="155" y="953"/>
                  </a:lnTo>
                  <a:lnTo>
                    <a:pt x="144" y="953"/>
                  </a:lnTo>
                  <a:lnTo>
                    <a:pt x="133" y="954"/>
                  </a:lnTo>
                  <a:lnTo>
                    <a:pt x="120" y="954"/>
                  </a:lnTo>
                  <a:lnTo>
                    <a:pt x="109" y="954"/>
                  </a:lnTo>
                  <a:lnTo>
                    <a:pt x="99" y="954"/>
                  </a:lnTo>
                  <a:lnTo>
                    <a:pt x="88" y="953"/>
                  </a:lnTo>
                  <a:lnTo>
                    <a:pt x="87" y="955"/>
                  </a:lnTo>
                  <a:lnTo>
                    <a:pt x="86" y="957"/>
                  </a:lnTo>
                  <a:lnTo>
                    <a:pt x="85" y="960"/>
                  </a:lnTo>
                  <a:lnTo>
                    <a:pt x="83" y="963"/>
                  </a:lnTo>
                  <a:lnTo>
                    <a:pt x="82" y="968"/>
                  </a:lnTo>
                  <a:lnTo>
                    <a:pt x="82" y="974"/>
                  </a:lnTo>
                  <a:lnTo>
                    <a:pt x="83" y="979"/>
                  </a:lnTo>
                  <a:lnTo>
                    <a:pt x="88" y="984"/>
                  </a:lnTo>
                  <a:lnTo>
                    <a:pt x="98" y="988"/>
                  </a:lnTo>
                  <a:lnTo>
                    <a:pt x="109" y="992"/>
                  </a:lnTo>
                  <a:lnTo>
                    <a:pt x="120" y="992"/>
                  </a:lnTo>
                  <a:lnTo>
                    <a:pt x="132" y="991"/>
                  </a:lnTo>
                  <a:lnTo>
                    <a:pt x="143" y="987"/>
                  </a:lnTo>
                  <a:lnTo>
                    <a:pt x="154" y="984"/>
                  </a:lnTo>
                  <a:lnTo>
                    <a:pt x="164" y="981"/>
                  </a:lnTo>
                  <a:lnTo>
                    <a:pt x="174" y="977"/>
                  </a:lnTo>
                  <a:lnTo>
                    <a:pt x="170" y="984"/>
                  </a:lnTo>
                  <a:lnTo>
                    <a:pt x="165" y="991"/>
                  </a:lnTo>
                  <a:lnTo>
                    <a:pt x="159" y="997"/>
                  </a:lnTo>
                  <a:lnTo>
                    <a:pt x="155" y="1003"/>
                  </a:lnTo>
                  <a:lnTo>
                    <a:pt x="148" y="1010"/>
                  </a:lnTo>
                  <a:lnTo>
                    <a:pt x="143" y="1015"/>
                  </a:lnTo>
                  <a:lnTo>
                    <a:pt x="136" y="1020"/>
                  </a:lnTo>
                  <a:lnTo>
                    <a:pt x="128" y="1023"/>
                  </a:lnTo>
                  <a:lnTo>
                    <a:pt x="130" y="1051"/>
                  </a:lnTo>
                  <a:lnTo>
                    <a:pt x="130" y="1079"/>
                  </a:lnTo>
                  <a:lnTo>
                    <a:pt x="128" y="1108"/>
                  </a:lnTo>
                  <a:lnTo>
                    <a:pt x="126" y="1136"/>
                  </a:lnTo>
                  <a:lnTo>
                    <a:pt x="128" y="1154"/>
                  </a:lnTo>
                  <a:lnTo>
                    <a:pt x="133" y="1172"/>
                  </a:lnTo>
                  <a:lnTo>
                    <a:pt x="140" y="1188"/>
                  </a:lnTo>
                  <a:lnTo>
                    <a:pt x="152" y="1204"/>
                  </a:lnTo>
                  <a:lnTo>
                    <a:pt x="157" y="1203"/>
                  </a:lnTo>
                  <a:lnTo>
                    <a:pt x="165" y="1199"/>
                  </a:lnTo>
                  <a:lnTo>
                    <a:pt x="172" y="1195"/>
                  </a:lnTo>
                  <a:lnTo>
                    <a:pt x="177" y="1194"/>
                  </a:lnTo>
                  <a:lnTo>
                    <a:pt x="184" y="1197"/>
                  </a:lnTo>
                  <a:lnTo>
                    <a:pt x="190" y="1201"/>
                  </a:lnTo>
                  <a:lnTo>
                    <a:pt x="194" y="1205"/>
                  </a:lnTo>
                  <a:lnTo>
                    <a:pt x="199" y="1211"/>
                  </a:lnTo>
                  <a:lnTo>
                    <a:pt x="217" y="1206"/>
                  </a:lnTo>
                  <a:lnTo>
                    <a:pt x="233" y="1202"/>
                  </a:lnTo>
                  <a:lnTo>
                    <a:pt x="251" y="1196"/>
                  </a:lnTo>
                  <a:lnTo>
                    <a:pt x="269" y="1192"/>
                  </a:lnTo>
                  <a:lnTo>
                    <a:pt x="287" y="1186"/>
                  </a:lnTo>
                  <a:lnTo>
                    <a:pt x="305" y="1183"/>
                  </a:lnTo>
                  <a:lnTo>
                    <a:pt x="323" y="1181"/>
                  </a:lnTo>
                  <a:lnTo>
                    <a:pt x="342" y="1180"/>
                  </a:lnTo>
                  <a:lnTo>
                    <a:pt x="337" y="1195"/>
                  </a:lnTo>
                  <a:lnTo>
                    <a:pt x="331" y="1210"/>
                  </a:lnTo>
                  <a:lnTo>
                    <a:pt x="324" y="1223"/>
                  </a:lnTo>
                  <a:lnTo>
                    <a:pt x="317" y="1235"/>
                  </a:lnTo>
                  <a:lnTo>
                    <a:pt x="310" y="1247"/>
                  </a:lnTo>
                  <a:lnTo>
                    <a:pt x="304" y="1258"/>
                  </a:lnTo>
                  <a:lnTo>
                    <a:pt x="298" y="1269"/>
                  </a:lnTo>
                  <a:lnTo>
                    <a:pt x="295" y="1280"/>
                  </a:lnTo>
                  <a:lnTo>
                    <a:pt x="304" y="1281"/>
                  </a:lnTo>
                  <a:lnTo>
                    <a:pt x="313" y="1283"/>
                  </a:lnTo>
                  <a:lnTo>
                    <a:pt x="322" y="1285"/>
                  </a:lnTo>
                  <a:lnTo>
                    <a:pt x="331" y="1287"/>
                  </a:lnTo>
                  <a:lnTo>
                    <a:pt x="339" y="1288"/>
                  </a:lnTo>
                  <a:lnTo>
                    <a:pt x="348" y="1290"/>
                  </a:lnTo>
                  <a:lnTo>
                    <a:pt x="357" y="1291"/>
                  </a:lnTo>
                  <a:lnTo>
                    <a:pt x="366" y="1292"/>
                  </a:lnTo>
                  <a:lnTo>
                    <a:pt x="371" y="1290"/>
                  </a:lnTo>
                  <a:lnTo>
                    <a:pt x="375" y="1288"/>
                  </a:lnTo>
                  <a:lnTo>
                    <a:pt x="381" y="1286"/>
                  </a:lnTo>
                  <a:lnTo>
                    <a:pt x="385" y="1283"/>
                  </a:lnTo>
                  <a:lnTo>
                    <a:pt x="390" y="1281"/>
                  </a:lnTo>
                  <a:lnTo>
                    <a:pt x="394" y="1279"/>
                  </a:lnTo>
                  <a:lnTo>
                    <a:pt x="398" y="1276"/>
                  </a:lnTo>
                  <a:lnTo>
                    <a:pt x="401" y="127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94640" y="2359080"/>
              <a:ext cx="896760" cy="2055600"/>
            </a:xfrm>
            <a:custGeom>
              <a:avLst/>
              <a:gdLst/>
              <a:ahLst/>
              <a:rect l="l" t="t" r="r" b="b"/>
              <a:pathLst>
                <a:path w="565" h="1295">
                  <a:moveTo>
                    <a:pt x="194" y="1242"/>
                  </a:moveTo>
                  <a:lnTo>
                    <a:pt x="216" y="1237"/>
                  </a:lnTo>
                  <a:lnTo>
                    <a:pt x="238" y="1232"/>
                  </a:lnTo>
                  <a:lnTo>
                    <a:pt x="261" y="1228"/>
                  </a:lnTo>
                  <a:lnTo>
                    <a:pt x="283" y="1222"/>
                  </a:lnTo>
                  <a:lnTo>
                    <a:pt x="304" y="1214"/>
                  </a:lnTo>
                  <a:lnTo>
                    <a:pt x="325" y="1205"/>
                  </a:lnTo>
                  <a:lnTo>
                    <a:pt x="344" y="1192"/>
                  </a:lnTo>
                  <a:lnTo>
                    <a:pt x="360" y="1174"/>
                  </a:lnTo>
                  <a:lnTo>
                    <a:pt x="368" y="1159"/>
                  </a:lnTo>
                  <a:lnTo>
                    <a:pt x="378" y="1146"/>
                  </a:lnTo>
                  <a:lnTo>
                    <a:pt x="389" y="1134"/>
                  </a:lnTo>
                  <a:lnTo>
                    <a:pt x="402" y="1121"/>
                  </a:lnTo>
                  <a:lnTo>
                    <a:pt x="415" y="1111"/>
                  </a:lnTo>
                  <a:lnTo>
                    <a:pt x="429" y="1100"/>
                  </a:lnTo>
                  <a:lnTo>
                    <a:pt x="442" y="1091"/>
                  </a:lnTo>
                  <a:lnTo>
                    <a:pt x="455" y="1081"/>
                  </a:lnTo>
                  <a:lnTo>
                    <a:pt x="456" y="1045"/>
                  </a:lnTo>
                  <a:lnTo>
                    <a:pt x="455" y="1010"/>
                  </a:lnTo>
                  <a:lnTo>
                    <a:pt x="452" y="974"/>
                  </a:lnTo>
                  <a:lnTo>
                    <a:pt x="448" y="939"/>
                  </a:lnTo>
                  <a:lnTo>
                    <a:pt x="445" y="940"/>
                  </a:lnTo>
                  <a:lnTo>
                    <a:pt x="443" y="943"/>
                  </a:lnTo>
                  <a:lnTo>
                    <a:pt x="441" y="945"/>
                  </a:lnTo>
                  <a:lnTo>
                    <a:pt x="439" y="947"/>
                  </a:lnTo>
                  <a:lnTo>
                    <a:pt x="434" y="949"/>
                  </a:lnTo>
                  <a:lnTo>
                    <a:pt x="430" y="950"/>
                  </a:lnTo>
                  <a:lnTo>
                    <a:pt x="424" y="950"/>
                  </a:lnTo>
                  <a:lnTo>
                    <a:pt x="420" y="950"/>
                  </a:lnTo>
                  <a:lnTo>
                    <a:pt x="414" y="950"/>
                  </a:lnTo>
                  <a:lnTo>
                    <a:pt x="409" y="950"/>
                  </a:lnTo>
                  <a:lnTo>
                    <a:pt x="404" y="949"/>
                  </a:lnTo>
                  <a:lnTo>
                    <a:pt x="399" y="948"/>
                  </a:lnTo>
                  <a:lnTo>
                    <a:pt x="389" y="941"/>
                  </a:lnTo>
                  <a:lnTo>
                    <a:pt x="385" y="931"/>
                  </a:lnTo>
                  <a:lnTo>
                    <a:pt x="382" y="920"/>
                  </a:lnTo>
                  <a:lnTo>
                    <a:pt x="380" y="909"/>
                  </a:lnTo>
                  <a:lnTo>
                    <a:pt x="385" y="913"/>
                  </a:lnTo>
                  <a:lnTo>
                    <a:pt x="389" y="918"/>
                  </a:lnTo>
                  <a:lnTo>
                    <a:pt x="395" y="922"/>
                  </a:lnTo>
                  <a:lnTo>
                    <a:pt x="399" y="926"/>
                  </a:lnTo>
                  <a:lnTo>
                    <a:pt x="405" y="929"/>
                  </a:lnTo>
                  <a:lnTo>
                    <a:pt x="411" y="931"/>
                  </a:lnTo>
                  <a:lnTo>
                    <a:pt x="416" y="931"/>
                  </a:lnTo>
                  <a:lnTo>
                    <a:pt x="423" y="930"/>
                  </a:lnTo>
                  <a:lnTo>
                    <a:pt x="429" y="927"/>
                  </a:lnTo>
                  <a:lnTo>
                    <a:pt x="433" y="921"/>
                  </a:lnTo>
                  <a:lnTo>
                    <a:pt x="436" y="916"/>
                  </a:lnTo>
                  <a:lnTo>
                    <a:pt x="440" y="910"/>
                  </a:lnTo>
                  <a:lnTo>
                    <a:pt x="443" y="896"/>
                  </a:lnTo>
                  <a:lnTo>
                    <a:pt x="450" y="884"/>
                  </a:lnTo>
                  <a:lnTo>
                    <a:pt x="460" y="877"/>
                  </a:lnTo>
                  <a:lnTo>
                    <a:pt x="471" y="872"/>
                  </a:lnTo>
                  <a:lnTo>
                    <a:pt x="484" y="868"/>
                  </a:lnTo>
                  <a:lnTo>
                    <a:pt x="498" y="864"/>
                  </a:lnTo>
                  <a:lnTo>
                    <a:pt x="510" y="862"/>
                  </a:lnTo>
                  <a:lnTo>
                    <a:pt x="522" y="858"/>
                  </a:lnTo>
                  <a:lnTo>
                    <a:pt x="529" y="854"/>
                  </a:lnTo>
                  <a:lnTo>
                    <a:pt x="536" y="850"/>
                  </a:lnTo>
                  <a:lnTo>
                    <a:pt x="544" y="845"/>
                  </a:lnTo>
                  <a:lnTo>
                    <a:pt x="549" y="840"/>
                  </a:lnTo>
                  <a:lnTo>
                    <a:pt x="555" y="834"/>
                  </a:lnTo>
                  <a:lnTo>
                    <a:pt x="559" y="827"/>
                  </a:lnTo>
                  <a:lnTo>
                    <a:pt x="563" y="821"/>
                  </a:lnTo>
                  <a:lnTo>
                    <a:pt x="565" y="813"/>
                  </a:lnTo>
                  <a:lnTo>
                    <a:pt x="564" y="803"/>
                  </a:lnTo>
                  <a:lnTo>
                    <a:pt x="559" y="793"/>
                  </a:lnTo>
                  <a:lnTo>
                    <a:pt x="555" y="785"/>
                  </a:lnTo>
                  <a:lnTo>
                    <a:pt x="548" y="777"/>
                  </a:lnTo>
                  <a:lnTo>
                    <a:pt x="540" y="769"/>
                  </a:lnTo>
                  <a:lnTo>
                    <a:pt x="531" y="764"/>
                  </a:lnTo>
                  <a:lnTo>
                    <a:pt x="522" y="759"/>
                  </a:lnTo>
                  <a:lnTo>
                    <a:pt x="513" y="755"/>
                  </a:lnTo>
                  <a:lnTo>
                    <a:pt x="497" y="749"/>
                  </a:lnTo>
                  <a:lnTo>
                    <a:pt x="481" y="747"/>
                  </a:lnTo>
                  <a:lnTo>
                    <a:pt x="464" y="749"/>
                  </a:lnTo>
                  <a:lnTo>
                    <a:pt x="449" y="755"/>
                  </a:lnTo>
                  <a:lnTo>
                    <a:pt x="433" y="763"/>
                  </a:lnTo>
                  <a:lnTo>
                    <a:pt x="418" y="773"/>
                  </a:lnTo>
                  <a:lnTo>
                    <a:pt x="405" y="783"/>
                  </a:lnTo>
                  <a:lnTo>
                    <a:pt x="392" y="794"/>
                  </a:lnTo>
                  <a:lnTo>
                    <a:pt x="387" y="796"/>
                  </a:lnTo>
                  <a:lnTo>
                    <a:pt x="383" y="798"/>
                  </a:lnTo>
                  <a:lnTo>
                    <a:pt x="377" y="798"/>
                  </a:lnTo>
                  <a:lnTo>
                    <a:pt x="374" y="797"/>
                  </a:lnTo>
                  <a:lnTo>
                    <a:pt x="383" y="788"/>
                  </a:lnTo>
                  <a:lnTo>
                    <a:pt x="392" y="778"/>
                  </a:lnTo>
                  <a:lnTo>
                    <a:pt x="401" y="768"/>
                  </a:lnTo>
                  <a:lnTo>
                    <a:pt x="409" y="759"/>
                  </a:lnTo>
                  <a:lnTo>
                    <a:pt x="418" y="750"/>
                  </a:lnTo>
                  <a:lnTo>
                    <a:pt x="429" y="742"/>
                  </a:lnTo>
                  <a:lnTo>
                    <a:pt x="439" y="737"/>
                  </a:lnTo>
                  <a:lnTo>
                    <a:pt x="450" y="732"/>
                  </a:lnTo>
                  <a:lnTo>
                    <a:pt x="449" y="701"/>
                  </a:lnTo>
                  <a:lnTo>
                    <a:pt x="452" y="671"/>
                  </a:lnTo>
                  <a:lnTo>
                    <a:pt x="460" y="642"/>
                  </a:lnTo>
                  <a:lnTo>
                    <a:pt x="469" y="614"/>
                  </a:lnTo>
                  <a:lnTo>
                    <a:pt x="480" y="574"/>
                  </a:lnTo>
                  <a:lnTo>
                    <a:pt x="483" y="531"/>
                  </a:lnTo>
                  <a:lnTo>
                    <a:pt x="482" y="487"/>
                  </a:lnTo>
                  <a:lnTo>
                    <a:pt x="477" y="446"/>
                  </a:lnTo>
                  <a:lnTo>
                    <a:pt x="475" y="438"/>
                  </a:lnTo>
                  <a:lnTo>
                    <a:pt x="472" y="430"/>
                  </a:lnTo>
                  <a:lnTo>
                    <a:pt x="469" y="424"/>
                  </a:lnTo>
                  <a:lnTo>
                    <a:pt x="469" y="416"/>
                  </a:lnTo>
                  <a:lnTo>
                    <a:pt x="467" y="415"/>
                  </a:lnTo>
                  <a:lnTo>
                    <a:pt x="467" y="411"/>
                  </a:lnTo>
                  <a:lnTo>
                    <a:pt x="467" y="409"/>
                  </a:lnTo>
                  <a:lnTo>
                    <a:pt x="464" y="408"/>
                  </a:lnTo>
                  <a:lnTo>
                    <a:pt x="461" y="395"/>
                  </a:lnTo>
                  <a:lnTo>
                    <a:pt x="456" y="381"/>
                  </a:lnTo>
                  <a:lnTo>
                    <a:pt x="451" y="368"/>
                  </a:lnTo>
                  <a:lnTo>
                    <a:pt x="444" y="354"/>
                  </a:lnTo>
                  <a:lnTo>
                    <a:pt x="440" y="344"/>
                  </a:lnTo>
                  <a:lnTo>
                    <a:pt x="437" y="332"/>
                  </a:lnTo>
                  <a:lnTo>
                    <a:pt x="435" y="321"/>
                  </a:lnTo>
                  <a:lnTo>
                    <a:pt x="432" y="310"/>
                  </a:lnTo>
                  <a:lnTo>
                    <a:pt x="426" y="294"/>
                  </a:lnTo>
                  <a:lnTo>
                    <a:pt x="418" y="280"/>
                  </a:lnTo>
                  <a:lnTo>
                    <a:pt x="409" y="265"/>
                  </a:lnTo>
                  <a:lnTo>
                    <a:pt x="399" y="250"/>
                  </a:lnTo>
                  <a:lnTo>
                    <a:pt x="389" y="237"/>
                  </a:lnTo>
                  <a:lnTo>
                    <a:pt x="379" y="223"/>
                  </a:lnTo>
                  <a:lnTo>
                    <a:pt x="369" y="209"/>
                  </a:lnTo>
                  <a:lnTo>
                    <a:pt x="360" y="195"/>
                  </a:lnTo>
                  <a:lnTo>
                    <a:pt x="346" y="182"/>
                  </a:lnTo>
                  <a:lnTo>
                    <a:pt x="331" y="174"/>
                  </a:lnTo>
                  <a:lnTo>
                    <a:pt x="314" y="168"/>
                  </a:lnTo>
                  <a:lnTo>
                    <a:pt x="298" y="162"/>
                  </a:lnTo>
                  <a:lnTo>
                    <a:pt x="281" y="157"/>
                  </a:lnTo>
                  <a:lnTo>
                    <a:pt x="265" y="150"/>
                  </a:lnTo>
                  <a:lnTo>
                    <a:pt x="250" y="141"/>
                  </a:lnTo>
                  <a:lnTo>
                    <a:pt x="235" y="129"/>
                  </a:lnTo>
                  <a:lnTo>
                    <a:pt x="231" y="120"/>
                  </a:lnTo>
                  <a:lnTo>
                    <a:pt x="227" y="110"/>
                  </a:lnTo>
                  <a:lnTo>
                    <a:pt x="224" y="100"/>
                  </a:lnTo>
                  <a:lnTo>
                    <a:pt x="221" y="89"/>
                  </a:lnTo>
                  <a:lnTo>
                    <a:pt x="216" y="81"/>
                  </a:lnTo>
                  <a:lnTo>
                    <a:pt x="210" y="72"/>
                  </a:lnTo>
                  <a:lnTo>
                    <a:pt x="205" y="63"/>
                  </a:lnTo>
                  <a:lnTo>
                    <a:pt x="196" y="55"/>
                  </a:lnTo>
                  <a:lnTo>
                    <a:pt x="183" y="46"/>
                  </a:lnTo>
                  <a:lnTo>
                    <a:pt x="170" y="37"/>
                  </a:lnTo>
                  <a:lnTo>
                    <a:pt x="158" y="27"/>
                  </a:lnTo>
                  <a:lnTo>
                    <a:pt x="146" y="18"/>
                  </a:lnTo>
                  <a:lnTo>
                    <a:pt x="132" y="10"/>
                  </a:lnTo>
                  <a:lnTo>
                    <a:pt x="119" y="3"/>
                  </a:lnTo>
                  <a:lnTo>
                    <a:pt x="104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4" y="5"/>
                  </a:lnTo>
                  <a:lnTo>
                    <a:pt x="100" y="9"/>
                  </a:lnTo>
                  <a:lnTo>
                    <a:pt x="105" y="13"/>
                  </a:lnTo>
                  <a:lnTo>
                    <a:pt x="111" y="19"/>
                  </a:lnTo>
                  <a:lnTo>
                    <a:pt x="115" y="25"/>
                  </a:lnTo>
                  <a:lnTo>
                    <a:pt x="120" y="30"/>
                  </a:lnTo>
                  <a:lnTo>
                    <a:pt x="123" y="36"/>
                  </a:lnTo>
                  <a:lnTo>
                    <a:pt x="127" y="41"/>
                  </a:lnTo>
                  <a:lnTo>
                    <a:pt x="133" y="53"/>
                  </a:lnTo>
                  <a:lnTo>
                    <a:pt x="141" y="64"/>
                  </a:lnTo>
                  <a:lnTo>
                    <a:pt x="149" y="74"/>
                  </a:lnTo>
                  <a:lnTo>
                    <a:pt x="157" y="85"/>
                  </a:lnTo>
                  <a:lnTo>
                    <a:pt x="164" y="96"/>
                  </a:lnTo>
                  <a:lnTo>
                    <a:pt x="170" y="107"/>
                  </a:lnTo>
                  <a:lnTo>
                    <a:pt x="175" y="119"/>
                  </a:lnTo>
                  <a:lnTo>
                    <a:pt x="177" y="132"/>
                  </a:lnTo>
                  <a:lnTo>
                    <a:pt x="176" y="160"/>
                  </a:lnTo>
                  <a:lnTo>
                    <a:pt x="175" y="186"/>
                  </a:lnTo>
                  <a:lnTo>
                    <a:pt x="175" y="210"/>
                  </a:lnTo>
                  <a:lnTo>
                    <a:pt x="181" y="233"/>
                  </a:lnTo>
                  <a:lnTo>
                    <a:pt x="195" y="250"/>
                  </a:lnTo>
                  <a:lnTo>
                    <a:pt x="213" y="266"/>
                  </a:lnTo>
                  <a:lnTo>
                    <a:pt x="232" y="277"/>
                  </a:lnTo>
                  <a:lnTo>
                    <a:pt x="252" y="288"/>
                  </a:lnTo>
                  <a:lnTo>
                    <a:pt x="273" y="299"/>
                  </a:lnTo>
                  <a:lnTo>
                    <a:pt x="294" y="310"/>
                  </a:lnTo>
                  <a:lnTo>
                    <a:pt x="314" y="322"/>
                  </a:lnTo>
                  <a:lnTo>
                    <a:pt x="332" y="338"/>
                  </a:lnTo>
                  <a:lnTo>
                    <a:pt x="339" y="344"/>
                  </a:lnTo>
                  <a:lnTo>
                    <a:pt x="346" y="351"/>
                  </a:lnTo>
                  <a:lnTo>
                    <a:pt x="352" y="357"/>
                  </a:lnTo>
                  <a:lnTo>
                    <a:pt x="358" y="363"/>
                  </a:lnTo>
                  <a:lnTo>
                    <a:pt x="364" y="370"/>
                  </a:lnTo>
                  <a:lnTo>
                    <a:pt x="369" y="377"/>
                  </a:lnTo>
                  <a:lnTo>
                    <a:pt x="374" y="385"/>
                  </a:lnTo>
                  <a:lnTo>
                    <a:pt x="378" y="392"/>
                  </a:lnTo>
                  <a:lnTo>
                    <a:pt x="392" y="445"/>
                  </a:lnTo>
                  <a:lnTo>
                    <a:pt x="394" y="496"/>
                  </a:lnTo>
                  <a:lnTo>
                    <a:pt x="386" y="547"/>
                  </a:lnTo>
                  <a:lnTo>
                    <a:pt x="373" y="596"/>
                  </a:lnTo>
                  <a:lnTo>
                    <a:pt x="356" y="646"/>
                  </a:lnTo>
                  <a:lnTo>
                    <a:pt x="339" y="697"/>
                  </a:lnTo>
                  <a:lnTo>
                    <a:pt x="326" y="747"/>
                  </a:lnTo>
                  <a:lnTo>
                    <a:pt x="318" y="797"/>
                  </a:lnTo>
                  <a:lnTo>
                    <a:pt x="323" y="811"/>
                  </a:lnTo>
                  <a:lnTo>
                    <a:pt x="335" y="823"/>
                  </a:lnTo>
                  <a:lnTo>
                    <a:pt x="345" y="835"/>
                  </a:lnTo>
                  <a:lnTo>
                    <a:pt x="350" y="847"/>
                  </a:lnTo>
                  <a:lnTo>
                    <a:pt x="355" y="884"/>
                  </a:lnTo>
                  <a:lnTo>
                    <a:pt x="356" y="920"/>
                  </a:lnTo>
                  <a:lnTo>
                    <a:pt x="349" y="955"/>
                  </a:lnTo>
                  <a:lnTo>
                    <a:pt x="337" y="989"/>
                  </a:lnTo>
                  <a:lnTo>
                    <a:pt x="326" y="1010"/>
                  </a:lnTo>
                  <a:lnTo>
                    <a:pt x="316" y="1030"/>
                  </a:lnTo>
                  <a:lnTo>
                    <a:pt x="303" y="1050"/>
                  </a:lnTo>
                  <a:lnTo>
                    <a:pt x="292" y="1069"/>
                  </a:lnTo>
                  <a:lnTo>
                    <a:pt x="279" y="1088"/>
                  </a:lnTo>
                  <a:lnTo>
                    <a:pt x="265" y="1107"/>
                  </a:lnTo>
                  <a:lnTo>
                    <a:pt x="251" y="1126"/>
                  </a:lnTo>
                  <a:lnTo>
                    <a:pt x="236" y="1145"/>
                  </a:lnTo>
                  <a:lnTo>
                    <a:pt x="226" y="1155"/>
                  </a:lnTo>
                  <a:lnTo>
                    <a:pt x="215" y="1165"/>
                  </a:lnTo>
                  <a:lnTo>
                    <a:pt x="204" y="1174"/>
                  </a:lnTo>
                  <a:lnTo>
                    <a:pt x="193" y="1183"/>
                  </a:lnTo>
                  <a:lnTo>
                    <a:pt x="181" y="1192"/>
                  </a:lnTo>
                  <a:lnTo>
                    <a:pt x="169" y="1201"/>
                  </a:lnTo>
                  <a:lnTo>
                    <a:pt x="157" y="1209"/>
                  </a:lnTo>
                  <a:lnTo>
                    <a:pt x="145" y="1215"/>
                  </a:lnTo>
                  <a:lnTo>
                    <a:pt x="131" y="1223"/>
                  </a:lnTo>
                  <a:lnTo>
                    <a:pt x="119" y="1230"/>
                  </a:lnTo>
                  <a:lnTo>
                    <a:pt x="105" y="1235"/>
                  </a:lnTo>
                  <a:lnTo>
                    <a:pt x="92" y="1241"/>
                  </a:lnTo>
                  <a:lnTo>
                    <a:pt x="77" y="1247"/>
                  </a:lnTo>
                  <a:lnTo>
                    <a:pt x="64" y="1251"/>
                  </a:lnTo>
                  <a:lnTo>
                    <a:pt x="50" y="1256"/>
                  </a:lnTo>
                  <a:lnTo>
                    <a:pt x="35" y="1259"/>
                  </a:lnTo>
                  <a:lnTo>
                    <a:pt x="35" y="1260"/>
                  </a:lnTo>
                  <a:lnTo>
                    <a:pt x="35" y="1263"/>
                  </a:lnTo>
                  <a:lnTo>
                    <a:pt x="35" y="1268"/>
                  </a:lnTo>
                  <a:lnTo>
                    <a:pt x="35" y="1272"/>
                  </a:lnTo>
                  <a:lnTo>
                    <a:pt x="32" y="1276"/>
                  </a:lnTo>
                  <a:lnTo>
                    <a:pt x="28" y="1279"/>
                  </a:lnTo>
                  <a:lnTo>
                    <a:pt x="24" y="1281"/>
                  </a:lnTo>
                  <a:lnTo>
                    <a:pt x="19" y="1283"/>
                  </a:lnTo>
                  <a:lnTo>
                    <a:pt x="15" y="1286"/>
                  </a:lnTo>
                  <a:lnTo>
                    <a:pt x="9" y="1288"/>
                  </a:lnTo>
                  <a:lnTo>
                    <a:pt x="5" y="1290"/>
                  </a:lnTo>
                  <a:lnTo>
                    <a:pt x="0" y="1292"/>
                  </a:lnTo>
                  <a:lnTo>
                    <a:pt x="6" y="1294"/>
                  </a:lnTo>
                  <a:lnTo>
                    <a:pt x="13" y="1294"/>
                  </a:lnTo>
                  <a:lnTo>
                    <a:pt x="19" y="1294"/>
                  </a:lnTo>
                  <a:lnTo>
                    <a:pt x="25" y="1295"/>
                  </a:lnTo>
                  <a:lnTo>
                    <a:pt x="48" y="1294"/>
                  </a:lnTo>
                  <a:lnTo>
                    <a:pt x="71" y="1290"/>
                  </a:lnTo>
                  <a:lnTo>
                    <a:pt x="93" y="1286"/>
                  </a:lnTo>
                  <a:lnTo>
                    <a:pt x="114" y="1280"/>
                  </a:lnTo>
                  <a:lnTo>
                    <a:pt x="136" y="1273"/>
                  </a:lnTo>
                  <a:lnTo>
                    <a:pt x="156" y="1264"/>
                  </a:lnTo>
                  <a:lnTo>
                    <a:pt x="175" y="1254"/>
                  </a:lnTo>
                  <a:lnTo>
                    <a:pt x="194" y="1242"/>
                  </a:lnTo>
                  <a:close/>
                </a:path>
              </a:pathLst>
            </a:custGeom>
            <a:solidFill>
              <a:srgbClr val="f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37600" y="3603600"/>
              <a:ext cx="204480" cy="128520"/>
            </a:xfrm>
            <a:custGeom>
              <a:avLst/>
              <a:gdLst/>
              <a:ahLst/>
              <a:rect l="l" t="t" r="r" b="b"/>
              <a:pathLst>
                <a:path w="129" h="81">
                  <a:moveTo>
                    <a:pt x="129" y="11"/>
                  </a:moveTo>
                  <a:lnTo>
                    <a:pt x="124" y="15"/>
                  </a:lnTo>
                  <a:lnTo>
                    <a:pt x="120" y="14"/>
                  </a:lnTo>
                  <a:lnTo>
                    <a:pt x="114" y="13"/>
                  </a:lnTo>
                  <a:lnTo>
                    <a:pt x="107" y="12"/>
                  </a:lnTo>
                  <a:lnTo>
                    <a:pt x="102" y="12"/>
                  </a:lnTo>
                  <a:lnTo>
                    <a:pt x="96" y="14"/>
                  </a:lnTo>
                  <a:lnTo>
                    <a:pt x="92" y="17"/>
                  </a:lnTo>
                  <a:lnTo>
                    <a:pt x="87" y="19"/>
                  </a:lnTo>
                  <a:lnTo>
                    <a:pt x="82" y="21"/>
                  </a:lnTo>
                  <a:lnTo>
                    <a:pt x="77" y="23"/>
                  </a:lnTo>
                  <a:lnTo>
                    <a:pt x="72" y="24"/>
                  </a:lnTo>
                  <a:lnTo>
                    <a:pt x="66" y="25"/>
                  </a:lnTo>
                  <a:lnTo>
                    <a:pt x="65" y="34"/>
                  </a:lnTo>
                  <a:lnTo>
                    <a:pt x="60" y="42"/>
                  </a:lnTo>
                  <a:lnTo>
                    <a:pt x="56" y="50"/>
                  </a:lnTo>
                  <a:lnTo>
                    <a:pt x="49" y="57"/>
                  </a:lnTo>
                  <a:lnTo>
                    <a:pt x="43" y="63"/>
                  </a:lnTo>
                  <a:lnTo>
                    <a:pt x="36" y="69"/>
                  </a:lnTo>
                  <a:lnTo>
                    <a:pt x="29" y="76"/>
                  </a:lnTo>
                  <a:lnTo>
                    <a:pt x="22" y="81"/>
                  </a:lnTo>
                  <a:lnTo>
                    <a:pt x="27" y="70"/>
                  </a:lnTo>
                  <a:lnTo>
                    <a:pt x="32" y="59"/>
                  </a:lnTo>
                  <a:lnTo>
                    <a:pt x="38" y="49"/>
                  </a:lnTo>
                  <a:lnTo>
                    <a:pt x="40" y="37"/>
                  </a:lnTo>
                  <a:lnTo>
                    <a:pt x="35" y="38"/>
                  </a:lnTo>
                  <a:lnTo>
                    <a:pt x="29" y="40"/>
                  </a:lnTo>
                  <a:lnTo>
                    <a:pt x="24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0" y="59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4"/>
                  </a:lnTo>
                  <a:lnTo>
                    <a:pt x="1" y="75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6" y="50"/>
                  </a:lnTo>
                  <a:lnTo>
                    <a:pt x="15" y="39"/>
                  </a:lnTo>
                  <a:lnTo>
                    <a:pt x="24" y="29"/>
                  </a:lnTo>
                  <a:lnTo>
                    <a:pt x="35" y="20"/>
                  </a:lnTo>
                  <a:lnTo>
                    <a:pt x="47" y="13"/>
                  </a:lnTo>
                  <a:lnTo>
                    <a:pt x="60" y="6"/>
                  </a:lnTo>
                  <a:lnTo>
                    <a:pt x="75" y="2"/>
                  </a:lnTo>
                  <a:lnTo>
                    <a:pt x="88" y="0"/>
                  </a:lnTo>
                  <a:lnTo>
                    <a:pt x="103" y="1"/>
                  </a:lnTo>
                  <a:lnTo>
                    <a:pt x="116" y="4"/>
                  </a:lnTo>
                  <a:lnTo>
                    <a:pt x="1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72360" y="3300480"/>
              <a:ext cx="161640" cy="21600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87" y="45"/>
                  </a:moveTo>
                  <a:lnTo>
                    <a:pt x="93" y="50"/>
                  </a:lnTo>
                  <a:lnTo>
                    <a:pt x="98" y="55"/>
                  </a:lnTo>
                  <a:lnTo>
                    <a:pt x="101" y="61"/>
                  </a:lnTo>
                  <a:lnTo>
                    <a:pt x="102" y="68"/>
                  </a:lnTo>
                  <a:lnTo>
                    <a:pt x="99" y="83"/>
                  </a:lnTo>
                  <a:lnTo>
                    <a:pt x="93" y="98"/>
                  </a:lnTo>
                  <a:lnTo>
                    <a:pt x="83" y="111"/>
                  </a:lnTo>
                  <a:lnTo>
                    <a:pt x="70" y="120"/>
                  </a:lnTo>
                  <a:lnTo>
                    <a:pt x="65" y="123"/>
                  </a:lnTo>
                  <a:lnTo>
                    <a:pt x="62" y="126"/>
                  </a:lnTo>
                  <a:lnTo>
                    <a:pt x="57" y="128"/>
                  </a:lnTo>
                  <a:lnTo>
                    <a:pt x="53" y="130"/>
                  </a:lnTo>
                  <a:lnTo>
                    <a:pt x="48" y="133"/>
                  </a:lnTo>
                  <a:lnTo>
                    <a:pt x="45" y="135"/>
                  </a:lnTo>
                  <a:lnTo>
                    <a:pt x="39" y="136"/>
                  </a:lnTo>
                  <a:lnTo>
                    <a:pt x="35" y="136"/>
                  </a:lnTo>
                  <a:lnTo>
                    <a:pt x="40" y="125"/>
                  </a:lnTo>
                  <a:lnTo>
                    <a:pt x="47" y="114"/>
                  </a:lnTo>
                  <a:lnTo>
                    <a:pt x="55" y="104"/>
                  </a:lnTo>
                  <a:lnTo>
                    <a:pt x="62" y="92"/>
                  </a:lnTo>
                  <a:lnTo>
                    <a:pt x="67" y="82"/>
                  </a:lnTo>
                  <a:lnTo>
                    <a:pt x="72" y="71"/>
                  </a:lnTo>
                  <a:lnTo>
                    <a:pt x="72" y="59"/>
                  </a:lnTo>
                  <a:lnTo>
                    <a:pt x="68" y="47"/>
                  </a:lnTo>
                  <a:lnTo>
                    <a:pt x="61" y="41"/>
                  </a:lnTo>
                  <a:lnTo>
                    <a:pt x="53" y="34"/>
                  </a:lnTo>
                  <a:lnTo>
                    <a:pt x="45" y="28"/>
                  </a:lnTo>
                  <a:lnTo>
                    <a:pt x="37" y="20"/>
                  </a:lnTo>
                  <a:lnTo>
                    <a:pt x="28" y="14"/>
                  </a:lnTo>
                  <a:lnTo>
                    <a:pt x="20" y="7"/>
                  </a:lnTo>
                  <a:lnTo>
                    <a:pt x="1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5" y="1"/>
                  </a:lnTo>
                  <a:lnTo>
                    <a:pt x="27" y="3"/>
                  </a:lnTo>
                  <a:lnTo>
                    <a:pt x="39" y="6"/>
                  </a:lnTo>
                  <a:lnTo>
                    <a:pt x="51" y="11"/>
                  </a:lnTo>
                  <a:lnTo>
                    <a:pt x="62" y="17"/>
                  </a:lnTo>
                  <a:lnTo>
                    <a:pt x="72" y="25"/>
                  </a:lnTo>
                  <a:lnTo>
                    <a:pt x="80" y="34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94560" y="336060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5"/>
                  </a:moveTo>
                  <a:lnTo>
                    <a:pt x="12" y="7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621480" y="3370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6"/>
                  </a:moveTo>
                  <a:lnTo>
                    <a:pt x="15" y="8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40640" y="338760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6"/>
                  </a:moveTo>
                  <a:lnTo>
                    <a:pt x="9" y="9"/>
                  </a:lnTo>
                  <a:lnTo>
                    <a:pt x="6" y="9"/>
                  </a:lnTo>
                  <a:lnTo>
                    <a:pt x="3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15080" y="3413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9"/>
                  </a:moveTo>
                  <a:lnTo>
                    <a:pt x="7" y="8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3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61080" y="34146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5" y="2"/>
                  </a:moveTo>
                  <a:lnTo>
                    <a:pt x="16" y="5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595920" y="342900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630840" y="342756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2"/>
                  </a:moveTo>
                  <a:lnTo>
                    <a:pt x="9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72320" y="34448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6"/>
                  </a:moveTo>
                  <a:lnTo>
                    <a:pt x="17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0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00680" y="3456000"/>
              <a:ext cx="1620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7"/>
                  </a:moveTo>
                  <a:lnTo>
                    <a:pt x="8" y="8"/>
                  </a:lnTo>
                  <a:lnTo>
                    <a:pt x="6" y="9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648480" y="349236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6"/>
                  </a:moveTo>
                  <a:lnTo>
                    <a:pt x="11" y="8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0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08600" y="35164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4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70520" y="35528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64240" y="2838600"/>
              <a:ext cx="430200" cy="263520"/>
            </a:xfrm>
            <a:custGeom>
              <a:avLst/>
              <a:gdLst/>
              <a:ahLst/>
              <a:rect l="l" t="t" r="r" b="b"/>
              <a:pathLst>
                <a:path w="271" h="166">
                  <a:moveTo>
                    <a:pt x="258" y="59"/>
                  </a:moveTo>
                  <a:lnTo>
                    <a:pt x="266" y="77"/>
                  </a:lnTo>
                  <a:lnTo>
                    <a:pt x="271" y="96"/>
                  </a:lnTo>
                  <a:lnTo>
                    <a:pt x="271" y="116"/>
                  </a:lnTo>
                  <a:lnTo>
                    <a:pt x="267" y="135"/>
                  </a:lnTo>
                  <a:lnTo>
                    <a:pt x="263" y="137"/>
                  </a:lnTo>
                  <a:lnTo>
                    <a:pt x="257" y="139"/>
                  </a:lnTo>
                  <a:lnTo>
                    <a:pt x="253" y="141"/>
                  </a:lnTo>
                  <a:lnTo>
                    <a:pt x="248" y="145"/>
                  </a:lnTo>
                  <a:lnTo>
                    <a:pt x="248" y="151"/>
                  </a:lnTo>
                  <a:lnTo>
                    <a:pt x="247" y="156"/>
                  </a:lnTo>
                  <a:lnTo>
                    <a:pt x="245" y="161"/>
                  </a:lnTo>
                  <a:lnTo>
                    <a:pt x="244" y="166"/>
                  </a:lnTo>
                  <a:lnTo>
                    <a:pt x="243" y="166"/>
                  </a:lnTo>
                  <a:lnTo>
                    <a:pt x="243" y="166"/>
                  </a:lnTo>
                  <a:lnTo>
                    <a:pt x="243" y="166"/>
                  </a:lnTo>
                  <a:lnTo>
                    <a:pt x="241" y="166"/>
                  </a:lnTo>
                  <a:lnTo>
                    <a:pt x="240" y="150"/>
                  </a:lnTo>
                  <a:lnTo>
                    <a:pt x="241" y="134"/>
                  </a:lnTo>
                  <a:lnTo>
                    <a:pt x="243" y="118"/>
                  </a:lnTo>
                  <a:lnTo>
                    <a:pt x="243" y="103"/>
                  </a:lnTo>
                  <a:lnTo>
                    <a:pt x="234" y="98"/>
                  </a:lnTo>
                  <a:lnTo>
                    <a:pt x="226" y="93"/>
                  </a:lnTo>
                  <a:lnTo>
                    <a:pt x="218" y="85"/>
                  </a:lnTo>
                  <a:lnTo>
                    <a:pt x="212" y="77"/>
                  </a:lnTo>
                  <a:lnTo>
                    <a:pt x="203" y="73"/>
                  </a:lnTo>
                  <a:lnTo>
                    <a:pt x="195" y="66"/>
                  </a:lnTo>
                  <a:lnTo>
                    <a:pt x="186" y="60"/>
                  </a:lnTo>
                  <a:lnTo>
                    <a:pt x="177" y="54"/>
                  </a:lnTo>
                  <a:lnTo>
                    <a:pt x="168" y="48"/>
                  </a:lnTo>
                  <a:lnTo>
                    <a:pt x="159" y="44"/>
                  </a:lnTo>
                  <a:lnTo>
                    <a:pt x="148" y="41"/>
                  </a:lnTo>
                  <a:lnTo>
                    <a:pt x="136" y="41"/>
                  </a:lnTo>
                  <a:lnTo>
                    <a:pt x="118" y="41"/>
                  </a:lnTo>
                  <a:lnTo>
                    <a:pt x="99" y="41"/>
                  </a:lnTo>
                  <a:lnTo>
                    <a:pt x="82" y="41"/>
                  </a:lnTo>
                  <a:lnTo>
                    <a:pt x="64" y="40"/>
                  </a:lnTo>
                  <a:lnTo>
                    <a:pt x="46" y="38"/>
                  </a:lnTo>
                  <a:lnTo>
                    <a:pt x="29" y="33"/>
                  </a:lnTo>
                  <a:lnTo>
                    <a:pt x="13" y="26"/>
                  </a:lnTo>
                  <a:lnTo>
                    <a:pt x="0" y="14"/>
                  </a:lnTo>
                  <a:lnTo>
                    <a:pt x="22" y="19"/>
                  </a:lnTo>
                  <a:lnTo>
                    <a:pt x="45" y="18"/>
                  </a:lnTo>
                  <a:lnTo>
                    <a:pt x="66" y="14"/>
                  </a:lnTo>
                  <a:lnTo>
                    <a:pt x="87" y="10"/>
                  </a:lnTo>
                  <a:lnTo>
                    <a:pt x="110" y="4"/>
                  </a:lnTo>
                  <a:lnTo>
                    <a:pt x="131" y="1"/>
                  </a:lnTo>
                  <a:lnTo>
                    <a:pt x="153" y="0"/>
                  </a:lnTo>
                  <a:lnTo>
                    <a:pt x="177" y="3"/>
                  </a:lnTo>
                  <a:lnTo>
                    <a:pt x="189" y="7"/>
                  </a:lnTo>
                  <a:lnTo>
                    <a:pt x="200" y="11"/>
                  </a:lnTo>
                  <a:lnTo>
                    <a:pt x="212" y="17"/>
                  </a:lnTo>
                  <a:lnTo>
                    <a:pt x="222" y="22"/>
                  </a:lnTo>
                  <a:lnTo>
                    <a:pt x="234" y="30"/>
                  </a:lnTo>
                  <a:lnTo>
                    <a:pt x="243" y="39"/>
                  </a:lnTo>
                  <a:lnTo>
                    <a:pt x="250" y="48"/>
                  </a:lnTo>
                  <a:lnTo>
                    <a:pt x="25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997600" y="364320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21"/>
                  </a:moveTo>
                  <a:lnTo>
                    <a:pt x="3" y="28"/>
                  </a:lnTo>
                  <a:lnTo>
                    <a:pt x="7" y="35"/>
                  </a:lnTo>
                  <a:lnTo>
                    <a:pt x="14" y="40"/>
                  </a:lnTo>
                  <a:lnTo>
                    <a:pt x="22" y="41"/>
                  </a:lnTo>
                  <a:lnTo>
                    <a:pt x="29" y="40"/>
                  </a:lnTo>
                  <a:lnTo>
                    <a:pt x="36" y="35"/>
                  </a:lnTo>
                  <a:lnTo>
                    <a:pt x="41" y="28"/>
                  </a:lnTo>
                  <a:lnTo>
                    <a:pt x="42" y="21"/>
                  </a:lnTo>
                  <a:lnTo>
                    <a:pt x="41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6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708520" y="381168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1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20" y="40"/>
                  </a:lnTo>
                  <a:lnTo>
                    <a:pt x="29" y="39"/>
                  </a:lnTo>
                  <a:lnTo>
                    <a:pt x="36" y="34"/>
                  </a:lnTo>
                  <a:lnTo>
                    <a:pt x="40" y="28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6" y="5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4000" y="407196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2" y="28"/>
                  </a:lnTo>
                  <a:lnTo>
                    <a:pt x="7" y="35"/>
                  </a:lnTo>
                  <a:lnTo>
                    <a:pt x="14" y="39"/>
                  </a:lnTo>
                  <a:lnTo>
                    <a:pt x="21" y="40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0" y="28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6" y="5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7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9160" y="388152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22"/>
                  </a:move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30" y="41"/>
                  </a:lnTo>
                  <a:lnTo>
                    <a:pt x="36" y="36"/>
                  </a:lnTo>
                  <a:lnTo>
                    <a:pt x="41" y="29"/>
                  </a:lnTo>
                  <a:lnTo>
                    <a:pt x="42" y="22"/>
                  </a:lnTo>
                  <a:lnTo>
                    <a:pt x="41" y="14"/>
                  </a:lnTo>
                  <a:lnTo>
                    <a:pt x="36" y="7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3" y="3"/>
                  </a:lnTo>
                  <a:lnTo>
                    <a:pt x="6" y="7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49880" y="399240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20"/>
                  </a:moveTo>
                  <a:lnTo>
                    <a:pt x="2" y="28"/>
                  </a:lnTo>
                  <a:lnTo>
                    <a:pt x="6" y="34"/>
                  </a:lnTo>
                  <a:lnTo>
                    <a:pt x="13" y="39"/>
                  </a:lnTo>
                  <a:lnTo>
                    <a:pt x="22" y="40"/>
                  </a:lnTo>
                  <a:lnTo>
                    <a:pt x="30" y="39"/>
                  </a:lnTo>
                  <a:lnTo>
                    <a:pt x="36" y="34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1" y="12"/>
                  </a:lnTo>
                  <a:lnTo>
                    <a:pt x="36" y="5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78600" y="42530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2" y="28"/>
                  </a:lnTo>
                  <a:lnTo>
                    <a:pt x="6" y="35"/>
                  </a:lnTo>
                  <a:lnTo>
                    <a:pt x="13" y="39"/>
                  </a:lnTo>
                  <a:lnTo>
                    <a:pt x="21" y="40"/>
                  </a:lnTo>
                  <a:lnTo>
                    <a:pt x="29" y="39"/>
                  </a:lnTo>
                  <a:lnTo>
                    <a:pt x="35" y="35"/>
                  </a:lnTo>
                  <a:lnTo>
                    <a:pt x="40" y="28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3976560"/>
              <a:ext cx="6372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21"/>
                  </a:moveTo>
                  <a:lnTo>
                    <a:pt x="1" y="29"/>
                  </a:lnTo>
                  <a:lnTo>
                    <a:pt x="5" y="35"/>
                  </a:lnTo>
                  <a:lnTo>
                    <a:pt x="12" y="40"/>
                  </a:lnTo>
                  <a:lnTo>
                    <a:pt x="20" y="41"/>
                  </a:lnTo>
                  <a:lnTo>
                    <a:pt x="27" y="40"/>
                  </a:lnTo>
                  <a:lnTo>
                    <a:pt x="34" y="35"/>
                  </a:lnTo>
                  <a:lnTo>
                    <a:pt x="39" y="29"/>
                  </a:lnTo>
                  <a:lnTo>
                    <a:pt x="40" y="21"/>
                  </a:lnTo>
                  <a:lnTo>
                    <a:pt x="39" y="13"/>
                  </a:lnTo>
                  <a:lnTo>
                    <a:pt x="34" y="6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83200" y="3346560"/>
              <a:ext cx="66600" cy="648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21"/>
                  </a:moveTo>
                  <a:lnTo>
                    <a:pt x="2" y="29"/>
                  </a:lnTo>
                  <a:lnTo>
                    <a:pt x="6" y="35"/>
                  </a:lnTo>
                  <a:lnTo>
                    <a:pt x="13" y="40"/>
                  </a:lnTo>
                  <a:lnTo>
                    <a:pt x="22" y="41"/>
                  </a:lnTo>
                  <a:lnTo>
                    <a:pt x="29" y="40"/>
                  </a:lnTo>
                  <a:lnTo>
                    <a:pt x="36" y="35"/>
                  </a:lnTo>
                  <a:lnTo>
                    <a:pt x="41" y="29"/>
                  </a:lnTo>
                  <a:lnTo>
                    <a:pt x="42" y="21"/>
                  </a:lnTo>
                  <a:lnTo>
                    <a:pt x="41" y="12"/>
                  </a:lnTo>
                  <a:lnTo>
                    <a:pt x="36" y="5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09040" y="3976560"/>
              <a:ext cx="6480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21"/>
                  </a:moveTo>
                  <a:lnTo>
                    <a:pt x="1" y="29"/>
                  </a:lnTo>
                  <a:lnTo>
                    <a:pt x="6" y="35"/>
                  </a:lnTo>
                  <a:lnTo>
                    <a:pt x="12" y="40"/>
                  </a:lnTo>
                  <a:lnTo>
                    <a:pt x="21" y="41"/>
                  </a:lnTo>
                  <a:lnTo>
                    <a:pt x="29" y="40"/>
                  </a:lnTo>
                  <a:lnTo>
                    <a:pt x="36" y="35"/>
                  </a:lnTo>
                  <a:lnTo>
                    <a:pt x="40" y="29"/>
                  </a:lnTo>
                  <a:lnTo>
                    <a:pt x="41" y="21"/>
                  </a:ln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02560" y="4361040"/>
              <a:ext cx="6516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20"/>
                  </a:moveTo>
                  <a:lnTo>
                    <a:pt x="1" y="28"/>
                  </a:lnTo>
                  <a:lnTo>
                    <a:pt x="5" y="35"/>
                  </a:lnTo>
                  <a:lnTo>
                    <a:pt x="12" y="39"/>
                  </a:lnTo>
                  <a:lnTo>
                    <a:pt x="20" y="41"/>
                  </a:lnTo>
                  <a:lnTo>
                    <a:pt x="29" y="39"/>
                  </a:lnTo>
                  <a:lnTo>
                    <a:pt x="35" y="35"/>
                  </a:lnTo>
                  <a:lnTo>
                    <a:pt x="40" y="28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846920" y="4608360"/>
              <a:ext cx="6516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1" y="27"/>
                  </a:lnTo>
                  <a:lnTo>
                    <a:pt x="6" y="34"/>
                  </a:lnTo>
                  <a:lnTo>
                    <a:pt x="13" y="39"/>
                  </a:lnTo>
                  <a:lnTo>
                    <a:pt x="20" y="40"/>
                  </a:lnTo>
                  <a:lnTo>
                    <a:pt x="28" y="39"/>
                  </a:lnTo>
                  <a:lnTo>
                    <a:pt x="35" y="34"/>
                  </a:lnTo>
                  <a:lnTo>
                    <a:pt x="39" y="27"/>
                  </a:lnTo>
                  <a:lnTo>
                    <a:pt x="41" y="20"/>
                  </a:lnTo>
                  <a:lnTo>
                    <a:pt x="39" y="12"/>
                  </a:lnTo>
                  <a:lnTo>
                    <a:pt x="35" y="5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42400" y="4468680"/>
              <a:ext cx="66600" cy="669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22"/>
                  </a:moveTo>
                  <a:lnTo>
                    <a:pt x="1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0" y="42"/>
                  </a:lnTo>
                  <a:lnTo>
                    <a:pt x="29" y="41"/>
                  </a:lnTo>
                  <a:lnTo>
                    <a:pt x="36" y="36"/>
                  </a:lnTo>
                  <a:lnTo>
                    <a:pt x="41" y="29"/>
                  </a:lnTo>
                  <a:lnTo>
                    <a:pt x="42" y="22"/>
                  </a:lnTo>
                  <a:lnTo>
                    <a:pt x="41" y="13"/>
                  </a:lnTo>
                  <a:lnTo>
                    <a:pt x="36" y="6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40800" y="422928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0" y="22"/>
                  </a:moveTo>
                  <a:lnTo>
                    <a:pt x="1" y="29"/>
                  </a:lnTo>
                  <a:lnTo>
                    <a:pt x="5" y="36"/>
                  </a:lnTo>
                  <a:lnTo>
                    <a:pt x="12" y="41"/>
                  </a:lnTo>
                  <a:lnTo>
                    <a:pt x="20" y="42"/>
                  </a:lnTo>
                  <a:lnTo>
                    <a:pt x="28" y="41"/>
                  </a:lnTo>
                  <a:lnTo>
                    <a:pt x="34" y="36"/>
                  </a:lnTo>
                  <a:lnTo>
                    <a:pt x="39" y="29"/>
                  </a:lnTo>
                  <a:lnTo>
                    <a:pt x="40" y="22"/>
                  </a:lnTo>
                  <a:lnTo>
                    <a:pt x="39" y="14"/>
                  </a:lnTo>
                  <a:lnTo>
                    <a:pt x="34" y="7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2" y="3"/>
                  </a:lnTo>
                  <a:lnTo>
                    <a:pt x="5" y="7"/>
                  </a:lnTo>
                  <a:lnTo>
                    <a:pt x="1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97760" y="396864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21"/>
                  </a:moveTo>
                  <a:lnTo>
                    <a:pt x="3" y="29"/>
                  </a:lnTo>
                  <a:lnTo>
                    <a:pt x="7" y="36"/>
                  </a:lnTo>
                  <a:lnTo>
                    <a:pt x="14" y="40"/>
                  </a:lnTo>
                  <a:lnTo>
                    <a:pt x="22" y="41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1" y="29"/>
                  </a:lnTo>
                  <a:lnTo>
                    <a:pt x="42" y="21"/>
                  </a:lnTo>
                  <a:lnTo>
                    <a:pt x="41" y="13"/>
                  </a:lnTo>
                  <a:lnTo>
                    <a:pt x="36" y="7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816680" y="379404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22"/>
                  </a:moveTo>
                  <a:lnTo>
                    <a:pt x="3" y="30"/>
                  </a:lnTo>
                  <a:lnTo>
                    <a:pt x="7" y="36"/>
                  </a:lnTo>
                  <a:lnTo>
                    <a:pt x="14" y="41"/>
                  </a:lnTo>
                  <a:lnTo>
                    <a:pt x="22" y="42"/>
                  </a:lnTo>
                  <a:lnTo>
                    <a:pt x="29" y="41"/>
                  </a:lnTo>
                  <a:lnTo>
                    <a:pt x="36" y="36"/>
                  </a:lnTo>
                  <a:lnTo>
                    <a:pt x="41" y="30"/>
                  </a:lnTo>
                  <a:lnTo>
                    <a:pt x="42" y="22"/>
                  </a:lnTo>
                  <a:lnTo>
                    <a:pt x="41" y="14"/>
                  </a:lnTo>
                  <a:lnTo>
                    <a:pt x="36" y="7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88240" y="347040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20"/>
                  </a:moveTo>
                  <a:lnTo>
                    <a:pt x="2" y="28"/>
                  </a:lnTo>
                  <a:lnTo>
                    <a:pt x="6" y="35"/>
                  </a:lnTo>
                  <a:lnTo>
                    <a:pt x="13" y="39"/>
                  </a:lnTo>
                  <a:lnTo>
                    <a:pt x="21" y="40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1" y="28"/>
                  </a:lnTo>
                  <a:lnTo>
                    <a:pt x="42" y="20"/>
                  </a:lnTo>
                  <a:lnTo>
                    <a:pt x="41" y="12"/>
                  </a:lnTo>
                  <a:lnTo>
                    <a:pt x="36" y="5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94640" y="3236760"/>
              <a:ext cx="65160" cy="669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21"/>
                  </a:moveTo>
                  <a:lnTo>
                    <a:pt x="1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0" y="42"/>
                  </a:lnTo>
                  <a:lnTo>
                    <a:pt x="29" y="41"/>
                  </a:lnTo>
                  <a:lnTo>
                    <a:pt x="36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0" y="13"/>
                  </a:lnTo>
                  <a:lnTo>
                    <a:pt x="36" y="6"/>
                  </a:lnTo>
                  <a:lnTo>
                    <a:pt x="29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64200" y="289872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20"/>
                  </a:moveTo>
                  <a:lnTo>
                    <a:pt x="1" y="29"/>
                  </a:lnTo>
                  <a:lnTo>
                    <a:pt x="5" y="36"/>
                  </a:lnTo>
                  <a:lnTo>
                    <a:pt x="12" y="40"/>
                  </a:lnTo>
                  <a:lnTo>
                    <a:pt x="21" y="41"/>
                  </a:lnTo>
                  <a:lnTo>
                    <a:pt x="29" y="40"/>
                  </a:lnTo>
                  <a:lnTo>
                    <a:pt x="35" y="36"/>
                  </a:lnTo>
                  <a:lnTo>
                    <a:pt x="40" y="29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67600" y="5041800"/>
              <a:ext cx="6480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21"/>
                  </a:moveTo>
                  <a:lnTo>
                    <a:pt x="1" y="28"/>
                  </a:lnTo>
                  <a:lnTo>
                    <a:pt x="6" y="35"/>
                  </a:lnTo>
                  <a:lnTo>
                    <a:pt x="13" y="40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5" y="35"/>
                  </a:lnTo>
                  <a:lnTo>
                    <a:pt x="39" y="28"/>
                  </a:lnTo>
                  <a:lnTo>
                    <a:pt x="41" y="21"/>
                  </a:lnTo>
                  <a:lnTo>
                    <a:pt x="39" y="13"/>
                  </a:lnTo>
                  <a:lnTo>
                    <a:pt x="35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69080" y="437508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20"/>
                  </a:moveTo>
                  <a:lnTo>
                    <a:pt x="1" y="29"/>
                  </a:lnTo>
                  <a:lnTo>
                    <a:pt x="5" y="36"/>
                  </a:lnTo>
                  <a:lnTo>
                    <a:pt x="12" y="40"/>
                  </a:lnTo>
                  <a:lnTo>
                    <a:pt x="20" y="41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0" y="29"/>
                  </a:lnTo>
                  <a:lnTo>
                    <a:pt x="41" y="20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88160" y="485460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1" y="28"/>
                  </a:lnTo>
                  <a:lnTo>
                    <a:pt x="5" y="35"/>
                  </a:lnTo>
                  <a:lnTo>
                    <a:pt x="12" y="39"/>
                  </a:lnTo>
                  <a:lnTo>
                    <a:pt x="20" y="40"/>
                  </a:lnTo>
                  <a:lnTo>
                    <a:pt x="28" y="39"/>
                  </a:lnTo>
                  <a:lnTo>
                    <a:pt x="34" y="35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39" y="12"/>
                  </a:lnTo>
                  <a:lnTo>
                    <a:pt x="34" y="6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Projeto de Banco de D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2057400"/>
            <a:ext cx="2819520" cy="947160"/>
            <a:chOff x="1523880" y="2057400"/>
            <a:chExt cx="2819520" cy="947160"/>
          </a:xfrm>
        </p:grpSpPr>
        <p:sp>
          <p:nvSpPr>
            <p:cNvPr id="133" name=""/>
            <p:cNvSpPr/>
            <p:nvPr/>
          </p:nvSpPr>
          <p:spPr>
            <a:xfrm>
              <a:off x="1523880" y="2057400"/>
              <a:ext cx="28195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5120" y="2057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Projeto Conceitu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809880" y="4800600"/>
            <a:ext cx="4267440" cy="1447920"/>
            <a:chOff x="3809880" y="4800600"/>
            <a:chExt cx="4267440" cy="1447920"/>
          </a:xfrm>
        </p:grpSpPr>
        <p:sp>
          <p:nvSpPr>
            <p:cNvPr id="136" name=""/>
            <p:cNvSpPr/>
            <p:nvPr/>
          </p:nvSpPr>
          <p:spPr>
            <a:xfrm rot="5400000">
              <a:off x="3771720" y="4838760"/>
              <a:ext cx="1447920" cy="1371600"/>
            </a:xfrm>
            <a:custGeom>
              <a:avLst/>
              <a:gdLst>
                <a:gd name="textAreaLeft" fmla="*/ 502560 w 1447920"/>
                <a:gd name="textAreaRight" fmla="*/ 1168560 w 1447920"/>
                <a:gd name="textAreaTop" fmla="*/ 857880 h 1371600"/>
                <a:gd name="textAreaBottom" fmla="*/ 1107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678"/>
                  </a:moveTo>
                  <a:lnTo>
                    <a:pt x="13509" y="17678"/>
                  </a:lnTo>
                  <a:lnTo>
                    <a:pt x="13509" y="7500"/>
                  </a:lnTo>
                  <a:lnTo>
                    <a:pt x="9340" y="7500"/>
                  </a:lnTo>
                  <a:lnTo>
                    <a:pt x="15470" y="0"/>
                  </a:lnTo>
                  <a:lnTo>
                    <a:pt x="21600" y="7500"/>
                  </a:lnTo>
                  <a:lnTo>
                    <a:pt x="17431" y="7500"/>
                  </a:lnTo>
                  <a:lnTo>
                    <a:pt x="1743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257800" y="5257800"/>
              <a:ext cx="2819520" cy="947160"/>
              <a:chOff x="5257800" y="5257800"/>
              <a:chExt cx="2819520" cy="947160"/>
            </a:xfrm>
          </p:grpSpPr>
          <p:sp>
            <p:nvSpPr>
              <p:cNvPr id="138" name=""/>
              <p:cNvSpPr/>
              <p:nvPr/>
            </p:nvSpPr>
            <p:spPr>
              <a:xfrm>
                <a:off x="5257800" y="5257800"/>
                <a:ext cx="281952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15000" y="52578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rojeto Físic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1752480" y="3200400"/>
            <a:ext cx="4267440" cy="1480680"/>
            <a:chOff x="1752480" y="3200400"/>
            <a:chExt cx="4267440" cy="1480680"/>
          </a:xfrm>
        </p:grpSpPr>
        <p:sp>
          <p:nvSpPr>
            <p:cNvPr id="141" name=""/>
            <p:cNvSpPr/>
            <p:nvPr/>
          </p:nvSpPr>
          <p:spPr>
            <a:xfrm rot="5400000">
              <a:off x="1714320" y="3238560"/>
              <a:ext cx="1447920" cy="1371600"/>
            </a:xfrm>
            <a:custGeom>
              <a:avLst/>
              <a:gdLst>
                <a:gd name="textAreaLeft" fmla="*/ 502560 w 1447920"/>
                <a:gd name="textAreaRight" fmla="*/ 1168560 w 1447920"/>
                <a:gd name="textAreaTop" fmla="*/ 857880 h 1371600"/>
                <a:gd name="textAreaBottom" fmla="*/ 1107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678"/>
                  </a:moveTo>
                  <a:lnTo>
                    <a:pt x="13509" y="17678"/>
                  </a:lnTo>
                  <a:lnTo>
                    <a:pt x="13509" y="7500"/>
                  </a:lnTo>
                  <a:lnTo>
                    <a:pt x="9340" y="7500"/>
                  </a:lnTo>
                  <a:lnTo>
                    <a:pt x="15470" y="0"/>
                  </a:lnTo>
                  <a:lnTo>
                    <a:pt x="21600" y="7500"/>
                  </a:lnTo>
                  <a:lnTo>
                    <a:pt x="17431" y="7500"/>
                  </a:lnTo>
                  <a:lnTo>
                    <a:pt x="1743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200400" y="3733920"/>
              <a:ext cx="2819520" cy="947160"/>
              <a:chOff x="3200400" y="3733920"/>
              <a:chExt cx="2819520" cy="947160"/>
            </a:xfrm>
          </p:grpSpPr>
          <p:sp>
            <p:nvSpPr>
              <p:cNvPr id="143" name=""/>
              <p:cNvSpPr/>
              <p:nvPr/>
            </p:nvSpPr>
            <p:spPr>
              <a:xfrm>
                <a:off x="3200400" y="3733920"/>
                <a:ext cx="281952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57600" y="373392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rojeto Lógic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Linguagem SQ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87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icialmente, a SQL só previa seu uso de forma inter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pois passou a ser utilizada junto com outras linguagens, como FORTRAN, COBOL, C++, DELPHI e VISUAL BAS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3124080" cy="270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Enfoq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interativa de consult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query AdHoc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 - usuários podem montar consultas poderosas sem a necessidade de criação de programas, usando ferramentas de montagem de relatórios ou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Form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de programação para acesso a banco de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Comandos SQL embutidos em programas de aplic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Enfoq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de administração de banco de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O responsável pela administração de banco de dados (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BD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 pode utilizar SQL para realizar suas taref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cliente/servido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Os programas clientes (PC) usam SQL para se comunica-rem pela rede local, compartilhando dados em um servi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Enfoq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inguagem para banco de dados distri-buí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auxilia na distribuição dos dados através de vários nós conectados ao sistema de comput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aminho de acesso a outros bancos de dados em diferentes máquina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auxilia na conversão entre diferentes produtos de banco de dados colocados em diferentes máqui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e SGB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1752480"/>
            <a:ext cx="8229600" cy="4724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7200" spc="-1" strike="noStrike">
                <a:solidFill>
                  <a:srgbClr val="ffffff"/>
                </a:solidFill>
                <a:latin typeface="Times New Roman"/>
              </a:rPr>
              <a:t>SQL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066680" y="2209680"/>
            <a:ext cx="213372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(crea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truir (dro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ificar (al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91320" y="2133720"/>
            <a:ext cx="2361960" cy="16002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mplemen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4572000"/>
            <a:ext cx="2210040" cy="1600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minist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15000" y="4419720"/>
            <a:ext cx="2514600" cy="1752480"/>
          </a:xfrm>
          <a:prstGeom prst="rect">
            <a:avLst/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ultar(sel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serir(inser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agar(dele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lizar(upda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e SGB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efinição de dados (DDL)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ermite a definição da estrutura e organização dos dados armazenados e as relações que existem entre e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anipulação de dados (DML)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ermite a inclusão, remoção, seleção ou atualizaçã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e SGB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ntrole da acess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rotege os dados de manipulações não autoriz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mpartilhamento de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coordena o compartilhamento dos dados, por acessos concorrentes, sem interferir na ação de cada um de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tegridade dos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uxilia no pro-cesso de definição da integridade dos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Vantag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dependência de fabrican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é oferecida em praticamente todos os SGB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ortabilidade entre computador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pode ser utilizada desde um PC, pas-sando por Workstations, até Mainfr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Redução dos custos com treinament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Devido à portabilidade, as aplicações podem se movimentar de um ambiente para outro sem necessidade de um novo trein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Vantag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nglês estruturado de alto nível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QL é formada por um conjunto bem simples de sentenças em inglês, oferecendo um rápido e fácil entendi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onsulta interativ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rovê um acesso rápido aos dados, fornecendo respostas ao usuário quase instantaneam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Vantag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últiplas visões dos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ermite ao criador do banco de dados levar diferentes visões dos dados a diferentes usuá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Definição dinâmica dos dad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Pode-se alterar, expandir ou incluir, dinamicamente, as estruturas dos dados armazen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odelo Entidade-Relacionam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odelo E.R.: foi definido por Peter Chen em 1976, baseado na teoria relacional criada por E.F. Codd (1970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visão de uma dada realidade baseia-se no relacionamento entr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ntidad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idade é um objeto que é distinguível de outros por um conjunto específicos de atribu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QL - Desvantage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padronização leva a uma natural inibição da criatividade, pois o desenvolvedor fica preso a soluções padronizadas, não podendo sofrer melhorias ou alteraçõ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guns autores dizem que a SQL está longe de ser uma linguagem relacional id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riação e Exclusão de Tabel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Criação: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CREATE TABLE &lt;tabela&gt;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(&lt;descrição dos campos&gt;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&lt;descrição das chaves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Tipos de campos: smallint, char, money, varchar, integer, decimal, float, real, date, time, timestamp, logic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REATE TABLE Pedido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num_pedido int not null unique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prazo_entrega smallint not null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codcliente smallint not null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codvendedor smallint not null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FOREIGN KEY (codcliente) REFERENCES Cliente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FOREIGN KEY (codvendedor) REFERENCES Vended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Exclusão: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DROP TABLE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a tabel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1 - Selecionando campos específic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&lt;campos&gt; FROM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descricao, unidade, valor_un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FIELDS nomecli, endereco,CG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2 - Selecionando todos os camp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* FROM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*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FROM Vend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- op. relacion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3-Selecionando somente alguns registr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&lt;campos&gt; FROM &lt;tabela&gt; WHERE &lt;restriçõe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Courier New"/>
              </a:rPr>
              <a:t>Restriçõ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&lt;operador&gt;&lt;valo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Courier New"/>
              </a:rPr>
              <a:t>Valores: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caracteres devem vir entre aspas sim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es relaciona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= &lt;&gt; &lt; &gt; &gt;= &lt;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SELECT num_pedido,codprod,qu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quant = 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idade = ‘São Paulo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- op. lóg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es 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AND OR N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desc_pr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nidade=‘M’ AND valor_unit &lt; 1.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, endere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(CEP&gt;’30077000’ AND CEP&lt;=‘30079000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 cidade = ‘São Paulo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um_pedido FROM Ped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NOT (prazo_entrega = 1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- betwe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 BETW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 BETWEEN &lt;valor1&gt; AND &lt;valor2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codprod, descpr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al_unit BETWEEN 0.32 AND 2.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prof, descpr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al_unit NOT BETWEEN 2.00 AND 3.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- li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 LI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 LIKE &lt;valo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Curingas: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% - substitui uma palavra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_ - substitui um caract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codprod, descpr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nidade LIKE ‘K_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vendedor,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nomevendedor NOT LIKE ‘Jo%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s - 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 IN &lt;valore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missao IN (100, 2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faixacomissao NOT IN (‘A’, ‘B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s - is nu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Operador IS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ampo&gt; IS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insc_estadula IS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insc_estadual IS NOT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s - ordenan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4 - Ordenando dados selecio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&lt;campo&gt; ASC (ou DES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_vendedor, sal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nome_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ente, cidade,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ategoria = ‘A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estado DESC, cidade D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Entida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 objeto que existe e é distinguível dos outros obje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676520" y="2590920"/>
            <a:ext cx="5790960" cy="3978000"/>
            <a:chOff x="1676520" y="2590920"/>
            <a:chExt cx="5790960" cy="39780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105520" y="2819520"/>
              <a:ext cx="2082600" cy="37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676520" y="3657600"/>
              <a:ext cx="3352680" cy="1828800"/>
            </a:xfrm>
            <a:prstGeom prst="wedgeEllipseCallout">
              <a:avLst>
                <a:gd name="adj1" fmla="val 61175"/>
                <a:gd name="adj2" fmla="val -34199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4343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Times New Roman"/>
                </a:rPr>
                <a:t>Conta Corrente 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25909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Joã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s - campos calcul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5 - Cálculos com Informação Selecio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A SQL permite criar campos que não pertençam à tabela por meio de cálculos com alguns cam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vendedo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alario_final = (salario*1.75)+1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faixa_comissao = ‘C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nome_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362320" y="3733920"/>
            <a:ext cx="5257800" cy="2440800"/>
            <a:chOff x="2362320" y="3733920"/>
            <a:chExt cx="5257800" cy="2440800"/>
          </a:xfrm>
        </p:grpSpPr>
        <p:sp>
          <p:nvSpPr>
            <p:cNvPr id="977" name=""/>
            <p:cNvSpPr/>
            <p:nvPr/>
          </p:nvSpPr>
          <p:spPr>
            <a:xfrm>
              <a:off x="2362320" y="3733920"/>
              <a:ext cx="2361960" cy="457200"/>
            </a:xfrm>
            <a:prstGeom prst="ellipse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343400" y="4191120"/>
              <a:ext cx="1600200" cy="152388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200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Courier New"/>
                </a:rPr>
                <a:t>CAMPO CALCUL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Usando Funções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6 - Usando Fun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Buscando máximos e mínimos (MAX, M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MIN(salario_fixo), MAX(salario_fix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Totalizando campos (SU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SUM(quantida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_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digo_produto = ‘78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Calculando médias (AV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AVG(salario_fix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Usando Funçõe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cc33"/>
                </a:solidFill>
                <a:latin typeface="Courier New"/>
              </a:rPr>
              <a:t>Contando os registros (COU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Ex.: SELECT COUNT(*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WHERE salario_fixo &gt; 2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cc33"/>
                </a:solidFill>
                <a:latin typeface="Courier New"/>
              </a:rPr>
              <a:t>Cláusula DISTIN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Seleciona apenas ocorrências difer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Ex.: SELECT DISTINCT un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cc33"/>
                </a:solidFill>
                <a:latin typeface="Courier New"/>
              </a:rPr>
              <a:t>Agrupando informações (GROUP B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Organiza a seleção em grupos determinda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Ex.: SELECT num_pedido, total_produtos=COUNT(*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FROM ItemPed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GROUP BY num_ped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Obs. Usado apenas junto com COUNT e AV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O resultado será uma linha p/ cada grupo num_pedido, mostrando seu total (dado por COU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Usando Funções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grupando de forma condicional (HAV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um_pedido, total_produtos=COUNT(*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GROUP BY num_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HAVING COUNT(*) &gt;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ões de Tabelas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7 - Recuperando dados de várias tabelas (JOI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Qualificadores de no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onsiste no nome da tabela seguido de um ponto e o nome do ca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Produto.cod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Junção de tabe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cliente, Pedido.codcliente, nu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, 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ão de Tabela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Equação de jun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cliente, Pedido.codcliente, nu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, 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liente.codcliente = Pedido.cod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ente, uf, praz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, 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f IN (‘SP’, ‘RJ’) AND prazo&gt;15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liente.codcliente = Pedido.cod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cliente, praz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, 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liente.codcliente=Pedido.cod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prazo D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ão de Tabelas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li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ão apelidos dados às tabe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vendedor, praz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 V, Pedido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salario_fixo &gt;= 1000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prazo &gt; 15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V.codvendedor = P.cod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ão de Tabelas (4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8 - Juntando mais de duas tabe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nome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Cliente C, Pedido P, ItemPedido I, Produto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.codcliente = P.codcliente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I.codproduto = PR.codproduto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prazo &gt; 15 AND descricao = ‘Queijo’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f = ‘RJ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RDER BY nome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Junção de Tabelas (5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9 - Consultas encadeadas (subque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descric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dproduto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SELECT cod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_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quantidade = 1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salariofixo &lt; (SELECT AVG(salariofix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produto, descric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SELECT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ItemPed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dproduto = P.codprodu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nipulação de Registros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10 - Manipulando Registr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dicionando registros a uma tab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INSERT INTO &lt;nome da 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&lt;campo(s)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VALUES (&lt;valores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INSERT INTO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VALUES (108,’Parafuso’,’Kg’,1.2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dicionando registros usando um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INSERT INTO &lt;tabela&gt; (&lt;campos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&lt;campo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ondição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INSERT INTO Cliente (codcliente,nomecli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vendedor, nomevendedor, COUNT(*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 V, Pedido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.codvendedor = P.cod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HAVING COUNT(*) &gt; 5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juntos-Entida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 conjunto de entidades do mesmo ti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19320" y="2590920"/>
            <a:ext cx="7467120" cy="3747960"/>
            <a:chOff x="1219320" y="2590920"/>
            <a:chExt cx="7467120" cy="3747960"/>
          </a:xfrm>
        </p:grpSpPr>
        <p:sp>
          <p:nvSpPr>
            <p:cNvPr id="157" name=""/>
            <p:cNvSpPr/>
            <p:nvPr/>
          </p:nvSpPr>
          <p:spPr>
            <a:xfrm>
              <a:off x="3557520" y="4605480"/>
              <a:ext cx="547920" cy="339480"/>
            </a:xfrm>
            <a:custGeom>
              <a:avLst/>
              <a:gdLst/>
              <a:ahLst/>
              <a:rect l="l" t="t" r="r" b="b"/>
              <a:pathLst>
                <a:path w="345" h="214">
                  <a:moveTo>
                    <a:pt x="81" y="0"/>
                  </a:moveTo>
                  <a:lnTo>
                    <a:pt x="0" y="195"/>
                  </a:lnTo>
                  <a:lnTo>
                    <a:pt x="183" y="214"/>
                  </a:lnTo>
                  <a:lnTo>
                    <a:pt x="345" y="213"/>
                  </a:lnTo>
                  <a:lnTo>
                    <a:pt x="310" y="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03680" y="4390920"/>
              <a:ext cx="323640" cy="2970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0" y="3"/>
                  </a:moveTo>
                  <a:lnTo>
                    <a:pt x="199" y="0"/>
                  </a:lnTo>
                  <a:lnTo>
                    <a:pt x="204" y="166"/>
                  </a:lnTo>
                  <a:lnTo>
                    <a:pt x="16" y="18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02160" y="4014720"/>
              <a:ext cx="460080" cy="554040"/>
            </a:xfrm>
            <a:custGeom>
              <a:avLst/>
              <a:gdLst/>
              <a:ahLst/>
              <a:rect l="l" t="t" r="r" b="b"/>
              <a:pathLst>
                <a:path w="290" h="349">
                  <a:moveTo>
                    <a:pt x="0" y="48"/>
                  </a:moveTo>
                  <a:lnTo>
                    <a:pt x="126" y="0"/>
                  </a:lnTo>
                  <a:lnTo>
                    <a:pt x="268" y="33"/>
                  </a:lnTo>
                  <a:lnTo>
                    <a:pt x="290" y="299"/>
                  </a:lnTo>
                  <a:lnTo>
                    <a:pt x="32" y="34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82840" y="3824280"/>
              <a:ext cx="401760" cy="458640"/>
            </a:xfrm>
            <a:custGeom>
              <a:avLst/>
              <a:gdLst/>
              <a:ahLst/>
              <a:rect l="l" t="t" r="r" b="b"/>
              <a:pathLst>
                <a:path w="253" h="289">
                  <a:moveTo>
                    <a:pt x="253" y="219"/>
                  </a:moveTo>
                  <a:lnTo>
                    <a:pt x="186" y="289"/>
                  </a:lnTo>
                  <a:lnTo>
                    <a:pt x="0" y="89"/>
                  </a:lnTo>
                  <a:lnTo>
                    <a:pt x="31" y="0"/>
                  </a:lnTo>
                  <a:lnTo>
                    <a:pt x="83" y="68"/>
                  </a:lnTo>
                  <a:lnTo>
                    <a:pt x="253" y="21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76560" y="3951360"/>
              <a:ext cx="466920" cy="250920"/>
            </a:xfrm>
            <a:custGeom>
              <a:avLst/>
              <a:gdLst/>
              <a:ahLst/>
              <a:rect l="l" t="t" r="r" b="b"/>
              <a:pathLst>
                <a:path w="294" h="158">
                  <a:moveTo>
                    <a:pt x="0" y="70"/>
                  </a:moveTo>
                  <a:lnTo>
                    <a:pt x="30" y="158"/>
                  </a:lnTo>
                  <a:lnTo>
                    <a:pt x="285" y="85"/>
                  </a:lnTo>
                  <a:lnTo>
                    <a:pt x="294" y="0"/>
                  </a:lnTo>
                  <a:lnTo>
                    <a:pt x="199" y="1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1800" y="3639960"/>
              <a:ext cx="374760" cy="27792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150" y="175"/>
                  </a:moveTo>
                  <a:lnTo>
                    <a:pt x="0" y="26"/>
                  </a:lnTo>
                  <a:lnTo>
                    <a:pt x="42" y="0"/>
                  </a:lnTo>
                  <a:lnTo>
                    <a:pt x="236" y="146"/>
                  </a:lnTo>
                  <a:lnTo>
                    <a:pt x="150" y="175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5720" y="3732120"/>
              <a:ext cx="260280" cy="349200"/>
            </a:xfrm>
            <a:custGeom>
              <a:avLst/>
              <a:gdLst/>
              <a:ahLst/>
              <a:rect l="l" t="t" r="r" b="b"/>
              <a:pathLst>
                <a:path w="164" h="220">
                  <a:moveTo>
                    <a:pt x="77" y="220"/>
                  </a:moveTo>
                  <a:lnTo>
                    <a:pt x="164" y="9"/>
                  </a:lnTo>
                  <a:lnTo>
                    <a:pt x="115" y="0"/>
                  </a:lnTo>
                  <a:lnTo>
                    <a:pt x="0" y="194"/>
                  </a:lnTo>
                  <a:lnTo>
                    <a:pt x="77" y="220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86160" y="4819680"/>
              <a:ext cx="487440" cy="635040"/>
            </a:xfrm>
            <a:custGeom>
              <a:avLst/>
              <a:gdLst/>
              <a:ahLst/>
              <a:rect l="l" t="t" r="r" b="b"/>
              <a:pathLst>
                <a:path w="307" h="400">
                  <a:moveTo>
                    <a:pt x="149" y="0"/>
                  </a:moveTo>
                  <a:lnTo>
                    <a:pt x="307" y="18"/>
                  </a:lnTo>
                  <a:lnTo>
                    <a:pt x="110" y="342"/>
                  </a:lnTo>
                  <a:lnTo>
                    <a:pt x="90" y="400"/>
                  </a:lnTo>
                  <a:lnTo>
                    <a:pt x="47" y="384"/>
                  </a:lnTo>
                  <a:lnTo>
                    <a:pt x="0" y="32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4824360"/>
              <a:ext cx="379440" cy="719280"/>
            </a:xfrm>
            <a:custGeom>
              <a:avLst/>
              <a:gdLst/>
              <a:ahLst/>
              <a:rect l="l" t="t" r="r" b="b"/>
              <a:pathLst>
                <a:path w="239" h="453">
                  <a:moveTo>
                    <a:pt x="134" y="0"/>
                  </a:moveTo>
                  <a:lnTo>
                    <a:pt x="0" y="66"/>
                  </a:lnTo>
                  <a:lnTo>
                    <a:pt x="136" y="386"/>
                  </a:lnTo>
                  <a:lnTo>
                    <a:pt x="152" y="453"/>
                  </a:lnTo>
                  <a:lnTo>
                    <a:pt x="220" y="431"/>
                  </a:lnTo>
                  <a:lnTo>
                    <a:pt x="239" y="395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46640" y="5357880"/>
              <a:ext cx="420480" cy="490320"/>
            </a:xfrm>
            <a:custGeom>
              <a:avLst/>
              <a:gdLst/>
              <a:ahLst/>
              <a:rect l="l" t="t" r="r" b="b"/>
              <a:pathLst>
                <a:path w="265" h="309">
                  <a:moveTo>
                    <a:pt x="114" y="0"/>
                  </a:moveTo>
                  <a:lnTo>
                    <a:pt x="0" y="39"/>
                  </a:lnTo>
                  <a:lnTo>
                    <a:pt x="193" y="309"/>
                  </a:lnTo>
                  <a:lnTo>
                    <a:pt x="265" y="304"/>
                  </a:lnTo>
                  <a:lnTo>
                    <a:pt x="189" y="190"/>
                  </a:lnTo>
                  <a:lnTo>
                    <a:pt x="175" y="10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70440" y="5430960"/>
              <a:ext cx="287280" cy="581040"/>
            </a:xfrm>
            <a:custGeom>
              <a:avLst/>
              <a:gdLst/>
              <a:ahLst/>
              <a:rect l="l" t="t" r="r" b="b"/>
              <a:pathLst>
                <a:path w="181" h="366">
                  <a:moveTo>
                    <a:pt x="63" y="0"/>
                  </a:moveTo>
                  <a:lnTo>
                    <a:pt x="181" y="58"/>
                  </a:lnTo>
                  <a:lnTo>
                    <a:pt x="70" y="355"/>
                  </a:lnTo>
                  <a:lnTo>
                    <a:pt x="0" y="366"/>
                  </a:lnTo>
                  <a:lnTo>
                    <a:pt x="38" y="212"/>
                  </a:lnTo>
                  <a:lnTo>
                    <a:pt x="29" y="15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38600" y="5803920"/>
              <a:ext cx="182520" cy="349200"/>
            </a:xfrm>
            <a:custGeom>
              <a:avLst/>
              <a:gdLst/>
              <a:ahLst/>
              <a:rect l="l" t="t" r="r" b="b"/>
              <a:pathLst>
                <a:path w="115" h="220">
                  <a:moveTo>
                    <a:pt x="5" y="49"/>
                  </a:moveTo>
                  <a:lnTo>
                    <a:pt x="0" y="172"/>
                  </a:lnTo>
                  <a:lnTo>
                    <a:pt x="11" y="220"/>
                  </a:lnTo>
                  <a:lnTo>
                    <a:pt x="107" y="171"/>
                  </a:lnTo>
                  <a:lnTo>
                    <a:pt x="90" y="73"/>
                  </a:lnTo>
                  <a:lnTo>
                    <a:pt x="115" y="28"/>
                  </a:lnTo>
                  <a:lnTo>
                    <a:pt x="54" y="0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30480" y="5946840"/>
              <a:ext cx="243000" cy="314280"/>
            </a:xfrm>
            <a:custGeom>
              <a:avLst/>
              <a:gdLst/>
              <a:ahLst/>
              <a:rect l="l" t="t" r="r" b="b"/>
              <a:pathLst>
                <a:path w="153" h="198">
                  <a:moveTo>
                    <a:pt x="90" y="17"/>
                  </a:moveTo>
                  <a:lnTo>
                    <a:pt x="149" y="136"/>
                  </a:lnTo>
                  <a:lnTo>
                    <a:pt x="153" y="198"/>
                  </a:lnTo>
                  <a:lnTo>
                    <a:pt x="63" y="176"/>
                  </a:lnTo>
                  <a:lnTo>
                    <a:pt x="39" y="71"/>
                  </a:lnTo>
                  <a:lnTo>
                    <a:pt x="0" y="35"/>
                  </a:lnTo>
                  <a:lnTo>
                    <a:pt x="35" y="0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51400" y="3462480"/>
              <a:ext cx="263520" cy="314280"/>
            </a:xfrm>
            <a:custGeom>
              <a:avLst/>
              <a:gdLst/>
              <a:ahLst/>
              <a:rect l="l" t="t" r="r" b="b"/>
              <a:pathLst>
                <a:path w="166" h="198">
                  <a:moveTo>
                    <a:pt x="92" y="198"/>
                  </a:moveTo>
                  <a:lnTo>
                    <a:pt x="16" y="173"/>
                  </a:lnTo>
                  <a:lnTo>
                    <a:pt x="0" y="150"/>
                  </a:lnTo>
                  <a:lnTo>
                    <a:pt x="44" y="135"/>
                  </a:lnTo>
                  <a:lnTo>
                    <a:pt x="11" y="61"/>
                  </a:lnTo>
                  <a:lnTo>
                    <a:pt x="26" y="34"/>
                  </a:lnTo>
                  <a:lnTo>
                    <a:pt x="67" y="99"/>
                  </a:lnTo>
                  <a:lnTo>
                    <a:pt x="49" y="8"/>
                  </a:lnTo>
                  <a:lnTo>
                    <a:pt x="72" y="0"/>
                  </a:lnTo>
                  <a:lnTo>
                    <a:pt x="90" y="98"/>
                  </a:lnTo>
                  <a:lnTo>
                    <a:pt x="101" y="9"/>
                  </a:lnTo>
                  <a:lnTo>
                    <a:pt x="130" y="11"/>
                  </a:lnTo>
                  <a:lnTo>
                    <a:pt x="116" y="111"/>
                  </a:lnTo>
                  <a:lnTo>
                    <a:pt x="147" y="33"/>
                  </a:lnTo>
                  <a:lnTo>
                    <a:pt x="166" y="27"/>
                  </a:lnTo>
                  <a:lnTo>
                    <a:pt x="131" y="161"/>
                  </a:lnTo>
                  <a:lnTo>
                    <a:pt x="9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4640" y="3502080"/>
              <a:ext cx="304920" cy="223920"/>
            </a:xfrm>
            <a:custGeom>
              <a:avLst/>
              <a:gdLst/>
              <a:ahLst/>
              <a:rect l="l" t="t" r="r" b="b"/>
              <a:pathLst>
                <a:path w="192" h="141">
                  <a:moveTo>
                    <a:pt x="192" y="113"/>
                  </a:moveTo>
                  <a:lnTo>
                    <a:pt x="188" y="35"/>
                  </a:lnTo>
                  <a:lnTo>
                    <a:pt x="168" y="13"/>
                  </a:lnTo>
                  <a:lnTo>
                    <a:pt x="144" y="51"/>
                  </a:lnTo>
                  <a:lnTo>
                    <a:pt x="80" y="0"/>
                  </a:lnTo>
                  <a:lnTo>
                    <a:pt x="50" y="8"/>
                  </a:lnTo>
                  <a:lnTo>
                    <a:pt x="103" y="64"/>
                  </a:lnTo>
                  <a:lnTo>
                    <a:pt x="19" y="23"/>
                  </a:lnTo>
                  <a:lnTo>
                    <a:pt x="5" y="44"/>
                  </a:lnTo>
                  <a:lnTo>
                    <a:pt x="95" y="87"/>
                  </a:lnTo>
                  <a:lnTo>
                    <a:pt x="8" y="72"/>
                  </a:lnTo>
                  <a:lnTo>
                    <a:pt x="0" y="101"/>
                  </a:lnTo>
                  <a:lnTo>
                    <a:pt x="100" y="114"/>
                  </a:lnTo>
                  <a:lnTo>
                    <a:pt x="17" y="123"/>
                  </a:lnTo>
                  <a:lnTo>
                    <a:pt x="6" y="141"/>
                  </a:lnTo>
                  <a:lnTo>
                    <a:pt x="145" y="141"/>
                  </a:lnTo>
                  <a:lnTo>
                    <a:pt x="192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95680" y="3638520"/>
              <a:ext cx="368280" cy="447840"/>
            </a:xfrm>
            <a:custGeom>
              <a:avLst/>
              <a:gdLst/>
              <a:ahLst/>
              <a:rect l="l" t="t" r="r" b="b"/>
              <a:pathLst>
                <a:path w="232" h="282">
                  <a:moveTo>
                    <a:pt x="171" y="0"/>
                  </a:moveTo>
                  <a:lnTo>
                    <a:pt x="232" y="75"/>
                  </a:lnTo>
                  <a:lnTo>
                    <a:pt x="227" y="162"/>
                  </a:lnTo>
                  <a:lnTo>
                    <a:pt x="186" y="185"/>
                  </a:lnTo>
                  <a:lnTo>
                    <a:pt x="192" y="269"/>
                  </a:lnTo>
                  <a:lnTo>
                    <a:pt x="88" y="282"/>
                  </a:lnTo>
                  <a:lnTo>
                    <a:pt x="93" y="220"/>
                  </a:lnTo>
                  <a:lnTo>
                    <a:pt x="50" y="212"/>
                  </a:lnTo>
                  <a:lnTo>
                    <a:pt x="31" y="186"/>
                  </a:lnTo>
                  <a:lnTo>
                    <a:pt x="21" y="145"/>
                  </a:lnTo>
                  <a:lnTo>
                    <a:pt x="0" y="136"/>
                  </a:lnTo>
                  <a:lnTo>
                    <a:pt x="38" y="68"/>
                  </a:lnTo>
                  <a:lnTo>
                    <a:pt x="75" y="1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2440" y="3738600"/>
              <a:ext cx="193680" cy="104760"/>
            </a:xfrm>
            <a:custGeom>
              <a:avLst/>
              <a:gdLst/>
              <a:ahLst/>
              <a:rect l="l" t="t" r="r" b="b"/>
              <a:pathLst>
                <a:path w="122" h="66">
                  <a:moveTo>
                    <a:pt x="81" y="13"/>
                  </a:moveTo>
                  <a:lnTo>
                    <a:pt x="81" y="19"/>
                  </a:lnTo>
                  <a:lnTo>
                    <a:pt x="79" y="35"/>
                  </a:lnTo>
                  <a:lnTo>
                    <a:pt x="76" y="53"/>
                  </a:lnTo>
                  <a:lnTo>
                    <a:pt x="67" y="64"/>
                  </a:lnTo>
                  <a:lnTo>
                    <a:pt x="55" y="66"/>
                  </a:lnTo>
                  <a:lnTo>
                    <a:pt x="47" y="59"/>
                  </a:lnTo>
                  <a:lnTo>
                    <a:pt x="41" y="50"/>
                  </a:lnTo>
                  <a:lnTo>
                    <a:pt x="37" y="41"/>
                  </a:lnTo>
                  <a:lnTo>
                    <a:pt x="33" y="33"/>
                  </a:lnTo>
                  <a:lnTo>
                    <a:pt x="31" y="27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19" y="37"/>
                  </a:lnTo>
                  <a:lnTo>
                    <a:pt x="15" y="48"/>
                  </a:lnTo>
                  <a:lnTo>
                    <a:pt x="13" y="58"/>
                  </a:lnTo>
                  <a:lnTo>
                    <a:pt x="7" y="62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4" y="4"/>
                  </a:lnTo>
                  <a:lnTo>
                    <a:pt x="29" y="1"/>
                  </a:lnTo>
                  <a:lnTo>
                    <a:pt x="46" y="0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97" y="0"/>
                  </a:lnTo>
                  <a:lnTo>
                    <a:pt x="112" y="1"/>
                  </a:lnTo>
                  <a:lnTo>
                    <a:pt x="122" y="4"/>
                  </a:lnTo>
                  <a:lnTo>
                    <a:pt x="121" y="9"/>
                  </a:lnTo>
                  <a:lnTo>
                    <a:pt x="119" y="13"/>
                  </a:lnTo>
                  <a:lnTo>
                    <a:pt x="119" y="15"/>
                  </a:lnTo>
                  <a:lnTo>
                    <a:pt x="119" y="17"/>
                  </a:lnTo>
                  <a:lnTo>
                    <a:pt x="118" y="17"/>
                  </a:lnTo>
                  <a:lnTo>
                    <a:pt x="117" y="15"/>
                  </a:lnTo>
                  <a:lnTo>
                    <a:pt x="113" y="15"/>
                  </a:lnTo>
                  <a:lnTo>
                    <a:pt x="108" y="14"/>
                  </a:lnTo>
                  <a:lnTo>
                    <a:pt x="103" y="14"/>
                  </a:lnTo>
                  <a:lnTo>
                    <a:pt x="95" y="13"/>
                  </a:lnTo>
                  <a:lnTo>
                    <a:pt x="88" y="13"/>
                  </a:lnTo>
                  <a:lnTo>
                    <a:pt x="81" y="1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9200" y="3571920"/>
              <a:ext cx="752760" cy="696960"/>
            </a:xfrm>
            <a:custGeom>
              <a:avLst/>
              <a:gdLst/>
              <a:ahLst/>
              <a:rect l="l" t="t" r="r" b="b"/>
              <a:pathLst>
                <a:path w="474" h="439">
                  <a:moveTo>
                    <a:pt x="98" y="46"/>
                  </a:moveTo>
                  <a:lnTo>
                    <a:pt x="87" y="56"/>
                  </a:lnTo>
                  <a:lnTo>
                    <a:pt x="81" y="72"/>
                  </a:lnTo>
                  <a:lnTo>
                    <a:pt x="79" y="88"/>
                  </a:lnTo>
                  <a:lnTo>
                    <a:pt x="75" y="101"/>
                  </a:lnTo>
                  <a:lnTo>
                    <a:pt x="67" y="108"/>
                  </a:lnTo>
                  <a:lnTo>
                    <a:pt x="57" y="110"/>
                  </a:lnTo>
                  <a:lnTo>
                    <a:pt x="45" y="109"/>
                  </a:lnTo>
                  <a:lnTo>
                    <a:pt x="34" y="104"/>
                  </a:lnTo>
                  <a:lnTo>
                    <a:pt x="22" y="97"/>
                  </a:lnTo>
                  <a:lnTo>
                    <a:pt x="12" y="88"/>
                  </a:lnTo>
                  <a:lnTo>
                    <a:pt x="4" y="78"/>
                  </a:lnTo>
                  <a:lnTo>
                    <a:pt x="0" y="68"/>
                  </a:lnTo>
                  <a:lnTo>
                    <a:pt x="4" y="72"/>
                  </a:lnTo>
                  <a:lnTo>
                    <a:pt x="11" y="74"/>
                  </a:lnTo>
                  <a:lnTo>
                    <a:pt x="18" y="77"/>
                  </a:lnTo>
                  <a:lnTo>
                    <a:pt x="26" y="78"/>
                  </a:lnTo>
                  <a:lnTo>
                    <a:pt x="35" y="79"/>
                  </a:lnTo>
                  <a:lnTo>
                    <a:pt x="42" y="78"/>
                  </a:lnTo>
                  <a:lnTo>
                    <a:pt x="48" y="75"/>
                  </a:lnTo>
                  <a:lnTo>
                    <a:pt x="52" y="70"/>
                  </a:lnTo>
                  <a:lnTo>
                    <a:pt x="58" y="57"/>
                  </a:lnTo>
                  <a:lnTo>
                    <a:pt x="62" y="47"/>
                  </a:lnTo>
                  <a:lnTo>
                    <a:pt x="67" y="38"/>
                  </a:lnTo>
                  <a:lnTo>
                    <a:pt x="74" y="30"/>
                  </a:lnTo>
                  <a:lnTo>
                    <a:pt x="81" y="24"/>
                  </a:lnTo>
                  <a:lnTo>
                    <a:pt x="92" y="18"/>
                  </a:lnTo>
                  <a:lnTo>
                    <a:pt x="106" y="11"/>
                  </a:lnTo>
                  <a:lnTo>
                    <a:pt x="125" y="6"/>
                  </a:lnTo>
                  <a:lnTo>
                    <a:pt x="147" y="1"/>
                  </a:lnTo>
                  <a:lnTo>
                    <a:pt x="168" y="0"/>
                  </a:lnTo>
                  <a:lnTo>
                    <a:pt x="187" y="1"/>
                  </a:lnTo>
                  <a:lnTo>
                    <a:pt x="204" y="5"/>
                  </a:lnTo>
                  <a:lnTo>
                    <a:pt x="220" y="10"/>
                  </a:lnTo>
                  <a:lnTo>
                    <a:pt x="233" y="16"/>
                  </a:lnTo>
                  <a:lnTo>
                    <a:pt x="244" y="25"/>
                  </a:lnTo>
                  <a:lnTo>
                    <a:pt x="251" y="34"/>
                  </a:lnTo>
                  <a:lnTo>
                    <a:pt x="258" y="45"/>
                  </a:lnTo>
                  <a:lnTo>
                    <a:pt x="265" y="56"/>
                  </a:lnTo>
                  <a:lnTo>
                    <a:pt x="273" y="69"/>
                  </a:lnTo>
                  <a:lnTo>
                    <a:pt x="282" y="82"/>
                  </a:lnTo>
                  <a:lnTo>
                    <a:pt x="291" y="97"/>
                  </a:lnTo>
                  <a:lnTo>
                    <a:pt x="301" y="113"/>
                  </a:lnTo>
                  <a:lnTo>
                    <a:pt x="310" y="131"/>
                  </a:lnTo>
                  <a:lnTo>
                    <a:pt x="321" y="150"/>
                  </a:lnTo>
                  <a:lnTo>
                    <a:pt x="334" y="180"/>
                  </a:lnTo>
                  <a:lnTo>
                    <a:pt x="344" y="214"/>
                  </a:lnTo>
                  <a:lnTo>
                    <a:pt x="357" y="250"/>
                  </a:lnTo>
                  <a:lnTo>
                    <a:pt x="370" y="285"/>
                  </a:lnTo>
                  <a:lnTo>
                    <a:pt x="386" y="318"/>
                  </a:lnTo>
                  <a:lnTo>
                    <a:pt x="408" y="345"/>
                  </a:lnTo>
                  <a:lnTo>
                    <a:pt x="438" y="366"/>
                  </a:lnTo>
                  <a:lnTo>
                    <a:pt x="474" y="376"/>
                  </a:lnTo>
                  <a:lnTo>
                    <a:pt x="462" y="392"/>
                  </a:lnTo>
                  <a:lnTo>
                    <a:pt x="449" y="405"/>
                  </a:lnTo>
                  <a:lnTo>
                    <a:pt x="435" y="415"/>
                  </a:lnTo>
                  <a:lnTo>
                    <a:pt x="420" y="423"/>
                  </a:lnTo>
                  <a:lnTo>
                    <a:pt x="404" y="429"/>
                  </a:lnTo>
                  <a:lnTo>
                    <a:pt x="388" y="434"/>
                  </a:lnTo>
                  <a:lnTo>
                    <a:pt x="371" y="437"/>
                  </a:lnTo>
                  <a:lnTo>
                    <a:pt x="354" y="439"/>
                  </a:lnTo>
                  <a:lnTo>
                    <a:pt x="339" y="439"/>
                  </a:lnTo>
                  <a:lnTo>
                    <a:pt x="323" y="439"/>
                  </a:lnTo>
                  <a:lnTo>
                    <a:pt x="309" y="438"/>
                  </a:lnTo>
                  <a:lnTo>
                    <a:pt x="298" y="437"/>
                  </a:lnTo>
                  <a:lnTo>
                    <a:pt x="286" y="434"/>
                  </a:lnTo>
                  <a:lnTo>
                    <a:pt x="277" y="432"/>
                  </a:lnTo>
                  <a:lnTo>
                    <a:pt x="269" y="429"/>
                  </a:lnTo>
                  <a:lnTo>
                    <a:pt x="265" y="426"/>
                  </a:lnTo>
                  <a:lnTo>
                    <a:pt x="244" y="405"/>
                  </a:lnTo>
                  <a:lnTo>
                    <a:pt x="226" y="371"/>
                  </a:lnTo>
                  <a:lnTo>
                    <a:pt x="211" y="329"/>
                  </a:lnTo>
                  <a:lnTo>
                    <a:pt x="201" y="282"/>
                  </a:lnTo>
                  <a:lnTo>
                    <a:pt x="193" y="237"/>
                  </a:lnTo>
                  <a:lnTo>
                    <a:pt x="191" y="200"/>
                  </a:lnTo>
                  <a:lnTo>
                    <a:pt x="192" y="173"/>
                  </a:lnTo>
                  <a:lnTo>
                    <a:pt x="197" y="163"/>
                  </a:lnTo>
                  <a:lnTo>
                    <a:pt x="209" y="153"/>
                  </a:lnTo>
                  <a:lnTo>
                    <a:pt x="211" y="131"/>
                  </a:lnTo>
                  <a:lnTo>
                    <a:pt x="205" y="110"/>
                  </a:lnTo>
                  <a:lnTo>
                    <a:pt x="193" y="101"/>
                  </a:lnTo>
                  <a:lnTo>
                    <a:pt x="183" y="104"/>
                  </a:lnTo>
                  <a:lnTo>
                    <a:pt x="174" y="108"/>
                  </a:lnTo>
                  <a:lnTo>
                    <a:pt x="168" y="114"/>
                  </a:lnTo>
                  <a:lnTo>
                    <a:pt x="163" y="124"/>
                  </a:lnTo>
                  <a:lnTo>
                    <a:pt x="161" y="138"/>
                  </a:lnTo>
                  <a:lnTo>
                    <a:pt x="164" y="156"/>
                  </a:lnTo>
                  <a:lnTo>
                    <a:pt x="170" y="177"/>
                  </a:lnTo>
                  <a:lnTo>
                    <a:pt x="177" y="198"/>
                  </a:lnTo>
                  <a:lnTo>
                    <a:pt x="179" y="210"/>
                  </a:lnTo>
                  <a:lnTo>
                    <a:pt x="177" y="221"/>
                  </a:lnTo>
                  <a:lnTo>
                    <a:pt x="172" y="227"/>
                  </a:lnTo>
                  <a:lnTo>
                    <a:pt x="165" y="234"/>
                  </a:lnTo>
                  <a:lnTo>
                    <a:pt x="157" y="237"/>
                  </a:lnTo>
                  <a:lnTo>
                    <a:pt x="150" y="239"/>
                  </a:lnTo>
                  <a:lnTo>
                    <a:pt x="143" y="240"/>
                  </a:lnTo>
                  <a:lnTo>
                    <a:pt x="139" y="240"/>
                  </a:lnTo>
                  <a:lnTo>
                    <a:pt x="155" y="227"/>
                  </a:lnTo>
                  <a:lnTo>
                    <a:pt x="165" y="212"/>
                  </a:lnTo>
                  <a:lnTo>
                    <a:pt x="168" y="199"/>
                  </a:lnTo>
                  <a:lnTo>
                    <a:pt x="164" y="189"/>
                  </a:lnTo>
                  <a:lnTo>
                    <a:pt x="159" y="183"/>
                  </a:lnTo>
                  <a:lnTo>
                    <a:pt x="150" y="176"/>
                  </a:lnTo>
                  <a:lnTo>
                    <a:pt x="141" y="168"/>
                  </a:lnTo>
                  <a:lnTo>
                    <a:pt x="130" y="159"/>
                  </a:lnTo>
                  <a:lnTo>
                    <a:pt x="121" y="149"/>
                  </a:lnTo>
                  <a:lnTo>
                    <a:pt x="114" y="140"/>
                  </a:lnTo>
                  <a:lnTo>
                    <a:pt x="107" y="131"/>
                  </a:lnTo>
                  <a:lnTo>
                    <a:pt x="105" y="123"/>
                  </a:lnTo>
                  <a:lnTo>
                    <a:pt x="99" y="106"/>
                  </a:lnTo>
                  <a:lnTo>
                    <a:pt x="94" y="87"/>
                  </a:lnTo>
                  <a:lnTo>
                    <a:pt x="96" y="66"/>
                  </a:lnTo>
                  <a:lnTo>
                    <a:pt x="107" y="48"/>
                  </a:lnTo>
                  <a:lnTo>
                    <a:pt x="98" y="46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46760" y="3959280"/>
              <a:ext cx="428760" cy="27468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48" y="173"/>
                  </a:moveTo>
                  <a:lnTo>
                    <a:pt x="270" y="92"/>
                  </a:lnTo>
                  <a:lnTo>
                    <a:pt x="71" y="0"/>
                  </a:lnTo>
                  <a:lnTo>
                    <a:pt x="0" y="56"/>
                  </a:lnTo>
                  <a:lnTo>
                    <a:pt x="58" y="90"/>
                  </a:lnTo>
                  <a:lnTo>
                    <a:pt x="120" y="164"/>
                  </a:lnTo>
                  <a:lnTo>
                    <a:pt x="248" y="17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3880" y="3772080"/>
              <a:ext cx="312840" cy="26496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08" y="167"/>
                  </a:moveTo>
                  <a:lnTo>
                    <a:pt x="0" y="23"/>
                  </a:lnTo>
                  <a:lnTo>
                    <a:pt x="43" y="0"/>
                  </a:lnTo>
                  <a:lnTo>
                    <a:pt x="197" y="135"/>
                  </a:lnTo>
                  <a:lnTo>
                    <a:pt x="108" y="16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34120" y="3510000"/>
              <a:ext cx="347760" cy="276120"/>
            </a:xfrm>
            <a:custGeom>
              <a:avLst/>
              <a:gdLst/>
              <a:ahLst/>
              <a:rect l="l" t="t" r="r" b="b"/>
              <a:pathLst>
                <a:path w="219" h="174">
                  <a:moveTo>
                    <a:pt x="180" y="174"/>
                  </a:moveTo>
                  <a:lnTo>
                    <a:pt x="219" y="100"/>
                  </a:lnTo>
                  <a:lnTo>
                    <a:pt x="214" y="72"/>
                  </a:lnTo>
                  <a:lnTo>
                    <a:pt x="171" y="93"/>
                  </a:lnTo>
                  <a:lnTo>
                    <a:pt x="142" y="12"/>
                  </a:lnTo>
                  <a:lnTo>
                    <a:pt x="111" y="3"/>
                  </a:lnTo>
                  <a:lnTo>
                    <a:pt x="128" y="81"/>
                  </a:lnTo>
                  <a:lnTo>
                    <a:pt x="76" y="0"/>
                  </a:lnTo>
                  <a:lnTo>
                    <a:pt x="52" y="10"/>
                  </a:lnTo>
                  <a:lnTo>
                    <a:pt x="108" y="98"/>
                  </a:lnTo>
                  <a:lnTo>
                    <a:pt x="39" y="37"/>
                  </a:lnTo>
                  <a:lnTo>
                    <a:pt x="16" y="59"/>
                  </a:lnTo>
                  <a:lnTo>
                    <a:pt x="98" y="125"/>
                  </a:lnTo>
                  <a:lnTo>
                    <a:pt x="20" y="87"/>
                  </a:lnTo>
                  <a:lnTo>
                    <a:pt x="0" y="98"/>
                  </a:lnTo>
                  <a:lnTo>
                    <a:pt x="124" y="174"/>
                  </a:lnTo>
                  <a:lnTo>
                    <a:pt x="180" y="1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22960" y="4529160"/>
              <a:ext cx="379440" cy="264960"/>
            </a:xfrm>
            <a:custGeom>
              <a:avLst/>
              <a:gdLst/>
              <a:ahLst/>
              <a:rect l="l" t="t" r="r" b="b"/>
              <a:pathLst>
                <a:path w="239" h="167">
                  <a:moveTo>
                    <a:pt x="239" y="48"/>
                  </a:moveTo>
                  <a:lnTo>
                    <a:pt x="32" y="0"/>
                  </a:lnTo>
                  <a:lnTo>
                    <a:pt x="0" y="119"/>
                  </a:lnTo>
                  <a:lnTo>
                    <a:pt x="213" y="167"/>
                  </a:lnTo>
                  <a:lnTo>
                    <a:pt x="239" y="48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20000" y="4044960"/>
              <a:ext cx="568080" cy="636480"/>
            </a:xfrm>
            <a:custGeom>
              <a:avLst/>
              <a:gdLst/>
              <a:ahLst/>
              <a:rect l="l" t="t" r="r" b="b"/>
              <a:pathLst>
                <a:path w="358" h="401">
                  <a:moveTo>
                    <a:pt x="358" y="128"/>
                  </a:moveTo>
                  <a:lnTo>
                    <a:pt x="319" y="377"/>
                  </a:lnTo>
                  <a:lnTo>
                    <a:pt x="55" y="401"/>
                  </a:lnTo>
                  <a:lnTo>
                    <a:pt x="0" y="141"/>
                  </a:lnTo>
                  <a:lnTo>
                    <a:pt x="24" y="131"/>
                  </a:lnTo>
                  <a:lnTo>
                    <a:pt x="47" y="118"/>
                  </a:lnTo>
                  <a:lnTo>
                    <a:pt x="67" y="103"/>
                  </a:lnTo>
                  <a:lnTo>
                    <a:pt x="85" y="86"/>
                  </a:lnTo>
                  <a:lnTo>
                    <a:pt x="96" y="68"/>
                  </a:lnTo>
                  <a:lnTo>
                    <a:pt x="100" y="50"/>
                  </a:lnTo>
                  <a:lnTo>
                    <a:pt x="93" y="31"/>
                  </a:lnTo>
                  <a:lnTo>
                    <a:pt x="76" y="11"/>
                  </a:lnTo>
                  <a:lnTo>
                    <a:pt x="152" y="10"/>
                  </a:lnTo>
                  <a:lnTo>
                    <a:pt x="228" y="42"/>
                  </a:lnTo>
                  <a:lnTo>
                    <a:pt x="316" y="0"/>
                  </a:lnTo>
                  <a:lnTo>
                    <a:pt x="307" y="18"/>
                  </a:lnTo>
                  <a:lnTo>
                    <a:pt x="301" y="36"/>
                  </a:lnTo>
                  <a:lnTo>
                    <a:pt x="299" y="55"/>
                  </a:lnTo>
                  <a:lnTo>
                    <a:pt x="300" y="73"/>
                  </a:lnTo>
                  <a:lnTo>
                    <a:pt x="307" y="90"/>
                  </a:lnTo>
                  <a:lnTo>
                    <a:pt x="317" y="105"/>
                  </a:lnTo>
                  <a:lnTo>
                    <a:pt x="335" y="118"/>
                  </a:lnTo>
                  <a:lnTo>
                    <a:pt x="358" y="12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8600" y="4946760"/>
              <a:ext cx="635040" cy="612720"/>
            </a:xfrm>
            <a:custGeom>
              <a:avLst/>
              <a:gdLst/>
              <a:ahLst/>
              <a:rect l="l" t="t" r="r" b="b"/>
              <a:pathLst>
                <a:path w="400" h="386">
                  <a:moveTo>
                    <a:pt x="243" y="0"/>
                  </a:moveTo>
                  <a:lnTo>
                    <a:pt x="400" y="58"/>
                  </a:lnTo>
                  <a:lnTo>
                    <a:pt x="104" y="370"/>
                  </a:lnTo>
                  <a:lnTo>
                    <a:pt x="60" y="386"/>
                  </a:lnTo>
                  <a:lnTo>
                    <a:pt x="25" y="356"/>
                  </a:lnTo>
                  <a:lnTo>
                    <a:pt x="0" y="283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89640" y="4795920"/>
              <a:ext cx="403560" cy="695160"/>
            </a:xfrm>
            <a:custGeom>
              <a:avLst/>
              <a:gdLst/>
              <a:ahLst/>
              <a:rect l="l" t="t" r="r" b="b"/>
              <a:pathLst>
                <a:path w="254" h="438">
                  <a:moveTo>
                    <a:pt x="122" y="0"/>
                  </a:moveTo>
                  <a:lnTo>
                    <a:pt x="0" y="87"/>
                  </a:lnTo>
                  <a:lnTo>
                    <a:pt x="139" y="410"/>
                  </a:lnTo>
                  <a:lnTo>
                    <a:pt x="177" y="438"/>
                  </a:lnTo>
                  <a:lnTo>
                    <a:pt x="240" y="406"/>
                  </a:lnTo>
                  <a:lnTo>
                    <a:pt x="254" y="36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46880" y="5410080"/>
              <a:ext cx="355680" cy="379440"/>
            </a:xfrm>
            <a:custGeom>
              <a:avLst/>
              <a:gdLst/>
              <a:ahLst/>
              <a:rect l="l" t="t" r="r" b="b"/>
              <a:pathLst>
                <a:path w="224" h="239">
                  <a:moveTo>
                    <a:pt x="224" y="55"/>
                  </a:moveTo>
                  <a:lnTo>
                    <a:pt x="161" y="0"/>
                  </a:lnTo>
                  <a:lnTo>
                    <a:pt x="0" y="170"/>
                  </a:lnTo>
                  <a:lnTo>
                    <a:pt x="21" y="239"/>
                  </a:lnTo>
                  <a:lnTo>
                    <a:pt x="99" y="150"/>
                  </a:lnTo>
                  <a:lnTo>
                    <a:pt x="162" y="134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86560" y="5511960"/>
              <a:ext cx="214560" cy="49356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40" y="0"/>
                  </a:moveTo>
                  <a:lnTo>
                    <a:pt x="135" y="36"/>
                  </a:lnTo>
                  <a:lnTo>
                    <a:pt x="69" y="292"/>
                  </a:lnTo>
                  <a:lnTo>
                    <a:pt x="0" y="311"/>
                  </a:lnTo>
                  <a:lnTo>
                    <a:pt x="23" y="164"/>
                  </a:lnTo>
                  <a:lnTo>
                    <a:pt x="10" y="12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3640" y="5591160"/>
              <a:ext cx="343080" cy="314280"/>
            </a:xfrm>
            <a:custGeom>
              <a:avLst/>
              <a:gdLst/>
              <a:ahLst/>
              <a:rect l="l" t="t" r="r" b="b"/>
              <a:pathLst>
                <a:path w="216" h="198">
                  <a:moveTo>
                    <a:pt x="190" y="79"/>
                  </a:moveTo>
                  <a:lnTo>
                    <a:pt x="54" y="0"/>
                  </a:lnTo>
                  <a:lnTo>
                    <a:pt x="0" y="11"/>
                  </a:lnTo>
                  <a:lnTo>
                    <a:pt x="32" y="125"/>
                  </a:lnTo>
                  <a:lnTo>
                    <a:pt x="109" y="152"/>
                  </a:lnTo>
                  <a:lnTo>
                    <a:pt x="162" y="198"/>
                  </a:lnTo>
                  <a:lnTo>
                    <a:pt x="216" y="146"/>
                  </a:lnTo>
                  <a:lnTo>
                    <a:pt x="190" y="79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07440" y="6024600"/>
              <a:ext cx="385560" cy="270000"/>
            </a:xfrm>
            <a:custGeom>
              <a:avLst/>
              <a:gdLst/>
              <a:ahLst/>
              <a:rect l="l" t="t" r="r" b="b"/>
              <a:pathLst>
                <a:path w="243" h="170">
                  <a:moveTo>
                    <a:pt x="79" y="0"/>
                  </a:moveTo>
                  <a:lnTo>
                    <a:pt x="230" y="98"/>
                  </a:lnTo>
                  <a:lnTo>
                    <a:pt x="243" y="145"/>
                  </a:lnTo>
                  <a:lnTo>
                    <a:pt x="124" y="170"/>
                  </a:lnTo>
                  <a:lnTo>
                    <a:pt x="61" y="112"/>
                  </a:lnTo>
                  <a:lnTo>
                    <a:pt x="0" y="109"/>
                  </a:lnTo>
                  <a:lnTo>
                    <a:pt x="16" y="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6200" y="3605040"/>
              <a:ext cx="354240" cy="588960"/>
            </a:xfrm>
            <a:custGeom>
              <a:avLst/>
              <a:gdLst/>
              <a:ahLst/>
              <a:rect l="l" t="t" r="r" b="b"/>
              <a:pathLst>
                <a:path w="223" h="371">
                  <a:moveTo>
                    <a:pt x="171" y="0"/>
                  </a:moveTo>
                  <a:lnTo>
                    <a:pt x="223" y="84"/>
                  </a:lnTo>
                  <a:lnTo>
                    <a:pt x="214" y="150"/>
                  </a:lnTo>
                  <a:lnTo>
                    <a:pt x="191" y="171"/>
                  </a:lnTo>
                  <a:lnTo>
                    <a:pt x="189" y="178"/>
                  </a:lnTo>
                  <a:lnTo>
                    <a:pt x="187" y="195"/>
                  </a:lnTo>
                  <a:lnTo>
                    <a:pt x="183" y="216"/>
                  </a:lnTo>
                  <a:lnTo>
                    <a:pt x="179" y="238"/>
                  </a:lnTo>
                  <a:lnTo>
                    <a:pt x="182" y="286"/>
                  </a:lnTo>
                  <a:lnTo>
                    <a:pt x="173" y="323"/>
                  </a:lnTo>
                  <a:lnTo>
                    <a:pt x="157" y="351"/>
                  </a:lnTo>
                  <a:lnTo>
                    <a:pt x="135" y="367"/>
                  </a:lnTo>
                  <a:lnTo>
                    <a:pt x="114" y="371"/>
                  </a:lnTo>
                  <a:lnTo>
                    <a:pt x="93" y="360"/>
                  </a:lnTo>
                  <a:lnTo>
                    <a:pt x="79" y="335"/>
                  </a:lnTo>
                  <a:lnTo>
                    <a:pt x="72" y="292"/>
                  </a:lnTo>
                  <a:lnTo>
                    <a:pt x="74" y="267"/>
                  </a:lnTo>
                  <a:lnTo>
                    <a:pt x="75" y="242"/>
                  </a:lnTo>
                  <a:lnTo>
                    <a:pt x="76" y="225"/>
                  </a:lnTo>
                  <a:lnTo>
                    <a:pt x="78" y="219"/>
                  </a:lnTo>
                  <a:lnTo>
                    <a:pt x="40" y="206"/>
                  </a:lnTo>
                  <a:lnTo>
                    <a:pt x="25" y="180"/>
                  </a:lnTo>
                  <a:lnTo>
                    <a:pt x="21" y="139"/>
                  </a:lnTo>
                  <a:lnTo>
                    <a:pt x="0" y="128"/>
                  </a:lnTo>
                  <a:lnTo>
                    <a:pt x="21" y="60"/>
                  </a:lnTo>
                  <a:lnTo>
                    <a:pt x="29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39160" y="3560760"/>
              <a:ext cx="376200" cy="29052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225" y="138"/>
                  </a:moveTo>
                  <a:lnTo>
                    <a:pt x="234" y="116"/>
                  </a:lnTo>
                  <a:lnTo>
                    <a:pt x="237" y="94"/>
                  </a:lnTo>
                  <a:lnTo>
                    <a:pt x="235" y="72"/>
                  </a:lnTo>
                  <a:lnTo>
                    <a:pt x="229" y="54"/>
                  </a:lnTo>
                  <a:lnTo>
                    <a:pt x="221" y="43"/>
                  </a:lnTo>
                  <a:lnTo>
                    <a:pt x="210" y="30"/>
                  </a:lnTo>
                  <a:lnTo>
                    <a:pt x="194" y="19"/>
                  </a:lnTo>
                  <a:lnTo>
                    <a:pt x="176" y="9"/>
                  </a:lnTo>
                  <a:lnTo>
                    <a:pt x="156" y="3"/>
                  </a:lnTo>
                  <a:lnTo>
                    <a:pt x="134" y="0"/>
                  </a:lnTo>
                  <a:lnTo>
                    <a:pt x="109" y="3"/>
                  </a:lnTo>
                  <a:lnTo>
                    <a:pt x="85" y="10"/>
                  </a:lnTo>
                  <a:lnTo>
                    <a:pt x="54" y="4"/>
                  </a:lnTo>
                  <a:lnTo>
                    <a:pt x="30" y="5"/>
                  </a:lnTo>
                  <a:lnTo>
                    <a:pt x="13" y="14"/>
                  </a:lnTo>
                  <a:lnTo>
                    <a:pt x="4" y="27"/>
                  </a:lnTo>
                  <a:lnTo>
                    <a:pt x="0" y="44"/>
                  </a:lnTo>
                  <a:lnTo>
                    <a:pt x="4" y="61"/>
                  </a:lnTo>
                  <a:lnTo>
                    <a:pt x="14" y="76"/>
                  </a:lnTo>
                  <a:lnTo>
                    <a:pt x="30" y="88"/>
                  </a:lnTo>
                  <a:lnTo>
                    <a:pt x="39" y="68"/>
                  </a:lnTo>
                  <a:lnTo>
                    <a:pt x="49" y="61"/>
                  </a:lnTo>
                  <a:lnTo>
                    <a:pt x="59" y="59"/>
                  </a:lnTo>
                  <a:lnTo>
                    <a:pt x="71" y="63"/>
                  </a:lnTo>
                  <a:lnTo>
                    <a:pt x="82" y="70"/>
                  </a:lnTo>
                  <a:lnTo>
                    <a:pt x="95" y="75"/>
                  </a:lnTo>
                  <a:lnTo>
                    <a:pt x="107" y="77"/>
                  </a:lnTo>
                  <a:lnTo>
                    <a:pt x="120" y="72"/>
                  </a:lnTo>
                  <a:lnTo>
                    <a:pt x="100" y="163"/>
                  </a:lnTo>
                  <a:lnTo>
                    <a:pt x="139" y="139"/>
                  </a:lnTo>
                  <a:lnTo>
                    <a:pt x="145" y="118"/>
                  </a:lnTo>
                  <a:lnTo>
                    <a:pt x="153" y="106"/>
                  </a:lnTo>
                  <a:lnTo>
                    <a:pt x="162" y="103"/>
                  </a:lnTo>
                  <a:lnTo>
                    <a:pt x="174" y="107"/>
                  </a:lnTo>
                  <a:lnTo>
                    <a:pt x="187" y="122"/>
                  </a:lnTo>
                  <a:lnTo>
                    <a:pt x="189" y="142"/>
                  </a:lnTo>
                  <a:lnTo>
                    <a:pt x="183" y="163"/>
                  </a:lnTo>
                  <a:lnTo>
                    <a:pt x="169" y="183"/>
                  </a:lnTo>
                  <a:lnTo>
                    <a:pt x="174" y="180"/>
                  </a:lnTo>
                  <a:lnTo>
                    <a:pt x="181" y="178"/>
                  </a:lnTo>
                  <a:lnTo>
                    <a:pt x="189" y="174"/>
                  </a:lnTo>
                  <a:lnTo>
                    <a:pt x="198" y="167"/>
                  </a:lnTo>
                  <a:lnTo>
                    <a:pt x="207" y="162"/>
                  </a:lnTo>
                  <a:lnTo>
                    <a:pt x="215" y="154"/>
                  </a:lnTo>
                  <a:lnTo>
                    <a:pt x="221" y="147"/>
                  </a:lnTo>
                  <a:lnTo>
                    <a:pt x="225" y="138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48640" y="4759200"/>
              <a:ext cx="822240" cy="627120"/>
            </a:xfrm>
            <a:custGeom>
              <a:avLst/>
              <a:gdLst/>
              <a:ahLst/>
              <a:rect l="l" t="t" r="r" b="b"/>
              <a:pathLst>
                <a:path w="518" h="395">
                  <a:moveTo>
                    <a:pt x="415" y="6"/>
                  </a:moveTo>
                  <a:lnTo>
                    <a:pt x="139" y="0"/>
                  </a:lnTo>
                  <a:lnTo>
                    <a:pt x="0" y="253"/>
                  </a:lnTo>
                  <a:lnTo>
                    <a:pt x="184" y="395"/>
                  </a:lnTo>
                  <a:lnTo>
                    <a:pt x="274" y="267"/>
                  </a:lnTo>
                  <a:lnTo>
                    <a:pt x="309" y="361"/>
                  </a:lnTo>
                  <a:lnTo>
                    <a:pt x="518" y="315"/>
                  </a:lnTo>
                  <a:lnTo>
                    <a:pt x="415" y="6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8360" y="3965400"/>
              <a:ext cx="468360" cy="252720"/>
            </a:xfrm>
            <a:custGeom>
              <a:avLst/>
              <a:gdLst/>
              <a:ahLst/>
              <a:rect l="l" t="t" r="r" b="b"/>
              <a:pathLst>
                <a:path w="295" h="159">
                  <a:moveTo>
                    <a:pt x="0" y="85"/>
                  </a:moveTo>
                  <a:lnTo>
                    <a:pt x="31" y="159"/>
                  </a:lnTo>
                  <a:lnTo>
                    <a:pt x="286" y="85"/>
                  </a:lnTo>
                  <a:lnTo>
                    <a:pt x="295" y="1"/>
                  </a:lnTo>
                  <a:lnTo>
                    <a:pt x="206" y="34"/>
                  </a:lnTo>
                  <a:lnTo>
                    <a:pt x="115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51600" y="3719520"/>
              <a:ext cx="270000" cy="361800"/>
            </a:xfrm>
            <a:custGeom>
              <a:avLst/>
              <a:gdLst/>
              <a:ahLst/>
              <a:rect l="l" t="t" r="r" b="b"/>
              <a:pathLst>
                <a:path w="170" h="228">
                  <a:moveTo>
                    <a:pt x="87" y="228"/>
                  </a:moveTo>
                  <a:lnTo>
                    <a:pt x="170" y="11"/>
                  </a:lnTo>
                  <a:lnTo>
                    <a:pt x="121" y="0"/>
                  </a:lnTo>
                  <a:lnTo>
                    <a:pt x="0" y="211"/>
                  </a:lnTo>
                  <a:lnTo>
                    <a:pt x="87" y="2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4680" y="3416400"/>
              <a:ext cx="304920" cy="365040"/>
            </a:xfrm>
            <a:custGeom>
              <a:avLst/>
              <a:gdLst/>
              <a:ahLst/>
              <a:rect l="l" t="t" r="r" b="b"/>
              <a:pathLst>
                <a:path w="192" h="230">
                  <a:moveTo>
                    <a:pt x="105" y="230"/>
                  </a:moveTo>
                  <a:lnTo>
                    <a:pt x="17" y="200"/>
                  </a:lnTo>
                  <a:lnTo>
                    <a:pt x="0" y="172"/>
                  </a:lnTo>
                  <a:lnTo>
                    <a:pt x="49" y="157"/>
                  </a:lnTo>
                  <a:lnTo>
                    <a:pt x="12" y="69"/>
                  </a:lnTo>
                  <a:lnTo>
                    <a:pt x="30" y="40"/>
                  </a:lnTo>
                  <a:lnTo>
                    <a:pt x="76" y="116"/>
                  </a:lnTo>
                  <a:lnTo>
                    <a:pt x="56" y="10"/>
                  </a:lnTo>
                  <a:lnTo>
                    <a:pt x="83" y="0"/>
                  </a:lnTo>
                  <a:lnTo>
                    <a:pt x="105" y="113"/>
                  </a:lnTo>
                  <a:lnTo>
                    <a:pt x="115" y="11"/>
                  </a:lnTo>
                  <a:lnTo>
                    <a:pt x="151" y="13"/>
                  </a:lnTo>
                  <a:lnTo>
                    <a:pt x="134" y="128"/>
                  </a:lnTo>
                  <a:lnTo>
                    <a:pt x="169" y="37"/>
                  </a:lnTo>
                  <a:lnTo>
                    <a:pt x="192" y="31"/>
                  </a:lnTo>
                  <a:lnTo>
                    <a:pt x="151" y="186"/>
                  </a:lnTo>
                  <a:lnTo>
                    <a:pt x="105" y="2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1000" y="4554360"/>
              <a:ext cx="368280" cy="235080"/>
            </a:xfrm>
            <a:custGeom>
              <a:avLst/>
              <a:gdLst/>
              <a:ahLst/>
              <a:rect l="l" t="t" r="r" b="b"/>
              <a:pathLst>
                <a:path w="232" h="148">
                  <a:moveTo>
                    <a:pt x="6" y="7"/>
                  </a:moveTo>
                  <a:lnTo>
                    <a:pt x="229" y="0"/>
                  </a:lnTo>
                  <a:lnTo>
                    <a:pt x="232" y="142"/>
                  </a:lnTo>
                  <a:lnTo>
                    <a:pt x="0" y="148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1800" y="4697280"/>
              <a:ext cx="522360" cy="370080"/>
            </a:xfrm>
            <a:custGeom>
              <a:avLst/>
              <a:gdLst/>
              <a:ahLst/>
              <a:rect l="l" t="t" r="r" b="b"/>
              <a:pathLst>
                <a:path w="329" h="233">
                  <a:moveTo>
                    <a:pt x="37" y="0"/>
                  </a:moveTo>
                  <a:lnTo>
                    <a:pt x="0" y="215"/>
                  </a:lnTo>
                  <a:lnTo>
                    <a:pt x="186" y="162"/>
                  </a:lnTo>
                  <a:lnTo>
                    <a:pt x="329" y="233"/>
                  </a:lnTo>
                  <a:lnTo>
                    <a:pt x="310" y="4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41960" y="4110120"/>
              <a:ext cx="574560" cy="509400"/>
            </a:xfrm>
            <a:custGeom>
              <a:avLst/>
              <a:gdLst/>
              <a:ahLst/>
              <a:rect l="l" t="t" r="r" b="b"/>
              <a:pathLst>
                <a:path w="362" h="321">
                  <a:moveTo>
                    <a:pt x="0" y="30"/>
                  </a:moveTo>
                  <a:lnTo>
                    <a:pt x="121" y="0"/>
                  </a:lnTo>
                  <a:lnTo>
                    <a:pt x="362" y="22"/>
                  </a:lnTo>
                  <a:lnTo>
                    <a:pt x="335" y="312"/>
                  </a:lnTo>
                  <a:lnTo>
                    <a:pt x="82" y="32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46760" y="3836880"/>
              <a:ext cx="385560" cy="486000"/>
            </a:xfrm>
            <a:custGeom>
              <a:avLst/>
              <a:gdLst/>
              <a:ahLst/>
              <a:rect l="l" t="t" r="r" b="b"/>
              <a:pathLst>
                <a:path w="243" h="306">
                  <a:moveTo>
                    <a:pt x="243" y="239"/>
                  </a:moveTo>
                  <a:lnTo>
                    <a:pt x="190" y="306"/>
                  </a:lnTo>
                  <a:lnTo>
                    <a:pt x="0" y="81"/>
                  </a:lnTo>
                  <a:lnTo>
                    <a:pt x="43" y="0"/>
                  </a:lnTo>
                  <a:lnTo>
                    <a:pt x="83" y="73"/>
                  </a:lnTo>
                  <a:lnTo>
                    <a:pt x="193" y="123"/>
                  </a:lnTo>
                  <a:lnTo>
                    <a:pt x="243" y="2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9680" y="4032360"/>
              <a:ext cx="457200" cy="249120"/>
            </a:xfrm>
            <a:custGeom>
              <a:avLst/>
              <a:gdLst/>
              <a:ahLst/>
              <a:rect l="l" t="t" r="r" b="b"/>
              <a:pathLst>
                <a:path w="288" h="157">
                  <a:moveTo>
                    <a:pt x="0" y="84"/>
                  </a:moveTo>
                  <a:lnTo>
                    <a:pt x="31" y="157"/>
                  </a:lnTo>
                  <a:lnTo>
                    <a:pt x="281" y="84"/>
                  </a:lnTo>
                  <a:lnTo>
                    <a:pt x="288" y="1"/>
                  </a:lnTo>
                  <a:lnTo>
                    <a:pt x="202" y="35"/>
                  </a:lnTo>
                  <a:lnTo>
                    <a:pt x="112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2200" y="3638520"/>
              <a:ext cx="352440" cy="270000"/>
            </a:xfrm>
            <a:custGeom>
              <a:avLst/>
              <a:gdLst/>
              <a:ahLst/>
              <a:rect l="l" t="t" r="r" b="b"/>
              <a:pathLst>
                <a:path w="222" h="170">
                  <a:moveTo>
                    <a:pt x="133" y="170"/>
                  </a:moveTo>
                  <a:lnTo>
                    <a:pt x="0" y="18"/>
                  </a:lnTo>
                  <a:lnTo>
                    <a:pt x="43" y="0"/>
                  </a:lnTo>
                  <a:lnTo>
                    <a:pt x="222" y="153"/>
                  </a:lnTo>
                  <a:lnTo>
                    <a:pt x="133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75360" y="3794040"/>
              <a:ext cx="264960" cy="352440"/>
            </a:xfrm>
            <a:custGeom>
              <a:avLst/>
              <a:gdLst/>
              <a:ahLst/>
              <a:rect l="l" t="t" r="r" b="b"/>
              <a:pathLst>
                <a:path w="167" h="222">
                  <a:moveTo>
                    <a:pt x="86" y="222"/>
                  </a:moveTo>
                  <a:lnTo>
                    <a:pt x="167" y="9"/>
                  </a:lnTo>
                  <a:lnTo>
                    <a:pt x="120" y="0"/>
                  </a:lnTo>
                  <a:lnTo>
                    <a:pt x="0" y="207"/>
                  </a:lnTo>
                  <a:lnTo>
                    <a:pt x="86" y="222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14880" y="4851360"/>
              <a:ext cx="457200" cy="657360"/>
            </a:xfrm>
            <a:custGeom>
              <a:avLst/>
              <a:gdLst/>
              <a:ahLst/>
              <a:rect l="l" t="t" r="r" b="b"/>
              <a:pathLst>
                <a:path w="288" h="414">
                  <a:moveTo>
                    <a:pt x="137" y="0"/>
                  </a:moveTo>
                  <a:lnTo>
                    <a:pt x="288" y="23"/>
                  </a:lnTo>
                  <a:lnTo>
                    <a:pt x="125" y="387"/>
                  </a:lnTo>
                  <a:lnTo>
                    <a:pt x="88" y="414"/>
                  </a:lnTo>
                  <a:lnTo>
                    <a:pt x="47" y="397"/>
                  </a:lnTo>
                  <a:lnTo>
                    <a:pt x="0" y="337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26080" y="4871880"/>
              <a:ext cx="351000" cy="723960"/>
            </a:xfrm>
            <a:custGeom>
              <a:avLst/>
              <a:gdLst/>
              <a:ahLst/>
              <a:rect l="l" t="t" r="r" b="b"/>
              <a:pathLst>
                <a:path w="221" h="456">
                  <a:moveTo>
                    <a:pt x="131" y="0"/>
                  </a:moveTo>
                  <a:lnTo>
                    <a:pt x="0" y="41"/>
                  </a:lnTo>
                  <a:lnTo>
                    <a:pt x="104" y="421"/>
                  </a:lnTo>
                  <a:lnTo>
                    <a:pt x="135" y="456"/>
                  </a:lnTo>
                  <a:lnTo>
                    <a:pt x="202" y="434"/>
                  </a:lnTo>
                  <a:lnTo>
                    <a:pt x="221" y="39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76800" y="5396040"/>
              <a:ext cx="409680" cy="498240"/>
            </a:xfrm>
            <a:custGeom>
              <a:avLst/>
              <a:gdLst/>
              <a:ahLst/>
              <a:rect l="l" t="t" r="r" b="b"/>
              <a:pathLst>
                <a:path w="258" h="314">
                  <a:moveTo>
                    <a:pt x="64" y="0"/>
                  </a:moveTo>
                  <a:lnTo>
                    <a:pt x="0" y="49"/>
                  </a:lnTo>
                  <a:lnTo>
                    <a:pt x="188" y="314"/>
                  </a:lnTo>
                  <a:lnTo>
                    <a:pt x="258" y="309"/>
                  </a:lnTo>
                  <a:lnTo>
                    <a:pt x="184" y="184"/>
                  </a:lnTo>
                  <a:lnTo>
                    <a:pt x="181" y="12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5489640"/>
              <a:ext cx="281160" cy="565200"/>
            </a:xfrm>
            <a:custGeom>
              <a:avLst/>
              <a:gdLst/>
              <a:ahLst/>
              <a:rect l="l" t="t" r="r" b="b"/>
              <a:pathLst>
                <a:path w="177" h="356">
                  <a:moveTo>
                    <a:pt x="114" y="0"/>
                  </a:moveTo>
                  <a:lnTo>
                    <a:pt x="177" y="53"/>
                  </a:lnTo>
                  <a:lnTo>
                    <a:pt x="70" y="345"/>
                  </a:lnTo>
                  <a:lnTo>
                    <a:pt x="0" y="356"/>
                  </a:lnTo>
                  <a:lnTo>
                    <a:pt x="38" y="192"/>
                  </a:lnTo>
                  <a:lnTo>
                    <a:pt x="29" y="153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33840" y="5840280"/>
              <a:ext cx="216000" cy="393840"/>
            </a:xfrm>
            <a:custGeom>
              <a:avLst/>
              <a:gdLst/>
              <a:ahLst/>
              <a:rect l="l" t="t" r="r" b="b"/>
              <a:pathLst>
                <a:path w="136" h="248">
                  <a:moveTo>
                    <a:pt x="18" y="49"/>
                  </a:moveTo>
                  <a:lnTo>
                    <a:pt x="0" y="203"/>
                  </a:lnTo>
                  <a:lnTo>
                    <a:pt x="30" y="248"/>
                  </a:lnTo>
                  <a:lnTo>
                    <a:pt x="120" y="174"/>
                  </a:lnTo>
                  <a:lnTo>
                    <a:pt x="116" y="94"/>
                  </a:lnTo>
                  <a:lnTo>
                    <a:pt x="136" y="29"/>
                  </a:lnTo>
                  <a:lnTo>
                    <a:pt x="67" y="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54520" y="6000840"/>
              <a:ext cx="335160" cy="338040"/>
            </a:xfrm>
            <a:custGeom>
              <a:avLst/>
              <a:gdLst/>
              <a:ahLst/>
              <a:rect l="l" t="t" r="r" b="b"/>
              <a:pathLst>
                <a:path w="211" h="213">
                  <a:moveTo>
                    <a:pt x="116" y="18"/>
                  </a:moveTo>
                  <a:lnTo>
                    <a:pt x="211" y="165"/>
                  </a:lnTo>
                  <a:lnTo>
                    <a:pt x="203" y="213"/>
                  </a:lnTo>
                  <a:lnTo>
                    <a:pt x="87" y="187"/>
                  </a:lnTo>
                  <a:lnTo>
                    <a:pt x="54" y="110"/>
                  </a:lnTo>
                  <a:lnTo>
                    <a:pt x="0" y="82"/>
                  </a:lnTo>
                  <a:lnTo>
                    <a:pt x="57" y="0"/>
                  </a:lnTo>
                  <a:lnTo>
                    <a:pt x="116" y="1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46640" y="3495600"/>
              <a:ext cx="300240" cy="357120"/>
            </a:xfrm>
            <a:custGeom>
              <a:avLst/>
              <a:gdLst/>
              <a:ahLst/>
              <a:rect l="l" t="t" r="r" b="b"/>
              <a:pathLst>
                <a:path w="189" h="225">
                  <a:moveTo>
                    <a:pt x="103" y="225"/>
                  </a:moveTo>
                  <a:lnTo>
                    <a:pt x="18" y="195"/>
                  </a:lnTo>
                  <a:lnTo>
                    <a:pt x="0" y="168"/>
                  </a:lnTo>
                  <a:lnTo>
                    <a:pt x="49" y="153"/>
                  </a:lnTo>
                  <a:lnTo>
                    <a:pt x="12" y="68"/>
                  </a:lnTo>
                  <a:lnTo>
                    <a:pt x="30" y="39"/>
                  </a:lnTo>
                  <a:lnTo>
                    <a:pt x="76" y="113"/>
                  </a:lnTo>
                  <a:lnTo>
                    <a:pt x="55" y="9"/>
                  </a:lnTo>
                  <a:lnTo>
                    <a:pt x="82" y="0"/>
                  </a:lnTo>
                  <a:lnTo>
                    <a:pt x="103" y="111"/>
                  </a:lnTo>
                  <a:lnTo>
                    <a:pt x="113" y="10"/>
                  </a:lnTo>
                  <a:lnTo>
                    <a:pt x="148" y="12"/>
                  </a:lnTo>
                  <a:lnTo>
                    <a:pt x="132" y="125"/>
                  </a:lnTo>
                  <a:lnTo>
                    <a:pt x="166" y="36"/>
                  </a:lnTo>
                  <a:lnTo>
                    <a:pt x="189" y="31"/>
                  </a:lnTo>
                  <a:lnTo>
                    <a:pt x="148" y="183"/>
                  </a:lnTo>
                  <a:lnTo>
                    <a:pt x="103" y="22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34120" y="3726000"/>
              <a:ext cx="371520" cy="447480"/>
            </a:xfrm>
            <a:custGeom>
              <a:avLst/>
              <a:gdLst/>
              <a:ahLst/>
              <a:rect l="l" t="t" r="r" b="b"/>
              <a:pathLst>
                <a:path w="234" h="282">
                  <a:moveTo>
                    <a:pt x="71" y="0"/>
                  </a:moveTo>
                  <a:lnTo>
                    <a:pt x="0" y="83"/>
                  </a:lnTo>
                  <a:lnTo>
                    <a:pt x="14" y="149"/>
                  </a:lnTo>
                  <a:lnTo>
                    <a:pt x="45" y="167"/>
                  </a:lnTo>
                  <a:lnTo>
                    <a:pt x="53" y="275"/>
                  </a:lnTo>
                  <a:lnTo>
                    <a:pt x="177" y="282"/>
                  </a:lnTo>
                  <a:lnTo>
                    <a:pt x="156" y="218"/>
                  </a:lnTo>
                  <a:lnTo>
                    <a:pt x="192" y="207"/>
                  </a:lnTo>
                  <a:lnTo>
                    <a:pt x="208" y="183"/>
                  </a:lnTo>
                  <a:lnTo>
                    <a:pt x="212" y="142"/>
                  </a:lnTo>
                  <a:lnTo>
                    <a:pt x="234" y="133"/>
                  </a:lnTo>
                  <a:lnTo>
                    <a:pt x="216" y="65"/>
                  </a:lnTo>
                  <a:lnTo>
                    <a:pt x="211" y="11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00800" y="3801960"/>
              <a:ext cx="234720" cy="141480"/>
            </a:xfrm>
            <a:custGeom>
              <a:avLst/>
              <a:gdLst/>
              <a:ahLst/>
              <a:rect l="l" t="t" r="r" b="b"/>
              <a:pathLst>
                <a:path w="148" h="89">
                  <a:moveTo>
                    <a:pt x="0" y="40"/>
                  </a:moveTo>
                  <a:lnTo>
                    <a:pt x="141" y="0"/>
                  </a:lnTo>
                  <a:lnTo>
                    <a:pt x="148" y="58"/>
                  </a:lnTo>
                  <a:lnTo>
                    <a:pt x="146" y="65"/>
                  </a:lnTo>
                  <a:lnTo>
                    <a:pt x="145" y="69"/>
                  </a:lnTo>
                  <a:lnTo>
                    <a:pt x="141" y="71"/>
                  </a:lnTo>
                  <a:lnTo>
                    <a:pt x="136" y="64"/>
                  </a:lnTo>
                  <a:lnTo>
                    <a:pt x="128" y="54"/>
                  </a:lnTo>
                  <a:lnTo>
                    <a:pt x="123" y="44"/>
                  </a:lnTo>
                  <a:lnTo>
                    <a:pt x="116" y="38"/>
                  </a:lnTo>
                  <a:lnTo>
                    <a:pt x="112" y="40"/>
                  </a:lnTo>
                  <a:lnTo>
                    <a:pt x="110" y="47"/>
                  </a:lnTo>
                  <a:lnTo>
                    <a:pt x="109" y="55"/>
                  </a:lnTo>
                  <a:lnTo>
                    <a:pt x="107" y="65"/>
                  </a:lnTo>
                  <a:lnTo>
                    <a:pt x="105" y="77"/>
                  </a:lnTo>
                  <a:lnTo>
                    <a:pt x="99" y="83"/>
                  </a:lnTo>
                  <a:lnTo>
                    <a:pt x="90" y="89"/>
                  </a:lnTo>
                  <a:lnTo>
                    <a:pt x="78" y="89"/>
                  </a:lnTo>
                  <a:lnTo>
                    <a:pt x="67" y="85"/>
                  </a:lnTo>
                  <a:lnTo>
                    <a:pt x="60" y="77"/>
                  </a:lnTo>
                  <a:lnTo>
                    <a:pt x="53" y="67"/>
                  </a:lnTo>
                  <a:lnTo>
                    <a:pt x="51" y="58"/>
                  </a:lnTo>
                  <a:lnTo>
                    <a:pt x="49" y="50"/>
                  </a:lnTo>
                  <a:lnTo>
                    <a:pt x="47" y="49"/>
                  </a:lnTo>
                  <a:lnTo>
                    <a:pt x="42" y="49"/>
                  </a:lnTo>
                  <a:lnTo>
                    <a:pt x="34" y="51"/>
                  </a:lnTo>
                  <a:lnTo>
                    <a:pt x="25" y="54"/>
                  </a:lnTo>
                  <a:lnTo>
                    <a:pt x="16" y="58"/>
                  </a:lnTo>
                  <a:lnTo>
                    <a:pt x="8" y="60"/>
                  </a:lnTo>
                  <a:lnTo>
                    <a:pt x="3" y="63"/>
                  </a:lnTo>
                  <a:lnTo>
                    <a:pt x="0" y="6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440" y="3697200"/>
              <a:ext cx="384120" cy="176400"/>
            </a:xfrm>
            <a:custGeom>
              <a:avLst/>
              <a:gdLst/>
              <a:ahLst/>
              <a:rect l="l" t="t" r="r" b="b"/>
              <a:pathLst>
                <a:path w="242" h="111">
                  <a:moveTo>
                    <a:pt x="242" y="85"/>
                  </a:moveTo>
                  <a:lnTo>
                    <a:pt x="238" y="111"/>
                  </a:lnTo>
                  <a:lnTo>
                    <a:pt x="237" y="110"/>
                  </a:lnTo>
                  <a:lnTo>
                    <a:pt x="233" y="104"/>
                  </a:lnTo>
                  <a:lnTo>
                    <a:pt x="226" y="99"/>
                  </a:lnTo>
                  <a:lnTo>
                    <a:pt x="217" y="92"/>
                  </a:lnTo>
                  <a:lnTo>
                    <a:pt x="208" y="85"/>
                  </a:lnTo>
                  <a:lnTo>
                    <a:pt x="197" y="80"/>
                  </a:lnTo>
                  <a:lnTo>
                    <a:pt x="184" y="77"/>
                  </a:lnTo>
                  <a:lnTo>
                    <a:pt x="170" y="79"/>
                  </a:lnTo>
                  <a:lnTo>
                    <a:pt x="157" y="83"/>
                  </a:lnTo>
                  <a:lnTo>
                    <a:pt x="147" y="86"/>
                  </a:lnTo>
                  <a:lnTo>
                    <a:pt x="139" y="92"/>
                  </a:lnTo>
                  <a:lnTo>
                    <a:pt x="131" y="95"/>
                  </a:lnTo>
                  <a:lnTo>
                    <a:pt x="125" y="98"/>
                  </a:lnTo>
                  <a:lnTo>
                    <a:pt x="118" y="99"/>
                  </a:lnTo>
                  <a:lnTo>
                    <a:pt x="112" y="98"/>
                  </a:lnTo>
                  <a:lnTo>
                    <a:pt x="104" y="93"/>
                  </a:lnTo>
                  <a:lnTo>
                    <a:pt x="98" y="85"/>
                  </a:lnTo>
                  <a:lnTo>
                    <a:pt x="91" y="76"/>
                  </a:lnTo>
                  <a:lnTo>
                    <a:pt x="87" y="66"/>
                  </a:lnTo>
                  <a:lnTo>
                    <a:pt x="82" y="56"/>
                  </a:lnTo>
                  <a:lnTo>
                    <a:pt x="77" y="45"/>
                  </a:lnTo>
                  <a:lnTo>
                    <a:pt x="71" y="39"/>
                  </a:lnTo>
                  <a:lnTo>
                    <a:pt x="63" y="32"/>
                  </a:lnTo>
                  <a:lnTo>
                    <a:pt x="53" y="31"/>
                  </a:lnTo>
                  <a:lnTo>
                    <a:pt x="41" y="31"/>
                  </a:lnTo>
                  <a:lnTo>
                    <a:pt x="31" y="30"/>
                  </a:lnTo>
                  <a:lnTo>
                    <a:pt x="22" y="29"/>
                  </a:lnTo>
                  <a:lnTo>
                    <a:pt x="15" y="27"/>
                  </a:lnTo>
                  <a:lnTo>
                    <a:pt x="9" y="26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3"/>
                  </a:lnTo>
                  <a:lnTo>
                    <a:pt x="2" y="3"/>
                  </a:lnTo>
                  <a:lnTo>
                    <a:pt x="8" y="2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7" y="2"/>
                  </a:lnTo>
                  <a:lnTo>
                    <a:pt x="58" y="4"/>
                  </a:lnTo>
                  <a:lnTo>
                    <a:pt x="65" y="8"/>
                  </a:lnTo>
                  <a:lnTo>
                    <a:pt x="73" y="13"/>
                  </a:lnTo>
                  <a:lnTo>
                    <a:pt x="81" y="18"/>
                  </a:lnTo>
                  <a:lnTo>
                    <a:pt x="87" y="23"/>
                  </a:lnTo>
                  <a:lnTo>
                    <a:pt x="95" y="29"/>
                  </a:lnTo>
                  <a:lnTo>
                    <a:pt x="101" y="34"/>
                  </a:lnTo>
                  <a:lnTo>
                    <a:pt x="107" y="40"/>
                  </a:lnTo>
                  <a:lnTo>
                    <a:pt x="109" y="47"/>
                  </a:lnTo>
                  <a:lnTo>
                    <a:pt x="112" y="53"/>
                  </a:lnTo>
                  <a:lnTo>
                    <a:pt x="114" y="58"/>
                  </a:lnTo>
                  <a:lnTo>
                    <a:pt x="118" y="62"/>
                  </a:lnTo>
                  <a:lnTo>
                    <a:pt x="123" y="63"/>
                  </a:lnTo>
                  <a:lnTo>
                    <a:pt x="131" y="62"/>
                  </a:lnTo>
                  <a:lnTo>
                    <a:pt x="139" y="61"/>
                  </a:lnTo>
                  <a:lnTo>
                    <a:pt x="147" y="58"/>
                  </a:lnTo>
                  <a:lnTo>
                    <a:pt x="156" y="57"/>
                  </a:lnTo>
                  <a:lnTo>
                    <a:pt x="163" y="54"/>
                  </a:lnTo>
                  <a:lnTo>
                    <a:pt x="172" y="53"/>
                  </a:lnTo>
                  <a:lnTo>
                    <a:pt x="183" y="53"/>
                  </a:lnTo>
                  <a:lnTo>
                    <a:pt x="193" y="53"/>
                  </a:lnTo>
                  <a:lnTo>
                    <a:pt x="203" y="56"/>
                  </a:lnTo>
                  <a:lnTo>
                    <a:pt x="213" y="59"/>
                  </a:lnTo>
                  <a:lnTo>
                    <a:pt x="224" y="66"/>
                  </a:lnTo>
                  <a:lnTo>
                    <a:pt x="233" y="75"/>
                  </a:lnTo>
                  <a:lnTo>
                    <a:pt x="242" y="85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94360" y="3554280"/>
              <a:ext cx="341280" cy="271440"/>
            </a:xfrm>
            <a:custGeom>
              <a:avLst/>
              <a:gdLst/>
              <a:ahLst/>
              <a:rect l="l" t="t" r="r" b="b"/>
              <a:pathLst>
                <a:path w="215" h="171">
                  <a:moveTo>
                    <a:pt x="215" y="147"/>
                  </a:moveTo>
                  <a:lnTo>
                    <a:pt x="205" y="171"/>
                  </a:lnTo>
                  <a:lnTo>
                    <a:pt x="204" y="169"/>
                  </a:lnTo>
                  <a:lnTo>
                    <a:pt x="201" y="164"/>
                  </a:lnTo>
                  <a:lnTo>
                    <a:pt x="197" y="156"/>
                  </a:lnTo>
                  <a:lnTo>
                    <a:pt x="191" y="147"/>
                  </a:lnTo>
                  <a:lnTo>
                    <a:pt x="183" y="138"/>
                  </a:lnTo>
                  <a:lnTo>
                    <a:pt x="174" y="130"/>
                  </a:lnTo>
                  <a:lnTo>
                    <a:pt x="163" y="124"/>
                  </a:lnTo>
                  <a:lnTo>
                    <a:pt x="150" y="121"/>
                  </a:lnTo>
                  <a:lnTo>
                    <a:pt x="137" y="121"/>
                  </a:lnTo>
                  <a:lnTo>
                    <a:pt x="125" y="122"/>
                  </a:lnTo>
                  <a:lnTo>
                    <a:pt x="115" y="125"/>
                  </a:lnTo>
                  <a:lnTo>
                    <a:pt x="107" y="126"/>
                  </a:lnTo>
                  <a:lnTo>
                    <a:pt x="100" y="128"/>
                  </a:lnTo>
                  <a:lnTo>
                    <a:pt x="93" y="126"/>
                  </a:lnTo>
                  <a:lnTo>
                    <a:pt x="87" y="122"/>
                  </a:lnTo>
                  <a:lnTo>
                    <a:pt x="82" y="116"/>
                  </a:lnTo>
                  <a:lnTo>
                    <a:pt x="74" y="95"/>
                  </a:lnTo>
                  <a:lnTo>
                    <a:pt x="71" y="74"/>
                  </a:lnTo>
                  <a:lnTo>
                    <a:pt x="65" y="54"/>
                  </a:lnTo>
                  <a:lnTo>
                    <a:pt x="49" y="43"/>
                  </a:lnTo>
                  <a:lnTo>
                    <a:pt x="39" y="39"/>
                  </a:lnTo>
                  <a:lnTo>
                    <a:pt x="29" y="35"/>
                  </a:lnTo>
                  <a:lnTo>
                    <a:pt x="21" y="31"/>
                  </a:lnTo>
                  <a:lnTo>
                    <a:pt x="13" y="27"/>
                  </a:lnTo>
                  <a:lnTo>
                    <a:pt x="8" y="25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3" y="5"/>
                  </a:lnTo>
                  <a:lnTo>
                    <a:pt x="43" y="8"/>
                  </a:lnTo>
                  <a:lnTo>
                    <a:pt x="52" y="12"/>
                  </a:lnTo>
                  <a:lnTo>
                    <a:pt x="61" y="17"/>
                  </a:lnTo>
                  <a:lnTo>
                    <a:pt x="69" y="23"/>
                  </a:lnTo>
                  <a:lnTo>
                    <a:pt x="80" y="38"/>
                  </a:lnTo>
                  <a:lnTo>
                    <a:pt x="92" y="52"/>
                  </a:lnTo>
                  <a:lnTo>
                    <a:pt x="100" y="66"/>
                  </a:lnTo>
                  <a:lnTo>
                    <a:pt x="101" y="80"/>
                  </a:lnTo>
                  <a:lnTo>
                    <a:pt x="102" y="85"/>
                  </a:lnTo>
                  <a:lnTo>
                    <a:pt x="105" y="90"/>
                  </a:lnTo>
                  <a:lnTo>
                    <a:pt x="110" y="93"/>
                  </a:lnTo>
                  <a:lnTo>
                    <a:pt x="116" y="94"/>
                  </a:lnTo>
                  <a:lnTo>
                    <a:pt x="124" y="94"/>
                  </a:lnTo>
                  <a:lnTo>
                    <a:pt x="132" y="95"/>
                  </a:lnTo>
                  <a:lnTo>
                    <a:pt x="141" y="95"/>
                  </a:lnTo>
                  <a:lnTo>
                    <a:pt x="150" y="95"/>
                  </a:lnTo>
                  <a:lnTo>
                    <a:pt x="159" y="97"/>
                  </a:lnTo>
                  <a:lnTo>
                    <a:pt x="168" y="99"/>
                  </a:lnTo>
                  <a:lnTo>
                    <a:pt x="178" y="103"/>
                  </a:lnTo>
                  <a:lnTo>
                    <a:pt x="187" y="108"/>
                  </a:lnTo>
                  <a:lnTo>
                    <a:pt x="196" y="115"/>
                  </a:lnTo>
                  <a:lnTo>
                    <a:pt x="204" y="124"/>
                  </a:lnTo>
                  <a:lnTo>
                    <a:pt x="210" y="134"/>
                  </a:lnTo>
                  <a:lnTo>
                    <a:pt x="215" y="147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32240" y="3429000"/>
              <a:ext cx="254160" cy="360360"/>
            </a:xfrm>
            <a:custGeom>
              <a:avLst/>
              <a:gdLst/>
              <a:ahLst/>
              <a:rect l="l" t="t" r="r" b="b"/>
              <a:pathLst>
                <a:path w="160" h="227">
                  <a:moveTo>
                    <a:pt x="160" y="208"/>
                  </a:moveTo>
                  <a:lnTo>
                    <a:pt x="142" y="227"/>
                  </a:lnTo>
                  <a:lnTo>
                    <a:pt x="141" y="219"/>
                  </a:lnTo>
                  <a:lnTo>
                    <a:pt x="137" y="200"/>
                  </a:lnTo>
                  <a:lnTo>
                    <a:pt x="127" y="178"/>
                  </a:lnTo>
                  <a:lnTo>
                    <a:pt x="106" y="162"/>
                  </a:lnTo>
                  <a:lnTo>
                    <a:pt x="94" y="156"/>
                  </a:lnTo>
                  <a:lnTo>
                    <a:pt x="83" y="154"/>
                  </a:lnTo>
                  <a:lnTo>
                    <a:pt x="73" y="153"/>
                  </a:lnTo>
                  <a:lnTo>
                    <a:pt x="65" y="151"/>
                  </a:lnTo>
                  <a:lnTo>
                    <a:pt x="58" y="150"/>
                  </a:lnTo>
                  <a:lnTo>
                    <a:pt x="52" y="147"/>
                  </a:lnTo>
                  <a:lnTo>
                    <a:pt x="47" y="142"/>
                  </a:lnTo>
                  <a:lnTo>
                    <a:pt x="45" y="135"/>
                  </a:lnTo>
                  <a:lnTo>
                    <a:pt x="45" y="113"/>
                  </a:lnTo>
                  <a:lnTo>
                    <a:pt x="49" y="91"/>
                  </a:lnTo>
                  <a:lnTo>
                    <a:pt x="50" y="70"/>
                  </a:lnTo>
                  <a:lnTo>
                    <a:pt x="38" y="55"/>
                  </a:lnTo>
                  <a:lnTo>
                    <a:pt x="29" y="48"/>
                  </a:lnTo>
                  <a:lnTo>
                    <a:pt x="22" y="41"/>
                  </a:lnTo>
                  <a:lnTo>
                    <a:pt x="15" y="34"/>
                  </a:lnTo>
                  <a:lnTo>
                    <a:pt x="10" y="29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9" y="3"/>
                  </a:lnTo>
                  <a:lnTo>
                    <a:pt x="27" y="7"/>
                  </a:lnTo>
                  <a:lnTo>
                    <a:pt x="34" y="12"/>
                  </a:lnTo>
                  <a:lnTo>
                    <a:pt x="43" y="19"/>
                  </a:lnTo>
                  <a:lnTo>
                    <a:pt x="51" y="27"/>
                  </a:lnTo>
                  <a:lnTo>
                    <a:pt x="59" y="34"/>
                  </a:lnTo>
                  <a:lnTo>
                    <a:pt x="63" y="42"/>
                  </a:lnTo>
                  <a:lnTo>
                    <a:pt x="69" y="59"/>
                  </a:lnTo>
                  <a:lnTo>
                    <a:pt x="74" y="75"/>
                  </a:lnTo>
                  <a:lnTo>
                    <a:pt x="77" y="92"/>
                  </a:lnTo>
                  <a:lnTo>
                    <a:pt x="74" y="106"/>
                  </a:lnTo>
                  <a:lnTo>
                    <a:pt x="73" y="111"/>
                  </a:lnTo>
                  <a:lnTo>
                    <a:pt x="74" y="117"/>
                  </a:lnTo>
                  <a:lnTo>
                    <a:pt x="78" y="120"/>
                  </a:lnTo>
                  <a:lnTo>
                    <a:pt x="85" y="124"/>
                  </a:lnTo>
                  <a:lnTo>
                    <a:pt x="91" y="128"/>
                  </a:lnTo>
                  <a:lnTo>
                    <a:pt x="99" y="131"/>
                  </a:lnTo>
                  <a:lnTo>
                    <a:pt x="108" y="133"/>
                  </a:lnTo>
                  <a:lnTo>
                    <a:pt x="115" y="137"/>
                  </a:lnTo>
                  <a:lnTo>
                    <a:pt x="123" y="141"/>
                  </a:lnTo>
                  <a:lnTo>
                    <a:pt x="132" y="147"/>
                  </a:lnTo>
                  <a:lnTo>
                    <a:pt x="140" y="154"/>
                  </a:lnTo>
                  <a:lnTo>
                    <a:pt x="148" y="162"/>
                  </a:lnTo>
                  <a:lnTo>
                    <a:pt x="153" y="172"/>
                  </a:lnTo>
                  <a:lnTo>
                    <a:pt x="158" y="182"/>
                  </a:lnTo>
                  <a:lnTo>
                    <a:pt x="160" y="194"/>
                  </a:lnTo>
                  <a:lnTo>
                    <a:pt x="160" y="208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05400" y="3359160"/>
              <a:ext cx="149400" cy="407880"/>
            </a:xfrm>
            <a:custGeom>
              <a:avLst/>
              <a:gdLst/>
              <a:ahLst/>
              <a:rect l="l" t="t" r="r" b="b"/>
              <a:pathLst>
                <a:path w="94" h="257">
                  <a:moveTo>
                    <a:pt x="87" y="245"/>
                  </a:moveTo>
                  <a:lnTo>
                    <a:pt x="66" y="257"/>
                  </a:lnTo>
                  <a:lnTo>
                    <a:pt x="68" y="249"/>
                  </a:lnTo>
                  <a:lnTo>
                    <a:pt x="69" y="230"/>
                  </a:lnTo>
                  <a:lnTo>
                    <a:pt x="67" y="206"/>
                  </a:lnTo>
                  <a:lnTo>
                    <a:pt x="53" y="184"/>
                  </a:lnTo>
                  <a:lnTo>
                    <a:pt x="42" y="175"/>
                  </a:lnTo>
                  <a:lnTo>
                    <a:pt x="32" y="168"/>
                  </a:lnTo>
                  <a:lnTo>
                    <a:pt x="23" y="164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3"/>
                  </a:lnTo>
                  <a:lnTo>
                    <a:pt x="3" y="146"/>
                  </a:lnTo>
                  <a:lnTo>
                    <a:pt x="3" y="137"/>
                  </a:lnTo>
                  <a:lnTo>
                    <a:pt x="5" y="127"/>
                  </a:lnTo>
                  <a:lnTo>
                    <a:pt x="9" y="117"/>
                  </a:lnTo>
                  <a:lnTo>
                    <a:pt x="15" y="108"/>
                  </a:lnTo>
                  <a:lnTo>
                    <a:pt x="21" y="98"/>
                  </a:lnTo>
                  <a:lnTo>
                    <a:pt x="26" y="89"/>
                  </a:lnTo>
                  <a:lnTo>
                    <a:pt x="28" y="78"/>
                  </a:lnTo>
                  <a:lnTo>
                    <a:pt x="27" y="69"/>
                  </a:lnTo>
                  <a:lnTo>
                    <a:pt x="23" y="60"/>
                  </a:lnTo>
                  <a:lnTo>
                    <a:pt x="13" y="42"/>
                  </a:lnTo>
                  <a:lnTo>
                    <a:pt x="5" y="26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2" y="5"/>
                  </a:lnTo>
                  <a:lnTo>
                    <a:pt x="33" y="19"/>
                  </a:lnTo>
                  <a:lnTo>
                    <a:pt x="45" y="38"/>
                  </a:lnTo>
                  <a:lnTo>
                    <a:pt x="51" y="56"/>
                  </a:lnTo>
                  <a:lnTo>
                    <a:pt x="51" y="74"/>
                  </a:lnTo>
                  <a:lnTo>
                    <a:pt x="51" y="92"/>
                  </a:lnTo>
                  <a:lnTo>
                    <a:pt x="48" y="108"/>
                  </a:lnTo>
                  <a:lnTo>
                    <a:pt x="41" y="121"/>
                  </a:lnTo>
                  <a:lnTo>
                    <a:pt x="39" y="126"/>
                  </a:lnTo>
                  <a:lnTo>
                    <a:pt x="37" y="131"/>
                  </a:lnTo>
                  <a:lnTo>
                    <a:pt x="40" y="136"/>
                  </a:lnTo>
                  <a:lnTo>
                    <a:pt x="44" y="141"/>
                  </a:lnTo>
                  <a:lnTo>
                    <a:pt x="49" y="146"/>
                  </a:lnTo>
                  <a:lnTo>
                    <a:pt x="55" y="153"/>
                  </a:lnTo>
                  <a:lnTo>
                    <a:pt x="63" y="158"/>
                  </a:lnTo>
                  <a:lnTo>
                    <a:pt x="69" y="164"/>
                  </a:lnTo>
                  <a:lnTo>
                    <a:pt x="81" y="179"/>
                  </a:lnTo>
                  <a:lnTo>
                    <a:pt x="90" y="197"/>
                  </a:lnTo>
                  <a:lnTo>
                    <a:pt x="94" y="220"/>
                  </a:lnTo>
                  <a:lnTo>
                    <a:pt x="87" y="245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7800" y="3352680"/>
              <a:ext cx="120600" cy="40968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48" y="255"/>
                  </a:moveTo>
                  <a:lnTo>
                    <a:pt x="22" y="258"/>
                  </a:lnTo>
                  <a:lnTo>
                    <a:pt x="27" y="252"/>
                  </a:lnTo>
                  <a:lnTo>
                    <a:pt x="35" y="234"/>
                  </a:lnTo>
                  <a:lnTo>
                    <a:pt x="40" y="211"/>
                  </a:lnTo>
                  <a:lnTo>
                    <a:pt x="35" y="185"/>
                  </a:lnTo>
                  <a:lnTo>
                    <a:pt x="28" y="174"/>
                  </a:lnTo>
                  <a:lnTo>
                    <a:pt x="21" y="165"/>
                  </a:lnTo>
                  <a:lnTo>
                    <a:pt x="14" y="158"/>
                  </a:lnTo>
                  <a:lnTo>
                    <a:pt x="8" y="152"/>
                  </a:lnTo>
                  <a:lnTo>
                    <a:pt x="3" y="145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3" y="125"/>
                  </a:lnTo>
                  <a:lnTo>
                    <a:pt x="8" y="116"/>
                  </a:lnTo>
                  <a:lnTo>
                    <a:pt x="16" y="108"/>
                  </a:lnTo>
                  <a:lnTo>
                    <a:pt x="25" y="102"/>
                  </a:lnTo>
                  <a:lnTo>
                    <a:pt x="34" y="94"/>
                  </a:lnTo>
                  <a:lnTo>
                    <a:pt x="41" y="86"/>
                  </a:lnTo>
                  <a:lnTo>
                    <a:pt x="46" y="78"/>
                  </a:lnTo>
                  <a:lnTo>
                    <a:pt x="50" y="69"/>
                  </a:lnTo>
                  <a:lnTo>
                    <a:pt x="49" y="59"/>
                  </a:lnTo>
                  <a:lnTo>
                    <a:pt x="44" y="39"/>
                  </a:lnTo>
                  <a:lnTo>
                    <a:pt x="43" y="21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62" y="0"/>
                  </a:lnTo>
                  <a:lnTo>
                    <a:pt x="64" y="6"/>
                  </a:lnTo>
                  <a:lnTo>
                    <a:pt x="71" y="24"/>
                  </a:lnTo>
                  <a:lnTo>
                    <a:pt x="76" y="45"/>
                  </a:lnTo>
                  <a:lnTo>
                    <a:pt x="75" y="64"/>
                  </a:lnTo>
                  <a:lnTo>
                    <a:pt x="70" y="82"/>
                  </a:lnTo>
                  <a:lnTo>
                    <a:pt x="63" y="99"/>
                  </a:lnTo>
                  <a:lnTo>
                    <a:pt x="55" y="113"/>
                  </a:lnTo>
                  <a:lnTo>
                    <a:pt x="44" y="122"/>
                  </a:lnTo>
                  <a:lnTo>
                    <a:pt x="37" y="130"/>
                  </a:lnTo>
                  <a:lnTo>
                    <a:pt x="40" y="143"/>
                  </a:lnTo>
                  <a:lnTo>
                    <a:pt x="48" y="157"/>
                  </a:lnTo>
                  <a:lnTo>
                    <a:pt x="57" y="172"/>
                  </a:lnTo>
                  <a:lnTo>
                    <a:pt x="63" y="190"/>
                  </a:lnTo>
                  <a:lnTo>
                    <a:pt x="66" y="211"/>
                  </a:lnTo>
                  <a:lnTo>
                    <a:pt x="62" y="233"/>
                  </a:lnTo>
                  <a:lnTo>
                    <a:pt x="48" y="255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13480" y="3408480"/>
              <a:ext cx="198360" cy="377640"/>
            </a:xfrm>
            <a:custGeom>
              <a:avLst/>
              <a:gdLst/>
              <a:ahLst/>
              <a:rect l="l" t="t" r="r" b="b"/>
              <a:pathLst>
                <a:path w="125" h="238">
                  <a:moveTo>
                    <a:pt x="26" y="238"/>
                  </a:moveTo>
                  <a:lnTo>
                    <a:pt x="0" y="232"/>
                  </a:lnTo>
                  <a:lnTo>
                    <a:pt x="1" y="231"/>
                  </a:lnTo>
                  <a:lnTo>
                    <a:pt x="7" y="227"/>
                  </a:lnTo>
                  <a:lnTo>
                    <a:pt x="13" y="222"/>
                  </a:lnTo>
                  <a:lnTo>
                    <a:pt x="21" y="213"/>
                  </a:lnTo>
                  <a:lnTo>
                    <a:pt x="28" y="204"/>
                  </a:lnTo>
                  <a:lnTo>
                    <a:pt x="34" y="193"/>
                  </a:lnTo>
                  <a:lnTo>
                    <a:pt x="38" y="181"/>
                  </a:lnTo>
                  <a:lnTo>
                    <a:pt x="38" y="167"/>
                  </a:lnTo>
                  <a:lnTo>
                    <a:pt x="31" y="144"/>
                  </a:lnTo>
                  <a:lnTo>
                    <a:pt x="23" y="127"/>
                  </a:lnTo>
                  <a:lnTo>
                    <a:pt x="19" y="113"/>
                  </a:lnTo>
                  <a:lnTo>
                    <a:pt x="27" y="100"/>
                  </a:lnTo>
                  <a:lnTo>
                    <a:pt x="35" y="94"/>
                  </a:lnTo>
                  <a:lnTo>
                    <a:pt x="45" y="88"/>
                  </a:lnTo>
                  <a:lnTo>
                    <a:pt x="56" y="85"/>
                  </a:lnTo>
                  <a:lnTo>
                    <a:pt x="66" y="81"/>
                  </a:lnTo>
                  <a:lnTo>
                    <a:pt x="76" y="76"/>
                  </a:lnTo>
                  <a:lnTo>
                    <a:pt x="84" y="70"/>
                  </a:lnTo>
                  <a:lnTo>
                    <a:pt x="89" y="63"/>
                  </a:lnTo>
                  <a:lnTo>
                    <a:pt x="92" y="52"/>
                  </a:lnTo>
                  <a:lnTo>
                    <a:pt x="94" y="32"/>
                  </a:lnTo>
                  <a:lnTo>
                    <a:pt x="98" y="15"/>
                  </a:lnTo>
                  <a:lnTo>
                    <a:pt x="102" y="4"/>
                  </a:lnTo>
                  <a:lnTo>
                    <a:pt x="103" y="0"/>
                  </a:lnTo>
                  <a:lnTo>
                    <a:pt x="125" y="2"/>
                  </a:lnTo>
                  <a:lnTo>
                    <a:pt x="125" y="10"/>
                  </a:lnTo>
                  <a:lnTo>
                    <a:pt x="125" y="28"/>
                  </a:lnTo>
                  <a:lnTo>
                    <a:pt x="122" y="50"/>
                  </a:lnTo>
                  <a:lnTo>
                    <a:pt x="115" y="68"/>
                  </a:lnTo>
                  <a:lnTo>
                    <a:pt x="110" y="74"/>
                  </a:lnTo>
                  <a:lnTo>
                    <a:pt x="104" y="82"/>
                  </a:lnTo>
                  <a:lnTo>
                    <a:pt x="98" y="88"/>
                  </a:lnTo>
                  <a:lnTo>
                    <a:pt x="93" y="95"/>
                  </a:lnTo>
                  <a:lnTo>
                    <a:pt x="86" y="101"/>
                  </a:lnTo>
                  <a:lnTo>
                    <a:pt x="80" y="105"/>
                  </a:lnTo>
                  <a:lnTo>
                    <a:pt x="74" y="109"/>
                  </a:lnTo>
                  <a:lnTo>
                    <a:pt x="67" y="110"/>
                  </a:lnTo>
                  <a:lnTo>
                    <a:pt x="58" y="117"/>
                  </a:lnTo>
                  <a:lnTo>
                    <a:pt x="57" y="128"/>
                  </a:lnTo>
                  <a:lnTo>
                    <a:pt x="58" y="145"/>
                  </a:lnTo>
                  <a:lnTo>
                    <a:pt x="62" y="162"/>
                  </a:lnTo>
                  <a:lnTo>
                    <a:pt x="62" y="171"/>
                  </a:lnTo>
                  <a:lnTo>
                    <a:pt x="62" y="181"/>
                  </a:lnTo>
                  <a:lnTo>
                    <a:pt x="61" y="191"/>
                  </a:lnTo>
                  <a:lnTo>
                    <a:pt x="58" y="202"/>
                  </a:lnTo>
                  <a:lnTo>
                    <a:pt x="53" y="211"/>
                  </a:lnTo>
                  <a:lnTo>
                    <a:pt x="47" y="221"/>
                  </a:lnTo>
                  <a:lnTo>
                    <a:pt x="38" y="230"/>
                  </a:lnTo>
                  <a:lnTo>
                    <a:pt x="26" y="238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33840" y="3444840"/>
              <a:ext cx="331920" cy="257040"/>
            </a:xfrm>
            <a:custGeom>
              <a:avLst/>
              <a:gdLst/>
              <a:ahLst/>
              <a:rect l="l" t="t" r="r" b="b"/>
              <a:pathLst>
                <a:path w="209" h="162">
                  <a:moveTo>
                    <a:pt x="208" y="136"/>
                  </a:moveTo>
                  <a:lnTo>
                    <a:pt x="209" y="47"/>
                  </a:lnTo>
                  <a:lnTo>
                    <a:pt x="190" y="23"/>
                  </a:lnTo>
                  <a:lnTo>
                    <a:pt x="162" y="63"/>
                  </a:lnTo>
                  <a:lnTo>
                    <a:pt x="96" y="0"/>
                  </a:lnTo>
                  <a:lnTo>
                    <a:pt x="63" y="6"/>
                  </a:lnTo>
                  <a:lnTo>
                    <a:pt x="115" y="73"/>
                  </a:lnTo>
                  <a:lnTo>
                    <a:pt x="28" y="20"/>
                  </a:lnTo>
                  <a:lnTo>
                    <a:pt x="10" y="41"/>
                  </a:lnTo>
                  <a:lnTo>
                    <a:pt x="105" y="98"/>
                  </a:lnTo>
                  <a:lnTo>
                    <a:pt x="10" y="74"/>
                  </a:lnTo>
                  <a:lnTo>
                    <a:pt x="0" y="105"/>
                  </a:lnTo>
                  <a:lnTo>
                    <a:pt x="109" y="128"/>
                  </a:lnTo>
                  <a:lnTo>
                    <a:pt x="16" y="130"/>
                  </a:lnTo>
                  <a:lnTo>
                    <a:pt x="4" y="149"/>
                  </a:lnTo>
                  <a:lnTo>
                    <a:pt x="155" y="162"/>
                  </a:lnTo>
                  <a:lnTo>
                    <a:pt x="208" y="13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8640" y="4943520"/>
              <a:ext cx="239760" cy="660240"/>
            </a:xfrm>
            <a:custGeom>
              <a:avLst/>
              <a:gdLst/>
              <a:ahLst/>
              <a:rect l="l" t="t" r="r" b="b"/>
              <a:pathLst>
                <a:path w="151" h="416">
                  <a:moveTo>
                    <a:pt x="0" y="50"/>
                  </a:moveTo>
                  <a:lnTo>
                    <a:pt x="151" y="0"/>
                  </a:lnTo>
                  <a:lnTo>
                    <a:pt x="116" y="403"/>
                  </a:lnTo>
                  <a:lnTo>
                    <a:pt x="71" y="416"/>
                  </a:lnTo>
                  <a:lnTo>
                    <a:pt x="2" y="38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65400" y="4937040"/>
              <a:ext cx="477720" cy="595440"/>
            </a:xfrm>
            <a:custGeom>
              <a:avLst/>
              <a:gdLst/>
              <a:ahLst/>
              <a:rect l="l" t="t" r="r" b="b"/>
              <a:pathLst>
                <a:path w="301" h="375">
                  <a:moveTo>
                    <a:pt x="108" y="0"/>
                  </a:moveTo>
                  <a:lnTo>
                    <a:pt x="0" y="99"/>
                  </a:lnTo>
                  <a:lnTo>
                    <a:pt x="229" y="375"/>
                  </a:lnTo>
                  <a:lnTo>
                    <a:pt x="293" y="346"/>
                  </a:lnTo>
                  <a:lnTo>
                    <a:pt x="301" y="30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51200" y="5630760"/>
              <a:ext cx="152280" cy="451080"/>
            </a:xfrm>
            <a:custGeom>
              <a:avLst/>
              <a:gdLst/>
              <a:ahLst/>
              <a:rect l="l" t="t" r="r" b="b"/>
              <a:pathLst>
                <a:path w="96" h="284">
                  <a:moveTo>
                    <a:pt x="96" y="14"/>
                  </a:moveTo>
                  <a:lnTo>
                    <a:pt x="0" y="0"/>
                  </a:lnTo>
                  <a:lnTo>
                    <a:pt x="10" y="252"/>
                  </a:lnTo>
                  <a:lnTo>
                    <a:pt x="74" y="284"/>
                  </a:lnTo>
                  <a:lnTo>
                    <a:pt x="75" y="197"/>
                  </a:lnTo>
                  <a:lnTo>
                    <a:pt x="96" y="113"/>
                  </a:lnTo>
                  <a:lnTo>
                    <a:pt x="96" y="1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17760" y="5468760"/>
              <a:ext cx="219240" cy="511200"/>
            </a:xfrm>
            <a:custGeom>
              <a:avLst/>
              <a:gdLst/>
              <a:ahLst/>
              <a:rect l="l" t="t" r="r" b="b"/>
              <a:pathLst>
                <a:path w="138" h="322">
                  <a:moveTo>
                    <a:pt x="50" y="0"/>
                  </a:moveTo>
                  <a:lnTo>
                    <a:pt x="138" y="67"/>
                  </a:lnTo>
                  <a:lnTo>
                    <a:pt x="50" y="320"/>
                  </a:lnTo>
                  <a:lnTo>
                    <a:pt x="0" y="322"/>
                  </a:lnTo>
                  <a:lnTo>
                    <a:pt x="16" y="221"/>
                  </a:lnTo>
                  <a:lnTo>
                    <a:pt x="17" y="17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35200" y="6086520"/>
              <a:ext cx="345960" cy="239760"/>
            </a:xfrm>
            <a:custGeom>
              <a:avLst/>
              <a:gdLst/>
              <a:ahLst/>
              <a:rect l="l" t="t" r="r" b="b"/>
              <a:pathLst>
                <a:path w="218" h="151">
                  <a:moveTo>
                    <a:pt x="139" y="0"/>
                  </a:moveTo>
                  <a:lnTo>
                    <a:pt x="34" y="64"/>
                  </a:lnTo>
                  <a:lnTo>
                    <a:pt x="0" y="99"/>
                  </a:lnTo>
                  <a:lnTo>
                    <a:pt x="94" y="151"/>
                  </a:lnTo>
                  <a:lnTo>
                    <a:pt x="166" y="83"/>
                  </a:lnTo>
                  <a:lnTo>
                    <a:pt x="218" y="79"/>
                  </a:lnTo>
                  <a:lnTo>
                    <a:pt x="206" y="14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0240" y="6008760"/>
              <a:ext cx="331560" cy="245880"/>
            </a:xfrm>
            <a:custGeom>
              <a:avLst/>
              <a:gdLst/>
              <a:ahLst/>
              <a:rect l="l" t="t" r="r" b="b"/>
              <a:pathLst>
                <a:path w="209" h="155">
                  <a:moveTo>
                    <a:pt x="75" y="0"/>
                  </a:moveTo>
                  <a:lnTo>
                    <a:pt x="179" y="83"/>
                  </a:lnTo>
                  <a:lnTo>
                    <a:pt x="209" y="139"/>
                  </a:lnTo>
                  <a:lnTo>
                    <a:pt x="118" y="155"/>
                  </a:lnTo>
                  <a:lnTo>
                    <a:pt x="51" y="70"/>
                  </a:lnTo>
                  <a:lnTo>
                    <a:pt x="0" y="54"/>
                  </a:lnTo>
                  <a:lnTo>
                    <a:pt x="19" y="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60560" y="4643280"/>
              <a:ext cx="314280" cy="128880"/>
            </a:xfrm>
            <a:custGeom>
              <a:avLst/>
              <a:gdLst/>
              <a:ahLst/>
              <a:rect l="l" t="t" r="r" b="b"/>
              <a:pathLst>
                <a:path w="198" h="81">
                  <a:moveTo>
                    <a:pt x="0" y="2"/>
                  </a:moveTo>
                  <a:lnTo>
                    <a:pt x="198" y="0"/>
                  </a:lnTo>
                  <a:lnTo>
                    <a:pt x="198" y="37"/>
                  </a:lnTo>
                  <a:lnTo>
                    <a:pt x="10" y="8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49320" y="4125960"/>
              <a:ext cx="460440" cy="555480"/>
            </a:xfrm>
            <a:custGeom>
              <a:avLst/>
              <a:gdLst/>
              <a:ahLst/>
              <a:rect l="l" t="t" r="r" b="b"/>
              <a:pathLst>
                <a:path w="290" h="350">
                  <a:moveTo>
                    <a:pt x="0" y="49"/>
                  </a:moveTo>
                  <a:lnTo>
                    <a:pt x="125" y="0"/>
                  </a:lnTo>
                  <a:lnTo>
                    <a:pt x="267" y="32"/>
                  </a:lnTo>
                  <a:lnTo>
                    <a:pt x="290" y="300"/>
                  </a:lnTo>
                  <a:lnTo>
                    <a:pt x="33" y="3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2200" y="4019400"/>
              <a:ext cx="420840" cy="28584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34" y="180"/>
                  </a:moveTo>
                  <a:lnTo>
                    <a:pt x="265" y="85"/>
                  </a:lnTo>
                  <a:lnTo>
                    <a:pt x="72" y="0"/>
                  </a:lnTo>
                  <a:lnTo>
                    <a:pt x="0" y="60"/>
                  </a:lnTo>
                  <a:lnTo>
                    <a:pt x="234" y="18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12920" y="4010040"/>
              <a:ext cx="327240" cy="29052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0" y="121"/>
                  </a:moveTo>
                  <a:lnTo>
                    <a:pt x="53" y="183"/>
                  </a:lnTo>
                  <a:lnTo>
                    <a:pt x="206" y="81"/>
                  </a:lnTo>
                  <a:lnTo>
                    <a:pt x="186" y="0"/>
                  </a:lnTo>
                  <a:lnTo>
                    <a:pt x="138" y="2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1800" y="4716360"/>
              <a:ext cx="809640" cy="552600"/>
            </a:xfrm>
            <a:custGeom>
              <a:avLst/>
              <a:gdLst/>
              <a:ahLst/>
              <a:rect l="l" t="t" r="r" b="b"/>
              <a:pathLst>
                <a:path w="510" h="348">
                  <a:moveTo>
                    <a:pt x="82" y="0"/>
                  </a:moveTo>
                  <a:lnTo>
                    <a:pt x="0" y="341"/>
                  </a:lnTo>
                  <a:lnTo>
                    <a:pt x="510" y="348"/>
                  </a:lnTo>
                  <a:lnTo>
                    <a:pt x="312" y="6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34960" y="3745080"/>
              <a:ext cx="190800" cy="395280"/>
            </a:xfrm>
            <a:custGeom>
              <a:avLst/>
              <a:gdLst/>
              <a:ahLst/>
              <a:rect l="l" t="t" r="r" b="b"/>
              <a:pathLst>
                <a:path w="120" h="249">
                  <a:moveTo>
                    <a:pt x="120" y="180"/>
                  </a:moveTo>
                  <a:lnTo>
                    <a:pt x="39" y="0"/>
                  </a:lnTo>
                  <a:lnTo>
                    <a:pt x="0" y="29"/>
                  </a:lnTo>
                  <a:lnTo>
                    <a:pt x="61" y="249"/>
                  </a:lnTo>
                  <a:lnTo>
                    <a:pt x="120" y="18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60600" y="3795840"/>
              <a:ext cx="291960" cy="32220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79" y="203"/>
                  </a:moveTo>
                  <a:lnTo>
                    <a:pt x="184" y="10"/>
                  </a:lnTo>
                  <a:lnTo>
                    <a:pt x="136" y="0"/>
                  </a:lnTo>
                  <a:lnTo>
                    <a:pt x="0" y="176"/>
                  </a:lnTo>
                  <a:lnTo>
                    <a:pt x="79" y="2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3581280"/>
              <a:ext cx="318960" cy="243000"/>
            </a:xfrm>
            <a:custGeom>
              <a:avLst/>
              <a:gdLst/>
              <a:ahLst/>
              <a:rect l="l" t="t" r="r" b="b"/>
              <a:pathLst>
                <a:path w="201" h="153">
                  <a:moveTo>
                    <a:pt x="187" y="136"/>
                  </a:moveTo>
                  <a:lnTo>
                    <a:pt x="201" y="58"/>
                  </a:lnTo>
                  <a:lnTo>
                    <a:pt x="187" y="33"/>
                  </a:lnTo>
                  <a:lnTo>
                    <a:pt x="154" y="64"/>
                  </a:lnTo>
                  <a:lnTo>
                    <a:pt x="104" y="0"/>
                  </a:lnTo>
                  <a:lnTo>
                    <a:pt x="73" y="0"/>
                  </a:lnTo>
                  <a:lnTo>
                    <a:pt x="112" y="67"/>
                  </a:lnTo>
                  <a:lnTo>
                    <a:pt x="40" y="8"/>
                  </a:lnTo>
                  <a:lnTo>
                    <a:pt x="21" y="24"/>
                  </a:lnTo>
                  <a:lnTo>
                    <a:pt x="98" y="87"/>
                  </a:lnTo>
                  <a:lnTo>
                    <a:pt x="17" y="54"/>
                  </a:lnTo>
                  <a:lnTo>
                    <a:pt x="3" y="81"/>
                  </a:lnTo>
                  <a:lnTo>
                    <a:pt x="98" y="116"/>
                  </a:lnTo>
                  <a:lnTo>
                    <a:pt x="14" y="105"/>
                  </a:lnTo>
                  <a:lnTo>
                    <a:pt x="0" y="120"/>
                  </a:lnTo>
                  <a:lnTo>
                    <a:pt x="135" y="153"/>
                  </a:lnTo>
                  <a:lnTo>
                    <a:pt x="187" y="136"/>
                  </a:lnTo>
                  <a:close/>
                </a:path>
              </a:pathLst>
            </a:custGeom>
            <a:solidFill>
              <a:srgbClr val="1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87480" y="3751200"/>
              <a:ext cx="368280" cy="549360"/>
            </a:xfrm>
            <a:custGeom>
              <a:avLst/>
              <a:gdLst/>
              <a:ahLst/>
              <a:rect l="l" t="t" r="r" b="b"/>
              <a:pathLst>
                <a:path w="232" h="346">
                  <a:moveTo>
                    <a:pt x="60" y="0"/>
                  </a:moveTo>
                  <a:lnTo>
                    <a:pt x="0" y="74"/>
                  </a:lnTo>
                  <a:lnTo>
                    <a:pt x="5" y="162"/>
                  </a:lnTo>
                  <a:lnTo>
                    <a:pt x="46" y="185"/>
                  </a:lnTo>
                  <a:lnTo>
                    <a:pt x="47" y="194"/>
                  </a:lnTo>
                  <a:lnTo>
                    <a:pt x="49" y="214"/>
                  </a:lnTo>
                  <a:lnTo>
                    <a:pt x="47" y="241"/>
                  </a:lnTo>
                  <a:lnTo>
                    <a:pt x="43" y="268"/>
                  </a:lnTo>
                  <a:lnTo>
                    <a:pt x="56" y="301"/>
                  </a:lnTo>
                  <a:lnTo>
                    <a:pt x="76" y="325"/>
                  </a:lnTo>
                  <a:lnTo>
                    <a:pt x="99" y="339"/>
                  </a:lnTo>
                  <a:lnTo>
                    <a:pt x="122" y="346"/>
                  </a:lnTo>
                  <a:lnTo>
                    <a:pt x="141" y="343"/>
                  </a:lnTo>
                  <a:lnTo>
                    <a:pt x="154" y="331"/>
                  </a:lnTo>
                  <a:lnTo>
                    <a:pt x="155" y="311"/>
                  </a:lnTo>
                  <a:lnTo>
                    <a:pt x="144" y="281"/>
                  </a:lnTo>
                  <a:lnTo>
                    <a:pt x="140" y="265"/>
                  </a:lnTo>
                  <a:lnTo>
                    <a:pt x="139" y="244"/>
                  </a:lnTo>
                  <a:lnTo>
                    <a:pt x="139" y="227"/>
                  </a:lnTo>
                  <a:lnTo>
                    <a:pt x="139" y="220"/>
                  </a:lnTo>
                  <a:lnTo>
                    <a:pt x="181" y="212"/>
                  </a:lnTo>
                  <a:lnTo>
                    <a:pt x="200" y="186"/>
                  </a:lnTo>
                  <a:lnTo>
                    <a:pt x="212" y="145"/>
                  </a:lnTo>
                  <a:lnTo>
                    <a:pt x="232" y="136"/>
                  </a:lnTo>
                  <a:lnTo>
                    <a:pt x="195" y="67"/>
                  </a:lnTo>
                  <a:lnTo>
                    <a:pt x="157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2880" y="3419640"/>
              <a:ext cx="760680" cy="642600"/>
            </a:xfrm>
            <a:custGeom>
              <a:avLst/>
              <a:gdLst/>
              <a:ahLst/>
              <a:rect l="l" t="t" r="r" b="b"/>
              <a:pathLst>
                <a:path w="479" h="405">
                  <a:moveTo>
                    <a:pt x="444" y="250"/>
                  </a:moveTo>
                  <a:lnTo>
                    <a:pt x="479" y="276"/>
                  </a:lnTo>
                  <a:lnTo>
                    <a:pt x="479" y="272"/>
                  </a:lnTo>
                  <a:lnTo>
                    <a:pt x="476" y="260"/>
                  </a:lnTo>
                  <a:lnTo>
                    <a:pt x="473" y="245"/>
                  </a:lnTo>
                  <a:lnTo>
                    <a:pt x="466" y="227"/>
                  </a:lnTo>
                  <a:lnTo>
                    <a:pt x="456" y="207"/>
                  </a:lnTo>
                  <a:lnTo>
                    <a:pt x="440" y="189"/>
                  </a:lnTo>
                  <a:lnTo>
                    <a:pt x="421" y="175"/>
                  </a:lnTo>
                  <a:lnTo>
                    <a:pt x="395" y="168"/>
                  </a:lnTo>
                  <a:lnTo>
                    <a:pt x="370" y="162"/>
                  </a:lnTo>
                  <a:lnTo>
                    <a:pt x="349" y="153"/>
                  </a:lnTo>
                  <a:lnTo>
                    <a:pt x="334" y="144"/>
                  </a:lnTo>
                  <a:lnTo>
                    <a:pt x="323" y="133"/>
                  </a:lnTo>
                  <a:lnTo>
                    <a:pt x="316" y="120"/>
                  </a:lnTo>
                  <a:lnTo>
                    <a:pt x="312" y="107"/>
                  </a:lnTo>
                  <a:lnTo>
                    <a:pt x="311" y="94"/>
                  </a:lnTo>
                  <a:lnTo>
                    <a:pt x="312" y="81"/>
                  </a:lnTo>
                  <a:lnTo>
                    <a:pt x="311" y="69"/>
                  </a:lnTo>
                  <a:lnTo>
                    <a:pt x="305" y="54"/>
                  </a:lnTo>
                  <a:lnTo>
                    <a:pt x="296" y="42"/>
                  </a:lnTo>
                  <a:lnTo>
                    <a:pt x="286" y="29"/>
                  </a:lnTo>
                  <a:lnTo>
                    <a:pt x="272" y="18"/>
                  </a:lnTo>
                  <a:lnTo>
                    <a:pt x="256" y="9"/>
                  </a:lnTo>
                  <a:lnTo>
                    <a:pt x="241" y="3"/>
                  </a:lnTo>
                  <a:lnTo>
                    <a:pt x="224" y="0"/>
                  </a:lnTo>
                  <a:lnTo>
                    <a:pt x="232" y="8"/>
                  </a:lnTo>
                  <a:lnTo>
                    <a:pt x="241" y="17"/>
                  </a:lnTo>
                  <a:lnTo>
                    <a:pt x="247" y="26"/>
                  </a:lnTo>
                  <a:lnTo>
                    <a:pt x="255" y="35"/>
                  </a:lnTo>
                  <a:lnTo>
                    <a:pt x="260" y="44"/>
                  </a:lnTo>
                  <a:lnTo>
                    <a:pt x="265" y="54"/>
                  </a:lnTo>
                  <a:lnTo>
                    <a:pt x="269" y="65"/>
                  </a:lnTo>
                  <a:lnTo>
                    <a:pt x="271" y="75"/>
                  </a:lnTo>
                  <a:lnTo>
                    <a:pt x="272" y="93"/>
                  </a:lnTo>
                  <a:lnTo>
                    <a:pt x="271" y="107"/>
                  </a:lnTo>
                  <a:lnTo>
                    <a:pt x="276" y="121"/>
                  </a:lnTo>
                  <a:lnTo>
                    <a:pt x="290" y="137"/>
                  </a:lnTo>
                  <a:lnTo>
                    <a:pt x="302" y="146"/>
                  </a:lnTo>
                  <a:lnTo>
                    <a:pt x="313" y="152"/>
                  </a:lnTo>
                  <a:lnTo>
                    <a:pt x="323" y="159"/>
                  </a:lnTo>
                  <a:lnTo>
                    <a:pt x="335" y="164"/>
                  </a:lnTo>
                  <a:lnTo>
                    <a:pt x="344" y="168"/>
                  </a:lnTo>
                  <a:lnTo>
                    <a:pt x="350" y="174"/>
                  </a:lnTo>
                  <a:lnTo>
                    <a:pt x="354" y="179"/>
                  </a:lnTo>
                  <a:lnTo>
                    <a:pt x="356" y="187"/>
                  </a:lnTo>
                  <a:lnTo>
                    <a:pt x="343" y="184"/>
                  </a:lnTo>
                  <a:lnTo>
                    <a:pt x="330" y="183"/>
                  </a:lnTo>
                  <a:lnTo>
                    <a:pt x="318" y="182"/>
                  </a:lnTo>
                  <a:lnTo>
                    <a:pt x="308" y="180"/>
                  </a:lnTo>
                  <a:lnTo>
                    <a:pt x="299" y="178"/>
                  </a:lnTo>
                  <a:lnTo>
                    <a:pt x="291" y="174"/>
                  </a:lnTo>
                  <a:lnTo>
                    <a:pt x="283" y="169"/>
                  </a:lnTo>
                  <a:lnTo>
                    <a:pt x="277" y="162"/>
                  </a:lnTo>
                  <a:lnTo>
                    <a:pt x="268" y="144"/>
                  </a:lnTo>
                  <a:lnTo>
                    <a:pt x="262" y="123"/>
                  </a:lnTo>
                  <a:lnTo>
                    <a:pt x="254" y="101"/>
                  </a:lnTo>
                  <a:lnTo>
                    <a:pt x="240" y="81"/>
                  </a:lnTo>
                  <a:lnTo>
                    <a:pt x="229" y="72"/>
                  </a:lnTo>
                  <a:lnTo>
                    <a:pt x="217" y="66"/>
                  </a:lnTo>
                  <a:lnTo>
                    <a:pt x="202" y="61"/>
                  </a:lnTo>
                  <a:lnTo>
                    <a:pt x="188" y="56"/>
                  </a:lnTo>
                  <a:lnTo>
                    <a:pt x="177" y="51"/>
                  </a:lnTo>
                  <a:lnTo>
                    <a:pt x="165" y="45"/>
                  </a:lnTo>
                  <a:lnTo>
                    <a:pt x="159" y="39"/>
                  </a:lnTo>
                  <a:lnTo>
                    <a:pt x="156" y="31"/>
                  </a:lnTo>
                  <a:lnTo>
                    <a:pt x="145" y="56"/>
                  </a:lnTo>
                  <a:lnTo>
                    <a:pt x="141" y="74"/>
                  </a:lnTo>
                  <a:lnTo>
                    <a:pt x="146" y="85"/>
                  </a:lnTo>
                  <a:lnTo>
                    <a:pt x="159" y="97"/>
                  </a:lnTo>
                  <a:lnTo>
                    <a:pt x="170" y="102"/>
                  </a:lnTo>
                  <a:lnTo>
                    <a:pt x="183" y="107"/>
                  </a:lnTo>
                  <a:lnTo>
                    <a:pt x="199" y="114"/>
                  </a:lnTo>
                  <a:lnTo>
                    <a:pt x="214" y="119"/>
                  </a:lnTo>
                  <a:lnTo>
                    <a:pt x="228" y="125"/>
                  </a:lnTo>
                  <a:lnTo>
                    <a:pt x="240" y="133"/>
                  </a:lnTo>
                  <a:lnTo>
                    <a:pt x="249" y="142"/>
                  </a:lnTo>
                  <a:lnTo>
                    <a:pt x="253" y="152"/>
                  </a:lnTo>
                  <a:lnTo>
                    <a:pt x="254" y="174"/>
                  </a:lnTo>
                  <a:lnTo>
                    <a:pt x="256" y="195"/>
                  </a:lnTo>
                  <a:lnTo>
                    <a:pt x="265" y="211"/>
                  </a:lnTo>
                  <a:lnTo>
                    <a:pt x="286" y="222"/>
                  </a:lnTo>
                  <a:lnTo>
                    <a:pt x="274" y="224"/>
                  </a:lnTo>
                  <a:lnTo>
                    <a:pt x="263" y="228"/>
                  </a:lnTo>
                  <a:lnTo>
                    <a:pt x="253" y="229"/>
                  </a:lnTo>
                  <a:lnTo>
                    <a:pt x="242" y="229"/>
                  </a:lnTo>
                  <a:lnTo>
                    <a:pt x="233" y="228"/>
                  </a:lnTo>
                  <a:lnTo>
                    <a:pt x="224" y="225"/>
                  </a:lnTo>
                  <a:lnTo>
                    <a:pt x="217" y="219"/>
                  </a:lnTo>
                  <a:lnTo>
                    <a:pt x="209" y="211"/>
                  </a:lnTo>
                  <a:lnTo>
                    <a:pt x="202" y="201"/>
                  </a:lnTo>
                  <a:lnTo>
                    <a:pt x="196" y="191"/>
                  </a:lnTo>
                  <a:lnTo>
                    <a:pt x="192" y="179"/>
                  </a:lnTo>
                  <a:lnTo>
                    <a:pt x="187" y="169"/>
                  </a:lnTo>
                  <a:lnTo>
                    <a:pt x="182" y="160"/>
                  </a:lnTo>
                  <a:lnTo>
                    <a:pt x="177" y="153"/>
                  </a:lnTo>
                  <a:lnTo>
                    <a:pt x="170" y="150"/>
                  </a:lnTo>
                  <a:lnTo>
                    <a:pt x="163" y="150"/>
                  </a:lnTo>
                  <a:lnTo>
                    <a:pt x="154" y="150"/>
                  </a:lnTo>
                  <a:lnTo>
                    <a:pt x="142" y="147"/>
                  </a:lnTo>
                  <a:lnTo>
                    <a:pt x="129" y="143"/>
                  </a:lnTo>
                  <a:lnTo>
                    <a:pt x="118" y="135"/>
                  </a:lnTo>
                  <a:lnTo>
                    <a:pt x="106" y="128"/>
                  </a:lnTo>
                  <a:lnTo>
                    <a:pt x="97" y="120"/>
                  </a:lnTo>
                  <a:lnTo>
                    <a:pt x="91" y="112"/>
                  </a:lnTo>
                  <a:lnTo>
                    <a:pt x="88" y="106"/>
                  </a:lnTo>
                  <a:lnTo>
                    <a:pt x="82" y="130"/>
                  </a:lnTo>
                  <a:lnTo>
                    <a:pt x="83" y="150"/>
                  </a:lnTo>
                  <a:lnTo>
                    <a:pt x="92" y="166"/>
                  </a:lnTo>
                  <a:lnTo>
                    <a:pt x="112" y="178"/>
                  </a:lnTo>
                  <a:lnTo>
                    <a:pt x="125" y="182"/>
                  </a:lnTo>
                  <a:lnTo>
                    <a:pt x="137" y="184"/>
                  </a:lnTo>
                  <a:lnTo>
                    <a:pt x="147" y="186"/>
                  </a:lnTo>
                  <a:lnTo>
                    <a:pt x="157" y="188"/>
                  </a:lnTo>
                  <a:lnTo>
                    <a:pt x="166" y="191"/>
                  </a:lnTo>
                  <a:lnTo>
                    <a:pt x="174" y="196"/>
                  </a:lnTo>
                  <a:lnTo>
                    <a:pt x="179" y="202"/>
                  </a:lnTo>
                  <a:lnTo>
                    <a:pt x="184" y="211"/>
                  </a:lnTo>
                  <a:lnTo>
                    <a:pt x="187" y="223"/>
                  </a:lnTo>
                  <a:lnTo>
                    <a:pt x="190" y="233"/>
                  </a:lnTo>
                  <a:lnTo>
                    <a:pt x="193" y="245"/>
                  </a:lnTo>
                  <a:lnTo>
                    <a:pt x="196" y="255"/>
                  </a:lnTo>
                  <a:lnTo>
                    <a:pt x="200" y="264"/>
                  </a:lnTo>
                  <a:lnTo>
                    <a:pt x="206" y="272"/>
                  </a:lnTo>
                  <a:lnTo>
                    <a:pt x="214" y="277"/>
                  </a:lnTo>
                  <a:lnTo>
                    <a:pt x="224" y="279"/>
                  </a:lnTo>
                  <a:lnTo>
                    <a:pt x="211" y="283"/>
                  </a:lnTo>
                  <a:lnTo>
                    <a:pt x="197" y="286"/>
                  </a:lnTo>
                  <a:lnTo>
                    <a:pt x="181" y="286"/>
                  </a:lnTo>
                  <a:lnTo>
                    <a:pt x="164" y="285"/>
                  </a:lnTo>
                  <a:lnTo>
                    <a:pt x="148" y="281"/>
                  </a:lnTo>
                  <a:lnTo>
                    <a:pt x="136" y="277"/>
                  </a:lnTo>
                  <a:lnTo>
                    <a:pt x="125" y="269"/>
                  </a:lnTo>
                  <a:lnTo>
                    <a:pt x="121" y="261"/>
                  </a:lnTo>
                  <a:lnTo>
                    <a:pt x="120" y="252"/>
                  </a:lnTo>
                  <a:lnTo>
                    <a:pt x="118" y="243"/>
                  </a:lnTo>
                  <a:lnTo>
                    <a:pt x="114" y="234"/>
                  </a:lnTo>
                  <a:lnTo>
                    <a:pt x="109" y="225"/>
                  </a:lnTo>
                  <a:lnTo>
                    <a:pt x="102" y="218"/>
                  </a:lnTo>
                  <a:lnTo>
                    <a:pt x="94" y="211"/>
                  </a:lnTo>
                  <a:lnTo>
                    <a:pt x="85" y="207"/>
                  </a:lnTo>
                  <a:lnTo>
                    <a:pt x="75" y="205"/>
                  </a:lnTo>
                  <a:lnTo>
                    <a:pt x="64" y="205"/>
                  </a:lnTo>
                  <a:lnTo>
                    <a:pt x="52" y="206"/>
                  </a:lnTo>
                  <a:lnTo>
                    <a:pt x="40" y="207"/>
                  </a:lnTo>
                  <a:lnTo>
                    <a:pt x="30" y="209"/>
                  </a:lnTo>
                  <a:lnTo>
                    <a:pt x="20" y="209"/>
                  </a:lnTo>
                  <a:lnTo>
                    <a:pt x="12" y="209"/>
                  </a:lnTo>
                  <a:lnTo>
                    <a:pt x="6" y="206"/>
                  </a:lnTo>
                  <a:lnTo>
                    <a:pt x="0" y="202"/>
                  </a:lnTo>
                  <a:lnTo>
                    <a:pt x="10" y="213"/>
                  </a:lnTo>
                  <a:lnTo>
                    <a:pt x="19" y="219"/>
                  </a:lnTo>
                  <a:lnTo>
                    <a:pt x="29" y="223"/>
                  </a:lnTo>
                  <a:lnTo>
                    <a:pt x="38" y="225"/>
                  </a:lnTo>
                  <a:lnTo>
                    <a:pt x="47" y="228"/>
                  </a:lnTo>
                  <a:lnTo>
                    <a:pt x="57" y="229"/>
                  </a:lnTo>
                  <a:lnTo>
                    <a:pt x="66" y="232"/>
                  </a:lnTo>
                  <a:lnTo>
                    <a:pt x="75" y="237"/>
                  </a:lnTo>
                  <a:lnTo>
                    <a:pt x="84" y="243"/>
                  </a:lnTo>
                  <a:lnTo>
                    <a:pt x="92" y="249"/>
                  </a:lnTo>
                  <a:lnTo>
                    <a:pt x="100" y="256"/>
                  </a:lnTo>
                  <a:lnTo>
                    <a:pt x="106" y="263"/>
                  </a:lnTo>
                  <a:lnTo>
                    <a:pt x="112" y="270"/>
                  </a:lnTo>
                  <a:lnTo>
                    <a:pt x="119" y="279"/>
                  </a:lnTo>
                  <a:lnTo>
                    <a:pt x="124" y="288"/>
                  </a:lnTo>
                  <a:lnTo>
                    <a:pt x="130" y="299"/>
                  </a:lnTo>
                  <a:lnTo>
                    <a:pt x="138" y="313"/>
                  </a:lnTo>
                  <a:lnTo>
                    <a:pt x="150" y="331"/>
                  </a:lnTo>
                  <a:lnTo>
                    <a:pt x="165" y="350"/>
                  </a:lnTo>
                  <a:lnTo>
                    <a:pt x="184" y="371"/>
                  </a:lnTo>
                  <a:lnTo>
                    <a:pt x="206" y="387"/>
                  </a:lnTo>
                  <a:lnTo>
                    <a:pt x="232" y="400"/>
                  </a:lnTo>
                  <a:lnTo>
                    <a:pt x="263" y="405"/>
                  </a:lnTo>
                  <a:lnTo>
                    <a:pt x="296" y="400"/>
                  </a:lnTo>
                  <a:lnTo>
                    <a:pt x="298" y="377"/>
                  </a:lnTo>
                  <a:lnTo>
                    <a:pt x="302" y="351"/>
                  </a:lnTo>
                  <a:lnTo>
                    <a:pt x="309" y="327"/>
                  </a:lnTo>
                  <a:lnTo>
                    <a:pt x="318" y="303"/>
                  </a:lnTo>
                  <a:lnTo>
                    <a:pt x="329" y="283"/>
                  </a:lnTo>
                  <a:lnTo>
                    <a:pt x="339" y="268"/>
                  </a:lnTo>
                  <a:lnTo>
                    <a:pt x="349" y="259"/>
                  </a:lnTo>
                  <a:lnTo>
                    <a:pt x="358" y="259"/>
                  </a:lnTo>
                  <a:lnTo>
                    <a:pt x="367" y="261"/>
                  </a:lnTo>
                  <a:lnTo>
                    <a:pt x="380" y="261"/>
                  </a:lnTo>
                  <a:lnTo>
                    <a:pt x="393" y="259"/>
                  </a:lnTo>
                  <a:lnTo>
                    <a:pt x="406" y="256"/>
                  </a:lnTo>
                  <a:lnTo>
                    <a:pt x="419" y="252"/>
                  </a:lnTo>
                  <a:lnTo>
                    <a:pt x="430" y="250"/>
                  </a:lnTo>
                  <a:lnTo>
                    <a:pt x="439" y="249"/>
                  </a:lnTo>
                  <a:lnTo>
                    <a:pt x="444" y="25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33760" y="3517920"/>
              <a:ext cx="338040" cy="293760"/>
            </a:xfrm>
            <a:custGeom>
              <a:avLst/>
              <a:gdLst/>
              <a:ahLst/>
              <a:rect l="l" t="t" r="r" b="b"/>
              <a:pathLst>
                <a:path w="213" h="185">
                  <a:moveTo>
                    <a:pt x="75" y="185"/>
                  </a:moveTo>
                  <a:lnTo>
                    <a:pt x="7" y="133"/>
                  </a:lnTo>
                  <a:lnTo>
                    <a:pt x="0" y="104"/>
                  </a:lnTo>
                  <a:lnTo>
                    <a:pt x="49" y="111"/>
                  </a:lnTo>
                  <a:lnTo>
                    <a:pt x="42" y="31"/>
                  </a:lnTo>
                  <a:lnTo>
                    <a:pt x="67" y="13"/>
                  </a:lnTo>
                  <a:lnTo>
                    <a:pt x="85" y="88"/>
                  </a:lnTo>
                  <a:lnTo>
                    <a:pt x="98" y="0"/>
                  </a:lnTo>
                  <a:lnTo>
                    <a:pt x="125" y="3"/>
                  </a:lnTo>
                  <a:lnTo>
                    <a:pt x="110" y="97"/>
                  </a:lnTo>
                  <a:lnTo>
                    <a:pt x="151" y="22"/>
                  </a:lnTo>
                  <a:lnTo>
                    <a:pt x="182" y="35"/>
                  </a:lnTo>
                  <a:lnTo>
                    <a:pt x="132" y="117"/>
                  </a:lnTo>
                  <a:lnTo>
                    <a:pt x="191" y="61"/>
                  </a:lnTo>
                  <a:lnTo>
                    <a:pt x="213" y="64"/>
                  </a:lnTo>
                  <a:lnTo>
                    <a:pt x="129" y="169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219320" y="2590920"/>
              <a:ext cx="7467120" cy="609480"/>
              <a:chOff x="1219320" y="2590920"/>
              <a:chExt cx="7467120" cy="6094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219320" y="2590920"/>
                <a:ext cx="1523520" cy="609480"/>
                <a:chOff x="1219320" y="2590920"/>
                <a:chExt cx="1523520" cy="609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219320" y="2590920"/>
                  <a:ext cx="1523520" cy="609480"/>
                </a:xfrm>
                <a:prstGeom prst="wedgeEllipseCallout">
                  <a:avLst>
                    <a:gd name="adj1" fmla="val -17476"/>
                    <a:gd name="adj2" fmla="val 83856"/>
                  </a:avLst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557360" y="2666880"/>
                  <a:ext cx="931320" cy="4597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C/C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429000" y="2590920"/>
                <a:ext cx="1447560" cy="609480"/>
                <a:chOff x="3429000" y="2590920"/>
                <a:chExt cx="1447560" cy="6094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429000" y="2590920"/>
                  <a:ext cx="1447560" cy="609480"/>
                </a:xfrm>
                <a:prstGeom prst="wedgeEllipseCallout">
                  <a:avLst>
                    <a:gd name="adj1" fmla="val -17476"/>
                    <a:gd name="adj2" fmla="val 83856"/>
                  </a:avLst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750480" y="2666880"/>
                  <a:ext cx="884880" cy="4597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C/C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562720" y="2590920"/>
                <a:ext cx="1447200" cy="609480"/>
                <a:chOff x="5562720" y="2590920"/>
                <a:chExt cx="1447200" cy="6094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562720" y="2590920"/>
                  <a:ext cx="1447200" cy="609480"/>
                </a:xfrm>
                <a:prstGeom prst="wedgeEllipseCallout">
                  <a:avLst>
                    <a:gd name="adj1" fmla="val -17476"/>
                    <a:gd name="adj2" fmla="val 83856"/>
                  </a:avLst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883840" y="2666880"/>
                  <a:ext cx="884520" cy="4597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C/C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7238880" y="2590920"/>
                <a:ext cx="1447560" cy="609480"/>
                <a:chOff x="7238880" y="2590920"/>
                <a:chExt cx="1447560" cy="6094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238880" y="2590920"/>
                  <a:ext cx="1447560" cy="609480"/>
                </a:xfrm>
                <a:prstGeom prst="wedgeEllipseCallout">
                  <a:avLst>
                    <a:gd name="adj1" fmla="val -17476"/>
                    <a:gd name="adj2" fmla="val 83856"/>
                  </a:avLst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560360" y="2666880"/>
                  <a:ext cx="884880" cy="459720"/>
                </a:xfrm>
                <a:prstGeom prst="rect">
                  <a:avLst/>
                </a:pr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C/C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split dir="out" orient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nipulação de Registro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tualizando um regis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PDATE &lt;nome da 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T &lt;campos&gt; = &lt;valo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ondição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UPDATE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T val_unitario = 1.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descricao = ‘Parafuso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PDATE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T salario = (salario * 1.27) +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PDATE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T valor = valor * 1.0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alor &lt; (SELECT AVG(val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nidade = ‘kg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Manipulando Registros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Apagando registros de uma tab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DELETE FROM &lt;tabela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&lt;condição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DELETE 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comissao IS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DELETE FROM Pedido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(SELECT nomevended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V.codvendedor = P.codvended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rabalhando com Índices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11 - Trabalhando com í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Criando Í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REATE [UNIQUE] INDEX &lt;nome do índi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N &lt;tabela&gt; (&lt;campos&gt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CREATE INDEX nome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N Produto (descri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REATE INDEX ped_p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N ItemProduto (numpedido, codprodu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CREATE UNIQUE INDEX client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ON Cliente (codcli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Trabalhando com Índice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cc33"/>
                </a:solidFill>
                <a:latin typeface="Courier New"/>
              </a:rPr>
              <a:t>Eliminando í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DROP INDEX &lt;nome do índi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DROP INDEX nome_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DROP INDEX ped_p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mbinando Pesquis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Courier New"/>
              </a:rPr>
              <a:t>12 - Combinando resultados de pesquisa (UN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Permite combinar os resultados  de duas ou mais consultas feitas sobre tabe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Ex.: SELECT codigo = codcliente, nome=nome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ORM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uf = ‘RJ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UN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SELECT codvendedor, nome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FROM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WHERE salario &gt; 1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Query By Example (QB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QBE (Consulta por Exemplos) é o nome de uma linguagem de manipulaçã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i desenvolvida pela IBM no início dos anos 7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consultas são expressas “por exemplo”. Não é fornecido um procedimento como na SQL, mas sim um exemplo do que é desej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Simples em QBE 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consultas são feitas usand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tabelas-esquelet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457200" y="3505320"/>
            <a:ext cx="8153280" cy="1752480"/>
            <a:chOff x="457200" y="3505320"/>
            <a:chExt cx="8153280" cy="1752480"/>
          </a:xfrm>
        </p:grpSpPr>
        <p:sp>
          <p:nvSpPr>
            <p:cNvPr id="1013" name=""/>
            <p:cNvSpPr/>
            <p:nvPr/>
          </p:nvSpPr>
          <p:spPr>
            <a:xfrm>
              <a:off x="457200" y="3505320"/>
              <a:ext cx="8153280" cy="3682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00"/>
                  </a:solidFill>
                  <a:latin typeface="Courier New"/>
                </a:rPr>
                <a:t>Agência   AgênciaNome   NúmeroConta    NomeCliente   Sal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7200" y="3505320"/>
              <a:ext cx="8153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7200" y="3886200"/>
              <a:ext cx="8153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61048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4380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3868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8128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7652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" y="350532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Simples em QBE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variáveis são precedidas por “_”. Por exemplo,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_x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 Indicam o que desejamos ob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 constantes  aparecem sem qualquer qualificação. Expressam a condição de bus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ão usados comandos para realizar a consul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Consulta Simples QBE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sim, para encontrar todos os clientes com uma conta na agência Perryridge, trazemos o esqueleto e o preenchemos assi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57200" y="3200400"/>
            <a:ext cx="8153280" cy="1752480"/>
            <a:chOff x="457200" y="3200400"/>
            <a:chExt cx="8153280" cy="1752480"/>
          </a:xfrm>
        </p:grpSpPr>
        <p:sp>
          <p:nvSpPr>
            <p:cNvPr id="1027" name=""/>
            <p:cNvSpPr/>
            <p:nvPr/>
          </p:nvSpPr>
          <p:spPr>
            <a:xfrm>
              <a:off x="457200" y="3200400"/>
              <a:ext cx="8153280" cy="3682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00"/>
                  </a:solidFill>
                  <a:latin typeface="Courier New"/>
                </a:rPr>
                <a:t>Agência   AgênciaNome   NúmeroConta    NomeCliente   Sal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7200" y="3200400"/>
              <a:ext cx="8153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57200" y="3581280"/>
              <a:ext cx="8153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1048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54380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3868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8128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67652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" y="3200400"/>
              <a:ext cx="0" cy="17524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1828800" y="3809880"/>
            <a:ext cx="5257800" cy="459720"/>
            <a:chOff x="1828800" y="3809880"/>
            <a:chExt cx="5257800" cy="459720"/>
          </a:xfrm>
        </p:grpSpPr>
        <p:sp>
          <p:nvSpPr>
            <p:cNvPr id="1037" name=""/>
            <p:cNvSpPr/>
            <p:nvPr/>
          </p:nvSpPr>
          <p:spPr>
            <a:xfrm>
              <a:off x="18288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Perryrid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72200" y="3809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ff"/>
                  </a:solidFill>
                  <a:latin typeface="Times New Roman"/>
                </a:rPr>
                <a:t>P._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236232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P é o comando de bus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90720" y="563868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A QBE elimina as repetições. Para evitar iss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utiliza-se ALL após o comando P (P.AL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KORTH, Henry F., SILBERSCHATZ, Abraham.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istema de Banco de Dado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2ª Ed. - Makron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CHADO, Felipe Nery R., ABREU, Maurício.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Banco de Dados Uma Visão Prátic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Ed. Ér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URLAN, José David.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Modelagem de Negócio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Makron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ODD, Bill, KELLEN, Vince.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Delphi 2 Guia do Desenvolvedor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- Makron Boo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1T14:00:03Z</dcterms:created>
  <dc:creator>Reinaldo Madarazo</dc:creator>
  <dc:description/>
  <dc:language>en-US</dc:language>
  <cp:lastModifiedBy>Reinaldo Madarazo</cp:lastModifiedBy>
  <cp:lastPrinted>1998-05-26T14:03:17Z</cp:lastPrinted>
  <dcterms:modified xsi:type="dcterms:W3CDTF">1999-02-17T14:23:56Z</dcterms:modified>
  <cp:revision>200</cp:revision>
  <dc:subject/>
  <dc:title>Banco de Dados</dc:title>
</cp:coreProperties>
</file>