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AE5B-1B21-464F-A944-9AAFF1C88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2CE0-7A7F-47EA-A3EF-4FEB00948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709B-1F4B-4918-91B7-085C96076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ECEE7-69E4-4B4A-9DE0-C73D2CE8A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2BA9F-6E78-4F6D-887B-F80D6601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BD29B-8448-4DFC-98F2-4CDE43E3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4CFEE-0889-4102-83CC-1876E197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ADA95-DA12-433F-BB8B-482DEFED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71C86-71B9-472C-AA12-83903B3F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B3BB9-9731-4106-B108-FC3C1101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C95E9-37CB-47D5-923C-B92CC8D2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3CAA-5383-46D3-BA0A-7D0631161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3371B-B6F9-4B1C-94F9-5C473C29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8A0B2-29BA-44BF-B339-EC7C1704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0D126-BDB3-4DD5-A06C-386CA456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1E3B7-061C-4542-AD30-A3C75208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33288-6754-4AF1-84A6-6A5D0B8A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E44A-4F3B-4FCE-9C13-4F04DE820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E5B57-B47A-4FDC-AD9B-8836FBD98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95BB-1520-471A-B46A-9AB4DEA21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913F-1E68-475A-AB33-B1D9AEC70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0C4F9-5B1C-41E3-AF98-57FED77CD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5350-87D2-4181-A868-45A7DDC7A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2D90-13F1-46B2-8E6D-B6640C2FF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BAB6-FA4F-45E1-B1BB-7B19F8452D1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D597-BCDB-42D7-89D8-58D9BB48AB5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microsoft.com/" TargetMode="External"/><Relationship Id="rId2" Type="http://schemas.openxmlformats.org/officeDocument/2006/relationships/hyperlink" Target="http://www.microsoft.com/" TargetMode="External"/><Relationship Id="rId3" Type="http://schemas.openxmlformats.org/officeDocument/2006/relationships/hyperlink" Target="http://www.microsoft.com/" TargetMode="External"/><Relationship Id="rId4" Type="http://schemas.openxmlformats.org/officeDocument/2006/relationships/hyperlink" Target="http://www.microsoft.com/" TargetMode="External"/><Relationship Id="rId5" Type="http://schemas.openxmlformats.org/officeDocument/2006/relationships/hyperlink" Target="http://www.iomega.com/" TargetMode="External"/><Relationship Id="rId6" Type="http://schemas.openxmlformats.org/officeDocument/2006/relationships/hyperlink" Target="http://www.iomega.com/" TargetMode="External"/><Relationship Id="rId7" Type="http://schemas.openxmlformats.org/officeDocument/2006/relationships/hyperlink" Target="http://www.iomega.com/" TargetMode="External"/><Relationship Id="rId8" Type="http://schemas.openxmlformats.org/officeDocument/2006/relationships/hyperlink" Target="http://www.iomega.com/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9900"/>
                </a:solidFill>
                <a:latin typeface="Arial Narrow"/>
              </a:rPr>
              <a:t>Fundamentos de Hardwar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47560" y="3885840"/>
            <a:ext cx="70866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rquitetura de Comput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BUS de Dados e de Endereç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016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BUS de Dado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ou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via de dado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 é responsável por receber e enviar dados à memória ou aos periféricos de entrada e saí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BUS de Endereço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ou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via de endereços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em como função selecionar o endereço de memória ou do periférico que irá receber ou fornecer os d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4648320"/>
            <a:ext cx="1295640" cy="1523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5791320"/>
            <a:ext cx="990360" cy="304560"/>
          </a:xfrm>
          <a:prstGeom prst="leftRightArrow">
            <a:avLst>
              <a:gd name="adj1" fmla="val 50000"/>
              <a:gd name="adj2" fmla="val 6473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4800600"/>
            <a:ext cx="990360" cy="304920"/>
          </a:xfrm>
          <a:prstGeom prst="leftRightArrow">
            <a:avLst>
              <a:gd name="adj1" fmla="val 50000"/>
              <a:gd name="adj2" fmla="val 6465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Acesso Direto à Memória - DM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M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irect Memory Acces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 é responsável pela transferência de dados da memória para um periférico e vice-versa sem a intervenção da CP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sto acarreta uma melhora na performance do computad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m todos os periféricos utilizam D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5638680"/>
            <a:ext cx="243864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4648320"/>
            <a:ext cx="243864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4800600"/>
            <a:ext cx="990360" cy="304920"/>
          </a:xfrm>
          <a:prstGeom prst="leftRightArrow">
            <a:avLst>
              <a:gd name="adj1" fmla="val 50000"/>
              <a:gd name="adj2" fmla="val 6465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5867280"/>
            <a:ext cx="990360" cy="304920"/>
          </a:xfrm>
          <a:prstGeom prst="leftRightArrow">
            <a:avLst>
              <a:gd name="adj1" fmla="val 50000"/>
              <a:gd name="adj2" fmla="val 6465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4648320"/>
            <a:ext cx="1905120" cy="16002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0560" y="51584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E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1160" y="510444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3800" y="46476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60480" y="571428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410080"/>
            <a:ext cx="1066680" cy="99072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Registrador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69960" y="2603520"/>
            <a:ext cx="786456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Acumulador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utilizado para armazenar o resultado de operaçõ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Auxiliares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utilizados nas operações para armazenar operandos e resultados intermediá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Flag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utilizado para informar o estado da CPU e erros encont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Registradores - Funcionament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88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o o registrador opera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A +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666880"/>
            <a:ext cx="5045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 - O valor d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é copiado da memória para o Acumul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429000"/>
            <a:ext cx="504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 - O valor do Acumulador é trans-ferido para um Auxili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4191120"/>
            <a:ext cx="504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 - O valor d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é copiado da memória para o Acumul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4952880"/>
            <a:ext cx="5045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4 - A soma é feita e o resultado permanece no Acumul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5791320"/>
            <a:ext cx="504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5 - O resultado é transferido para o endereço da variável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3124080"/>
            <a:ext cx="27432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876920"/>
            <a:ext cx="27432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00920" y="38851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ACUMUL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4040" y="571392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AUXILI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90640" y="32457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Valor de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5560" y="502848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Valor de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24120" y="32457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3300"/>
                </a:solidFill>
                <a:latin typeface="Times New Roman"/>
              </a:rPr>
              <a:t>Valor de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22640" y="328392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3300"/>
                </a:solidFill>
                <a:latin typeface="Times New Roman"/>
              </a:rPr>
              <a:t>A +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4876920"/>
            <a:ext cx="27432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Registrador Flag - Exceçõ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635960" cy="115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registrador flag indica qual o estado da CPU e se ocorreu algum erro de processamento, chamad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Exceçã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419720"/>
            <a:ext cx="8001000" cy="175248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4572000"/>
            <a:ext cx="2057400" cy="137160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4571640"/>
            <a:ext cx="144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Divisão por Z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81280" y="4572000"/>
            <a:ext cx="2057400" cy="137160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4571640"/>
            <a:ext cx="167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Acumula-dor com Z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4572000"/>
            <a:ext cx="2057400" cy="137160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4571640"/>
            <a:ext cx="167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Estouro de capaci-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1040" y="388548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Registrador Fl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Exceções Fatais (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016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Exceção Fatal é um erro de processamento encontrado pela CP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tes erros podem ser reportados pelo Sistema Operac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lista a seguir indica as exceções fatais informadas pelo Windows 9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Exceções Fatais (I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93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00: Divide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correu uma divisão por Z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02: NMI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errupção de Hard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04: Overflow Tr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touro de capacidade de cálcu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05: Bounds Check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rro de limite em listas (array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Exceções Fatais (II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1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06: Invalid Opcode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processdore encontrou uma instrução invál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07: Coprocessor not Available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foi encontrado o co-processador aritmét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08: Double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exceção disparou outra exceçã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09: Coprocessor Segment Over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coprocessador produziu um erro em operações de ponto flutu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Exceções Fatais (IV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2575080"/>
            <a:ext cx="80773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0A: Invalid Task State Segment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rro no gerenciamento de tarefas da CP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0C: Stack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rro na pilha operac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0D: General Protection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Qualquer condição não reconhecida pela CPU. Quando ocorre, o programa foi corrompido e será fin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Exceções Fatais (V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016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0E: Page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rro de acesso à memória. Pode significar memória rui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0: Coprocessor Error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ceção produzida pelo coprocessador aritmét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1: Alignment Check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bsoleta. Usado apenas pelo 48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Sistem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9600" y="2575080"/>
            <a:ext cx="49482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 sistema é composto de três partes básic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191120"/>
            <a:ext cx="1828800" cy="12952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4191120"/>
            <a:ext cx="1828800" cy="12952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962520"/>
            <a:ext cx="2590560" cy="1828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487692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87692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Clock (Relógio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940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duz os ciclos temporais usado pela CP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a a CPU realizar alguma tarefa, ela utiliza um ou mais ciclos de cl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sim, quanto mais ciclos produzidos por segundo mais rápido a CPU realizará sua taref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Clock é medido em MHz (MegaHertz). Os valores atuais estão entre 200MHz e 600MHz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Clock - Ciclos da CPU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CPU executa suas tarefas em seqüência, de acordo com os ciclos de cl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seqüência de operação é a segui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usca de instruçõ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ecução das instruçõ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usca de dados (se necessári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da seqüência utiliza um ou mais ciclos de clock para ser execut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CPU - Palavras (I)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82454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hamamos d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alavr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à menor unidade de informação manipulada pela CP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s primeiros microprocessadores (CPU) manipulavam palavras de 4 bits, sendo assim classificados em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PUs de 4bits.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.: Intel 4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 seguida, vieram as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PUs de 8 bit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muito populares na década de 80. Ex.: Intel 8008 e 8080 e Zilog Z8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CPU - Palavras (I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016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 o surgimento do PC (1980), surgiu um novo tipo de CPU, capaz de trabalhar internamente com 16 bits, mas enviava e recebia informações com palavra de 8 b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se tipo de CPU foi criada para aproveitar o hardware de 8 bits existente na épo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tas CPUs eram incorretamente chamadas d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PUs de 16 bit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 Ex.: Intel 8088, NEC V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CPU - Palavras (II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940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 verdadeiras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PUs de 16 bit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odiam manipular e processar palavras de 16 bits. Ex.: Intel 8086, 80286 e NEC V3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PUs híbridas de 16 /32 bit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 Manipulavam palavras de 16 bits e processavam 32 bits. Ex.: Intel 386S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PUs de 32 bit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Intel 386DX e 486SX e D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PUs híbridas de 64 bit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Intel Penti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CPU - Formas de processament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119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ISC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omplete Instruction Set Code -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PUs com um grande conjunto de comandos. Podem executar praticamente qualquer tarefa direta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ISC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Reduced Instruction Set Cod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CPUs com conjunto de comandos reduzidos. Para executarem tarefas mais complexas requerem programação. São bem mais rápidas que as CPUs CIS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íbridas: Possuem recursos CISC e RISC. Ex.: Pentium P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CPU - Multiplicação de Clock (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09316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 recurso muito comum atualmente é fazer os computadores trabalharem com dois clocks: um para a CPU e outro para os demais disposi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ssa forma, pode-se criar microprocessadores com altos clocks sem necessidade de novas tecnologias para os perifér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processo de multiplicação de clock faz com que o clock interno da CPU seja até 3.5 vezes maior que o clock exter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CPU - Multiplicação de Clock (I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119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primeira CPU com esse recurso foi o Intel 486 DX2, onde o 2 indicava de quanto o clock externo era multiplicado para gerar o clock interno da CP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sim, o 486 DX2 66MHz tinha um clock interno de 66Mhz e externo de 33MHz (o limite tecnológico da époc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oje, um Pentium MMX 233Mhz tem clock externo de 66Mhz e interno de 233Mhz (fator 3,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s - Classific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940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mória Principal ou Primári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utilizada pela CPU para armazenar os programas e dados que estão sendo utilizados no processamento. Deve ser rápida e de alta capac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mória Auxiliar ou Secundári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utilizada para armazenar dados de forma permanente, mesmo com o computador desligado. Não é tão rápida como a principal mas possui capacidade de armazenamento muito ma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Principal ou Primári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940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dividida em dois tip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mória voláti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perde seu conteúdo quando o computador for desligado. Usada na execução dos progra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mória não voláti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não perde seu conteúdo quando o computador for desligado. Usada para armazenar configurações da máqu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0240" y="1080720"/>
            <a:ext cx="8421480" cy="12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O Computador como Sistem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327672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semelhante a um sistema com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800600"/>
            <a:ext cx="1828800" cy="12952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4800600"/>
            <a:ext cx="1828800" cy="12952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572000"/>
            <a:ext cx="2590560" cy="1828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54864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54864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3352680"/>
            <a:ext cx="2286000" cy="685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Memó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809880" y="41148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40384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não voláti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94052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também chamada de memória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Read Only Memory - memória somente de leitur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é possível escrever dados neste tipo de memória - apenas podemos ler esses d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pos de 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4784760"/>
            <a:ext cx="79405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- RO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Os dados são gravados durante o processo de fabricação da memória. Só justificável em larga escala de fabricação devido ao seu alto cu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ROM - Tipos (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259092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- PRO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Programmable ROM - tipo especial de ROM que pode ser programada utilizando um programador de PROMs. Uma vez programada, seu conteúdo não pode ser alter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chip3" descr=""/>
          <p:cNvPicPr/>
          <p:nvPr/>
        </p:nvPicPr>
        <p:blipFill>
          <a:blip r:embed="rId1"/>
          <a:stretch/>
        </p:blipFill>
        <p:spPr>
          <a:xfrm>
            <a:off x="1828800" y="4267080"/>
            <a:ext cx="5460840" cy="2176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ROM - Tipos (I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2590920"/>
            <a:ext cx="3962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- EPRO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Erasable PROM - tipo especial de PROM que pode ser programada utilizando um programador de EPROMs. Uma vez programada, seu conteúdo pode ser apagado através de luz ultra-viole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858000" y="2057400"/>
            <a:ext cx="1703520" cy="4343400"/>
            <a:chOff x="6858000" y="2057400"/>
            <a:chExt cx="1703520" cy="4343400"/>
          </a:xfrm>
        </p:grpSpPr>
        <p:pic>
          <p:nvPicPr>
            <p:cNvPr id="262" name="chip1" descr=""/>
            <p:cNvPicPr/>
            <p:nvPr/>
          </p:nvPicPr>
          <p:blipFill>
            <a:blip r:embed="rId1"/>
            <a:stretch/>
          </p:blipFill>
          <p:spPr>
            <a:xfrm>
              <a:off x="6858000" y="2057400"/>
              <a:ext cx="17035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238880" y="3733920"/>
              <a:ext cx="99072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43800" y="4038480"/>
              <a:ext cx="380880" cy="38124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268160" y="31993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Janela de Quart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000" y="4723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hip de mem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3581280"/>
            <a:ext cx="76176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629400" y="4267080"/>
            <a:ext cx="106668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ROM - Tipos (II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59092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- E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Electrically EPROM - tipo especial de PROM que pode ser programada utilizando um programador de EPROMs. Uma vez programada, seu conteúdo pode ser apagado através de sinais elétr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971800" y="4267080"/>
            <a:ext cx="2971800" cy="2208240"/>
            <a:chOff x="2971800" y="4267080"/>
            <a:chExt cx="2971800" cy="2208240"/>
          </a:xfrm>
        </p:grpSpPr>
        <p:sp>
          <p:nvSpPr>
            <p:cNvPr id="272" name=""/>
            <p:cNvSpPr/>
            <p:nvPr/>
          </p:nvSpPr>
          <p:spPr>
            <a:xfrm>
              <a:off x="3135240" y="5456160"/>
              <a:ext cx="149400" cy="460080"/>
            </a:xfrm>
            <a:custGeom>
              <a:avLst/>
              <a:gdLst/>
              <a:ahLst/>
              <a:rect l="l" t="t" r="r" b="b"/>
              <a:pathLst>
                <a:path w="94" h="290">
                  <a:moveTo>
                    <a:pt x="0" y="0"/>
                  </a:moveTo>
                  <a:lnTo>
                    <a:pt x="40" y="290"/>
                  </a:lnTo>
                  <a:lnTo>
                    <a:pt x="94" y="270"/>
                  </a:lnTo>
                  <a:lnTo>
                    <a:pt x="8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35240" y="5456160"/>
              <a:ext cx="149400" cy="460080"/>
            </a:xfrm>
            <a:custGeom>
              <a:avLst/>
              <a:gdLst/>
              <a:ahLst/>
              <a:rect l="l" t="t" r="r" b="b"/>
              <a:pathLst>
                <a:path w="94" h="290">
                  <a:moveTo>
                    <a:pt x="0" y="0"/>
                  </a:moveTo>
                  <a:lnTo>
                    <a:pt x="40" y="290"/>
                  </a:lnTo>
                  <a:lnTo>
                    <a:pt x="94" y="270"/>
                  </a:lnTo>
                  <a:lnTo>
                    <a:pt x="81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13160" y="5530680"/>
              <a:ext cx="139680" cy="288720"/>
            </a:xfrm>
            <a:custGeom>
              <a:avLst/>
              <a:gdLst/>
              <a:ahLst/>
              <a:rect l="l" t="t" r="r" b="b"/>
              <a:pathLst>
                <a:path w="88" h="182">
                  <a:moveTo>
                    <a:pt x="0" y="0"/>
                  </a:moveTo>
                  <a:lnTo>
                    <a:pt x="27" y="182"/>
                  </a:lnTo>
                  <a:lnTo>
                    <a:pt x="88" y="162"/>
                  </a:lnTo>
                  <a:lnTo>
                    <a:pt x="7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13160" y="5530680"/>
              <a:ext cx="139680" cy="288720"/>
            </a:xfrm>
            <a:custGeom>
              <a:avLst/>
              <a:gdLst/>
              <a:ahLst/>
              <a:rect l="l" t="t" r="r" b="b"/>
              <a:pathLst>
                <a:path w="88" h="182">
                  <a:moveTo>
                    <a:pt x="0" y="0"/>
                  </a:moveTo>
                  <a:lnTo>
                    <a:pt x="27" y="182"/>
                  </a:lnTo>
                  <a:lnTo>
                    <a:pt x="88" y="162"/>
                  </a:lnTo>
                  <a:lnTo>
                    <a:pt x="74" y="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1800" y="5055840"/>
              <a:ext cx="411120" cy="49212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259" y="48"/>
                  </a:moveTo>
                  <a:lnTo>
                    <a:pt x="90" y="0"/>
                  </a:lnTo>
                  <a:lnTo>
                    <a:pt x="0" y="121"/>
                  </a:lnTo>
                  <a:lnTo>
                    <a:pt x="43" y="252"/>
                  </a:lnTo>
                  <a:lnTo>
                    <a:pt x="222" y="310"/>
                  </a:lnTo>
                  <a:lnTo>
                    <a:pt x="168" y="162"/>
                  </a:lnTo>
                  <a:lnTo>
                    <a:pt x="25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5055840"/>
              <a:ext cx="411120" cy="49212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259" y="48"/>
                  </a:moveTo>
                  <a:lnTo>
                    <a:pt x="90" y="0"/>
                  </a:lnTo>
                  <a:lnTo>
                    <a:pt x="0" y="121"/>
                  </a:lnTo>
                  <a:lnTo>
                    <a:pt x="43" y="252"/>
                  </a:lnTo>
                  <a:lnTo>
                    <a:pt x="222" y="310"/>
                  </a:lnTo>
                  <a:lnTo>
                    <a:pt x="168" y="162"/>
                  </a:lnTo>
                  <a:lnTo>
                    <a:pt x="259" y="48"/>
                  </a:lnTo>
                </a:path>
              </a:pathLst>
            </a:custGeom>
            <a:solidFill>
              <a:srgbClr val="ffff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95800" y="5017680"/>
              <a:ext cx="425160" cy="632160"/>
            </a:xfrm>
            <a:custGeom>
              <a:avLst/>
              <a:gdLst/>
              <a:ahLst/>
              <a:rect l="l" t="t" r="r" b="b"/>
              <a:pathLst>
                <a:path w="268" h="398">
                  <a:moveTo>
                    <a:pt x="57" y="346"/>
                  </a:moveTo>
                  <a:lnTo>
                    <a:pt x="0" y="195"/>
                  </a:lnTo>
                  <a:lnTo>
                    <a:pt x="135" y="23"/>
                  </a:lnTo>
                  <a:lnTo>
                    <a:pt x="152" y="13"/>
                  </a:lnTo>
                  <a:lnTo>
                    <a:pt x="169" y="3"/>
                  </a:lnTo>
                  <a:lnTo>
                    <a:pt x="188" y="0"/>
                  </a:lnTo>
                  <a:lnTo>
                    <a:pt x="214" y="2"/>
                  </a:lnTo>
                  <a:lnTo>
                    <a:pt x="231" y="7"/>
                  </a:lnTo>
                  <a:lnTo>
                    <a:pt x="247" y="15"/>
                  </a:lnTo>
                  <a:lnTo>
                    <a:pt x="263" y="32"/>
                  </a:lnTo>
                  <a:lnTo>
                    <a:pt x="268" y="50"/>
                  </a:lnTo>
                  <a:lnTo>
                    <a:pt x="262" y="74"/>
                  </a:lnTo>
                  <a:lnTo>
                    <a:pt x="148" y="232"/>
                  </a:lnTo>
                  <a:lnTo>
                    <a:pt x="208" y="398"/>
                  </a:lnTo>
                  <a:lnTo>
                    <a:pt x="57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95800" y="5017680"/>
              <a:ext cx="425160" cy="632160"/>
            </a:xfrm>
            <a:custGeom>
              <a:avLst/>
              <a:gdLst/>
              <a:ahLst/>
              <a:rect l="l" t="t" r="r" b="b"/>
              <a:pathLst>
                <a:path w="268" h="398">
                  <a:moveTo>
                    <a:pt x="57" y="346"/>
                  </a:moveTo>
                  <a:lnTo>
                    <a:pt x="0" y="195"/>
                  </a:lnTo>
                  <a:lnTo>
                    <a:pt x="135" y="23"/>
                  </a:lnTo>
                  <a:lnTo>
                    <a:pt x="152" y="13"/>
                  </a:lnTo>
                  <a:lnTo>
                    <a:pt x="169" y="3"/>
                  </a:lnTo>
                  <a:lnTo>
                    <a:pt x="188" y="0"/>
                  </a:lnTo>
                  <a:lnTo>
                    <a:pt x="214" y="2"/>
                  </a:lnTo>
                  <a:lnTo>
                    <a:pt x="231" y="7"/>
                  </a:lnTo>
                  <a:lnTo>
                    <a:pt x="247" y="15"/>
                  </a:lnTo>
                  <a:lnTo>
                    <a:pt x="263" y="32"/>
                  </a:lnTo>
                  <a:lnTo>
                    <a:pt x="268" y="50"/>
                  </a:lnTo>
                  <a:lnTo>
                    <a:pt x="262" y="74"/>
                  </a:lnTo>
                  <a:lnTo>
                    <a:pt x="148" y="232"/>
                  </a:lnTo>
                  <a:lnTo>
                    <a:pt x="208" y="398"/>
                  </a:lnTo>
                  <a:lnTo>
                    <a:pt x="57" y="346"/>
                  </a:lnTo>
                </a:path>
              </a:pathLst>
            </a:custGeom>
            <a:solidFill>
              <a:srgbClr val="ffff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89200" y="5225760"/>
              <a:ext cx="382680" cy="530280"/>
            </a:xfrm>
            <a:custGeom>
              <a:avLst/>
              <a:gdLst/>
              <a:ahLst/>
              <a:rect l="l" t="t" r="r" b="b"/>
              <a:pathLst>
                <a:path w="241" h="334">
                  <a:moveTo>
                    <a:pt x="241" y="47"/>
                  </a:moveTo>
                  <a:lnTo>
                    <a:pt x="79" y="0"/>
                  </a:lnTo>
                  <a:lnTo>
                    <a:pt x="0" y="106"/>
                  </a:lnTo>
                  <a:lnTo>
                    <a:pt x="64" y="280"/>
                  </a:lnTo>
                  <a:lnTo>
                    <a:pt x="230" y="334"/>
                  </a:lnTo>
                  <a:lnTo>
                    <a:pt x="166" y="145"/>
                  </a:lnTo>
                  <a:lnTo>
                    <a:pt x="241" y="4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89200" y="5225760"/>
              <a:ext cx="382680" cy="530280"/>
            </a:xfrm>
            <a:custGeom>
              <a:avLst/>
              <a:gdLst/>
              <a:ahLst/>
              <a:rect l="l" t="t" r="r" b="b"/>
              <a:pathLst>
                <a:path w="241" h="334">
                  <a:moveTo>
                    <a:pt x="241" y="47"/>
                  </a:moveTo>
                  <a:lnTo>
                    <a:pt x="79" y="0"/>
                  </a:lnTo>
                  <a:lnTo>
                    <a:pt x="0" y="106"/>
                  </a:lnTo>
                  <a:lnTo>
                    <a:pt x="64" y="280"/>
                  </a:lnTo>
                  <a:lnTo>
                    <a:pt x="230" y="334"/>
                  </a:lnTo>
                  <a:lnTo>
                    <a:pt x="166" y="145"/>
                  </a:lnTo>
                  <a:lnTo>
                    <a:pt x="241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17880" y="4500360"/>
              <a:ext cx="2025720" cy="1244520"/>
            </a:xfrm>
            <a:custGeom>
              <a:avLst/>
              <a:gdLst/>
              <a:ahLst/>
              <a:rect l="l" t="t" r="r" b="b"/>
              <a:pathLst>
                <a:path w="1276" h="784">
                  <a:moveTo>
                    <a:pt x="60" y="784"/>
                  </a:moveTo>
                  <a:lnTo>
                    <a:pt x="0" y="609"/>
                  </a:lnTo>
                  <a:lnTo>
                    <a:pt x="85" y="492"/>
                  </a:lnTo>
                  <a:lnTo>
                    <a:pt x="1228" y="0"/>
                  </a:lnTo>
                  <a:lnTo>
                    <a:pt x="1276" y="245"/>
                  </a:lnTo>
                  <a:lnTo>
                    <a:pt x="60" y="784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17880" y="4500360"/>
              <a:ext cx="2025720" cy="1244520"/>
            </a:xfrm>
            <a:custGeom>
              <a:avLst/>
              <a:gdLst/>
              <a:ahLst/>
              <a:rect l="l" t="t" r="r" b="b"/>
              <a:pathLst>
                <a:path w="1276" h="784">
                  <a:moveTo>
                    <a:pt x="60" y="784"/>
                  </a:moveTo>
                  <a:lnTo>
                    <a:pt x="0" y="609"/>
                  </a:lnTo>
                  <a:lnTo>
                    <a:pt x="85" y="492"/>
                  </a:lnTo>
                  <a:lnTo>
                    <a:pt x="1228" y="0"/>
                  </a:lnTo>
                  <a:lnTo>
                    <a:pt x="1276" y="245"/>
                  </a:lnTo>
                  <a:lnTo>
                    <a:pt x="60" y="7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66920" y="4267080"/>
              <a:ext cx="2665440" cy="973080"/>
            </a:xfrm>
            <a:custGeom>
              <a:avLst/>
              <a:gdLst/>
              <a:ahLst/>
              <a:rect l="l" t="t" r="r" b="b"/>
              <a:pathLst>
                <a:path w="1679" h="613">
                  <a:moveTo>
                    <a:pt x="525" y="613"/>
                  </a:moveTo>
                  <a:lnTo>
                    <a:pt x="1679" y="116"/>
                  </a:lnTo>
                  <a:lnTo>
                    <a:pt x="1166" y="0"/>
                  </a:lnTo>
                  <a:lnTo>
                    <a:pt x="0" y="466"/>
                  </a:lnTo>
                  <a:lnTo>
                    <a:pt x="158" y="510"/>
                  </a:lnTo>
                  <a:lnTo>
                    <a:pt x="198" y="474"/>
                  </a:lnTo>
                  <a:lnTo>
                    <a:pt x="219" y="457"/>
                  </a:lnTo>
                  <a:lnTo>
                    <a:pt x="249" y="444"/>
                  </a:lnTo>
                  <a:lnTo>
                    <a:pt x="286" y="442"/>
                  </a:lnTo>
                  <a:lnTo>
                    <a:pt x="326" y="450"/>
                  </a:lnTo>
                  <a:lnTo>
                    <a:pt x="354" y="466"/>
                  </a:lnTo>
                  <a:lnTo>
                    <a:pt x="375" y="488"/>
                  </a:lnTo>
                  <a:lnTo>
                    <a:pt x="382" y="510"/>
                  </a:lnTo>
                  <a:lnTo>
                    <a:pt x="382" y="528"/>
                  </a:lnTo>
                  <a:lnTo>
                    <a:pt x="378" y="547"/>
                  </a:lnTo>
                  <a:lnTo>
                    <a:pt x="367" y="568"/>
                  </a:lnTo>
                  <a:lnTo>
                    <a:pt x="525" y="61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66920" y="4267080"/>
              <a:ext cx="2665440" cy="973080"/>
            </a:xfrm>
            <a:custGeom>
              <a:avLst/>
              <a:gdLst/>
              <a:ahLst/>
              <a:rect l="l" t="t" r="r" b="b"/>
              <a:pathLst>
                <a:path w="1679" h="613">
                  <a:moveTo>
                    <a:pt x="525" y="613"/>
                  </a:moveTo>
                  <a:lnTo>
                    <a:pt x="1679" y="116"/>
                  </a:lnTo>
                  <a:lnTo>
                    <a:pt x="1166" y="0"/>
                  </a:lnTo>
                  <a:lnTo>
                    <a:pt x="0" y="466"/>
                  </a:lnTo>
                  <a:lnTo>
                    <a:pt x="158" y="510"/>
                  </a:lnTo>
                  <a:lnTo>
                    <a:pt x="198" y="474"/>
                  </a:lnTo>
                  <a:lnTo>
                    <a:pt x="219" y="457"/>
                  </a:lnTo>
                  <a:lnTo>
                    <a:pt x="249" y="444"/>
                  </a:lnTo>
                  <a:lnTo>
                    <a:pt x="286" y="442"/>
                  </a:lnTo>
                  <a:lnTo>
                    <a:pt x="326" y="450"/>
                  </a:lnTo>
                  <a:lnTo>
                    <a:pt x="354" y="466"/>
                  </a:lnTo>
                  <a:lnTo>
                    <a:pt x="375" y="488"/>
                  </a:lnTo>
                  <a:lnTo>
                    <a:pt x="382" y="510"/>
                  </a:lnTo>
                  <a:lnTo>
                    <a:pt x="382" y="528"/>
                  </a:lnTo>
                  <a:lnTo>
                    <a:pt x="378" y="547"/>
                  </a:lnTo>
                  <a:lnTo>
                    <a:pt x="367" y="568"/>
                  </a:lnTo>
                  <a:lnTo>
                    <a:pt x="525" y="6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27320" y="5424120"/>
              <a:ext cx="277920" cy="1051200"/>
            </a:xfrm>
            <a:custGeom>
              <a:avLst/>
              <a:gdLst/>
              <a:ahLst/>
              <a:rect l="l" t="t" r="r" b="b"/>
              <a:pathLst>
                <a:path w="175" h="662">
                  <a:moveTo>
                    <a:pt x="0" y="34"/>
                  </a:moveTo>
                  <a:lnTo>
                    <a:pt x="22" y="47"/>
                  </a:lnTo>
                  <a:lnTo>
                    <a:pt x="35" y="63"/>
                  </a:lnTo>
                  <a:lnTo>
                    <a:pt x="41" y="84"/>
                  </a:lnTo>
                  <a:lnTo>
                    <a:pt x="51" y="202"/>
                  </a:lnTo>
                  <a:lnTo>
                    <a:pt x="78" y="229"/>
                  </a:lnTo>
                  <a:lnTo>
                    <a:pt x="126" y="662"/>
                  </a:lnTo>
                  <a:lnTo>
                    <a:pt x="175" y="633"/>
                  </a:lnTo>
                  <a:lnTo>
                    <a:pt x="132" y="209"/>
                  </a:lnTo>
                  <a:lnTo>
                    <a:pt x="146" y="169"/>
                  </a:lnTo>
                  <a:lnTo>
                    <a:pt x="132" y="54"/>
                  </a:lnTo>
                  <a:lnTo>
                    <a:pt x="121" y="27"/>
                  </a:lnTo>
                  <a:lnTo>
                    <a:pt x="106" y="12"/>
                  </a:lnTo>
                  <a:lnTo>
                    <a:pt x="7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27320" y="5424120"/>
              <a:ext cx="277920" cy="1051200"/>
            </a:xfrm>
            <a:custGeom>
              <a:avLst/>
              <a:gdLst/>
              <a:ahLst/>
              <a:rect l="l" t="t" r="r" b="b"/>
              <a:pathLst>
                <a:path w="175" h="662">
                  <a:moveTo>
                    <a:pt x="0" y="34"/>
                  </a:moveTo>
                  <a:lnTo>
                    <a:pt x="22" y="47"/>
                  </a:lnTo>
                  <a:lnTo>
                    <a:pt x="35" y="63"/>
                  </a:lnTo>
                  <a:lnTo>
                    <a:pt x="41" y="84"/>
                  </a:lnTo>
                  <a:lnTo>
                    <a:pt x="51" y="202"/>
                  </a:lnTo>
                  <a:lnTo>
                    <a:pt x="78" y="229"/>
                  </a:lnTo>
                  <a:lnTo>
                    <a:pt x="126" y="662"/>
                  </a:lnTo>
                  <a:lnTo>
                    <a:pt x="175" y="633"/>
                  </a:lnTo>
                  <a:lnTo>
                    <a:pt x="132" y="209"/>
                  </a:lnTo>
                  <a:lnTo>
                    <a:pt x="146" y="169"/>
                  </a:lnTo>
                  <a:lnTo>
                    <a:pt x="132" y="54"/>
                  </a:lnTo>
                  <a:lnTo>
                    <a:pt x="121" y="27"/>
                  </a:lnTo>
                  <a:lnTo>
                    <a:pt x="106" y="12"/>
                  </a:lnTo>
                  <a:lnTo>
                    <a:pt x="78" y="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34040" y="5286240"/>
              <a:ext cx="277560" cy="1012680"/>
            </a:xfrm>
            <a:custGeom>
              <a:avLst/>
              <a:gdLst/>
              <a:ahLst/>
              <a:rect l="l" t="t" r="r" b="b"/>
              <a:pathLst>
                <a:path w="175" h="638">
                  <a:moveTo>
                    <a:pt x="0" y="34"/>
                  </a:moveTo>
                  <a:lnTo>
                    <a:pt x="22" y="47"/>
                  </a:lnTo>
                  <a:lnTo>
                    <a:pt x="34" y="61"/>
                  </a:lnTo>
                  <a:lnTo>
                    <a:pt x="40" y="82"/>
                  </a:lnTo>
                  <a:lnTo>
                    <a:pt x="52" y="202"/>
                  </a:lnTo>
                  <a:lnTo>
                    <a:pt x="79" y="229"/>
                  </a:lnTo>
                  <a:lnTo>
                    <a:pt x="124" y="638"/>
                  </a:lnTo>
                  <a:lnTo>
                    <a:pt x="175" y="611"/>
                  </a:lnTo>
                  <a:lnTo>
                    <a:pt x="134" y="202"/>
                  </a:lnTo>
                  <a:lnTo>
                    <a:pt x="144" y="153"/>
                  </a:lnTo>
                  <a:lnTo>
                    <a:pt x="132" y="54"/>
                  </a:lnTo>
                  <a:lnTo>
                    <a:pt x="121" y="26"/>
                  </a:lnTo>
                  <a:lnTo>
                    <a:pt x="106" y="10"/>
                  </a:lnTo>
                  <a:lnTo>
                    <a:pt x="7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34040" y="5286240"/>
              <a:ext cx="277560" cy="1012680"/>
            </a:xfrm>
            <a:custGeom>
              <a:avLst/>
              <a:gdLst/>
              <a:ahLst/>
              <a:rect l="l" t="t" r="r" b="b"/>
              <a:pathLst>
                <a:path w="175" h="638">
                  <a:moveTo>
                    <a:pt x="0" y="34"/>
                  </a:moveTo>
                  <a:lnTo>
                    <a:pt x="22" y="47"/>
                  </a:lnTo>
                  <a:lnTo>
                    <a:pt x="34" y="61"/>
                  </a:lnTo>
                  <a:lnTo>
                    <a:pt x="40" y="82"/>
                  </a:lnTo>
                  <a:lnTo>
                    <a:pt x="52" y="202"/>
                  </a:lnTo>
                  <a:lnTo>
                    <a:pt x="79" y="229"/>
                  </a:lnTo>
                  <a:lnTo>
                    <a:pt x="124" y="638"/>
                  </a:lnTo>
                  <a:lnTo>
                    <a:pt x="175" y="611"/>
                  </a:lnTo>
                  <a:lnTo>
                    <a:pt x="134" y="202"/>
                  </a:lnTo>
                  <a:lnTo>
                    <a:pt x="144" y="153"/>
                  </a:lnTo>
                  <a:lnTo>
                    <a:pt x="132" y="54"/>
                  </a:lnTo>
                  <a:lnTo>
                    <a:pt x="121" y="26"/>
                  </a:lnTo>
                  <a:lnTo>
                    <a:pt x="106" y="10"/>
                  </a:lnTo>
                  <a:lnTo>
                    <a:pt x="79" y="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6480" y="5141520"/>
              <a:ext cx="272880" cy="970200"/>
            </a:xfrm>
            <a:custGeom>
              <a:avLst/>
              <a:gdLst/>
              <a:ahLst/>
              <a:rect l="l" t="t" r="r" b="b"/>
              <a:pathLst>
                <a:path w="172" h="611">
                  <a:moveTo>
                    <a:pt x="0" y="34"/>
                  </a:moveTo>
                  <a:lnTo>
                    <a:pt x="23" y="47"/>
                  </a:lnTo>
                  <a:lnTo>
                    <a:pt x="36" y="62"/>
                  </a:lnTo>
                  <a:lnTo>
                    <a:pt x="40" y="84"/>
                  </a:lnTo>
                  <a:lnTo>
                    <a:pt x="52" y="185"/>
                  </a:lnTo>
                  <a:lnTo>
                    <a:pt x="77" y="218"/>
                  </a:lnTo>
                  <a:lnTo>
                    <a:pt x="120" y="611"/>
                  </a:lnTo>
                  <a:lnTo>
                    <a:pt x="172" y="583"/>
                  </a:lnTo>
                  <a:lnTo>
                    <a:pt x="131" y="192"/>
                  </a:lnTo>
                  <a:lnTo>
                    <a:pt x="144" y="143"/>
                  </a:lnTo>
                  <a:lnTo>
                    <a:pt x="133" y="54"/>
                  </a:lnTo>
                  <a:lnTo>
                    <a:pt x="121" y="27"/>
                  </a:lnTo>
                  <a:lnTo>
                    <a:pt x="107" y="10"/>
                  </a:lnTo>
                  <a:lnTo>
                    <a:pt x="7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86480" y="5141520"/>
              <a:ext cx="272880" cy="970200"/>
            </a:xfrm>
            <a:custGeom>
              <a:avLst/>
              <a:gdLst/>
              <a:ahLst/>
              <a:rect l="l" t="t" r="r" b="b"/>
              <a:pathLst>
                <a:path w="172" h="611">
                  <a:moveTo>
                    <a:pt x="0" y="34"/>
                  </a:moveTo>
                  <a:lnTo>
                    <a:pt x="23" y="47"/>
                  </a:lnTo>
                  <a:lnTo>
                    <a:pt x="36" y="62"/>
                  </a:lnTo>
                  <a:lnTo>
                    <a:pt x="40" y="84"/>
                  </a:lnTo>
                  <a:lnTo>
                    <a:pt x="52" y="185"/>
                  </a:lnTo>
                  <a:lnTo>
                    <a:pt x="77" y="218"/>
                  </a:lnTo>
                  <a:lnTo>
                    <a:pt x="120" y="611"/>
                  </a:lnTo>
                  <a:lnTo>
                    <a:pt x="172" y="583"/>
                  </a:lnTo>
                  <a:lnTo>
                    <a:pt x="131" y="192"/>
                  </a:lnTo>
                  <a:lnTo>
                    <a:pt x="144" y="143"/>
                  </a:lnTo>
                  <a:lnTo>
                    <a:pt x="133" y="54"/>
                  </a:lnTo>
                  <a:lnTo>
                    <a:pt x="121" y="27"/>
                  </a:lnTo>
                  <a:lnTo>
                    <a:pt x="107" y="10"/>
                  </a:lnTo>
                  <a:lnTo>
                    <a:pt x="79" y="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05440" y="5001840"/>
              <a:ext cx="263520" cy="939960"/>
            </a:xfrm>
            <a:custGeom>
              <a:avLst/>
              <a:gdLst/>
              <a:ahLst/>
              <a:rect l="l" t="t" r="r" b="b"/>
              <a:pathLst>
                <a:path w="166" h="592">
                  <a:moveTo>
                    <a:pt x="0" y="34"/>
                  </a:moveTo>
                  <a:lnTo>
                    <a:pt x="23" y="47"/>
                  </a:lnTo>
                  <a:lnTo>
                    <a:pt x="34" y="63"/>
                  </a:lnTo>
                  <a:lnTo>
                    <a:pt x="40" y="84"/>
                  </a:lnTo>
                  <a:lnTo>
                    <a:pt x="47" y="176"/>
                  </a:lnTo>
                  <a:lnTo>
                    <a:pt x="75" y="215"/>
                  </a:lnTo>
                  <a:lnTo>
                    <a:pt x="121" y="592"/>
                  </a:lnTo>
                  <a:lnTo>
                    <a:pt x="166" y="564"/>
                  </a:lnTo>
                  <a:lnTo>
                    <a:pt x="132" y="190"/>
                  </a:lnTo>
                  <a:lnTo>
                    <a:pt x="142" y="136"/>
                  </a:lnTo>
                  <a:lnTo>
                    <a:pt x="132" y="55"/>
                  </a:lnTo>
                  <a:lnTo>
                    <a:pt x="121" y="27"/>
                  </a:lnTo>
                  <a:lnTo>
                    <a:pt x="105" y="12"/>
                  </a:lnTo>
                  <a:lnTo>
                    <a:pt x="7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05440" y="5001840"/>
              <a:ext cx="263520" cy="939960"/>
            </a:xfrm>
            <a:custGeom>
              <a:avLst/>
              <a:gdLst/>
              <a:ahLst/>
              <a:rect l="l" t="t" r="r" b="b"/>
              <a:pathLst>
                <a:path w="166" h="592">
                  <a:moveTo>
                    <a:pt x="0" y="34"/>
                  </a:moveTo>
                  <a:lnTo>
                    <a:pt x="23" y="47"/>
                  </a:lnTo>
                  <a:lnTo>
                    <a:pt x="34" y="63"/>
                  </a:lnTo>
                  <a:lnTo>
                    <a:pt x="40" y="84"/>
                  </a:lnTo>
                  <a:lnTo>
                    <a:pt x="47" y="176"/>
                  </a:lnTo>
                  <a:lnTo>
                    <a:pt x="75" y="215"/>
                  </a:lnTo>
                  <a:lnTo>
                    <a:pt x="121" y="592"/>
                  </a:lnTo>
                  <a:lnTo>
                    <a:pt x="166" y="564"/>
                  </a:lnTo>
                  <a:lnTo>
                    <a:pt x="132" y="190"/>
                  </a:lnTo>
                  <a:lnTo>
                    <a:pt x="142" y="136"/>
                  </a:lnTo>
                  <a:lnTo>
                    <a:pt x="132" y="55"/>
                  </a:lnTo>
                  <a:lnTo>
                    <a:pt x="121" y="27"/>
                  </a:lnTo>
                  <a:lnTo>
                    <a:pt x="105" y="12"/>
                  </a:lnTo>
                  <a:lnTo>
                    <a:pt x="79" y="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0880" y="4867200"/>
              <a:ext cx="243000" cy="896760"/>
            </a:xfrm>
            <a:custGeom>
              <a:avLst/>
              <a:gdLst/>
              <a:ahLst/>
              <a:rect l="l" t="t" r="r" b="b"/>
              <a:pathLst>
                <a:path w="153" h="565">
                  <a:moveTo>
                    <a:pt x="0" y="34"/>
                  </a:moveTo>
                  <a:lnTo>
                    <a:pt x="22" y="47"/>
                  </a:lnTo>
                  <a:lnTo>
                    <a:pt x="34" y="63"/>
                  </a:lnTo>
                  <a:lnTo>
                    <a:pt x="40" y="84"/>
                  </a:lnTo>
                  <a:lnTo>
                    <a:pt x="50" y="169"/>
                  </a:lnTo>
                  <a:lnTo>
                    <a:pt x="70" y="207"/>
                  </a:lnTo>
                  <a:lnTo>
                    <a:pt x="111" y="565"/>
                  </a:lnTo>
                  <a:lnTo>
                    <a:pt x="153" y="545"/>
                  </a:lnTo>
                  <a:lnTo>
                    <a:pt x="131" y="181"/>
                  </a:lnTo>
                  <a:lnTo>
                    <a:pt x="140" y="132"/>
                  </a:lnTo>
                  <a:lnTo>
                    <a:pt x="132" y="54"/>
                  </a:lnTo>
                  <a:lnTo>
                    <a:pt x="120" y="27"/>
                  </a:lnTo>
                  <a:lnTo>
                    <a:pt x="106" y="12"/>
                  </a:lnTo>
                  <a:lnTo>
                    <a:pt x="7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30880" y="4867200"/>
              <a:ext cx="243000" cy="896760"/>
            </a:xfrm>
            <a:custGeom>
              <a:avLst/>
              <a:gdLst/>
              <a:ahLst/>
              <a:rect l="l" t="t" r="r" b="b"/>
              <a:pathLst>
                <a:path w="153" h="565">
                  <a:moveTo>
                    <a:pt x="0" y="34"/>
                  </a:moveTo>
                  <a:lnTo>
                    <a:pt x="22" y="47"/>
                  </a:lnTo>
                  <a:lnTo>
                    <a:pt x="34" y="63"/>
                  </a:lnTo>
                  <a:lnTo>
                    <a:pt x="40" y="84"/>
                  </a:lnTo>
                  <a:lnTo>
                    <a:pt x="50" y="169"/>
                  </a:lnTo>
                  <a:lnTo>
                    <a:pt x="70" y="207"/>
                  </a:lnTo>
                  <a:lnTo>
                    <a:pt x="111" y="565"/>
                  </a:lnTo>
                  <a:lnTo>
                    <a:pt x="153" y="545"/>
                  </a:lnTo>
                  <a:lnTo>
                    <a:pt x="131" y="181"/>
                  </a:lnTo>
                  <a:lnTo>
                    <a:pt x="140" y="132"/>
                  </a:lnTo>
                  <a:lnTo>
                    <a:pt x="132" y="54"/>
                  </a:lnTo>
                  <a:lnTo>
                    <a:pt x="120" y="27"/>
                  </a:lnTo>
                  <a:lnTo>
                    <a:pt x="106" y="12"/>
                  </a:lnTo>
                  <a:lnTo>
                    <a:pt x="78" y="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19600" y="4741560"/>
              <a:ext cx="252720" cy="855720"/>
            </a:xfrm>
            <a:custGeom>
              <a:avLst/>
              <a:gdLst/>
              <a:ahLst/>
              <a:rect l="l" t="t" r="r" b="b"/>
              <a:pathLst>
                <a:path w="159" h="539">
                  <a:moveTo>
                    <a:pt x="0" y="35"/>
                  </a:moveTo>
                  <a:lnTo>
                    <a:pt x="22" y="48"/>
                  </a:lnTo>
                  <a:lnTo>
                    <a:pt x="35" y="63"/>
                  </a:lnTo>
                  <a:lnTo>
                    <a:pt x="41" y="84"/>
                  </a:lnTo>
                  <a:lnTo>
                    <a:pt x="50" y="169"/>
                  </a:lnTo>
                  <a:lnTo>
                    <a:pt x="75" y="201"/>
                  </a:lnTo>
                  <a:lnTo>
                    <a:pt x="122" y="539"/>
                  </a:lnTo>
                  <a:lnTo>
                    <a:pt x="159" y="518"/>
                  </a:lnTo>
                  <a:lnTo>
                    <a:pt x="131" y="177"/>
                  </a:lnTo>
                  <a:lnTo>
                    <a:pt x="139" y="130"/>
                  </a:lnTo>
                  <a:lnTo>
                    <a:pt x="133" y="54"/>
                  </a:lnTo>
                  <a:lnTo>
                    <a:pt x="121" y="27"/>
                  </a:lnTo>
                  <a:lnTo>
                    <a:pt x="106" y="12"/>
                  </a:lnTo>
                  <a:lnTo>
                    <a:pt x="79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19600" y="4741560"/>
              <a:ext cx="252720" cy="855720"/>
            </a:xfrm>
            <a:custGeom>
              <a:avLst/>
              <a:gdLst/>
              <a:ahLst/>
              <a:rect l="l" t="t" r="r" b="b"/>
              <a:pathLst>
                <a:path w="159" h="539">
                  <a:moveTo>
                    <a:pt x="0" y="35"/>
                  </a:moveTo>
                  <a:lnTo>
                    <a:pt x="22" y="48"/>
                  </a:lnTo>
                  <a:lnTo>
                    <a:pt x="35" y="63"/>
                  </a:lnTo>
                  <a:lnTo>
                    <a:pt x="41" y="84"/>
                  </a:lnTo>
                  <a:lnTo>
                    <a:pt x="50" y="169"/>
                  </a:lnTo>
                  <a:lnTo>
                    <a:pt x="75" y="201"/>
                  </a:lnTo>
                  <a:lnTo>
                    <a:pt x="122" y="539"/>
                  </a:lnTo>
                  <a:lnTo>
                    <a:pt x="159" y="518"/>
                  </a:lnTo>
                  <a:lnTo>
                    <a:pt x="131" y="177"/>
                  </a:lnTo>
                  <a:lnTo>
                    <a:pt x="139" y="130"/>
                  </a:lnTo>
                  <a:lnTo>
                    <a:pt x="133" y="54"/>
                  </a:lnTo>
                  <a:lnTo>
                    <a:pt x="121" y="27"/>
                  </a:lnTo>
                  <a:lnTo>
                    <a:pt x="106" y="12"/>
                  </a:lnTo>
                  <a:lnTo>
                    <a:pt x="79" y="0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ROM - Tipos (IV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2286000"/>
            <a:ext cx="5410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- FLASH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Não é propriamente uma memória ROM, pois seu conteúdo pode ser alterado. Sua semelhança com uma ROM é que a mesma mantém seu conteúdo mesmo com o equipamento deslig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utilizada em Modems e Placas de Rede, para armazenar sua configuração e ainda em câmeras fotográficas digitais, para armazenar as fot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chip2" descr=""/>
          <p:cNvPicPr/>
          <p:nvPr/>
        </p:nvPicPr>
        <p:blipFill>
          <a:blip r:embed="rId1"/>
          <a:stretch/>
        </p:blipFill>
        <p:spPr>
          <a:xfrm>
            <a:off x="5486400" y="2971800"/>
            <a:ext cx="3352680" cy="216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voláti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575080"/>
            <a:ext cx="8153640" cy="35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também chamada d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A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Random Access Memor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Memória de Acesso Aleató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se nome vem do fato que qualquer endereço da memória pode ser acessado direta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tempo de acesso é um fator importante das memórias RAM. É o tempo que se leva para encontrar um dado na memória. É medido em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nano-segundo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s tempos de acesso mais comuns são 70ns e 60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RAM  Estátic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86456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RAM - Static RA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Os dados só se perdem quando a alimentação da memória é reti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r isso não requerem nenhum circuito adicional de contro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ualmente são extremamente rápidas, mas muito caras. Custo atual (Dez. 97): US$ 150 1MBy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s RAM Dinâmica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86456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RAM - Dinamic RA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Tem a característica de perderem seus dados mesmo ligada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a evitar isso, elas precisam de um circuito auxiliar chamado de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Refresh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cuja função é manter esses dados na memória. O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Refresh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é transparente para o usuário do computad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ão mais lentas que as SRAM mas mesmo com o circuito de refresh são muito mais bara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usto atual (Março 98): US$ 40 32MBy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RAM Dinâmica - Tip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88240" cy="390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ast Page Mode (FPM DRAM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Tipo mais comum e não mais fabricado. É a RAM convenc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xtended Data Out (EDO DRAM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Substitui a FPM RAM, sendo 10% mais rápida que a FPRAM com o mesmo tempo de acesso. Os ciclos de leitura são menores, propiciando um acesso mais ráp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yncronous DRAM (SDRAM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Substituto da EDO DRAM, com ciclos ainda menores de escrita e leitura. Chegam a ser 100% mais rápidas que as FPM DRAM. Seu tempo de acesso é de 10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Ciclos de Memória (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09316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acesso à memória leva alguns ciclos de clock para ser execu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a FPM DRAM, esses ciclos são tipicamente 7-3-3-3, ou seja, o primeiro acesso leva 7 ciclos de clock e os três seguintes levam 3 ciclos cada 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 um Pentium 200, o ciclo mede cerca de 15ns e o grupo de 4 leituras levará 240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Entrad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responsável pela entrada de dados pelo usuário. Compreende os periféricos de entrad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514600" cy="101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2590920" cy="1731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324480" y="4267080"/>
            <a:ext cx="2210040" cy="1954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352680" y="3962520"/>
            <a:ext cx="3063960" cy="2093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Tec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M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Scanner (m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1722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Mesa digitalizad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Ciclos de Memória (I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86456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memória EDO DRAM tem ciclo de 7-2-2-2 ou mesmo 6-2-2-2. Assim, o tempo total será de 180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SDRAM tem ciclo de 6-1-1-1 ou 5-1-1-1, o que resulta num tempo total de 120ns, 100% mais rápida que a FPM D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tipo de memória que pode ser utilizado em um computador depende da placa mãe (mother board) utiliz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Cach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ois tipos d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er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ter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che Interno: fica na própria CPU. Tamanho: 32K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che Externo: fica na placa mãe (Motherboard). Tamanho: entre 256KB e 1MB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chip3" descr=""/>
          <p:cNvPicPr/>
          <p:nvPr/>
        </p:nvPicPr>
        <p:blipFill>
          <a:blip r:embed="rId1"/>
          <a:stretch/>
        </p:blipFill>
        <p:spPr>
          <a:xfrm>
            <a:off x="5715000" y="3200400"/>
            <a:ext cx="2895480" cy="2249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Cache - Fun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016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o a DRAM é muito lenta, seu conteúdo é copiado para o cache exter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CPU copia o conteúdo do cache externo para o interno e executa-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cache é utilizado para aumentar a velocidade de processamento de progra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m sempre os dados transferidos para o cache são utilizados. Isso é chamado de Erro de Cach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Unidades de armazenament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016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célula de memória é um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ircuito eletrônic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que pode estar ligado (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 ou desligado (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rtanto, cada célula de memória pode armazenar um b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 memórias são organizadas em grupos de 8 células, sendo capaz de armazenar um by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sim, 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yt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e seus múltiplos) é a unidade de armazenamento de memó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Organização da Memóri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CPU de PC pode operar em dois modos básicos: 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o Re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 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o Protegid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modo real é compatível com o antigo PC-XT e é capaz de manipular endereços de 20 bits (A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té A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Arial"/>
              </a:rPr>
              <a:t>19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limite de memória é de apenas 1 Mby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modo protegido é capaz de enxergar toda a memória instalada no sistema (~32TByt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m esse nome porque cada programa ocupa uma área de memória protegida de uso por outros progra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odo Real de Oper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119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memória é segmentada: o limite de 1 Mbyte foi dividido em 16 segmentos de 64 Kbytes cada, para manter compatibilidade com sistemas mais an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0 segmentos (640 Kbytes) foram reservados como RAM para programas e 6 segmentos (384 Kbytes) para uso do sistema (ROM, vídeo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odo Real - Endereçamento (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69600" y="2575080"/>
            <a:ext cx="763596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 endereço no modo real é escrito como dois grupos de 16 bi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52240" y="525708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SEG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35320" y="525708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DESLOC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3962520"/>
            <a:ext cx="1981080" cy="914400"/>
          </a:xfrm>
          <a:prstGeom prst="wedgeRoundRectCallout">
            <a:avLst>
              <a:gd name="adj1" fmla="val -28685"/>
              <a:gd name="adj2" fmla="val 77606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3962520"/>
            <a:ext cx="1981080" cy="914400"/>
          </a:xfrm>
          <a:prstGeom prst="wedgeRoundRectCallout">
            <a:avLst>
              <a:gd name="adj1" fmla="val 27722"/>
              <a:gd name="adj2" fmla="val 84550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96920" y="3961800"/>
            <a:ext cx="199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AB45 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05080" y="39618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34A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odo Real - Endereçamento (I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69960" y="2575080"/>
            <a:ext cx="7788240" cy="16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a converter esses dois grupos de 16 bits em um endereço linear de 20 bits fazemos o segui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 - Multiplicamos o Segmento por 1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 - Somamos com o Desloc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3200" y="51048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341:B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4343400"/>
            <a:ext cx="609480" cy="2057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90200" y="4388760"/>
            <a:ext cx="33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341 * 16   =   A34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5760" y="4799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4680" y="518076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B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1480" y="571500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84760" y="576036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E5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odo Real - Endereçamento (III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119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a evitar ambigüidade nos endereços, convencionou-se a escrever os segmentos da seguinte forma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0000, 1000, 2000, ... F000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deslocamento pode ter qualquer valor. Esse tipo de forma de escrever o endereço chama-s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orma Normalizad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r exemplo: C000:12AD, que resulta em um endereço de 20 bits da seguinte forma: C12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ais Memória no Modo Rea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 CPUs posteriores ao PC XT podiam endereçar mais de 20 b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 alguns pequenos truques, essas CPUs podiam ter o seguinte endereço no modo re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0000: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só necessário ter mais um bit, 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a isso, o modo real precisa de um programa que habilite esse bit. Esse programa chama-s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HIMEM.SY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 proporciona mais um segmento acima de 1 MB, denominad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mória Alt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High Memo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Saíd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15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responsável pela saída de dados. Compreende os periféricos de saíd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057400" cy="1922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1876320" cy="1904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105520" y="2438280"/>
            <a:ext cx="1828800" cy="1316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715000" y="4419720"/>
            <a:ext cx="3124080" cy="1303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2971800" y="4191120"/>
            <a:ext cx="2286000" cy="1850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35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Impressora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5791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Impressora matr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657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Impr. Jato de Ti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Plo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Expandid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2574720"/>
            <a:ext cx="83059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 o aparecimento das planilhas eletrônicas na época do PC-XT, houve uma necessidade de mais memória para armazenar planilhas mai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sim, a Lotus, Intel e Microsoft criaram um padrão para implementar placas qu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xpandia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 memória do PC-XT. Essas placas eram instaladas no micro e um programa controlava o acesso a essa memória, usando um segmento disponível na memória abaixo de 1 MByte (chamada d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vencion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. Era o padrã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I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Estendid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 CPUs 386 e posteriores podiam enxergar toda a memória instalada em um computad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a que os programas pudessem utilizar essa memória, bastava o HIMEM.SYS instal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sa memória chama-s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endid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Expandida e Estendid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possível simular uma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mória expandid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EMS) em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mória estendid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X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sta utilizar o programa chamado EMM386.EX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te programa também permite usar pequenos blocos de memória acima de 640 Kbytes (chamada d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mória Superio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 que não estão sendo usados pelo sistema, para utilização por progra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- Resum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86456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mória Convencional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os primeiros 640 Kby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moria Superior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e 640 Kbytes até 1 Mby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mória Alta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rimeiro bloco de 64 Kbytes acima de 1 Mby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mória Estendida (XMS)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oda memória acima de 1 Mby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mória Expandida (EMS)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lacas adicionadas ao PC-XT. A memória estendida simula a expa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- Conclus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86456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modo real é utilizado pelo sistema operacional MS-DOS e é muito limi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partida (boot) deve ser feita em modo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Windows 95 trabalha no modo protegido mas é inicializado no modo real (caractere). Apenas  o modo gráfico usa o modo proteg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 Auxiliar ou Secundári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940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reendem os discos e fitas magnét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dem ser fixas ou removíve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ão geralmente mais lentas que a memória princip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uem capacidade de armazenamento muito maior que a memória princip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perde seu conteúdo quando o computador é desli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Discos Magnéticos Flexíveis  (Disquetes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69600" y="2575080"/>
            <a:ext cx="794052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ixa capacidade e  l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o componente mais desatualizado dos comput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1550880" cy="1600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066680" y="5561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sco 5 1/4” - 180K, 360K e 1.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52880" y="5561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sco 3 1/2” - 720K e 1.44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Discos Rígidos (Winchester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2767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ta capacidade de armazenamento (tipicamente 6 Gbyt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ta veloc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erface: IDE (Integrated Device Eletronic) e SCSI (Small Coputer System Interfac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hd4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2035080" cy="3200400"/>
          </a:xfrm>
          <a:prstGeom prst="rect">
            <a:avLst/>
          </a:prstGeom>
          <a:ln w="0">
            <a:noFill/>
          </a:ln>
        </p:spPr>
      </p:pic>
      <p:pic>
        <p:nvPicPr>
          <p:cNvPr id="366" name="hd3" descr=""/>
          <p:cNvPicPr/>
          <p:nvPr/>
        </p:nvPicPr>
        <p:blipFill>
          <a:blip r:embed="rId2"/>
          <a:stretch/>
        </p:blipFill>
        <p:spPr>
          <a:xfrm>
            <a:off x="4191120" y="4419720"/>
            <a:ext cx="4201920" cy="2030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Fitas Magnética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69960" y="2575080"/>
            <a:ext cx="816912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ta capac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uito len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o mais comum: cópias de segurança (backu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tape1" descr=""/>
          <p:cNvPicPr/>
          <p:nvPr/>
        </p:nvPicPr>
        <p:blipFill>
          <a:blip r:embed="rId1"/>
          <a:stretch/>
        </p:blipFill>
        <p:spPr>
          <a:xfrm>
            <a:off x="2895480" y="4114800"/>
            <a:ext cx="3276720" cy="2166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Discos Óptic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édia a alta capac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dem ser graváveis (CDR), regraváveis (CDRW)  ou somente leiura (CDRO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VD: Novo padrão de altíssima capacidade (Gbytes), capaz de armazenar vídeo, som e progra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cdrom1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895840" cy="15861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867280" y="3581280"/>
            <a:ext cx="2530440" cy="2490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Processament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a parte responsável pelos cálculos e tarefas executadas pelo computador. É também chamado de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Unidade Central de Processament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ou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CP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em inglês,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entral Processing Uni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1927080" cy="3382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410080" y="57150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CPU tipo Tor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ídias Removívei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329256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Zip: Disco magnético de 3 1/2” com 100 Mbytes de capac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Jaz: Disco magneto-óptico com 2 Gbytes de capac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zip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2200320" cy="2286000"/>
          </a:xfrm>
          <a:prstGeom prst="rect">
            <a:avLst/>
          </a:prstGeom>
          <a:ln w="0">
            <a:noFill/>
          </a:ln>
        </p:spPr>
      </p:pic>
      <p:pic>
        <p:nvPicPr>
          <p:cNvPr id="377" name="jaz2gbdrive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2438640" cy="215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Bibliografi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0261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te Microsoft 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www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.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Arial"/>
                <a:hlinkClick r:id="rId3"/>
              </a:rPr>
              <a:t>microsoft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Arial"/>
                <a:hlinkClick r:id="rId4"/>
              </a:rPr>
              <a:t>.co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te IOMega 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Arial"/>
                <a:hlinkClick r:id="rId5"/>
              </a:rPr>
              <a:t>www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Arial"/>
                <a:hlinkClick r:id="rId6"/>
              </a:rPr>
              <a:t>.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Arial"/>
                <a:hlinkClick r:id="rId7"/>
              </a:rPr>
              <a:t>iomega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Arial"/>
                <a:hlinkClick r:id="rId8"/>
              </a:rPr>
              <a:t>.co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vista PC Word nº 68, fevereiro de 199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svendando Periféricos e Extensões. - Peter Norton. Ed. Camp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nual de Configuração do PC. John Woram.  Ed, Berkel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.O.S. Sistema Rápido de Pesquida Informática. Publifolha e Quark Edit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Memóri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sponsável pelo armazenamento de dados e programas. É controlada pela CP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chip3" descr=""/>
          <p:cNvPicPr/>
          <p:nvPr/>
        </p:nvPicPr>
        <p:blipFill>
          <a:blip r:embed="rId1"/>
          <a:stretch/>
        </p:blipFill>
        <p:spPr>
          <a:xfrm>
            <a:off x="4648320" y="4800600"/>
            <a:ext cx="3809880" cy="1519200"/>
          </a:xfrm>
          <a:prstGeom prst="rect">
            <a:avLst/>
          </a:prstGeom>
          <a:ln w="0">
            <a:noFill/>
          </a:ln>
        </p:spPr>
      </p:pic>
      <p:pic>
        <p:nvPicPr>
          <p:cNvPr id="158" name="chip5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2666880" cy="1982880"/>
          </a:xfrm>
          <a:prstGeom prst="rect">
            <a:avLst/>
          </a:prstGeom>
          <a:ln w="0">
            <a:noFill/>
          </a:ln>
        </p:spPr>
      </p:pic>
      <p:pic>
        <p:nvPicPr>
          <p:cNvPr id="159" name="chip1" descr=""/>
          <p:cNvPicPr/>
          <p:nvPr/>
        </p:nvPicPr>
        <p:blipFill>
          <a:blip r:embed="rId3"/>
          <a:stretch/>
        </p:blipFill>
        <p:spPr>
          <a:xfrm>
            <a:off x="6629400" y="1752480"/>
            <a:ext cx="955800" cy="243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Unidade Central de Processamento - CPU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69600" y="2575080"/>
            <a:ext cx="7559640" cy="32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CPU é composta p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Unidade Lógica e Aritmética (ULA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responsável pelas contas e comparaçõ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Registradore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armazenam os dados durante as operaçõ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ontrol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leitura e escrita dos dados na memória / registradores e demais ações da CP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2971800"/>
            <a:ext cx="1905120" cy="3048120"/>
          </a:xfrm>
          <a:prstGeom prst="leftRightArrow">
            <a:avLst>
              <a:gd name="adj1" fmla="val 55935"/>
              <a:gd name="adj2" fmla="val 32829"/>
            </a:avLst>
          </a:prstGeom>
          <a:gradFill rotWithShape="0">
            <a:gsLst>
              <a:gs pos="0">
                <a:srgbClr val="d6009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 Narrow"/>
              </a:rPr>
              <a:t>Arquitetura da CPU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819520"/>
            <a:ext cx="4343400" cy="3276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339933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2971800"/>
            <a:ext cx="2362320" cy="13716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572000"/>
            <a:ext cx="2362320" cy="13716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3429000"/>
            <a:ext cx="761760" cy="2438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2971800"/>
            <a:ext cx="1905120" cy="3048120"/>
          </a:xfrm>
          <a:prstGeom prst="leftRightArrow">
            <a:avLst>
              <a:gd name="adj1" fmla="val 55935"/>
              <a:gd name="adj2" fmla="val 32829"/>
            </a:avLst>
          </a:prstGeom>
          <a:gradFill rotWithShape="0">
            <a:gsLst>
              <a:gs pos="0">
                <a:srgbClr val="d6009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19040" y="24372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0" y="3428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3880" y="495216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Registr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85480" y="4004640"/>
            <a:ext cx="60696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Contr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403704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BUS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3884400"/>
            <a:ext cx="135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BUS ENDE-REÇ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800240" y="37339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80024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943600" y="2209320"/>
            <a:ext cx="0" cy="121932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5T12:20:32Z</dcterms:created>
  <dc:creator>Reinaldo Madarazo</dc:creator>
  <dc:description/>
  <dc:language>en-US</dc:language>
  <cp:lastModifiedBy>Reinaldo Madarazo</cp:lastModifiedBy>
  <dcterms:modified xsi:type="dcterms:W3CDTF">1998-04-21T15:11:01Z</dcterms:modified>
  <cp:revision>135</cp:revision>
  <dc:subject/>
  <dc:title>Fundamentos de Hardware</dc:title>
</cp:coreProperties>
</file>