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A1CD-DABD-4870-80D2-322BF9482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185F-683C-4356-8560-FD86DA1C4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0FB8-0C8F-4AAE-A6B9-08D17ECF1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2D9F-1758-4B74-BE65-30C5624CF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5E78C-5E03-4C72-AD66-E1E617515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9C478-9023-40CE-9196-CEB59934D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46FF3-7F23-4192-A6DE-E4CD1EAD5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8AEE5-BB32-4C41-B2CC-97584C9E4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EDB4A-1B6B-42A6-8E5C-F68EA8BB9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97627-1B88-4B20-8293-DED76121D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D3CFF-558A-461A-915C-F32EEFD05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A86E-2191-43BE-9E02-065E87E5D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805EF-493A-4089-81E2-69024551B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D2D1C-7624-48A5-9F99-957E2D5A0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996E9-2FAA-484B-9F79-8957DE511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B53F7-E220-40F6-8F0E-9B2A5DB58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6A5B5-61AE-42E2-9575-56B152389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201F-74C8-47C6-B708-36B4AD842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3CA8-1E52-490E-87BC-ABEF9DBB6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E937-561E-412F-A731-D5280721E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0A89-3534-45CD-AA40-4F8083D60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E089-51D9-4120-8CF0-DE1AB0B5D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3557-08B1-428F-92E9-A610FC7DB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88C1-37FB-4834-874D-0C4EED0C1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33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28160" cy="6858000"/>
            <a:chOff x="0" y="0"/>
            <a:chExt cx="912816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444680" cy="6858000"/>
            </a:xfrm>
            <a:prstGeom prst="rect">
              <a:avLst/>
            </a:prstGeom>
            <a:gradFill rotWithShape="0">
              <a:gsLst>
                <a:gs pos="0">
                  <a:srgbClr val="336600"/>
                </a:gs>
                <a:gs pos="100000">
                  <a:srgbClr val="9966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04800" y="1409760"/>
              <a:ext cx="8523360" cy="76320"/>
              <a:chOff x="604800" y="1409760"/>
              <a:chExt cx="8523360" cy="76320"/>
            </a:xfrm>
          </p:grpSpPr>
          <p:sp>
            <p:nvSpPr>
              <p:cNvPr id="3" name=""/>
              <p:cNvSpPr/>
              <p:nvPr/>
            </p:nvSpPr>
            <p:spPr>
              <a:xfrm>
                <a:off x="604800" y="1486080"/>
                <a:ext cx="8523360" cy="0"/>
              </a:xfrm>
              <a:prstGeom prst="line">
                <a:avLst/>
              </a:prstGeom>
              <a:ln w="2556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604800" y="1409760"/>
                <a:ext cx="8523360" cy="0"/>
              </a:xfrm>
              <a:prstGeom prst="line">
                <a:avLst/>
              </a:prstGeom>
              <a:ln w="7632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1143000" y="1790640"/>
            <a:ext cx="77724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09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74D1F-E1B8-46C3-8390-E5B532EC2F4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33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9142560" cy="6858000"/>
            <a:chOff x="0" y="0"/>
            <a:chExt cx="9142560" cy="685800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1444680" cy="6858000"/>
            </a:xfrm>
            <a:prstGeom prst="rect">
              <a:avLst/>
            </a:prstGeom>
            <a:gradFill rotWithShape="0">
              <a:gsLst>
                <a:gs pos="0">
                  <a:srgbClr val="336600"/>
                </a:gs>
                <a:gs pos="100000">
                  <a:srgbClr val="9966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8" name=""/>
            <p:cNvGrpSpPr/>
            <p:nvPr/>
          </p:nvGrpSpPr>
          <p:grpSpPr>
            <a:xfrm>
              <a:off x="604800" y="3619440"/>
              <a:ext cx="8523360" cy="76320"/>
              <a:chOff x="604800" y="3619440"/>
              <a:chExt cx="8523360" cy="76320"/>
            </a:xfrm>
          </p:grpSpPr>
          <p:sp>
            <p:nvSpPr>
              <p:cNvPr id="49" name=""/>
              <p:cNvSpPr/>
              <p:nvPr/>
            </p:nvSpPr>
            <p:spPr>
              <a:xfrm>
                <a:off x="604800" y="3695760"/>
                <a:ext cx="8523360" cy="0"/>
              </a:xfrm>
              <a:prstGeom prst="line">
                <a:avLst/>
              </a:prstGeom>
              <a:ln w="2556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04800" y="3619440"/>
                <a:ext cx="8523360" cy="0"/>
              </a:xfrm>
              <a:prstGeom prst="line">
                <a:avLst/>
              </a:prstGeom>
              <a:ln w="7632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609480" y="1523880"/>
              <a:ext cx="8533080" cy="60984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9966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0603F-63E7-456E-8BD3-151658DD4CA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SzPct val="75000"/>
              <a:buFont typeface="Monotype Sorts" charset="2"/>
              <a:buChar char="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33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33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cc66"/>
                </a:solidFill>
                <a:latin typeface="Times New Roman"/>
              </a:rPr>
              <a:t>Orientação a Objetos</a:t>
            </a:r>
            <a:endParaRPr b="0" lang="en-US" sz="6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ma introdução à OOP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33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33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Objeto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43000" y="1790640"/>
            <a:ext cx="77724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Mensagens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É a maneira pela qual um objeto se comunica com outros. Quando um programa OO é executado, os objetos estão  recebendo, interpretando e respondendo mensagen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3022560" y="4238640"/>
          <a:ext cx="3651120" cy="223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22560" y="4238640"/>
                    <a:ext cx="3651120" cy="22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33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33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Objeto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43000" y="1485720"/>
            <a:ext cx="7772400" cy="468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ravés de uma mensagem podemos indicar o que desejamos que o objeto faça. No método, se indica como o objeto realizará o desejado, não se preocupando com detalhes internos de como o objeto fará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m objeto se comporta como uma Caixa Preta, onde sabemos o que faz mas não sabemos com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33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33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Objeto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3000" y="1790640"/>
            <a:ext cx="77724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Encapsulament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Não podemos acessar os dados de um objeto diretamen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Para acessar suas variáveis de instância, devemos fazer através de métod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Não precisamos saber como as variáveis de instância são armazenadas para poder utilizá-l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33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33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olimorfismo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1790640"/>
            <a:ext cx="77724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 Polimorfismo ocorre quando uma mesma mensagem chegando a objetos diferentes provoca respostas diferent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817640" y="3595680"/>
            <a:ext cx="6545160" cy="2855880"/>
            <a:chOff x="1817640" y="3595680"/>
            <a:chExt cx="6545160" cy="2855880"/>
          </a:xfrm>
        </p:grpSpPr>
        <p:graphicFrame>
          <p:nvGraphicFramePr>
            <p:cNvPr id="154" name=""/>
            <p:cNvGraphicFramePr/>
            <p:nvPr/>
          </p:nvGraphicFramePr>
          <p:xfrm>
            <a:off x="1817640" y="3595680"/>
            <a:ext cx="1515960" cy="2747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5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817640" y="3595680"/>
                      <a:ext cx="1515960" cy="2747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6" name=""/>
            <p:cNvGraphicFramePr/>
            <p:nvPr/>
          </p:nvGraphicFramePr>
          <p:xfrm>
            <a:off x="4713120" y="4340160"/>
            <a:ext cx="3649680" cy="21114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5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713120" y="4340160"/>
                      <a:ext cx="3649680" cy="2111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slow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33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33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olimorfismo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530360" y="1835280"/>
            <a:ext cx="6388200" cy="1206360"/>
          </a:xfrm>
          <a:prstGeom prst="cube">
            <a:avLst>
              <a:gd name="adj" fmla="val 24995"/>
            </a:avLst>
          </a:prstGeom>
          <a:gradFill rotWithShape="0">
            <a:gsLst>
              <a:gs pos="0">
                <a:srgbClr val="006a8d"/>
              </a:gs>
              <a:gs pos="100000">
                <a:srgbClr val="0099cc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30360" y="3587760"/>
            <a:ext cx="1968480" cy="1739880"/>
          </a:xfrm>
          <a:custGeom>
            <a:avLst/>
            <a:gdLst>
              <a:gd name="textAreaLeft" fmla="*/ 449280 w 1968480"/>
              <a:gd name="textAreaRight" fmla="*/ 1519200 w 1968480"/>
              <a:gd name="textAreaTop" fmla="*/ 397080 h 1739880"/>
              <a:gd name="textAreaBottom" fmla="*/ 1342800 h 1739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99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483240" y="3740040"/>
            <a:ext cx="1663920" cy="1435320"/>
          </a:xfrm>
          <a:prstGeom prst="hexagon">
            <a:avLst>
              <a:gd name="adj" fmla="val 28976"/>
              <a:gd name="vf" fmla="val 115470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063880" y="5416560"/>
            <a:ext cx="1206360" cy="520560"/>
          </a:xfrm>
          <a:prstGeom prst="rightArrow">
            <a:avLst>
              <a:gd name="adj1" fmla="val 50000"/>
              <a:gd name="adj2" fmla="val 115882"/>
            </a:avLst>
          </a:prstGeom>
          <a:solidFill>
            <a:srgbClr val="ff00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093080" y="5416560"/>
            <a:ext cx="520560" cy="901800"/>
          </a:xfrm>
          <a:prstGeom prst="downArrow">
            <a:avLst>
              <a:gd name="adj1" fmla="val 50000"/>
              <a:gd name="adj2" fmla="val 86626"/>
            </a:avLst>
          </a:prstGeom>
          <a:solidFill>
            <a:srgbClr val="cc33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581280" y="2438280"/>
            <a:ext cx="2133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ENSAG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276720" y="4876920"/>
            <a:ext cx="1752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JETO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164920" y="4937040"/>
            <a:ext cx="1658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JETO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905120" y="6019920"/>
            <a:ext cx="1371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ÇÃO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51440" y="5927760"/>
            <a:ext cx="1302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ÇÃO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1676520" y="3048120"/>
            <a:ext cx="5715000" cy="685800"/>
            <a:chOff x="1676520" y="3048120"/>
            <a:chExt cx="5715000" cy="685800"/>
          </a:xfrm>
        </p:grpSpPr>
        <p:sp>
          <p:nvSpPr>
            <p:cNvPr id="170" name=""/>
            <p:cNvSpPr/>
            <p:nvPr/>
          </p:nvSpPr>
          <p:spPr>
            <a:xfrm>
              <a:off x="1676520" y="3048120"/>
              <a:ext cx="0" cy="685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oval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981080" y="3048120"/>
              <a:ext cx="0" cy="685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oval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286000" y="3048120"/>
              <a:ext cx="0" cy="685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oval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590920" y="3048120"/>
              <a:ext cx="0" cy="685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oval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895480" y="3048120"/>
              <a:ext cx="0" cy="685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oval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200400" y="3048120"/>
              <a:ext cx="0" cy="685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oval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505320" y="3048120"/>
              <a:ext cx="0" cy="685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oval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09880" y="3048120"/>
              <a:ext cx="0" cy="685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oval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191120" y="3048120"/>
              <a:ext cx="0" cy="685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oval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495680" y="3048120"/>
              <a:ext cx="0" cy="685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oval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800600" y="3048120"/>
              <a:ext cx="0" cy="685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oval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05520" y="3048120"/>
              <a:ext cx="0" cy="685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oval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410080" y="3048120"/>
              <a:ext cx="0" cy="685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oval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791320" y="3048120"/>
              <a:ext cx="0" cy="685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oval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095880" y="3048120"/>
              <a:ext cx="0" cy="685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oval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00800" y="3048120"/>
              <a:ext cx="0" cy="685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oval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705720" y="3048120"/>
              <a:ext cx="0" cy="685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oval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086600" y="3048120"/>
              <a:ext cx="0" cy="685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oval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391520" y="3048120"/>
              <a:ext cx="0" cy="685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oval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slow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33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33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Heranç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3000" y="1790640"/>
            <a:ext cx="77724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É o processo em que um objeto pode adquirir as características de outro objet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Herança Simples: um objeto herda as característcas de uma única class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Herança Múltipla: uma objeto herda características de mais de uma class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33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33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Heranç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740040" y="1530360"/>
            <a:ext cx="1739880" cy="1434960"/>
          </a:xfrm>
          <a:prstGeom prst="roundRect">
            <a:avLst>
              <a:gd name="adj" fmla="val 12495"/>
            </a:avLst>
          </a:prstGeom>
          <a:gradFill rotWithShape="0">
            <a:gsLst>
              <a:gs pos="0">
                <a:srgbClr val="996633"/>
              </a:gs>
              <a:gs pos="100000">
                <a:srgbClr val="6a4623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33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68240" y="4273560"/>
            <a:ext cx="2197080" cy="1968480"/>
          </a:xfrm>
          <a:prstGeom prst="roundRect">
            <a:avLst>
              <a:gd name="adj" fmla="val 12495"/>
            </a:avLst>
          </a:prstGeom>
          <a:gradFill rotWithShape="0">
            <a:gsLst>
              <a:gs pos="0">
                <a:srgbClr val="996633"/>
              </a:gs>
              <a:gs pos="100000">
                <a:srgbClr val="6a4623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33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254640" y="4349880"/>
            <a:ext cx="2044800" cy="1968480"/>
          </a:xfrm>
          <a:prstGeom prst="roundRect">
            <a:avLst>
              <a:gd name="adj" fmla="val 12495"/>
            </a:avLst>
          </a:prstGeom>
          <a:gradFill rotWithShape="0">
            <a:gsLst>
              <a:gs pos="0">
                <a:srgbClr val="996633"/>
              </a:gs>
              <a:gs pos="100000">
                <a:srgbClr val="6a4623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33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1905120" y="3048120"/>
            <a:ext cx="1828800" cy="106668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486400" y="3124080"/>
            <a:ext cx="1600200" cy="99072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624640" y="1584360"/>
            <a:ext cx="2280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ASSE BA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489480" y="5410080"/>
            <a:ext cx="2149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ASSES DERIVA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946680" y="181296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708440" y="219384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202760" y="4389480"/>
            <a:ext cx="4791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964880" y="4770360"/>
            <a:ext cx="4791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050840" y="524196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889280" y="554688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460560" y="4465800"/>
            <a:ext cx="4791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679880" y="4618080"/>
            <a:ext cx="4791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537240" y="531828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375320" y="5470560"/>
            <a:ext cx="37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149480" y="4349880"/>
            <a:ext cx="1434960" cy="1054080"/>
          </a:xfrm>
          <a:prstGeom prst="ellipse">
            <a:avLst/>
          </a:prstGeom>
          <a:noFill/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330960" y="4425840"/>
            <a:ext cx="1892160" cy="825480"/>
          </a:xfrm>
          <a:prstGeom prst="ellipse">
            <a:avLst/>
          </a:prstGeom>
          <a:noFill/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892680" y="1682640"/>
            <a:ext cx="1358640" cy="978120"/>
          </a:xfrm>
          <a:prstGeom prst="ellipse">
            <a:avLst/>
          </a:prstGeom>
          <a:noFill/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2590920" y="2590920"/>
            <a:ext cx="1752480" cy="213336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24280" y="2666880"/>
            <a:ext cx="2210040" cy="182880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64720" y="4098960"/>
            <a:ext cx="2217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Característic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Herda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511440" y="3816360"/>
            <a:ext cx="2349720" cy="1206360"/>
          </a:xfrm>
          <a:prstGeom prst="ellipse">
            <a:avLst/>
          </a:prstGeom>
          <a:noFill/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4571640"/>
            <a:ext cx="914400" cy="152280"/>
          </a:xfrm>
          <a:prstGeom prst="line">
            <a:avLst/>
          </a:prstGeom>
          <a:ln w="12600">
            <a:solidFill>
              <a:srgbClr val="ffcc66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 flipV="1">
            <a:off x="5867280" y="4571640"/>
            <a:ext cx="457200" cy="152280"/>
          </a:xfrm>
          <a:prstGeom prst="line">
            <a:avLst/>
          </a:prstGeom>
          <a:ln w="12600">
            <a:solidFill>
              <a:srgbClr val="ffcc66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33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33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ermos Técnicos Relacionado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143000" y="1790640"/>
            <a:ext cx="77724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Ligação Dinâmic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É o processo de ligar (link) um programa com suas bibliotecas durante sua execuçã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s linguagens convencionais, a ligação é estática, isto é, todas as conexões ocorrem antes da execução do program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33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33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ermos Técnicos Relacionado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43000" y="1790640"/>
            <a:ext cx="77724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Na ligação dinâmica, as bibliotecas são carregadas e descarregadas da memória conforme solicitadas durante a execução do program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No ambiente Windows, essas bibliotecas possuem a extensão “DLL” (Dynamic Link Library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33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33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Ligação Estátic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44560" y="2292480"/>
            <a:ext cx="1892160" cy="1206360"/>
          </a:xfrm>
          <a:prstGeom prst="rect">
            <a:avLst/>
          </a:prstGeom>
          <a:gradFill rotWithShape="0">
            <a:gsLst>
              <a:gs pos="0">
                <a:srgbClr val="ff0033"/>
              </a:gs>
              <a:gs pos="100000">
                <a:srgbClr val="b10023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892680" y="2292480"/>
            <a:ext cx="1968480" cy="1206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b1b100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483240" y="3740040"/>
            <a:ext cx="2425680" cy="1054080"/>
          </a:xfrm>
          <a:custGeom>
            <a:avLst/>
            <a:gdLst>
              <a:gd name="textAreaLeft" fmla="*/ 0 w 2425680"/>
              <a:gd name="textAreaRight" fmla="*/ 2426040 w 242568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9933"/>
              </a:gs>
              <a:gs pos="100000">
                <a:srgbClr val="b16a23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511440" y="4730760"/>
            <a:ext cx="2425680" cy="1816200"/>
          </a:xfrm>
          <a:prstGeom prst="ellipse">
            <a:avLst/>
          </a:prstGeom>
          <a:gradFill rotWithShape="0">
            <a:gsLst>
              <a:gs pos="0">
                <a:srgbClr val="cc3399"/>
              </a:gs>
              <a:gs pos="100000">
                <a:srgbClr val="8d236a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43000" y="2666880"/>
            <a:ext cx="1371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174560" y="2727360"/>
            <a:ext cx="1437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JE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657600" y="5486400"/>
            <a:ext cx="2209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IBLIOTEC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463440" y="4098960"/>
            <a:ext cx="2195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ECUTÁ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901960" y="2673360"/>
            <a:ext cx="901800" cy="444600"/>
          </a:xfrm>
          <a:prstGeom prst="rightArrow">
            <a:avLst>
              <a:gd name="adj1" fmla="val 50000"/>
              <a:gd name="adj2" fmla="val 101426"/>
            </a:avLst>
          </a:prstGeom>
          <a:solidFill>
            <a:srgbClr val="9966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578480" y="3587760"/>
            <a:ext cx="520560" cy="977760"/>
          </a:xfrm>
          <a:prstGeom prst="upArrow">
            <a:avLst>
              <a:gd name="adj1" fmla="val 50000"/>
              <a:gd name="adj2" fmla="val 93905"/>
            </a:avLst>
          </a:prstGeom>
          <a:solidFill>
            <a:srgbClr val="9966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rot="1920000">
            <a:off x="6024240" y="2978280"/>
            <a:ext cx="1133280" cy="444240"/>
          </a:xfrm>
          <a:prstGeom prst="rightArrow">
            <a:avLst>
              <a:gd name="adj1" fmla="val 50000"/>
              <a:gd name="adj2" fmla="val 127564"/>
            </a:avLst>
          </a:prstGeom>
          <a:solidFill>
            <a:srgbClr val="9966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279440" y="1812960"/>
            <a:ext cx="1014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*.CP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2440" y="1812960"/>
            <a:ext cx="982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*.OB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926680" y="5775480"/>
            <a:ext cx="982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*.OB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*.LI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934320" y="4952880"/>
            <a:ext cx="1066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*.EX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812960" y="3809880"/>
            <a:ext cx="2216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ILA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318280" y="4022640"/>
            <a:ext cx="861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N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2971800" y="3047760"/>
            <a:ext cx="228600" cy="685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5791320" y="3276360"/>
            <a:ext cx="533160" cy="685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5105160" y="4267080"/>
            <a:ext cx="228600" cy="152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33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33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Histórico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790640"/>
            <a:ext cx="77724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Linguagem SIMULA (anos 60), derivada do ALGOL e desenvolvida no Centro Norueguês de Computação, por Kristen Nygaard e Ole-Johan Dah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A SIMULA era utilizada para simulações e foi a pioneira na utilização de classes e subclasses, semelhantes com as usadas atualmente em OOP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33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33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Ligação Dinâmic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44560" y="1835280"/>
            <a:ext cx="2120760" cy="1282680"/>
          </a:xfrm>
          <a:prstGeom prst="rect">
            <a:avLst/>
          </a:prstGeom>
          <a:gradFill rotWithShape="0">
            <a:gsLst>
              <a:gs pos="0">
                <a:srgbClr val="b10023"/>
              </a:gs>
              <a:gs pos="100000">
                <a:srgbClr val="ff0033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844560" y="3816360"/>
            <a:ext cx="2044800" cy="27306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bf00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730760" y="2673360"/>
            <a:ext cx="2730600" cy="1359000"/>
          </a:xfrm>
          <a:custGeom>
            <a:avLst/>
            <a:gdLst>
              <a:gd name="textAreaLeft" fmla="*/ 0 w 2730600"/>
              <a:gd name="textAreaRight" fmla="*/ 2730960 w 2730600"/>
              <a:gd name="textAreaTop" fmla="*/ 0 h 1359000"/>
              <a:gd name="textAreaBottom" fmla="*/ 1359360 h 1359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b16a23"/>
              </a:gs>
              <a:gs pos="100000">
                <a:srgbClr val="ff9933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968640" y="4883040"/>
            <a:ext cx="1739880" cy="1663920"/>
          </a:xfrm>
          <a:custGeom>
            <a:avLst/>
            <a:gdLst>
              <a:gd name="textAreaLeft" fmla="*/ 397080 w 1739880"/>
              <a:gd name="textAreaRight" fmla="*/ 1342800 w 1739880"/>
              <a:gd name="textAreaTop" fmla="*/ 379800 h 1663920"/>
              <a:gd name="textAreaBottom" fmla="*/ 1284120 h 1663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cc3399"/>
              </a:gs>
              <a:gs pos="100000">
                <a:srgbClr val="8d236a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788160" y="4807080"/>
            <a:ext cx="1511280" cy="1587240"/>
          </a:xfrm>
          <a:prstGeom prst="plus">
            <a:avLst>
              <a:gd name="adj" fmla="val 24995"/>
            </a:avLst>
          </a:prstGeom>
          <a:gradFill rotWithShape="0">
            <a:gsLst>
              <a:gs pos="0">
                <a:srgbClr val="006a8d"/>
              </a:gs>
              <a:gs pos="100000">
                <a:srgbClr val="0099cc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206880" y="2901960"/>
            <a:ext cx="1054080" cy="1130400"/>
          </a:xfrm>
          <a:prstGeom prst="rightArrow">
            <a:avLst>
              <a:gd name="adj1" fmla="val 75009"/>
              <a:gd name="adj2" fmla="val 50005"/>
            </a:avLst>
          </a:prstGeom>
          <a:solidFill>
            <a:srgbClr val="9966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730760" y="4273560"/>
            <a:ext cx="291960" cy="444600"/>
          </a:xfrm>
          <a:prstGeom prst="upArrow">
            <a:avLst>
              <a:gd name="adj1" fmla="val 50000"/>
              <a:gd name="adj2" fmla="val 76133"/>
            </a:avLst>
          </a:prstGeom>
          <a:solidFill>
            <a:srgbClr val="9966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rot="19140000">
            <a:off x="7016760" y="4044600"/>
            <a:ext cx="291960" cy="444600"/>
          </a:xfrm>
          <a:prstGeom prst="upArrow">
            <a:avLst>
              <a:gd name="adj1" fmla="val 50000"/>
              <a:gd name="adj2" fmla="val 76133"/>
            </a:avLst>
          </a:prstGeom>
          <a:solidFill>
            <a:srgbClr val="9966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279800" y="2270160"/>
            <a:ext cx="1216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975960" y="3946680"/>
            <a:ext cx="1672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GA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ÁTI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584000" y="3336840"/>
            <a:ext cx="642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863240" y="3184560"/>
            <a:ext cx="2195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ECUTÁ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403880" y="5470560"/>
            <a:ext cx="742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223040" y="5394240"/>
            <a:ext cx="742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470920" y="2117880"/>
            <a:ext cx="793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33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33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ermos Técnicos Relacionado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143000" y="1790640"/>
            <a:ext cx="77724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Programação Visu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É a maneira de se programar desenhando os objetos no lugar de descrever seu códig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rogramação Visual está sempre associada à orientação a objet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33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33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ermos Técnicos Relacionado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43000" y="1790640"/>
            <a:ext cx="77724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Métodos Construtores e Destrutur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Métodos Construtores: alocam dinamicamente na memória uma instância de uma class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Métodos Destrutores: retiram a instância da memória, liberando-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A alocação das instâncias é dinâmic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33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33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étodos Construtores e Destrutor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68240" y="1987560"/>
            <a:ext cx="2273400" cy="2197080"/>
          </a:xfrm>
          <a:prstGeom prst="cube">
            <a:avLst>
              <a:gd name="adj" fmla="val 24995"/>
            </a:avLst>
          </a:prstGeom>
          <a:gradFill rotWithShape="0">
            <a:gsLst>
              <a:gs pos="0">
                <a:srgbClr val="8d236a"/>
              </a:gs>
              <a:gs pos="50000">
                <a:srgbClr val="cc3399"/>
              </a:gs>
              <a:gs pos="100000">
                <a:srgbClr val="8d236a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664080" y="2216160"/>
            <a:ext cx="1663560" cy="1663560"/>
          </a:xfrm>
          <a:prstGeom prst="rect">
            <a:avLst/>
          </a:prstGeom>
          <a:gradFill rotWithShape="0">
            <a:gsLst>
              <a:gs pos="0">
                <a:srgbClr val="b10023"/>
              </a:gs>
              <a:gs pos="50000">
                <a:srgbClr val="ff0033"/>
              </a:gs>
              <a:gs pos="100000">
                <a:srgbClr val="b10023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797440" y="1758960"/>
            <a:ext cx="3035520" cy="4788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483240" y="3130560"/>
            <a:ext cx="1663920" cy="1663560"/>
          </a:xfrm>
          <a:prstGeom prst="rect">
            <a:avLst/>
          </a:prstGeom>
          <a:gradFill rotWithShape="0">
            <a:gsLst>
              <a:gs pos="0">
                <a:srgbClr val="006a8d"/>
              </a:gs>
              <a:gs pos="50000">
                <a:srgbClr val="0099cc"/>
              </a:gs>
              <a:gs pos="100000">
                <a:srgbClr val="006a8d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128600" y="4251240"/>
            <a:ext cx="1384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AS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491280" y="4022640"/>
            <a:ext cx="1891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TÂNC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 CLAS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231960" y="4861080"/>
            <a:ext cx="2149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JE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 MEMÓR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926680" y="1812960"/>
            <a:ext cx="1641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EMÓR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rot="1800000">
            <a:off x="5492520" y="3182760"/>
            <a:ext cx="907920" cy="351000"/>
          </a:xfrm>
          <a:prstGeom prst="rightArrow">
            <a:avLst>
              <a:gd name="adj1" fmla="val 50000"/>
              <a:gd name="adj2" fmla="val 129345"/>
            </a:avLst>
          </a:prstGeom>
          <a:solidFill>
            <a:srgbClr val="9966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61400" y="5622840"/>
            <a:ext cx="3755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ËTODO CONSTRU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5105520" y="3352680"/>
            <a:ext cx="914400" cy="2286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330960" y="2825640"/>
            <a:ext cx="1968480" cy="3035520"/>
          </a:xfrm>
          <a:prstGeom prst="rect">
            <a:avLst/>
          </a:prstGeom>
          <a:solidFill>
            <a:srgbClr val="336600"/>
          </a:solidFill>
          <a:ln w="1260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606680" y="5492880"/>
            <a:ext cx="3797280" cy="596880"/>
          </a:xfrm>
          <a:prstGeom prst="rect">
            <a:avLst/>
          </a:prstGeom>
          <a:solidFill>
            <a:srgbClr val="336600"/>
          </a:solidFill>
          <a:ln w="1260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661760" y="5546880"/>
            <a:ext cx="3501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ÉTODO DESTRU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33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33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ermos Técnicos Relacionado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143000" y="1790640"/>
            <a:ext cx="77724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Persistênci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É o tempo que um objeto permanece na memória. Algumas instâncias são criadas no início da execução do programa e só são destruídas no final do program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33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33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ermos Técnicos Relacionado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143000" y="1790640"/>
            <a:ext cx="77724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Outras instâncias são necessárias apenas por algum tempo. Quando um objeto não é mais necessário, ele é destruído e seu espaço na memória liberado. A recuperação do espaço é denominada </a:t>
            </a:r>
            <a:r>
              <a:rPr b="1" i="1" lang="pt-BR" sz="3200" spc="-1" strike="noStrike">
                <a:solidFill>
                  <a:srgbClr val="ffffff"/>
                </a:solidFill>
                <a:latin typeface="Arial"/>
              </a:rPr>
              <a:t>Coleta de Lixo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 (Garbage Collection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33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33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OOP X Técnicas Tradicionai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142640" y="1409400"/>
            <a:ext cx="3809880" cy="476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Métod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Var. de Instânci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Mensage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Class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Heranç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Chamadas sob con-trole do sistem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5105160" y="1485720"/>
            <a:ext cx="3809880" cy="476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Procedimentos e funçõ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Dad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Chamadas de pro-cedimento e funçõ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Tipos de Dad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(Não existe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Chamada sob con-trole do programa-do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33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33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opriedad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066680" y="1486080"/>
            <a:ext cx="7772400" cy="491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 propriedades NÃO SÃO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variáveis de instânci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 propriedades chamam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método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que alteram as variáveis de instânci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ando atribuímos um dado a uma propriedade, é chamado um método S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ando pegamos um dado, é chamado um método G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33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33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opriedades - Exemplo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43000" y="1790640"/>
            <a:ext cx="77724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00"/>
                </a:solidFill>
                <a:latin typeface="Arial"/>
              </a:rPr>
              <a:t>objeto.propriedade = val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Isto equivale 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objeto.</a:t>
            </a:r>
            <a:r>
              <a:rPr b="0" lang="pt-BR" sz="3200" spc="-1" strike="noStrike">
                <a:solidFill>
                  <a:srgbClr val="ffcc66"/>
                </a:solidFill>
                <a:latin typeface="Arial"/>
              </a:rPr>
              <a:t>SET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_prop(valo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00"/>
                </a:solidFill>
                <a:latin typeface="Arial"/>
              </a:rPr>
              <a:t>dado = objeto.proprieda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Isto equivale 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objeto.</a:t>
            </a:r>
            <a:r>
              <a:rPr b="0" lang="pt-BR" sz="3200" spc="-1" strike="noStrike">
                <a:solidFill>
                  <a:srgbClr val="ffcc66"/>
                </a:solidFill>
                <a:latin typeface="Arial"/>
              </a:rPr>
              <a:t>GET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_prop(dado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33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33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Orientação a Evento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43000" y="1486080"/>
            <a:ext cx="77724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Evento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 é um tipo de método disparado por ocorrências do sistema operacion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Alguns eventos do S.O.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00"/>
                </a:solidFill>
                <a:latin typeface="Arial"/>
              </a:rPr>
              <a:t>OnClick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- Ocorre quando o usuário clica o mous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00"/>
                </a:solidFill>
                <a:latin typeface="Arial"/>
              </a:rPr>
              <a:t>OnChange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- Ocorre quando o usuário altera alguma coisa (editável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00"/>
                </a:solidFill>
                <a:latin typeface="Arial"/>
              </a:rPr>
              <a:t>OnPort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- Ocorre quando a porta serial recebe um dad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33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33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Histórico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790640"/>
            <a:ext cx="77724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SMALLTALK (anos 70), foi a primeira linguagem autêntica orientada a objetos. Foi desenvolvida por cientistas do Xerox Palo Alto Research Center (Xerox PARC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Cada elemento do SMALLTALK é tratado como sendo um objeto. Esta linguagem é puramente OOP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33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33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Orientação a Evento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143000" y="1409400"/>
            <a:ext cx="7772400" cy="468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canismo de evento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ando ocorre um evento, o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gerenciador de mensagen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do S.O. envia mensagens aos objetos sensíveis ao event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 o evento ocorreu em algum objeto, através dessa mensagem é disparado um método, chamado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Procedimento de Evento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33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33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ecanismo de Evento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139840" y="3054240"/>
            <a:ext cx="5626080" cy="1206720"/>
          </a:xfrm>
          <a:prstGeom prst="ellipse">
            <a:avLst/>
          </a:prstGeom>
          <a:gradFill rotWithShape="0">
            <a:gsLst>
              <a:gs pos="0">
                <a:srgbClr val="006a8d"/>
              </a:gs>
              <a:gs pos="50000">
                <a:srgbClr val="0099cc"/>
              </a:gs>
              <a:gs pos="100000">
                <a:srgbClr val="006a8d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46560" y="3276720"/>
            <a:ext cx="33004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.O. - Gerenciador 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ven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835280" y="5187960"/>
            <a:ext cx="1358640" cy="977760"/>
          </a:xfrm>
          <a:prstGeom prst="rect">
            <a:avLst/>
          </a:prstGeom>
          <a:gradFill rotWithShape="0">
            <a:gsLst>
              <a:gs pos="0">
                <a:srgbClr val="b10023"/>
              </a:gs>
              <a:gs pos="50000">
                <a:srgbClr val="ff0033"/>
              </a:gs>
              <a:gs pos="100000">
                <a:srgbClr val="b10023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483240" y="4959360"/>
            <a:ext cx="1739880" cy="1130400"/>
          </a:xfrm>
          <a:prstGeom prst="triangle">
            <a:avLst>
              <a:gd name="adj" fmla="val 49995"/>
            </a:avLst>
          </a:prstGeom>
          <a:gradFill rotWithShape="0">
            <a:gsLst>
              <a:gs pos="0">
                <a:srgbClr val="b10023"/>
              </a:gs>
              <a:gs pos="50000">
                <a:srgbClr val="ff0033"/>
              </a:gs>
              <a:gs pos="100000">
                <a:srgbClr val="b10023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273560" y="4959360"/>
            <a:ext cx="1282680" cy="1359000"/>
          </a:xfrm>
          <a:prstGeom prst="diamond">
            <a:avLst/>
          </a:prstGeom>
          <a:gradFill rotWithShape="0">
            <a:gsLst>
              <a:gs pos="0">
                <a:srgbClr val="b10023"/>
              </a:gs>
              <a:gs pos="50000">
                <a:srgbClr val="ff0033"/>
              </a:gs>
              <a:gs pos="100000">
                <a:srgbClr val="b10023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939960" y="4597560"/>
            <a:ext cx="8177040" cy="2082600"/>
          </a:xfrm>
          <a:prstGeom prst="ellipse">
            <a:avLst/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737000" y="4327560"/>
            <a:ext cx="1285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en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270160" y="5470560"/>
            <a:ext cx="556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632480" y="5470560"/>
            <a:ext cx="556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070760" y="5470560"/>
            <a:ext cx="556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2743200" y="4114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oval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4952880" y="4267080"/>
            <a:ext cx="0" cy="6098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oval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H="1" flipV="1">
            <a:off x="6858000" y="4114800"/>
            <a:ext cx="533520" cy="8380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oval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073160" y="1606680"/>
            <a:ext cx="1587600" cy="1587240"/>
          </a:xfrm>
          <a:prstGeom prst="star5">
            <a:avLst/>
          </a:prstGeom>
          <a:gradFill rotWithShape="0">
            <a:gsLst>
              <a:gs pos="0">
                <a:srgbClr val="8d236a"/>
              </a:gs>
              <a:gs pos="50000">
                <a:srgbClr val="cc3399"/>
              </a:gs>
              <a:gs pos="100000">
                <a:srgbClr val="8d236a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888920" y="1508040"/>
            <a:ext cx="1404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JE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2814120" y="2362320"/>
            <a:ext cx="2057400" cy="662040"/>
            <a:chOff x="2814120" y="2362320"/>
            <a:chExt cx="2057400" cy="662040"/>
          </a:xfrm>
        </p:grpSpPr>
        <p:sp>
          <p:nvSpPr>
            <p:cNvPr id="310" name=""/>
            <p:cNvSpPr/>
            <p:nvPr/>
          </p:nvSpPr>
          <p:spPr>
            <a:xfrm flipV="1">
              <a:off x="4824360" y="2414520"/>
              <a:ext cx="0" cy="609840"/>
            </a:xfrm>
            <a:prstGeom prst="line">
              <a:avLst/>
            </a:prstGeom>
            <a:ln w="127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814120" y="2362320"/>
              <a:ext cx="2057400" cy="0"/>
            </a:xfrm>
            <a:prstGeom prst="line">
              <a:avLst/>
            </a:prstGeom>
            <a:ln w="127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2" name=""/>
          <p:cNvSpPr/>
          <p:nvPr/>
        </p:nvSpPr>
        <p:spPr>
          <a:xfrm>
            <a:off x="3108240" y="2575080"/>
            <a:ext cx="1692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nsag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144440" y="124200"/>
            <a:ext cx="1371240" cy="5591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804105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804105"/>
              </a:path>
            </a:pathLst>
          </a:custGeom>
          <a:noFill/>
          <a:ln cap="rnd"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981080" y="2057400"/>
            <a:ext cx="4114800" cy="0"/>
          </a:xfrm>
          <a:prstGeom prst="line">
            <a:avLst/>
          </a:prstGeom>
          <a:ln w="57240">
            <a:solidFill>
              <a:srgbClr val="ff00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102360" y="1682640"/>
            <a:ext cx="2654280" cy="90180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233040" y="1812960"/>
            <a:ext cx="2487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cedimento 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en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33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33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ogramação Orientada a Evento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143000" y="1790640"/>
            <a:ext cx="77724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crever os procedimentos de eventos relevant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ma aplicação passa a ser um conjunto de procedimentos de eventos que são disparados pelo usuário e que funcionam de modo harmônic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aplicação não tem mais uma seqüência linea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33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33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Bibliografi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143000" y="1790640"/>
            <a:ext cx="77724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Ann L. Winblad, Samuel D. Edwards e David R. King. </a:t>
            </a:r>
            <a:r>
              <a:rPr b="1" i="1" lang="pt-BR" sz="3200" spc="-1" strike="noStrike">
                <a:solidFill>
                  <a:srgbClr val="ffffff"/>
                </a:solidFill>
                <a:latin typeface="Arial"/>
              </a:rPr>
              <a:t>Software Orientado a Objeto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 - Makron Book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Walter Goldberg Neto. </a:t>
            </a:r>
            <a:r>
              <a:rPr b="1" i="1" lang="pt-BR" sz="3200" spc="-1" strike="noStrike">
                <a:solidFill>
                  <a:srgbClr val="ffffff"/>
                </a:solidFill>
                <a:latin typeface="Arial"/>
              </a:rPr>
              <a:t>Utilizando C++ Builder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 - Ed. Éric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Victorine Viviane Mizrahi. </a:t>
            </a:r>
            <a:r>
              <a:rPr b="1" i="1" lang="pt-BR" sz="3200" spc="-1" strike="noStrike">
                <a:solidFill>
                  <a:srgbClr val="ffffff"/>
                </a:solidFill>
                <a:latin typeface="Arial"/>
              </a:rPr>
              <a:t>Treinamento em Linguagem C++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 - Makron Book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33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33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ffcc66"/>
                </a:solidFill>
                <a:latin typeface="Times New Roman"/>
              </a:rPr>
              <a:t>F I M</a:t>
            </a:r>
            <a:endParaRPr b="0" lang="en-US" sz="117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33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33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Histórico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790640"/>
            <a:ext cx="77724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C++, dos laboratórios da AT&amp;T Bell, criada por Bjarne Stroustrup, uma expansão da Linguagem C, muito popular e conhecid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Suporta OOP, mantendo as características do C tradicion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Fácil transição do C para o C++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33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33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onceito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3000" y="1790640"/>
            <a:ext cx="77724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Todas as linguagens orientadas a objetos possui três características basica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Objet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Polimorfism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Heranç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4689360" y="2889360"/>
            <a:ext cx="3654720" cy="3584520"/>
            <a:chOff x="4689360" y="2889360"/>
            <a:chExt cx="3654720" cy="3584520"/>
          </a:xfrm>
        </p:grpSpPr>
        <p:grpSp>
          <p:nvGrpSpPr>
            <p:cNvPr id="104" name=""/>
            <p:cNvGrpSpPr/>
            <p:nvPr/>
          </p:nvGrpSpPr>
          <p:grpSpPr>
            <a:xfrm>
              <a:off x="4689360" y="3562200"/>
              <a:ext cx="1528920" cy="2911680"/>
              <a:chOff x="4689360" y="3562200"/>
              <a:chExt cx="1528920" cy="2911680"/>
            </a:xfrm>
          </p:grpSpPr>
          <p:sp>
            <p:nvSpPr>
              <p:cNvPr id="105" name=""/>
              <p:cNvSpPr/>
              <p:nvPr/>
            </p:nvSpPr>
            <p:spPr>
              <a:xfrm>
                <a:off x="4689360" y="4530600"/>
                <a:ext cx="1528920" cy="1943280"/>
              </a:xfrm>
              <a:custGeom>
                <a:avLst/>
                <a:gdLst/>
                <a:ahLst/>
                <a:rect l="l" t="t" r="r" b="b"/>
                <a:pathLst>
                  <a:path w="963" h="1224">
                    <a:moveTo>
                      <a:pt x="553" y="418"/>
                    </a:moveTo>
                    <a:lnTo>
                      <a:pt x="540" y="0"/>
                    </a:lnTo>
                    <a:lnTo>
                      <a:pt x="483" y="9"/>
                    </a:lnTo>
                    <a:lnTo>
                      <a:pt x="374" y="38"/>
                    </a:lnTo>
                    <a:lnTo>
                      <a:pt x="309" y="71"/>
                    </a:lnTo>
                    <a:lnTo>
                      <a:pt x="287" y="121"/>
                    </a:lnTo>
                    <a:lnTo>
                      <a:pt x="325" y="231"/>
                    </a:lnTo>
                    <a:lnTo>
                      <a:pt x="328" y="262"/>
                    </a:lnTo>
                    <a:lnTo>
                      <a:pt x="253" y="299"/>
                    </a:lnTo>
                    <a:lnTo>
                      <a:pt x="188" y="346"/>
                    </a:lnTo>
                    <a:lnTo>
                      <a:pt x="137" y="399"/>
                    </a:lnTo>
                    <a:lnTo>
                      <a:pt x="72" y="467"/>
                    </a:lnTo>
                    <a:lnTo>
                      <a:pt x="28" y="543"/>
                    </a:lnTo>
                    <a:lnTo>
                      <a:pt x="6" y="633"/>
                    </a:lnTo>
                    <a:lnTo>
                      <a:pt x="0" y="708"/>
                    </a:lnTo>
                    <a:lnTo>
                      <a:pt x="0" y="814"/>
                    </a:lnTo>
                    <a:lnTo>
                      <a:pt x="25" y="924"/>
                    </a:lnTo>
                    <a:lnTo>
                      <a:pt x="66" y="983"/>
                    </a:lnTo>
                    <a:lnTo>
                      <a:pt x="140" y="1057"/>
                    </a:lnTo>
                    <a:lnTo>
                      <a:pt x="234" y="1132"/>
                    </a:lnTo>
                    <a:lnTo>
                      <a:pt x="343" y="1185"/>
                    </a:lnTo>
                    <a:lnTo>
                      <a:pt x="478" y="1217"/>
                    </a:lnTo>
                    <a:lnTo>
                      <a:pt x="606" y="1223"/>
                    </a:lnTo>
                    <a:lnTo>
                      <a:pt x="680" y="1213"/>
                    </a:lnTo>
                    <a:lnTo>
                      <a:pt x="746" y="1176"/>
                    </a:lnTo>
                    <a:lnTo>
                      <a:pt x="821" y="1114"/>
                    </a:lnTo>
                    <a:lnTo>
                      <a:pt x="861" y="1048"/>
                    </a:lnTo>
                    <a:lnTo>
                      <a:pt x="924" y="964"/>
                    </a:lnTo>
                    <a:lnTo>
                      <a:pt x="946" y="885"/>
                    </a:lnTo>
                    <a:lnTo>
                      <a:pt x="962" y="792"/>
                    </a:lnTo>
                    <a:lnTo>
                      <a:pt x="952" y="699"/>
                    </a:lnTo>
                    <a:lnTo>
                      <a:pt x="927" y="608"/>
                    </a:lnTo>
                    <a:lnTo>
                      <a:pt x="880" y="515"/>
                    </a:lnTo>
                    <a:lnTo>
                      <a:pt x="811" y="427"/>
                    </a:lnTo>
                    <a:lnTo>
                      <a:pt x="756" y="371"/>
                    </a:lnTo>
                    <a:lnTo>
                      <a:pt x="693" y="343"/>
                    </a:lnTo>
                    <a:lnTo>
                      <a:pt x="609" y="309"/>
                    </a:lnTo>
                    <a:lnTo>
                      <a:pt x="549" y="296"/>
                    </a:lnTo>
                    <a:lnTo>
                      <a:pt x="549" y="334"/>
                    </a:lnTo>
                    <a:lnTo>
                      <a:pt x="615" y="353"/>
                    </a:lnTo>
                    <a:lnTo>
                      <a:pt x="671" y="364"/>
                    </a:lnTo>
                    <a:lnTo>
                      <a:pt x="721" y="393"/>
                    </a:lnTo>
                    <a:lnTo>
                      <a:pt x="778" y="449"/>
                    </a:lnTo>
                    <a:lnTo>
                      <a:pt x="821" y="511"/>
                    </a:lnTo>
                    <a:lnTo>
                      <a:pt x="850" y="552"/>
                    </a:lnTo>
                    <a:lnTo>
                      <a:pt x="880" y="608"/>
                    </a:lnTo>
                    <a:lnTo>
                      <a:pt x="905" y="690"/>
                    </a:lnTo>
                    <a:lnTo>
                      <a:pt x="918" y="764"/>
                    </a:lnTo>
                    <a:lnTo>
                      <a:pt x="918" y="830"/>
                    </a:lnTo>
                    <a:lnTo>
                      <a:pt x="899" y="898"/>
                    </a:lnTo>
                    <a:lnTo>
                      <a:pt x="877" y="964"/>
                    </a:lnTo>
                    <a:lnTo>
                      <a:pt x="833" y="1026"/>
                    </a:lnTo>
                    <a:lnTo>
                      <a:pt x="793" y="1076"/>
                    </a:lnTo>
                    <a:lnTo>
                      <a:pt x="749" y="1119"/>
                    </a:lnTo>
                    <a:lnTo>
                      <a:pt x="693" y="1148"/>
                    </a:lnTo>
                    <a:lnTo>
                      <a:pt x="646" y="1176"/>
                    </a:lnTo>
                    <a:lnTo>
                      <a:pt x="599" y="1185"/>
                    </a:lnTo>
                    <a:lnTo>
                      <a:pt x="522" y="1179"/>
                    </a:lnTo>
                    <a:lnTo>
                      <a:pt x="428" y="1167"/>
                    </a:lnTo>
                    <a:lnTo>
                      <a:pt x="337" y="1132"/>
                    </a:lnTo>
                    <a:lnTo>
                      <a:pt x="262" y="1095"/>
                    </a:lnTo>
                    <a:lnTo>
                      <a:pt x="194" y="1048"/>
                    </a:lnTo>
                    <a:lnTo>
                      <a:pt x="137" y="998"/>
                    </a:lnTo>
                    <a:lnTo>
                      <a:pt x="100" y="951"/>
                    </a:lnTo>
                    <a:lnTo>
                      <a:pt x="63" y="895"/>
                    </a:lnTo>
                    <a:lnTo>
                      <a:pt x="46" y="823"/>
                    </a:lnTo>
                    <a:lnTo>
                      <a:pt x="44" y="727"/>
                    </a:lnTo>
                    <a:lnTo>
                      <a:pt x="46" y="646"/>
                    </a:lnTo>
                    <a:lnTo>
                      <a:pt x="66" y="577"/>
                    </a:lnTo>
                    <a:lnTo>
                      <a:pt x="90" y="506"/>
                    </a:lnTo>
                    <a:lnTo>
                      <a:pt x="140" y="446"/>
                    </a:lnTo>
                    <a:lnTo>
                      <a:pt x="197" y="393"/>
                    </a:lnTo>
                    <a:lnTo>
                      <a:pt x="253" y="355"/>
                    </a:lnTo>
                    <a:lnTo>
                      <a:pt x="315" y="324"/>
                    </a:lnTo>
                    <a:lnTo>
                      <a:pt x="362" y="299"/>
                    </a:lnTo>
                    <a:lnTo>
                      <a:pt x="400" y="290"/>
                    </a:lnTo>
                    <a:lnTo>
                      <a:pt x="400" y="277"/>
                    </a:lnTo>
                    <a:lnTo>
                      <a:pt x="352" y="137"/>
                    </a:lnTo>
                    <a:lnTo>
                      <a:pt x="352" y="112"/>
                    </a:lnTo>
                    <a:lnTo>
                      <a:pt x="384" y="93"/>
                    </a:lnTo>
                    <a:lnTo>
                      <a:pt x="428" y="65"/>
                    </a:lnTo>
                    <a:lnTo>
                      <a:pt x="483" y="53"/>
                    </a:lnTo>
                    <a:lnTo>
                      <a:pt x="505" y="53"/>
                    </a:lnTo>
                    <a:lnTo>
                      <a:pt x="512" y="147"/>
                    </a:lnTo>
                    <a:lnTo>
                      <a:pt x="496" y="277"/>
                    </a:lnTo>
                    <a:lnTo>
                      <a:pt x="478" y="364"/>
                    </a:lnTo>
                    <a:lnTo>
                      <a:pt x="512" y="399"/>
                    </a:lnTo>
                    <a:lnTo>
                      <a:pt x="553" y="418"/>
                    </a:lnTo>
                  </a:path>
                </a:pathLst>
              </a:custGeom>
              <a:solidFill>
                <a:srgbClr val="ffff00"/>
              </a:solidFill>
              <a:ln cap="rnd" w="1260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5162400" y="4057560"/>
                <a:ext cx="244800" cy="581040"/>
              </a:xfrm>
              <a:custGeom>
                <a:avLst/>
                <a:gdLst/>
                <a:ahLst/>
                <a:rect l="l" t="t" r="r" b="b"/>
                <a:pathLst>
                  <a:path w="154" h="366">
                    <a:moveTo>
                      <a:pt x="140" y="309"/>
                    </a:moveTo>
                    <a:lnTo>
                      <a:pt x="140" y="255"/>
                    </a:lnTo>
                    <a:lnTo>
                      <a:pt x="124" y="172"/>
                    </a:lnTo>
                    <a:lnTo>
                      <a:pt x="94" y="122"/>
                    </a:lnTo>
                    <a:lnTo>
                      <a:pt x="50" y="28"/>
                    </a:lnTo>
                    <a:lnTo>
                      <a:pt x="31" y="0"/>
                    </a:lnTo>
                    <a:lnTo>
                      <a:pt x="0" y="19"/>
                    </a:lnTo>
                    <a:lnTo>
                      <a:pt x="0" y="41"/>
                    </a:lnTo>
                    <a:lnTo>
                      <a:pt x="22" y="78"/>
                    </a:lnTo>
                    <a:lnTo>
                      <a:pt x="55" y="153"/>
                    </a:lnTo>
                    <a:lnTo>
                      <a:pt x="84" y="209"/>
                    </a:lnTo>
                    <a:lnTo>
                      <a:pt x="87" y="262"/>
                    </a:lnTo>
                    <a:lnTo>
                      <a:pt x="96" y="347"/>
                    </a:lnTo>
                    <a:lnTo>
                      <a:pt x="124" y="365"/>
                    </a:lnTo>
                    <a:lnTo>
                      <a:pt x="153" y="340"/>
                    </a:lnTo>
                    <a:lnTo>
                      <a:pt x="140" y="309"/>
                    </a:lnTo>
                  </a:path>
                </a:pathLst>
              </a:custGeom>
              <a:solidFill>
                <a:srgbClr val="ffff00"/>
              </a:solidFill>
              <a:ln cap="rnd" w="1260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375160" y="4068720"/>
                <a:ext cx="263520" cy="135000"/>
              </a:xfrm>
              <a:custGeom>
                <a:avLst/>
                <a:gdLst/>
                <a:ahLst/>
                <a:rect l="l" t="t" r="r" b="b"/>
                <a:pathLst>
                  <a:path w="166" h="85">
                    <a:moveTo>
                      <a:pt x="165" y="77"/>
                    </a:moveTo>
                    <a:lnTo>
                      <a:pt x="155" y="55"/>
                    </a:lnTo>
                    <a:lnTo>
                      <a:pt x="102" y="22"/>
                    </a:lnTo>
                    <a:lnTo>
                      <a:pt x="46" y="0"/>
                    </a:lnTo>
                    <a:lnTo>
                      <a:pt x="15" y="0"/>
                    </a:lnTo>
                    <a:lnTo>
                      <a:pt x="0" y="18"/>
                    </a:lnTo>
                    <a:lnTo>
                      <a:pt x="9" y="46"/>
                    </a:lnTo>
                    <a:lnTo>
                      <a:pt x="62" y="65"/>
                    </a:lnTo>
                    <a:lnTo>
                      <a:pt x="137" y="84"/>
                    </a:lnTo>
                    <a:lnTo>
                      <a:pt x="165" y="77"/>
                    </a:lnTo>
                  </a:path>
                </a:pathLst>
              </a:custGeom>
              <a:solidFill>
                <a:srgbClr val="ffff00"/>
              </a:solidFill>
              <a:ln cap="rnd" w="1260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311800" y="3668760"/>
                <a:ext cx="189000" cy="244440"/>
              </a:xfrm>
              <a:custGeom>
                <a:avLst/>
                <a:gdLst/>
                <a:ahLst/>
                <a:rect l="l" t="t" r="r" b="b"/>
                <a:pathLst>
                  <a:path w="119" h="154">
                    <a:moveTo>
                      <a:pt x="112" y="0"/>
                    </a:moveTo>
                    <a:lnTo>
                      <a:pt x="118" y="22"/>
                    </a:lnTo>
                    <a:lnTo>
                      <a:pt x="84" y="96"/>
                    </a:lnTo>
                    <a:lnTo>
                      <a:pt x="57" y="134"/>
                    </a:lnTo>
                    <a:lnTo>
                      <a:pt x="35" y="153"/>
                    </a:lnTo>
                    <a:lnTo>
                      <a:pt x="10" y="153"/>
                    </a:lnTo>
                    <a:lnTo>
                      <a:pt x="0" y="134"/>
                    </a:lnTo>
                    <a:lnTo>
                      <a:pt x="7" y="105"/>
                    </a:lnTo>
                    <a:lnTo>
                      <a:pt x="72" y="40"/>
                    </a:lnTo>
                    <a:lnTo>
                      <a:pt x="112" y="0"/>
                    </a:lnTo>
                  </a:path>
                </a:pathLst>
              </a:custGeom>
              <a:solidFill>
                <a:srgbClr val="ffff00"/>
              </a:solidFill>
              <a:ln cap="rnd" w="1260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5121360" y="3562200"/>
                <a:ext cx="100080" cy="271440"/>
              </a:xfrm>
              <a:custGeom>
                <a:avLst/>
                <a:gdLst/>
                <a:ahLst/>
                <a:rect l="l" t="t" r="r" b="b"/>
                <a:pathLst>
                  <a:path w="63" h="171">
                    <a:moveTo>
                      <a:pt x="9" y="0"/>
                    </a:moveTo>
                    <a:lnTo>
                      <a:pt x="38" y="50"/>
                    </a:lnTo>
                    <a:lnTo>
                      <a:pt x="53" y="106"/>
                    </a:lnTo>
                    <a:lnTo>
                      <a:pt x="62" y="149"/>
                    </a:lnTo>
                    <a:lnTo>
                      <a:pt x="47" y="170"/>
                    </a:lnTo>
                    <a:lnTo>
                      <a:pt x="25" y="170"/>
                    </a:lnTo>
                    <a:lnTo>
                      <a:pt x="16" y="152"/>
                    </a:lnTo>
                    <a:lnTo>
                      <a:pt x="0" y="115"/>
                    </a:lnTo>
                    <a:lnTo>
                      <a:pt x="0" y="56"/>
                    </a:lnTo>
                    <a:lnTo>
                      <a:pt x="9" y="0"/>
                    </a:lnTo>
                  </a:path>
                </a:pathLst>
              </a:custGeom>
              <a:solidFill>
                <a:srgbClr val="ffff00"/>
              </a:solidFill>
              <a:ln cap="rnd" w="1260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4773600" y="3784680"/>
                <a:ext cx="268200" cy="135000"/>
              </a:xfrm>
              <a:custGeom>
                <a:avLst/>
                <a:gdLst/>
                <a:ahLst/>
                <a:rect l="l" t="t" r="r" b="b"/>
                <a:pathLst>
                  <a:path w="169" h="85">
                    <a:moveTo>
                      <a:pt x="0" y="0"/>
                    </a:moveTo>
                    <a:lnTo>
                      <a:pt x="81" y="10"/>
                    </a:lnTo>
                    <a:lnTo>
                      <a:pt x="140" y="25"/>
                    </a:lnTo>
                    <a:lnTo>
                      <a:pt x="168" y="47"/>
                    </a:lnTo>
                    <a:lnTo>
                      <a:pt x="158" y="75"/>
                    </a:lnTo>
                    <a:lnTo>
                      <a:pt x="140" y="84"/>
                    </a:lnTo>
                    <a:lnTo>
                      <a:pt x="93" y="7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00"/>
              </a:solidFill>
              <a:ln cap="rnd" w="1260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743360" y="4011480"/>
                <a:ext cx="297000" cy="209520"/>
              </a:xfrm>
              <a:custGeom>
                <a:avLst/>
                <a:gdLst/>
                <a:ahLst/>
                <a:rect l="l" t="t" r="r" b="b"/>
                <a:pathLst>
                  <a:path w="187" h="132">
                    <a:moveTo>
                      <a:pt x="10" y="93"/>
                    </a:moveTo>
                    <a:lnTo>
                      <a:pt x="47" y="52"/>
                    </a:lnTo>
                    <a:lnTo>
                      <a:pt x="106" y="16"/>
                    </a:lnTo>
                    <a:lnTo>
                      <a:pt x="159" y="0"/>
                    </a:lnTo>
                    <a:lnTo>
                      <a:pt x="181" y="0"/>
                    </a:lnTo>
                    <a:lnTo>
                      <a:pt x="186" y="28"/>
                    </a:lnTo>
                    <a:lnTo>
                      <a:pt x="171" y="47"/>
                    </a:lnTo>
                    <a:lnTo>
                      <a:pt x="131" y="56"/>
                    </a:lnTo>
                    <a:lnTo>
                      <a:pt x="93" y="56"/>
                    </a:lnTo>
                    <a:lnTo>
                      <a:pt x="50" y="83"/>
                    </a:lnTo>
                    <a:lnTo>
                      <a:pt x="12" y="118"/>
                    </a:lnTo>
                    <a:lnTo>
                      <a:pt x="0" y="131"/>
                    </a:lnTo>
                    <a:lnTo>
                      <a:pt x="10" y="93"/>
                    </a:lnTo>
                  </a:path>
                </a:pathLst>
              </a:custGeom>
              <a:solidFill>
                <a:srgbClr val="ffff00"/>
              </a:solidFill>
              <a:ln cap="rnd" w="1260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064120" y="4187880"/>
                <a:ext cx="79560" cy="150840"/>
              </a:xfrm>
              <a:custGeom>
                <a:avLst/>
                <a:gdLst/>
                <a:ahLst/>
                <a:rect l="l" t="t" r="r" b="b"/>
                <a:pathLst>
                  <a:path w="50" h="95">
                    <a:moveTo>
                      <a:pt x="23" y="94"/>
                    </a:moveTo>
                    <a:lnTo>
                      <a:pt x="0" y="54"/>
                    </a:lnTo>
                    <a:lnTo>
                      <a:pt x="0" y="17"/>
                    </a:lnTo>
                    <a:lnTo>
                      <a:pt x="27" y="0"/>
                    </a:lnTo>
                    <a:lnTo>
                      <a:pt x="49" y="20"/>
                    </a:lnTo>
                    <a:lnTo>
                      <a:pt x="36" y="57"/>
                    </a:lnTo>
                    <a:lnTo>
                      <a:pt x="23" y="94"/>
                    </a:lnTo>
                  </a:path>
                </a:pathLst>
              </a:custGeom>
              <a:solidFill>
                <a:srgbClr val="ffff00"/>
              </a:solidFill>
              <a:ln cap="rnd" w="1260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6480000" y="2889360"/>
              <a:ext cx="1864080" cy="3539880"/>
              <a:chOff x="6480000" y="2889360"/>
              <a:chExt cx="1864080" cy="3539880"/>
            </a:xfrm>
          </p:grpSpPr>
          <p:sp>
            <p:nvSpPr>
              <p:cNvPr id="114" name=""/>
              <p:cNvSpPr/>
              <p:nvPr/>
            </p:nvSpPr>
            <p:spPr>
              <a:xfrm>
                <a:off x="6480000" y="3973680"/>
                <a:ext cx="730440" cy="1204920"/>
              </a:xfrm>
              <a:custGeom>
                <a:avLst/>
                <a:gdLst/>
                <a:ahLst/>
                <a:rect l="l" t="t" r="r" b="b"/>
                <a:pathLst>
                  <a:path w="460" h="759">
                    <a:moveTo>
                      <a:pt x="243" y="113"/>
                    </a:moveTo>
                    <a:lnTo>
                      <a:pt x="291" y="65"/>
                    </a:lnTo>
                    <a:lnTo>
                      <a:pt x="356" y="19"/>
                    </a:lnTo>
                    <a:lnTo>
                      <a:pt x="403" y="0"/>
                    </a:lnTo>
                    <a:lnTo>
                      <a:pt x="459" y="3"/>
                    </a:lnTo>
                    <a:lnTo>
                      <a:pt x="459" y="47"/>
                    </a:lnTo>
                    <a:lnTo>
                      <a:pt x="431" y="84"/>
                    </a:lnTo>
                    <a:lnTo>
                      <a:pt x="378" y="113"/>
                    </a:lnTo>
                    <a:lnTo>
                      <a:pt x="247" y="172"/>
                    </a:lnTo>
                    <a:lnTo>
                      <a:pt x="121" y="244"/>
                    </a:lnTo>
                    <a:lnTo>
                      <a:pt x="68" y="262"/>
                    </a:lnTo>
                    <a:lnTo>
                      <a:pt x="50" y="290"/>
                    </a:lnTo>
                    <a:lnTo>
                      <a:pt x="68" y="318"/>
                    </a:lnTo>
                    <a:lnTo>
                      <a:pt x="178" y="424"/>
                    </a:lnTo>
                    <a:lnTo>
                      <a:pt x="228" y="459"/>
                    </a:lnTo>
                    <a:lnTo>
                      <a:pt x="302" y="518"/>
                    </a:lnTo>
                    <a:lnTo>
                      <a:pt x="378" y="574"/>
                    </a:lnTo>
                    <a:lnTo>
                      <a:pt x="374" y="603"/>
                    </a:lnTo>
                    <a:lnTo>
                      <a:pt x="318" y="612"/>
                    </a:lnTo>
                    <a:lnTo>
                      <a:pt x="234" y="612"/>
                    </a:lnTo>
                    <a:lnTo>
                      <a:pt x="181" y="640"/>
                    </a:lnTo>
                    <a:lnTo>
                      <a:pt x="162" y="712"/>
                    </a:lnTo>
                    <a:lnTo>
                      <a:pt x="162" y="749"/>
                    </a:lnTo>
                    <a:lnTo>
                      <a:pt x="140" y="758"/>
                    </a:lnTo>
                    <a:lnTo>
                      <a:pt x="106" y="725"/>
                    </a:lnTo>
                    <a:lnTo>
                      <a:pt x="112" y="664"/>
                    </a:lnTo>
                    <a:lnTo>
                      <a:pt x="143" y="621"/>
                    </a:lnTo>
                    <a:lnTo>
                      <a:pt x="206" y="583"/>
                    </a:lnTo>
                    <a:lnTo>
                      <a:pt x="274" y="565"/>
                    </a:lnTo>
                    <a:lnTo>
                      <a:pt x="281" y="546"/>
                    </a:lnTo>
                    <a:lnTo>
                      <a:pt x="247" y="509"/>
                    </a:lnTo>
                    <a:lnTo>
                      <a:pt x="103" y="415"/>
                    </a:lnTo>
                    <a:lnTo>
                      <a:pt x="59" y="378"/>
                    </a:lnTo>
                    <a:lnTo>
                      <a:pt x="18" y="328"/>
                    </a:lnTo>
                    <a:lnTo>
                      <a:pt x="0" y="271"/>
                    </a:lnTo>
                    <a:lnTo>
                      <a:pt x="12" y="237"/>
                    </a:lnTo>
                    <a:lnTo>
                      <a:pt x="84" y="216"/>
                    </a:lnTo>
                    <a:lnTo>
                      <a:pt x="171" y="178"/>
                    </a:lnTo>
                    <a:lnTo>
                      <a:pt x="228" y="140"/>
                    </a:lnTo>
                    <a:lnTo>
                      <a:pt x="243" y="113"/>
                    </a:lnTo>
                  </a:path>
                </a:pathLst>
              </a:custGeom>
              <a:solidFill>
                <a:srgbClr val="ffff00"/>
              </a:solidFill>
              <a:ln cap="rnd" w="1260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7129440" y="3919680"/>
                <a:ext cx="509760" cy="1155600"/>
              </a:xfrm>
              <a:custGeom>
                <a:avLst/>
                <a:gdLst/>
                <a:ahLst/>
                <a:rect l="l" t="t" r="r" b="b"/>
                <a:pathLst>
                  <a:path w="321" h="728">
                    <a:moveTo>
                      <a:pt x="68" y="56"/>
                    </a:moveTo>
                    <a:lnTo>
                      <a:pt x="96" y="9"/>
                    </a:lnTo>
                    <a:lnTo>
                      <a:pt x="131" y="0"/>
                    </a:lnTo>
                    <a:lnTo>
                      <a:pt x="178" y="0"/>
                    </a:lnTo>
                    <a:lnTo>
                      <a:pt x="238" y="34"/>
                    </a:lnTo>
                    <a:lnTo>
                      <a:pt x="275" y="109"/>
                    </a:lnTo>
                    <a:lnTo>
                      <a:pt x="303" y="206"/>
                    </a:lnTo>
                    <a:lnTo>
                      <a:pt x="320" y="305"/>
                    </a:lnTo>
                    <a:lnTo>
                      <a:pt x="320" y="440"/>
                    </a:lnTo>
                    <a:lnTo>
                      <a:pt x="285" y="586"/>
                    </a:lnTo>
                    <a:lnTo>
                      <a:pt x="235" y="673"/>
                    </a:lnTo>
                    <a:lnTo>
                      <a:pt x="168" y="717"/>
                    </a:lnTo>
                    <a:lnTo>
                      <a:pt x="107" y="727"/>
                    </a:lnTo>
                    <a:lnTo>
                      <a:pt x="59" y="698"/>
                    </a:lnTo>
                    <a:lnTo>
                      <a:pt x="22" y="664"/>
                    </a:lnTo>
                    <a:lnTo>
                      <a:pt x="12" y="608"/>
                    </a:lnTo>
                    <a:lnTo>
                      <a:pt x="0" y="502"/>
                    </a:lnTo>
                    <a:lnTo>
                      <a:pt x="9" y="371"/>
                    </a:lnTo>
                    <a:lnTo>
                      <a:pt x="37" y="234"/>
                    </a:lnTo>
                    <a:lnTo>
                      <a:pt x="56" y="137"/>
                    </a:lnTo>
                    <a:lnTo>
                      <a:pt x="68" y="56"/>
                    </a:lnTo>
                  </a:path>
                </a:pathLst>
              </a:custGeom>
              <a:solidFill>
                <a:srgbClr val="ffff00"/>
              </a:solidFill>
              <a:ln cap="rnd" w="1260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7269120" y="4923000"/>
                <a:ext cx="298440" cy="1506240"/>
              </a:xfrm>
              <a:custGeom>
                <a:avLst/>
                <a:gdLst/>
                <a:ahLst/>
                <a:rect l="l" t="t" r="r" b="b"/>
                <a:pathLst>
                  <a:path w="188" h="949">
                    <a:moveTo>
                      <a:pt x="90" y="168"/>
                    </a:moveTo>
                    <a:lnTo>
                      <a:pt x="65" y="106"/>
                    </a:lnTo>
                    <a:lnTo>
                      <a:pt x="65" y="37"/>
                    </a:lnTo>
                    <a:lnTo>
                      <a:pt x="100" y="0"/>
                    </a:lnTo>
                    <a:lnTo>
                      <a:pt x="140" y="18"/>
                    </a:lnTo>
                    <a:lnTo>
                      <a:pt x="168" y="84"/>
                    </a:lnTo>
                    <a:lnTo>
                      <a:pt x="183" y="196"/>
                    </a:lnTo>
                    <a:lnTo>
                      <a:pt x="187" y="336"/>
                    </a:lnTo>
                    <a:lnTo>
                      <a:pt x="177" y="458"/>
                    </a:lnTo>
                    <a:lnTo>
                      <a:pt x="159" y="589"/>
                    </a:lnTo>
                    <a:lnTo>
                      <a:pt x="159" y="748"/>
                    </a:lnTo>
                    <a:lnTo>
                      <a:pt x="183" y="813"/>
                    </a:lnTo>
                    <a:lnTo>
                      <a:pt x="174" y="844"/>
                    </a:lnTo>
                    <a:lnTo>
                      <a:pt x="131" y="854"/>
                    </a:lnTo>
                    <a:lnTo>
                      <a:pt x="84" y="898"/>
                    </a:lnTo>
                    <a:lnTo>
                      <a:pt x="62" y="935"/>
                    </a:lnTo>
                    <a:lnTo>
                      <a:pt x="9" y="948"/>
                    </a:lnTo>
                    <a:lnTo>
                      <a:pt x="0" y="907"/>
                    </a:lnTo>
                    <a:lnTo>
                      <a:pt x="19" y="872"/>
                    </a:lnTo>
                    <a:lnTo>
                      <a:pt x="84" y="844"/>
                    </a:lnTo>
                    <a:lnTo>
                      <a:pt x="131" y="823"/>
                    </a:lnTo>
                    <a:lnTo>
                      <a:pt x="146" y="804"/>
                    </a:lnTo>
                    <a:lnTo>
                      <a:pt x="128" y="751"/>
                    </a:lnTo>
                    <a:lnTo>
                      <a:pt x="112" y="645"/>
                    </a:lnTo>
                    <a:lnTo>
                      <a:pt x="109" y="517"/>
                    </a:lnTo>
                    <a:lnTo>
                      <a:pt x="112" y="433"/>
                    </a:lnTo>
                    <a:lnTo>
                      <a:pt x="118" y="318"/>
                    </a:lnTo>
                    <a:lnTo>
                      <a:pt x="109" y="215"/>
                    </a:lnTo>
                    <a:lnTo>
                      <a:pt x="90" y="168"/>
                    </a:lnTo>
                  </a:path>
                </a:pathLst>
              </a:custGeom>
              <a:solidFill>
                <a:srgbClr val="ffff00"/>
              </a:solidFill>
              <a:ln cap="rnd" w="1260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6854760" y="4925880"/>
                <a:ext cx="461880" cy="1501920"/>
              </a:xfrm>
              <a:custGeom>
                <a:avLst/>
                <a:gdLst/>
                <a:ahLst/>
                <a:rect l="l" t="t" r="r" b="b"/>
                <a:pathLst>
                  <a:path w="291" h="946">
                    <a:moveTo>
                      <a:pt x="178" y="87"/>
                    </a:moveTo>
                    <a:lnTo>
                      <a:pt x="209" y="28"/>
                    </a:lnTo>
                    <a:lnTo>
                      <a:pt x="247" y="0"/>
                    </a:lnTo>
                    <a:lnTo>
                      <a:pt x="290" y="18"/>
                    </a:lnTo>
                    <a:lnTo>
                      <a:pt x="284" y="74"/>
                    </a:lnTo>
                    <a:lnTo>
                      <a:pt x="256" y="115"/>
                    </a:lnTo>
                    <a:lnTo>
                      <a:pt x="200" y="215"/>
                    </a:lnTo>
                    <a:lnTo>
                      <a:pt x="163" y="311"/>
                    </a:lnTo>
                    <a:lnTo>
                      <a:pt x="141" y="414"/>
                    </a:lnTo>
                    <a:lnTo>
                      <a:pt x="144" y="514"/>
                    </a:lnTo>
                    <a:lnTo>
                      <a:pt x="178" y="648"/>
                    </a:lnTo>
                    <a:lnTo>
                      <a:pt x="207" y="777"/>
                    </a:lnTo>
                    <a:lnTo>
                      <a:pt x="247" y="832"/>
                    </a:lnTo>
                    <a:lnTo>
                      <a:pt x="244" y="864"/>
                    </a:lnTo>
                    <a:lnTo>
                      <a:pt x="209" y="879"/>
                    </a:lnTo>
                    <a:lnTo>
                      <a:pt x="131" y="891"/>
                    </a:lnTo>
                    <a:lnTo>
                      <a:pt x="76" y="926"/>
                    </a:lnTo>
                    <a:lnTo>
                      <a:pt x="47" y="945"/>
                    </a:lnTo>
                    <a:lnTo>
                      <a:pt x="0" y="901"/>
                    </a:lnTo>
                    <a:lnTo>
                      <a:pt x="10" y="873"/>
                    </a:lnTo>
                    <a:lnTo>
                      <a:pt x="56" y="854"/>
                    </a:lnTo>
                    <a:lnTo>
                      <a:pt x="116" y="845"/>
                    </a:lnTo>
                    <a:lnTo>
                      <a:pt x="172" y="845"/>
                    </a:lnTo>
                    <a:lnTo>
                      <a:pt x="181" y="827"/>
                    </a:lnTo>
                    <a:lnTo>
                      <a:pt x="172" y="795"/>
                    </a:lnTo>
                    <a:lnTo>
                      <a:pt x="125" y="674"/>
                    </a:lnTo>
                    <a:lnTo>
                      <a:pt x="94" y="554"/>
                    </a:lnTo>
                    <a:lnTo>
                      <a:pt x="78" y="468"/>
                    </a:lnTo>
                    <a:lnTo>
                      <a:pt x="76" y="387"/>
                    </a:lnTo>
                    <a:lnTo>
                      <a:pt x="87" y="308"/>
                    </a:lnTo>
                    <a:lnTo>
                      <a:pt x="116" y="227"/>
                    </a:lnTo>
                    <a:lnTo>
                      <a:pt x="159" y="121"/>
                    </a:lnTo>
                    <a:lnTo>
                      <a:pt x="178" y="87"/>
                    </a:lnTo>
                  </a:path>
                </a:pathLst>
              </a:custGeom>
              <a:solidFill>
                <a:srgbClr val="ffff00"/>
              </a:solidFill>
              <a:ln cap="rnd" w="1260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943680" y="3056040"/>
                <a:ext cx="595440" cy="784080"/>
              </a:xfrm>
              <a:custGeom>
                <a:avLst/>
                <a:gdLst/>
                <a:ahLst/>
                <a:rect l="l" t="t" r="r" b="b"/>
                <a:pathLst>
                  <a:path w="375" h="494">
                    <a:moveTo>
                      <a:pt x="136" y="412"/>
                    </a:moveTo>
                    <a:lnTo>
                      <a:pt x="164" y="474"/>
                    </a:lnTo>
                    <a:lnTo>
                      <a:pt x="230" y="493"/>
                    </a:lnTo>
                    <a:lnTo>
                      <a:pt x="286" y="487"/>
                    </a:lnTo>
                    <a:lnTo>
                      <a:pt x="333" y="447"/>
                    </a:lnTo>
                    <a:lnTo>
                      <a:pt x="370" y="365"/>
                    </a:lnTo>
                    <a:lnTo>
                      <a:pt x="374" y="268"/>
                    </a:lnTo>
                    <a:lnTo>
                      <a:pt x="361" y="184"/>
                    </a:lnTo>
                    <a:lnTo>
                      <a:pt x="308" y="90"/>
                    </a:lnTo>
                    <a:lnTo>
                      <a:pt x="270" y="46"/>
                    </a:lnTo>
                    <a:lnTo>
                      <a:pt x="230" y="19"/>
                    </a:lnTo>
                    <a:lnTo>
                      <a:pt x="193" y="0"/>
                    </a:lnTo>
                    <a:lnTo>
                      <a:pt x="127" y="6"/>
                    </a:lnTo>
                    <a:lnTo>
                      <a:pt x="92" y="62"/>
                    </a:lnTo>
                    <a:lnTo>
                      <a:pt x="74" y="122"/>
                    </a:lnTo>
                    <a:lnTo>
                      <a:pt x="74" y="215"/>
                    </a:lnTo>
                    <a:lnTo>
                      <a:pt x="90" y="306"/>
                    </a:lnTo>
                    <a:lnTo>
                      <a:pt x="108" y="356"/>
                    </a:lnTo>
                    <a:lnTo>
                      <a:pt x="5" y="430"/>
                    </a:lnTo>
                    <a:lnTo>
                      <a:pt x="0" y="459"/>
                    </a:lnTo>
                    <a:lnTo>
                      <a:pt x="15" y="474"/>
                    </a:lnTo>
                    <a:lnTo>
                      <a:pt x="127" y="390"/>
                    </a:lnTo>
                    <a:lnTo>
                      <a:pt x="136" y="412"/>
                    </a:lnTo>
                  </a:path>
                </a:pathLst>
              </a:custGeom>
              <a:solidFill>
                <a:srgbClr val="ffff00"/>
              </a:solidFill>
              <a:ln cap="rnd" w="1260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159680" y="2889360"/>
                <a:ext cx="1184400" cy="1312920"/>
              </a:xfrm>
              <a:custGeom>
                <a:avLst/>
                <a:gdLst/>
                <a:ahLst/>
                <a:rect l="l" t="t" r="r" b="b"/>
                <a:pathLst>
                  <a:path w="746" h="827">
                    <a:moveTo>
                      <a:pt x="495" y="571"/>
                    </a:moveTo>
                    <a:lnTo>
                      <a:pt x="458" y="608"/>
                    </a:lnTo>
                    <a:lnTo>
                      <a:pt x="380" y="655"/>
                    </a:lnTo>
                    <a:lnTo>
                      <a:pt x="309" y="683"/>
                    </a:lnTo>
                    <a:lnTo>
                      <a:pt x="259" y="711"/>
                    </a:lnTo>
                    <a:lnTo>
                      <a:pt x="211" y="748"/>
                    </a:lnTo>
                    <a:lnTo>
                      <a:pt x="206" y="814"/>
                    </a:lnTo>
                    <a:lnTo>
                      <a:pt x="252" y="826"/>
                    </a:lnTo>
                    <a:lnTo>
                      <a:pt x="371" y="757"/>
                    </a:lnTo>
                    <a:lnTo>
                      <a:pt x="458" y="676"/>
                    </a:lnTo>
                    <a:lnTo>
                      <a:pt x="561" y="574"/>
                    </a:lnTo>
                    <a:lnTo>
                      <a:pt x="645" y="508"/>
                    </a:lnTo>
                    <a:lnTo>
                      <a:pt x="717" y="458"/>
                    </a:lnTo>
                    <a:lnTo>
                      <a:pt x="745" y="433"/>
                    </a:lnTo>
                    <a:lnTo>
                      <a:pt x="735" y="402"/>
                    </a:lnTo>
                    <a:lnTo>
                      <a:pt x="701" y="359"/>
                    </a:lnTo>
                    <a:lnTo>
                      <a:pt x="576" y="290"/>
                    </a:lnTo>
                    <a:lnTo>
                      <a:pt x="458" y="228"/>
                    </a:lnTo>
                    <a:lnTo>
                      <a:pt x="314" y="162"/>
                    </a:lnTo>
                    <a:lnTo>
                      <a:pt x="261" y="125"/>
                    </a:lnTo>
                    <a:lnTo>
                      <a:pt x="206" y="75"/>
                    </a:lnTo>
                    <a:lnTo>
                      <a:pt x="149" y="19"/>
                    </a:lnTo>
                    <a:lnTo>
                      <a:pt x="99" y="0"/>
                    </a:lnTo>
                    <a:lnTo>
                      <a:pt x="0" y="69"/>
                    </a:lnTo>
                    <a:lnTo>
                      <a:pt x="6" y="134"/>
                    </a:lnTo>
                    <a:lnTo>
                      <a:pt x="25" y="159"/>
                    </a:lnTo>
                    <a:lnTo>
                      <a:pt x="75" y="149"/>
                    </a:lnTo>
                    <a:lnTo>
                      <a:pt x="66" y="122"/>
                    </a:lnTo>
                    <a:lnTo>
                      <a:pt x="47" y="112"/>
                    </a:lnTo>
                    <a:lnTo>
                      <a:pt x="37" y="78"/>
                    </a:lnTo>
                    <a:lnTo>
                      <a:pt x="93" y="41"/>
                    </a:lnTo>
                    <a:lnTo>
                      <a:pt x="140" y="78"/>
                    </a:lnTo>
                    <a:lnTo>
                      <a:pt x="140" y="112"/>
                    </a:lnTo>
                    <a:lnTo>
                      <a:pt x="121" y="153"/>
                    </a:lnTo>
                    <a:lnTo>
                      <a:pt x="137" y="181"/>
                    </a:lnTo>
                    <a:lnTo>
                      <a:pt x="230" y="206"/>
                    </a:lnTo>
                    <a:lnTo>
                      <a:pt x="268" y="171"/>
                    </a:lnTo>
                    <a:lnTo>
                      <a:pt x="393" y="247"/>
                    </a:lnTo>
                    <a:lnTo>
                      <a:pt x="495" y="293"/>
                    </a:lnTo>
                    <a:lnTo>
                      <a:pt x="552" y="321"/>
                    </a:lnTo>
                    <a:lnTo>
                      <a:pt x="607" y="350"/>
                    </a:lnTo>
                    <a:lnTo>
                      <a:pt x="651" y="387"/>
                    </a:lnTo>
                    <a:lnTo>
                      <a:pt x="679" y="424"/>
                    </a:lnTo>
                    <a:lnTo>
                      <a:pt x="654" y="452"/>
                    </a:lnTo>
                    <a:lnTo>
                      <a:pt x="595" y="490"/>
                    </a:lnTo>
                    <a:lnTo>
                      <a:pt x="533" y="533"/>
                    </a:lnTo>
                    <a:lnTo>
                      <a:pt x="495" y="571"/>
                    </a:lnTo>
                  </a:path>
                </a:pathLst>
              </a:custGeom>
              <a:solidFill>
                <a:srgbClr val="ffff00"/>
              </a:solidFill>
              <a:ln cap="rnd" w="1260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transition spd="slow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33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33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Objeto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43000" y="1790640"/>
            <a:ext cx="77724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É uma entidade lógica que contém dados e código para manipular esses dad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Class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É um tipo de dado, como os já conhecidos, para declarar variávei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ma variável de uma classe é chamada de Objet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33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33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Objeto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790640"/>
            <a:ext cx="77724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Class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finir uma classe não cria um objeto, assim como um tipo de variável NÃO é uma variáve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Variáveis de Classe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ão os dados declarados em uma class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33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33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Objeto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43000" y="1790640"/>
            <a:ext cx="77724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Métodos ou Funções-membro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ão as funções e procedimentos declarados em uma classe e que permitem a manipulação dos dados (variáveis de classe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Instância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emos uma instância de uma classe quando declaramos um objeto a partir de uma classe. É semelhante à declaração de uma variáve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33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33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Objeto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39640" y="2292480"/>
            <a:ext cx="3264120" cy="3797280"/>
          </a:xfrm>
          <a:prstGeom prst="cube">
            <a:avLst>
              <a:gd name="adj" fmla="val 24995"/>
            </a:avLst>
          </a:prstGeom>
          <a:gradFill rotWithShape="0">
            <a:gsLst>
              <a:gs pos="0">
                <a:srgbClr val="8d236a"/>
              </a:gs>
              <a:gs pos="50000">
                <a:srgbClr val="cc3399"/>
              </a:gs>
              <a:gs pos="100000">
                <a:srgbClr val="8d236a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96840" y="3435480"/>
            <a:ext cx="1587600" cy="672840"/>
          </a:xfrm>
          <a:prstGeom prst="rect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44560" y="4349880"/>
            <a:ext cx="1968480" cy="143496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127520" y="3565440"/>
            <a:ext cx="1267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74880" y="4861080"/>
            <a:ext cx="1725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ÉTO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219320" y="6172200"/>
            <a:ext cx="2361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AS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797440" y="2521080"/>
            <a:ext cx="2654280" cy="3035160"/>
          </a:xfrm>
          <a:prstGeom prst="rect">
            <a:avLst/>
          </a:prstGeom>
          <a:gradFill rotWithShape="0">
            <a:gsLst>
              <a:gs pos="0">
                <a:srgbClr val="b10023"/>
              </a:gs>
              <a:gs pos="50000">
                <a:srgbClr val="ff0033"/>
              </a:gs>
              <a:gs pos="100000">
                <a:srgbClr val="b10023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928840" y="5851440"/>
            <a:ext cx="2315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TÂNCIA 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MA CLAS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54640" y="2901960"/>
            <a:ext cx="1587600" cy="749160"/>
          </a:xfrm>
          <a:prstGeom prst="rect">
            <a:avLst/>
          </a:prstGeom>
          <a:solidFill>
            <a:srgbClr val="ff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61640" y="3108240"/>
            <a:ext cx="1267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026040" y="3892680"/>
            <a:ext cx="2197080" cy="135864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232680" y="4403880"/>
            <a:ext cx="1725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ÉTO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49160" y="1736640"/>
            <a:ext cx="3583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RIÁVEIS DE CLAS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941000" y="1889280"/>
            <a:ext cx="4007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RIÁVEIS DE INSTÂNC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1828440" y="2133720"/>
            <a:ext cx="304920" cy="1295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705720" y="2286000"/>
            <a:ext cx="152280" cy="6094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5-28T16:27:30Z</dcterms:created>
  <dc:creator>Reinaldo Madarazo</dc:creator>
  <dc:description/>
  <dc:language>en-US</dc:language>
  <cp:lastModifiedBy>Reinaldo Madarazo</cp:lastModifiedBy>
  <dcterms:modified xsi:type="dcterms:W3CDTF">1999-02-17T14:14:09Z</dcterms:modified>
  <cp:revision>64</cp:revision>
  <dc:subject/>
  <dc:title>Orientação a Objetos</dc:title>
</cp:coreProperties>
</file>