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3DC-52B3-494A-A5E8-737BF2E0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82BE-9EE3-4E4B-A1A3-F11EBCBA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3D3-E72D-4021-9BAE-073DA029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A7CF-0D08-497D-9275-453FB897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5C8F-40C9-4ABD-8CFE-0BD774FB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33704-3C00-4B9F-A28B-C05428597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20A8-56F2-4F6B-BB7A-B4A19124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C308-E0A6-4462-B8C2-8F46CABE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F082C-BC52-4865-B80A-63856CE9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D317-A383-404A-A26B-F1B41A5A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772D-D958-4E0C-B09D-638BBA37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686C-86A8-43A3-ABC5-F8D26223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4609-E677-4B26-BD59-593E501C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4996-464A-4C78-9D9A-0FFAEF57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F733-2803-4D70-B851-8771D310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E783-E74C-4CFA-A03D-B3B09D5C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685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31380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4144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7C9F-736E-4E23-98F0-F9D47E53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820-1600-4DD0-BFCB-7C379D75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907-A3C2-4352-8282-04E167B2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A209-C71E-471A-A166-C5525AB9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3A92-5AFC-428E-9A90-5B6497C8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511-D384-42AD-8C9A-3487E3AA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A57-52BB-43EA-B39E-A5E39CB1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C02-C957-4FC4-8548-E07CC7FF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5881680"/>
            <a:ext cx="8840880" cy="531720"/>
            <a:chOff x="152280" y="5881680"/>
            <a:chExt cx="8840880" cy="531720"/>
          </a:xfrm>
        </p:grpSpPr>
        <p:sp>
          <p:nvSpPr>
            <p:cNvPr id="1" name=""/>
            <p:cNvSpPr/>
            <p:nvPr/>
          </p:nvSpPr>
          <p:spPr>
            <a:xfrm>
              <a:off x="152280" y="5886360"/>
              <a:ext cx="8834400" cy="523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  <a:effectLst>
              <a:outerShdw dist="53966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5881680"/>
              <a:ext cx="8840880" cy="15876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6062760"/>
              <a:ext cx="8840880" cy="15876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2280" y="6243480"/>
              <a:ext cx="8840880" cy="15876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0" y="99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e8e8e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2280" y="5892840"/>
              <a:ext cx="8840880" cy="15876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67676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2280" y="6073920"/>
              <a:ext cx="8840880" cy="15876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2280" y="6254640"/>
              <a:ext cx="8840880" cy="158760"/>
            </a:xfrm>
            <a:custGeom>
              <a:avLst/>
              <a:gdLst/>
              <a:ahLst/>
              <a:rect l="l" t="t" r="r" b="b"/>
              <a:pathLst>
                <a:path w="5569" h="100">
                  <a:moveTo>
                    <a:pt x="5568" y="0"/>
                  </a:moveTo>
                  <a:lnTo>
                    <a:pt x="5568" y="99"/>
                  </a:lnTo>
                  <a:lnTo>
                    <a:pt x="0" y="99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6E9B-BBCA-44A4-8D11-2DD97BDFEE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52280" y="1752480"/>
            <a:ext cx="8840880" cy="1613160"/>
            <a:chOff x="152280" y="1752480"/>
            <a:chExt cx="8840880" cy="1613160"/>
          </a:xfrm>
        </p:grpSpPr>
        <p:sp>
          <p:nvSpPr>
            <p:cNvPr id="50" name=""/>
            <p:cNvSpPr/>
            <p:nvPr/>
          </p:nvSpPr>
          <p:spPr>
            <a:xfrm>
              <a:off x="152280" y="1766880"/>
              <a:ext cx="8834400" cy="159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e6e6e6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  <a:effectLst>
              <a:outerShdw dist="53966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52280" y="1752480"/>
              <a:ext cx="8840880" cy="479520"/>
            </a:xfrm>
            <a:custGeom>
              <a:avLst/>
              <a:gdLst/>
              <a:ahLst/>
              <a:rect l="l" t="t" r="r" b="b"/>
              <a:pathLst>
                <a:path w="5569" h="302">
                  <a:moveTo>
                    <a:pt x="0" y="301"/>
                  </a:moveTo>
                  <a:lnTo>
                    <a:pt x="0" y="0"/>
                  </a:lnTo>
                  <a:lnTo>
                    <a:pt x="5568" y="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2280" y="2886120"/>
              <a:ext cx="8840880" cy="479520"/>
            </a:xfrm>
            <a:custGeom>
              <a:avLst/>
              <a:gdLst/>
              <a:ahLst/>
              <a:rect l="l" t="t" r="r" b="b"/>
              <a:pathLst>
                <a:path w="5569" h="302">
                  <a:moveTo>
                    <a:pt x="5568" y="0"/>
                  </a:moveTo>
                  <a:lnTo>
                    <a:pt x="5568" y="301"/>
                  </a:lnTo>
                  <a:lnTo>
                    <a:pt x="0" y="301"/>
                  </a:lnTo>
                </a:path>
              </a:pathLst>
            </a:cu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E564-61FF-4669-832D-782C796B1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65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cc0066"/>
                </a:solidFill>
                <a:latin typeface="Times New Roman"/>
              </a:rPr>
              <a:t>Recursividade</a:t>
            </a:r>
            <a:endParaRPr b="0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tência de Expoente Inteir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1" lang="pt-BR" sz="3200" spc="-1" strike="noStrike" baseline="30000">
                <a:solidFill>
                  <a:srgbClr val="ffffff"/>
                </a:solidFill>
                <a:latin typeface="Arial"/>
              </a:rPr>
              <a:t>n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= x * x * ... * x  ( n vêz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pt-BR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= 2 * 2 * 2  =&gt;  2</a:t>
            </a:r>
            <a:r>
              <a:rPr b="1" lang="pt-BR" sz="32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= 2 * 2</a:t>
            </a:r>
            <a:r>
              <a:rPr b="1" lang="pt-BR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7560" y="2444760"/>
            <a:ext cx="1054080" cy="596880"/>
          </a:xfrm>
          <a:prstGeom prst="ellipse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048120"/>
            <a:ext cx="0" cy="457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505320"/>
            <a:ext cx="243828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952880" y="3048120"/>
            <a:ext cx="457200" cy="45720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87960" y="2444760"/>
            <a:ext cx="596880" cy="596880"/>
          </a:xfrm>
          <a:prstGeom prst="ellipse">
            <a:avLst/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3886200"/>
            <a:ext cx="289548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ssim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lang="pt-BR" sz="3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= x * x </a:t>
            </a:r>
            <a:r>
              <a:rPr b="1" lang="pt-BR" sz="3200" spc="-1" strike="noStrike" baseline="30000">
                <a:solidFill>
                  <a:srgbClr val="ffffff"/>
                </a:solidFill>
                <a:latin typeface="Arial"/>
              </a:rPr>
              <a:t>n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176800" y="3228840"/>
          <a:ext cx="3648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0" y="3228840"/>
                    <a:ext cx="3648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áximo Divisor Com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 MDC pode ser calculado da seguinte maneir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DC(N1,0) = N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MDC(N1,N2) = MDC(N2, N1 mod N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585880" y="3892680"/>
          <a:ext cx="3648240" cy="19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5880" y="3892680"/>
                    <a:ext cx="3648240" cy="19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Números de Fibonacc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Os números de Fibonacci podem ser calculados da seguinte maneir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ib(1)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ib(2)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ib(3) =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ib(4) = 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ib(N) = Fib(N-1) + Fib(N-2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89760" y="2747880"/>
          <a:ext cx="2673360" cy="24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9760" y="2747880"/>
                    <a:ext cx="267336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finiçã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izemos que um sub-programa (ou sub-algoritmo) é recursivo quando ocorre uma chamada a si mesm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 não houver um controle sobre essa chamada, poderá ocorrer um laço infini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mpl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procedimento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Recurs(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v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iní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curs(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f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8240" y="1092240"/>
            <a:ext cx="2311200" cy="939600"/>
          </a:xfrm>
          <a:prstGeom prst="ellipse">
            <a:avLst/>
          </a:prstGeom>
          <a:noFill/>
          <a:ln w="50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87320" y="4140360"/>
            <a:ext cx="2082960" cy="711000"/>
          </a:xfrm>
          <a:prstGeom prst="ellipse">
            <a:avLst/>
          </a:prstGeom>
          <a:noFill/>
          <a:ln w="50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057400"/>
            <a:ext cx="1676520" cy="1981080"/>
          </a:xfrm>
          <a:prstGeom prst="line">
            <a:avLst/>
          </a:prstGeom>
          <a:ln w="50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572000"/>
            <a:ext cx="3276720" cy="76320"/>
          </a:xfrm>
          <a:prstGeom prst="line">
            <a:avLst/>
          </a:prstGeom>
          <a:ln w="50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114800"/>
            <a:ext cx="198108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mada recursiv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7760" y="3987720"/>
            <a:ext cx="2082600" cy="1168560"/>
          </a:xfrm>
          <a:prstGeom prst="ellipse">
            <a:avLst/>
          </a:prstGeom>
          <a:noFill/>
          <a:ln w="507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Times New Roman"/>
              </a:rPr>
              <a:t>Passos para criar um sub-algoritmo recursiv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Procurar uma “fórmula matemática” que resolva o problema de forma recursiv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screver o algoritmo recursivo, tomando o cuidado de não criar um laço infini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Vamos criar um sub-algoritmo recursivo passo-a-pas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mplo - Fator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asso 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Definir e entender Fatoria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fatorial de um número (N!) é calculado da seguinte form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! = 1!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! = 5 * 4 * 3 * 2 * 1 = 12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! = 3 * 2 * 1 = 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mplo - Fator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asso 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Escrever uma “fórmula matemática” recursiv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429000"/>
            <a:ext cx="3809880" cy="17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! = 5 * 4 * 3 * 2 *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! = 5 * 4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! = n * (n-1) 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9880" y="3892680"/>
            <a:ext cx="977760" cy="901440"/>
          </a:xfrm>
          <a:prstGeom prst="rightArrow">
            <a:avLst>
              <a:gd name="adj1" fmla="val 50000"/>
              <a:gd name="adj2" fmla="val 54238"/>
            </a:avLst>
          </a:prstGeom>
          <a:solidFill>
            <a:srgbClr val="ffc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4038480"/>
            <a:ext cx="1143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! =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3505320"/>
            <a:ext cx="1981080" cy="18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 se n&lt;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 * (n-1)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324480" y="3352680"/>
            <a:ext cx="304920" cy="1981440"/>
            <a:chOff x="6324480" y="3352680"/>
            <a:chExt cx="304920" cy="1981440"/>
          </a:xfrm>
        </p:grpSpPr>
        <p:sp>
          <p:nvSpPr>
            <p:cNvPr id="116" name=""/>
            <p:cNvSpPr/>
            <p:nvPr/>
          </p:nvSpPr>
          <p:spPr>
            <a:xfrm flipH="1">
              <a:off x="6476760" y="3352680"/>
              <a:ext cx="152280" cy="152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77120" y="3505320"/>
              <a:ext cx="0" cy="685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77120" y="4495680"/>
              <a:ext cx="0" cy="68580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324480" y="4191120"/>
              <a:ext cx="152640" cy="152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77120" y="5181480"/>
              <a:ext cx="152280" cy="15264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24480" y="4343400"/>
              <a:ext cx="152640" cy="1522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mplo - Fator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Passo 3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: Escrever o sub-algoritm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Função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Fat (n : </a:t>
            </a:r>
            <a:r>
              <a:rPr b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inteiro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) : </a:t>
            </a:r>
            <a:r>
              <a:rPr b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iní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se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n&lt;2 </a:t>
            </a:r>
            <a:r>
              <a:rPr b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ent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at 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sen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Fat  </a:t>
            </a:r>
            <a:r>
              <a:rPr b="1" lang="pt-BR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   n * Fat (n-1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ffffff"/>
                </a:solidFill>
                <a:uFillTx/>
                <a:latin typeface="Arial"/>
              </a:rPr>
              <a:t>fi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mplo - Fator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Arial"/>
              </a:rPr>
              <a:t>Passo 4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: Escrever em Delph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urier New"/>
              </a:rPr>
              <a:t>function Fat(n:integer):real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urier New"/>
              </a:rPr>
              <a:t>beg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3200" spc="-1" strike="noStrike">
                <a:solidFill>
                  <a:srgbClr val="ffffff"/>
                </a:solidFill>
                <a:latin typeface="Courier New"/>
              </a:rPr>
              <a:t>if n&lt;2 th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pt-BR" sz="3200" spc="-1" strike="noStrike">
                <a:solidFill>
                  <a:srgbClr val="ffffff"/>
                </a:solidFill>
                <a:latin typeface="Courier New"/>
              </a:rPr>
              <a:t>Fat:=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pt-BR" sz="3200" spc="-1" strike="noStrike">
                <a:solidFill>
                  <a:srgbClr val="ffffff"/>
                </a:solidFill>
                <a:latin typeface="Courier New"/>
              </a:rPr>
              <a:t>el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pt-BR" sz="3200" spc="-1" strike="noStrike">
                <a:solidFill>
                  <a:srgbClr val="ffffff"/>
                </a:solidFill>
                <a:latin typeface="Courier New"/>
              </a:rPr>
              <a:t>Fat:= n * Fat(n-1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urier New"/>
              </a:rPr>
              <a:t>end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cursividade - Exercíci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álculo de potência de expoente inteir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álculo do M.D.C. entre dois númer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Cálculo dos números de Fibonacc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84440" y="3432240"/>
          <a:ext cx="364968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84440" y="3432240"/>
                    <a:ext cx="364968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0:00Z</dcterms:created>
  <dc:creator>Reinaldo Madarazo</dc:creator>
  <dc:description/>
  <dc:language>en-US</dc:language>
  <cp:lastModifiedBy>Reinaldo Madarazo</cp:lastModifiedBy>
  <dcterms:modified xsi:type="dcterms:W3CDTF">1999-02-17T13:51:16Z</dcterms:modified>
  <cp:revision>23</cp:revision>
  <dc:subject/>
  <dc:title>Recursividade</dc:title>
</cp:coreProperties>
</file>