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A8D-8C50-4BBE-994A-6181C117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22D-84ED-4FBA-9882-5591108D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C8E-1ED0-4FDF-A051-E749FDE4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106-6008-48DF-AAA7-97820CF2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9586-D3A8-4148-AF50-5BC4D36F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877C-8C45-4818-89A6-2016964C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CE50-522C-4A44-B370-7A99A9E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0AC5-EC4D-4828-8275-3ADAB94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4174-E15E-4B9D-BC39-608290C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DC4C-883F-4E04-92BC-C4D16D9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12F-18BC-40E3-86B3-A3617E6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A9F-9907-4101-936F-7CDC629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02F6-7BF0-4ED0-BC87-63E1E10D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379-F785-45EE-9D92-5E56387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1D59-E60E-4412-BCAC-DD9A7D28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B279-7131-450F-8A22-CB3E2A9D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16D-C3D0-42B7-97A9-C71F6E93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1E0-235B-4954-9BF0-84867E9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5EF-672E-4539-B96B-885EE362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81D-4E82-4F8E-90DB-8093F93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486-E682-431C-9B76-088EE671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76E-1B34-49D0-B257-213A0D2E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012-DC4C-4834-A16B-8751198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7F9-5774-47B9-8D71-5848BA99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2221-1568-4399-9889-93694FE02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E2A7-5100-49A9-B4BE-006B4BEA7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Visual Component Library - VC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lphi / C++ 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Observação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odos os componentes vistos até agora possuem as seguintes 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Hi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Mensagem exibida pelo componente quando o usuário coloca o mouse sobre e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howHi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Ativa ou não a exibição da mensag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abOrde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e o componente possuir foco, indica o sentido de movimento da tecla T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lasse TFor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767120" y="2610000"/>
          <a:ext cx="41245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7120" y="2610000"/>
                    <a:ext cx="41245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frm (Ex.: frmJane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ítulo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Styl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Mu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tipo da borda 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lasse TForm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Icon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mostrar os botões de minimizar, maximizar, fechar e aju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c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mudar o ícone da jan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624640" y="1947960"/>
          <a:ext cx="29098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4640" y="1947960"/>
                    <a:ext cx="29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st (Ex.: lstNu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temIndex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(Integer) - In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ca o índice do ele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lecionado no List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 nenhum estiver selecionado, seu valor 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1.  Obs.: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 primeiro elemento tem índice 0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9960" y="5511960"/>
            <a:ext cx="634680" cy="6346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Item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 Esta propriedade é na realidade um objeto da classe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TString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e corresponde a um vetor de componentes Strings. Assim,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Items[0]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é o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primeir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elemento do List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 de It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un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Indica o número de elementos de um ListBox (na verdade, é a dimensão de Item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ist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étodos de It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lear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Limpa o conteúdo d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l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dd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Adiciona uma string a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dd(Str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le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Exclui um elemento do ListBox. </a:t>
            </a:r>
            <a:r>
              <a:rPr b="0" i="1" lang="pt-BR" sz="3200" spc="-1" strike="noStrike">
                <a:solidFill>
                  <a:srgbClr val="00cccc"/>
                </a:solidFill>
                <a:latin typeface="Times New Roman"/>
              </a:rPr>
              <a:t>Sintax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lete(Índic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Nome dos component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ff00"/>
                </a:solidFill>
                <a:latin typeface="Courier New"/>
              </a:rPr>
              <a:t>btn</a:t>
            </a:r>
            <a:r>
              <a:rPr b="1" lang="pt-BR" sz="8000" spc="-1" strike="noStrike">
                <a:solidFill>
                  <a:srgbClr val="cbcbcb"/>
                </a:solidFill>
                <a:latin typeface="Courier New"/>
              </a:rPr>
              <a:t>Cal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33360" y="3124080"/>
            <a:ext cx="2133720" cy="1295640"/>
            <a:chOff x="2133360" y="3124080"/>
            <a:chExt cx="2133720" cy="1295640"/>
          </a:xfrm>
        </p:grpSpPr>
        <p:sp>
          <p:nvSpPr>
            <p:cNvPr id="115" name=""/>
            <p:cNvSpPr/>
            <p:nvPr/>
          </p:nvSpPr>
          <p:spPr>
            <a:xfrm>
              <a:off x="2286000" y="3124080"/>
              <a:ext cx="1981080" cy="0"/>
            </a:xfrm>
            <a:prstGeom prst="line">
              <a:avLst/>
            </a:prstGeom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133360" y="3124080"/>
              <a:ext cx="1066680" cy="1295640"/>
            </a:xfrm>
            <a:prstGeom prst="line">
              <a:avLst/>
            </a:prstGeom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19720" y="3124080"/>
            <a:ext cx="2286000" cy="1219320"/>
            <a:chOff x="4419720" y="3124080"/>
            <a:chExt cx="2286000" cy="1219320"/>
          </a:xfrm>
        </p:grpSpPr>
        <p:sp>
          <p:nvSpPr>
            <p:cNvPr id="118" name=""/>
            <p:cNvSpPr/>
            <p:nvPr/>
          </p:nvSpPr>
          <p:spPr>
            <a:xfrm>
              <a:off x="4419720" y="3124080"/>
              <a:ext cx="2286000" cy="0"/>
            </a:xfrm>
            <a:prstGeom prst="line">
              <a:avLst/>
            </a:prstGeom>
            <a:ln w="7632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124080"/>
              <a:ext cx="762120" cy="1219320"/>
            </a:xfrm>
            <a:prstGeom prst="line">
              <a:avLst/>
            </a:prstGeom>
            <a:ln w="7632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00280" y="4389480"/>
            <a:ext cx="3412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IXO: Indica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 de ob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9400" y="4465800"/>
            <a:ext cx="301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E do ob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Labe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981760" y="1371600"/>
          <a:ext cx="2095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1760" y="1371600"/>
                    <a:ext cx="2095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bl (ex. lblNo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-Texto que o label most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utoSiz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 deixa o label do tamanho do seu tex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ranspare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deixa o label com o fundo transparente ou n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cusContro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dica qual o objeto receberá o foco quando pressionada a tecla de atal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Edi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267160" y="1461960"/>
          <a:ext cx="3267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1461960"/>
                    <a:ext cx="3267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xt (Ex.: txtFo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Tex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Contém o texto digi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Seleciona fonte do tex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olo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Cor de fu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axLength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- (integer) - Tamanho máximo do texto (0 indica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em limite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Edi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Méto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etFocu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Coloca o cursor na caixa de texto, selecionado o texto todo, se exist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lea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pa o conteúdo de TEd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Panel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915160" y="1914480"/>
          <a:ext cx="21621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1914480"/>
                    <a:ext cx="21621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nl (Ex.: pnlRes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String) - Texto exib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evelInner, BevelOuter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Integer) - Definem o tipo (moldura) do pain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BorderStyle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Indica o tipo da bo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 indica a fonte usada pelo pan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Butto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967360" y="1719360"/>
          <a:ext cx="233856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7360" y="1719360"/>
                    <a:ext cx="2338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btn (Ex.: btnCalcul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exto exibido pel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Fonte utilizada n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efaul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Indica se o botão deve responder à tecla 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ncel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Boolean) - Indica se o botão deve responder à tecla ES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BitBtn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0320" y="1628640"/>
          <a:ext cx="236700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1628640"/>
                    <a:ext cx="2367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efixo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btn (Ex.: btnSai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Além das vistas para TButton, tem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Kind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ipo de botão pré-definido, com caption e fig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Glyph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ermite escolher o tipo de figura a ser exibida pelo bot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cc"/>
                </a:solidFill>
                <a:latin typeface="Times New Roman"/>
              </a:rPr>
              <a:t>Componente TGroupBox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23040" y="2784600"/>
          <a:ext cx="341604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2784600"/>
                    <a:ext cx="34160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efixo: grb, fra (Ex.: fraFigu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prieda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Caption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Texto most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Font: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Seleciona fo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Reinaldo Madarazo</dc:creator>
  <dc:description/>
  <dc:language>en-US</dc:language>
  <cp:lastModifiedBy>Reinaldo Madarazo</cp:lastModifiedBy>
  <dcterms:modified xsi:type="dcterms:W3CDTF">1999-02-17T14:23:28Z</dcterms:modified>
  <cp:revision>47</cp:revision>
  <dc:subject/>
  <dc:title>Visual Component Library - VCL</dc:title>
</cp:coreProperties>
</file>