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C87-C515-4F9D-80F0-E9C93D46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8CA-DE21-4E27-AF43-C36A9DF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7F0-12DD-45D4-977C-C44983F2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B6E-15EA-478F-820E-C360619D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3F7-2EC2-40A3-86C8-77629B1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3BE-EAD3-432C-9CB2-8349FA1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EAF-4989-452D-BEDD-34A2842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D50-52AD-45F8-B0F3-F25B94F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D1D-3FC7-4EB9-A01F-EB00B7E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89A-4C2B-4922-AAFC-601E204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481-769F-4619-9328-BD57730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970-9F39-4C7C-9EAF-6E14490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F47-8B01-41B7-A40B-0E021756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4u" descr=""/>
          <p:cNvPicPr/>
          <p:nvPr/>
        </p:nvPicPr>
        <p:blipFill>
          <a:blip r:embed="rId1"/>
          <a:stretch/>
        </p:blipFill>
        <p:spPr>
          <a:xfrm>
            <a:off x="0" y="0"/>
            <a:ext cx="134928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b4u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4964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b4u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34928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b4u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13492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b4u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134964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file: Bollywood 4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9144000" cy="46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unched first in United Kingdom in 1999 as world’s leading Bollywood Television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d to USA and UAE after its successes in the U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ly forayed into India in May 2000. After 2 years, it was available in over a 100 count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Caters to all age-groups and cross section of filmi, music and entertainment lo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Launched B4U Movies in India on October 0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ink_logo" descr=""/>
          <p:cNvPicPr/>
          <p:nvPr/>
        </p:nvPicPr>
        <p:blipFill>
          <a:blip r:embed="rId1"/>
          <a:stretch/>
        </p:blipFill>
        <p:spPr>
          <a:xfrm>
            <a:off x="0" y="0"/>
            <a:ext cx="1890720" cy="1527120"/>
          </a:xfrm>
          <a:prstGeom prst="rect">
            <a:avLst/>
          </a:prstGeom>
          <a:ln w="0">
            <a:noFill/>
          </a:ln>
        </p:spPr>
      </p:pic>
      <p:pic>
        <p:nvPicPr>
          <p:cNvPr id="49" name="link_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90720" cy="1527120"/>
          </a:xfrm>
          <a:prstGeom prst="rect">
            <a:avLst/>
          </a:prstGeom>
          <a:ln w="0">
            <a:noFill/>
          </a:ln>
        </p:spPr>
      </p:pic>
      <p:pic>
        <p:nvPicPr>
          <p:cNvPr id="50" name="link_logo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18907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link_logo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1890720" cy="1527120"/>
          </a:xfrm>
          <a:prstGeom prst="rect">
            <a:avLst/>
          </a:prstGeom>
          <a:ln w="0">
            <a:noFill/>
          </a:ln>
        </p:spPr>
      </p:pic>
      <p:pic>
        <p:nvPicPr>
          <p:cNvPr id="52" name="link_logo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1890720" cy="152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files: E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16160"/>
            <a:ext cx="9144000" cy="43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akhir Dil Hai Hindustan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 is what this channel claimed when it was launched in August 1999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e Telefilms holds 51.00% shares in ETC Networks L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of its programming is Film and Hindi Pop mus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ed ETC Punjabi in June 2000 with a view to penetrate into regional viewer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d on the Bombay Stock Exchange in May 2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600200"/>
            <a:ext cx="2210040" cy="461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 the years MTV has produced a small garden shed full of funsize animated chunks that in the supernatural world of television are called promos. Have a wander through our animated history of magical MTV promo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600200"/>
            <a:ext cx="2209680" cy="42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nel V has followed the same line of weirdness, making eccentric promos. Yet, these promos could be easier to understand for the common layman, as compared to the arcane ones on MTV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600200"/>
            <a:ext cx="4038480" cy="27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C and B4U on the other hand, aim at wholesome family entertainment, Bollywood ishtyle. Their promos are far less vague/abstract and more conventional in promoting the channe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mos Used By The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ink_logo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128600" cy="911160"/>
          </a:xfrm>
          <a:prstGeom prst="rect">
            <a:avLst/>
          </a:prstGeom>
          <a:ln w="0">
            <a:noFill/>
          </a:ln>
        </p:spPr>
      </p:pic>
      <p:pic>
        <p:nvPicPr>
          <p:cNvPr id="60" name="v" descr=""/>
          <p:cNvPicPr/>
          <p:nvPr/>
        </p:nvPicPr>
        <p:blipFill>
          <a:blip r:embed="rId2"/>
          <a:srcRect l="39747" t="0" r="40600" b="0"/>
          <a:stretch/>
        </p:blipFill>
        <p:spPr>
          <a:xfrm>
            <a:off x="3067200" y="1828800"/>
            <a:ext cx="1199880" cy="806400"/>
          </a:xfrm>
          <a:prstGeom prst="rect">
            <a:avLst/>
          </a:prstGeom>
          <a:ln w="0">
            <a:noFill/>
          </a:ln>
        </p:spPr>
      </p:pic>
      <p:pic>
        <p:nvPicPr>
          <p:cNvPr id="61" name="b4u" descr=""/>
          <p:cNvPicPr/>
          <p:nvPr/>
        </p:nvPicPr>
        <p:blipFill>
          <a:blip r:embed="rId3"/>
          <a:stretch/>
        </p:blipFill>
        <p:spPr>
          <a:xfrm>
            <a:off x="7086600" y="1828800"/>
            <a:ext cx="9936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logo" descr=""/>
          <p:cNvPicPr/>
          <p:nvPr/>
        </p:nvPicPr>
        <p:blipFill>
          <a:blip r:embed="rId4"/>
          <a:srcRect l="28209" t="0" r="32567" b="0"/>
          <a:stretch/>
        </p:blipFill>
        <p:spPr>
          <a:xfrm>
            <a:off x="743040" y="1847880"/>
            <a:ext cx="10857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ality B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asma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viva_big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2247840" cy="237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36840" y="1184400"/>
            <a:ext cx="466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ent Hunts on television channels have existed in India for a considerably long time, but with the onse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nnel V’s Popstar Hu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2002 began the era of surrogate advertising through talent hunt sho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ome notable hu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hannel V’s Popstar Hunts in 2002 and 2003, V Supers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TV’s VJ Hunts, Roadies, Item Number Gi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etting Closer To The 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80" y="1600200"/>
            <a:ext cx="29700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active Shows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kra, Loveline, Most Wanted, Record Tod, Select, Kya Bolti tu, In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6280" y="1600200"/>
            <a:ext cx="29700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active Shows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nga, Crush, Phone Bhooth, Hotline,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58080" y="1600200"/>
            <a:ext cx="29700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ink_logo" descr=""/>
          <p:cNvPicPr/>
          <p:nvPr/>
        </p:nvPicPr>
        <p:blipFill>
          <a:blip r:embed="rId1"/>
          <a:stretch/>
        </p:blipFill>
        <p:spPr>
          <a:xfrm>
            <a:off x="6058080" y="1619280"/>
            <a:ext cx="1128600" cy="911160"/>
          </a:xfrm>
          <a:prstGeom prst="rect">
            <a:avLst/>
          </a:prstGeom>
          <a:ln w="0">
            <a:noFill/>
          </a:ln>
        </p:spPr>
      </p:pic>
      <p:pic>
        <p:nvPicPr>
          <p:cNvPr id="72" name="v" descr=""/>
          <p:cNvPicPr/>
          <p:nvPr/>
        </p:nvPicPr>
        <p:blipFill>
          <a:blip r:embed="rId2"/>
          <a:srcRect l="39747" t="0" r="40600" b="0"/>
          <a:stretch/>
        </p:blipFill>
        <p:spPr>
          <a:xfrm>
            <a:off x="3105000" y="1619280"/>
            <a:ext cx="1200240" cy="806400"/>
          </a:xfrm>
          <a:prstGeom prst="rect">
            <a:avLst/>
          </a:prstGeom>
          <a:ln w="0">
            <a:noFill/>
          </a:ln>
        </p:spPr>
      </p:pic>
      <p:pic>
        <p:nvPicPr>
          <p:cNvPr id="73" name="b4u" descr=""/>
          <p:cNvPicPr/>
          <p:nvPr/>
        </p:nvPicPr>
        <p:blipFill>
          <a:blip r:embed="rId3"/>
          <a:stretch/>
        </p:blipFill>
        <p:spPr>
          <a:xfrm>
            <a:off x="8039160" y="1619280"/>
            <a:ext cx="993600" cy="1009800"/>
          </a:xfrm>
          <a:prstGeom prst="rect">
            <a:avLst/>
          </a:prstGeom>
          <a:ln w="0">
            <a:noFill/>
          </a:ln>
        </p:spPr>
      </p:pic>
      <p:pic>
        <p:nvPicPr>
          <p:cNvPr id="74" name="logo" descr=""/>
          <p:cNvPicPr/>
          <p:nvPr/>
        </p:nvPicPr>
        <p:blipFill>
          <a:blip r:embed="rId4"/>
          <a:srcRect l="28209" t="0" r="32567" b="0"/>
          <a:stretch/>
        </p:blipFill>
        <p:spPr>
          <a:xfrm>
            <a:off x="133200" y="1619280"/>
            <a:ext cx="1086120" cy="83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480" y="3809880"/>
            <a:ext cx="594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Concerts and College Fests: </a:t>
            </a: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Enrique, Bryan Adams, Aasma, Rolling Stones, etc.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80" y="4495680"/>
            <a:ext cx="594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dvertising through Serials and Movies: </a:t>
            </a: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KKHH, Darna Mana Hai, Kitni Hasin Hai Zindag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91320" y="1219320"/>
            <a:ext cx="2209680" cy="389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shion Related Shows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Get Gorgeous (also a model hunt competition), V Style Lakme Junki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othings/ Accessories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 also has its own l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shion and Tr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219320"/>
            <a:ext cx="2210040" cy="43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shion related shows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yle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othings/ Accessories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aunched its own line of clothes and accesso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1219320"/>
            <a:ext cx="2209680" cy="389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shion Related Shows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Get Gorgeous (also a model hunt competition), V Style Lakme Junki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othings/ Accessories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 also has its own l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v" descr=""/>
          <p:cNvPicPr/>
          <p:nvPr/>
        </p:nvPicPr>
        <p:blipFill>
          <a:blip r:embed="rId1"/>
          <a:srcRect l="39747" t="0" r="40600" b="0"/>
          <a:stretch/>
        </p:blipFill>
        <p:spPr>
          <a:xfrm>
            <a:off x="3905280" y="1447920"/>
            <a:ext cx="1200240" cy="806400"/>
          </a:xfrm>
          <a:prstGeom prst="rect">
            <a:avLst/>
          </a:prstGeom>
          <a:ln w="0">
            <a:noFill/>
          </a:ln>
        </p:spPr>
      </p:pic>
      <p:pic>
        <p:nvPicPr>
          <p:cNvPr id="82" name="logo" descr=""/>
          <p:cNvPicPr/>
          <p:nvPr/>
        </p:nvPicPr>
        <p:blipFill>
          <a:blip r:embed="rId2"/>
          <a:srcRect l="28209" t="0" r="32567" b="0"/>
          <a:stretch/>
        </p:blipFill>
        <p:spPr>
          <a:xfrm>
            <a:off x="1657440" y="1467000"/>
            <a:ext cx="1085760" cy="831600"/>
          </a:xfrm>
          <a:prstGeom prst="rect">
            <a:avLst/>
          </a:prstGeom>
          <a:ln w="0">
            <a:noFill/>
          </a:ln>
        </p:spPr>
      </p:pic>
      <p:pic>
        <p:nvPicPr>
          <p:cNvPr id="83" name="b4u" descr=""/>
          <p:cNvPicPr/>
          <p:nvPr/>
        </p:nvPicPr>
        <p:blipFill>
          <a:blip r:embed="rId3"/>
          <a:stretch/>
        </p:blipFill>
        <p:spPr>
          <a:xfrm>
            <a:off x="6397560" y="1447920"/>
            <a:ext cx="9939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7:21:29Z</dcterms:created>
  <dc:creator>A S Raghunagh</dc:creator>
  <dc:description/>
  <dc:language>en-US</dc:language>
  <cp:lastModifiedBy>A S Raghunagh</cp:lastModifiedBy>
  <dcterms:modified xsi:type="dcterms:W3CDTF">2004-09-13T17:21:34Z</dcterms:modified>
  <cp:revision>1</cp:revision>
  <dc:subject/>
  <dc:title>PowerPoint Presentation</dc:title>
</cp:coreProperties>
</file>