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74A5-FD47-429D-84C0-4CF2CFB4D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6FAC-B749-42EF-B622-85C2AD84B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946C-11CF-48E1-9AC4-7FEE54DDD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E768-A7BA-4780-8541-6DF3C5ACD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62506-B1BC-41F6-8A1E-55D8A0E31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0012B-6FB8-4794-98DA-9540AEDD2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1A9CD-7419-489D-9615-5C7D6E52E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37ADF-559A-43A9-BCF5-499F8E6C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C9A32-79EE-466F-ACC7-B8CB33C8C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38735-54F8-4B32-88EE-003C8EF94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B919A-654E-4FA4-A83E-5EF0D8C3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B035-0965-4CFC-BA4C-7F2E63BD7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FF2A7-5EC8-48AD-A9D4-9056A09E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F9217-3117-44EB-B862-A354B12A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EC6D6-A126-4C31-9B38-C9881BD89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CC5AB-BA9B-43BD-B0CC-2FABD1754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817B2-B910-4494-AED3-C25DEF3AE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2439-8E18-4937-9085-CE396D501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08C4-E8DE-4D2F-B795-F14A1FE96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C57F-354A-4A3A-9F7F-11886F5FF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A65A-05D1-4C35-B5CD-A073E743C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56CD-BBB8-4094-9A95-9FB0C7E0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0E75-8BA2-4196-8CC1-06C82C43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C3DE-37B1-4A22-84A6-2D98ECBA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E6B9A-4315-42C5-BD0A-39068518285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25560"/>
            <a:ext cx="2206800" cy="22096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2286000"/>
            <a:ext cx="2206800" cy="220968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0" y="4562640"/>
            <a:ext cx="2241720" cy="22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419720" y="0"/>
            <a:ext cx="4724280" cy="3463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3394080"/>
            <a:ext cx="4648320" cy="3463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572000" y="3394080"/>
            <a:ext cx="4572000" cy="3463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4495680" cy="34639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02570-1D38-45BA-B3AF-2185DA4E1C7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mputer Applications in Busine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TM 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IT-competent people will…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ble to make the computer work for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ble to interact with the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pret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comfortable in cyber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impact of computers on society, now and in the fu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n intelligent consumer of comput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n intelligent consumer of software and other nonhardware-related computer products and servi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conversant in the language of computers and information technolo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ourse Detail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to the emerging uses of computer in business organiz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d for all JG SOM majors and majors that are serviced by JG S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ing point for those who want to pursue minor i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ourse Detail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students an understanding of the rudiments of proper file, document, data and presentation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soft Off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business applications of computers and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mulate creative or alternative uses of such techn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ourse Detail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ject, presentation and defense that integrates all the less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ative analysis of 2 firms in an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paper using 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ze data using 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Powerpoint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Grading System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438280" y="1600200"/>
          <a:ext cx="6400800" cy="4991040"/>
        </p:xfrm>
        <a:graphic>
          <a:graphicData uri="http://schemas.openxmlformats.org/drawingml/2006/table">
            <a:tbl>
              <a:tblPr/>
              <a:tblGrid>
                <a:gridCol w="3200400"/>
                <a:gridCol w="32004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 integrative group project and defen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long ex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long ex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zzes, assignments and activit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Grading System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438280" y="1600200"/>
          <a:ext cx="6400800" cy="4734000"/>
        </p:xfrm>
        <a:graphic>
          <a:graphicData uri="http://schemas.openxmlformats.org/drawingml/2006/table">
            <a:tbl>
              <a:tblPr/>
              <a:tblGrid>
                <a:gridCol w="2590920"/>
                <a:gridCol w="3809880"/>
              </a:tblGrid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.00-100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.00-92.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0-87.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.00-79.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+ cut-off for IT min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.00-73.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.00-67.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-off for proficiency requir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.00-59.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Policie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submissions, unless otherwise stated, will be at 4:30pm through QMIT secret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e submissions will merit corresponding deductions at the discretion of the teac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lure to submit any major requirement will merit an incomplete or a z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Policie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cellphones on silent m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ain from surf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zes may be announced or unannoun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ul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puter is transforming the way w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 skills are necessary both inside the Ateneo and in your future care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4T21:53:20Z</dcterms:created>
  <dc:creator>Alfredo L. Chua</dc:creator>
  <dc:description/>
  <dc:language>en-US</dc:language>
  <cp:lastModifiedBy>Alfredo L. Chua</cp:lastModifiedBy>
  <dcterms:modified xsi:type="dcterms:W3CDTF">2005-04-15T00:23:31Z</dcterms:modified>
  <cp:revision>4</cp:revision>
  <dc:subject/>
  <dc:title>ITM 11</dc:title>
</cp:coreProperties>
</file>