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8891-3F0D-45F1-9D74-13C8D65D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13E3-87AD-481B-97BA-D3C1E3C1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0447-129E-467B-AFF0-02FA11F8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521D-2EB2-4716-A3BD-0E4000A6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5E81-4549-4EED-88EC-A476111F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0BA1-496E-46FF-A7B3-B64D9D05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CB7D-B98D-4866-9725-BFCFB5A1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C4B7-922A-466E-AAEE-A0BC04AF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E79D-8A27-426B-97A3-613A75A5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76C3-3D75-44C6-BB49-589F4410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95F0-D284-49A5-B1A2-DAFCD35A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84E1-E5B1-4355-B97A-B1AB9552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2250-0E72-47D2-A902-3D5A88DB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A398-5C0D-45DC-8423-36773DCA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AD2F-92E5-4E1B-94E7-202BB0D2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8F72-6948-4C26-B117-81256D2F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3690-95F5-4409-9C79-6A474636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BB0E-9E1D-440E-9B74-15196E39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526D-46D3-44BF-A1DC-2E1F6945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C4B2C-19A6-43AA-9563-C4B6A87A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2E35-89BD-4A4C-9F0D-2C112C5B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3DE8-37D4-4EF2-93E3-0506EF4D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1957-1D88-461D-8F30-E9855A3E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3E9A8-38E1-4BCE-86E6-0569B9C3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F610-804E-44EB-A121-5923E7DCB6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2003 by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1295280" y="632448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3794"/>
                </a:moveTo>
                <a:lnTo>
                  <a:pt x="28594" y="10800"/>
                </a:lnTo>
                <a:lnTo>
                  <a:pt x="14581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609480" y="632448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60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2003 by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61C3-2F10-4D8D-A4E7-04CACA4AF6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1.png"/><Relationship Id="rId4" Type="http://schemas.openxmlformats.org/officeDocument/2006/relationships/slide" Target="slide12.xml"/><Relationship Id="rId5" Type="http://schemas.openxmlformats.org/officeDocument/2006/relationships/image" Target="../media/image1.png"/><Relationship Id="rId6" Type="http://schemas.openxmlformats.org/officeDocument/2006/relationships/slide" Target="slide14.xml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10.xml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1.png"/><Relationship Id="rId4" Type="http://schemas.openxmlformats.org/officeDocument/2006/relationships/slide" Target="slide19.xml"/><Relationship Id="rId5" Type="http://schemas.openxmlformats.org/officeDocument/2006/relationships/image" Target="../media/image1.png"/><Relationship Id="rId6" Type="http://schemas.openxmlformats.org/officeDocument/2006/relationships/slide" Target="slide21.xml"/><Relationship Id="rId7" Type="http://schemas.openxmlformats.org/officeDocument/2006/relationships/image" Target="../media/image1.png"/><Relationship Id="rId8" Type="http://schemas.openxmlformats.org/officeDocument/2006/relationships/slide" Target="slide23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16.xml"/><Relationship Id="rId6" Type="http://schemas.openxmlformats.org/officeDocument/2006/relationships/image" Target="../media/image1.png"/><Relationship Id="rId7" Type="http://schemas.openxmlformats.org/officeDocument/2006/relationships/slide" Target="slide17.xml"/><Relationship Id="rId8" Type="http://schemas.openxmlformats.org/officeDocument/2006/relationships/image" Target="../media/image1.png"/><Relationship Id="rId9" Type="http://schemas.openxmlformats.org/officeDocument/2006/relationships/slide" Target="slide13.xml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1.png"/><Relationship Id="rId4" Type="http://schemas.openxmlformats.org/officeDocument/2006/relationships/slide" Target="slide20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22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21.xml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8.xm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5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7.xm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" Target="slide27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31.xml"/><Relationship Id="rId4" Type="http://schemas.openxmlformats.org/officeDocument/2006/relationships/slide" Target="slide35.xml"/><Relationship Id="rId5" Type="http://schemas.openxmlformats.org/officeDocument/2006/relationships/slide" Target="slide40.xml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image" Target="../media/image1.png"/><Relationship Id="rId4" Type="http://schemas.openxmlformats.org/officeDocument/2006/relationships/slide" Target="slide33.xml"/><Relationship Id="rId5" Type="http://schemas.openxmlformats.org/officeDocument/2006/relationships/image" Target="../media/image1.png"/><Relationship Id="rId6" Type="http://schemas.openxmlformats.org/officeDocument/2006/relationships/slide" Target="slide34.xml"/><Relationship Id="rId7" Type="http://schemas.openxmlformats.org/officeDocument/2006/relationships/slide" Target="slide30.xml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5.xml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25.xml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image" Target="../media/image1.png"/><Relationship Id="rId4" Type="http://schemas.openxmlformats.org/officeDocument/2006/relationships/slide" Target="slide37.xml"/><Relationship Id="rId5" Type="http://schemas.openxmlformats.org/officeDocument/2006/relationships/image" Target="../media/image1.png"/><Relationship Id="rId6" Type="http://schemas.openxmlformats.org/officeDocument/2006/relationships/slide" Target="slide38.xml"/><Relationship Id="rId7" Type="http://schemas.openxmlformats.org/officeDocument/2006/relationships/slide" Target="slide30.xml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35.xml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35.xml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35.xm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image" Target="../media/image1.png"/><Relationship Id="rId5" Type="http://schemas.openxmlformats.org/officeDocument/2006/relationships/slide" Target="slide6.xml"/><Relationship Id="rId6" Type="http://schemas.openxmlformats.org/officeDocument/2006/relationships/image" Target="../media/image1.png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Computers:</a:t>
            </a:r>
            <a:br>
              <a:rPr sz="48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ools for an Information A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09120" y="426708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ng Systems: Software in the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1747-7E07-41F7-8E4A-28E4BA4290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icrosoft Window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an as an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operating environme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or MS-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 full-blown operating system; required MS-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a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graphical 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s can use DOS commands and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a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6" action="ppaction://hlinksldjump"/>
              </a:rPr>
              <a:t>complete family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of operating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7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B556-75B6-4535-BF74-8490C3E994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S-DOS Operating Environmen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ayer added “on top” of 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tes operating system from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operating system easier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a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10D9-721D-4D99-B248-42771A32D16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raphical User Interfa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 clicks an icon to perform ta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Menu in lower left corner launches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menus to activate com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213C-AF6B-463A-ACF8-5936A3B4293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ndows Featur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file names (up to 255 charac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g and 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installing hardware components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Linking and Embedding (O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user to embed or link one document to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9811-C0BF-488E-AAC6-858DF8CEBD4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Windows 9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Millennium Edition (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Corporate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6" action="ppaction://hlinksldjump"/>
              </a:rPr>
              <a:t>Windows X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8" action="ppaction://hlinksldjump"/>
              </a:rPr>
              <a:t>Windows 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Windows Famil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9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1BBF-456D-4895-858C-401FBF6CBD93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ndows 9</a:t>
            </a:r>
            <a:r>
              <a:rPr b="0" i="1" lang="en-US" sz="4400" spc="-1" strike="noStrike">
                <a:solidFill>
                  <a:srgbClr val="dfdef6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home/consumer mar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a shell, but a self-contained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an with Windows 9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Gener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Windows 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7" action="ppaction://hlinksldjump"/>
              </a:rPr>
              <a:t>Windows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9" action="ppaction://hlinksldjump"/>
              </a:rPr>
              <a:t>improvement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over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9D3E-B9CD-468A-A182-48A071AA2BD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ndows 98 Enhance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rnet/intranet browsing capabili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 for state-of-the-art hardware, including DVD and multimed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 for huge disk driv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zards: step-by-step software for installing, configuring, and using softwa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640F-6AFC-4778-B091-868403E4E10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ndows ME Enhance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media support: Media Player, video e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d reliability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 network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9A95-13DF-4E02-A1CC-879E56405FF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rporate Marke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 stands for “new technolog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Windows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E1D1-E900-41D5-982F-8A8455098F3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ndows 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ktop looks and acts like Windows 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t for corporate, networked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ineered for scalability (the ability to handle many us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er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8E44-EAFC-4218-8CF4-A60EA290974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functions of an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the basics of a personal computer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advantages of a graphical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te among different versions of Microsoft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the need for network operating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898C-A84E-49BF-BE40-6927EF0121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ndows 2000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test generation of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computer “serves” many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identify yourself and the system knows your p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get “your” desktop and files, regardless of which PC you use to log into the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7355-A2EB-4E0E-B4CB-BF5960CA98B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ndows XP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s consumer and corporate versions of Windows together into a single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Home and Professional E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Enhanc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2524-0317-41C6-BC9E-2074472588F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ndows XP Enhance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 clearer and uncluttered 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icons on redesigned Start Me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multimedia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person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user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can log off, leaving programs running, and allow another user to log 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up limited accounts for children to use; i.e., no inappropriate games or no Internet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support and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6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96BC-9E06-4143-BCAF-31A7648A967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ndows 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d-back version of Windows 9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to work on machines with small screens and little, if any,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in Pocket P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in embedded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devices integrated into other products; i.e., rob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.NET supports .NET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69CD-36CB-4ECF-9D2E-4E40ECF13B0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AC 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for the Macintosh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commercially successful G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served as the model for Windows and other GUI products developed since 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9296-0B5B-4263-B258-0B9FBA64430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X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in 1971 for use on the DEC mini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-based system with command-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tied to any family of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s on just about every type of system (PC, mainframe, workstation) from any manufactu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operating system in use on Internet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les many simultaneous users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5A83-85D3-4927-9E6E-45115A7F3D8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inux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command-lin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companies have created a GUI to work with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-source con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code is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s can download, change, and distribute the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stable than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 relatively sca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C86D-581E-4191-BBED-F17CE51F486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Operating Systems for Network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operating system (NO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es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network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resources appear as though they were running from client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Common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CFA1-530B-49CA-837E-A165EA549D4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etwork Func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resources (hard disks and prin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ubleshoo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ve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7F63-34B8-41FA-9992-5E3DE778C83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etwork Operating Syst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N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2000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.NE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ll Ne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7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4B53-E223-41C9-8318-0A218F8C61E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methods of resource allocation on larg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differences among multiprocessing, multiprogramming, and time-sh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principles of 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several functions that are typically performed by utility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8AC53-1D18-46E3-8245-C58B0F2644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Operating Systems for Large Computer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urce allocation: assigning and computer resources to certain programs and processes for their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issues related to resource al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Sharing the Central Processing U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Sharing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ing storag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Sharing print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C8B66-D172-4E67-9489-6D871C3153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haring the CP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Multi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Multi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6" action="ppaction://hlinksldjump"/>
              </a:rPr>
              <a:t>Time-Sh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7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7A12-DCD5-4138-AEB8-81A55D9CC7A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ultiprocess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e of a powerful computer with multiple CP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rograms run simultane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runs on its own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38552-4632-48A6-B94F-3267B5B9F07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ultiprogramm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or more programs executed concurr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s take turns using the CP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-dri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terrupt suspends processing to allow another program to r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the second program runs, the operating system returns the CPU to another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ly used for batch programs that do not require user 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CE5A-FFB3-4217-9490-C834CCAC4EB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ime-Shar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s take turns using the CP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-dri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user is given a slice of time (fraction of a seco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 works only on that user’s tasks during its time s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 time: the time between typed request and computer’s re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used in applications with many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86DF-97CE-46A3-8215-EB8E65BA9E6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haring Memor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Divides memor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to foreground and 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6" action="ppaction://hlinksldjump"/>
              </a:rPr>
              <a:t>Uses virtual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called virtu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7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3EFA-9731-40FC-B63F-86249947E51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emory Manage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s memory into separate part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cates memory to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s programs separate from one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24EB-760D-4458-A2DF-4ED278940ED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oreground and Backgroun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ground: for programs with high priority that will receive more CPU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ground: for programs with lower priority that will receive less CPU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s waiting to run are kept i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queu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ased on their 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1E27-DB3A-4124-BB27-6427FDBE65E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rtual Stora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s currently executed are stored on d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ions of program brought into memory as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izes the amount of memory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implemented by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a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 memory into small, fixed-size p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table keeps track of memory 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F936-8430-454F-AB5D-C089136F15F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haring Storage Resour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s track of location of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ds to commands to manipulate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s track of input and output requests for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es them in the order recei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22C0-80C6-463B-9E51-C48B9A86E3B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Operating Systems: Hidden Softwar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as intermediary between hardware and applications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Systems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7" action="ppaction://hlinksldjump"/>
              </a:rPr>
              <a:t>Ker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1E73D-AD04-4F1E-8837-4A285A9869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haring Printing Resour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oling: program writes a line to a disk file rather than sending directly to a pr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file is completed, placed in que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 printed when printer become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program to complete execution much more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to disk much quicker than writing to pr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87B30-73D0-42E7-9A68-A75952034A2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tility Progra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secondary ch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 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04DC-41FC-4B97-89A2-71D66AF45EE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ile Manag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es files in a hierarchical directory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uses Windows Explo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E6A4-7ADA-4E27-ABF3-CE66D2549F9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ile Compres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amount of space a file requ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s file take up less space on d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s less time to transmit across communication 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4724280" y="1925640"/>
            <a:ext cx="4191120" cy="26463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4918-DE6A-4436-BAC2-9C5B5491F0D2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ther Utility Progra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up and Res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up: make copies of disks and store in a safe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ore: restore files from back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k defragmenter: reorganizes disk so all files are stored in contiguous 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ice driver: handles commands for devices, such as printers and storage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6339-C237-4581-852E-43C5D65F1D25}" type="slidenum">
              <a:t>4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perating Syste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programs that lies between applications software and the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s computer’s resources (CPU, peripheral devi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s a user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s how user interacts with operating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and executes services for applications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7D66-82E2-4CB6-A409-D0521AC7C1E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ystems Softwa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rograms related to coordinating computer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ng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 transl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t program code to machine-readable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ty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 secondary ch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BEB3-9E86-4028-82D3-1A53ED315DE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ern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s the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aded from hard drive into memory when computer is boo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oo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fers to starting the comp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ads other operating system programs from disk storage a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programs referred to a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nres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521E-0D62-4162-81B9-6FA9E5D3D05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Operating Systems for Personal Computer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form: combination of computer hardware and operating system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int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icrosoft Windows running on an Intel-based PC) is most com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MS-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 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00FA-C66B-41CF-859D-D92CE76432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S-D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a command-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een provides prompts for 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types comm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ly replaced by graphical user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user-frien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09480" y="5943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2561-EEAD-4531-9C77-CEA744D0985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00:35:14Z</dcterms:created>
  <dc:creator>Tom Mckenzie</dc:creator>
  <dc:description/>
  <dc:language>en-US</dc:language>
  <cp:lastModifiedBy>Alfredo L. Chua</cp:lastModifiedBy>
  <dcterms:modified xsi:type="dcterms:W3CDTF">2005-04-23T02:07:24Z</dcterms:modified>
  <cp:revision>7</cp:revision>
  <dc:subject/>
  <dc:title>Computers: Tools for an Information 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