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EEF-2754-4A95-981B-0D0B191E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700-01E9-4995-80FC-2E61342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AD5-C164-4D21-941F-A09C4D96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A7D-0BCC-47EA-BFF3-99118F29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2161-013E-4DD6-AAA0-80620DF9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74F9-CFDC-4FE2-8364-CD49596C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FBCA-3E63-40B2-99D1-628CF85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3B47-1A98-4B20-9AD9-53D9FEB2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80F3-A456-4721-A0C2-8A9B35FE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01FA-E07D-4E2E-A67E-476C9AEF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7AD4-3F40-4723-8585-1879AC8A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71E-DF11-4CA5-A927-0F4CC0C7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1CCF-7390-46CF-A484-BD9001B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18C4-E07C-4505-BF74-6B13B116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BC9B-2651-4BBD-A8EC-0DF7502A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4A38-C59C-4E8C-8A2D-18068D2C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B8A-A6C3-4CD8-936D-77EF823E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D53-B19C-4BD1-A901-EF5D23B1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3FF-12B1-4A10-B127-E8D75D1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EAB-033E-4A06-90DD-B21873EA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E57-F7BF-4DCE-A85B-0E5AF06D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2BF-4435-4A73-8ECB-8CF93E7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E9A-3A26-4B70-AC7E-2E4DC9B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FB9-6319-4B5A-AED9-50C973A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FE33-89FF-45DF-9903-C568024A26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4562640"/>
            <a:ext cx="2241720" cy="22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46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394080"/>
            <a:ext cx="4648320" cy="346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3394080"/>
            <a:ext cx="4572000" cy="346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95680" cy="346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B20-F8C1-40C6-B097-2911722DCD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M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Coding the Pr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ranslating the algorithm from the planning stage into a formal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languages have syntax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milar to grammatic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omputer will reject a program with even a minor synt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s can be keyed into the computer by using a tex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Testing the Pr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wo phases of testing the program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: c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verting the program you wrote into the binary instructions the CPU understand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dentifying and correcting logic errors i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Transl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piler translates the program (source module) into a machine language version (object mod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the compiler detects syntax errors, it will produce messages describing tho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no syntax errors exist, the object module will be linked to create a load module, which is executed by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Documenting the Pr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terials are generated at each part of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mon examples of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wchart and/or pseudo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ments within the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s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youts of input and output record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narrative description of the progra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Levels of Languag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wer-level languages – more like the 0s and 1s the computer itself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gher-level languages – more like the languages peopl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vided into five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Major Programming Languag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TRAN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first high-level language; FORmula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BOL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mon Business-Oriented Language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; for 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IC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ginners’ All-Purpose Symbolic Instruction Code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teach programming to colleg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Major Programming Languag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RPG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port Program Generator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; to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ow rapid creation of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Visual Basic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found in MS Excel; 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lows programmer to create Windows-like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C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ginally designed to write system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Java</a:t>
            </a:r>
            <a:r>
              <a:rPr b="0" lang="en-PH" sz="3200" spc="-1" strike="noStrike">
                <a:solidFill>
                  <a:srgbClr val="000000"/>
                </a:solidFill>
                <a:latin typeface="Arial Narrow"/>
              </a:rPr>
              <a:t>: runs on different platforms; v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ry useful for Interne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ogramming Concep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character 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references to other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ut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1905" t="40680" r="17860" b="33898"/>
          <a:stretch/>
        </p:blipFill>
        <p:spPr>
          <a:xfrm>
            <a:off x="228600" y="2209680"/>
            <a:ext cx="8763120" cy="22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dentify the Data Type</a:t>
            </a:r>
            <a:br>
              <a:rPr sz="3200"/>
            </a:b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Integer, Real, Character, Boolean, String, Array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zon C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917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2-412-93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4, 1, M, 4.1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 – performs Mathematic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Simple numeric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A Simple numeric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(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(^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(m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+ 7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/ 7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mod 1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od 4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^ 4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Simple numer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Boolean (true or 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&gt; 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&lt;&gt;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&gt;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 &gt;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 to Programm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– list of computer instructions that direct the computer what you want i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language – a set of rules that provides a way of telling the computer what operations to per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–the procedure in making the pro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– works with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– must all be true to b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– as long as one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- Op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AND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AND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OR FALSE OR FALSE OR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819520" y="3048120"/>
            <a:ext cx="5410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le is better than Atene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s f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819520" y="3886200"/>
            <a:ext cx="5410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norio will not join the 2005 tea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and Seek is a horror movi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19520" y="4533840"/>
            <a:ext cx="5410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atenate (&amp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eo”&amp;“de Mani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3880" y="3048120"/>
            <a:ext cx="723924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eneode Manil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 to Programm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can be expressed in two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chart: a system of symbols  for expressing algorithms; indicates flow of control/sequence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code: textual representation of an algorithm, close to natural language, becomes part of program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(5&gt;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819520" y="3429000"/>
            <a:ext cx="5410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perators and Express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438280" y="533520"/>
          <a:ext cx="1658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33520"/>
                    <a:ext cx="1658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267080" y="457200"/>
            <a:ext cx="426744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553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 Macro3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 Macro3 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 Macro recorded 4/21/2002 by 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ge("C16:C17").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th Selection.I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olorIndex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ttern = xl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ge("D16:E16").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th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HorizontalAlignment = xl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VerticalAlignment = xlBot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WrapText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Orientation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dIndent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hrinkToFit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MergeCells =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lection.Me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79132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 Narrow"/>
              </a:rPr>
              <a:t>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579132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Arial Narrow"/>
              </a:rPr>
              <a:t>Pseudo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 Narrow"/>
              </a:rPr>
              <a:t>Introduction to Programming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8108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312408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4114800"/>
            <a:ext cx="1828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5029200"/>
            <a:ext cx="18288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chin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657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038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006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5791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886200"/>
            <a:ext cx="18288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943600"/>
            <a:ext cx="18288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029200"/>
            <a:ext cx="18288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The Programming Proce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ive main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efining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lanning th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ding the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sting the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c36c03"/>
              </a:buClr>
              <a:buSzPct val="7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ocumenting the program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Defining the Probl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Must be clearly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ssumptions regarding inputs to the program and the desired output must be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 Narrow"/>
              </a:rPr>
              <a:t>Planning the Solu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of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vailable planning tools: flowchart or pseudo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k-check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at is, carry out each step of the algorithm with pencil and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21:53:20Z</dcterms:created>
  <dc:creator>Alfredo L. Chua</dc:creator>
  <dc:description/>
  <dc:language>en-US</dc:language>
  <cp:lastModifiedBy>Alfredo L. Chua</cp:lastModifiedBy>
  <dcterms:modified xsi:type="dcterms:W3CDTF">2005-04-19T00:23:09Z</dcterms:modified>
  <cp:revision>8</cp:revision>
  <dc:subject/>
  <dc:title>ITM 11</dc:title>
</cp:coreProperties>
</file>