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0104-4D93-461D-B2C2-0DA52DAC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A4A-1240-4F9B-A015-4364869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E22-2ED5-4F60-A037-6D7C367F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7F9-9409-4CB4-BAFC-D0DC1E31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26C2-A00E-4D23-B24D-48477F1C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250F-9EFD-4F08-B550-06570174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910-4B33-4D31-88BD-53656114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B8A3-1A15-4DDC-939D-AD49DBAD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98A2-E8A2-4562-A704-47AC7B6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193B-0283-4FC8-B831-5138815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3711-E19A-47D5-8608-CF32F8FE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79A-D5B4-4416-98C9-0DD61B70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E52B-052A-4372-84AC-70886711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2248-4CBF-4075-95F1-C1EB8404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B041-CA74-4D31-9FF8-107CD9B1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5499-FFDB-4BFC-839F-20F96BD9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3C5B-A467-4388-89B0-38A86091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F464-2A91-47E2-8BBA-C27E9B49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56E-FE79-432D-B0AF-961B942D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90F-BDE8-4FEF-912A-0EE1C5FB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F14-6BFC-43C5-A482-9DBF5EFD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AFB-55C9-4664-8420-CC8D99D1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C1E-89DC-49B3-A1D2-9E63606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064C-975E-4EAD-B9F2-69AA1B0C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8 April 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M 11: Computer Applications in Busin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1E67-49F3-452E-A692-72AC4E761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B7A7-4D87-46C7-9D74-C16F5846B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ffice Suite Conven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April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Command -- ctrl - 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s an existing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efault opens “My Documents” fo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Command -- ctrl - F4 or ctrl - 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ses the activ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s your work! Opens file dialog box, if first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e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ves your work in a new file, with a new filename, opens a file dialog box (RTF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y when working with multiple versions of a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Save your work before disaster strik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nt 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nts your work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s print dialog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cop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lated / Not Col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t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ter proper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ert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, location, size, created, modified, ac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le, subject, author, manager, company, category, keywo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st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king with Several Document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4640" y="19051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can open several documents at the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window has its own titlebar, control buttons and scroll b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dow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ind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s a new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file, same “sess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l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s the window, still the sam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ful when looking at different parts of th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indow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nge 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es the document wind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cade (in Powerpo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ranges the windows one on top of the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fall metaphor  - “cascad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o (Ctrl -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oes the most recent command(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o (F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s the most recent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s the selection to the clip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a copy of the selection in the clip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ts a copy of the clipboard contents into the current cursor 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ste Spe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tes a copy of the clipboard contents into a different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useful in Word, when moving text into a different area, with a different format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xt slide, Paste as “unformatted tex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like you typed i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king with Application Window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starting an application, the program appears in one of three st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xim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nim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different states in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ste Special Exam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523880"/>
          <a:ext cx="3838680" cy="19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8386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895480" y="3048120"/>
          <a:ext cx="58788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3048120"/>
                    <a:ext cx="58788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895480" y="4724280"/>
          <a:ext cx="544032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724280"/>
                    <a:ext cx="544032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rot="5400000">
            <a:off x="1600200" y="3352680"/>
            <a:ext cx="1066680" cy="1371600"/>
          </a:xfrm>
          <a:custGeom>
            <a:avLst/>
            <a:gdLst>
              <a:gd name="textAreaLeft" fmla="*/ 355680 w 1066680"/>
              <a:gd name="textAreaRight" fmla="*/ 913680 w 106668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s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600200" y="4800600"/>
            <a:ext cx="1067040" cy="13716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ste Spe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 (de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etes the se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etes the item next to the curs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All (ctrl - 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s all the items inside the component where the cursor 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es to a specified part of a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dit Menu Comman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(ctrl - 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ds text in the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lace (ctrl - 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laces any text that is found with the specified repla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elp Men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ik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two or more items from different locations (ctrl-F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ems are added one afte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then inserted as a group in the new location. (ctrl + shift - F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tents are then deleted from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I insert the spiked items without emptying the contents in mem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een cap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tangular sel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Interface Features in Offi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410080" y="2057400"/>
          <a:ext cx="53352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057400"/>
                    <a:ext cx="533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52280" y="1676520"/>
          <a:ext cx="615492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676520"/>
                    <a:ext cx="615492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400800" y="1905120"/>
            <a:ext cx="274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u B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 B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Butt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ol B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ument Ar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oll B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on Indic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us B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Interface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tle 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the program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ol Butt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to size and close the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u 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commands you click to perform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Interface Compon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 B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cuts to the commands in the menu 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d processing documents, worksheets, s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oll B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navigate each document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us B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s information about the toggle ke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 Closer Loo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oft Office had a goal of integrating work in the compu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the emphasis of “user-friendliness”, Microsoft Office applications have a common “look and fee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enus appear in the three Office applications -- Word, Excel, Powerpoi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mmon Menu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ome menus that are consistent in appearance and function across the three appl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d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Men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752480"/>
          <a:ext cx="2409840" cy="40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240984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809880" y="1752480"/>
          <a:ext cx="1533600" cy="32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1752480"/>
                    <a:ext cx="1533600" cy="32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248520" y="1752480"/>
          <a:ext cx="1685880" cy="324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752480"/>
                    <a:ext cx="1685880" cy="32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Men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eates a new docu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fault template is pre-sel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late: pre-defined docu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mplates that give you a head start in creating your docu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zards let you change the style or format of the templ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12:30:34Z</dcterms:created>
  <dc:creator>pc</dc:creator>
  <dc:description/>
  <dc:language>en-US</dc:language>
  <cp:lastModifiedBy>pc</cp:lastModifiedBy>
  <dcterms:modified xsi:type="dcterms:W3CDTF">2003-04-27T15:42:48Z</dcterms:modified>
  <cp:revision>12</cp:revision>
  <dc:subject/>
  <dc:title>Common Office Suite Coomponents</dc:title>
</cp:coreProperties>
</file>