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1B341-1250-4411-B13A-D6E0C8845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ction 10.1.2 – Using Lookup and Referenc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cept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Lookup and Reference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ethod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xcel provides several functions for use in reference and lookup tasks.  Included in this section are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dex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returns a value from a specified row and column intersection.  Syntax: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index(array, rownum, colnum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array is the range of cells to search in,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re the row and column in the specified array from which the value is returned.  The value at the intersection of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own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lnu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n the array is returned by this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tch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returns the position of a value in a specified array.  Syntax: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match(lookup, array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lookup is the value to locate and array is the range of cells which may contain the value sought.  If match does not find the specified value, a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#N/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retur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Lookup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earches the top row of a specified array for a given value and then returns a value in the same column.  Syntax: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hlookup(lookup,  array, rowindex, rangelookup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ok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value to find in the top row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range of cells to search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owinde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row number from which the returned value is obtained, and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ngelook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logical (Boolean) value which indicates if an approximate match is accep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Arial"/>
              <a:buChar char="o"/>
              <a:tabLst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VLookup 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earches the left most column of a specified array for a given value and then returns a value in the same row.  Syntax: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=vlookup(lookup, array, colindex, rangelookup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ok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value to locate in the left-most column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rray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range of cells to search,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linde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the column number from which the returned value is obtained, and the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ngelookup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a logical (Boolean) value which indicates if an approximate match is accep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tes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Section 6.4.1 - Analyzing a String (LEN and SEA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Conc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Using the LEN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Meth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The LEN function can be used to return the number of characters (letters, numbers, spaces, etc.) in a given string.  The LEN function's syntax is: =LEN(strin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Conc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Using the SEARCH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Meth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The SEARCH function can be used to return the starting point of a search string within another (longer) string.  The SEARCH function's syntax is: =SEARCH(string_to_find, original_string, start).  Here, string_to_find is the string to search for, original_string is the string to look in (or a cell reference), and start is the character position to start the search a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The SEARCH function returns an integer value if the search string is found.  This value indicates the starting position of the search string in the larger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Section 6.4.1 - Analyzing a String (LEN and SEA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from the previou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Section 6.4.1 - Analyzing a String (LEN and SEAR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from the previou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Section 6.4.2 - Changing the Case (LOWER, PROPER, and UPP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Conc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Using the LOWE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Meth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The LOWER function returns the specified text string all in lowercase characters.  The syntax for the LOWER function is: =LOWER(text), where text is a string or cell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Conc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Using the PROPE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Meth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The PROPER function returns the specified text string with the first character of each word capitalized.  The syntax for the PROPER function is: =PROPER(text), where text is a string or cell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The string returned is sometimes known as having "title case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Conc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Using the UPPER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Meth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The UPPER function returns the specified text string all in uppercase characters.  The syntax for the UPPER function is: =UPPER(text), where text is a string or cell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Section 6.4.3 - Extracting Characters (LEFT, MID, and 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Conc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Using the LEF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Meth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The LEFT function returns the left-most characters from a given string.  The function's syntax is: =LEFT(text, characters), where text is a string or cell reference to parse the characters from and characters is the number of left-most characters to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Conc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Using the MI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Meth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The MID function returns a sub-string from a primary string, given a starting position and length.  The syntax for the MID function is: =MID(text, start_position, num_of_chars), where text is a string or cell reference, start_position is the starting position in text to obtain the sub-string from, and num_of_chars is the number of characters to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Conc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Using the RIGH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Meth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The RIGHT function returns the right-most characters from a given string.  The function's syntax is: = RIGHT (text, characters), where text is a string or cell reference to parse the characters from and characters is the number of right-most characters to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Section 6.4.3 - Extracting Characters (LEFT, MID, and 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from the previou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Section 6.4.3 - Extracting Characters (LEFT, MID, and 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inued from the previous sl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Section 6.4.4 - Concatenating Strings (&amp;, TEXT, and TRI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Conc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Concatenating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Meth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The &amp; operator can be used to concatenate two text values together.  The text values can be cell references or strings.  An example of use of the &amp; operator is: =a5&amp;" a string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The CONCATENATE function can also be used to concatenate tex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Conc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Using the TEXT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Meth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The TEXT function is used to convert a number into a text string.  The syntax for the function is: =TEXT(value, format), where value is a numeric value, formula that equates to a numeric value or a cell reference and format is a number format (see textboo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Concep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Using the TRIM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Meth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The TRIM function can be used to remove extra spaces from the start and end of a given string.  The syntax for the TRIM function is: =TRIM(text), where text is a string or cell re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t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Mincho"/>
              </a:rPr>
              <a:t>N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85800" indent="0">
              <a:spcBef>
                <a:spcPts val="451"/>
              </a:spcBef>
              <a:buNone/>
              <a:tabLst>
                <a:tab algn="l" pos="0"/>
                <a:tab algn="l" pos="685800"/>
                <a:tab algn="l" pos="1092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85800" y="377856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952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85800" y="3778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668480" y="3778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313800" y="95256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941440" y="95256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685800" y="377856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313800" y="377856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941440" y="377856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685800" y="95256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95256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9160" y="228600"/>
            <a:ext cx="77151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95256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85800" y="3778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685800" y="95256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952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68480" y="3778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952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85800" y="377856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85800" y="377856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952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3778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68480" y="3778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313800" y="95256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41440" y="95256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685800" y="377856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313800" y="377856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941440" y="377856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95256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209160" y="228600"/>
            <a:ext cx="77151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95256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78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3792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952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68480" y="3778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09160" y="227520"/>
            <a:ext cx="771516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952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8480" y="95256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85800" y="377856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-38160"/>
            <a:ext cx="7772400" cy="7239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-38160"/>
            <a:ext cx="8077320" cy="266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228600" y="1695600"/>
            <a:ext cx="8686800" cy="3841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-38160" y="6438960"/>
            <a:ext cx="9220320" cy="457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95256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9520" y="-28440"/>
            <a:ext cx="689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f5f5f"/>
                </a:solidFill>
                <a:latin typeface="Arial"/>
              </a:rPr>
              <a:t>The Advantage 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4702320" y="6621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2b2b2"/>
                </a:solidFill>
                <a:latin typeface="Book Antiqua"/>
              </a:rPr>
              <a:t>© 2002 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7298280" y="-1908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A823-FDC1-46A8-BAAD-3095BBE2212B}" type="slidenum">
              <a:rPr b="1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228600"/>
            <a:ext cx="792468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685800"/>
            <a:ext cx="76320" cy="6029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9067680" y="685800"/>
            <a:ext cx="76320" cy="5943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-152280" y="35244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-152280" y="3657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-152280" y="37908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8991720" y="35244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>
            <a:off x="8991720" y="3657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>
            <a:off x="8991720" y="37908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" name="" descr=""/>
          <p:cNvPicPr/>
          <p:nvPr/>
        </p:nvPicPr>
        <p:blipFill>
          <a:blip r:embed="rId3"/>
          <a:stretch/>
        </p:blipFill>
        <p:spPr>
          <a:xfrm>
            <a:off x="8020080" y="0"/>
            <a:ext cx="1123920" cy="681120"/>
          </a:xfrm>
          <a:prstGeom prst="rect">
            <a:avLst/>
          </a:prstGeom>
          <a:ln w="0">
            <a:noFill/>
          </a:ln>
        </p:spPr>
      </p:pic>
      <p:sp>
        <p:nvSpPr>
          <p:cNvPr id="19" name=""/>
          <p:cNvSpPr/>
          <p:nvPr/>
        </p:nvSpPr>
        <p:spPr>
          <a:xfrm>
            <a:off x="0" y="0"/>
            <a:ext cx="76320" cy="6858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610320"/>
            <a:ext cx="74520" cy="24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"/>
          <p:cNvSpPr/>
          <p:nvPr/>
        </p:nvSpPr>
        <p:spPr>
          <a:xfrm>
            <a:off x="9069480" y="6610320"/>
            <a:ext cx="74520" cy="24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/>
          <p:nvPr/>
        </p:nvSpPr>
        <p:spPr>
          <a:xfrm>
            <a:off x="0" y="66387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b2b2b2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9144000" cy="16765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6438960"/>
            <a:ext cx="9182160" cy="457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1676520"/>
            <a:ext cx="1752480" cy="51814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663876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66"/>
                </a:solidFill>
                <a:latin typeface="Book Antiqua"/>
              </a:rPr>
              <a:t>McGraw-Hill/Irw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120" y="3085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106668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The Advantage S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02320" y="66214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b2b2b2"/>
                </a:solidFill>
                <a:latin typeface="Book Antiqua"/>
              </a:rPr>
              <a:t>© 2002  The McGraw-Hill Companies, Inc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1676520"/>
            <a:ext cx="7925040" cy="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9067680" y="1676520"/>
            <a:ext cx="76320" cy="49528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991720" y="35244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991720" y="36576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991720" y="3790800"/>
            <a:ext cx="30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69480" y="6610320"/>
            <a:ext cx="74520" cy="247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1752480" cy="1676520"/>
          </a:xfrm>
          <a:prstGeom prst="ellipse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1676520"/>
            <a:ext cx="7162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66"/>
                </a:solidFill>
                <a:latin typeface="Times New Roman"/>
              </a:rPr>
              <a:t>Microsoft Excel 200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120" y="308592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esson 7</a:t>
            </a:r>
            <a:endParaRPr b="1" lang="en-US" sz="32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2895480" y="4648320"/>
            <a:ext cx="6019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.1.2 Using Lookup and Reference Functions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20" y="693720"/>
            <a:ext cx="1503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ure 10.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The Lookup &amp; Reference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ta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371600" y="1019160"/>
            <a:ext cx="762012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.1.2 Using Lookup and Reference Functions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0520" y="693720"/>
            <a:ext cx="150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ure 1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Entering the INDEX func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319040" y="2571840"/>
            <a:ext cx="650592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.1.2 Using Lookup and Reference Functions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0520" y="693720"/>
            <a:ext cx="1503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ure 10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 Arguments dialog box for MAT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746360" y="1922400"/>
            <a:ext cx="56498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.1.2 Using Lookup and Reference Functions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20" y="693720"/>
            <a:ext cx="150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ure 10.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Arguments dialog bo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066680" y="2614680"/>
            <a:ext cx="4927680" cy="20844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461280" y="3200400"/>
            <a:ext cx="2454120" cy="157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NDEX function provides two syntax formats for returning different results.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rray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 returns a cell’s contents, while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ferenc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yntax returns a cell’s addr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5581800" y="3981600"/>
            <a:ext cx="87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.1.2 Using Lookup and Reference Functions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20" y="693720"/>
            <a:ext cx="150336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ure 10.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 Arguments dialog box for INDE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746360" y="1922400"/>
            <a:ext cx="564984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.1.2 Using Lookup and Reference Functions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520" y="693720"/>
            <a:ext cx="1503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ure 10.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 Arguments dialog box for VLOOKU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746360" y="1785960"/>
            <a:ext cx="56498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10.1.2 Using Lookup and Reference Functions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20" y="693720"/>
            <a:ext cx="150336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ure 10.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Completing the </a:t>
            </a:r>
            <a:r>
              <a:rPr b="0" i="1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 tab in the “Lookup Tables” workbook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636560" y="2419200"/>
            <a:ext cx="5869080" cy="24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Logical Functions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457200" y="1295280"/>
          <a:ext cx="8381880" cy="4818240"/>
        </p:xfrm>
        <a:graphic>
          <a:graphicData uri="http://schemas.openxmlformats.org/drawingml/2006/table">
            <a:tbl>
              <a:tblPr/>
              <a:tblGrid>
                <a:gridCol w="1295280"/>
                <a:gridCol w="3789360"/>
                <a:gridCol w="3297240"/>
              </a:tblGrid>
              <a:tr h="86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s whether all arguments are 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And(logical1,logical2,…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s whether all arguments are 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Or(logical1,logical2,…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urns the logical value Tr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Tru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turns the logical value 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Fals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anges False to True and True to 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Not(logica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s whether a condition if met, and returns one value if True, and another Value if 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f(logical_test, [value_if_true],[value_if_false]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Information Functions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85800" y="952560"/>
          <a:ext cx="7772400" cy="4525920"/>
        </p:xfrm>
        <a:graphic>
          <a:graphicData uri="http://schemas.openxmlformats.org/drawingml/2006/table">
            <a:tbl>
              <a:tblPr/>
              <a:tblGrid>
                <a:gridCol w="1440000"/>
                <a:gridCol w="3997080"/>
                <a:gridCol w="2335320"/>
              </a:tblGrid>
              <a:tr h="635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n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What it D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BL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s whether a cell is bl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sblank(Val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s whether a value is an err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serror(Val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LOGIC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s whether a value is True or Fal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slogical(Val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216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s whether a value is a 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snumber(Val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S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hecks whether a value is 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=Istext(Valu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295280" y="1019160"/>
            <a:ext cx="7620120" cy="54579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6.4.1 Analyzing a String (LEN and SEARCH)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520" y="693720"/>
            <a:ext cx="13510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ure 6.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Opening the EX0640 workbook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295280" y="1019160"/>
            <a:ext cx="7620120" cy="5457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6.4.1 Analyzing a String (LEN and SEARCH)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520" y="693720"/>
            <a:ext cx="135108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ure 6.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s Arguments dialog box for the Search func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09520" y="4267080"/>
            <a:ext cx="1560600" cy="924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ument names appearing in boldface are required entr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09520" y="5559480"/>
            <a:ext cx="1560600" cy="91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ument names appearing in regular style are option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770120" y="3774960"/>
            <a:ext cx="2335320" cy="9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770120" y="4221000"/>
            <a:ext cx="2394000" cy="1595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932040" y="2563920"/>
            <a:ext cx="7279920" cy="23889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6.4.1 Analyzing a String (LEN and SEARCH)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20" y="693720"/>
            <a:ext cx="1351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ure 6.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Calculating string lengths and character position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90480" y="2563920"/>
            <a:ext cx="7761240" cy="23889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c0000"/>
                </a:solidFill>
                <a:latin typeface="Times New Roman"/>
              </a:rPr>
              <a:t>6.4.2 Changing the Case (LOWER, PROPER, and UPPER)</a:t>
            </a:r>
            <a:endParaRPr b="1" lang="en-US" sz="23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20" y="693720"/>
            <a:ext cx="135108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ure 6.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Changing the case of character string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295280" y="1019160"/>
            <a:ext cx="7620120" cy="545796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6.4.3 Extracting Characters (LEFT, MID, and RIGHT)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20" y="693720"/>
            <a:ext cx="135108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ure 6.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 Arguments dialog box for the LEFT func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4800600"/>
            <a:ext cx="164628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sting the SEARCH function in 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m_cha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gument text bo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057400" y="3987720"/>
            <a:ext cx="2184480" cy="12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1295280" y="1019160"/>
            <a:ext cx="7620120" cy="545796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6.4.3 Extracting Characters (LEFT, MID, and RIGHT)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20" y="693720"/>
            <a:ext cx="1351080" cy="13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ure 6.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Function Arguments dialog box for the RIGHT functio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92040" y="4789440"/>
            <a:ext cx="1589040" cy="925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um_char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rgument text box contains two nested func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984320" y="3657240"/>
            <a:ext cx="2295720" cy="153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62040" y="3078000"/>
            <a:ext cx="7818480" cy="14176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6.4.3 Extracting Characters (LEFT, MID, and RIGHT)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20" y="693720"/>
            <a:ext cx="135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ure 6.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Parsing text label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295280" y="1019160"/>
            <a:ext cx="7620120" cy="545796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9160" y="228600"/>
            <a:ext cx="7715160" cy="457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imes New Roman"/>
              </a:rPr>
              <a:t>6.4.4 Concatenating Strings (&amp;, TEXT, and TRIM)</a:t>
            </a:r>
            <a:endParaRPr b="1" lang="en-US" sz="2400" spc="-1" strike="noStrike">
              <a:solidFill>
                <a:srgbClr val="cc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520" y="693720"/>
            <a:ext cx="135108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igure 6.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  <a:ea typeface="Times New Roman"/>
              </a:rPr>
              <a:t>Joining cell contents using the &amp; operator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9T07:50:32Z</dcterms:created>
  <dc:creator>Alfredo L. Chua</dc:creator>
  <dc:description/>
  <dc:language>en-US</dc:language>
  <cp:lastModifiedBy>Alfredo L. Chua</cp:lastModifiedBy>
  <dcterms:modified xsi:type="dcterms:W3CDTF">2005-05-09T07:58:36Z</dcterms:modified>
  <cp:revision>1</cp:revision>
  <dc:subject/>
  <dc:title>Lesson 7</dc:title>
</cp:coreProperties>
</file>