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4BB-F9EC-4A3F-A1D1-E245453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3CC-D163-4428-9415-1A41EE2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511-1358-4D43-BAEA-5DCF996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18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2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18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4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843-74BE-45D8-AFFF-33C2C3D8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94B5-CF75-456C-AF53-8DA58A29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CD8-7EDB-4FFB-B9D8-F32112E6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866-59F4-4EB6-8CBE-2A3DDD7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D2E-11B6-4705-941B-534B0BDC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970C-8662-4CFF-B45F-A32EF2A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2000" y="22608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A16-02E9-4A41-A1ED-05A09DA5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25C-BCDF-48BB-81C4-FC53445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5CF-D44D-4E17-B407-4EE39C8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237-F31E-412C-AAAF-75EBD39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4999-AA1E-49A1-80B4-C7E2501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E71-E41A-444B-87E0-D1D9662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377-B8B2-4E9B-A4BF-5D3DB2EE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18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2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18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74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4E25-C06B-4F74-AB0A-694E7FDD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813-E08C-42A1-9C8D-5B3CC5F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7CB-9D94-4D3B-928E-C2DA2DA1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20D-7E2A-4B81-8937-D2C12E74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22608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11A-D9CD-4A8D-9658-DFC6FD75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EAF-F1A9-42F4-B3EE-825F448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591-1781-4996-AF71-51F4232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7C3-2DC1-4F75-A28C-770CD687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RTHSEPA" descr=""/>
          <p:cNvPicPr/>
          <p:nvPr/>
        </p:nvPicPr>
        <p:blipFill>
          <a:blip r:embed="rId3"/>
          <a:stretch/>
        </p:blipFill>
        <p:spPr>
          <a:xfrm>
            <a:off x="6000840" y="6172200"/>
            <a:ext cx="3143160" cy="74520"/>
          </a:xfrm>
          <a:prstGeom prst="rect">
            <a:avLst/>
          </a:prstGeom>
          <a:ln w="0">
            <a:noFill/>
          </a:ln>
        </p:spPr>
      </p:pic>
      <p:pic>
        <p:nvPicPr>
          <p:cNvPr id="1" name="Arthsepa" descr=""/>
          <p:cNvPicPr/>
          <p:nvPr/>
        </p:nvPicPr>
        <p:blipFill>
          <a:blip r:embed="rId4"/>
          <a:stretch/>
        </p:blipFill>
        <p:spPr>
          <a:xfrm>
            <a:off x="0" y="1295280"/>
            <a:ext cx="4495680" cy="9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A90-E0F9-424A-BA2F-B816CDADF79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4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DA1-E66B-4EFC-BEBA-44A17CEC5C2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35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s in Information System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945-4489-4BC7-8B98-883DC0C868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istorical Contex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derick P. Brooks' book entitled "The Mythical Man Month: Essays in Software Engineering" discusses the difficulties of managing programming projec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ook's Law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dding manpower to a late software project makes it l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22A-C10A-4385-87F7-1DC4094ABA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 Silver Bulle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ooks also wrote a conference paper entitled "No Silver Bullet – Essence and Accidents in Software Engineering"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this paper Brooks maintains that there is no technology or technique that can overcome the problems faced in software engineer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8D2-6FD9-4DBD-ADF5-AB76757DC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ooks discusses why software engineering is difficult to mana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lexity in scaling up a software ent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s conformity: no unifying principles unlike in physic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ngeability – new technology, hardwa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isibility – intangible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7D4-E67B-4E65-B908-99CFF6D88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software engineeri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velopment proces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uses the following approach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a define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ces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with clear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h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ach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hase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as an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nd-produc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(a document or a something built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emphasis on meeting a clear set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equirement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, which are defined early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erific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alid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are important parts of the pro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a store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knowledge, architectures and compon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re is sensible use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ool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859-47D8-4001-BB39-A7EA50ADDA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8400" y="1600200"/>
            <a:ext cx="5405400" cy="132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240080"/>
            <a:ext cx="7785000" cy="9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657680"/>
            <a:ext cx="477720" cy="208080"/>
          </a:xfrm>
          <a:prstGeom prst="rightArrow">
            <a:avLst>
              <a:gd name="adj1" fmla="val 50000"/>
              <a:gd name="adj2" fmla="val 57396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69040" y="4657680"/>
            <a:ext cx="479520" cy="208080"/>
          </a:xfrm>
          <a:prstGeom prst="rightArrow">
            <a:avLst>
              <a:gd name="adj1" fmla="val 50000"/>
              <a:gd name="adj2" fmla="val 57612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7800" y="4657680"/>
            <a:ext cx="477720" cy="208080"/>
          </a:xfrm>
          <a:prstGeom prst="rightArrow">
            <a:avLst>
              <a:gd name="adj1" fmla="val 50000"/>
              <a:gd name="adj2" fmla="val 57396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7188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8640" y="5907240"/>
            <a:ext cx="546120" cy="347400"/>
          </a:xfrm>
          <a:prstGeom prst="flowChartDocument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75240" y="5907240"/>
            <a:ext cx="545760" cy="347400"/>
          </a:xfrm>
          <a:prstGeom prst="flowChartDocument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092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912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4036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340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86480" y="5907240"/>
            <a:ext cx="409680" cy="417240"/>
          </a:xfrm>
          <a:prstGeom prst="flowChartMagneticDisk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2720" y="5838840"/>
            <a:ext cx="478080" cy="415800"/>
          </a:xfrm>
          <a:prstGeom prst="flowChartPunchedTape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972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0400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86080" y="3059280"/>
            <a:ext cx="479520" cy="973080"/>
          </a:xfrm>
          <a:prstGeom prst="upDownArrow">
            <a:avLst>
              <a:gd name="adj1" fmla="val 50000"/>
              <a:gd name="adj2" fmla="val 40397"/>
            </a:avLst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44760" y="1808280"/>
            <a:ext cx="1434960" cy="765000"/>
          </a:xfrm>
          <a:prstGeom prst="flowChartMagneticDisk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4520" y="1878120"/>
            <a:ext cx="957240" cy="625320"/>
          </a:xfrm>
          <a:prstGeom prst="flowChartMultidocument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5840" y="1878120"/>
            <a:ext cx="614520" cy="695160"/>
          </a:xfrm>
          <a:prstGeom prst="flowChartInternalStorage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589932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nd-produc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9040" y="4159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720" y="46432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2641680"/>
            <a:ext cx="61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sitory of knowledge, tools, architectures, compone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5360" y="365760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se of too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DB9-4122-4399-9B83-850D53D739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 Mode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rder to manage software engineering projects, various models of the systems development life cycle (SDLC) have been creat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C68-DFE3-4CFF-A55F-CB38DAC1A3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 Life Cyc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DLC considers the systems development process as having 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ginning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osed of various stag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ject planning, feasibility stud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quirements definition and Systems Analy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ystems desig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gration and test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ceptance, installation, deploy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81D-773C-409B-8067-81BA445B98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Waterfall Mode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ditional structured systems use the waterfall model for software develop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413080"/>
            <a:ext cx="16002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Project Plann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71400">
            <a:off x="2890440" y="273816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3124080"/>
            <a:ext cx="1981440" cy="52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Requirements Analysi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71400">
            <a:off x="1599840" y="28954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70760" y="3733920"/>
            <a:ext cx="14976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ystems Desig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97920" y="4343400"/>
            <a:ext cx="153252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48640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sumes that requirements are frozen early 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is leads to difficulties when requirements change, as they often d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42000" y="4952880"/>
            <a:ext cx="19638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ntegration &amp; Tes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59720" y="5486400"/>
            <a:ext cx="120636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Deploy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71400">
            <a:off x="3804840" y="335736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71400">
            <a:off x="3124440" y="365688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71400">
            <a:off x="4795200" y="396684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71400">
            <a:off x="4267080" y="4267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71400">
            <a:off x="6014520" y="457668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71400">
            <a:off x="5410080" y="48765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71400">
            <a:off x="7581240" y="51433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71400">
            <a:off x="7314840" y="5410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6F0-76D1-454C-9DE9-C5EA9C652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ow can the development of large software systems be done efficientl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re is a limit to how much a human can understand at any one time” – Stevens &amp; Pooley, p 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By dividing a software system into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od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, and identifying the dependencies between the modules, it is hoped that bugs in software can be reduc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d to the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pproac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696-A27E-4FFD-8513-F008A9F6D3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nalysis (OOA) is concerned with developing software engineering requirements and specifications expressed as a system's object model (which is composed of a population of interacting objects), as opposed to the traditional data or functional views of system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6B2-3174-4F59-853E-0EDC088543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s unit will attempt to address the principal issues currently dominating the process of developing information syst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012-0B9A-4A3A-A0C7-8DBF5E22C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Concepts of dependency, coupling, encapsulation, interface, cohesion and abstraction are needed when considering modular design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0A8-EA09-4BD9-9761-6267F036D4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pendency &amp; Coup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say that Module A depends on Module B if a change to Module B means Module A must be chang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can also say that Modules A and B are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oupl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system with many dependencies is said to have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igh coupli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good system ha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low coupling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eans that a change to one part of the system does not have to affect too many other parts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085-10E6-4664-8029-31BF972F9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Encapsulation &amp; Interfa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module is encapsulated in that its interfaces provide the means for another module to access it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f Module A depends on Module B, then Module B will have to make “public” the interfaces which Module A can ac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odule A does not need to know the inner workings of the methods in Module B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60B-E0EB-4235-BFE0-647190EAED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bstraction and Cohe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terfaces provide an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bstrac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of the actual module’s cod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module which provides an interface which is an abstraction of a concept that in well understood is said to have high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cohesion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t can be re-used in later systems, or is easily replac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DBF-3B97-43BF-8FFF-1C79F9A01B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naly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OA focuses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ssential objects in the problem dom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lass hierarchies to which the objects belo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he internal behaviour of each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munication between objec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C9D-4368-4A6F-B553-EFD691897B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naly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OA can yield the following benefi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Maintanability through simplified mapping to the real world, which provides for less analysis effor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s complexity in system design, and easier verification by the user;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usability of the analysis artifacts which saves time and costs;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oductivity gains through direct mapping to features of OO Programming Langua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551-DC08-42A3-82D8-8A4A8A5BEF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M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he Unified Modeling Language (UML) was adopted by the Object Management Group as the standard for Object Modeling in Nov. 97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eviously, different OO ‘gurus’ had their own notation for modeling object-oriented concep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Having a standard language for object modeling enables organizations to focus on development rather than learning different notation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86B-2B04-4C28-BFE2-312A54F4A0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M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fied Modeling Language is a fusion of the concepts of three OO ‘gurus’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var Jacobson (OOS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dy Boo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umbaugh (OM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nt to be a standard notation for OO modeling, adopted by the OM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provides for extensibility of core OO concep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pports higher-level development concep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ependent of programming languag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D82-AAFA-4702-9517-A8358F5A1F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unit aims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ide an insight into object-oriented techniques for developing information syste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ose students to current issues in information systems develop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raw students' attention to current trends and future directions in the development of information syste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provide exposure to automated tools for supporting the information systems development pro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DEC-834A-4907-B8DB-5CE6E4B67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an awareness of object-oriented methods for developing information syst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understand current and future directions in the development of information syst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an awareness and understanding of the current “issues” in information systems development especially relating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ject orient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use and Implementation Strateg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A52-873C-42A5-BF41-F686621A58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ment of system development processes from the project management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nent Based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us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ment and Metr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18E-23A2-4DA4-B430-074F7EEF1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inuous assessmen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ignment 1: Case Study for Object-Oriented Systems Develop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ignment 2: Research Report &amp; Presen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3C7-808F-4679-A0C5-80B0D80A8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xtboo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hbridge, T.C. and Laganiere, R.,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Object-Oriented Software Engineer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McGraw-Hill (2001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ing UML – Software Engineering with Objects and Components by R. Pooley and P. Stevens, Addison-Wesley (1999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ftware Engineering, 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Edition, by I. Sommerville, Addison Wesley (1996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727-58D0-468F-9A32-0DE45B0C65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cture of the Uni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cture : Monday, 12:00 – 2:00 p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cture B / Consultation : Wednesday, 8:30 – 10:00 a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day, 2:30 – 4:30 p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day, 4:30 – 6:30 pm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8DB-B854-4F00-BC9E-2265C1AFA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will be using the Unified Modeling Language to represent object-oriented models in system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gicDraw UML available in LS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754-1C5F-4175-820D-7BDD3C39F2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08:32:12Z</dcterms:created>
  <dc:creator>Administrator</dc:creator>
  <dc:description/>
  <dc:language>en-US</dc:language>
  <cp:lastModifiedBy>User</cp:lastModifiedBy>
  <dcterms:modified xsi:type="dcterms:W3CDTF">2003-09-07T09:44:25Z</dcterms:modified>
  <cp:revision>5</cp:revision>
  <dc:subject/>
  <dc:title>CB352 </dc:title>
</cp:coreProperties>
</file>