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6FBA-81E0-4CDC-BEDA-4474401BD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F638-CC7F-4F7A-9F96-86917142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1044-C4EB-4283-9DC1-F9085B8F2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CE21-C172-4605-9BAC-FB6E7CA13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AF84-4AC7-46CD-A69B-8399115B0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2669-F0D7-4BE9-B561-B60FCC2A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14590-687C-4A80-97B6-9BC25AC6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F97C-1B67-4C08-B7BF-022FBF86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308BC-0451-4E8D-AFA1-8FA378C7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0E46-5CB6-489C-903D-14AAD5CD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A35ED-2AE4-49AE-85A6-6E11B929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6CB4-F559-4E42-8CDF-1466B99D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E842-03C5-48F6-A53F-3A30E30D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41A4-4011-42B2-9809-3B094C83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29C9-49AE-44EB-9979-323972BD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631D-3C4E-43B5-AB07-4FF32AAA6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2073-7F58-44CE-AB89-879A0C09B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4E88-4ADA-429B-BD1B-ADADBE12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0B87-A393-4C33-930F-E50D8E21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4E6A-3EF2-4D42-99C2-1468BB45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DE44-3F8C-4424-A718-FBDEBA80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C8FA-F6EF-41A7-9537-8BAEC0C8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CBF6-92E1-4259-99AE-A6541E99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3AB9-2121-41D7-8475-621D7262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CA8E-D3A1-406F-B293-8221C5B12438}" type="datetime3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30 de julho de 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 Ambientes de Aplicaçõ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Rodolfo Goya - SÃO JUDAS - 2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2143-6E8B-4C40-9632-B055A2AB92B9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4F28-99F7-4920-8F6F-7B958C46D735}" type="datetime3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30 de julho de 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C84E-B2D9-4EC2-B13B-F9CA0BC9DA16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A Arquitetura dos Sistemas</a:t>
            </a:r>
            <a:br>
              <a:rPr sz="3200"/>
            </a:b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de Groupware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odolfo Riyoei Goy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goya@uol.com.b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http://sites.uol.com.br/rgoy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Groupware x TP-Monitor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P Moni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quência de taref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ransações com seguranç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ransações de vida lon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ocumentos como recur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Group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Workf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não ACID (Atomicidade, Consistência, Isolação e Durabilidad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F0764C-3611-4256-BEC9-00E66310BBD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Componentes de Groupware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Gerenciamento de Documentos Multimed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nferência em Gru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ntrole de Agenda de Gru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Workf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rreio Eletrôn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D1E268-A4F0-4ABC-B75E-22A29753FD1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Gerenciamento de Documentos Multimedi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riginado em sistemas de digitalização de image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apéis </a:t>
            </a:r>
            <a:r>
              <a:rPr b="0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Microfilmes </a:t>
            </a:r>
            <a:r>
              <a:rPr b="0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Sistemas Computadorizados (1960 a 1980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E7A401-F9FD-4F45-81DC-AA7350E2400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Gerenciamento de Documentos Multimedi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ecnologi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L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cann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quipamentos/software de compressão de d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iscos de alta capacidade (Tecnologia Óptic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onitores e impressoras de alta qualidade e baixo cu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EE3F9B-5C47-4455-A59D-B4A35F28828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Gerenciamento de Documentos Multimedi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edução de custo resulta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usto de pesso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usto estimado de US$25.000 para formar um arquivo de 4 gavetas, mais um custo anual de US$2.160 para man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usto estimado médio de US$120 para a recuperação de cada documento arquiv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erca de 3% dos papéis são perdi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7FDB2C-C146-424A-BF6D-E4FFD6C6558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Gerenciamento de Documentos Multimedi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ocesso de captur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igitalizaçã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erificação de qualida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dentificação e indexação (com código de barras ou OCR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mpressão (software ou hardwar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rmazenam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ecuperaçã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E31B7E-A5EC-4087-8C08-C73FECCC80B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Gerenciamento de Documentos Multimedi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fra-estrutur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formações estruturadas em servidores SQ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ocumentos (BLOBs) em servidores de arquiv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Grandes volumes de disco (ordem de terabyte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699D06-2907-4A2C-A608-205ACC427FC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Gerenciamento de Documentos Multimedi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unçõ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mbinar dados capturados em documen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efinir regras para movimentação de documen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or conteú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iori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alanço de car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ventos extern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az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riggers de Bancos de D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2979B4-3A5C-4093-89F7-A9CA35F48CC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Gerenciamento de Documentos Multimedi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unçõ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riação/manutenção de perfis de usuários e filas de atividad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Geração de relatóri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Gerenciamento de meios (custo x desempenho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guranç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ntrole de vers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2A4D67-6CCC-4866-B7CB-EBAC9B38BEF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Conferência em Grupo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nferências em Tempo Re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hairper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ideo/vo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Quadro branco eletrôn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Grupos de Discussã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NNTP - Network News Transport Protocol (RFC977) permite formar grupos de discussão através da Intern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7AAB72-1E45-42AF-A4F8-4A1372D3AA4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Bibliografi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rfali, Robert et. al.; Client/Server Survival Guide Third Edition - caps. 19 a 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C0219E-8D2C-4DF8-B892-F353DD5D488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Controle de Agenda de Grupo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mpartilhamento de agendas e listas de açã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erramentas para agendar reuniõ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xtensões do MIME para padrões de calendár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Calend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2A647D-5159-469C-B2BA-7795DA29A92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Workflow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inalida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utomação de proces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oteamento de even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mbientes estruturados e não estrutur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rige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mpresas de manufa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ábricas de papel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BE574A-C798-43D5-A2C7-40DD1300BBE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Exemplo de workflow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1828800"/>
            <a:ext cx="1676160" cy="609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Solicit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2971800"/>
            <a:ext cx="1676160" cy="609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Orçam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2438280"/>
            <a:ext cx="0" cy="533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14800"/>
            <a:ext cx="1676160" cy="609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Análi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981080" y="3581280"/>
            <a:ext cx="533520" cy="533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81080" y="4724280"/>
            <a:ext cx="533520" cy="533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14600" y="3276720"/>
            <a:ext cx="1676520" cy="609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Aprov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4952880"/>
            <a:ext cx="1676520" cy="6098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Aprov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3581280"/>
            <a:ext cx="0" cy="533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4190760" y="3657600"/>
            <a:ext cx="533160" cy="53352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0760" y="4800600"/>
            <a:ext cx="533160" cy="53352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4191120"/>
            <a:ext cx="1676520" cy="609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Respos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10280" y="4191120"/>
            <a:ext cx="1676520" cy="609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Contra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38960" y="4495680"/>
            <a:ext cx="5335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5A039B-AE0E-4B13-B309-D0582FF8FF7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Características dos Sistemas de Workflow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uporte para necessidades ad-hoc (tanto estruturadas como não estruturada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aixo custo (US$50 - US$500 por usuári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tegração com outros program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ogramação com metáforas visua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tegração com e-mai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775150-34B3-4D31-90AF-746B8B3E9A6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Características dos Sistemas de Workflow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companhamento de taref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etectar ineficiê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eterminar gargal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erramentas para agiliz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Notific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utom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BEC894-B91E-4990-B452-DC431874F73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Características dos Sistemas de Workflow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ornecem APIs que permitem que o usuário faça customizaçõ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mpon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tegração com serviços de diretóri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LDAP - Lightweight Directory Access Protoc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7FD6F9-E1F2-4A57-87A8-8CBDC87E252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Infra-estrutura dos Sistemas de Workflow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terfaces que recebem solicitações e eventos dos clientes e os interpreta de acordo com regras bem defini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gentes programados para executar as partes repetitiv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rvidor que define as próximas ações a serem executadas a partir do estado atual e de regras bem defini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anco de dados contendo o estado atual das tarefas e instruçõ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A86278-554D-4A2F-AB2E-E1BF8DD2622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Modelo de Sistema de Workflow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rês R’s - Route, Rules e Roles (Rotas, Regras e Papéi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ot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aminhos por onde os objetos se movem. Inclui os obje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egr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efine qual informação é roteada para qu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apéi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efine funções (independentemente das pessoas que as execut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32F1FA-1C57-42A4-A3D7-4CD7A13CA1B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Modelo de Processos de Workflow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rientado a proces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utomação de processos de negócios com políticas e procedimentos bem definidos, repetitivos e bem compreendi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d ho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ocessos de trabalho curtos e desestruturados. Comum com forças-tarefa com pessoas trabalhando em um problema excepcional ou em ambientes onde as pessoas estão fisicamente dispers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658C12-CEC1-4B23-BCBA-643E2670C81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Rota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30200" y="1843200"/>
            <a:ext cx="7418520" cy="1128600"/>
            <a:chOff x="430200" y="1843200"/>
            <a:chExt cx="7418520" cy="1128600"/>
          </a:xfrm>
        </p:grpSpPr>
        <p:sp>
          <p:nvSpPr>
            <p:cNvPr id="153" name=""/>
            <p:cNvSpPr/>
            <p:nvPr/>
          </p:nvSpPr>
          <p:spPr>
            <a:xfrm>
              <a:off x="430200" y="184320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ourier New"/>
                </a:rPr>
                <a:t>Sequenci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2514600"/>
              <a:ext cx="76212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38080" y="2743200"/>
              <a:ext cx="5335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66880" y="2514600"/>
              <a:ext cx="76212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133720" y="2743200"/>
              <a:ext cx="5331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962520" y="2514600"/>
              <a:ext cx="76176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29000" y="2743200"/>
              <a:ext cx="5335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257800" y="2514600"/>
              <a:ext cx="76212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24280" y="2743200"/>
              <a:ext cx="5335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553080" y="2514600"/>
              <a:ext cx="76212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19920" y="2743200"/>
              <a:ext cx="5331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315200" y="2743200"/>
              <a:ext cx="5335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430920" y="3672000"/>
            <a:ext cx="7417800" cy="1890720"/>
            <a:chOff x="430920" y="3672000"/>
            <a:chExt cx="7417800" cy="1890720"/>
          </a:xfrm>
        </p:grpSpPr>
        <p:sp>
          <p:nvSpPr>
            <p:cNvPr id="166" name=""/>
            <p:cNvSpPr/>
            <p:nvPr/>
          </p:nvSpPr>
          <p:spPr>
            <a:xfrm>
              <a:off x="430920" y="367200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ourier New"/>
                </a:rPr>
                <a:t>Paralel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371600" y="4572000"/>
              <a:ext cx="76212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8080" y="4800600"/>
              <a:ext cx="5335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666880" y="4038480"/>
              <a:ext cx="76212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62520" y="4038480"/>
              <a:ext cx="76176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29000" y="4267080"/>
              <a:ext cx="5335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257800" y="4038480"/>
              <a:ext cx="76212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724280" y="4267080"/>
              <a:ext cx="5335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553080" y="4572000"/>
              <a:ext cx="76212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19920" y="4267080"/>
              <a:ext cx="533160" cy="5335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315200" y="4800600"/>
              <a:ext cx="5335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2133720" y="4267080"/>
              <a:ext cx="533160" cy="5335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666880" y="5105520"/>
              <a:ext cx="76212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962520" y="5105520"/>
              <a:ext cx="76176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429000" y="5334120"/>
              <a:ext cx="5335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57800" y="5105520"/>
              <a:ext cx="76212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5334120"/>
              <a:ext cx="5335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6019920" y="4800600"/>
              <a:ext cx="533160" cy="5335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133720" y="4800600"/>
              <a:ext cx="533160" cy="5335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D9D6A9-E148-4F4D-8EA1-79B8D2A29D4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Groupware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oftware que apoia a criação, fluxo, e acompanhamento de informação não estruturada, diretamente para suporte de atividades colaborativas em grup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leção de tecnologias que permitem representar processos complexos localizados em redor de atividades humanas colaborativ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4509DE-C6DA-4397-9FCC-E367415CA05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Rota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30920" y="3672000"/>
            <a:ext cx="5589000" cy="1890720"/>
            <a:chOff x="430920" y="3672000"/>
            <a:chExt cx="5589000" cy="1890720"/>
          </a:xfrm>
        </p:grpSpPr>
        <p:sp>
          <p:nvSpPr>
            <p:cNvPr id="187" name=""/>
            <p:cNvSpPr/>
            <p:nvPr/>
          </p:nvSpPr>
          <p:spPr>
            <a:xfrm>
              <a:off x="430920" y="367200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ourier New"/>
                </a:rPr>
                <a:t>Circula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666880" y="4038480"/>
              <a:ext cx="76212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962520" y="4038480"/>
              <a:ext cx="76176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429000" y="4267080"/>
              <a:ext cx="5335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57800" y="4038480"/>
              <a:ext cx="76212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724280" y="4267080"/>
              <a:ext cx="5335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048120" y="4572000"/>
              <a:ext cx="0" cy="5335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66880" y="5105520"/>
              <a:ext cx="76212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62520" y="5105520"/>
              <a:ext cx="76176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429000" y="5334120"/>
              <a:ext cx="5335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257800" y="5105520"/>
              <a:ext cx="76212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724280" y="5334120"/>
              <a:ext cx="5335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5638680" y="4572000"/>
              <a:ext cx="0" cy="5335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428040" y="1843200"/>
            <a:ext cx="7420680" cy="1662120"/>
            <a:chOff x="428040" y="1843200"/>
            <a:chExt cx="7420680" cy="1662120"/>
          </a:xfrm>
        </p:grpSpPr>
        <p:sp>
          <p:nvSpPr>
            <p:cNvPr id="201" name=""/>
            <p:cNvSpPr/>
            <p:nvPr/>
          </p:nvSpPr>
          <p:spPr>
            <a:xfrm>
              <a:off x="428040" y="1843200"/>
              <a:ext cx="25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ourier New"/>
                </a:rPr>
                <a:t>Loop com feedbac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71600" y="2514600"/>
              <a:ext cx="76212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38080" y="2743200"/>
              <a:ext cx="5335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66880" y="2514600"/>
              <a:ext cx="76212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33720" y="2743200"/>
              <a:ext cx="5331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962520" y="2514600"/>
              <a:ext cx="76176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429000" y="2743200"/>
              <a:ext cx="5335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257800" y="2514600"/>
              <a:ext cx="76212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724280" y="2743200"/>
              <a:ext cx="5335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53080" y="2514600"/>
              <a:ext cx="76212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19920" y="2743200"/>
              <a:ext cx="5331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315200" y="2743200"/>
              <a:ext cx="5335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38680" y="2971800"/>
              <a:ext cx="0" cy="5335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3048120" y="3505320"/>
              <a:ext cx="2590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3048120" y="2971800"/>
              <a:ext cx="0" cy="5335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E40C90-BC49-4ADC-ACB7-0BE8DB80D1F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380880" y="1905120"/>
            <a:ext cx="3353040" cy="3047760"/>
            <a:chOff x="380880" y="1905120"/>
            <a:chExt cx="3353040" cy="3047760"/>
          </a:xfrm>
        </p:grpSpPr>
        <p:sp>
          <p:nvSpPr>
            <p:cNvPr id="217" name=""/>
            <p:cNvSpPr/>
            <p:nvPr/>
          </p:nvSpPr>
          <p:spPr>
            <a:xfrm>
              <a:off x="1064880" y="1905120"/>
              <a:ext cx="182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ourier New"/>
                </a:rPr>
                <a:t>Centralizad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2514600"/>
              <a:ext cx="76212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971800" y="2514600"/>
              <a:ext cx="76212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143000" y="2971800"/>
              <a:ext cx="533520" cy="5335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0880" y="4495680"/>
              <a:ext cx="76212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76520" y="3505320"/>
              <a:ext cx="76176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1143000" y="3962160"/>
              <a:ext cx="533520" cy="5331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971800" y="4495680"/>
              <a:ext cx="76212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438280" y="3962520"/>
              <a:ext cx="533520" cy="5331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2438280" y="2971800"/>
              <a:ext cx="533520" cy="5335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410080" y="1905120"/>
            <a:ext cx="3353040" cy="3276360"/>
            <a:chOff x="5410080" y="1905120"/>
            <a:chExt cx="3353040" cy="3276360"/>
          </a:xfrm>
        </p:grpSpPr>
        <p:sp>
          <p:nvSpPr>
            <p:cNvPr id="228" name=""/>
            <p:cNvSpPr/>
            <p:nvPr/>
          </p:nvSpPr>
          <p:spPr>
            <a:xfrm>
              <a:off x="5634360" y="1905120"/>
              <a:ext cx="292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ourier New"/>
                </a:rPr>
                <a:t>Totalmente conectad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410080" y="3581280"/>
              <a:ext cx="76212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705720" y="2424240"/>
              <a:ext cx="76176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5791320" y="2666880"/>
              <a:ext cx="914400" cy="9144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001000" y="3581280"/>
              <a:ext cx="76212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05720" y="4724280"/>
              <a:ext cx="76176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7467480" y="2666880"/>
              <a:ext cx="914400" cy="9144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791320" y="4038480"/>
              <a:ext cx="914400" cy="9144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7467480" y="4038480"/>
              <a:ext cx="914400" cy="9144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7086600" y="2895480"/>
              <a:ext cx="0" cy="18288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172200" y="3809880"/>
              <a:ext cx="18288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Rota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A49748-6305-4F48-B96F-8C3B23C8BBD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2014920" y="1905120"/>
            <a:ext cx="1415160" cy="1676160"/>
            <a:chOff x="2014920" y="1905120"/>
            <a:chExt cx="1415160" cy="1676160"/>
          </a:xfrm>
        </p:grpSpPr>
        <p:sp>
          <p:nvSpPr>
            <p:cNvPr id="241" name=""/>
            <p:cNvSpPr/>
            <p:nvPr/>
          </p:nvSpPr>
          <p:spPr>
            <a:xfrm>
              <a:off x="2014920" y="190512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ourier New"/>
                </a:rPr>
                <a:t>And Spli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57400" y="2819520"/>
              <a:ext cx="76176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19160" y="3048120"/>
              <a:ext cx="533520" cy="5331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2819160" y="2514600"/>
              <a:ext cx="533520" cy="5335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19160" y="3048120"/>
              <a:ext cx="6098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Blocos construtivos para rota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2057400" y="4038480"/>
            <a:ext cx="1371600" cy="1676520"/>
            <a:chOff x="2057400" y="4038480"/>
            <a:chExt cx="1371600" cy="1676520"/>
          </a:xfrm>
        </p:grpSpPr>
        <p:sp>
          <p:nvSpPr>
            <p:cNvPr id="248" name=""/>
            <p:cNvSpPr/>
            <p:nvPr/>
          </p:nvSpPr>
          <p:spPr>
            <a:xfrm>
              <a:off x="2132640" y="403848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ourier New"/>
                </a:rPr>
                <a:t>OR Spli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57400" y="4952880"/>
              <a:ext cx="76176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819160" y="5181480"/>
              <a:ext cx="533520" cy="5335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819160" y="4647960"/>
              <a:ext cx="533520" cy="5331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19160" y="5181480"/>
              <a:ext cx="6098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638680" y="1905120"/>
            <a:ext cx="1371600" cy="1828800"/>
            <a:chOff x="5638680" y="1905120"/>
            <a:chExt cx="1371600" cy="1828800"/>
          </a:xfrm>
        </p:grpSpPr>
        <p:sp>
          <p:nvSpPr>
            <p:cNvPr id="254" name=""/>
            <p:cNvSpPr/>
            <p:nvPr/>
          </p:nvSpPr>
          <p:spPr>
            <a:xfrm>
              <a:off x="5714280" y="190512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ourier New"/>
                </a:rPr>
                <a:t>And Jo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48520" y="2819520"/>
              <a:ext cx="76176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715000" y="3200400"/>
              <a:ext cx="533520" cy="5335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 flipV="1">
              <a:off x="5715000" y="2361960"/>
              <a:ext cx="533520" cy="5331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5638680" y="3048120"/>
              <a:ext cx="6098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638680" y="4038480"/>
            <a:ext cx="1371600" cy="1828800"/>
            <a:chOff x="5638680" y="4038480"/>
            <a:chExt cx="1371600" cy="1828800"/>
          </a:xfrm>
        </p:grpSpPr>
        <p:sp>
          <p:nvSpPr>
            <p:cNvPr id="260" name=""/>
            <p:cNvSpPr/>
            <p:nvPr/>
          </p:nvSpPr>
          <p:spPr>
            <a:xfrm>
              <a:off x="5793840" y="403848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ourier New"/>
                </a:rPr>
                <a:t>Or Jo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48520" y="4952880"/>
              <a:ext cx="76176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5715000" y="5334120"/>
              <a:ext cx="533520" cy="5331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flipV="1">
              <a:off x="5715000" y="4495680"/>
              <a:ext cx="533520" cy="5335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5638680" y="5181480"/>
              <a:ext cx="6098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5E6962-D641-4F8B-8134-D4E26F83422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Padrão para Workflow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Workflow Management Coalition (WfM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undada em agosto de 1.99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www.wfmc.or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130 membros em 1.99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136548-097F-4265-B8A2-8E0B9F85D16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Padrões do Workflow Management Coalition (WfMC)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Glossário de padronização de termos (1.99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ocesse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: Coleção de </a:t>
            </a: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activitie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executadas por </a:t>
            </a: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tool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Tool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: Aplicação externa ao processo de workflo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Engine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: Programas de aplicação capaz de executar uma certa quantidade de activi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C37603-03EB-4F5A-874A-C443C89004B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Sinônimo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mputação colaborativa (collaborative computing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mputação em  grupo (workgroup computing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Gerenciamento de conhecimento (knowledge management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mputer-supported cooperative working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lectronic Resource Planning - ER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ustommer Relationship Management - C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nterprise Relationship Management - e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6D31CA-E7C0-4807-8678-7410C5F71CE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Mercado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endas de produtos de e-mail e workflow superiores a US$1,7 Bi (1997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rescimento superior a 3 milhões de usuários/mês (set./98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Lotus Notes tem  uma base de 21.9 milhões de usuários (set./98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ara cada $1 de licença, $7 a $8 de receita são produzidas em projeto, administração e treinam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 IBM comprou a Lotus por US$3,5 B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ED87A9-CBAA-4A7E-9CE4-333B00C63EE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Aplicação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udar o modo como as pessoas se comunicam, ou seja, os processos de negóci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utomação de atendimento ao consumidor, tornando a resposta mais ági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ornar a organização mais “flat” removendo camadas de burocrac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laboração em redes Cliente-Servidor, permitindo a formação de times virtua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ixar a memória coletiva de uma corporaçã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Gerenciar e acompanhar produtos em suas diversas fas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A7D82C-6B4E-4D3E-ADCE-86CA206B7BE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Groupware e Reengenhari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epensar o modo como os processos ocorr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utomação de novos process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utomatizar processos ruins não trazem nenhum benefíc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8521A7-39CD-4682-A56D-DA069047550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Ferramentas de Desenvolvimento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erramentas proprietárias e abertas para desenvolvim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PIs abertas que permitem o acréscimo de programas de terceir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Um estudo do IDC em 1994 com 65 empresas usuárias revelou um retorno de 16% a 1.666% sobre um investimento médio de US$100.000. Mais da metade acima de 100% e mais de um quarto acima de 20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BBE698-DC67-42BF-9035-51E329A2F9B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Groupware x DBM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B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lta concorrência (locking e isolação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acilidades para quer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Group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ados não estruturados (texto, imagens, gráficos, fax e correio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esquisa, distribuição e navegação em bases de documen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m o uso de browsers, plug-ins e javabeans permite exibir imagens, sons e animaçõ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D97057-BF64-4F39-B373-006BF538122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8:27:07Z</dcterms:created>
  <dc:creator>RRGO</dc:creator>
  <dc:description/>
  <dc:language>en-US</dc:language>
  <cp:lastModifiedBy>rgoya</cp:lastModifiedBy>
  <cp:lastPrinted>1999-10-21T19:10:35Z</cp:lastPrinted>
  <dcterms:modified xsi:type="dcterms:W3CDTF">2001-04-10T18:31:35Z</dcterms:modified>
  <cp:revision>94</cp:revision>
  <dc:subject/>
  <dc:title>Ambientes de Aplicações - São Judas - 2001</dc:title>
</cp:coreProperties>
</file>