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99D-8188-4996-A964-F301FF89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B3A-8785-4A69-B819-3E977661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28B-B532-4655-83DD-79EB3DD7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AE1-E397-4225-B498-2051950A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2DB5-F145-40B7-A34E-ACD3ED75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67BB-CB40-4951-AFC9-8817EA2F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52E2-59CD-4116-A832-68788C5E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5A1F-83D3-4625-96DA-885A5DEB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C15C-2B65-4A9C-9BC8-170F9491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0276-9F61-4B9E-945A-8BA12BA6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B28A-CC42-4C49-8078-96802C39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BD3-79F3-4314-9C11-853A6B15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B84B-162A-48FD-AB2B-22359C66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744A-AEE2-49CC-918A-387A99DE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D5CD-614C-4253-9F5B-77F5F356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042F-6504-4D38-A065-9CC778E1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BC12-AA29-46AB-B1E2-A2B0C998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C37-95F2-426C-9F03-2A58B543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015-8E2A-4A03-A33A-2C14E0F1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A65-6E4F-4322-9790-C0CE99CE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BAE-05A2-48CE-92CD-E8A39C4C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F62-05CB-4427-8BED-F80609C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45D-2032-4A68-9A17-1F4B571A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6A4-0792-4A53-9FDF-DC9841E8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5174-91CF-4150-8C39-229E5A474AB4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 Ambientes de Ap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Rodolfo Goya - SÃO JUDAS -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4D2C-53D1-48AE-BE3D-2F66E763ECA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C71C-5FD9-4DE0-8175-8E267A83DC5F}" type="datetime3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 de julh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8312-61BA-45A3-B237-C4CAA7BA838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 Arquitetura dos Servidores</a:t>
            </a:r>
            <a:br>
              <a:rPr sz="3200"/>
            </a:b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de Bancos de Dad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dolfo Riyoei 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goya@uol.com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ttp://sites.uol.com.br/rgo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QL 89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DL - Data Definitio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ML - Data Manipulatio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l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ll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26A-4534-4F3E-822F-4DBB7F02FA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A10C5-7895-4DB1-B90B-691DB0A758C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QL 9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gents (programas ou usuários interativ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exões cliente/serv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N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exões concorr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Uma conexão ativa de cada v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T CONN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CB2-832F-46C8-BF8A-C82219B67A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9922A-045A-4D5A-A097-06544C58CBA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QL 9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T TRANS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ad-on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solation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ad-uncomm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ad-comm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ad-repea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erializ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166-F4EA-4316-AE9E-3132812D38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85063-F8EE-4CE0-9377-F4C8D7866CF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2021040"/>
          <a:ext cx="7772400" cy="403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77240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46640" y="159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Tabela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9BC-337A-4E9C-A8CE-F84FFA64DC7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83BD2-4772-4B55-88C5-96D29041C1A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640" y="159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Tabela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04880" y="2033640"/>
          <a:ext cx="7974000" cy="454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33640"/>
                    <a:ext cx="797400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850-BD74-4F69-B284-B7105FDCA64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2A449-8378-4F0B-98BD-A00298C1111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280" y="1590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Tabela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93720" y="2028960"/>
          <a:ext cx="7605720" cy="46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2028960"/>
                    <a:ext cx="760572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974-5DE5-48C5-B4BF-05BB4059572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D45DC-8479-40B2-9689-2AD594EA86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ter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ELECT F.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ROM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WHERE F.FNR = ‘F4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OR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246-70C0-4742-B31A-9BCE1B7C75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7C5F4-3BF8-4479-87E3-A0AAA5B3360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L/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EC SQL SELECT F.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ROM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WHERE F.FNR = ‘F3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A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3DD-351C-4527-B139-D8C70F65030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DAE16-5C8F-48D8-ADDE-EE33253F1CC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tring sUrl = “jdbc:odbc:baseDeDados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nection con = DriverManager.getConnection( sUrl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tring sQuery = “SELECT F.CIDADE FROM F WHERE F.FNR = ‘F2’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tatement s = con.createStatemen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sult rslt = s.executeQuery( sQuery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while( rslt.next(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tring cidade = rslt.getString( “CIDADE”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A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FE2-9DF5-4E18-8B39-2194E49A5E4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14FE4-AE3F-4E0D-BA3A-FE61D83339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Definição de Dados em 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CREATE SCHEMA AUTHORIZATION GOY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CREATE TABLE F ( FNR CHAR(5) NOT NU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FNOME CHAR(2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SITUACAO DECIMAL(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CIDADE CHAR(1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UNIQUE (FNR)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CREATE TABLE P ( FNR CHAR(6) NOT NU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PNOME CHAR(2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COR CHAR(8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PESO DECIMAL(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CIDADE CHAR(1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UNIQUE (PNR)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54B-B505-41B6-A45D-D50C173900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90AB7-4858-4218-83C4-7D1A1CC9B67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fali, Robert et. al.; Client/Server Survival Guide Third Edition - caps. 10 a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lberschatz, Abraham et. Al.; Sistemas de Bancos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0F9-FA33-4E3C-BA48-22B6F81A9A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6838E-D260-4AB2-8E02-A33E7FD052C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Definição de Dados em 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CREATE TABLE ML ( FNR CHAR(5) NOT NU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PNR CHAR(6) NOT NULL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QTD DECIMAL(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UNIQUE (FNR,PNR)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F73-B793-415C-931D-7D8865A8E1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8E79F-BC8E-4327-9226-87934A20159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mando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se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SERT INTO ML(FNR,PNR,QT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ALUES(‘F5’,’P1’,1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C29-BC98-4265-B4F6-F04F14C6CA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B8C3D-4D46-421E-A7F3-349745FDDF8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280" y="1590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Tabela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95160" y="2028960"/>
          <a:ext cx="7602840" cy="43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28960"/>
                    <a:ext cx="76028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9A4-6DF9-4986-89F0-EF7DA0941C6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9E8D2-56DF-4566-A2C0-AFB2EDC94EF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280" y="1590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Tabela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93720" y="2063880"/>
          <a:ext cx="7605720" cy="46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2063880"/>
                    <a:ext cx="760572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4E0-F2B7-4790-AD9E-12E41C0DA9A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8993A-743F-4773-B22D-AAD0365AF01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mando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Upda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UPDATE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ET SITUACAO = SITUACAO *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WHERE CIDADE = ‘LOREN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D08-E53A-4505-BBF8-6A4DE5FD3F3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897B8-7119-4C52-BBE4-8441E2869AD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2560" y="2022480"/>
          <a:ext cx="7724880" cy="40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22480"/>
                    <a:ext cx="772488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46640" y="159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Tabela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A36-78F1-44B9-9159-C639B42FBF8C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107D2-152D-47B7-AA55-12EDE70BA00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2046240"/>
          <a:ext cx="7605720" cy="38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46240"/>
                    <a:ext cx="760572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746640" y="159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Tabela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6E5-7F54-444F-BBB4-31A0627DEB0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2440D-C750-4913-AB94-1CBB18791D7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mando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ele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EL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ROM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WHERE PESO &gt;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15B-53E6-4C8F-8657-08C24F26FEC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14D95-6ECC-4E51-A9D7-6D1EA77F222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6640" y="159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Tabela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46280" y="2035080"/>
          <a:ext cx="8021520" cy="38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035080"/>
                    <a:ext cx="8021520" cy="38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F42-6F6C-4764-BEFF-CD34809D1490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68A6E-EB5E-40C2-8E20-6C9CF6B71A9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640" y="159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Tabela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41240" y="2035080"/>
          <a:ext cx="8031240" cy="38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2035080"/>
                    <a:ext cx="8031240" cy="38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55C-2C2A-4410-9FBA-FE9D57C33F8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A1646-34A2-4E0D-B934-1D40DB04774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rvidores de Bancos de Dad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200400"/>
            <a:ext cx="1600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Aplic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809880"/>
            <a:ext cx="1600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Aplic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419720"/>
            <a:ext cx="16002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Aplic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5029200"/>
            <a:ext cx="1600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Aplic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3505320"/>
            <a:ext cx="137160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ervi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de Ban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2438280"/>
            <a:ext cx="1600200" cy="106704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Ban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3657600"/>
            <a:ext cx="1600200" cy="106668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Ban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876920"/>
            <a:ext cx="1600200" cy="106668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Ban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666880"/>
            <a:ext cx="838440" cy="30481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191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4191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45720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51814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572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572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3886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9718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971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E69-01F4-45FD-B0BA-1639A33C645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364C3-C5FC-44D2-92BC-9D5F9AC4069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6640" y="159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Tabela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41240" y="2033640"/>
          <a:ext cx="8020080" cy="38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2033640"/>
                    <a:ext cx="802008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E36-0531-4EB2-B35F-763E2982307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2B169-8B77-44C1-BB31-857047C4EE0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ELECT COR,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ROM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WHERE PESO&gt;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ND CIDADE&lt;&gt;’Paris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RDER BY COR D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R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ermelh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or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ermelh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or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ermelh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or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zul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EDC-0C88-491D-9926-4A01CECC3B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1E1EB-A37B-4552-9A8E-146603F9666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xemplos de Consulta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ELECT DISTINCT COR,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ROM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WHERE PESO&gt;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ND CIDADE&lt;&gt;’Paris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RDER BY COR D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R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ermelh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or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zul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68F-3007-4B9B-9981-05C6250DB0F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38C2B-E5BE-4CE2-809C-DC008EB7035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unções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UNT, SUM, AVG, MAX, MIN, COUNT(*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LECT COUNT(*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ROM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LECT COUNT(DISTINCT FN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ROM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340-3E13-42D5-8BBF-0AED282EFF5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9F6CE-D5F8-4056-9ABF-65B4C4CA282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unções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LECT SUM(QT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ROM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HERE PNR=‘P2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AE4-C5B9-46E2-84AF-2EB08E46524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4F68E-4479-4728-AE19-8550EBD43BB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unções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LECT PNR,SUM(QT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ROM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ROUP BY PN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N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1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2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3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4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5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6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C07-0C36-4CE9-BC42-5FF55B18100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1CB24-A228-411D-B178-9D69E13582D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Views em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EATE VIEW FL(FNR,FNOME,SITUACA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SELECT FNR,NOME,SITUAC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ROM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HERE CIDADE=‘Loren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746-C81F-4884-989B-B326EE8124C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1E870-18D1-49C8-A6EB-D2C28B3F7ED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Views em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2021040"/>
          <a:ext cx="7772400" cy="403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77240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46640" y="159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Tabela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78F-007F-472C-A768-F347CB23F960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FDE19-D490-4266-86DA-5E821B1BB2B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Views em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7240" y="2030400"/>
          <a:ext cx="7620120" cy="392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2030400"/>
                    <a:ext cx="76201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46640" y="1590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View F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063-7187-44B9-8610-12C37132E301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5E231-5450-4DAF-86B9-80ADBD0C96C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cedur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CEDURE DELETA_C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QL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N_CIDADE CHAR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LETE FROM P WHERE Cidade = PRN_C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B08-4009-4CB0-AB8D-974516DAEDC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15642-6BE4-4D5C-8166-ECFCB9CBB67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rvidores de Bancos de Dad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nos 70 - Structured Query Language - SQL (IB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979 - SQL (Orac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IBM) SQL/DS e DB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ualmente mais de 300 fabric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dr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QL 89 (ANS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QL 92 (ANS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QL 3 (ANS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drão I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DF8-37F4-48DC-873E-5DC8B80B9D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F75DC-8A63-4687-BF35-B58DE7416BD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Outras Característica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gr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T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M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LL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RANT INSERT, DELETE, UPDATE ON ML TO J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FBC-1C24-431C-BC79-661575355465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F2E05-E9DB-42FC-AFB4-B2AAA5CE266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rquitetura Database-Centric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licação Client requer dado e o serviço relacionado ao 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idor de Banco de Dados (SQL engine) atende à solicitação do Client e provê acesso seguro aos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 um simples comando (SQL statement) uma aplicação client pode extrair dados ou modificar um conjunto de registros em um servidor de bancos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esso concor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esso discricion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26D-59B1-45A6-80A5-D5BA38CC7FE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B10C1-A801-417E-98C0-2D263DA12CF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rquiteturas de Servidores de  Bancos de Dad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9560" y="17524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Process per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5909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32767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9625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6483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2209680"/>
            <a:ext cx="2666880" cy="3353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251460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Proc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20040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Proc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88620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Proc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457200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Proc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35053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4191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48769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2438280"/>
            <a:ext cx="1295280" cy="121932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281952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572000" y="2971800"/>
            <a:ext cx="13716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572000" y="3124080"/>
            <a:ext cx="137160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0" y="3352680"/>
            <a:ext cx="137160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17080" y="4172040"/>
            <a:ext cx="347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-Um processo por Cli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-Melhor proteçã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-Adequado para S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-Baseado no multitask 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S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8760" y="51814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Inform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Oracle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48880" y="21906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ervidor DB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986-E1E3-4F5B-83C9-DD506FFA0448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5A9F0-0A2C-40A1-A91D-5849B4E6978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rquiteturas de Servidores de  Bancos de Dad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1000" y="17524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Multithrea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25909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32767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9625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46483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2209680"/>
            <a:ext cx="2666880" cy="3353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51460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3048120"/>
            <a:ext cx="19051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358128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411480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3352680"/>
            <a:ext cx="1066680" cy="152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0200" y="3885840"/>
            <a:ext cx="106668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600200" y="4495320"/>
            <a:ext cx="10666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2438280"/>
            <a:ext cx="1295280" cy="121932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81952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572000" y="2971800"/>
            <a:ext cx="13716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572000" y="3123720"/>
            <a:ext cx="13716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572000" y="3352680"/>
            <a:ext cx="137160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27640" y="4172040"/>
            <a:ext cx="374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-Aplicação em multi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-Melhor performan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-Maior portabilida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-Scheduller interno 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aplicaçã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6600" y="52578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Sy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MS - SQL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48880" y="21906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ervidor DB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D39-38A3-4AA1-84C1-4F3299D4DE28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04187-3308-40AA-9E29-435274CB479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rquiteturas de Servidores de  Bancos de Dad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9200" y="175248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Arquitetura Híbr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25909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32767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39625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648320"/>
            <a:ext cx="9907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2209680"/>
            <a:ext cx="2666880" cy="3353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251460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Proc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320040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Proc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388620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Proc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457200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Proc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2819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35053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1911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0120" y="2438280"/>
            <a:ext cx="1295280" cy="121932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2819520"/>
            <a:ext cx="60948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3505320"/>
            <a:ext cx="53352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657600" y="3809520"/>
            <a:ext cx="53352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657600" y="3886200"/>
            <a:ext cx="60948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69440" y="57913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Oracle 7 e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34480" y="21906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ervidor DB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2228760"/>
            <a:ext cx="2666880" cy="3353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253368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321948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3905280"/>
            <a:ext cx="19051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2838600"/>
            <a:ext cx="533160" cy="56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162920" y="3200040"/>
            <a:ext cx="45720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162920" y="3429000"/>
            <a:ext cx="533160" cy="781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39800" y="2209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Servidor DB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1120" y="3581280"/>
            <a:ext cx="533160" cy="304920"/>
          </a:xfrm>
          <a:prstGeom prst="flowChartMagneticDrum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648320" y="2819520"/>
            <a:ext cx="6094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648320" y="3428640"/>
            <a:ext cx="60948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3733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15160" y="306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Courier New"/>
              </a:rPr>
              <a:t>Fi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1FD-3111-4EC8-AC14-0E0DB5526EC0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F42B7-186C-41A4-BFB0-255A97820DC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tored Procedur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ybase (198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eção de comandos SQL compilados, verificados e armazenados no servidor de bancos d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cutadas do lado do servi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tados como objetos normais de banco de dados (incluído em catálogos e sujeito a restrições de seguranç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vocados como se fossem chamadas de procedimento remo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m receber parâmetros de ent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6BA-A938-43F8-A161-F1E009D622D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A3CDC-EAD1-48A2-B9B2-E96328B4790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tored Procedur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m ser compartilhadas entre cli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ibuem para minimizar tráfego de re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elhora gerenciamento pois, ao alterar alguma tabela, dispensa alterações nos cli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ambém denominadas de TP-lite e de Online Transaction Processing (OLT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há padrão para stored proced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existe boa solução para sincronização de transações em bases de dados separ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B2B-82D0-4D31-BC12-A0DA4DB8CF1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2FDF4-ED12-4602-9ABF-D2A0F9BEC77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quência de Ativação de uma Stored Procedure ou OLTP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ebe as entradas do 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cuta os comandos pré-compil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z o commit das oper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torna os resultados para o 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8A7-BD1C-4EE2-9C9D-0CD5B4F1A4B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8E655-DCAA-4A1F-9159-C63E5C08942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dutos com Stored Procedur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ybase e MS-SQL Serv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m proprietária : Transact-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suporta curs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 retornar múltiplas linh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vocadas através do comando SQL EXEC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9DC-0FA5-4B21-A9F3-2C8CD038C41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CB10D-A7A0-4F5F-92D6-5A64EB3DBC7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dutos com Stored Procedur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ac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m proprietária: PL/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suporta curs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ó pode retornar uma lin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vocadas através do nome da stored procedure seguida do banco de dados onde está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mite stored procedures escritas em 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C2E-892D-412A-916A-73185D1C23E0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E68CB-698C-407D-ABFD-91569E2FC8B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Market sha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7240" y="1523880"/>
          <a:ext cx="7885440" cy="45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3880"/>
                    <a:ext cx="788544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223640" y="59580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Dataquest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0FD-1ED0-4903-AA7C-580F23A846A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7D61B-C027-4024-8CD6-A9B1407AB93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dutos com Stored Procedur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B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LL em linguagens padrão. Admite stored procedures escritas em Ja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rmazenadas no mesmo servidor que o banco de dados, mas não armazenadas no banco d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019-4937-4F6F-A631-8B11013847B2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D8714-649C-4B30-8216-CA783CEC8EF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dutos com Stored Procedur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formix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m proprietária: Stored Procedure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i admitir stored procedures escritas em 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259-986E-4D1A-AD0D-D1F826B34F38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3DFF2-43EB-4ED8-9592-26820252ABD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riggers e Rul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ig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ções especialmente definidas para serem executadas automaticamente pelo servidor quando algum evento ocor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tipo especial de trigger usado para fazer verificações simples sobre os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109-57DF-43A0-8545-0A1C1FFEA95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DA027-9AAF-4863-86EC-638A4BA042E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Tendência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BMS evoluirem para Sistemas Operacio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lataformas: desde Laptop até Teraf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QL DB evoluir para Data ware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QL replicado por toda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QL DB +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QL DB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D52-00B0-4E49-877C-4136919AC95A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F7C5E-92AA-40BB-AD06-6ADB79B91D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ervidores de Bancos de Dados -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po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ecanismo de acesso a bancos de dados em uma linguagem natural (inglê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da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oria dos Conju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álculo de Predi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FED-105A-4222-97E1-B97E3FCBEC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4556A-0D7B-4305-B608-96C568FD78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apéis da Linguagem SQ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m de queries interativas para acesso ad ho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m para programação de bancos de dados (C, C++, Pascal, PL/1, Java e Cobo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ição de Dados / Administração d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otado como “língua-franca” para Servidor de Bancos de Dados Distribuí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ecanismo de proteção de dados em ambiente de redes multi-usuá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9C7-1196-4A3A-B2FF-ECD56AF235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42D91-ECF8-47FE-9F0A-8C866F78628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adrõ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QL 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secção” de todos os produtos/padrões exis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QL 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er-conjunto do SQL 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5 vezes maior que o SQL 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briu diversos “buracos” na especificação orig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cialmente adotado pelos fabric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QL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inal de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0DE-29D6-4083-8356-5C75D1EDB6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D7390-9261-4635-AADE-2D1ED7AA770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QL 89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DL - Data Definitio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abe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de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strições de Integridade Refer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ML - Data Manipulatio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C62-A01B-4A11-BA3A-71B641D5407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4ED68-3F7E-49F1-A06E-E6E4BA5E96E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8:27:07Z</dcterms:created>
  <dc:creator>RRGO</dc:creator>
  <dc:description/>
  <dc:language>en-US</dc:language>
  <cp:lastModifiedBy>rgoya</cp:lastModifiedBy>
  <cp:lastPrinted>1999-10-21T19:10:35Z</cp:lastPrinted>
  <dcterms:modified xsi:type="dcterms:W3CDTF">2001-04-10T18:30:54Z</dcterms:modified>
  <cp:revision>79</cp:revision>
  <dc:subject/>
  <dc:title>Ambientes de Aplicações - São Judas - 2001</dc:title>
</cp:coreProperties>
</file>