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B41-EB56-4720-BC9B-6B3C0B4C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792-A5DE-41DE-84CA-5DC63E56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B40-D440-468A-90E2-423F95A4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D92-75BD-4B16-BAAD-375FA591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C118-12E2-47FD-B3E6-5B043B7B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22A4-E6C6-4454-9B3F-85862FD1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EA29-781C-41C3-8C0B-51367C73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71E4-FC2B-4C20-8301-7E4E9190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8F54-A38A-4F1F-A5DE-725F01F7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C8B5-2C9E-46C8-AA56-ECBBBFCA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9216-2AE5-4816-A3EC-711C33E0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4CE-6339-41A5-92D8-F6F80172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9BB8-54E0-4F25-B8EA-B3BB1237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B1A3-73C3-40EE-A589-657A7DF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9B7E-E0FA-4604-B631-995B09B9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EFF1-A071-4461-BEFA-C9C28431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746-E7FE-4974-A8DD-D07E1B21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FB3-82A9-4AB8-950C-A6B52300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9AF-51CD-4DFE-8690-FC498F99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4A9-2BC8-411D-8ADD-1E7299C3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7E4-EB54-4B96-8993-FC728E41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5B2-015E-4FAB-AD48-1516920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9E2-9D94-4FFE-A559-1221ABF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FFC-0916-4F73-B859-E99FCD73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50D7-2786-4EE5-9426-B4669A653DD1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 Ambientes de Ap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Rodolfo Goya - SÃO JUDAS -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FA1B-83DF-43EC-9259-E23C37A1566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F4B3-B2DB-48C6-8B96-1CBA3A4D5134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46AD-2F92-4B90-82A3-5D83BC0B274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EX05.HTM" TargetMode="External"/><Relationship Id="rId2" Type="http://schemas.openxmlformats.org/officeDocument/2006/relationships/hyperlink" Target="file:///EX05.HTM" TargetMode="External"/><Relationship Id="rId3" Type="http://schemas.openxmlformats.org/officeDocument/2006/relationships/hyperlink" Target="file:///EX04.HTM" TargetMode="External"/><Relationship Id="rId4" Type="http://schemas.openxmlformats.org/officeDocument/2006/relationships/hyperlink" Target="file:///EX04.HTM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s Diferentes Arquiteturas Cliente-Servidor pela Interne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odolfo Riyoei Goy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goya@uol.com.b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http://sites.uol.com.br/rgoy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ecanismo de Acesso a um Si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client seleciona uma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lient envia uma solicitação 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URL é transformada em endereço IP (D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rver processa a solicitação - port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servidor transfere um arquivo para o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lient interpreta os comandos 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6FF-550F-48E4-AC5D-8CB9494304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5F43F-278E-4FFC-9EF7-6D52543D2F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UR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otoc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ome do serv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úmero do 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80: 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443: SS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21: f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ath para o recur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http://www.microsoft.com:80:/security/default.a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14F-C03E-4A13-8441-8AAFED9756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B9C2E-6B41-4BFD-AEA5-C4E4ED79C1C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HTTP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Hyper Text Transfer Protoc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990: HTTP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997: HTTP 1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ersistê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ipel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tate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gurança: SS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510-68C6-48CC-A401-CCC083B91A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AF9A8-B22E-4CAB-8F74-EC11FDF602C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HTM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Hyper Text Mark-up Langu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Mark-ups baseados em ta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: 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ibição depende da plata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Histó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992: HTML 1.0 e 2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997: HTML 3.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ables e app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997: HTML 4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ascade Style She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B72-C04F-49A4-86D2-68F1A57EA6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1EE1F-F13F-472A-A025-65173A70C96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HTM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áginas HTML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TML&gt; &lt;/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EAD&gt; &lt;/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BODY&gt; &lt;/BOD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TITLE&gt; &lt;/TITL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1&gt; &lt;/H1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2&gt; &lt;/H2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6&gt; &lt;/H6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D1E-03C2-4E09-ABD6-E9BCEA508C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8F01B-D121-4604-8244-EA9807E04CC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HTM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ormatação de tex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B&gt;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BOLD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B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I&gt;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TÁLIC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I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U&gt;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UBLINHAD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U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TT&gt;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ESPAÇAMENTO FIX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T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STRIKE&gt;TACHADO&lt;/STRIK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038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6AB-3E5C-4582-9DE2-576200D1E0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8C0A4-FC68-4497-9D98-6F6D1442AB0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HTM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trole de parágraf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P&gt;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ew Paragrap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Horizontal 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708-57FF-4D9D-BB9D-C1F0EDBF9B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40616-6C42-4CF4-BCED-9E3CEA32ABA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HTM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trole de li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OL&gt;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rdered List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O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UL&gt;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nordered List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U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LI&gt;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ist I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r>
              <a:rPr b="0" lang="pt-BR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:</a:t>
            </a:r>
            <a:r>
              <a:rPr b="0" lang="pt-BR" sz="20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 Ordered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r>
              <a:rPr b="0" lang="pt-BR" sz="20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:</a:t>
            </a:r>
            <a:r>
              <a:rPr b="0" lang="pt-BR" sz="2000" spc="-1" strike="noStrike" u="sng">
                <a:solidFill>
                  <a:srgbClr val="3366ff"/>
                </a:solidFill>
                <a:uFillTx/>
                <a:latin typeface="Times New Roman"/>
                <a:hlinkClick r:id="rId4"/>
              </a:rPr>
              <a:t> Unordered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576-213A-4AD9-8CAE-820B65A23D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C40F7-27FA-4CB7-BDCB-B8FE890C361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HTM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mag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IMG SRC = “nome.gif ” ALIGN = RIGH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IMG SRC = “nome.gif ” ALIGN = LEF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IMG SRC = “nome.gif ” ALIGN = CENT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BD0-9B09-4DB7-95E2-9AB92A705B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ACAC5-3BBC-43B3-8349-2492A2A3D97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HTM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Hiperli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A HREF= “URL”&gt; Texto &lt;/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A HREF= “URL”&gt; IMG SRC = “nome.gif”&lt;/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316-806C-40E4-8F08-7FB4BB30D0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2D1D4-C437-43B5-BEBA-F5A66A5DD02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rfali, Robert et. al.; Client/Server Survival Guide Third E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ecember, John; HTML &amp; CGI Unleas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BA3-E7E5-4A3E-8C9B-7A55EA02A0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46182-66B1-4E05-9ED0-FE998350985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meira Geração: HTM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abe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TABLE&gt;&lt;/TABLE&gt;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ab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TR&gt;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able r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TH&gt;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able 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82A-989B-4BBE-9664-DAF62EEF06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5142C-2F24-436A-9947-3A62B06557A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O Crescimento Explosivo da Interne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gt; 10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serv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gt; 10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usuá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escimento superior a 2,0 x 10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usuários/mê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20 x 10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home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escimento superior a 1,5 x 10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home pages/mê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fra estrutura que duplica a cada 8 me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plosão a partir de 1993 - Browser (Mosa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ternet / intranet / extranet / e-Comme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E7B-6960-4060-9DC0-D393E8E7AF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2827B-6B05-4E86-B9BD-C11647DD25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incípios da Arquitetura Interne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oltado para ser altamente confiá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eve permanecer funcionando mesmo no caso de uma grande quantidade de máquinas falhar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lta escalabi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infra-estrutura deve crescer com facilidade, sem formação de gargal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squema de endereçamento glob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ersão 4 (atual) endereços IP de 32 b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a versão 6 os endereços IP passarão a ter 128 b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5D9-FF64-47A5-8910-E73B344306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DB1A0-51C3-4214-AE49-3ECBF70FD8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 Evolução da Tecnologia WEB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19320" y="2514240"/>
            <a:ext cx="0" cy="3429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5943600"/>
            <a:ext cx="6705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102600" y="3679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Funcional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0200" y="60199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Interativ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029200"/>
            <a:ext cx="167616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Servidores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Arquiv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Baseados em UR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267080"/>
            <a:ext cx="167652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Formulár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3505320"/>
            <a:ext cx="167616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D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Scrip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Cook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743200"/>
            <a:ext cx="1676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Ja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urier New"/>
              </a:rPr>
              <a:t>Active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E75-03A3-487B-B7F1-099F221D54C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45E9F-8055-4D7F-BAAF-32F0FD14123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ases da Evolução da Tecnologia WEB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as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rvidor de arquivos: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enhuma it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as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licações no lado do serv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ADC-07A2-4B07-878D-FB360564B4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861B8-4167-45C6-B825-2C4591270B8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ases da Evolução da Tecnologia WEB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as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cri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ok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ariáveis de ses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21F-09D1-42AA-B453-E8A0868E2B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B4483-B3E0-42A0-A2EC-AC765FB4C45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ases da Evolução da Tecnologia WEB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ase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 Applet/Serv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ctive-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liente-Serv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plication 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r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86B-1C09-426F-BBE1-BE6C1E7960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0A115-8783-41F4-BDC0-282D6C6732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85800" y="609480"/>
          <a:ext cx="777240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7724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FEF-50FF-43DE-BEEF-EEB8C6FFDF9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6B531-91E5-4E60-BF9F-19D7D77CE5D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8:27:07Z</dcterms:created>
  <dc:creator>RRGO</dc:creator>
  <dc:description/>
  <dc:language>en-US</dc:language>
  <cp:lastModifiedBy>rgoya</cp:lastModifiedBy>
  <cp:lastPrinted>1999-10-21T19:10:35Z</cp:lastPrinted>
  <dcterms:modified xsi:type="dcterms:W3CDTF">2001-04-10T21:23:08Z</dcterms:modified>
  <cp:revision>67</cp:revision>
  <dc:subject/>
  <dc:title>Ambientes de Aplicações - São Judas - 2001</dc:title>
</cp:coreProperties>
</file>