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5E2-91C6-466B-BF2D-CCA33238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8D4-AA77-4B7E-BF05-01F5DF9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EDE-8414-45FC-AD39-D395818F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1B5-13BC-48F2-9AEB-97A4EB58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4D8B-9CF8-4AD0-96BE-7F9C212D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D2C3-17E1-460D-BF75-ABA4E5E8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4C22-2B69-483E-BBCF-17C64910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503A-2911-4CE6-AE6C-D4C831C2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7482-17A7-42AF-B91F-7897CB6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010-5D06-403C-8221-FE94BEF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369F-6F30-4DBC-8633-0549605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7D9-7E35-48D9-8B3F-271D142A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E49-CFD2-4C28-AD6A-F1FAF2F1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9DD-08ED-4E22-89A6-C43376A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40D-98C2-4836-BD76-383F4DFE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50DA-C9B2-41DB-AF86-75D76C9D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3E43-E60E-47F8-A08C-0E0174E2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AF1-EDC9-4EE8-8D89-413E9792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803-40BD-416D-8E96-BC55CC8B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672-A977-4714-8FFC-DA10F25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BA3-0A07-420D-AE77-CC15F71D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756-16C6-46D4-8166-5E5A8B5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435-94FC-43FA-8CE4-1E6A143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A2F-DE94-416A-850C-EBEFA2F5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74B-2D21-4BE2-BCFA-5F1B3E006855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16A-910D-452D-85D4-650196B2CFA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2CA-1ACC-4C33-B466-E4323BCC3F0A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0AA2-8479-4604-889B-6BD0AF4BF53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ites.uol.com.br/rgoya/pos4/Ex09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s Diferentes Arquiteturas Cliente-Servidor pela Internet - 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me/Valor separados por ‘&amp;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me separado do valor por ‘=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paços substituidos por ‘+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alfabéticos: %nn (ASCII codificado em 2 dígitos hexadecima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e-break: %0D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CE1-AA1C-487E-9461-BBC471F30F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58357-0348-4E21-98A9-62BE833210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Hidden” Name=“nome” Value=“valor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Text” Name=“nome” Size=“tam” MaxLength=“valor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Radio” Name=“nome” Value=“valor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Radio” Name=“nome” Value=“valor”&gt; Check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Checkbox” Name=“nom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Checkbox” Name=“nome”&gt; Check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DC3-92AD-4759-92ED-D4997CD2B60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BD9AF-D182-4AC9-89FB-13872330920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Password” Name=“nom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Submit” Value=“valor”&gt;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Reset” Value=“valor”&gt;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Image” Src = “URL”Name=“nom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Image” Src = “URL”Name=“nome” Align=“Top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Image” Src = “URL”Name=“nome” Align=“Middl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 = “Image” Src = “URL”Name=“nome” Align=“Bottom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C2B-0F47-4B99-9FE0-16A08BC340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901B6-FAB5-4AF4-9A4C-0293896910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SELECT Name=“nom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SEL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F75-635C-4024-800A-B4C64BAB02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7FCC5-3839-440A-A162-639E0A1DBF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SELECT Name=“nome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 SELECTED&gt; Opçã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SEL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849-EE45-402F-8124-4B77922EDB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C3A95-2BA9-4FDD-AC6C-E540AB71EB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SELECT Name=“nome” Size=“3” Multip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cão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SEL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671-C7F1-48CD-9C56-D38BBA97B1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0C814-8E48-439E-8F01-31F3A71F9C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SELECT Name=“nome” Size=“3” Multip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 SELECTED&gt; Opcão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&gt; Opçã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OPTION SELECTED&gt; Opcão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SEL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4FA-0F90-417F-BF0F-30CFA6CB41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BF336-A975-4217-BA07-48C30FF39E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ando de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TEXTAREA NAME="Comments" ROWS=10 COLS=40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TEXTARE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5EA-2FD5-46D8-A2F2-0D00B1C1A5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BA5BA-596E-4F79-9F81-6E96E5E7A6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 de um formulário comple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E40-E389-4BAF-85C0-DA048C25C4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65587-52B8-494A-B1B2-23E3E0EA95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ateway entre o formulário e o programa de aplicação em linguagem C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 entre o servidor WEB e o programa C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ENT_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RY_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tdin/std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mand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241-4717-48CC-AAF4-4BB040C89C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125A4-D446-4E5D-8E9A-BAAB513C8B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ember, John; HTML &amp; CGI Unlea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ille, Chistoph; Koller, Christian; Active Server Pages - ASP. Aprenda em 24 h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05B-971E-453C-BDA2-0FDDC9D1AA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0D0D3-9C49-415C-8C9D-7FD12F154C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FORM METHOD=“get” ACTION= ….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me &lt;INPUT TYPE=“text” NAME=“primeiro nome”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obrenome &lt;INPUT TYPE=“text” NAME=“sobrenome”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NPUT TYPE=“submit” VALUE=“termina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z o da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meiro+nome=Rodolfo&amp;sobrenome=Goy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040-477E-4406-B0B9-FAD481C92F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0CCE9-E86B-4022-BF35-CFEEAA7A20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ateway entre o formulário e o programa de aplicação em linguagem Per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actical Extraction and Report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da por Larry 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pretado no servidor (requer interpret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remamente pop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551-9FEE-4D9D-AAA3-8667ABB617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96A12-A099-4C9B-B339-0EEBF98DF1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ateway entre o formulário e o programa de aplicação em linguagem Perl - Exempl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trada/Saí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ad( stdin, $buffer, $ENV{ ‘CONTENT_LENGTH’ }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int “       “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int “$NAME  = $value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4CC-6459-4583-931E-89BED6C5C3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F6CBF-F57E-4C41-9D1E-C0DD0AA2C2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ateway entre o formulário e o programa de aplicação em linguagem Perl - Exempl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s (exempl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@nvpairs = split( /&amp;/, &amp;buffer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or each $pair( @nvpairs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( $name, $value ) = split( /=/, $pair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$value =~ tr/+/ /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$value =~ s/%[a-fA-F0-9][a-fA-F0-9]/ pack( “C”, hex($1)) / e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int “$name = $value\n”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int “&lt;/BODY&gt;&lt;/HTML&gt;\n”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A1F-608A-40BA-BD51-F5E7D8B84B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BA7EE-E65C-4766-9BC1-B49518C468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ctive Server Page - AS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cutado do lado do 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ão Microsoft - Internet Information Server I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lhor performance que C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ização periód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ww.asp-tracker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44A-5187-4066-AA48-82D7D7CE20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2E11-26CB-441E-B831-2FE35FDC33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ctive Server Page - AS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os padr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ct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AFD-7967-4572-B730-B3A13F1989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4DCD2-DD3B-4515-ADE5-568B331E78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vê interação entre o usuário e o s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ia telas com formulários para o cliente preen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programa que é executado no servidor recebe os dados do formul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 processa dados do formul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67C-6449-4882-8325-C32123357F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BBD6B-4F28-4E47-B367-D48A177240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andos de Formulári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adio but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kbo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s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Área de 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otões de com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iar o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mpar o formul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1CE-4BC4-4502-911A-902F7F6B7A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80E5B-35A3-4E28-A9C9-05FCA3D8B34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is modos de interação com formulá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750-3E42-4F15-A44B-3DA254F202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D22D5-EC92-42BA-80D6-DEDFAE3856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 - PO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FORM METHOD=“POST”ACTION=“URL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2E7-3799-45D9-AAF4-ACD8D97D2C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BEE40-5C77-4102-B398-E38B088AF7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 - PO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mendado no acesso a bancos de dados e outras informações persist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ia dados via std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EBA-25E4-40CE-AE44-062B81D3EC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67EEE-B881-4E9A-886C-AA50D12DEA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 - G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FORM METHOD=“GET”ACTION=“URL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F58-3897-4E0B-BAB6-F6DA00DAC3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4CE88-3485-49BA-92E7-E478964A07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gunda Geração: Formulários e CGI - G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mulários que não fazem acesso a bancos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 acesso a informações persist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ia dados através do amb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dos enviados separados por ’?’ após a UR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E4A-F777-4028-936D-8E3915D2DB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24D18-8AEE-4809-88A6-2DA1C5E102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21:38:23Z</dcterms:modified>
  <cp:revision>70</cp:revision>
  <dc:subject/>
  <dc:title>Ambientes de Aplicações - São Judas - 2001</dc:title>
</cp:coreProperties>
</file>