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27C-29DE-4446-A786-566834FC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EAA-071E-47B6-A866-5171092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9C9-BCC8-42EE-BF40-1ED477CE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6ED-83B0-41EA-AB38-E829FF4C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B01-A188-4F55-BEDB-B6BA493C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A777-1B23-4BA6-B39B-05CB3868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9D8-A56B-4F91-8C7D-297D10B6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ADF7-57B8-4CFA-BFD1-A97A612D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C21-C03F-4D8B-A12C-BD1A25A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BEF-B63F-42D1-8443-0AC1EC4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D19E-89F8-466F-A230-FB8C34EC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F5A-7C12-4AA9-A45D-323E61BE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B29D-2419-4072-9EE5-E50EF65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8F6F-551A-4544-A45A-26F8737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F329-8016-4CBE-A1EF-FBBB458D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BAF-8919-40D1-B676-1F1667BD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AC18-ABF0-4361-9BB9-94A04FDD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774-84D8-4926-9AC8-5E4051E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E3B-6F42-449E-B1DA-2018730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85A-C9DD-4A53-A3CA-A577187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FC8-6BD5-439B-92C0-82D1062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1D3-E7E6-44C8-A64D-1FCF498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CDA-8666-47A0-9E13-43E9075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DD2-D87A-4F3E-AB48-963F18B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8917-ACBA-4016-A1B6-52192E203E29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DFC-440A-48B2-979D-B1D371ED7F5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8AB-5CD0-4544-BD39-952A6DAB69E1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14C-E404-492F-B814-239C771184A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 Arquitetura dos 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u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efeitos de uma transação devem permanecer após a sua conclus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mudanças devem sobreviver a falhas do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termo “Persistência” costuma ser usado como sinônimo para durabi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CE4-1CC2-43E6-A090-0F879ECAF3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933B3-ABDB-4EAA-950F-A3C93DB08B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s de Transaç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at trans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junto de transações iniciadas com uma indicação de início de transação e finalizadas com uma indicação de commit (quando a transação é bem sucedida) ou abort (quando a transação falh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ined trans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mesmo modo que as flat transactions porém com pontos de sincronização que permite recuperação parcial em caso de fal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ted trans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cluem ações que, por si só, são trans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0F8-96C6-44C2-A567-87472C579A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5F966-0F94-490A-BCE8-431FBA376CF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 flipV="1">
            <a:off x="913320" y="4876920"/>
            <a:ext cx="6095880" cy="1676160"/>
          </a:xfrm>
          <a:custGeom>
            <a:avLst/>
            <a:gdLst>
              <a:gd name="textAreaLeft" fmla="*/ -360 w 6095880"/>
              <a:gd name="textAreaRight" fmla="*/ 6095880 w 609588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lat transac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06360" y="1886040"/>
            <a:ext cx="6350400" cy="1619280"/>
            <a:chOff x="1206360" y="1886040"/>
            <a:chExt cx="6350400" cy="1619280"/>
          </a:xfrm>
        </p:grpSpPr>
        <p:sp>
          <p:nvSpPr>
            <p:cNvPr id="107" name=""/>
            <p:cNvSpPr/>
            <p:nvPr/>
          </p:nvSpPr>
          <p:spPr>
            <a:xfrm>
              <a:off x="1676520" y="2743200"/>
              <a:ext cx="5410080" cy="762120"/>
            </a:xfrm>
            <a:prstGeom prst="rightArrow">
              <a:avLst>
                <a:gd name="adj1" fmla="val 50000"/>
                <a:gd name="adj2" fmla="val 17746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Courier New"/>
                </a:rPr>
                <a:t>Transaç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23623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362320"/>
              <a:ext cx="0" cy="76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6360" y="1886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Courier New"/>
                </a:rPr>
                <a:t>Iníc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1919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Courier New"/>
                </a:rPr>
                <a:t>Comm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19320" y="3790800"/>
            <a:ext cx="5879880" cy="1619280"/>
            <a:chOff x="1219320" y="3790800"/>
            <a:chExt cx="5879880" cy="1619280"/>
          </a:xfrm>
        </p:grpSpPr>
        <p:sp>
          <p:nvSpPr>
            <p:cNvPr id="113" name=""/>
            <p:cNvSpPr/>
            <p:nvPr/>
          </p:nvSpPr>
          <p:spPr>
            <a:xfrm>
              <a:off x="1689120" y="4648320"/>
              <a:ext cx="5410080" cy="761760"/>
            </a:xfrm>
            <a:prstGeom prst="rightArrow">
              <a:avLst>
                <a:gd name="adj1" fmla="val 50000"/>
                <a:gd name="adj2" fmla="val 17755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Courier New"/>
                </a:rPr>
                <a:t>Transaç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89120" y="426708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3790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Courier New"/>
                </a:rPr>
                <a:t>Iníc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952880" y="3733920"/>
            <a:ext cx="3124440" cy="28191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ra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8280" y="6172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Rollb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DF6-7FD8-4D7D-8713-CA6DAFF1337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2DE56-2C26-42E1-890C-DFF466DEBA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elimitadores de Transaç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0400" y="1974960"/>
          <a:ext cx="836136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974960"/>
                    <a:ext cx="836136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3DB-54FE-48D5-ADA1-D576DD388B6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96FE7-FD1C-4AD6-945D-4EEAF60BA6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tocolo two-phase Comm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tocolo usado para sincronizar programas e máquinas de modo todos sejam bem sucedidos ou todos falhem na execução de um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o na existência de um nó central de gerenci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rmalmente requer hardware de alta disponibi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C5A-3A35-4A33-A329-1BD2BAB442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3950C-572A-4BA9-B6C5-702FEEFD8C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tapas do protocolo two-phase Comm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rimeira fase inicia quando o nó gerenciador (raiz ou coordenador de transações) envia comandos para preparar transação (prepare to commit) para todos os nós subordinados que estão participando d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rimeira fase termina quando o nó gerenciador recebe uma mensagem de pronto para transação (ready to commit) de cada nó particip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39C-B4E2-4504-A955-2A923BEAA4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8BDC6-CD10-4EEC-8294-AE2CA3452E0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tapas do protocolo two-phase Comm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segunda fase inicia quando o nó gerenciador (tendo recebido a mensagem de pronto para transação de todos os nós) envia comandos para executar a transação (commit) para todos os nós subordin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segunda fase termina quando o nó gerenciador recebe uma mensagem de transação executada de cada nó particip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segunda fase aborta (e toda a transação) quando o nó gerenciador deixa de receber a mensagem de transação executada de algum nó participante. Nesta hora todos os nós devem retornar ao estado anterior (rollbac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306-7700-4161-81D2-6DD69713E3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9AFE3-AE27-4211-96F0-FC26CE0A154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Limitações das Flat Transac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que necessitam ser apenas parcialmente abort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exemplo: Seja uma transação que envolva a reserva de uma passagem aérea, um quarto de hotel e o aluguel de um carro. Caso se deseje cancelar a reserva do carro, todas as demais reservas também seriam cancel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703-F8A2-42EB-815B-36D9F37260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A8749-4327-4DB7-9C24-3384EEE54E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Limitações das Flat Transac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que envolvem interfaces com usuá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que envolvem interface com usuários correm o risco de bloquear registros de bancos de dados por períodos muito lon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286-AC25-467A-9715-135664BA6F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4BC08-0B09-49D6-BBB7-4303FCACB4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Limitações das Flat Transac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que devem durar um longo período de tem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mas transações podem durar dias, meses, ou mesmo anos. Para tanto, a transação deve sobreviver ao desligamento de máquinas e sistemas operacion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713-30DC-4BDF-B741-70D41C9A6D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74BDD-4499-40C8-BB86-C6FFBDD78B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y, Jim; Reuter, Andreas; Transaction Processing Concepts and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 - caps. 15 a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831-C333-4F6F-82E2-B91F72B74C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CAD0A-1C50-4F22-BE89-D4FC6C82E5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Limitações das Flat Transac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que envolvem uma quantidade muito grande de 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ndo uma situação onde uma transação inclua a atualização de 1.000.000 de registros. Como se deve proceder se uma falha ocorrer no registro 999.999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E2F-A0D0-4817-88E2-4A87143086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9D5A5-525C-4310-B6E7-DFB2DC5DC03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Limitações das Flat Transactio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 distribuídas por diversas empre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ta situação pode não ser possível o uso de um único monitor transacional controlando os sistemas de diferentes empre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D67-73DF-4591-85C9-23053784CD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25A32-6E4C-409F-9334-CBF488A545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ra-estrutura que provê requisitos para o processamento seguro de trans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dor de proces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dor de trans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dor de comunicação cliente-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C29-BBDA-4EE0-BB9C-64EAD295B5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94ACC-92F6-4D54-B1FF-D8A920E384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248520" y="4343400"/>
            <a:ext cx="2209680" cy="1828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50 Conex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50 Proces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25 M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e 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500 arqu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ber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4648320"/>
            <a:ext cx="1219320" cy="121896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onex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343400"/>
            <a:ext cx="22100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Mon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Trans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648320"/>
            <a:ext cx="1219320" cy="121896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1981080"/>
            <a:ext cx="2210040" cy="1828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1.000 Conex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1.000 Proces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500 M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e 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10.000 arqu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ber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21932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P Monitor como concentrador para atendimento de client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A11-A0CE-46D7-BF6A-26BC6A09064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DF301-8959-4CC3-83B3-FB93C9E3CD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P Monitor como concentrador para atendimento de client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o uso de uma interface padronizada, as aplicações são disponibilizadas como serviç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serviços podem estar distribuídos em diversas má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monitor transacional pode medir o tráfego de solicitações de clientes por serviç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monitor transacional pode fazer função de balanço de car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87D-0ABC-4BB8-AE27-991350368CF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45849-949E-42F8-A683-089056229D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drões para 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ões são necessários pois os monitores transacionais “grudam” programas de diferentes proced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TS - Object Transaction Services - 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TS/DTC - Microsoft Transaction Server - D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JB - Enterprise Java Beans: Java Transactio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F24-1121-4462-9E7F-132CE7C01A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78A04-B843-496C-BB17-5EF728900B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enefícios dos 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rna o desenvolvimento de aplicações cliente-servidor transpar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teção contra falha de aplic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ta disponibi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lanço de car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com sistemas orientados a mens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vê escalabilidade de serviç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duz custos do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F76-0E79-4D41-916E-09A4CD11636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C23FE-3C39-4D48-BC0F-5C6B438B03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P-Lite e TP-Heav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P-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de funções de monitores transacionais em engenhos de bancos de dados, como stored proced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P-He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 transacional no sentido cláss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438-C720-4688-843B-AD77BBD79A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A14E9-410F-4930-92E4-39B3E2B737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P-Lite x TP-Heav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P-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lhor perform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P-He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or escopo d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de recursos heterogêne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de proces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A73-9F49-497E-98E5-BF0F61DA32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2B27-6549-40E0-BF24-4514242D88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rcado de Monitores Transacionais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otal: US$1.3Bi (1.998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295280"/>
          <a:ext cx="830592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30592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F30-01D3-458C-A8FB-14DB17ABAA6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B16CA-BBA5-4751-8C43-47BA6D3CA6B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ão é uma ação que leva a uma mudança de estado de uma Corpor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exemplo, um cliente que faz uma transferência de dinheiro de uma conta a outra executa um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ão é uma unidade fundamental de recuperação, concorrência e consistência em sistemas cliente-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F7F-5A30-4D04-B4B9-D52BE6C3E1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896C3-A3A7-4B62-A9CD-174EFF7503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rcado de Monitores Transacionais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otal: US$3.2Bi (2.002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95280"/>
          <a:ext cx="830592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30592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176-C394-47C1-B211-0919B365BB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05377-61B9-4DBE-8F89-0EA538F8349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rcado de 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crosoft Transaction Server (M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stribuído gratuitamente dentro do Windows 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integra a padrões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á dúvidas sobre a escalabilidade do M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B97-7B7F-431E-B1B1-D4426A2576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F57DD-C7BD-4A53-B001-8DFA498B4C7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endênci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tornarão padrão para o desenvolvimento de aplicações portáve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tornarão medidores de tráfego univers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tornarão gerenciadores universais de recur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E6C-2EEF-46C3-92CF-342D9EC2C19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1C641-1C21-47A9-B0F1-BE8D1F047D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endênci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integrarão a ferramentas cliente-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adequarão aos sistemas orientados a obje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es transacionais se fundirão com os object brokers e com os servidores de aplic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DF9-D0D1-46D2-84EA-055CE10581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233BE-701D-4F5B-BF15-6E262588CC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nitores Transacion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o invés de se assegurar o funcionamento correto de cada transação na aplicação, faz-se com que as aplicações façam uso de um sistema de infra-estrutura normalmente denominado de monitor transacional (TP-Monito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programadores não devem reinventar a ro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um sistema onde diversos programas participam, um único programa que viola a disciplina transacional é suficiente para corromper todo um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transação pode incluir ações em diversas platafor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24F-1D8C-4AEF-BC66-99F9EE467C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D9CB6-6382-4EBD-8591-B7CF263A49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ID (Andreas Reuter - 198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omic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st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u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A71-82D0-4E81-B0D6-4CE02CA469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C3A91-6416-431D-B569-71BB3C0E163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omic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gnifica que uma transação é uma unidade indivisível de trabalho. Todas as ações que a compõe são bem sucedidas ou todas fracass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ações por baixo de uma transação podem incluir envio de mensagens, atualização de bancos de dados e exibição de resultados na tela do usu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atomicidade é definida do ponto de vista do usuário d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2C0-651C-4C1C-943C-64BC553337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F7CAD-BB16-46A8-BC7A-85196922B9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st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stência significa que a execução de uma transação deve conduzir o sistema para um estado correto ou abort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transação não for capaz de levar o sistema a um estado final correto, deve fazer com que o sistema retorne ao estado em que estava no início da trans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060-7EF4-45B8-B60E-3108B75453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F6F3-9132-458E-A283-E6AD6B0FA3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lação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omportamento de uma transação não deve afetar nem ser afetada por outras transações que estejam ocorrendo simultane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transações devem ordenar todos os acessos para recursos compartilhados e garantir que transações concorrentes não corrompam as operações de out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80F-F852-45BB-837C-B09CD467C9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A7A1C-B4E4-416A-9ACB-5E2D3B4375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priedades de uma Trans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lação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programa que esteja fazendo uso de transações deve ter o mesmo comportamento em ambiente multi-usuário que teria em ambiente mono-usu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mudanças que são feitas por uma transação em recursos compartilhados só devem se tornar visíveis após a transação estar conclu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185-1604-48CE-B6A7-858F68211D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E4106-FD83-4120-87F6-45AF0588AB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18:28:19Z</dcterms:modified>
  <cp:revision>94</cp:revision>
  <dc:subject/>
  <dc:title>Arquitetura e Organização Interna de Computadores</dc:title>
</cp:coreProperties>
</file>