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E2F2-9B58-43BA-B3B7-758C1384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1B02-8DB3-4120-A128-085192F6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C26-FB31-44F2-9584-2EE5BCB5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BED-8C21-4288-88D5-1DF6BFB0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7D02-A625-48A1-AC99-C7195EFA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34D5-80F3-4C25-A82C-9BCB4CB7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BA89-12C8-4193-A3C6-59C3AD91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9ED4-4A07-488B-B45A-B44E9592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80F1-3F48-43C2-AEAE-3E25E985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D576-DB14-4335-8D00-D73BE571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D1AA-AB4A-4E7D-897F-3E375C66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E1A3-1904-4C4D-BAE3-01CAE664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DFA3-9847-40A7-8514-E6C4E78B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78C3-ADF9-4C8A-8B39-1598F175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C445-D2B7-4704-92A6-3582C5D5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DB54-6D9F-4EFD-BE91-0886F64E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1BE9-409E-48AA-B3EA-D7286D92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559-11D3-4497-9B6E-F66830E1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192-DF99-48A4-9F6D-43DF2733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6F2-22EA-4767-8E2D-8A9507BE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446-B187-4247-AD07-920295F1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9A96-44FE-4ED2-9223-1A54CEB1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4F1-2399-4D00-936B-7F5150BA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EA73-58D7-488C-A56F-F1A3C6C0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803E-2D72-48DA-A6BE-46C49CBB032B}" type="datetime3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30 de julho de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Ambientes de Aplicaçõ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Rodolfo Goya - SÃO JUDAS -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5554-2EBC-45EB-AF9B-BA8B26729B83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83B0-D59C-49CC-BA81-B62661A32F7F}" type="datetime3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30 de julho de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10D5-B062-4453-9A47-8F7DB17495CB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Jav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odolfo Riyoei Go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goya@uol.com.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ttp://sites.uol.com.br/rgo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Critérios de Projeto do Jav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amiliar e Simples (baseado em C/C++ 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rientação a Obje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Robusto e Segu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Multi-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Garbage Collection (gerenciamento de memória) automát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etwork-aware / Internet-read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eutro em relação a arquitetu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uporte extenso para interface gráfica com o usuá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ortável para qualquer plataforma que suporte a Java Virtual Machine (JVM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F42B-3459-4D29-A9D7-C19DF1FC64C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0D490-ACB7-46CB-8658-73318040B6D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Modelo de Execução de Programas em Jav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rpretado em uma Java Virtual Machine J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rquitetura RISC virtu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spera-se o desenvolvimento de uma plataforma que execute Java em modo n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Just in Time Compiling (JI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mpilado para a plataforma cliente no momento da execu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gração com código nativo (Java Native Interface - JN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2B65-9518-4C39-B926-E941511217F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1F304-C173-4BE8-B2CC-59C11C2D21A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Modelos de Programa em Jav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plic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rogramas inteiramente auto-contidos. Requerem apenas uma JVM (Java Virtual Machine) para serem execut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ppl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rogramas concebidos para serem executados em um ambiente criado por browser (podendo mesmo ser executado através da Internet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00A-7102-4D5C-B484-8A8E22FED14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B8F76-8BFF-4EFB-9FF9-C71F6DEBEA3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66680" y="4343400"/>
            <a:ext cx="7239240" cy="19051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equência de Execução de um Aplicativo Jav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676520"/>
            <a:ext cx="167652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nome.ja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3048120"/>
            <a:ext cx="167652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nome.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4419720"/>
            <a:ext cx="167652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228600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365760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74960" y="24526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Compiler: javac nome.ja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74960" y="38242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Execução: java nome.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53160" y="595800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Java Virtual Mach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4419720"/>
            <a:ext cx="167652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3733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66760" y="480060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Class Loa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Run Time Interpre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Just in Time Compi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35440" y="447660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Programa 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execu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60EF-D794-4C26-8DA6-E1C51D401A5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5E001-08FE-4391-8CEE-358B6430463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 de um Aplicativo Jav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0760" y="1905120"/>
            <a:ext cx="786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class Hello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public static void main( String args[]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System.out.println( "Hello World !" 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6B64-0D2F-4386-8FD6-F7825DED628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F5770-2E77-45DA-BF15-8F4E4CD91D6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Modelo de Encapsulament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676520"/>
            <a:ext cx="4422960" cy="4572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048120" y="1676520"/>
            <a:ext cx="0" cy="457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962520"/>
            <a:ext cx="44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2971800"/>
            <a:ext cx="1981080" cy="198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8123600">
            <a:off x="1130400" y="2912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f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8123600">
            <a:off x="3548160" y="4838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f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923600">
            <a:off x="3346560" y="2585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f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923600">
            <a:off x="1289160" y="4795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f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2760" y="155268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Todas as funções s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ligadas a dad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Nenhuma função isol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é permit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0600" y="322884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Os dados são “encapsulados“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ou seja, o acesso a e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deve ser feito atravé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funçõ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D90-C00A-4C16-8409-4D7FBFBE7ED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C32B4-0892-428E-B776-E2023CA8529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Modelo de Encapsulament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676520"/>
            <a:ext cx="4422960" cy="4572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048120" y="1676520"/>
            <a:ext cx="0" cy="457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962520"/>
            <a:ext cx="44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2971800"/>
            <a:ext cx="1981080" cy="198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8123600">
            <a:off x="1267200" y="2696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mét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8403200">
            <a:off x="3548160" y="4834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mét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283600">
            <a:off x="3346200" y="2585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mét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2680200">
            <a:off x="1288800" y="4795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mét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24600" y="155268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- Funções são denomin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de Métod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24240" y="22543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- Dados são denominado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Atribu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185-7457-4814-B5B1-24165446C39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39B5A-B281-47B0-88BE-1D51089B6D3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Modelo de Encapsulament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828800"/>
            <a:ext cx="175284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Função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590920"/>
            <a:ext cx="175284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Função 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3352680"/>
            <a:ext cx="175284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Função 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1752480"/>
            <a:ext cx="15238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Dados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2438280"/>
            <a:ext cx="15238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Dados 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3124080"/>
            <a:ext cx="152424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Dados 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09880"/>
            <a:ext cx="15238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Dados 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15238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Dados 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5181480"/>
            <a:ext cx="152424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Dados 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080" y="41911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ourier New"/>
              </a:rPr>
              <a:t>Funções Isol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44240" y="58053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ourier New"/>
              </a:rPr>
              <a:t>Dados Isol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040-3B2F-4E35-814A-46A72F444EB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E618C-8785-4A0A-ABFB-01208D14D20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Modelo de Encapsulament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2133720"/>
            <a:ext cx="3733920" cy="2438280"/>
          </a:xfrm>
          <a:prstGeom prst="rect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18240" y="2328840"/>
            <a:ext cx="1689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Courier New"/>
              </a:rPr>
              <a:t>Atributo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Courier New"/>
              </a:rPr>
              <a:t>Atributo 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Courier New"/>
              </a:rPr>
              <a:t>Atributo 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Courier New"/>
              </a:rPr>
              <a:t>Atributo 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2133720"/>
            <a:ext cx="1752840" cy="6094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Método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2743200"/>
            <a:ext cx="1752840" cy="6094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Método 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3352680"/>
            <a:ext cx="1752840" cy="60984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Método 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962520"/>
            <a:ext cx="1752840" cy="6094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Método 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2438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3657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42670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1676520"/>
            <a:ext cx="3809880" cy="312408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1752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Obj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88840" y="5010120"/>
            <a:ext cx="603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Objetos são definidos por seu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Atributos (o que o objeto tem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Métodos (o que o objeto sabe faze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73C-B1C5-49B4-93B3-DE7DD10A564C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60AB5-F0D1-4D30-9FAD-52EE8D8BACE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 de um Aplicativo Jav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0760" y="1905120"/>
            <a:ext cx="786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class Hello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public static void main( String args[]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System.out.println( "Hello World !" 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CD4-5425-41BF-B117-BC18B15E14F7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1D33C-08A0-46EF-8E35-E9347FA07E2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Jav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pt-BR" sz="2200" spc="-1" strike="noStrike">
                <a:solidFill>
                  <a:srgbClr val="ffffff"/>
                </a:solidFill>
                <a:latin typeface="Times New Roman"/>
              </a:rPr>
              <a:t>Every technology goes through three stages: first, a crudely simple and quite unsatisfactory gadget; second, an enormously complicated group of gadgets designed to overcome the shortcomings of the original and achieving somewhat satisfactory performance through extremely complex compromise; third, a proper design therefrom”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Robert A. Heile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91DD-1556-4FA0-8910-10B33575A3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B0745-C85C-4F37-9137-6A35E9FCDF2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 de um Aplicativo Jav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0760" y="1905120"/>
            <a:ext cx="786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class Hello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public static void main( String args[]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System.out.println( "Hello World !" 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905120"/>
            <a:ext cx="3124080" cy="380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2286000"/>
            <a:ext cx="0" cy="243828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4120" y="4705200"/>
            <a:ext cx="8136000" cy="146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Declaração de Class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Construção típica de Orientação a Obje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Java é orientada a Objetos pura: tudo deve est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dentro de obje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Se assemelha ao conceito de estrutura em 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8D8E-C293-4E8E-8F12-90285071D9C8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B0520-2D02-4AAE-895C-3CB93288F9C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 de um Aplicativo Jav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0760" y="1905120"/>
            <a:ext cx="786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class Hello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public static void main( String args[]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System.out.println( "Hello World !" 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2362320"/>
            <a:ext cx="228600" cy="304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2514600"/>
            <a:ext cx="0" cy="22096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0920" y="4705200"/>
            <a:ext cx="745020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Do mesmo modo que em C, todas os blocos de código s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delimitados por ‘{‘ e ‘}’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4191120"/>
            <a:ext cx="228600" cy="304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90720" y="2514600"/>
            <a:ext cx="1295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990720" y="4343400"/>
            <a:ext cx="1295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371600" y="3962520"/>
            <a:ext cx="9144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371600" y="3200400"/>
            <a:ext cx="9144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3048120"/>
            <a:ext cx="228600" cy="304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3809880"/>
            <a:ext cx="228600" cy="304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7F86-CD2A-42BB-9EED-BF371D5CB929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4E7E8-91DA-49C4-AAD8-B469EE2F03C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 de um Aplicativo Jav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0760" y="1905120"/>
            <a:ext cx="786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class Hello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public static void main( String args[]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System.out.println( "Hello World !" 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666880"/>
            <a:ext cx="7391520" cy="38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3048120"/>
            <a:ext cx="0" cy="152388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3040" y="4572000"/>
            <a:ext cx="8547480" cy="1739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Semelhante ao main() da linguagem C. Exceto p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public: Denota a disponibilidade de acesso extern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Static: Denota que este bloco de código pertence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classe como um todo e não para cada obje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String: Os parâmentros são passado como um vetor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Strings (que são objetos em Java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F84E-B3B6-4BBF-8143-4E38531EB268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27A08-67CF-49BD-B07F-A7C1C884534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 de um Aplicativo Jav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0760" y="1905120"/>
            <a:ext cx="786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class Hello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public static void main( String args[]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System.out.println( "Hello World !" 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3429000"/>
            <a:ext cx="7010280" cy="380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3809880"/>
            <a:ext cx="0" cy="7621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0920" y="4572000"/>
            <a:ext cx="8501760" cy="1739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print e println são semelhante ao printf() da linguagem 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Exceto p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São funções do objeto out (que por sua vez é pa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do objeto System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A relação entre objetos explicitada pelo ‘.’ 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semelhante a relação entre membros de estruturas em 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8A0-D685-46A0-8CC9-5577C5B1D9D0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5B8EE-0EC2-4B79-88CF-73C5028C8C3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Como Compilar e Executar</a:t>
            </a:r>
            <a:br>
              <a:rPr sz="3200"/>
            </a:b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um Aplicativo Jav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asso 1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javac HelloWorld.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mpila o programa HelloWorld.java e produz o arquivo HelloWorld.cla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asso 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java Hello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rrega o arquivo HelloWorld.class e as demais classes que compõem o programa e o execu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E6C-A545-41AB-BCB2-65DA56F08B0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31954-D5CF-489C-8192-02CB1307AD1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066680" y="4343400"/>
            <a:ext cx="7239240" cy="19051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equência de execução de um Applet Jav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1676520"/>
            <a:ext cx="167652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nome.ja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3048120"/>
            <a:ext cx="167652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nome.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4419720"/>
            <a:ext cx="167652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228600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365760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74960" y="24526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Compiler: javac nome.ja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72440" y="3625920"/>
            <a:ext cx="47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Appletviewer nome.class / 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Bytecode Loader &amp; Ver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3160" y="595800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Java Virtual Mach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4419720"/>
            <a:ext cx="167652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19520" y="4724280"/>
            <a:ext cx="3733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66760" y="480060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Class Loa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Run Time Interpre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Just in Time Compi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5F8A-A7C0-4B2D-9620-76D8EC5BE021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EB800-DA32-4036-92E5-9C53CE58011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 de um Applet Jav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1530360"/>
            <a:ext cx="848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public class ex01 extends java.applet.Applet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Label tx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public void paint( Graphics g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g.drawString( ”Hello World !", 20, 100 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0EE-9AD6-47F7-B6C0-8E18FE819E6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9F22D-AC59-424C-A3CC-30027D4AF08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 de um Applet Jav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1530360"/>
            <a:ext cx="848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public class ex01 extends java.applet.Applet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Label tx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public void paint(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Graphics g</a:t>
            </a: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g.drawString( ”Hello World !", 20, 100 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3733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419112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39240" y="5796000"/>
            <a:ext cx="47070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g é um objeto da classe Graphic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71C1-7D5D-49AF-AC23-52FE6C7A063F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BA4E8-8A91-4C05-ABEE-559C4B09D26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 de um Applet Jav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530360"/>
            <a:ext cx="848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public class ex01 extends java.applet.Applet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Label tx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public void paint( Graphics g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g.drawString( ”Hello World !", 20, 100 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4495680"/>
            <a:ext cx="7696080" cy="38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4876920"/>
            <a:ext cx="0" cy="53316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3960" y="5410080"/>
            <a:ext cx="854748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drawString é um método da classe Graphic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String e coordenadas (em pixels) x e y onde o tex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será “impresso” (“draw”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A7B-83E9-453C-BAB3-BF584344017A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57F70-CFBB-4B65-AEA0-6A4EBBA6EDC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equência de Execução de um Applet Java Através de um Brows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HTML 3.2 &lt;APPLET CODE=“nome.class”&gt;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HTML 4.0 &lt;OBJECT CODE=“nome.class”&gt;&lt;/OBJEC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oad &amp; Exec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isc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9E8-5892-434F-9A51-A6311EF9D71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7A190-E971-47B5-AC99-23F32BF1118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ffcc66"/>
                </a:solidFill>
                <a:latin typeface="Times New Roman"/>
              </a:rPr>
              <a:t>Java</a:t>
            </a:r>
            <a:endParaRPr b="0" lang="en-US" sz="3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pt-BR" sz="2200" spc="-1" strike="noStrike">
                <a:solidFill>
                  <a:srgbClr val="ffffff"/>
                </a:solidFill>
                <a:latin typeface="Times New Roman"/>
              </a:rPr>
              <a:t>In a move that’s seen as a capitulation to emerging Internet software standards, Microsoft Corporation announced plans to license a new, universal programming language called Java”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NN correspondent Brian Nel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pt-BR" sz="2200" spc="-1" strike="noStrike">
                <a:solidFill>
                  <a:srgbClr val="ffffff"/>
                </a:solidFill>
                <a:latin typeface="Times New Roman"/>
              </a:rPr>
              <a:t>The only way to learn a programming language is by writing programs in it”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Brian Kernighan e Dennis Ritch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68B-A7F6-44AA-8269-2FE22672DF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AF964-6ABC-4B54-958A-557B79C6043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ágina HTML para carregar o Apple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82880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title&gt;Exemplo 01 - Rodolfo Goya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body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h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applet code=ex01.class width=200 height=200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h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/body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5A7-EFD2-4CD3-AF6B-48EA4D029D6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6F987-2F13-4084-A084-0D1E679D3F2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ágina HTML para carregar o Apple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82880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&lt;title&gt;Exemplo 01 - Rodolfo Goya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&lt;body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&lt;h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applet code=ex01.class width=200 height=200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&lt;h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&lt;/body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4038480"/>
            <a:ext cx="57150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9880" y="4495680"/>
            <a:ext cx="0" cy="83844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35640" y="5334120"/>
            <a:ext cx="621576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Este comando faz com que o browser crie u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área de tamanho 200 x 200 e execute o Appl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ex01.class dentro del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CB96-F83B-41AE-8C88-E3E73CF2A4FE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62328-D1CA-4E49-8AB2-6655157BD5C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Como Compilar e Executar</a:t>
            </a:r>
            <a:br>
              <a:rPr sz="3200"/>
            </a:b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um Applet Jav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asso 1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javac HelloWorld.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mpila o programa ex01.java e produz o arquivo HelloWorld.cla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asso 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appletViewer Hello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rrega o arquivo ex01.class e as demais classes que compõem o programa e o execu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1CE-8966-4155-8589-4B48917643B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741B1-B533-483E-B4F1-5553C73FFFA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Modelo de Segurança em Jav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nguag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Modelos de alocação de memória e referênc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Verifica índices em tempo de execu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ytecode ver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lass loader &amp; name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ccess Control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697-96DB-4DE6-894F-C444331D217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A782B-5A38-41DE-98A4-5A7E870889F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Bibliografi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rfali, Robert et. al.; Client/Server Survival Guide Third E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aconta, M.; et. al. - Java 1.2 and JavaScript for C and C++ Program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olzner, S. - Java 1.2 In Record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ckel, B. - Thinking in 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0CE-7C98-406E-B470-7222491CFD3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81D91-2068-4111-A253-520F65BCF6F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Java é mais que apenas uma Linguagem de Programaçã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Java é uma arquitetu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eita para uma grande diversidade de plataformas e equipamentos (desde portáteis até processadores distribuídos em ambientes de grande port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Dá o embasamento para a filosofia de Networking Computing (N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Java é uma filosofia de desenvolvim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uporta a idéia de objetos distribuídos comunicando-se através de interfac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56A-2D58-46DE-9394-18E3416A2A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54890-CEBD-47FF-9F72-6F11AAA21AB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Quem patrocina o Jav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etscape (A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Todos os demais que forem contra a hegemonia da Microsof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AF17-EAA0-4C1A-9B39-4B92827EEF5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DBECE-8AB4-4AAF-ADD6-69C88A3E001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or que mudar para Java ?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udo evolui. As linguagens de programação també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Java tem o “look-and-feel” do C e C++, mas foi desenvolvida baseada em linguagens bem concebidas como o Eiffel, Ada e Smalltal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Java simplificou o C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ornou-se Orientado a Objeto pu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liminou herança múltipl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liminou os pontei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liminou o gerenciamento de memória (malloc e fre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liminou sobrecarga de operad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FCA-BD67-4BF7-AEEF-FF100D2FBA2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436E8-3CDD-40FA-BB06-11EB76DC5CF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or que mudar para Java ?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ambiente mudou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Redes locais e globa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nternet e brows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Dispositivos portáteis intelig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36B-59B0-4E8E-8AFC-6BD1F3DC499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9BAFB-46BC-415C-81C5-19FA87EB1A0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Quais ferramentas podem ser usadas para desenvolver aplicações em Jav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un: Java Development Kit (JD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BM: Visual Age for J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Microsoft Visual J+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Borland JBuil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18F-45F5-4B81-BFAC-04BDD88BB2A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F1FDB-CD77-4C28-B9EE-E3EB94DF4B8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8:27:07Z</dcterms:created>
  <dc:creator>RRGO</dc:creator>
  <dc:description/>
  <dc:language>en-US</dc:language>
  <cp:lastModifiedBy>rgoya</cp:lastModifiedBy>
  <cp:lastPrinted>2001-04-27T17:15:27Z</cp:lastPrinted>
  <dcterms:modified xsi:type="dcterms:W3CDTF">2001-04-27T17:15:43Z</dcterms:modified>
  <cp:revision>73</cp:revision>
  <dc:subject/>
  <dc:title>Ambientes de Aplicações - São Judas - 2001</dc:title>
</cp:coreProperties>
</file>