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408-90D5-46CD-86CE-B03EBA2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993-5735-4F09-B3F0-F6220AA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01D-40B5-4B78-A880-35902D39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345-D481-43E6-9917-3B0F14BC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802-8F30-4EBD-89A2-00062B09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B583-8767-4829-AB47-9A660AC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CB9-A768-45AE-A2E6-D942CE8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E86-D98A-4029-83C3-DAF2D0A1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41B5-FDDD-4A05-8520-3CB4AA2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95B7-CF65-4DEE-BCF0-EDDD846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D04-F3FD-4750-9C2E-E3546AA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AC9-8267-4322-A81D-F18B1869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08B-17CA-41C0-B1D4-16F1A22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D8C6-9059-4E82-8D5F-663DF66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BF3-588E-4FE5-950B-835F2536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E93-328A-4604-B657-A3679373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F6DE-5838-4391-8C24-FF06D3D5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1A4-FD77-4B87-AF0A-D13A3A4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D14-5967-436B-B791-E1C46E7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35-3863-498B-8D3E-6E9AE1D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CD8-B275-48FB-A833-7B4E079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3C6-DC5D-4C3B-88E2-396863D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3D0-5147-4E5B-AA73-7BED5FB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F55-FBC2-491F-9F65-DDE492DF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2021-93A0-40C8-944C-800BA44FCB7F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72D-6365-44F0-B5C4-0A9EAFA9DF8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C2F-9ABE-4413-9D11-1F08FBC5B100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FA7-A557-4D39-98CC-97168CC41A2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 Arquitetura dos Sistemas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e Groupware - 2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rreio Eletrônic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ternet Mail - Padr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ple Mail Transfer Protocol - SM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tocolo para comunicação entre servidores de corre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enas textos em ASC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ded Simple Mail Transfer Protocol - E-SM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são do SMT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clui capacidade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r prior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iar recibos de recebimento/lei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ção de Er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E12-E59E-495A-9C2D-5A1C2E2945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BD024-C671-43E3-8E2E-914937D085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ternet Mail - Padrões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t Office Protocol - PO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liente se conecta ao servidor e envia suas mens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ervidor envia as mensagens recebidas e as deleta de sua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ervidor envia as mensagens do cliente para o servidor de desti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net Message Access Protocol - IMAP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são do POP. Está substituindo-o rapid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rmite o cliente selecionar quais mensagens receb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54D-F4CB-4F48-9C5C-E8C1FF02B6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B34E-FAF6-4B5F-8167-7577C7F098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ternet Mail - Padrões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ltipurpose Internet Mail Extensions - 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rmite definir inclusões que não tenham a forma de texto em mens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cure Multipurpose Internet Mail Extensions - S/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são do MIME com atributos de segur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roduz criptografia e assinatura digital no correio eletrôn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E49-0C8A-40AB-83E9-395763B7A1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092EC-500E-4C40-B81A-6BF79B607E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PIs de e-Mai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otu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M - Vendor Independent Mess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53 API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PI - Messaging 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sof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.40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MC - Common Mail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DF6-6262-45B4-AD92-0F0B746D26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7CB56-7965-4916-B5DC-7C64EC6AEB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PIs de e-Mai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 de mensagens simples: addressing, sending, receiving, including files, detaching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ipulação de mensagens armazenadas: abrir, ler, sal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 de diretórios e address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ipulação de objetos de corre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enticação e segur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 com provedores de serviç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A98-4D4B-4B55-8E0C-A3C131E801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C5E2E-14CB-4CB9-8ED4-A7C656ADA6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endências em Groupwa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grar para conectividade via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quirir estabilidade para ambientes missão-cr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andir-se para novas á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stemas Operacionais de r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lef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envolver ferramentas mais amig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gregar-se a objetos distribuídos e compo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4B9-6758-467E-97D3-77FDDBB475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09B4C-089F-49E9-BB67-C8A13FD03E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 - caps. 19 a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3CC-B149-4811-9B18-794BC3D775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0B0B6-252D-4891-8700-CA49ACA7D0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rreio Eletrônic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 de usuá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53 milhões (1.998 - no mínimo 2 mensagens/d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00 milhões 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scimento (1.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net based: 72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/Mainframe: 1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4D7-2D30-4E7A-9C2B-9F020D203C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24859-C8D1-4931-B8B7-C6253C8257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rcado de Correio Eletrônic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" y="669960"/>
          <a:ext cx="905832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669960"/>
                    <a:ext cx="90583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A13-4B7E-4483-8716-7659E5768F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F42DD-5A3C-4823-91D1-55FB3B85DC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ponentes de Sistemas de Correi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nt-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ção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ck-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ra-estru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nt-end e back-end no mesmo aplicativ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c:mail e MS 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nt-end e back-end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tes, Exchange e Groupw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DB1-A682-4B0A-9218-89C279B498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B60D1-6DAE-44D3-8771-CCFC9D4F5DE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ponentes de Sistemas de Correi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ate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 entre diferentes sistemas de corre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ckbones de sistemas de corre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.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ssage Handling Standard - MHS (Nov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ple Message Transfer Protocol - SMTP (IET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7BC-0BC4-4671-84E1-EF1003652B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C4E8A-2E75-4055-8043-9601BDE417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drão X.400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e para BLOB (até 4 Gigabyt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e para EDI (inclui audit trail padrão X.435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retórios distribuídos (Padrão X.50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 (Padrão X.509) com autenticação por assinatura digital e sigilo por criptograf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l AP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DB2-A53D-463C-B2F0-31F5EFBFA8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046AB-851B-4C8D-A3CE-6F5C078088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ternet Mail - Padr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ple Mail Transfer Protocol - SM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ded Simple Mail Transfer Protocol - E-SM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t Office Protocol - PO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net Message Access Protocol - IMAP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ltipurpose Internet Mail Extensions - 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cure Multipurpose Internet Mail Extensions - S/M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A2A-3AC4-484F-809B-54D62BA72E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0A8E-7644-464E-98A7-F6E163E75E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ternet Mail - Padr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200400"/>
            <a:ext cx="11430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2166840"/>
            <a:ext cx="11430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5240" y="3443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ervi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06720" y="4452840"/>
            <a:ext cx="11430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3840" y="572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ervi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281952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91440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2166840"/>
            <a:ext cx="11430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5480" y="3443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ervi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452840"/>
            <a:ext cx="11430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85320" y="5729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Diretó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852640"/>
            <a:ext cx="23619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5105520"/>
            <a:ext cx="23619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4880" y="504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916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I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16440" y="221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E-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E94-7E51-437E-BD6C-53D43A50119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E9EF5-2479-484B-B875-BFA26C8B0E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18:33:00Z</dcterms:modified>
  <cp:revision>93</cp:revision>
  <dc:subject/>
  <dc:title>Ambientes de Aplicações - São Judas - 2001</dc:title>
</cp:coreProperties>
</file>