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png" ContentType="image/png"/>
  <Override PartName="/ppt/media/image22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6.jpeg" ContentType="image/jpeg"/>
  <Override PartName="/ppt/media/image13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D58-3DFB-45F3-9759-8CC07175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3E7-BA68-441C-8BFA-56A5CDBD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F32-571D-4187-B1B2-373BF4D0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BFE-9000-49D4-99D7-3A1E5906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4E4-C491-476A-815C-62021DF9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7A5-9EAC-4282-A6CD-A1842E50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212-D3CB-4237-857D-27239C58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ECE-B47F-46DD-9191-D261911A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1C6-DFF0-474B-99A5-AAE2CB47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488-BE2A-4CD2-8E49-B77EBA9F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FB7-0873-45E3-8802-DD98D302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CC5-B73E-41C1-B0A6-FBE1E9D1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C1C6-2781-4446-BFD0-B783D1FAC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6.wmf"/><Relationship Id="rId7" Type="http://schemas.openxmlformats.org/officeDocument/2006/relationships/package" Target="../embeddings/oleObject3.xls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7850160" cy="107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5640" y="4508640"/>
            <a:ext cx="770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การประเมินความเสี่ยงด้านการรักษาความปลอดภัยใ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ระบบเทคโนโลยีสารสนเทศกรมส่งเสริมการส่งออ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แผนผังองค์ก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7920000" cy="4492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ระบบ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IT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ในปัจจุบั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352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B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ระบบการเงิ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ata Mining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NS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E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ITP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1484280"/>
            <a:ext cx="4186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EPTh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Intra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Web One stop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Firewall Tipping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Linux Mail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OBI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ontrol Objective for Information and Related Technolog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3645000"/>
            <a:ext cx="741708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ช้สำหรับองค์กรที่ต้องการมุ่งสู่การพัฒนาให้ระบบเทคโนโลยีสารสนเทศเป็น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IT Governance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ซึ่งสามารถบริหารจัด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สารสนเทศขององค์กรให้สามารถใช้งานได้อย่างมีประสิทธิภาพและคุ้มค่ากับการลงทุ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333360"/>
            <a:ext cx="763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วิธีการประเมินความเสี่ย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การประเมินความเสี่ย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ผลกระทบ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(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ระดับผลกระทบต่อธุรกิจในกรณีที่ไม่สามารถบรรลุเป้าหมายด้านต่าง 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โอกาสที่จะเกิดขึ้น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(Likeli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ระดับโอกาส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ความน่าจะเป็นที่จะไม่สามารถบรรลุเป้าหมายด้านต่าง 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IT 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ใช้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Risk Matrix 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เพื่อใช้ในการพิจารณาประเมินระดับความเสี่ยงเทคโนโลยีสารสนเท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ทั้ง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7 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ด้าน ซึ่งได้แก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4720" y="4076640"/>
            <a:ext cx="3817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443640" y="4286160"/>
            <a:ext cx="242568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COBIT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8075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วางแผนและการจัดการองค์กร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PO : Planning and Organ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จัดหาและติดตั้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AI : Acquisition and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ส่งมอบและบำรุงรักษา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DS : Delivery and Sup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ติดตามผลและการประเมิน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ME : Monitoring and 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Gap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esidual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ประเมินผลความเสี่ยงในส่วนที่เหลื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Maturity Gap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แสดงถึงระดับการควบคุมภายในที่เป็นอยู่จริงในปัจจุบัน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As is)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ละระดับการควบคุมภายในที่ต้องการให้เป็นในอนาคต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To 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0640" y="1619280"/>
            <a:ext cx="5524560" cy="523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457200" y="2286000"/>
          <a:ext cx="8305920" cy="4114800"/>
        </p:xfrm>
        <a:graphic>
          <a:graphicData uri="http://schemas.openxmlformats.org/drawingml/2006/table">
            <a:tbl>
              <a:tblPr/>
              <a:tblGrid>
                <a:gridCol w="3200400"/>
                <a:gridCol w="5105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I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>
                        <a:alphaModFix amt="70000"/>
                      </a:blip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>
                        <a:alphaModFix amt="70000"/>
                      </a:blip>
                      <a:stretch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Non-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Almost insignificant 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Minor 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Significant but tolerable 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Major 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Threaten business survi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itre 1"/>
          <p:cNvSpPr/>
          <p:nvPr/>
        </p:nvSpPr>
        <p:spPr>
          <a:xfrm>
            <a:off x="762120" y="1295280"/>
            <a:ext cx="756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a0274"/>
                </a:solidFill>
                <a:latin typeface="Tahoma"/>
                <a:ea typeface="Tahoma"/>
              </a:rPr>
              <a:t>Risk Assesment :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0640" y="1619280"/>
            <a:ext cx="5524560" cy="523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457200" y="2286000"/>
          <a:ext cx="8305920" cy="4114800"/>
        </p:xfrm>
        <a:graphic>
          <a:graphicData uri="http://schemas.openxmlformats.org/drawingml/2006/table">
            <a:tbl>
              <a:tblPr/>
              <a:tblGrid>
                <a:gridCol w="3200400"/>
                <a:gridCol w="5105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Likelih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>
                        <a:alphaModFix amt="70000"/>
                      </a:blip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>
                        <a:alphaModFix amt="70000"/>
                      </a:blip>
                      <a:stretch/>
                    </a:blip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ost im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k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ik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itre 1"/>
          <p:cNvSpPr/>
          <p:nvPr/>
        </p:nvSpPr>
        <p:spPr>
          <a:xfrm>
            <a:off x="762120" y="1295280"/>
            <a:ext cx="756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a0274"/>
                </a:solidFill>
                <a:latin typeface="Tahoma"/>
                <a:ea typeface="Tahoma"/>
              </a:rPr>
              <a:t>Risk Assesment : 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0640" y="1619280"/>
            <a:ext cx="5524560" cy="5238720"/>
          </a:xfrm>
          <a:prstGeom prst="rect">
            <a:avLst/>
          </a:prstGeom>
          <a:ln w="0">
            <a:noFill/>
          </a:ln>
        </p:spPr>
      </p:pic>
      <p:sp>
        <p:nvSpPr>
          <p:cNvPr id="89" name="Titre 1"/>
          <p:cNvSpPr/>
          <p:nvPr/>
        </p:nvSpPr>
        <p:spPr>
          <a:xfrm>
            <a:off x="152280" y="1295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a0274"/>
                </a:solidFill>
                <a:latin typeface="Tahoma"/>
                <a:ea typeface="Tahoma"/>
              </a:rPr>
              <a:t>Risk Assesment : Combine Impact &amp;  Likelihoo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905120"/>
          <a:ext cx="8534160" cy="459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05120"/>
                    <a:ext cx="853416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04920" y="1905120"/>
          <a:ext cx="8534160" cy="4647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1905120"/>
                    <a:ext cx="85341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905120"/>
          <a:ext cx="8534160" cy="4647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1905120"/>
                    <a:ext cx="85341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สมาชิ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58560" y="155736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งสาวอริยา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สุขวัฒนาชัยกูล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1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ยวรัญญ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ลิมป์เฉลิม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ยวิโรจน์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วรรธนะนิตย์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2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งสาวไพรินทร์   นวรจิต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3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งสาวกิ่งกาญจน์  พลทามูล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3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ยอภิชั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พฤกษาพนาชาติ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4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ยธนั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เกิดเจริญ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4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งสาววิลาสิน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 เพชรสารกุล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5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5" descr=""/>
          <p:cNvPicPr/>
          <p:nvPr/>
        </p:nvPicPr>
        <p:blipFill>
          <a:blip r:embed="rId1"/>
          <a:stretch/>
        </p:blipFill>
        <p:spPr>
          <a:xfrm>
            <a:off x="353880" y="1017720"/>
            <a:ext cx="8375760" cy="4833720"/>
          </a:xfrm>
          <a:prstGeom prst="rect">
            <a:avLst/>
          </a:prstGeom>
          <a:ln w="0">
            <a:noFill/>
          </a:ln>
        </p:spPr>
      </p:pic>
      <p:sp>
        <p:nvSpPr>
          <p:cNvPr id="97" name="Rounded Rectangular Callout 6"/>
          <p:cNvSpPr/>
          <p:nvPr/>
        </p:nvSpPr>
        <p:spPr>
          <a:xfrm>
            <a:off x="2286000" y="3357720"/>
            <a:ext cx="5929200" cy="2286000"/>
          </a:xfrm>
          <a:prstGeom prst="wedgeRoundRectCallout">
            <a:avLst>
              <a:gd name="adj1" fmla="val -40842"/>
              <a:gd name="adj2" fmla="val -68537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alibri"/>
                <a:cs typeface="Cordia New"/>
              </a:rPr>
              <a:t>ประกาศและเผยแพร่นโยบายในการกำกับดูแลทางด้านระบบเทคโนโลยีสารสนเทศ</a:t>
            </a:r>
            <a:r>
              <a:rPr b="1" lang="th-TH" sz="2800" spc="-1" strike="noStrike">
                <a:solidFill>
                  <a:srgbClr val="ffffff"/>
                </a:solidFill>
                <a:latin typeface="Calibri"/>
                <a:ea typeface="Cordia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ordia New"/>
              </a:rPr>
              <a:t>IT Governance</a:t>
            </a:r>
            <a:r>
              <a:rPr b="1" lang="th-TH" sz="2800" spc="-1" strike="noStrike">
                <a:solidFill>
                  <a:srgbClr val="ffffff"/>
                </a:solidFill>
                <a:latin typeface="Calibri"/>
                <a:ea typeface="Cordi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ontent Placeholder 5" descr=""/>
          <p:cNvPicPr/>
          <p:nvPr/>
        </p:nvPicPr>
        <p:blipFill>
          <a:blip r:embed="rId1"/>
          <a:stretch/>
        </p:blipFill>
        <p:spPr>
          <a:xfrm>
            <a:off x="426960" y="785880"/>
            <a:ext cx="8375760" cy="400536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4"/>
          <p:cNvSpPr/>
          <p:nvPr/>
        </p:nvSpPr>
        <p:spPr>
          <a:xfrm>
            <a:off x="2714760" y="2786040"/>
            <a:ext cx="5857920" cy="3143160"/>
          </a:xfrm>
          <a:prstGeom prst="wedgeRoundRectCallout">
            <a:avLst>
              <a:gd name="adj1" fmla="val -39680"/>
              <a:gd name="adj2" fmla="val -56699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alibri"/>
                <a:cs typeface="Cordia New"/>
              </a:rPr>
              <a:t>ควรมีหน่วยงานที่ทำหน้าที่ติดตามความเปลี่ยนแปลงของเทคโนโลยี จัดประชุมเพื่อตรวจสอบการเปลี่ยนแปลงที่เกิดขึ้นส่งผลกระทบกับระบบงานหรือโครงข่ายในปัจจุบัน หรือที่ระบบงานที่กำลังจัดซื้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ntent Placeholder 5" descr=""/>
          <p:cNvPicPr/>
          <p:nvPr/>
        </p:nvPicPr>
        <p:blipFill>
          <a:blip r:embed="rId1"/>
          <a:stretch/>
        </p:blipFill>
        <p:spPr>
          <a:xfrm>
            <a:off x="426960" y="712800"/>
            <a:ext cx="8375760" cy="5651640"/>
          </a:xfrm>
          <a:prstGeom prst="rect">
            <a:avLst/>
          </a:prstGeom>
          <a:ln w="0">
            <a:noFill/>
          </a:ln>
        </p:spPr>
      </p:pic>
      <p:sp>
        <p:nvSpPr>
          <p:cNvPr id="101" name="Rounded Rectangular Callout 4"/>
          <p:cNvSpPr/>
          <p:nvPr/>
        </p:nvSpPr>
        <p:spPr>
          <a:xfrm>
            <a:off x="2357280" y="2786040"/>
            <a:ext cx="6572520" cy="3000240"/>
          </a:xfrm>
          <a:prstGeom prst="wedgeRoundRectCallout">
            <a:avLst>
              <a:gd name="adj1" fmla="val -64268"/>
              <a:gd name="adj2" fmla="val -51138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alibri"/>
                <a:cs typeface="Cordia New"/>
              </a:rPr>
              <a:t>เร่งสั่งการให้ผู้ดูแลระบบ หรือผู้รับการว่าจ้างในระบบต่าง ๆ ที่ค้นพบช่องโหว่ที่มีความเสี่ยงต่อการถูกบุกรุก จนทำให้เกิดความเสียหายกับเครือข่ายของกรมส่งเสริมการส่งออกมากที่สุด เร่งแก้ไขจุดอ่อน หรือช่องโหว่ต่าง ๆ ที่ค้นพ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5" descr=""/>
          <p:cNvPicPr/>
          <p:nvPr/>
        </p:nvPicPr>
        <p:blipFill>
          <a:blip r:embed="rId1"/>
          <a:stretch/>
        </p:blipFill>
        <p:spPr>
          <a:xfrm>
            <a:off x="341280" y="1500120"/>
            <a:ext cx="8375760" cy="318132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4"/>
          <p:cNvSpPr/>
          <p:nvPr/>
        </p:nvSpPr>
        <p:spPr>
          <a:xfrm>
            <a:off x="2643120" y="3357720"/>
            <a:ext cx="5929560" cy="1357200"/>
          </a:xfrm>
          <a:prstGeom prst="wedgeRoundRectCallout">
            <a:avLst>
              <a:gd name="adj1" fmla="val -69050"/>
              <a:gd name="adj2" fmla="val -47444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alibri"/>
                <a:cs typeface="Cordia New"/>
              </a:rPr>
              <a:t>สร้างแนวทางการปฏิบัติด้านธรรมาภิบาลที่มีประสิทธิภา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1700280"/>
            <a:ext cx="770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องค์กรควรดำเนินการปรับปรุงแก้ไข ตามลำดับความสำคัญดังนี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802440" indent="-432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ประกาศและเผยแพร่นโยบายในการกำกับดูแลทางด้านระบบเทคโนโลยีสารสนเทศ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IT Governance)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ให้ผู้ที่เกี่ยวข้องรับทราบและนำไปปฏิบัต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ำหนดนโยบายและวิธีปฏิบัติในการบริหารจัดการคุณภาพด้านเทคโนโลยีสารสนเทศ ตลอดจนการเผยแพร่นโยบา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ำหนดนโยบายในการจัดการความเปลี่ยนแปลงทางด้านเทคโนโลย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ข้อเสนอแนะเพื่อการพิจารณาปรับปรุงแก้ไข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89136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ำหนดสิทธิ์ บทบาทและหน้าที่ที่เหมาะสมแก่เจ้าหน้าที่ และกำหนดรอบระยะเวลาในการทบทวนสิทธิ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เร่งแก้ไขจุดอ่อน หรือช่องโหว่ต่าง ๆ ที่ค้นพบ และตรวจสอบให้แน่ใจว่าระบบได้รับการปรับปรุงเรียบร้อ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ปรับปรุงระบบรักษาความปลอดภัยจากการเข้าถึงระบบจากระยะไก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ปรับปรุงเวอร์ชั่นของโปรแกรมต่างๆ ให้เป็นเวอร์ชั่นใหม่ที่มีประสิทธิภาพมากขึ้น เพื่อสร้างความแข็งแกร่งให้กับระ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จัดหา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Antivirus Server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เพื่อป้องกันการโจมตีของไวรัสคอมพิวเตอร์ภายในหน่วย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จัดหาเครื่องคอมพิวเตอร์สำหรับใช้ในการทดสอบการปิดช่องโหว่ต่าง 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10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ำหนดกระบวนการสารสนเทศ การจัดองค์กร และความสัมพันธ์ต่างๆให้ชัดเจน ตลอดจนการสื่อสารให้หน่วยงานและผู้ที่เกี่ยวข้องรับทราบ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11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ศึกษา วิเคราะห์และจัดทำสถาปัตยกรรมของข้อมูลสารสนเทศให้ชัดเจนเป็นลายลักษณ์อักษ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จัดอบรมพนักงานผู้ดูแลระบบ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Network admin),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นักพัฒนาระบบ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Develo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จัดอบรมพนักงานภายในทุกระดับชั้น เรื่องการป้องกันภัย ด้านระบบรักษาความปลอดภัยทางคอมพิวเตอร์ในองค์ก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63280" y="90792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Overview of DEP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ผนผังองค์ก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อำนาจหน้าที่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,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วิสัยทัศน์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,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พันธกิ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ระบบ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IT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ในปัจจุบ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หลักการและเหตุผล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ที่ม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วัตถุประสงค์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4284720" cy="2154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47280" y="1052640"/>
            <a:ext cx="6131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วิธีการประเมินความเสี่ยง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ผลการประเมินและจัดลำดับความเสี่ยง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ผลการประเมินการควบคุมภายใ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ข้อเสนอแน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04000" y="3573360"/>
            <a:ext cx="1954080" cy="2338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กรมส่งเสริมการส่งออ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กรมส่งเสริมการส่งออกเป็นองค์กรภายใต้การกำกับดูแลของกระทรวงพาณิชย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มีภารกิจหลัก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มองเป็นวัตถุประสงค์ได้ป่าว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ประกอบ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ส่งเสริมการส่งออกและขยายตลาดสินค้า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บริการไทย โดยมีเป้าหมายคือรักษาตลาดเดิมและขยายตลาดใหม่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พัฒนาและให้บริการด้านการค้าและการเพิ่มศักยภาพในการส่งออก อาทิ การขยายฐานผลิตไปยังต่างประเทศ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เสริมสร้างศักยภาพความเข้มแข็งให้ผู้ส่งออกไทย โดยพัฒนาผลิตภัณฑ์และการบริการให้ได้มาตรฐาน และทำการตลาดต่างประเทศได้มากขึ้น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ส่งเสริมและสร้างภาพพจน์สินค้าและบริการไทยให้เป็นที่เชื่อถือได้ ทั้งในด้านคุณภาพและบริการลูกค้าอย่างรวดเร็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อำนาจหน้าที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เสนอนโยบายและจัดทำเป้าหมายการส่งออกและแผนปฏิบัติการ รวมทั้งเสนอแนะแนวทางและมาตรการด้านการค้าและการตลาด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ดำเนินการเพื่อส่งเสริมการส่งออกสินค้าไทย ทั้งในและต่างประเทศ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จัดทำและให้บริการข้อมูลการค้าและส่งเสริมเทคโนโลยีสารสนเทศในส่วนที่เกี่ยวข้องกับการส่งออกแก่ผู้ผลิต ผู้ส่งออกไทย และผุ้นำเข้าต่างประเทศ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เผยแพร่และประชาสัมพันธ์สินค้าและบริการของไทยเพื่อส่งเสริมการส่งออก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พัฒนาความรู้ความสามารถแก่ภาคเอกชนในด้านการค้าระหว่างประเทศ เพื่อเสริมสร้างขีดความสามารถในการแข่งขัน และสมรรถนะในการส่งออก ตลอดจนประสานงานและให้ความร่วมมือแก่สถาบันและองค์กรต่างๆ ทั้งในและต่างประเทศ 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ส่งเสริมและพัฒนารูปแบบผลิตภัณฑ์ เพื่อเพิ่มมูลค่าให้กับสินค้าไทย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และให้เป็นไปตามความต้องการของตลาดต่างประเทศ 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ส่งเสริมและสนับสนุนให้มีการส่งออกธุรกิจบริการ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ปฏิบัติการอื่นใดตามที่กฏหมายกำหนดให้เป็นอำนาจหน้าที่ของกรม หรื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ตามที่รัฐมนตรีหรือคณะรัฐมนตรีมอบหมาย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อำนาจหน้าที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วิสัยทัศน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0920" y="234900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rial"/>
              </a:rPr>
              <a:t>เป็นผู้นำในการสร้างรายได้ด้านการค้าระหว่างประเทศแบ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rial"/>
              </a:rPr>
              <a:t>ครบวงจร เพื่อขับเคลื่อนเศรษฐกิจของประเทศให้เจริญเติบโ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76720" y="4292640"/>
            <a:ext cx="2382840" cy="19065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พันธกิ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พัฒนาผู้ประกอบการสู่ความเป็นสากล เพื่อเพิ่มขีดความสามารถ      ในการแข่งขันด้านการค้าระหว่างประเทศ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พัฒนาและส่งเสริมสินค้าและบริการ เพื่อเพิ่มมูลค่าใน                 ระดับการค้าโล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เจาะลึกและขยายตลาด ตลอดจนสร้างเครือข่ายเชื่อมโยง              ธุรกิจระหว่างประเท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93080" y="5157720"/>
            <a:ext cx="180648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0:03:54Z</dcterms:created>
  <dc:creator>Jump</dc:creator>
  <dc:description/>
  <dc:language>en-US</dc:language>
  <cp:lastModifiedBy>Jump</cp:lastModifiedBy>
  <dcterms:modified xsi:type="dcterms:W3CDTF">2008-02-02T22:19:47Z</dcterms:modified>
  <cp:revision>10</cp:revision>
  <dc:subject/>
  <dc:title>Slide 1</dc:title>
</cp:coreProperties>
</file>