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png" ContentType="image/png"/>
  <Override PartName="/ppt/media/image22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0C6-553E-4DD6-9548-60105CE8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C12-61A3-4035-944A-DE8FC579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5C3-275E-4DC2-849E-ECC049C2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661-BC5A-4717-954F-1B9AE701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FE8-C682-4DE1-88AC-63C441EB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5DF-B45C-4ED7-B8FE-EF90DF73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C0F-301E-4F8B-8CC1-D031A6F1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DB2-F688-460A-86A5-15E9914C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574-E5A3-450B-B6C3-87EF57FB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342-C97A-48E7-A705-2D284CD1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6BE-E696-4861-8F51-7E7D0E0B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982-EDA1-41CE-90C2-95CE9EC5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F1FC-0099-43BC-AD9D-9693F2947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7850160" cy="107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4508640"/>
            <a:ext cx="77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การประเมินความเสี่ยงด้านการรักษาความปลอดภัยใ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ระบบเทคโนโลยีสารสนเทศกรมส่งเสริมการส่งออ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แผนผังองค์ก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7920000" cy="4492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ระบบ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IT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ในปัจจุบั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5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B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ระบบการเงิ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ata Mining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NS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E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IT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1484280"/>
            <a:ext cx="41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EPTh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Intra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Web One stop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Firewall Tipping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Linux Mail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OBI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ontrol Objective for Information and Related Technolog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3645000"/>
            <a:ext cx="741708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ช้สำหรับองค์กรที่ต้องการมุ่งสู่การพัฒนาให้ระบบเทคโนโลยีสารสนเทศเป็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IT Governance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ซึ่งสามารถบริหารจัด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สารสนเทศขององค์กรให้สามารถใช้งานได้อย่างมีประสิทธิภาพและคุ้มค่ากับการลงทุ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333360"/>
            <a:ext cx="763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วิธีการประเมินความเสี่ย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การประเมินความเสี่ย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ผลกระทบ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(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ระดับผลกระทบต่อธุรกิจในกรณีที่ไม่สามารถบรรลุเป้าหมายด้านต่าง 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โอกาสที่จะเกิดขึ้น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(Likeli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ระดับโอกาส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ความน่าจะเป็นที่จะไม่สามารถบรรลุเป้าหมายด้านต่าง 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IT 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ใช้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Risk Matrix 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เพื่อใช้ในการพิจารณาประเมินระดับความเสี่ยงเทคโนโลยีสารสนเท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ทั้ง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7 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ด้าน ซึ่งได้แก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4076640"/>
            <a:ext cx="3817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43640" y="4286160"/>
            <a:ext cx="242568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COBIT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075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วางแผนและการจัดการองค์กร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PO : Planning and Organ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จัดหาและติดตั้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AI : Acquisition and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ส่งมอบและบำรุงรักษา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DS : Delivery and Sup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ติดตามผลและการประเมิน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ME : Monitoring and 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Gap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esidual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ประเมินผลความเสี่ยงในส่วนที่เหลื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Maturity 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แสดงถึงระดับการควบคุมภายในที่เป็นอยู่จริงในปัจจุบัน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As is)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ละระดับการควบคุมภายในที่ต้องการให้เป็นในอนาคต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To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57200" y="2286000"/>
          <a:ext cx="830592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5105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70000"/>
                      </a:blip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>
                        <a:alphaModFix amt="70000"/>
                      </a:blip>
                      <a:stretch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Non-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Almost insignificant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Minor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Significant but tolerable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Major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Threaten business surv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itre 1"/>
          <p:cNvSpPr/>
          <p:nvPr/>
        </p:nvSpPr>
        <p:spPr>
          <a:xfrm>
            <a:off x="762120" y="1295280"/>
            <a:ext cx="756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57200" y="2286000"/>
          <a:ext cx="830592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5105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Likelih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70000"/>
                      </a:blip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>
                        <a:alphaModFix amt="70000"/>
                      </a:blip>
                      <a:stretch/>
                    </a:blip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ost im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itre 1"/>
          <p:cNvSpPr/>
          <p:nvPr/>
        </p:nvSpPr>
        <p:spPr>
          <a:xfrm>
            <a:off x="762120" y="1295280"/>
            <a:ext cx="756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sp>
        <p:nvSpPr>
          <p:cNvPr id="89" name="Titre 1"/>
          <p:cNvSpPr/>
          <p:nvPr/>
        </p:nvSpPr>
        <p:spPr>
          <a:xfrm>
            <a:off x="152280" y="1295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Combine Impact &amp;  Likelihoo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905120"/>
          <a:ext cx="8534160" cy="459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05120"/>
                    <a:ext cx="85341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04920" y="1905120"/>
          <a:ext cx="8534160" cy="4647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905120"/>
                    <a:ext cx="85341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905120"/>
          <a:ext cx="8534160" cy="4647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1905120"/>
                    <a:ext cx="85341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สมาชิ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อริยา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สุขวัฒนาชัยกูล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วรัญญ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ลิมป์เฉลิม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วิโรจน์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วรรธนะนิตย์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ไพรินทร์   นวรจิต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3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กิ่งกาญจน์  พลทามูล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3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อภิชั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พฤกษาพนาชาติ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4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ธนั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เกิดเจริญ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4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วิลาสิน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 เพชรสารกุล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5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5" descr=""/>
          <p:cNvPicPr/>
          <p:nvPr/>
        </p:nvPicPr>
        <p:blipFill>
          <a:blip r:embed="rId1"/>
          <a:stretch/>
        </p:blipFill>
        <p:spPr>
          <a:xfrm>
            <a:off x="353880" y="1017720"/>
            <a:ext cx="8375760" cy="4833720"/>
          </a:xfrm>
          <a:prstGeom prst="rect">
            <a:avLst/>
          </a:prstGeom>
          <a:ln w="0">
            <a:noFill/>
          </a:ln>
        </p:spPr>
      </p:pic>
      <p:sp>
        <p:nvSpPr>
          <p:cNvPr id="97" name="Rounded Rectangular Callout 6"/>
          <p:cNvSpPr/>
          <p:nvPr/>
        </p:nvSpPr>
        <p:spPr>
          <a:xfrm>
            <a:off x="2286000" y="3357720"/>
            <a:ext cx="5929200" cy="2286000"/>
          </a:xfrm>
          <a:prstGeom prst="wedgeRoundRectCallout">
            <a:avLst>
              <a:gd name="adj1" fmla="val -40842"/>
              <a:gd name="adj2" fmla="val -68537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ประกาศและเผยแพร่นโยบายในการกำกับดูแลทางด้านระบบเทคโนโลยีสารสนเทศ</a:t>
            </a:r>
            <a:r>
              <a:rPr b="1" lang="th-TH" sz="2800" spc="-1" strike="noStrike">
                <a:solidFill>
                  <a:srgbClr val="ffffff"/>
                </a:solidFill>
                <a:latin typeface="Calibri"/>
                <a:ea typeface="Cordia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ordia New"/>
              </a:rPr>
              <a:t>IT Governance</a:t>
            </a:r>
            <a:r>
              <a:rPr b="1" lang="th-TH" sz="2800" spc="-1" strike="noStrike">
                <a:solidFill>
                  <a:srgbClr val="ffffff"/>
                </a:solidFill>
                <a:latin typeface="Calibri"/>
                <a:ea typeface="Cordi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5" descr=""/>
          <p:cNvPicPr/>
          <p:nvPr/>
        </p:nvPicPr>
        <p:blipFill>
          <a:blip r:embed="rId1"/>
          <a:stretch/>
        </p:blipFill>
        <p:spPr>
          <a:xfrm>
            <a:off x="426960" y="785880"/>
            <a:ext cx="8375760" cy="400536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4"/>
          <p:cNvSpPr/>
          <p:nvPr/>
        </p:nvSpPr>
        <p:spPr>
          <a:xfrm>
            <a:off x="2714760" y="2786040"/>
            <a:ext cx="5857920" cy="3143160"/>
          </a:xfrm>
          <a:prstGeom prst="wedgeRoundRectCallout">
            <a:avLst>
              <a:gd name="adj1" fmla="val -39680"/>
              <a:gd name="adj2" fmla="val -56699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ควรมีหน่วยงานที่ทำหน้าที่ติดตามความเปลี่ยนแปลงของเทคโนโลยี จัดประชุมเพื่อตรวจสอบการเปลี่ยนแปลงที่เกิดขึ้นส่งผลกระทบกับระบบงานหรือโครงข่ายในปัจจุบัน หรือที่ระบบงานที่กำลังจัดซื้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ntent Placeholder 5" descr=""/>
          <p:cNvPicPr/>
          <p:nvPr/>
        </p:nvPicPr>
        <p:blipFill>
          <a:blip r:embed="rId1"/>
          <a:stretch/>
        </p:blipFill>
        <p:spPr>
          <a:xfrm>
            <a:off x="426960" y="712800"/>
            <a:ext cx="8375760" cy="565164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ular Callout 4"/>
          <p:cNvSpPr/>
          <p:nvPr/>
        </p:nvSpPr>
        <p:spPr>
          <a:xfrm>
            <a:off x="2357280" y="2786040"/>
            <a:ext cx="6572520" cy="3000240"/>
          </a:xfrm>
          <a:prstGeom prst="wedgeRoundRectCallout">
            <a:avLst>
              <a:gd name="adj1" fmla="val -64268"/>
              <a:gd name="adj2" fmla="val -51138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เร่งสั่งการให้ผู้ดูแลระบบ หรือผู้รับการว่าจ้างในระบบต่าง ๆ ที่ค้นพบช่องโหว่ที่มีความเสี่ยงต่อการถูกบุกรุก จนทำให้เกิดความเสียหายกับเครือข่ายของกรมส่งเสริมการส่งออกมากที่สุด เร่งแก้ไขจุดอ่อน หรือช่องโหว่ต่าง ๆ ที่ค้นพ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5" descr=""/>
          <p:cNvPicPr/>
          <p:nvPr/>
        </p:nvPicPr>
        <p:blipFill>
          <a:blip r:embed="rId1"/>
          <a:stretch/>
        </p:blipFill>
        <p:spPr>
          <a:xfrm>
            <a:off x="341280" y="1500120"/>
            <a:ext cx="8375760" cy="318132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4"/>
          <p:cNvSpPr/>
          <p:nvPr/>
        </p:nvSpPr>
        <p:spPr>
          <a:xfrm>
            <a:off x="2643120" y="3357720"/>
            <a:ext cx="5929560" cy="1357200"/>
          </a:xfrm>
          <a:prstGeom prst="wedgeRoundRectCallout">
            <a:avLst>
              <a:gd name="adj1" fmla="val -69050"/>
              <a:gd name="adj2" fmla="val -47444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สร้างแนวทางการปฏิบัติด้านธรรมาภิบาลที่มีประสิทธิ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1700280"/>
            <a:ext cx="770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องค์กรควรดำเนินการปรับปรุงแก้ไข ตามลำดับความสำคัญดังนี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ะกาศและเผยแพร่นโยบายในการกำกับดูแลทางด้านระบบเทคโนโลยีสารสนเทศ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IT Governance)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ให้ผู้ที่เกี่ยวข้องรับทราบและนำไปปฏิบั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นโยบายและวิธีปฏิบัติในการบริหารจัดการคุณภาพด้านเทคโนโลยีสารสนเทศ ตลอดจนการเผยแพร่นโยบ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นโยบายในการจัดการความเปลี่ยนแปลงทางด้านเทคโนโลย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ข้อเสนอแนะเพื่อการพิจารณาปรับปรุงแก้ไข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สิทธิ์ บทบาทและหน้าที่ที่เหมาะสมแก่เจ้าหน้าที่ และกำหนดรอบระยะเวลาในการทบทวนสิทธิ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ร่งแก้ไขจุดอ่อน หรือช่องโหว่ต่าง ๆ ที่ค้นพบ และตรวจสอบให้แน่ใจว่าระบบได้รับการปรับปรุงเรียบร้อ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ับปรุงระบบรักษาความปลอดภัยจากการเข้าถึงระบบจากระยะไก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ับปรุงเวอร์ชั่นของโปรแกรมต่างๆ ให้เป็นเวอร์ชั่นใหม่ที่มีประสิทธิภาพมากขึ้น เพื่อสร้างความแข็งแกร่งให้กับระ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หา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Antivirus Server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พื่อป้องกันการโจมตีของไวรัสคอมพิวเตอร์ภายในหน่วย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หาเครื่องคอมพิวเตอร์สำหรับใช้ในการทดสอบการปิดช่องโหว่ต่าง 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0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กระบวนการสารสนเทศ การจัดองค์กร และความสัมพันธ์ต่างๆให้ชัดเจน ตลอดจนการสื่อสารให้หน่วยงานและผู้ที่เกี่ยวข้องรับทราบ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1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ศึกษา วิเคราะห์และจัดทำสถาปัตยกรรมของข้อมูลสารสนเทศให้ชัดเจนเป็นลายลักษณ์อักษ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อบรมพนักงานผู้ดูแลระบบ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Network admin),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นักพัฒนาระบบ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Develo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อบรมพนักงานภายในทุกระดับชั้น เรื่องการป้องกันภัย ด้านระบบรักษาความปลอดภัยทางคอมพิวเตอร์ใน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63280" y="90792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Overview of DEP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ผนผังองค์ก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อำนาจหน้าที่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วิสัยทัศน์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ันธกิ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ระบบ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IT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นปัจจุบ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หลักการและเหตุผล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ที่ม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วัตถุประสงค์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4284720" cy="215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47280" y="1052640"/>
            <a:ext cx="6131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วิธีการประเมินความเสี่ยง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ผลการประเมินและจัดลำดับความเสี่ยง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ผลการประเมินการควบคุมภายใ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ข้อเสนอแน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04000" y="3573360"/>
            <a:ext cx="1954080" cy="2338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กรมส่งเสริมการส่งออ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กรมส่งเสริมการส่งออกเป็นองค์กรภายใต้การกำกับดูแลของกระทรวงพาณิชย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มีภารกิจหลัก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มองเป็นวัตถุประสงค์ได้ป่าว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ประกอบ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ส่งเสริมการส่งออกและขยายตลาดสินค้า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บริการไทย โดยมีเป้าหมายคือรักษาตลาดเดิมและขยายตลาดใหม่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พัฒนาและให้บริการด้านการค้าและการเพิ่มศักยภาพในการส่งออก อาทิ การขยายฐานผลิตไปยังต่างประเทศ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สริมสร้างศักยภาพความเข้มแข็งให้ผู้ส่งออกไทย โดยพัฒนาผลิตภัณฑ์และการบริการให้ได้มาตรฐาน และทำการตลาดต่างประเทศได้มากขึ้น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ส่งเสริมและสร้างภาพพจน์สินค้าและบริการไทยให้เป็นที่เชื่อถือได้ ทั้งในด้านคุณภาพและบริการลูกค้าอย่างรวดเร็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อำนาจหน้าที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สนอนโยบายและจัดทำเป้าหมายการส่งออกและแผนปฏิบัติการ รวมทั้งเสนอแนะแนวทางและมาตรการด้านการค้าและการตลาด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ดำเนินการเพื่อส่งเสริมการส่งออกสินค้าไทย ทั้งในและต่างประเทศ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จัดทำและให้บริการข้อมูลการค้าและส่งเสริมเทคโนโลยีสารสนเทศในส่วนที่เกี่ยวข้องกับการส่งออกแก่ผู้ผลิต ผู้ส่งออกไทย และผุ้นำเข้าต่างประเทศ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ผยแพร่และประชาสัมพันธ์สินค้าและบริการของไทยเพื่อส่งเสริมการส่งออก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พัฒนาความรู้ความสามารถแก่ภาคเอกชนในด้านการค้าระหว่างประเทศ เพื่อเสริมสร้างขีดความสามารถในการแข่งขัน และสมรรถนะในการส่งออก ตลอดจนประสานงานและให้ความร่วมมือแก่สถาบันและองค์กรต่างๆ ทั้งในและต่างประเทศ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ส่งเสริมและพัฒนารูปแบบผลิตภัณฑ์ เพื่อเพิ่มมูลค่าให้กับสินค้าไทย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และให้เป็นไปตามความต้องการของตลาดต่างประเทศ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ส่งเสริมและสนับสนุนให้มีการส่งออกธุรกิจบริการ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ปฏิบัติการอื่นใดตามที่กฏหมายกำหนดให้เป็นอำนาจหน้าที่ของกรม หรื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ตามที่รัฐมนตรีหรือคณะรัฐมนตรีมอบหมาย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อำนาจหน้าที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วิสัยทัศน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0920" y="234900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</a:rPr>
              <a:t>เป็นผู้นำในการสร้างรายได้ด้านการค้าระหว่างประเทศแบ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</a:rPr>
              <a:t>ครบวงจร เพื่อขับเคลื่อนเศรษฐกิจของประเทศให้เจริญเติบโ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76720" y="4292640"/>
            <a:ext cx="2382840" cy="1906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พันธกิ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ัฒนาผู้ประกอบการสู่ความเป็นสากล เพื่อเพิ่มขีดความสามารถ      ในการแข่งขันด้านการค้าระหว่างประเทศ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ัฒนาและส่งเสริมสินค้าและบริการ เพื่อเพิ่มมูลค่าใน                 ระดับการค้าโล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เจาะลึกและขยายตลาด ตลอดจนสร้างเครือข่ายเชื่อมโยง              ธุรกิจระหว่างประเท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93080" y="5157720"/>
            <a:ext cx="180648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0:03:54Z</dcterms:created>
  <dc:creator>Jump</dc:creator>
  <dc:description/>
  <dc:language>en-US</dc:language>
  <cp:lastModifiedBy>Jump</cp:lastModifiedBy>
  <dcterms:modified xsi:type="dcterms:W3CDTF">2008-02-02T22:19:47Z</dcterms:modified>
  <cp:revision>10</cp:revision>
  <dc:subject/>
  <dc:title>Slide 1</dc:title>
</cp:coreProperties>
</file>