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22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85F-35EC-4F50-8706-63226FC2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A34-EC60-4450-8D22-2F162FE7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DE2-3B94-4116-9B34-1F569023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875-5E49-47F1-A6DF-33231910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BB9-744E-4A25-809B-E216F70D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3E7-F883-4100-8D2E-F8BC9CA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502-BAF1-4B9C-996B-A11B089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4E2-70A5-43FC-A8AD-EE60755D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4B0-D1C5-48FC-80F4-E9DD063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A01-A675-434A-BDF1-5134004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BC0-2403-44D4-9DEE-9862F6D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1EA-0987-4671-A3B3-B6457027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E67F-668C-4D20-9726-9C6DB9EE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7850160" cy="107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450864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การประเมินความเสี่ยงด้านการรักษาความปลอดภัยใ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ระบบเทคโนโลยีสารสนเทศกรมส่งเสริมการส่งออ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แผนผังองค์ก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92000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ระบบ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IT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ในปัจจุบ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5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B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ระบบการเง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ata Mining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E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T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484280"/>
            <a:ext cx="41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EPT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ntr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eb One stop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Firewall Tipping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inux Mail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B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ntrol Objective for Information and Related Technolo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645000"/>
            <a:ext cx="741708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สำหรับองค์กรที่ต้องการมุ่งสู่การพัฒนาให้ระบบเทคโนโลยีสารสนเทศเป็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IT Governance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ซึ่งสามารถบริหารจัด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สารสนเทศขององค์กรให้สามารถใช้งานได้อย่างมีประสิทธิภาพและคุ้มค่ากับการลงทุ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33360"/>
            <a:ext cx="763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ผลกระท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ผลกระทบต่อธุรกิจในกรณีที่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อกาสที่จะเกิดขึ้น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Likeli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โอกาส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ความน่าจะเป็นที่จะ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T 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ใช้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Risk Matrix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เพื่อใช้ในการพิจารณาประเมินระดับความเสี่ยงเทคโนโลยีสารสน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ทั้ง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7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ด้าน ซึ่งได้แก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4076640"/>
            <a:ext cx="381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43640" y="4286160"/>
            <a:ext cx="24256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COBI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075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วางแผนและการจัดการองค์กร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PO : Planning and 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จัดหาและติดตั้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I : Acquisition and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ส่งมอบและบำรุงรักษ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DS : Delivery and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ติดตามผลและการประเมิ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ME : Monitoring and 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Gap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esidu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ประเมินผลความเสี่ยงในส่วนที่เหล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Maturity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แสดงถึงระดับการควบคุมภายในที่เป็นอยู่จริงในปัจจุบั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s is)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ระดับการควบคุมภายในที่ต้องการให้เป็นในอนาคต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To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Non-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Almost insignificant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in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Significant but tolerable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aj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Threaten business surv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Likeli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ost 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sp>
        <p:nvSpPr>
          <p:cNvPr id="89" name="Titre 1"/>
          <p:cNvSpPr/>
          <p:nvPr/>
        </p:nvSpPr>
        <p:spPr>
          <a:xfrm>
            <a:off x="152280" y="1295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Combine Impact &amp;  Likelih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905120"/>
          <a:ext cx="8534160" cy="459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05120"/>
                    <a:ext cx="85341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สมาชิ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อริยา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สุขวัฒนาชัยก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รัญญ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ลิมป์เฉลิม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ิโรจน์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วรรธนะนิตย์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ไพรินทร์   นวรจิต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กิ่งกาญจน์  พลทาม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อภิชั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พฤกษาพนาชาติ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ธนั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เกิดเจริญ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วิลาสิน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 เพชรสารกุล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5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"/>
          <p:cNvPicPr/>
          <p:nvPr/>
        </p:nvPicPr>
        <p:blipFill>
          <a:blip r:embed="rId1"/>
          <a:stretch/>
        </p:blipFill>
        <p:spPr>
          <a:xfrm>
            <a:off x="353880" y="1017720"/>
            <a:ext cx="8375760" cy="4833720"/>
          </a:xfrm>
          <a:prstGeom prst="rect">
            <a:avLst/>
          </a:prstGeom>
          <a:ln w="0">
            <a:noFill/>
          </a:ln>
        </p:spPr>
      </p:pic>
      <p:sp>
        <p:nvSpPr>
          <p:cNvPr id="97" name="Rounded Rectangular Callout 6"/>
          <p:cNvSpPr/>
          <p:nvPr/>
        </p:nvSpPr>
        <p:spPr>
          <a:xfrm>
            <a:off x="2286000" y="3357720"/>
            <a:ext cx="5929200" cy="2286000"/>
          </a:xfrm>
          <a:prstGeom prst="wedgeRoundRectCallout">
            <a:avLst>
              <a:gd name="adj1" fmla="val -40842"/>
              <a:gd name="adj2" fmla="val -68537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ประกาศและเผยแพร่นโยบายในการกำกับดูแลทางด้านระบบเทคโนโลยีสารสนเทศ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ordia New"/>
              </a:rPr>
              <a:t>IT Governance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426960" y="785880"/>
            <a:ext cx="8375760" cy="400536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4"/>
          <p:cNvSpPr/>
          <p:nvPr/>
        </p:nvSpPr>
        <p:spPr>
          <a:xfrm>
            <a:off x="2714760" y="2786040"/>
            <a:ext cx="5857920" cy="3143160"/>
          </a:xfrm>
          <a:prstGeom prst="wedgeRoundRectCallout">
            <a:avLst>
              <a:gd name="adj1" fmla="val -39680"/>
              <a:gd name="adj2" fmla="val -56699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ควรมีหน่วยงานที่ทำหน้าที่ติดตามความเปลี่ยนแปลงของเทคโนโลยี จัดประชุมเพื่อตรวจสอบการเปลี่ยนแปลงที่เกิดขึ้นส่งผลกระทบกับระบบงานหรือโครงข่ายในปัจจุบัน หรือที่ระบบงานที่กำลังจัดซื้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5" descr=""/>
          <p:cNvPicPr/>
          <p:nvPr/>
        </p:nvPicPr>
        <p:blipFill>
          <a:blip r:embed="rId1"/>
          <a:stretch/>
        </p:blipFill>
        <p:spPr>
          <a:xfrm>
            <a:off x="426960" y="712800"/>
            <a:ext cx="8375760" cy="56516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4"/>
          <p:cNvSpPr/>
          <p:nvPr/>
        </p:nvSpPr>
        <p:spPr>
          <a:xfrm>
            <a:off x="2357280" y="2786040"/>
            <a:ext cx="6572520" cy="3000240"/>
          </a:xfrm>
          <a:prstGeom prst="wedgeRoundRectCallout">
            <a:avLst>
              <a:gd name="adj1" fmla="val -64268"/>
              <a:gd name="adj2" fmla="val -51138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เร่งสั่งการให้ผู้ดูแลระบบ หรือผู้รับการว่าจ้างในระบบต่าง ๆ ที่ค้นพบช่องโหว่ที่มีความเสี่ยงต่อการถูกบุกรุก จนทำให้เกิดความเสียหายกับเครือข่ายของกรมส่งเสริมการส่งออกมากที่สุด เร่งแก้ไขจุดอ่อน หรือช่องโหว่ต่าง ๆ ที่ค้นพ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341280" y="1500120"/>
            <a:ext cx="8375760" cy="318132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4"/>
          <p:cNvSpPr/>
          <p:nvPr/>
        </p:nvSpPr>
        <p:spPr>
          <a:xfrm>
            <a:off x="2643120" y="3357720"/>
            <a:ext cx="5929560" cy="1357200"/>
          </a:xfrm>
          <a:prstGeom prst="wedgeRoundRectCallout">
            <a:avLst>
              <a:gd name="adj1" fmla="val -69050"/>
              <a:gd name="adj2" fmla="val -47444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สร้างแนวทางการปฏิบัติด้านธรรมาภิบาลที่มีประสิทธิ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700280"/>
            <a:ext cx="770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องค์กรควรดำเนินการปรับปรุงแก้ไข ตามลำดับความสำคัญดังนี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ะกาศและเผยแพร่นโยบายในการกำกับดูแลทางด้านระบบเทคโนโลยีสารสนเทศ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IT Governance)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ให้ผู้ที่เกี่ยวข้องรับทราบและนำไปปฏิบ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และวิธีปฏิบัติในการบริหารจัดการคุณภาพด้านเทคโนโลยีสารสนเทศ ตลอดจนการเผยแพร่นโยบ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ในการจัดการความเปลี่ยนแปลงทางด้านเทคโนโลย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ข้อเสนอแนะเพื่อการพิจารณาปรับปรุงแก้ไข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สิทธิ์ บทบาทและหน้าที่ที่เหมาะสมแก่เจ้าหน้าที่ และกำหนดรอบระยะเวลาในการทบทวนสิทธิ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่งแก้ไขจุดอ่อน หรือช่องโหว่ต่าง ๆ ที่ค้นพบ และตรวจสอบให้แน่ใจว่าระบบได้รับการปรับปรุงเรียบร้อ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ระบบรักษาความปลอดภัยจากการเข้าถึงระบบจากระยะไก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เวอร์ชั่นของโปรแกรมต่างๆ ให้เป็นเวอร์ชั่นใหม่ที่มีประสิทธิภาพมากขึ้น เพื่อสร้างความแข็งแกร่งให้กับ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Antivirus Server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พื่อป้องกันการโจมตีของไวรัสคอมพิวเตอร์ภายในหน่ว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เครื่องคอมพิวเตอร์สำหรับใช้ในการทดสอบการปิดช่องโหว่ต่าง 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กระบวนการสารสนเทศ การจัดองค์กร และความสัมพันธ์ต่างๆให้ชัดเจน ตลอดจนการสื่อสารให้หน่วยงานและผู้ที่เกี่ยวข้องรับทรา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ศึกษา วิเคราะห์และจัดทำสถาปัตยกรรมของข้อมูลสารสนเทศให้ชัดเจนเป็นลายลักษณ์อักษ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ผู้ดูแล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Network admin),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นักพัฒนา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Develo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ภายในทุกระดับชั้น เรื่องการป้องกันภัย ด้านระบบรักษาความปลอดภัยทางคอมพิวเตอร์ใน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63280" y="90792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Overview of DEP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ผนผังองค์ก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อำนาจหน้าที่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ันธกิ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ะบบ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IT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ลักการและเหตุผล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ที่ม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ัตถุประสงค์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428472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47280" y="1052640"/>
            <a:ext cx="613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และจัดลำดับความเสี่ยง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การควบคุมภายใ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ข้อเสนอแน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1954080" cy="2338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กรมส่งเสริมการส่งออ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กรมส่งเสริมการส่งออกเป็นองค์กรภายใต้การกำกับดูแลของกระทรวงพาณิชย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ีภารกิจหลัก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องเป็นวัตถุประสงค์ได้ป่าว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ประกอบ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การส่งออกและขยายตลาด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บริการไทย โดยมีเป้าหมายคือรักษาตลาดเดิมและขยายตลาดใหม่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พัฒนาและให้บริการด้านการค้าและการเพิ่มศักยภาพในการส่งออก อาทิ การขยายฐานผลิตไปยังต่างประเทศ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ริมสร้างศักยภาพความเข้มแข็งให้ผู้ส่งออกไทย โดยพัฒนาผลิตภัณฑ์และการบริการให้ได้มาตรฐาน และทำการตลาดต่างประเทศได้มากขึ้น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และสร้างภาพพจน์สินค้าและบริการไทยให้เป็นที่เชื่อถือได้ ทั้งในด้านคุณภาพและบริการลูกค้าอย่างรวดเร็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นอนโยบายและจัดทำเป้าหมายการส่งออกและแผนปฏิบัติการ รวมทั้งเสนอแนะแนวทางและมาตรการด้านการค้าและการตลาด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ดำเนินการเพื่อส่งเสริมการส่งออกสินค้าไทย ทั้งในและ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จัดทำและให้บริการข้อมูลการค้าและส่งเสริมเทคโนโลยีสารสนเทศในส่วนที่เกี่ยวข้องกับการส่งออกแก่ผู้ผลิต ผู้ส่งออกไทย และผุ้นำเข้า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ผยแพร่และประชาสัมพันธ์สินค้าและบริการของไทยเพื่อส่งเสริมการส่งออ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พัฒนาความรู้ความสามารถแก่ภาคเอกชนในด้านการค้าระหว่างประเทศ เพื่อเสริมสร้างขีดความสามารถในการแข่งขัน และสมรรถนะในการส่งออก ตลอดจนประสานงานและให้ความร่วมมือแก่สถาบันและองค์กรต่างๆ ทั้งในและ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พัฒนารูปแบบผลิตภัณฑ์ เพื่อเพิ่มมูลค่าให้กับสินค้าไท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และให้เป็นไปตามความต้องการของตลาด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สนับสนุนให้มีการส่งออกธุรกิจบริการ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ปฏิบัติการอื่นใดตามที่กฏหมายกำหนดให้เป็นอำนาจหน้าที่ของกรม หรื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ตามที่รัฐมนตรีหรือคณะรัฐมนตรีมอบหมา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วิสัยทัศน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23490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เป็นผู้นำในการสร้างรายได้ด้านการค้าระหว่างประเทศแบ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ครบวงจร เพื่อขับเคลื่อนเศรษฐกิจของประเทศให้เจริญเติบโ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76720" y="4292640"/>
            <a:ext cx="238284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พันธกิ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ผู้ประกอบการสู่ความเป็นสากล เพื่อเพิ่มขีดความสามารถ      ในการแข่งขันด้านการค้าระหว่างประเทศ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และส่งเสริมสินค้าและบริการ เพื่อเพิ่มมูลค่าใน                 ระดับการค้า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จาะลึกและขยายตลาด ตลอดจนสร้างเครือข่ายเชื่อมโยง              ธุรกิจระหว่างประเท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93080" y="5157720"/>
            <a:ext cx="18064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0:03:54Z</dcterms:created>
  <dc:creator>Jump</dc:creator>
  <dc:description/>
  <dc:language>en-US</dc:language>
  <cp:lastModifiedBy>Jump</cp:lastModifiedBy>
  <dcterms:modified xsi:type="dcterms:W3CDTF">2008-02-02T22:19:47Z</dcterms:modified>
  <cp:revision>10</cp:revision>
  <dc:subject/>
  <dc:title>Slide 1</dc:title>
</cp:coreProperties>
</file>