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A26-B52F-4E8F-A2FF-5372DD37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5F2-A6D6-4682-A3EA-C0185CCD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20A-8844-491E-A90E-25D96A8F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D34-3AF5-4A6F-98B6-451CECDF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E26D-0AC0-4763-B9C5-8031C359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897A-3B28-40D8-A74C-BB4A676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7769-3B64-4327-A938-E97EAB3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F599-33BD-4369-BFED-AD9A6FA4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BF7E-A694-432A-BA36-8042DF3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353A-5F55-4F15-B6D6-8234143E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E21F-DFA1-45F0-9713-7933C27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961-66B6-42DE-8720-4A32112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DBAC-D3DC-4458-84F0-79F8844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28ED-6108-48A8-893F-0F9ADCD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2145-11E1-425B-BD04-36A4049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6535-ECEC-48BD-A45C-B67FAD4E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9F8B-E87B-4F11-988C-5AAFB179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4B6-1B2A-4AAF-A7C4-4BD95A05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AF3-5920-443F-9C67-57026406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2AB-AFC6-457D-AAC6-A205EDF7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083-D996-4934-B435-A47F44B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9DD-5E97-4E48-9FFB-F94DD5A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19F-0652-4DA8-ADD2-2958709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630-E3D2-402A-9ABE-4A4EDEE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44E2-3F05-4CC7-8162-4455C8C084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CA6-A756-4E4B-8DE6-A28C86CA1D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238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trodu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solution for a new problem, or is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er technology, but is it suitabl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 Requirem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ic architecture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C/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ent/Ser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inframe/Ho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uld be able to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ess a prin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ex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file to server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ress and retrieve data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zational Requirem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ource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ndor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Right System…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perational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Foc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d04956_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575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 Approa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 value, high visibility applic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cumentation of system go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r retrieval needs and viewing expec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age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rt and Long term goals and co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tside consult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YLC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rshey’s Entertainment and Reso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sh and McLennan  Compan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ence BlueCross BlueShiel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versity of California, Santa Cru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stern Wirel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ulihan’s Restaur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Future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D looks promising…but what of its storage media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VD’s…too costly…as of now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 other storage technologie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bd05296_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5229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alysis and 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…a long and tedious proces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olution on document re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problem as of now…storage med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reap what you sow…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COLD?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mputer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tput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er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-&gt; optical dis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581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COLD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onen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age – storing data and index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ewing – user retriev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story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, 1970’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D, 1980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191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D “revived”, 199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plications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keeping of important docu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an servi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dit trac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ven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orts and Record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lling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lacement for 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hard copy, less co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exed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data retrieval, improved customer serv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need for security guard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257800" y="1752480"/>
          <a:ext cx="3753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752480"/>
                    <a:ext cx="3753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dvantages of COLD…CD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50 MB of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idely-established stand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ing is quite fas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C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xt file or Image file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580_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1176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sadvantages of COLD..CD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50 MB not enoug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VD’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bd06663_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3526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09:51:09Z</dcterms:created>
  <dc:creator>Jave</dc:creator>
  <dc:description/>
  <dc:language>en-US</dc:language>
  <cp:lastModifiedBy>Jave</cp:lastModifiedBy>
  <dcterms:modified xsi:type="dcterms:W3CDTF">2001-03-14T12:02:43Z</dcterms:modified>
  <cp:revision>19</cp:revision>
  <dc:subject/>
  <dc:title>An Introduction</dc:title>
</cp:coreProperties>
</file>