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BAE9-1602-4B2E-80EB-D6AA66F4D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E7B4-8884-42B3-B52B-33D401CF0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3930-CEFD-440B-98F3-9B8898129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4708-B911-4C86-AF6E-FE68AB2F6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018D-F528-4650-A907-9EF9B356F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D655-F4CD-4B00-A591-95FE3A2F1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5FD4-1A01-4321-9CF2-D41991105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AA41-113E-499A-87EA-82CC606BD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06E4-873C-4E9A-8040-FF4AC36C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168F-6921-42FC-AC36-1D8F2BF58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F06C-FFE0-4DFB-B373-D5786A24E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3524-0218-42B2-B338-A7D4F739D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3366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A606-7133-4F42-82DE-F281C2CC6E97}" type="slidenum">
              <a:rPr b="1" lang="en-US" sz="2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588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9320" y="6173640"/>
          <a:ext cx="622080" cy="6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0" y="6173640"/>
                    <a:ext cx="6220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62120" y="6247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Learn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1698480" cy="1058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SSION ON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F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MF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MF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MFC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C v/s SDK “Hello Window Applicatio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C Application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5C22-C91B-4EF7-BE06-AEB6C989D3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ain Features of CObject clas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time class information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tic and dumping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F3B6-1CBB-47CC-A81C-607A9C130E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rializa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ization is a process by which objects archive themselves to and from a storage objects such as a file and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erializable  &amp; Serial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erialization will returns TRUE if object supports for serialization or it returns FA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ize will supports for seri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A7A4-0BDC-4021-9E96-EEF7F80C5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un-time class informa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-time class information support means: Given a pointer to an object of a class derived from CObject it can give details about class name,and its relation-ship between a specific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79C6-74E0-4C06-8E1A-2E3507B5F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un-time class informa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unctions which does runtime class information suppor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"IsKindOf” and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"GetRuntimeClass”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se functions are the classes whose object does the follow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reates the Class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nspects the class.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DD15-1094-45DF-A5BC-9E61131BAE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un-time class informa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CROS that supports RTC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LARE_DYNAMIC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To enable runtime class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LARE_DYNCREAT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To create runtime class declaration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_DYNAMI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To generate C++ code which is necessary for the class to obtain runtime class information and its position in the hierarchy.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B918-047E-45A6-88C5-C7A7D0573B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iagnostic and debugging suppor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feature is used to check the correctness for eg: check whether pointer has been got from a functio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ERT_VALID(pDo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Checks the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pDoc pointer has a value.(internal validity of an object by calling )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This provides "printf" like capabilities in DEBUG version eg. TRACE(“%d”,int)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ERT(boolean_express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This function evaluates the expn. and if false displays a message box during RUNTIME.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38D5-04D9-47DF-8EA9-353CADF99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class: base class CW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lasses encapsulates the properties of a wind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provides default handlers for many mess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dozens of function which can perform operations on window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Wnd is the base class for all the window cla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B202-FB39-4606-97EB-88424E3AAF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CSDIFrameWnd and CMDIFrameWnd classes which has basic operations on the wind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includes CView class which forms the found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views in Document/ View appl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includes CDialog class which forms the base class for the dialog appl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0F89-3C76-4FD4-8BCD-50875BCE25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I classe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class :C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lasses are responsible for the output on screen, printer and other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C  is a class for device context class . CPaintDc, CClientDC, CWindowsDC are derived from CDC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3698-CDF4-4A4D-BE8D-BD37B1B8F7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classes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class:C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lass functions are used for accessing standard I/O file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74EE-1A8E-4672-B9D3-538CA15F79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ols for windows applica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Development kit (SD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 Foundation class(MFC)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1170-5CEE-475E-AE8D-EA13B17EAB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classes:    base :CExce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lasses are used to handle exceptions which C+ provides try/throw/catch etc. CFileException, CMemoryException, CDataBaseException aare derived from Cexce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2405-A3DD-4165-80BF-ABF70D24C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 Classe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DataBase,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RecordSe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lasses are used  to interface the VC++ program with datab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dbf or oracle or MS A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DF8C-C065-4692-8089-498E0D6647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es not under CObjec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lasses are not directly derived from CObject. They simply has data to store data'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:CPoint ,CString,CSize ,CRect e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8003-7603-426A-A773-D341532EC1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3505320"/>
            <a:ext cx="22860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4600" y="35812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429000"/>
            <a:ext cx="3581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410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029200"/>
            <a:ext cx="3581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800" y="3733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5181480"/>
            <a:ext cx="2286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680" y="52578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43000" y="4191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2670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41911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09720" y="4572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5720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45720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pplication Framework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called software archite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able software for a particular domain of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st with class librar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12AB-BC3B-4A9A-9E12-580F98F99C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2895480"/>
            <a:ext cx="3581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840" y="304812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724280"/>
            <a:ext cx="39621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952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-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95120" y="4038480"/>
            <a:ext cx="381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0384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038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pplication Framework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ca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2562-236D-479D-B57E-F8B0DFB91F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n MFC program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inimum application n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indow class derived from CFrameW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onstructor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pplication class derived from CWinApp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OOL InitInstance( )function to be overridden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 ( 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itInstance( 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 present but need not be overridden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CC57-C315-4A1D-A261-F66BA41448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irst MFC program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gram in the folder EX01 shows a simple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8D3C-F991-4E5B-AA7A-4C264EA6EE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hat is MFC?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++ provides rich set of C++ library called MFC librar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set of C++ classes that encapsulate the functionality of application written for Microsoft Windows operat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uch of the code necessar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naging windows, menus, dialogs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erforming basic input/outpu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oring collections of data object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94E5-10C9-435A-80E0-37EB62B101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hy MFC?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ens development time; makes code more portable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s easy access to "hard to program" user-interface elements and technologies, like Active technology, OLE, and Internet programm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C simplifies database programming through Data Access Objects (DAO) and Open Database Connectivity (ODBC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837F-DE51-4144-BE7D-40006B127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hy MFC?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network programming through Windows Socke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C makes it easy to program features like property sheets ("tab dialogs"), print preview, and floating, customizable toolba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D496-49C4-4CF7-88BE-581A2FE1D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Overview of MFC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C is a Class Library which has set of built in classe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applications on window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reating a window (SDI &amp; MDI), handling Dialogs,bitmaps,OLE (Object Linking &amp; Embedding) &amp; ODBC (Open Data Base Connectivit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C1AB-BDF8-4856-8099-79886CF1F9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Overview of MFC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provides Object Oriented Wrapper around the Windows AP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C has nearly 400 classes which can be directly used and some of them can be used as the base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8C10-3132-4879-AFCD-FFD799BF6C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eed of MFC class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 the process of building Window Based appl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new programm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 the API features to make them more accessi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5349-A5A8-46F0-8C37-52696B07DC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FC CLASS HIERACHY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oot Class for MFC is COb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two kinds of classes in MF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asses directly derived from CObjec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asses which are not derived from CObjec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fer pg. no: 18 &amp; 19 of Herbert Schildt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 MFC Class Hierarch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627B-CC2E-4F37-8EBE-12E200B89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1:54:30Z</dcterms:created>
  <dc:creator>Arun Kumar P</dc:creator>
  <dc:description/>
  <dc:language>en-US</dc:language>
  <cp:lastModifiedBy>CDAC</cp:lastModifiedBy>
  <cp:lastPrinted>2000-11-23T04:38:45Z</cp:lastPrinted>
  <dcterms:modified xsi:type="dcterms:W3CDTF">2002-01-03T08:24:23Z</dcterms:modified>
  <cp:revision>115</cp:revision>
  <dc:subject>Microsoft Foundation Classes</dc:subject>
  <dc:title>Chapter One</dc:title>
</cp:coreProperties>
</file>