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749F-4711-4618-B565-0E8738C60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58D3-CAAC-4BC4-AF13-5D39AC1F3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DBBA-55C8-4E8C-83BF-EB6232E5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44D3-DD3A-47CA-A11D-684CC2D52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D1BA-1705-4FC3-8897-95A7B4CFE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0941-78D5-4CD9-8133-D3B5F7992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2251-FC94-41CC-92B5-AA18B8F36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700D-E67E-461D-B054-5F0F1FD7A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8986-A88B-4B87-AAAD-A7B95B10C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7B6E-5C04-4593-A5F9-4D64AB9A6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A592-77FE-4C35-AD17-FCDD02244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937D-8588-46BE-9AA8-641E59AF4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3366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652-DCC2-4BA0-932D-E5EE7FDF1B59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9320" y="6173640"/>
          <a:ext cx="62208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0" y="6173640"/>
                    <a:ext cx="622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62120" y="6247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1698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TWO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Maps Mac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ice Contex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I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Pen, CBrush, CBitmap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Interface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StatusBar cla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ToolBar cla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3643-BE7B-47E6-BCCE-075598E4C1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mand Messag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include WM_COMMAND notification messages from user-interface objects-menus, toolbar buttons and accelerator key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ing of command messages by the framework is different from the processing of other mess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CA7C-94BC-4E4C-B95E-36D809748B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 Macro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_MESSAGE_MAP(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_MESSAGE_MAP(class,base 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_MESSAGE_MAP(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_COMMAND(Control ID,Handler Fun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M_CHAR ( 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Char( 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5B1B-6850-4662-986C-7D16FD0EA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 Macro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mouse related Message Map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N_WM_LBUTTONDOWN( 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nLButtonDown(UINT Flags, CPoint Loc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N_WM_LBUTTONUP( 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nLButtonUp(UINT Flags, CPoint Loc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N_WM_MOUSEMOVE( 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nMouseMove(UINT Flags, CPoint Loc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DC00-9D8B-4A01-A885-6A1971AC0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ructure that contains information about the drawing attributes of a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 between Windows-based application, a device driver and an output devi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rawing calls are made through the device context obj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A1A0-7651-4B0B-94A6-54267B6FD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a connection to an output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permission to draw on that devi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ice contexts allow device-independent drawing in Window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ice contexts are used to draw to the screen, the printer or to a metaf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DE76-E6F0-40F3-9AD0-15D9BE995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vice context functions as a drawing toolbox which contai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Attributes, which contain the background and foreground colors, text alignment, justification assorted origins and drawing mode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Tools: Which include Pens, Brushes, Fonts and Palettes.  At any point in time, only one pen, one brush and one font can be selected and used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rawing Position: certain drawings functions rely on the concepts of a current draw positions. The device context maintains a single current position poin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6AA2-E2BB-418F-9734-2939405E51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rder to change an attribu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eate a new too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elect the new tool into the Device Contex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old object will be returne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se various drawing function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elect the old tool back to the Device context to return the DC to the original state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EA22-06A9-4C9A-B22D-26FCD17FC0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ClientDC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MetaFileDC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PaintDC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WindowDC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C99B-CEA9-48F2-BB18-976EB5A6A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ClientD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d from the CDC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ime an access is to be made to the client area of the window; this class needs to be refer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rawing operations on the client area of the window are done through the member functions of the CClientDC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ED64-6E6E-4469-9D11-469AEB0DF5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PaintD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CDC cl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aintDC object must is used when processing the WM_PAINT messag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tructor of the CPaintDC class calls the BeginPaint API function and the destructor calls the EndPaint API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lientDC class cannot be used when processing the WM_PAINT message since it uses the GetDC and ReleaseDC functions and the BeginPaint and EndPaint must be called when processing the WM_PAINT mes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9E84-F101-44EE-ACFF-25C4CAF5EC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e Function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gistered window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ion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ORD Style = WS_OVERLAPPPED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T Rect=rectDefau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Wnd Parent =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STR MenuName =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parameters =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C9D4-315C-4A16-B231-2E30E8498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MetafileD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d from the CDC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es the handle to the device context of a metaf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member functions to work with a metafile device con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uch member functions ar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eate( 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ose( 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B4F6-1352-48C7-8E65-F1D000384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WindowDC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d from CDC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s the API functions GetWindowDC at construction ti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s ReleaseDC at destruction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 used by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D011-A11F-4E4A-A0D8-E060EBECAB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vice Contex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DC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veTo &amp; LineTo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ctangl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llips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electObjec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2EA5-8A8B-4235-BA6E-8A47AEEE9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GDI Objec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lass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Ha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Pen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P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Brush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BRU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Font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FO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Bitmap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BIT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4EE5-E375-45F0-B375-A96A06E1C6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r Interface Object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ontr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DialogBa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 toolbar like frame containing standard window controls which is created using a dialog template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StatusBa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 status bar broken into panes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ToolBa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 toolbar which displays bitmaps as buttons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BA29-BA81-4304-A9D2-2B7AD93899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Status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INT status[ ] = { 0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_INDICATOR_SCRL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_INDICATOR_CAP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_INDICATOR_NU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40DE-A999-4D49-80C8-803223F37A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Status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tatusBar sb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Window::MyWindow(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.Create(this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.SetIndicators(status,no of panes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PaneInfo(pane no,ID,style,widt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52AF-760D-4395-8DE5-C0AEC94158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Status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e Sty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PS_NOBOR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PS_POP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PS_DISAB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PS_STRE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PS_NORM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BB10-A214-4737-8EE8-6C5293F187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Status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.SetPaneText(pane no,“Text”,TR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D514-1141-4619-824E-7C62FB9ECA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Tool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oolBar tb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Window::MyWindow(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b.Create(this, styl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b.LoadToolBar(Resource Nam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4AA5-BB94-41ED-A566-FF120503D3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maps is a mechanism, which help trap windows messages and commands to window documents, views, and other objects in an MFC applic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 Windows messages, commands from menus, toolbar buttons, accelerators and control-notification messages to appropriate func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s handle the processing to be done when a message is receiv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B30D-8F84-4434-BDC4-04142B91C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ToolBar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olBar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_CHI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_VI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RS_TOP, CBRS_LEFT, CBRS_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RS_TOOLT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RS_FLY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RS_GRIP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6FE7-18C4-4F1D-A2A5-BF7AA8273D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C provides a collection of macros that specify which function will handle various messages for the clas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2A22-2C84-4074-BBD6-46157D8EB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ssages are got as a result of user-initiated ac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Bookman Old Style"/>
              </a:rPr>
              <a:t>For example: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Bookman Old Style"/>
              </a:rPr>
              <a:t>When the user clicks on the mouse, Windows sends several mouse-related messages to the application, such as WM_LBUTTONDOWN when the left mouse button is pressed and WM_LBUTTONUP when the left mouse button is released. The framework’s implementation of the application message loop dispatches the message to the appropriate window.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CACA-8A18-4588-B07C-8C5AE8BF3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 member function of the class CWinAp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messages and dispatches them to the appropriate window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and messages are sent to the main frame window of the application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8323-E0BD-42BC-9F1E-DEF684730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messages are usually handled directly by the target window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bject capable of receiving messages or commands has its own message map that pairs a message or command with the name of its handler- the function that performs a specific task on receipt of a mes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window or any other command-target object receives a message or command, it searches its message map for a mat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t finds a handler for the message, it calls the hand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0596-9CC6-4DBE-80B1-B5F6721350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ssage Map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three categories of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E110-9BEE-4E64-8EDD-D1BC17DD6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indow Message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primarily include messages beginning with the WM_ prefix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cept for WM_COMMAN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and views handle Windows mess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messages often have parameters that are used in determining how to handle the mess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6864-8492-44C2-8E64-A364367ACB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dc:language>en-US</dc:language>
  <cp:lastModifiedBy>CDAC</cp:lastModifiedBy>
  <cp:lastPrinted>2000-11-23T04:38:45Z</cp:lastPrinted>
  <dcterms:modified xsi:type="dcterms:W3CDTF">2002-01-03T13:53:09Z</dcterms:modified>
  <cp:revision>124</cp:revision>
  <dc:subject>Microsoft Foundation Classes</dc:subject>
  <dc:title>Chapter Two</dc:title>
</cp:coreProperties>
</file>