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embeddings/oleObject1.bin" ContentType="application/vnd.openxmlformats-officedocument.oleObject"/>
  <Override PartName="/ppt/media/image1.png" ContentType="image/png"/>
  <Override PartName="/ppt/media/image2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547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3B42D3-01DA-49DC-8A93-4FC011113CE4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858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9975EBA-1C60-4226-B67F-F5212962A9B6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858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68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81CF865-E3A4-455D-9E52-7A3FCFC3139F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31380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5941440" y="144792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6858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31380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5941440" y="3796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ABE8C4C-F8C1-4832-8513-AD8AD0D58C6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200A480-FF1A-4F5D-901D-A7468CEBEF3A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76835C-5F33-4A9B-8592-521ABF1ED5A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F4A47DF-20DD-4B0C-82A7-637975C16647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A98AA60-0AFB-42E9-A1A6-A91C47EE557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00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5EC4C5-9CDC-446D-9F0F-CA9EAE201E97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68580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0631C31-3326-4884-B8F1-0BCD41C930C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68480" y="3796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04B0F-623D-42C5-BC9A-071CFE9C026A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44792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685800" y="3796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9288163-034D-403D-98F3-EBC4799AC11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oleObject" Target="../embeddings/oleObject1.bin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 algn="just">
              <a:spcBef>
                <a:spcPts val="700"/>
              </a:spcBef>
              <a:buClr>
                <a:srgbClr val="3366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 algn="just">
              <a:spcBef>
                <a:spcPts val="700"/>
              </a:spcBef>
              <a:buClr>
                <a:srgbClr val="00cc66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 algn="just">
              <a:spcBef>
                <a:spcPts val="700"/>
              </a:spcBef>
              <a:buClr>
                <a:srgbClr val="ff9933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400" spc="-1" strike="noStrike">
                <a:solidFill>
                  <a:srgbClr val="cc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38880B-DB0A-4443-99EE-6281C06D3016}" type="slidenum">
              <a:rPr b="1" lang="en-US" sz="2400" spc="-1" strike="noStrike">
                <a:solidFill>
                  <a:srgbClr val="cc0000"/>
                </a:solidFill>
                <a:latin typeface="Arial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"/>
          <p:cNvSpPr/>
          <p:nvPr/>
        </p:nvSpPr>
        <p:spPr>
          <a:xfrm>
            <a:off x="0" y="1143000"/>
            <a:ext cx="9144000" cy="76320"/>
          </a:xfrm>
          <a:prstGeom prst="rect">
            <a:avLst/>
          </a:prstGeom>
          <a:solidFill>
            <a:srgbClr val="7979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"/>
          <p:cNvSpPr/>
          <p:nvPr/>
        </p:nvSpPr>
        <p:spPr>
          <a:xfrm>
            <a:off x="0" y="6095880"/>
            <a:ext cx="9144000" cy="76320"/>
          </a:xfrm>
          <a:prstGeom prst="rect">
            <a:avLst/>
          </a:prstGeom>
          <a:solidFill>
            <a:srgbClr val="7979ff"/>
          </a:solidFill>
          <a:ln w="9360">
            <a:solidFill>
              <a:srgbClr val="cc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5" name=""/>
          <p:cNvGraphicFramePr/>
          <p:nvPr/>
        </p:nvGraphicFramePr>
        <p:xfrm>
          <a:off x="49320" y="6173640"/>
          <a:ext cx="622080" cy="61452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6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49320" y="6173640"/>
                    <a:ext cx="622080" cy="614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7" name=""/>
          <p:cNvSpPr/>
          <p:nvPr/>
        </p:nvSpPr>
        <p:spPr>
          <a:xfrm>
            <a:off x="762120" y="6247440"/>
            <a:ext cx="4114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cc"/>
                </a:solidFill>
                <a:latin typeface="Arial"/>
              </a:rPr>
              <a:t>Learning Service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file:///samp01.cpp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hyperlink" Target="file:///samp02.cpp" TargetMode="External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file:///samp03.cpp" TargetMode="External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0" y="84240"/>
            <a:ext cx="1698480" cy="105876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HAPTER THREE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alog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odal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Modeless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ommon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ColorDialog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FontDialog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-228600" algn="just">
              <a:spcBef>
                <a:spcPts val="601"/>
              </a:spcBef>
              <a:buClr>
                <a:srgbClr val="3366ff"/>
              </a:buClr>
              <a:buFont typeface="Symbol" charset="2"/>
              <a:buChar char="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PrintDialog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446117-162D-4760-B337-147AE9085328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Handling Control Notification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notification sent depends on the type of contro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oosing the OK or the Cancel button causes Windows to send a BN_CLICKED control-notification message to the dialog object with the ID of the button, either IDOK or IDCANCE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5759B4-EB7B-49FD-9FC5-F43693A4DF3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Handling Control Notification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OK button is handled by the OnOK member function, which is its default handler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ame holds good for Cancel, the default handler for which is the OnCancel member fun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E07DA0C-B8EE-498B-B30E-A367AF9F9116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Modal Dialog Box Window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a dialog box is done by the DoModal member fun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is function creates the dialog box and displays i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creates a message loop that will handle the messages dispatched by the various controls in the dialog box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oop will be active until clicking on the OK or the Cancel buttons dismisses the dialog box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3A1C94-DDBB-4AF2-B82F-9A6F0ABE7519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Modal Dialog Box Window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wo basic return values from the DoModal member function are IDOK and IDCANCEL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ce a modal dialog box runs in an exclusive mode, the message loop is owned by the dialog box, and hence all other the user-interfaces are disabled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88EE11-4DF3-448A-8436-9EA547EE2D8A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Modal Dialog Box Window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de snippet in </a:t>
            </a:r>
            <a:r>
              <a:rPr b="1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amp01.cp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creates a modal dialog box when the user selects the menu option identified by ID_SAMP.  The code makes use of the derived class MyDialog that was defined earlier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E9BA10D-AF97-4042-AEA4-20A17AE8416A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Modal Dialog Box Window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ing a modal dialog box completes only half the assignmen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remaining half lies in handling the dismissal of the dialog box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ialog needs to tell the user whether the dialog was dismissed using the OK or the Cancel button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ntrol-notification handlers handle thi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F1372D-9232-411A-93E8-BF2BA503D32D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Dismissing a Modal Dialog Box Window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values in the dialog box controls should be ignored if the dialog box is dismissed using the Cancel pushbutt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type of processing at the time of dismissal is determined by the return value of the DoModal function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OK is the return value when OK pushbutton is u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CANCEL is the return value when the Cancel pushbutton is u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4B289B8-1CAC-4FCF-81CD-2512C540A1CB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990033"/>
                </a:solidFill>
                <a:latin typeface="Arial"/>
              </a:rPr>
              <a:t>Dismissing a Modal Dialog Box Window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de snippet in </a:t>
            </a:r>
            <a:r>
              <a:rPr b="1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amp02.cpp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 shows how a Modal Dialog box has to be dismissed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C5F1D6-31D7-4DC9-9735-BE55B212029B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Modeless Dialog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ince a modeless dialog box does not run in an exclusive mode, the application control does not remain within the message loop of the dialog box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Hence, the dialog object cannot be created locally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9480" indent="-3394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f this is done, when the program control returns from the dialog after the initialization, the dialog object will be cleaned up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44E38F-0451-4B36-8155-A120DF36FB74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a Modeless Dialog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o handle this constraint, you define a pointer to the CDialog-derived class in the CFrameWnd class as shown in the code snippet </a:t>
            </a:r>
            <a:r>
              <a:rPr b="1" lang="en-US" sz="2800" spc="-1" strike="noStrike" u="sng">
                <a:solidFill>
                  <a:srgbClr val="ccccff"/>
                </a:solidFill>
                <a:uFillTx/>
                <a:latin typeface="Arial"/>
                <a:hlinkClick r:id="rId1"/>
              </a:rPr>
              <a:t>samp03.cpp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e code, it is assumed that MyDialog had already been derived from the CDialog clas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606502E-715D-4DCF-B227-E9768C9D9CBB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ialog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steps involved in the creation of a dialog box are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Use the Microsoft Developer Studio’s resource editor to create the dialog box layout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Derive a class from the CDialog class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Create the dialog box window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d message handlers to initialize the controls in the dialog box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601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cc"/>
                </a:solidFill>
                <a:latin typeface="Arial"/>
              </a:rPr>
              <a:t>Add message handlers for the control notifications.</a:t>
            </a:r>
            <a:endParaRPr b="1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CC266FD-3B6B-4CC1-8F70-F5CEED16DB91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Dismissing a Modeless Dialog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Dismissing a modeless dialog box is a simple proces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dialog box, being a regular window, can be destroyed using the DestroyWindow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function returns a non-zero value if the window is destroyed; otherwise, it returns 0.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When a modeless dialog box is destroyed, all the controls and the child windows of the dialog box are also destroyed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FA531DC-3622-4706-A9FD-13ED1431B1C8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ommon Dialog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example in folder EX03 shows the usage of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ColorDialog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CFontDialog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2EB78D-D7D8-420F-9B2A-D5A1F0F51B61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Dialog Box Layou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ialog box layout identifies the controls to be included in the dialog box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yout describes the type and location of the controls in the dialog box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layout needs to be created for both modal as well as modeless dialog box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y are stored as dialog resourc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3CA8439-32BE-4CB9-AF78-16CB9945F68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Dialog Box Layout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l the controls defined in the dialog will appear with their minimum functionalit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For example,  The OK and Cancel controls will make the dialog box disappear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EB14986-F937-4A6B-B083-D9673FE64E8F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CDialog Derived Clas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reate the CDialog object to handle object to handle the messages of the dialog box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riving your own class from the CDialog class as illustrated in the code segment below does thi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class MyDialog : public CDialog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{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…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66ff"/>
                </a:solidFill>
                <a:latin typeface="Arial"/>
              </a:rPr>
              <a:t>};</a:t>
            </a:r>
            <a:endParaRPr b="1" lang="en-US" sz="2400" spc="-1" strike="noStrike">
              <a:solidFill>
                <a:srgbClr val="3366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FD7D65-868F-433A-880E-71C2083C781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reating CDialog Derived Clas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oing this helps in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stom initialization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ustom handl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dialog control-notification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just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186B1B-79DD-4241-8826-999A2C8BB00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ustom Initialization of Dialog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Unless the initial values are given to controls, all controls in the dialog box will be empty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fter the dialog box and all its controls are created, but before the dialog box appears on the screen, the OnInitDialog( ) member function is called response to the WM_INITDIALOG messag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C77DE1-F262-4E3F-8763-3E032A2BDB7E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Custom Initialization of Dialogs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 can override this function to initialize the dialog box’s controls so that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initial text for an edit box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default radio button 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 algn="just">
              <a:spcBef>
                <a:spcPts val="700"/>
              </a:spcBef>
              <a:buClr>
                <a:srgbClr val="0000cc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cc"/>
                </a:solidFill>
                <a:latin typeface="Arial"/>
              </a:rPr>
              <a:t>The default check box can be set.</a:t>
            </a:r>
            <a:endParaRPr b="1" lang="en-US" sz="2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function is called during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DoModal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 for a modal dialog box and the </a:t>
            </a: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Create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ll for a modeless dialog box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3EDB116-2FFE-4C50-AA73-32A558956C9C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33"/>
                </a:solidFill>
                <a:latin typeface="Arial"/>
              </a:rPr>
              <a:t>Handling Control Notifications </a:t>
            </a:r>
            <a:endParaRPr b="1" lang="en-US" sz="3200" spc="-1" strike="noStrike">
              <a:solidFill>
                <a:srgbClr val="9900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ust like menu items, dialog controls send WM_COMMAND message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controls-notification messages can thus be handled using message maps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00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henever the user interacts with a control in dialog box,  the control sends a notification message to the parent window.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9C1E2E-A976-418B-97C3-92697CD46E4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8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09T11:54:30Z</dcterms:created>
  <dc:creator>Arun Kumar P</dc:creator>
  <dc:description/>
  <dc:language>en-US</dc:language>
  <cp:lastModifiedBy>CDAC</cp:lastModifiedBy>
  <cp:lastPrinted>2000-11-23T04:38:45Z</cp:lastPrinted>
  <dcterms:modified xsi:type="dcterms:W3CDTF">2002-01-03T13:53:35Z</dcterms:modified>
  <cp:revision>131</cp:revision>
  <dc:subject>Microsoft Foundation Classes</dc:subject>
  <dc:title>Chapter Three</dc:title>
</cp:coreProperties>
</file>