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547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AB241-AE63-4D39-93D0-4A7F34FFC4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62120" y="365004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F1C22-DA3D-462D-AB93-FBA10903D4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40280" y="11426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62120" y="36500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40280" y="36500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6BF3C-426D-4E8C-A891-8556C41A23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19000" y="114264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75520" y="114264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762120" y="365004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19000" y="365004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75520" y="365004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D6E9B-9C6A-42BB-A53B-CB5680A61E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762120" y="11426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C73A3-9108-44D5-BD24-4ACB7808DF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8757F-568C-4920-8C3E-87365462CF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40280" y="114264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5D6BC-C920-4E3A-94ED-A64382B701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766DB-70F1-41E6-A44A-B43544FD20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762120" y="228240"/>
            <a:ext cx="80769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10D77-3660-43EE-A9D5-608F80ED96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40280" y="114264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62120" y="36500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A7310-719E-43BC-B0BD-B3E485EE57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40280" y="11426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40280" y="36500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41E14-D9C8-4F7C-9A1A-23328B040D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40280" y="11426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62120" y="365004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FD08A-6EB9-427F-B25B-350DCFF9DB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1426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cc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spcBef>
                <a:spcPts val="700"/>
              </a:spcBef>
              <a:buClr>
                <a:srgbClr val="cc009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just">
              <a:spcBef>
                <a:spcPts val="700"/>
              </a:spcBef>
              <a:buClr>
                <a:srgbClr val="339933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5317E-1E6A-4509-903C-172CD1D965D0}" type="slidenum">
              <a:rPr b="1" lang="en-US" sz="24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685800" y="6173640"/>
          <a:ext cx="622440" cy="614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6173640"/>
                    <a:ext cx="62244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"/>
          <p:cNvSpPr/>
          <p:nvPr/>
        </p:nvSpPr>
        <p:spPr>
          <a:xfrm>
            <a:off x="1398600" y="624744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Arial"/>
              </a:rPr>
              <a:t>Learning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609480" y="0"/>
            <a:ext cx="8534520" cy="6858000"/>
            <a:chOff x="609480" y="0"/>
            <a:chExt cx="8534520" cy="6858000"/>
          </a:xfrm>
        </p:grpSpPr>
        <p:sp>
          <p:nvSpPr>
            <p:cNvPr id="7" name=""/>
            <p:cNvSpPr/>
            <p:nvPr/>
          </p:nvSpPr>
          <p:spPr>
            <a:xfrm>
              <a:off x="689040" y="990720"/>
              <a:ext cx="8454960" cy="7596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9040" y="6019920"/>
              <a:ext cx="8454960" cy="7596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>
              <a:off x="609480" y="0"/>
              <a:ext cx="76320" cy="68580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"/>
          <p:cNvSpPr/>
          <p:nvPr/>
        </p:nvSpPr>
        <p:spPr>
          <a:xfrm rot="16200000">
            <a:off x="-2833200" y="313488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pperplate Gothic Bold"/>
              </a:rPr>
              <a:t>M</a:t>
            </a:r>
            <a:r>
              <a:rPr b="1" lang="en-US" sz="3200" spc="-1" strike="noStrike">
                <a:solidFill>
                  <a:srgbClr val="006600"/>
                </a:solidFill>
                <a:latin typeface="Copperplate Gothic Bold"/>
              </a:rPr>
              <a:t>icrosoft </a:t>
            </a:r>
            <a:r>
              <a:rPr b="1" lang="en-US" sz="3200" spc="-1" strike="noStrike">
                <a:solidFill>
                  <a:srgbClr val="9900cc"/>
                </a:solidFill>
                <a:latin typeface="Copperplate Gothic Bold"/>
              </a:rPr>
              <a:t>F</a:t>
            </a:r>
            <a:r>
              <a:rPr b="1" lang="en-US" sz="3200" spc="-1" strike="noStrike">
                <a:solidFill>
                  <a:srgbClr val="006600"/>
                </a:solidFill>
                <a:latin typeface="Copperplate Gothic Bold"/>
              </a:rPr>
              <a:t>oundation </a:t>
            </a:r>
            <a:r>
              <a:rPr b="1" lang="en-US" sz="3200" spc="-1" strike="noStrike">
                <a:solidFill>
                  <a:srgbClr val="9900cc"/>
                </a:solidFill>
                <a:latin typeface="Copperplate Gothic Bold"/>
              </a:rPr>
              <a:t>C</a:t>
            </a:r>
            <a:r>
              <a:rPr b="1" lang="en-US" sz="3200" spc="-1" strike="noStrike">
                <a:solidFill>
                  <a:srgbClr val="006600"/>
                </a:solidFill>
                <a:latin typeface="Copperplate Gothic Bold"/>
              </a:rPr>
              <a:t>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Collection1/Collection1.dsw" TargetMode="External"/><Relationship Id="rId2" Type="http://schemas.openxmlformats.org/officeDocument/2006/relationships/hyperlink" Target="file:///Collection1/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Collection1/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CHAPTER FIVE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rializ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lection Clas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mplate Clas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chive and CFile clas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0120" y="41400"/>
            <a:ext cx="1523880" cy="94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63F88-2E53-4AD8-A35F-866D92A96CC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CDocTemplate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The application has one document template for each type of document that it supports.</a:t>
            </a:r>
            <a:endParaRPr b="1" lang="en-US" sz="26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For example if the application can open text files and spread-sheets then the application should consist of one document each for a text file and spreadsheet.</a:t>
            </a:r>
            <a:endParaRPr b="1" lang="en-US" sz="26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Each Document template is responsible for creating, and managing all the documents of its type.</a:t>
            </a:r>
            <a:endParaRPr b="1" lang="en-US" sz="2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E9CFF-9B35-4B9E-828F-56EC7C89B7E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CDocTemplate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Document Template stores pointers to the CRuntimeClass objects o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Document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View and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Frame Window classes.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AA42E-9503-4063-865E-DAB835BF15E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CDocTemplate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Document Template will also contain the Resources ID. The ID is to be same f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Menu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Icon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Accelerator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String Table Entry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cc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Document Type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cc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File Extension used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C963D-1A02-4C01-A9DE-E3F1BE1B7D3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CDocTemplate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caus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DocTemplat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s an abstract class, you cannot directly create an objec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typical application would use one of the derived clas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CSingleDocTemplate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(SDI)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SMultiDocTemplate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(MDI)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4E970-419C-49E6-8A99-4EF3059BF9A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Disk I/O using CFile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Fil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s the base class for MFC file class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directly provides input/output services which 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Unbuffered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Binary / Text Format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works with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Archiv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for Serialization of MFC Object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disk file is opened o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Fil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onstruction and closed during destr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A5429-31FA-4DB2-A922-54F7C436D63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Disk I/O using CFile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next program shows how to us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Fil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ld be used for Disk Input/Outpu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Project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Collection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Path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Collection3\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Demonstrates usage of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cc"/>
                </a:solidFill>
                <a:latin typeface="Courier New"/>
              </a:rPr>
              <a:t>CStringArray</a:t>
            </a:r>
            <a:endParaRPr b="1" lang="en-US" sz="26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cc"/>
                </a:solidFill>
                <a:latin typeface="Courier New"/>
              </a:rPr>
              <a:t>CFile</a:t>
            </a:r>
            <a:endParaRPr b="1" lang="en-US" sz="2600" spc="-1" strike="noStrike">
              <a:solidFill>
                <a:srgbClr val="0000cc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700DC-CF4E-4DEB-A09B-A486376F803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Disk I/O using CFile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next program shows how to us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Archiv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ld be used for Disk Input/Outpu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Project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Collection4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Path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Collection4\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Demonstrates usage of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cc"/>
                </a:solidFill>
                <a:latin typeface="Courier New"/>
              </a:rPr>
              <a:t>CStringArray</a:t>
            </a:r>
            <a:endParaRPr b="1" lang="en-US" sz="26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cc"/>
                </a:solidFill>
                <a:latin typeface="Courier New"/>
              </a:rPr>
              <a:t>CFile</a:t>
            </a:r>
            <a:endParaRPr b="1" lang="en-US" sz="26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urier New"/>
              </a:rPr>
              <a:t>CArchive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4F597-5B7B-442F-84EA-3901A09D0BF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Serialization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s can be persisten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object can remember its state, when the program goes out of scop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istence is achieved by saving and restoring to and from a disk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 the object takes care of this process it is known as serializ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6EA09-4032-462B-8BD9-7378ECE5A2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Collection Classes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often need to create several objects of the same typ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example, in a program that sorts integers, we might need to store hundreds of integer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such situations rather than having hundreds of variables, Collection classes are use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B0066-2FAF-44AA-B642-8E7DF9C010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Collection Classes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sic collection classes includ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Arrays</a:t>
            </a:r>
            <a:endParaRPr b="1" lang="en-US" sz="26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Lists and</a:t>
            </a:r>
            <a:endParaRPr b="1" lang="en-US" sz="26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Maps</a:t>
            </a:r>
            <a:endParaRPr b="1" lang="en-US" sz="26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Array class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Array is an object which is capable of holding several objects of a specified type.</a:t>
            </a:r>
            <a:endParaRPr b="1" lang="en-US" sz="26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Each of the individual members of the array can be accessed using an index.</a:t>
            </a:r>
            <a:endParaRPr b="1" lang="en-US" sz="2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B5385-F5CD-412B-AEC8-34DC540CE9C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The class CStringArray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s class is used to create an array of CString Objects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 addition, it also provides with member  functions, which allows manipulation of these objects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649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Use </a:t>
            </a:r>
            <a:r>
              <a:rPr b="1" lang="en-US" sz="2600" spc="-1" strike="noStrike">
                <a:solidFill>
                  <a:srgbClr val="0000cc"/>
                </a:solidFill>
                <a:latin typeface="Courier New"/>
              </a:rPr>
              <a:t>&lt;afxcoll.h&gt;</a:t>
            </a: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 in for using </a:t>
            </a:r>
            <a:r>
              <a:rPr b="1" lang="en-US" sz="2600" spc="-1" strike="noStrike">
                <a:solidFill>
                  <a:srgbClr val="0000cc"/>
                </a:solidFill>
                <a:latin typeface="Courier New"/>
              </a:rPr>
              <a:t>CStringArray</a:t>
            </a:r>
            <a:endParaRPr b="1" lang="en-US" sz="2600" spc="-1" strike="noStrike">
              <a:solidFill>
                <a:srgbClr val="0000cc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Project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Collection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Path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6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Collection1\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Demonstrat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649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CStringArray</a:t>
            </a:r>
            <a:endParaRPr b="1" lang="en-US" sz="2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81439-983B-46A4-A03A-31C4BFDDF5B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The class CStringArray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next program shows how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StringArra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ould be used store user input rather than Programmatic String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Project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Collection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Path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Collection2</a:t>
            </a:r>
            <a:r>
              <a:rPr b="1" lang="en-GB" sz="2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\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Demonstrat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CStringArray</a:t>
            </a:r>
            <a:endParaRPr b="1" lang="en-US" sz="26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Child Window Controls</a:t>
            </a:r>
            <a:endParaRPr b="1" lang="en-US" sz="2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56C18-3360-4757-B088-E10BD117230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CDocTemplate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ocTemplate is an abstract base class that defines the basic functionality for document templat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create one or more document templates in 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itInstanc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function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004D9-CF31-4736-95CB-6B969A8D33F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CDocTemplate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Document Template defines the relationship between three class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A document class, which you derive from CDocument.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A view class, which displays data from the document class.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2" marL="1108440" indent="-221400" algn="just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You can derive this class from 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  <a:p>
            <a:pPr lvl="3" marL="1551960" indent="-221400" algn="just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CView</a:t>
            </a:r>
            <a:endParaRPr b="1" lang="en-US" sz="2800" spc="-1" strike="noStrike">
              <a:solidFill>
                <a:srgbClr val="cc0099"/>
              </a:solidFill>
              <a:latin typeface="Arial"/>
            </a:endParaRPr>
          </a:p>
          <a:p>
            <a:pPr lvl="3" marL="1551960" indent="-221400" algn="just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CScrollView</a:t>
            </a:r>
            <a:endParaRPr b="1" lang="en-US" sz="2800" spc="-1" strike="noStrike">
              <a:solidFill>
                <a:srgbClr val="cc0099"/>
              </a:solidFill>
              <a:latin typeface="Arial"/>
            </a:endParaRPr>
          </a:p>
          <a:p>
            <a:pPr lvl="3" marL="1551960" indent="-221400" algn="just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CFormView</a:t>
            </a:r>
            <a:endParaRPr b="1" lang="en-US" sz="2800" spc="-1" strike="noStrike">
              <a:solidFill>
                <a:srgbClr val="cc0099"/>
              </a:solidFill>
              <a:latin typeface="Arial"/>
            </a:endParaRPr>
          </a:p>
          <a:p>
            <a:pPr lvl="3" marL="1551960" indent="-221400" algn="just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CEditView</a:t>
            </a:r>
            <a:endParaRPr b="1" lang="en-US" sz="28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365E5-0ED8-4D16-8959-B7F41B22D8D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CDocTemplate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0663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-271440" algn="just"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A Frame Window class which contains the view.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2" marL="1085760" indent="-217080" algn="just">
              <a:spcBef>
                <a:spcPts val="700"/>
              </a:spcBef>
              <a:buClr>
                <a:srgbClr val="cc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For Single Document Interface (SDI) applications you derive this class from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FrameWnd</a:t>
            </a: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085760" indent="-217080" algn="just">
              <a:spcBef>
                <a:spcPts val="700"/>
              </a:spcBef>
              <a:buClr>
                <a:srgbClr val="cc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For Multiple Document Interface (MDI) applications you derive this class from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MDIChildWnd</a:t>
            </a: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085760" indent="-217080" algn="just">
              <a:spcBef>
                <a:spcPts val="700"/>
              </a:spcBef>
              <a:buClr>
                <a:srgbClr val="cc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If you do not require any customizations then you can use the above mentioned classes directly.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BFB2B-9E8C-4427-9867-3223F6CA01F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9T11:54:30Z</dcterms:created>
  <dc:creator>Arun Kumar P</dc:creator>
  <dc:description/>
  <cp:keywords>Collection Classes</cp:keywords>
  <dc:language>en-US</dc:language>
  <cp:lastModifiedBy>CDAC</cp:lastModifiedBy>
  <cp:lastPrinted>2000-11-23T04:38:45Z</cp:lastPrinted>
  <dcterms:modified xsi:type="dcterms:W3CDTF">2002-01-03T13:48:30Z</dcterms:modified>
  <cp:revision>183</cp:revision>
  <dc:subject>Microsoft Foundation Classes</dc:subject>
  <dc:title>Chapter Five</dc:title>
</cp:coreProperties>
</file>