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547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763BB-55FD-4BF7-99EA-B8F7AF4307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796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95934-8554-4743-AD9B-2FAEC0DE6E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4A4BF-3175-418D-A47A-33D41371A7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7E6E8-3069-45C0-A49E-5CA6C02639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3E464-6E12-41F9-B43B-43D5A30689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37803-2673-4165-91E1-B544D2F6C5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53B06-BCFF-4104-9690-5B9DB2EB7B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C66B6-D22D-40D6-A84E-17704E7316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11CB4-735A-4917-810C-7D0637A3FA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2E1FD-D91F-41F8-8798-C594EEA31D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9699A-AA71-4A59-863B-8D0809A3BA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796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22107-CAF4-4375-A96D-ECDCD03068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3366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700"/>
              </a:spcBef>
              <a:buClr>
                <a:srgbClr val="00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just">
              <a:spcBef>
                <a:spcPts val="700"/>
              </a:spcBef>
              <a:buClr>
                <a:srgbClr val="ff99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8786-B871-4F9A-BACE-7C1FD17AFB93}" type="slidenum">
              <a:rPr b="1" lang="en-US" sz="24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solidFill>
            <a:srgbClr val="7979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095880"/>
            <a:ext cx="9144000" cy="76320"/>
          </a:xfrm>
          <a:prstGeom prst="rect">
            <a:avLst/>
          </a:prstGeom>
          <a:solidFill>
            <a:srgbClr val="7979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49320" y="6173640"/>
          <a:ext cx="622080" cy="61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320" y="6173640"/>
                    <a:ext cx="62208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762120" y="624744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Learning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samp01.cpp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samp02.cpp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samp03.cpp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samp04.cpp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samp06.cpp" TargetMode="Externa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84240"/>
            <a:ext cx="1698480" cy="10587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HAPTER SIX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cument View Architec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ng a Document View Frame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797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79ff"/>
                </a:solidFill>
                <a:latin typeface="Arial"/>
              </a:rPr>
              <a:t>Document - CDocum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797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79ff"/>
                </a:solidFill>
                <a:latin typeface="Arial"/>
              </a:rPr>
              <a:t>View - CView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797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79ff"/>
                </a:solidFill>
                <a:latin typeface="Arial"/>
              </a:rPr>
              <a:t>Frame Window - Frame Window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797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79ff"/>
                </a:solidFill>
                <a:latin typeface="Arial"/>
              </a:rPr>
              <a:t>Application - CWinApp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SDI Application using C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C946A-85A0-4989-BC95-3E0E933869D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Document View Architecture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E_DYNACREATE(class name) must be use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si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class declar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_DYNCREATE(class name, base class name) must be use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utsi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class declaration (i.e. implementa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mbination of these two enable the class to be used as a parameter in the RUNTIME_CLASS macro as shown below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TIME_CLASS(class nam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TIME_CLASS returns a pointer to a CRunTime class structure that is associated with the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83511-545F-4CB1-A74B-A46C13905B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reating a Document View Framework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rive your own application, frame window, document and view cl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able dynamic creation of frame window, document and view class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a template that binds together the frame window, document and view cl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se and process the command 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load functions li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bject::Serialize( 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View::OnDraw( 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EEB18-91E3-46A5-9A89-B6FC6807FF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reating a Document View Framework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rive the application cla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To be derived from CWinApp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This class need not be enabled for dynamic creation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E79EE-7CE6-4674-8963-5C831529BB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reating a Document View Framework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rive the frame window clas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To be derived from CFrameWnd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Must be enabled for dynamic creation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keletal class derived from CFrameWnd present in </a:t>
            </a:r>
            <a:r>
              <a:rPr b="1" lang="en-US" sz="2800" spc="-1" strike="noStrike" u="sng">
                <a:solidFill>
                  <a:srgbClr val="6600ff"/>
                </a:solidFill>
                <a:uFillTx/>
                <a:latin typeface="Arial"/>
                <a:hlinkClick r:id="rId1"/>
              </a:rPr>
              <a:t>samp01.cpp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0C0EF-CB58-47BC-BDF1-F4295864F8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reating a Document View Framework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rive the Document cla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s derived from CDocum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ust be enable for dynamic crea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ill handle any commands that affect the docum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e following functions need to be overridde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virtual BOOL CDocument::OnNewDocument()</a:t>
            </a: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void CObject::Serialize(CArchive &amp;arch)</a:t>
            </a: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keletal class present in </a:t>
            </a:r>
            <a:r>
              <a:rPr b="1" lang="en-US" sz="2400" spc="-1" strike="noStrike" u="sng">
                <a:solidFill>
                  <a:srgbClr val="6600ff"/>
                </a:solidFill>
                <a:uFillTx/>
                <a:latin typeface="Arial"/>
                <a:hlinkClick r:id="rId1"/>
              </a:rPr>
              <a:t>samp02.cpp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1A8DE-D633-4A8D-9F76-5B9D5E11F0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reating a Document View Framework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rive the view cla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s derived form CView or a class that is derived from CView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ust be enabled for dynamic crea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e view window overlays the frame window’s client area.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e view relies on the frame for basic window functions such as minimize, maximize and resiz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is class handles the user interaction that affects the view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EE202-12FB-4EE3-A3CC-01FE26962D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reating a Document View Framework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rive the view class (contd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tains many member functio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hould override the OnDraw( ) func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nDraw( ) is called whenever the view has to be update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nDraw( ) is similar to OnPaint( ) in A/W style program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C8433-8AE6-4791-B868-39F888AD75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reating a Document View Framework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rive the view class (contd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nDraw( ) has the following prototyp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virtual void CView::OnDraw(CDC *DC)</a:t>
            </a: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ince the device context is passed no need to get the device context manuall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keletal of the view class is present in </a:t>
            </a:r>
            <a:r>
              <a:rPr b="1" lang="en-US" sz="2400" spc="-1" strike="noStrike" u="sng">
                <a:solidFill>
                  <a:srgbClr val="6600ff"/>
                </a:solidFill>
                <a:uFillTx/>
                <a:latin typeface="Arial"/>
                <a:hlinkClick r:id="rId1"/>
              </a:rPr>
              <a:t>samp03.cpp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5BD80-2C44-4762-9C71-245425519F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reating a Document View Framework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able Dynamic Cre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cluding the DECLARE_DYNAMIC in the derived classes is step on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tep two is include the IMPLEMENT_DYNAMIC macro in the implementa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n example is present in </a:t>
            </a:r>
            <a:r>
              <a:rPr b="1" lang="en-US" sz="2400" spc="-1" strike="noStrike" u="sng">
                <a:solidFill>
                  <a:srgbClr val="6600ff"/>
                </a:solidFill>
                <a:uFillTx/>
                <a:latin typeface="Arial"/>
                <a:hlinkClick r:id="rId1"/>
              </a:rPr>
              <a:t>samp04.cpp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E0EA9-230A-4646-8C1C-C712C4E397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reating a Document View Framework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ng a Document Templ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e template links together the document, view and frame window class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llows the classes to work as a single uni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wo kinds of templates are pres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3366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Single Document Template</a:t>
            </a: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3366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Multiple Document Template</a:t>
            </a: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84A59-79C7-43F4-BA0A-6E201FB3C92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Document View Architecture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lications written previously are called the application/view approa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rrors the way the that traditional i.e. non MFC programs used to be writt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 difference is that MFC automates and masks many details that a non MFC programmer must handle explicitl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1DF8D-9BDF-4282-A361-2EB170313E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reating a Document View Framework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ng a Document Template (contd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ingle Document Template is an object of CSingleDocTemplate class.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e only member of this class we need to use is the constructor.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A4907-403B-4D33-AC5F-3803452687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reating a Document View Framework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ng a Document Template (contd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e syntax of the constructor is shown below: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ff"/>
                </a:solidFill>
                <a:latin typeface="Arial"/>
              </a:rPr>
              <a:t>CSingleDocTemplate::CSingleDocTemplate(</a:t>
            </a:r>
            <a:endParaRPr b="1" lang="en-US" sz="22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66ff"/>
                </a:solidFill>
                <a:latin typeface="Arial"/>
              </a:rPr>
              <a:t>UINT ID,</a:t>
            </a:r>
            <a:endParaRPr b="1" lang="en-US" sz="22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66ff"/>
                </a:solidFill>
                <a:latin typeface="Arial"/>
              </a:rPr>
              <a:t>CRuntimeClass *Document,</a:t>
            </a:r>
            <a:endParaRPr b="1" lang="en-US" sz="22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66ff"/>
                </a:solidFill>
                <a:latin typeface="Arial"/>
              </a:rPr>
              <a:t>CRuntimeClass *FrameWindow,</a:t>
            </a:r>
            <a:endParaRPr b="1" lang="en-US" sz="22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66ff"/>
                </a:solidFill>
                <a:latin typeface="Arial"/>
              </a:rPr>
              <a:t>CRuntimeClass *View);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66ff"/>
              </a:solidFill>
              <a:latin typeface="Arial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40858-2A17-4022-B633-3D51015ED8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reating a Document View Framework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ng a Document Template (contd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ere ID refers to the identifier of the resources used by the template fo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3366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3366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Accelerator Table</a:t>
            </a: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3366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Icon</a:t>
            </a: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tring resource</a:t>
            </a: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ocument, Frame Window and View are pointers obtained by using the RUNTIME class Macro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50CCD-2717-4C59-85A1-2B84464EC4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reating a Document View Framework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ring resource should contain strings in order show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524"/>
              </a:spcBef>
              <a:buClr>
                <a:srgbClr val="3366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66ff"/>
                </a:solidFill>
                <a:latin typeface="Arial"/>
              </a:rPr>
              <a:t>The title of the window</a:t>
            </a:r>
            <a:endParaRPr b="1" lang="en-US" sz="21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 algn="just">
              <a:spcBef>
                <a:spcPts val="524"/>
              </a:spcBef>
              <a:buClr>
                <a:srgbClr val="3366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66ff"/>
                </a:solidFill>
                <a:latin typeface="Arial"/>
              </a:rPr>
              <a:t>The default document name. “Untitled” is used if not specified</a:t>
            </a:r>
            <a:endParaRPr b="1" lang="en-US" sz="21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 algn="just">
              <a:spcBef>
                <a:spcPts val="524"/>
              </a:spcBef>
              <a:buClr>
                <a:srgbClr val="3366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66ff"/>
                </a:solidFill>
                <a:latin typeface="Arial"/>
              </a:rPr>
              <a:t>The name of the document type.(Mostly used if the application supports multiple documents)</a:t>
            </a:r>
            <a:endParaRPr b="1" lang="en-US" sz="21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 algn="just">
              <a:spcBef>
                <a:spcPts val="524"/>
              </a:spcBef>
              <a:buClr>
                <a:srgbClr val="3366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66ff"/>
                </a:solidFill>
                <a:latin typeface="Arial"/>
              </a:rPr>
              <a:t>The name of the file filter shown in the “Files of type” drop down list</a:t>
            </a:r>
            <a:endParaRPr b="1" lang="en-US" sz="21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 algn="just">
              <a:spcBef>
                <a:spcPts val="524"/>
              </a:spcBef>
              <a:buClr>
                <a:srgbClr val="3366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66ff"/>
                </a:solidFill>
                <a:latin typeface="Arial"/>
              </a:rPr>
              <a:t>The file filter extension such as .txt</a:t>
            </a:r>
            <a:endParaRPr b="1" lang="en-US" sz="21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 algn="just">
              <a:spcBef>
                <a:spcPts val="524"/>
              </a:spcBef>
              <a:buClr>
                <a:srgbClr val="3366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66ff"/>
                </a:solidFill>
                <a:latin typeface="Arial"/>
              </a:rPr>
              <a:t>The file name identifier for use in the system registry</a:t>
            </a:r>
            <a:endParaRPr b="1" lang="en-US" sz="21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 algn="just">
              <a:spcBef>
                <a:spcPts val="524"/>
              </a:spcBef>
              <a:buClr>
                <a:srgbClr val="3366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66ff"/>
                </a:solidFill>
                <a:latin typeface="Arial"/>
              </a:rPr>
              <a:t>The name of the document file type for use in the system registry</a:t>
            </a:r>
            <a:endParaRPr b="1" lang="en-US" sz="21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CFBFF-FC4E-4DA0-BBE2-5F59A6B1C5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reating a Document View Framework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itializing the appl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e above steps are to be performed in the application class in the InitInstance( ) func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 sample function is shown in </a:t>
            </a:r>
            <a:r>
              <a:rPr b="1" lang="en-US" sz="2400" spc="-1" strike="noStrike" u="sng">
                <a:solidFill>
                  <a:srgbClr val="6600ff"/>
                </a:solidFill>
                <a:uFillTx/>
                <a:latin typeface="Arial"/>
                <a:hlinkClick r:id="rId1"/>
              </a:rPr>
              <a:t>samp06.cpp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5B875-FECD-4611-BB08-91A10AD89EE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reating a Document View Framework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ing and Retrieving docu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55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Arial"/>
              </a:rPr>
              <a:t>One of the impressive aspects of the D/V architecture is the ease in which you can save and load documents to and from the disk</a:t>
            </a:r>
            <a:endParaRPr b="1" lang="en-US" sz="2200" spc="-1" strike="noStrike">
              <a:solidFill>
                <a:srgbClr val="0000cc"/>
              </a:solidFill>
              <a:latin typeface="Arial"/>
            </a:endParaRPr>
          </a:p>
          <a:p>
            <a:pPr lvl="1" marL="720720" indent="-277200" algn="just">
              <a:spcBef>
                <a:spcPts val="55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Arial"/>
              </a:rPr>
              <a:t>The two reasons are</a:t>
            </a:r>
            <a:endParaRPr b="1" lang="en-US" sz="2200" spc="-1" strike="noStrike">
              <a:solidFill>
                <a:srgbClr val="0000cc"/>
              </a:solidFill>
              <a:latin typeface="Arial"/>
            </a:endParaRPr>
          </a:p>
          <a:p>
            <a:pPr lvl="2" marL="1108440" indent="-221400" algn="just">
              <a:spcBef>
                <a:spcPts val="550"/>
              </a:spcBef>
              <a:buClr>
                <a:srgbClr val="3366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ff"/>
                </a:solidFill>
                <a:latin typeface="Arial"/>
              </a:rPr>
              <a:t>CObject function contains the Serialize function which is called automatically when a document has to be loaded or saved</a:t>
            </a:r>
            <a:endParaRPr b="1" lang="en-US" sz="2200" spc="-1" strike="noStrike">
              <a:solidFill>
                <a:srgbClr val="3366ff"/>
              </a:solidFill>
              <a:latin typeface="Arial"/>
            </a:endParaRPr>
          </a:p>
          <a:p>
            <a:pPr lvl="2" marL="1108440" indent="-221400" algn="just">
              <a:spcBef>
                <a:spcPts val="550"/>
              </a:spcBef>
              <a:buClr>
                <a:srgbClr val="3366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ff"/>
                </a:solidFill>
                <a:latin typeface="Arial"/>
              </a:rPr>
              <a:t>MFC defines the CArchive class which automates the file handling involved. The CArchive is overloaded with &lt;&lt; and &gt;&gt; i/o operators for the built in data types and for classes in the MFC hierarchy.</a:t>
            </a:r>
            <a:endParaRPr b="1" lang="en-US" sz="2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32138-022A-4CC2-8838-4C4944D1503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reating a Document View Framework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ing and Retrieving documents (contd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Arial"/>
              </a:rPr>
              <a:t>In a D/V program, CObject::Serialize is called when a document is saved or loaded.</a:t>
            </a:r>
            <a:endParaRPr b="1" lang="en-US" sz="2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Arial"/>
              </a:rPr>
              <a:t>The functions declaration is </a:t>
            </a:r>
            <a:endParaRPr b="1" lang="en-US" sz="22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ff"/>
                </a:solidFill>
                <a:latin typeface="Arial"/>
              </a:rPr>
              <a:t>virtual void CObject::Serialize(CArchive &amp;ar);</a:t>
            </a:r>
            <a:endParaRPr b="1" lang="en-US" sz="2200" spc="-1" strike="noStrike">
              <a:solidFill>
                <a:srgbClr val="3366ff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Arial"/>
              </a:rPr>
              <a:t>ar is an object of type CArchive which is used for archiving the document</a:t>
            </a:r>
            <a:endParaRPr b="1" lang="en-US" sz="2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Arial"/>
              </a:rPr>
              <a:t>The functions IsLoading( ) and IsStoring( ) are return true when the document has to be loaded or stored respectively</a:t>
            </a:r>
            <a:endParaRPr b="1" lang="en-US" sz="2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34B1A-AC92-480E-B977-99E97F9556C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reating a Document View Framework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Important CDocument member fun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pdateAllViews( 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3366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Whenever the document has changed the application should call UpdateAllViews( )</a:t>
            </a:r>
            <a:endParaRPr b="1" lang="en-US" sz="20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3366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This function causes all the all the view classes linked to the document be notified</a:t>
            </a:r>
            <a:endParaRPr b="1" lang="en-US" sz="20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0" algn="just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66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tModifiedFlag( 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3366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Whenever the document has been changed you must call CDocument::SetModifiedFlag(TRUE)</a:t>
            </a:r>
            <a:endParaRPr b="1" lang="en-US" sz="20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3366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The user will be prompted to save the document before the window is destroyed</a:t>
            </a:r>
            <a:endParaRPr b="1" lang="en-US" sz="20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CCC33-10C1-49FE-BF69-9D11961B69C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reating a Document View Framework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mportant member of CView is GetDocument(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function returns a pointer top the CDocument object that is linked to the vie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frequently when the view needs to access the docu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type of the function 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Document *CView::GetDocument( ) const;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64F70-456A-44AA-9493-429D38D6B73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reating a Document View Framework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cument View architecture manages many of the common tasks associated with any program, such as opening and closing files, saving files and printing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the same MFC has defined several standard Ids when received are automatically linked to the fun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71F75-35DA-4C25-B101-F6BD2DACD95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Document View Architecture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application/window program does not take full advantage of what a class based Windows interface can provid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example the data to be displayed and the displaying mechanism is intertwined in the same class i.e. derived from CFrameW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6A4EE-3DA1-467D-B6A2-0C539AC469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reating a Document View Framework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11360" y="1494000"/>
          <a:ext cx="7691400" cy="442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494000"/>
                    <a:ext cx="7691400" cy="44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A5223-2F11-439D-BF3B-430D2DC7E90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reating a Document View Framework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003320" y="1595520"/>
          <a:ext cx="7466040" cy="450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3320" y="1595520"/>
                    <a:ext cx="746604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7B255-0193-45A3-99DD-F27CC054799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reating a Document View Framework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20720" y="1494000"/>
          <a:ext cx="7954920" cy="465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1494000"/>
                    <a:ext cx="7954920" cy="46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CB426-9A03-46E0-AA85-4642FF125F8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reating a Document View Framework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Document View architecture application present in EX07 fol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C0EE0-262E-45B0-B1EA-6837FD1CC60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Document View Architecture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Document View application works different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The data (i.e. the Document) is separated from the presentation (i.e the View) of the data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chieved by encapsulating the data within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Document class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and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Encapsulating the mechanism that displays the data within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View class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B2D39-CD97-4094-9B8E-9CBB81E3A0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Document View Architecture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a document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 document is the data associated with your program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a view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 view is a physical representation of data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E0336-6034-487E-8A34-08A1C85BC5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Document View Architecture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example: if the application is a clock the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The time stored in memory/disk is the document.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The display of the same is the view. It could be displayed as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108440" indent="-221400" algn="just">
              <a:spcBef>
                <a:spcPts val="601"/>
              </a:spcBef>
              <a:buClr>
                <a:srgbClr val="3366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12 hrs analog clock</a:t>
            </a: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lvl="2" marL="1108440" indent="-221400" algn="just">
              <a:spcBef>
                <a:spcPts val="601"/>
              </a:spcBef>
              <a:buClr>
                <a:srgbClr val="3366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24 hrs analog clock</a:t>
            </a: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lvl="2" marL="1108440" indent="-221400" algn="just">
              <a:spcBef>
                <a:spcPts val="601"/>
              </a:spcBef>
              <a:buClr>
                <a:srgbClr val="3366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12 hrs digital clock </a:t>
            </a: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lvl="2" marL="1108440" indent="-221400" algn="just">
              <a:spcBef>
                <a:spcPts val="601"/>
              </a:spcBef>
              <a:buClr>
                <a:srgbClr val="3366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24 hrs digital clock</a:t>
            </a: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4B18F-C139-471F-8875-2979E4E58B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Document View Architecture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lasses needed for a document view pro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 class derived from CDocum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 class derived from CView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 class derived from CFrameWnd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 class derived from CWinApp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hough classes derived from CFrameWnd and CWinApp is required their play is diminish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lass derived from CFrameWnd will still be responsible for creation of the window. But it is overlaid by a view created by the class derived from C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1C708-593A-4331-AA71-7624DA4D95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Document View Architecture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ument/View manages Document Stor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ocument/View classes of MFC automate the storage of documents to disk files.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echnically called as serialization.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cept of serialization is for persisten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31480" indent="-226080" algn="just">
              <a:spcBef>
                <a:spcPts val="601"/>
              </a:spcBef>
              <a:buClr>
                <a:srgbClr val="3366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Persistence means storing of the objects state for the purpose of retrieving the same later</a:t>
            </a: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marL="339480" indent="-339480" algn="just">
              <a:spcBef>
                <a:spcPts val="550"/>
              </a:spcBef>
              <a:buClr>
                <a:srgbClr val="ff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Even if the program has classes derived from CDocument &amp; CView but does not support object persistence, then it is not a Document/View appli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40E5D-3469-4BB7-9BCD-8A1D894B50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Document View Architecture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 Cre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D/V program objects are created dynamical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cessary because D/V objects need to be created when the document is loaded from the disk and the view is newly form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enable the same the following macros has to be u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E_DYNCREATE(class nam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_DYNCREATE(class name, base clas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54626-D8DC-4C96-9E70-7BE23038BF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9T11:54:30Z</dcterms:created>
  <dc:creator>Arun Kumar P</dc:creator>
  <dc:description/>
  <dc:language>en-US</dc:language>
  <cp:lastModifiedBy>CDAC</cp:lastModifiedBy>
  <cp:lastPrinted>2000-11-23T04:38:45Z</cp:lastPrinted>
  <dcterms:modified xsi:type="dcterms:W3CDTF">2002-01-03T13:54:57Z</dcterms:modified>
  <cp:revision>158</cp:revision>
  <dc:subject>Microsoft Foundation Classes</dc:subject>
  <dc:title>Chapter Six</dc:title>
</cp:coreProperties>
</file>