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C258-5522-4C96-9777-0424879CE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36500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3F5C-9730-4942-A205-EE7791AA4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028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15AA-43F7-400E-97F2-4135C644C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9000" y="1142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520" y="1142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36500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9000" y="36500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520" y="36500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4739-668F-4DE0-99AF-A3BF5C693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A797-27B1-4FA6-8DCE-EBB1772ED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62B7-0AA8-4406-B43A-18EFFA87F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91B5-CDED-4747-BFE0-1E55F517A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F4F6-9D1F-462F-ABB6-4F088ACD1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0185-DAB4-455F-B50E-AD787B2C9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9588-B035-444A-BFFD-AD8D76F8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028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FACD-ABA8-44DA-844E-4024239C8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6500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519B-EDE8-4390-836E-1938D2518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cc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33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7478-4DD7-471D-9305-76ECF88A224F}" type="slidenum">
              <a:rPr b="1" lang="en-US" sz="2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85800" y="6173640"/>
          <a:ext cx="622440" cy="6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173640"/>
                    <a:ext cx="622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398600" y="6247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Learn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09480" y="0"/>
            <a:ext cx="8534520" cy="6858000"/>
            <a:chOff x="609480" y="0"/>
            <a:chExt cx="8534520" cy="6858000"/>
          </a:xfrm>
        </p:grpSpPr>
        <p:sp>
          <p:nvSpPr>
            <p:cNvPr id="7" name=""/>
            <p:cNvSpPr/>
            <p:nvPr/>
          </p:nvSpPr>
          <p:spPr>
            <a:xfrm>
              <a:off x="689040" y="990720"/>
              <a:ext cx="845496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9040" y="6019920"/>
              <a:ext cx="845496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09480" y="0"/>
              <a:ext cx="76320" cy="6858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 rot="16200000">
            <a:off x="-2894040" y="3197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pperplate Gothic Bold"/>
              </a:rPr>
              <a:t>M</a:t>
            </a:r>
            <a:r>
              <a:rPr b="0" lang="en-US" sz="2400" spc="-1" strike="noStrike">
                <a:solidFill>
                  <a:srgbClr val="006600"/>
                </a:solidFill>
                <a:latin typeface="Copperplate Gothic Bold"/>
              </a:rPr>
              <a:t>icrosoft </a:t>
            </a:r>
            <a:r>
              <a:rPr b="0" lang="en-US" sz="2400" spc="-1" strike="noStrike">
                <a:solidFill>
                  <a:srgbClr val="9900cc"/>
                </a:solidFill>
                <a:latin typeface="Copperplate Gothic Bold"/>
              </a:rPr>
              <a:t>F</a:t>
            </a:r>
            <a:r>
              <a:rPr b="0" lang="en-US" sz="2400" spc="-1" strike="noStrike">
                <a:solidFill>
                  <a:srgbClr val="006600"/>
                </a:solidFill>
                <a:latin typeface="Copperplate Gothic Bold"/>
              </a:rPr>
              <a:t>oundation </a:t>
            </a:r>
            <a:r>
              <a:rPr b="0" lang="en-US" sz="2400" spc="-1" strike="noStrike">
                <a:solidFill>
                  <a:srgbClr val="9900cc"/>
                </a:solidFill>
                <a:latin typeface="Copperplate Gothic Bold"/>
              </a:rPr>
              <a:t>C</a:t>
            </a:r>
            <a:r>
              <a:rPr b="0" lang="en-US" sz="2400" spc="-1" strike="noStrike">
                <a:solidFill>
                  <a:srgbClr val="006600"/>
                </a:solidFill>
                <a:latin typeface="Copperplate Gothic Bold"/>
              </a:rPr>
              <a:t>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lit02/docview.dsw" TargetMode="External"/><Relationship Id="rId2" Type="http://schemas.openxmlformats.org/officeDocument/2006/relationships/hyperlink" Target="file:///Split02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rint1/docview.dsw" TargetMode="External"/><Relationship Id="rId2" Type="http://schemas.openxmlformats.org/officeDocument/2006/relationships/hyperlink" Target="file:///Print1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rint2/docview.dsw" TargetMode="External"/><Relationship Id="rId2" Type="http://schemas.openxmlformats.org/officeDocument/2006/relationships/hyperlink" Target="file:///Print2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plit01/docview.dsw" TargetMode="External"/><Relationship Id="rId2" Type="http://schemas.openxmlformats.org/officeDocument/2006/relationships/hyperlink" Target="file:///Split01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PTER SEVE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ter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ing and Print P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0120" y="41400"/>
            <a:ext cx="15238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65A4-7918-4898-931B-875BA6C891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tatic 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anes of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li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nd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defined when the window is first created and they cannot be chang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he user can move the bars but cannot unsplit or resplit the window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Static splitter windows can accommodate multiple view classes, with the configuration set at creation time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4914-9D56-4D1D-9E98-CFCF3C77BC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tatic 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In a static splitter window, each pane has separate scroll bars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In a static splitter window application, all view objects are constructed when the frame is constructed and they are all destroyed when the frame is destroyed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0BAD-9094-42D9-938E-6EF062FBA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tatic 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Split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Split02\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emonstra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Dynamic Splitter Window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CSplitterW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5969-E625-42A7-BE29-411606948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nting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Windows implements device-independent displa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In MFC, this means that the same drawing calls, in the </a:t>
            </a:r>
            <a:r>
              <a:rPr b="1" lang="en-GB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OnDraw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 member function of your view class, are responsible for drawing on the display and on other devices, such as printers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For print preview, the target device is a simulated printer output to the display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EE44-09BA-46AE-918E-F19A7C844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Your Role in Printing vs. Framework’s Rol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view class has the following responsibilit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Inform the framework how many pages are in the document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When asked to print a specified page, draw that portion of the document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Allocate and deallocate any fonts or other graphics device interface (GDI) resources needed for printing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If necessary, send any escape codes needed to change the printer mode before printing a given page, for example, to change the printing orientation on a per-page basis.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6883-DEA7-464A-B609-B41C802F7F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Your Role in Printing vs. Framework’s Rol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framework’s responsibilities are as follow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Display the Print dialog box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reate a CDC object for the printer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all the StartDoc and EndDoc member functions of the CDC object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Repeatedly call the StartPage member function of the CDC object, inform the view class which page should be printed, and call the EndPage member function of the CDC object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all overridable functions in the view at the appropriate times.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6B1E-48D0-4501-9FD0-4C8AAFFA60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verride Printing Functions in Vie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PreparePr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called by the framework before a document is printed or previewed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BeginPr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called by the Framework at the beginning of a print or preview job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alled after OnPreparePrinting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6A8D-41A2-45E1-9038-7C659FF9CD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verride Printing Functions in Vie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ndPr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called by the Framework after a document has been printed or previewed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ree any GDI Resources that was allocated in OnBeginPrint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Pr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called by the framework to print or preview a page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page being printed is specified by the m_nCurPage member of CPrintInfo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6725-DC7B-4668-A915-9FE6D1445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verride Printing Functions in Vie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Pa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alled by the framework to render an image of the document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framework calls this function to perfor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creen display,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Printing, and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Print preview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t passes a different device context in each case.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10D1-B077-40B8-B82F-C6CFBA612D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verride Printing Functions in Vie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irtual BOOL OnPreparePrinting( CPrintInfo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Info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irtual void OnBeginPrinting( CDC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D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CPrintInfo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Info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irtual void OnEndPrinting( CDC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D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CPrintInfo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Info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0BB9-84D0-4CED-855C-495B4A4F20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splitter window appears as a special type of frame window that holds several views in </a:t>
            </a:r>
            <a:r>
              <a:rPr b="1" lang="en-US" sz="2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pan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ication can split the window on creation, or the user can split the window by choosing a menu command or by dragging a splitter box on the window's scroll ba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the window has been split, the user can move the splitter bars with the mouse to adjust the relative sizes of the pan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C3FF-F087-4B34-81CC-C85D3E024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verride Printing Functions in Vie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irtual void OnPrint( CDC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D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 CPrintInfo*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pInfo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 void OnDraw(CDC*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D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= 0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8F2D-D69F-42DB-AAF2-EC701DB36D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nting COMMAND Handler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88920" y="1976400"/>
          <a:ext cx="7475760" cy="176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76400"/>
                    <a:ext cx="747576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F177-7556-4FED-8317-4D8B7ED188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nting - 1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Print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Print1\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emonstra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Printing via </a:t>
            </a:r>
            <a:r>
              <a:rPr b="1" lang="en-US" sz="3000" spc="-1" strike="noStrike">
                <a:solidFill>
                  <a:srgbClr val="0000cc"/>
                </a:solidFill>
                <a:latin typeface="Courier New"/>
              </a:rPr>
              <a:t>OnDraw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CEF7-355D-4D49-820A-5AC260E8E9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inting - 2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Print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Print2\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emonstra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cc"/>
                </a:solidFill>
                <a:latin typeface="Arial"/>
              </a:rPr>
              <a:t>Multiple page printing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Printing via </a:t>
            </a:r>
            <a:r>
              <a:rPr b="1" lang="en-US" sz="3000" spc="-1" strike="noStrike">
                <a:solidFill>
                  <a:srgbClr val="0000cc"/>
                </a:solidFill>
                <a:latin typeface="Courier New"/>
              </a:rPr>
              <a:t>OnPrin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0B5-C03C-4515-8968-2A54723A7A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object of clas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SplitterW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presents the splitter wind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far as Windows is concerned,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SplitterW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bject is an actual window that fully occupies the frame window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FrameW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MDIChildW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client are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view windows occup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litter window pane areas. The splitter window does not take part in the command dispatch mechanis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58F1-C68A-4BD4-9292-5799A6C9C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iew Option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n you combine multiview presentation methods with application models, you get a number of permutations. Here are some of them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DI application with splitter window, single view class 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Each splitter window pane can be scrolled to a different part of the document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e programmer determines the maximum number of horizontal and vertical panes; the user makes the split at runtime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870C-33DA-402A-B6A2-0046174608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iew Option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DI application with splitter window, multiple view classes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e programmer determines the number of panes and the sequence of views; the user can change the pane size at runtime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DI application with no splitter windows, multiple view classes 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e user switches view classes by making a selection from a menu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CF49-8BB5-4C9E-875F-0C2A8AA4DF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iew Option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DI application with no splitter windows, single view class 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s is the standard MDI application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e New Window menu item lets the user open a new child window for a document that's open already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DI application with no splitter windows, multiple view classes 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A small change to the standard MDI application allows the use of multiple views. 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DE77-487F-42E1-BEFD-A4BA60EE9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ynamic 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ynam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li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nd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llows the user to split the window at any time by choosing a menu item or by dragging a splitter box located on the scroll b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he panes in a dynamic splitter window generally use the same view class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he top left pane is initialized to a particular view when the splitter window is created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In a dynamic splitter window, scroll bars are shared among the views.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921B-E1EB-4BD4-8FB2-A46D77A693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ynamic 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In a window with a single horizontal split, for example, the bottom scroll bar controls both views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A dynamic splitter application starts with a single view object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When the user splits the frame, other view objects are constructed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When the user unsplits the frame, view objects are destroyed.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1D36-E0E3-4067-B0B2-A1159826BB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ynamic Splitter Window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Split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Split01\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emonstra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Dynamic Splitter Window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CSplitterW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807F-0790-43AE-9744-3C87E3BDC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1:54:30Z</dcterms:created>
  <dc:creator>Arun Kumar P</dc:creator>
  <dc:description/>
  <cp:keywords>Collection Classes</cp:keywords>
  <dc:language>en-US</dc:language>
  <cp:lastModifiedBy>CDAC</cp:lastModifiedBy>
  <cp:lastPrinted>2000-11-23T04:38:45Z</cp:lastPrinted>
  <dcterms:modified xsi:type="dcterms:W3CDTF">2002-01-03T03:31:15Z</dcterms:modified>
  <cp:revision>187</cp:revision>
  <dc:subject>Microsoft Foundation Classes</dc:subject>
  <dc:title>Chapter Five</dc:title>
</cp:coreProperties>
</file>