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0FA0D-68D5-462A-9090-7D47B677A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1EF7-C857-4BD6-B42A-A92E3A974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8B3EF-6D67-468A-8DAC-9A68906FB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C456-1F5F-4BD4-AF73-C16A59195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60679-C078-43BB-883A-509DE72157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C4090-8AE3-46BE-9CCD-B12AC9B583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A18F1-4C9C-4E6B-A4F6-B6F6F456EA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CD504-16E5-4CE4-9233-78062A9234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CECD7-65C4-4260-AE79-69FD8EB8CE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713FF-6DE2-49A8-870A-D792A5A52B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5A317-C944-40F8-A40E-E542C796D4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AC72-CA8E-438C-81AF-42387B8EDF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100EA-1E18-476C-AE32-7B6EBA1F23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3261F-15C4-4929-9951-B0C4D291AB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39810-7FA5-424C-9B26-B8A76827BF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D4D1D-15C8-4EA4-BECA-B455247E4C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25BBA-D824-49C7-85F0-E03252791D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1827B-7A09-448F-952C-F6708C916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C0F9-4EF9-4C84-98F1-4B8F88908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3BCB-25A0-4123-B368-F880514E40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4ECA6-288A-43BA-8569-9206A9D2F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577FD-18E2-4734-A270-69F9C20762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06190-4A38-47AA-8D21-069F595B9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E32B1-3D05-486D-994D-252536919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1800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572040" indent="-219960">
              <a:spcBef>
                <a:spcPts val="18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2" marL="879840" indent="-175680">
              <a:spcBef>
                <a:spcPts val="1800"/>
              </a:spcBef>
              <a:buClr>
                <a:srgbClr val="00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3" marL="1231920" indent="-175680">
              <a:spcBef>
                <a:spcPts val="18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4" marL="1584000" indent="-175680"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5" marL="1584000" indent="-175680">
              <a:spcBef>
                <a:spcPts val="1800"/>
              </a:spcBef>
              <a:buClr>
                <a:srgbClr val="6600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6" marL="1584000" indent="-175680">
              <a:spcBef>
                <a:spcPts val="1800"/>
              </a:spcBef>
              <a:buClr>
                <a:srgbClr val="6600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7840" y="624852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10-</a:t>
            </a:r>
            <a:fld id="{98B3B1AB-1B3D-41D2-B6F7-F663B9A46AB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1356-965E-4FD1-B56D-25E254B3F47F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700"/>
              </a:spcBef>
              <a:buClr>
                <a:srgbClr val="0033cc"/>
              </a:buClr>
              <a:buSzPct val="7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601"/>
              </a:spcBef>
              <a:buClr>
                <a:srgbClr val="6600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601"/>
              </a:spcBef>
              <a:buClr>
                <a:srgbClr val="6600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1600200"/>
            <a:ext cx="7772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 Narrow"/>
              </a:rPr>
              <a:t>Classless and Subnet Address Extensions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 Narrow"/>
              </a:rPr>
              <a:t>(Chapter 10)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9A3A5-0E3C-4514-93F2-8E9B31E5C42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4880" y="152280"/>
            <a:ext cx="850752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Narrow"/>
              </a:rPr>
              <a:t>Possible Fixed-Length Subnets</a:t>
            </a:r>
            <a:endParaRPr b="0" lang="en-US" sz="4400" spc="-1" strike="noStrike">
              <a:solidFill>
                <a:srgbClr val="0000ff"/>
              </a:solidFill>
              <a:latin typeface="Arial Narrow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611360" y="1077840"/>
          <a:ext cx="6086520" cy="5143680"/>
        </p:xfrm>
        <a:graphic>
          <a:graphicData uri="http://schemas.openxmlformats.org/drawingml/2006/table">
            <a:tbl>
              <a:tblPr/>
              <a:tblGrid>
                <a:gridCol w="1527120"/>
                <a:gridCol w="1897200"/>
                <a:gridCol w="26622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 Narrow"/>
                        </a:rPr>
                        <a:t>Subnet Bits*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 Narrow"/>
                        </a:rPr>
                        <a:t>Max. # of Subnets*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ff"/>
                          </a:solidFill>
                          <a:latin typeface="Arial Narrow"/>
                        </a:rPr>
                        <a:t>Max # of Hosts per Subnet*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382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190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94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46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22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6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0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4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4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0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6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22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46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0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94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190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382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1531080" y="6318360"/>
            <a:ext cx="291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 Narrow"/>
              </a:rPr>
              <a:t>* Given a Class B network address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618F-7DFD-4443-A90C-B890A8CBE5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Narrow"/>
              </a:rPr>
              <a:t>Variable-Length Subnet Masks</a:t>
            </a: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sk assigned on per-network basi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lexibility to mix large and small ne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complete use of address spa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fficult to assign / administ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otential address ambigu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75E0B-67D1-4351-B8E4-4322A99257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Narrow"/>
              </a:rPr>
              <a:t>Address Ambiguity</a:t>
            </a: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37920" y="13762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twork address 128.10.0.0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1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 Narrow"/>
            </a:endParaRPr>
          </a:p>
          <a:p>
            <a:pPr marL="281160" indent="-281160">
              <a:lnSpc>
                <a:spcPct val="90000"/>
              </a:lnSpc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ubnet 1 (mask = 24 bits, max hosts = 254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1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 Narrow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sk:        11111111 11111111 11111111 0000000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efix:        10000000 00001010 00000001 0000000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roadcast: 10000000 00001010 00000001 11111111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0912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 Narrow"/>
            </a:endParaRPr>
          </a:p>
          <a:p>
            <a:pPr marL="281160" indent="-281160">
              <a:lnSpc>
                <a:spcPct val="90000"/>
              </a:lnSpc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ubnet 2 (mask = 26 bits, max hosts = 62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1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 Narrow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sk:        11111111 11111111 11111111 1100000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efix:        10000000 00001010 00000001 1100000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09120" indent="-2343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roadcast: 10000000 00001010 00000001 11111111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43DE-FBFD-46C1-A3F5-EC79E26B0E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126720"/>
            <a:ext cx="77724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Narrow"/>
              </a:rPr>
              <a:t>Default Subnet Masks</a:t>
            </a: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98520"/>
            <a:ext cx="8153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ach IP network class has natural mas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ass A natural mask 255.0.0.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ass B natural mask 255.255.0.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ass C natural mask 255.255.255.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fault mask of 255.255.0.0 is applied to 10.0.0.0 network addr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llows 254 subnetworks ranging from 10.1.0.0 to 10.254.0.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F718-E93A-47B6-A567-AF23EAD78F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Narrow"/>
              </a:rPr>
              <a:t>Subnet Mask Representation</a:t>
            </a: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400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Binary: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11111111  11111111  11111111  0000000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Dotted decimal: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255.255.255.0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spcBef>
                <a:spcPts val="1800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3-tupl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{ network #, subnet #, host # }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-1 means “all ones”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.g., 255.255.255.0 can be written {-1, -1, 0}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533B6-61EE-4ACA-8F98-4A47335EC7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Narrow"/>
              </a:rPr>
              <a:t>Conventional Routing (w/o subnets)</a:t>
            </a:r>
            <a:endParaRPr b="0" lang="en-US" sz="4400" spc="-1" strike="noStrike">
              <a:solidFill>
                <a:srgbClr val="0000ff"/>
              </a:solidFill>
              <a:latin typeface="Arial Narrow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871880" y="1233360"/>
          <a:ext cx="3616560" cy="1825560"/>
        </p:xfrm>
        <a:graphic>
          <a:graphicData uri="http://schemas.openxmlformats.org/drawingml/2006/table">
            <a:tbl>
              <a:tblPr/>
              <a:tblGrid>
                <a:gridCol w="1799280"/>
                <a:gridCol w="1817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Network Address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Next Hop Address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64.0.0.0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37.145.0.9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130.166.0.0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51.20.0.5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195.62.155.0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02.74.5.11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1067040" y="1847880"/>
            <a:ext cx="29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ample Entries of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ventional Routing Table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43280" y="4089240"/>
            <a:ext cx="342252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29120" y="5272200"/>
            <a:ext cx="2454120" cy="188640"/>
          </a:xfrm>
          <a:prstGeom prst="ellipse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33720" y="4691160"/>
            <a:ext cx="428760" cy="282600"/>
          </a:xfrm>
          <a:prstGeom prst="rect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87640" y="4846680"/>
            <a:ext cx="9316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425760" y="4089240"/>
            <a:ext cx="531720" cy="58896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52760" y="4975200"/>
            <a:ext cx="719280" cy="344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49960" y="4290840"/>
            <a:ext cx="426960" cy="2368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4278240"/>
            <a:ext cx="428760" cy="236520"/>
          </a:xfrm>
          <a:prstGeom prst="rect">
            <a:avLst/>
          </a:prstGeom>
          <a:solidFill>
            <a:srgbClr val="cc66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83240" y="4102200"/>
            <a:ext cx="0" cy="1886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10440" y="4089240"/>
            <a:ext cx="0" cy="1890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5460840"/>
            <a:ext cx="0" cy="425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52960" y="5460840"/>
            <a:ext cx="0" cy="4255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92480" y="330516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etwork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137.145.0.0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18920" y="37321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twork 151.20.0.0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6960" y="494820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twork 202.74.5.0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29680" y="424656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51.20.0.5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071800" y="3866760"/>
            <a:ext cx="0" cy="217980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352520" y="4937040"/>
            <a:ext cx="426960" cy="23652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1352520" y="5595840"/>
            <a:ext cx="426960" cy="236520"/>
          </a:xfrm>
          <a:prstGeom prst="rect">
            <a:avLst/>
          </a:prstGeom>
          <a:solidFill>
            <a:srgbClr val="33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1352520" y="4295520"/>
            <a:ext cx="426960" cy="23652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79400" y="4424400"/>
            <a:ext cx="39564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81200" y="5737320"/>
            <a:ext cx="3952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82640" y="5084640"/>
            <a:ext cx="395280" cy="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07840" y="587844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202.74.5.11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40560" y="5721480"/>
            <a:ext cx="426960" cy="236520"/>
          </a:xfrm>
          <a:prstGeom prst="rect">
            <a:avLst/>
          </a:prstGeom>
          <a:solidFill>
            <a:srgbClr val="ffcc0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19680" y="5722920"/>
            <a:ext cx="42876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87840" y="4292640"/>
            <a:ext cx="426960" cy="23652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21120" y="4103640"/>
            <a:ext cx="0" cy="18900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24320" y="594216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137.145.0.9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8EF44-207F-4042-873C-7948DCE217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Narrow"/>
              </a:rPr>
              <a:t>Subnet Routing</a:t>
            </a: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6440" y="3261960"/>
            <a:ext cx="8371080" cy="32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296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Given destination addres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2520" indent="0">
              <a:spcBef>
                <a:spcPts val="601"/>
              </a:spcBef>
              <a:buNone/>
              <a:tabLst>
                <a:tab algn="l" pos="0"/>
                <a:tab algn="l" pos="296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30.166.105.83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00010 10100110 01101001 01010011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2520" indent="0">
              <a:spcBef>
                <a:spcPts val="601"/>
              </a:spcBef>
              <a:buNone/>
              <a:tabLst>
                <a:tab algn="l" pos="0"/>
                <a:tab algn="l" pos="296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rform bitwise Boolean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2520" indent="0">
              <a:spcBef>
                <a:spcPts val="601"/>
              </a:spcBef>
              <a:buNone/>
              <a:tabLst>
                <a:tab algn="l" pos="0"/>
                <a:tab algn="l" pos="296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55.255.255.0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1111111 11111111 11111111 000000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2520" indent="0">
              <a:spcBef>
                <a:spcPts val="1199"/>
              </a:spcBef>
              <a:buNone/>
              <a:tabLst>
                <a:tab algn="l" pos="0"/>
                <a:tab algn="l" pos="296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2520" indent="0">
              <a:spcBef>
                <a:spcPts val="601"/>
              </a:spcBef>
              <a:buNone/>
              <a:tabLst>
                <a:tab algn="l" pos="0"/>
                <a:tab algn="l" pos="296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30.166.105.0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00010 10100110 01101001 000000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8520" indent="0">
              <a:spcBef>
                <a:spcPts val="1199"/>
              </a:spcBef>
              <a:buNone/>
              <a:tabLst>
                <a:tab algn="l" pos="296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948040" y="1123920"/>
          <a:ext cx="5451480" cy="1825560"/>
        </p:xfrm>
        <a:graphic>
          <a:graphicData uri="http://schemas.openxmlformats.org/drawingml/2006/table">
            <a:tbl>
              <a:tblPr/>
              <a:tblGrid>
                <a:gridCol w="1722600"/>
                <a:gridCol w="1896840"/>
                <a:gridCol w="1832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bnet Mask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Network Address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Next Hop Address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255.255.0.0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64.106.0.0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37.145.0.9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255.255.255.0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130.166.105.0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51.20.0.5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255.255.255.240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195.62.155.32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02.74.5.11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774360" y="1535040"/>
            <a:ext cx="19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ample Entries of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outing Table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ith Subnetting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694400" y="3808440"/>
            <a:ext cx="2365200" cy="2333520"/>
            <a:chOff x="4694400" y="3808440"/>
            <a:chExt cx="2365200" cy="2333520"/>
          </a:xfrm>
        </p:grpSpPr>
        <p:sp>
          <p:nvSpPr>
            <p:cNvPr id="212" name=""/>
            <p:cNvSpPr/>
            <p:nvPr/>
          </p:nvSpPr>
          <p:spPr>
            <a:xfrm>
              <a:off x="4694400" y="3808440"/>
              <a:ext cx="0" cy="233352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69080" y="3808440"/>
              <a:ext cx="0" cy="233352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59600" y="3808440"/>
              <a:ext cx="0" cy="233352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7CE8-9A07-4B5A-A2F3-E81A6C3701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Narrow"/>
              </a:rPr>
              <a:t>Subnet Routing: Another Example</a:t>
            </a:r>
            <a:endParaRPr b="0" lang="en-US" sz="4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6440" y="3261960"/>
            <a:ext cx="8371080" cy="32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296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Given destination addres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2520" indent="0">
              <a:spcBef>
                <a:spcPts val="601"/>
              </a:spcBef>
              <a:buNone/>
              <a:tabLst>
                <a:tab algn="l" pos="0"/>
                <a:tab algn="l" pos="296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95.62.155.44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1000011 00111110 10011011 001011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2520" indent="0">
              <a:spcBef>
                <a:spcPts val="601"/>
              </a:spcBef>
              <a:buNone/>
              <a:tabLst>
                <a:tab algn="l" pos="0"/>
                <a:tab algn="l" pos="296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rform bitwise Boolean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2520" indent="0">
              <a:spcBef>
                <a:spcPts val="601"/>
              </a:spcBef>
              <a:buNone/>
              <a:tabLst>
                <a:tab algn="l" pos="0"/>
                <a:tab algn="l" pos="296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55.255.255.240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1111111 11111111 11111111 111100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2520" indent="0">
              <a:spcBef>
                <a:spcPts val="1199"/>
              </a:spcBef>
              <a:buNone/>
              <a:tabLst>
                <a:tab algn="l" pos="0"/>
                <a:tab algn="l" pos="296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2520" indent="0">
              <a:spcBef>
                <a:spcPts val="601"/>
              </a:spcBef>
              <a:buNone/>
              <a:tabLst>
                <a:tab algn="l" pos="0"/>
                <a:tab algn="l" pos="296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95.62.155.32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1000011 00111110 10011011 001000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08520" indent="0">
              <a:spcBef>
                <a:spcPts val="1199"/>
              </a:spcBef>
              <a:buNone/>
              <a:tabLst>
                <a:tab algn="l" pos="296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948040" y="1123920"/>
          <a:ext cx="5451480" cy="1825560"/>
        </p:xfrm>
        <a:graphic>
          <a:graphicData uri="http://schemas.openxmlformats.org/drawingml/2006/table">
            <a:tbl>
              <a:tblPr/>
              <a:tblGrid>
                <a:gridCol w="1722600"/>
                <a:gridCol w="1896840"/>
                <a:gridCol w="1832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bnet Mask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Network Address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Next Hop Address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255.255.0.0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64.106.0.0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37.145.0.9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255.255.255.0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130.166.105.0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151.20.0.5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255.255.255.240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195.62.155.32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202.74.5.11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745560" y="1535040"/>
            <a:ext cx="200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ample Entries of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outing Table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ith Subnetting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694400" y="3808440"/>
            <a:ext cx="2365200" cy="2333520"/>
            <a:chOff x="4694400" y="3808440"/>
            <a:chExt cx="2365200" cy="2333520"/>
          </a:xfrm>
        </p:grpSpPr>
        <p:sp>
          <p:nvSpPr>
            <p:cNvPr id="220" name=""/>
            <p:cNvSpPr/>
            <p:nvPr/>
          </p:nvSpPr>
          <p:spPr>
            <a:xfrm>
              <a:off x="4694400" y="3808440"/>
              <a:ext cx="0" cy="233352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69080" y="3808440"/>
              <a:ext cx="0" cy="233352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59600" y="3808440"/>
              <a:ext cx="0" cy="233352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1118D-8184-49A8-A689-5ED38FA828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Narrow"/>
              </a:rPr>
              <a:t>Using Subnet Masks for Routing</a:t>
            </a: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st-specific rout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20.0.0.3, 30.0.0.7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255.255.255.255 , 20.0.0.3 , 30.0.0.7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fault rout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default, 40.0.0.8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0.0.0.0 , 0.0.0.0 , 40.0.0.8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tandard, non-subnet class B network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128.10.0.0, 10.0.0.3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255.255.0.0 , 128.10.0.0 , 10.0.0.3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3BC5E-4B8F-4A78-9592-33CC8BD816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Narrow"/>
              </a:rPr>
              <a:t>Broadcasting to Subnets</a:t>
            </a: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roadcast to all hosts on network 128.10.0.0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roadcast address: 128.10.255.255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lnSpc>
                <a:spcPct val="90000"/>
              </a:lnSpc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f network 128.10.0.0 has subne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outers that interconnect subnets must propagate datagram to all physical network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t routers must take care not to route datagrams in loops (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reverse path forwardin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05280" indent="-305280">
              <a:lnSpc>
                <a:spcPct val="90000"/>
              </a:lnSpc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roadcast to specific subnet, within subnetted network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ubnet broadcast address: {network, subnet, -1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5875-ABB5-4F21-843A-21474EA667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Narrow"/>
              </a:rPr>
              <a:t>IP Address Review</a:t>
            </a: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6520" y="1076400"/>
            <a:ext cx="822960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original IP addressing scheme, each physical network assigned unique network addr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ach host on network has network address as prefix (netid) of host’s individual addres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CP/IP accommodates diverse network sizes by having three classes of primary address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940040" y="4410000"/>
          <a:ext cx="5330880" cy="1871640"/>
        </p:xfrm>
        <a:graphic>
          <a:graphicData uri="http://schemas.openxmlformats.org/drawingml/2006/table">
            <a:tbl>
              <a:tblPr/>
              <a:tblGrid>
                <a:gridCol w="784080"/>
                <a:gridCol w="2079720"/>
                <a:gridCol w="2467080"/>
              </a:tblGrid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Arial Narrow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36576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Arial Narrow"/>
                        </a:rPr>
                        <a:t>Lowest Address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0000" marR="36576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ff"/>
                          </a:solidFill>
                          <a:latin typeface="Arial Narrow"/>
                        </a:rPr>
                        <a:t>Highest Address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2743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.0.0    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R="27432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274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6.0.0.0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27432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2743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1.0.0  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R="27432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274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1.255.0.0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27432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0" rIns="2743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2.0.1.0  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R="27432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27432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255.255.0</a:t>
                      </a:r>
                      <a:endParaRPr b="0" lang="en-US" sz="2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27432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F3A7-1B4B-4828-979A-66516B885C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Narrow"/>
              </a:rPr>
              <a:t>Reverse Path Forwarding</a:t>
            </a: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87960" y="4572000"/>
            <a:ext cx="4276080" cy="1117080"/>
            <a:chOff x="687960" y="4572000"/>
            <a:chExt cx="4276080" cy="1117080"/>
          </a:xfrm>
        </p:grpSpPr>
        <p:sp>
          <p:nvSpPr>
            <p:cNvPr id="229" name=""/>
            <p:cNvSpPr/>
            <p:nvPr/>
          </p:nvSpPr>
          <p:spPr>
            <a:xfrm>
              <a:off x="750960" y="4757400"/>
              <a:ext cx="596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09760" y="4572000"/>
              <a:ext cx="317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Comic Sans MS"/>
                </a:rPr>
                <a:t>datagram will be forwarded    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93920" y="5046480"/>
              <a:ext cx="35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Comic Sans MS"/>
                </a:rPr>
                <a:t>datagram will not be forwarded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87960" y="5230080"/>
              <a:ext cx="640440" cy="360"/>
            </a:xfrm>
            <a:prstGeom prst="line">
              <a:avLst/>
            </a:prstGeom>
            <a:ln w="1908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1342440" y="5160600"/>
              <a:ext cx="360" cy="14976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681800" y="3567240"/>
            <a:ext cx="3752640" cy="2808360"/>
            <a:chOff x="4681800" y="3567240"/>
            <a:chExt cx="3752640" cy="2808360"/>
          </a:xfrm>
        </p:grpSpPr>
        <p:sp>
          <p:nvSpPr>
            <p:cNvPr id="235" name=""/>
            <p:cNvSpPr/>
            <p:nvPr/>
          </p:nvSpPr>
          <p:spPr>
            <a:xfrm>
              <a:off x="7736040" y="5419800"/>
              <a:ext cx="401400" cy="690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6334200" y="4564080"/>
              <a:ext cx="1365120" cy="34776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68880" y="4881600"/>
              <a:ext cx="852480" cy="974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56400" y="4125960"/>
              <a:ext cx="993960" cy="446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7186680" y="5448600"/>
              <a:ext cx="538200" cy="46800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09040" y="4670640"/>
              <a:ext cx="0" cy="717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34080" y="5884920"/>
              <a:ext cx="102564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5613480" y="4988160"/>
              <a:ext cx="372960" cy="84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060960" y="4140360"/>
              <a:ext cx="347760" cy="749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443720" y="5313600"/>
              <a:ext cx="547920" cy="232920"/>
              <a:chOff x="7443720" y="5313600"/>
              <a:chExt cx="547920" cy="232920"/>
            </a:xfrm>
          </p:grpSpPr>
          <p:sp>
            <p:nvSpPr>
              <p:cNvPr id="245" name=""/>
              <p:cNvSpPr/>
              <p:nvPr/>
            </p:nvSpPr>
            <p:spPr>
              <a:xfrm>
                <a:off x="7448040" y="5417640"/>
                <a:ext cx="543240" cy="1288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448040" y="5406480"/>
                <a:ext cx="0" cy="79920"/>
              </a:xfrm>
              <a:prstGeom prst="line">
                <a:avLst/>
              </a:prstGeom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91640" y="5406480"/>
                <a:ext cx="0" cy="79920"/>
              </a:xfrm>
              <a:prstGeom prst="line">
                <a:avLst/>
              </a:prstGeom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448040" y="5406480"/>
                <a:ext cx="538560" cy="788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443720" y="5313600"/>
                <a:ext cx="542880" cy="1504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7574400" y="5346360"/>
                <a:ext cx="268920" cy="88200"/>
                <a:chOff x="7574400" y="5346360"/>
                <a:chExt cx="268920" cy="88200"/>
              </a:xfrm>
            </p:grpSpPr>
            <p:sp>
              <p:nvSpPr>
                <p:cNvPr id="251" name=""/>
                <p:cNvSpPr/>
                <p:nvPr/>
              </p:nvSpPr>
              <p:spPr>
                <a:xfrm flipV="1">
                  <a:off x="7574400" y="5346360"/>
                  <a:ext cx="95760" cy="180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758720" y="5434560"/>
                  <a:ext cx="84600" cy="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662960" y="5348520"/>
                  <a:ext cx="99720" cy="8604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574400" y="5345640"/>
                <a:ext cx="268920" cy="88200"/>
                <a:chOff x="7574400" y="5345640"/>
                <a:chExt cx="268920" cy="882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574400" y="5432040"/>
                  <a:ext cx="95760" cy="180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758720" y="5345640"/>
                  <a:ext cx="84600" cy="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V="1">
                  <a:off x="7662960" y="5345640"/>
                  <a:ext cx="99720" cy="8604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8" name=""/>
            <p:cNvGrpSpPr/>
            <p:nvPr/>
          </p:nvGrpSpPr>
          <p:grpSpPr>
            <a:xfrm>
              <a:off x="5788080" y="4799160"/>
              <a:ext cx="547560" cy="232920"/>
              <a:chOff x="5788080" y="4799160"/>
              <a:chExt cx="547560" cy="232920"/>
            </a:xfrm>
          </p:grpSpPr>
          <p:sp>
            <p:nvSpPr>
              <p:cNvPr id="259" name=""/>
              <p:cNvSpPr/>
              <p:nvPr/>
            </p:nvSpPr>
            <p:spPr>
              <a:xfrm>
                <a:off x="5792400" y="4903200"/>
                <a:ext cx="542880" cy="1288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792400" y="4892040"/>
                <a:ext cx="0" cy="79920"/>
              </a:xfrm>
              <a:prstGeom prst="line">
                <a:avLst/>
              </a:prstGeom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335640" y="4892040"/>
                <a:ext cx="0" cy="79920"/>
              </a:xfrm>
              <a:prstGeom prst="line">
                <a:avLst/>
              </a:prstGeom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92400" y="4892040"/>
                <a:ext cx="538200" cy="788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88080" y="4799160"/>
                <a:ext cx="542520" cy="1504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5918760" y="4831920"/>
                <a:ext cx="268920" cy="88200"/>
                <a:chOff x="5918760" y="4831920"/>
                <a:chExt cx="268920" cy="88200"/>
              </a:xfrm>
            </p:grpSpPr>
            <p:sp>
              <p:nvSpPr>
                <p:cNvPr id="265" name=""/>
                <p:cNvSpPr/>
                <p:nvPr/>
              </p:nvSpPr>
              <p:spPr>
                <a:xfrm flipV="1">
                  <a:off x="5918760" y="4831920"/>
                  <a:ext cx="95760" cy="180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103080" y="4920120"/>
                  <a:ext cx="84600" cy="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007320" y="4834080"/>
                  <a:ext cx="99720" cy="8604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918760" y="4831200"/>
                <a:ext cx="268920" cy="88200"/>
                <a:chOff x="5918760" y="4831200"/>
                <a:chExt cx="268920" cy="8820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918760" y="4917600"/>
                  <a:ext cx="95760" cy="180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103080" y="4831200"/>
                  <a:ext cx="84600" cy="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6007320" y="4831200"/>
                  <a:ext cx="99720" cy="8604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" name=""/>
            <p:cNvGrpSpPr/>
            <p:nvPr/>
          </p:nvGrpSpPr>
          <p:grpSpPr>
            <a:xfrm>
              <a:off x="5865840" y="3610080"/>
              <a:ext cx="317520" cy="272160"/>
              <a:chOff x="5865840" y="3610080"/>
              <a:chExt cx="317520" cy="272160"/>
            </a:xfrm>
          </p:grpSpPr>
          <p:sp>
            <p:nvSpPr>
              <p:cNvPr id="273" name=""/>
              <p:cNvSpPr/>
              <p:nvPr/>
            </p:nvSpPr>
            <p:spPr>
              <a:xfrm>
                <a:off x="5865840" y="3610080"/>
                <a:ext cx="317520" cy="272160"/>
              </a:xfrm>
              <a:custGeom>
                <a:avLst/>
                <a:gdLst/>
                <a:ahLst/>
                <a:rect l="l" t="t" r="r" b="b"/>
                <a:pathLst>
                  <a:path w="2150" h="1804">
                    <a:moveTo>
                      <a:pt x="582" y="239"/>
                    </a:moveTo>
                    <a:lnTo>
                      <a:pt x="606" y="129"/>
                    </a:lnTo>
                    <a:lnTo>
                      <a:pt x="607" y="129"/>
                    </a:lnTo>
                    <a:lnTo>
                      <a:pt x="611" y="128"/>
                    </a:lnTo>
                    <a:lnTo>
                      <a:pt x="616" y="125"/>
                    </a:lnTo>
                    <a:lnTo>
                      <a:pt x="623" y="123"/>
                    </a:lnTo>
                    <a:lnTo>
                      <a:pt x="633" y="120"/>
                    </a:lnTo>
                    <a:lnTo>
                      <a:pt x="645" y="115"/>
                    </a:lnTo>
                    <a:lnTo>
                      <a:pt x="659" y="112"/>
                    </a:lnTo>
                    <a:lnTo>
                      <a:pt x="676" y="107"/>
                    </a:lnTo>
                    <a:lnTo>
                      <a:pt x="694" y="101"/>
                    </a:lnTo>
                    <a:lnTo>
                      <a:pt x="715" y="95"/>
                    </a:lnTo>
                    <a:lnTo>
                      <a:pt x="738" y="90"/>
                    </a:lnTo>
                    <a:lnTo>
                      <a:pt x="763" y="84"/>
                    </a:lnTo>
                    <a:lnTo>
                      <a:pt x="790" y="78"/>
                    </a:lnTo>
                    <a:lnTo>
                      <a:pt x="820" y="71"/>
                    </a:lnTo>
                    <a:lnTo>
                      <a:pt x="852" y="64"/>
                    </a:lnTo>
                    <a:lnTo>
                      <a:pt x="886" y="59"/>
                    </a:lnTo>
                    <a:lnTo>
                      <a:pt x="922" y="52"/>
                    </a:lnTo>
                    <a:lnTo>
                      <a:pt x="961" y="46"/>
                    </a:lnTo>
                    <a:lnTo>
                      <a:pt x="1002" y="40"/>
                    </a:lnTo>
                    <a:lnTo>
                      <a:pt x="1044" y="35"/>
                    </a:lnTo>
                    <a:lnTo>
                      <a:pt x="1090" y="29"/>
                    </a:lnTo>
                    <a:lnTo>
                      <a:pt x="1138" y="23"/>
                    </a:lnTo>
                    <a:lnTo>
                      <a:pt x="1187" y="18"/>
                    </a:lnTo>
                    <a:lnTo>
                      <a:pt x="1240" y="14"/>
                    </a:lnTo>
                    <a:lnTo>
                      <a:pt x="1294" y="10"/>
                    </a:lnTo>
                    <a:lnTo>
                      <a:pt x="1350" y="7"/>
                    </a:lnTo>
                    <a:lnTo>
                      <a:pt x="1410" y="4"/>
                    </a:lnTo>
                    <a:lnTo>
                      <a:pt x="1470" y="1"/>
                    </a:lnTo>
                    <a:lnTo>
                      <a:pt x="1535" y="0"/>
                    </a:lnTo>
                    <a:lnTo>
                      <a:pt x="1601" y="0"/>
                    </a:lnTo>
                    <a:lnTo>
                      <a:pt x="1668" y="0"/>
                    </a:lnTo>
                    <a:lnTo>
                      <a:pt x="1739" y="1"/>
                    </a:lnTo>
                    <a:lnTo>
                      <a:pt x="1816" y="44"/>
                    </a:lnTo>
                    <a:lnTo>
                      <a:pt x="1799" y="248"/>
                    </a:lnTo>
                    <a:lnTo>
                      <a:pt x="1804" y="251"/>
                    </a:lnTo>
                    <a:lnTo>
                      <a:pt x="1820" y="259"/>
                    </a:lnTo>
                    <a:lnTo>
                      <a:pt x="1842" y="272"/>
                    </a:lnTo>
                    <a:lnTo>
                      <a:pt x="1868" y="292"/>
                    </a:lnTo>
                    <a:lnTo>
                      <a:pt x="1896" y="318"/>
                    </a:lnTo>
                    <a:lnTo>
                      <a:pt x="1920" y="351"/>
                    </a:lnTo>
                    <a:lnTo>
                      <a:pt x="1939" y="390"/>
                    </a:lnTo>
                    <a:lnTo>
                      <a:pt x="1951" y="436"/>
                    </a:lnTo>
                    <a:lnTo>
                      <a:pt x="2125" y="593"/>
                    </a:lnTo>
                    <a:lnTo>
                      <a:pt x="2078" y="1009"/>
                    </a:lnTo>
                    <a:lnTo>
                      <a:pt x="1799" y="1149"/>
                    </a:lnTo>
                    <a:lnTo>
                      <a:pt x="2129" y="1247"/>
                    </a:lnTo>
                    <a:lnTo>
                      <a:pt x="2131" y="1251"/>
                    </a:lnTo>
                    <a:lnTo>
                      <a:pt x="2137" y="1264"/>
                    </a:lnTo>
                    <a:lnTo>
                      <a:pt x="2143" y="1284"/>
                    </a:lnTo>
                    <a:lnTo>
                      <a:pt x="2149" y="1310"/>
                    </a:lnTo>
                    <a:lnTo>
                      <a:pt x="2150" y="1342"/>
                    </a:lnTo>
                    <a:lnTo>
                      <a:pt x="2147" y="1380"/>
                    </a:lnTo>
                    <a:lnTo>
                      <a:pt x="2136" y="1423"/>
                    </a:lnTo>
                    <a:lnTo>
                      <a:pt x="2117" y="1468"/>
                    </a:lnTo>
                    <a:lnTo>
                      <a:pt x="1244" y="1804"/>
                    </a:lnTo>
                    <a:lnTo>
                      <a:pt x="0" y="1413"/>
                    </a:lnTo>
                    <a:lnTo>
                      <a:pt x="22" y="1367"/>
                    </a:lnTo>
                    <a:lnTo>
                      <a:pt x="212" y="1302"/>
                    </a:lnTo>
                    <a:lnTo>
                      <a:pt x="212" y="248"/>
                    </a:lnTo>
                    <a:lnTo>
                      <a:pt x="213" y="247"/>
                    </a:lnTo>
                    <a:lnTo>
                      <a:pt x="217" y="244"/>
                    </a:lnTo>
                    <a:lnTo>
                      <a:pt x="223" y="240"/>
                    </a:lnTo>
                    <a:lnTo>
                      <a:pt x="232" y="234"/>
                    </a:lnTo>
                    <a:lnTo>
                      <a:pt x="245" y="228"/>
                    </a:lnTo>
                    <a:lnTo>
                      <a:pt x="258" y="221"/>
                    </a:lnTo>
                    <a:lnTo>
                      <a:pt x="276" y="214"/>
                    </a:lnTo>
                    <a:lnTo>
                      <a:pt x="294" y="207"/>
                    </a:lnTo>
                    <a:lnTo>
                      <a:pt x="316" y="201"/>
                    </a:lnTo>
                    <a:lnTo>
                      <a:pt x="340" y="197"/>
                    </a:lnTo>
                    <a:lnTo>
                      <a:pt x="366" y="194"/>
                    </a:lnTo>
                    <a:lnTo>
                      <a:pt x="393" y="192"/>
                    </a:lnTo>
                    <a:lnTo>
                      <a:pt x="424" y="193"/>
                    </a:lnTo>
                    <a:lnTo>
                      <a:pt x="457" y="197"/>
                    </a:lnTo>
                    <a:lnTo>
                      <a:pt x="493" y="203"/>
                    </a:lnTo>
                    <a:lnTo>
                      <a:pt x="529" y="214"/>
                    </a:lnTo>
                    <a:lnTo>
                      <a:pt x="582" y="23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982480" y="3635280"/>
                <a:ext cx="101160" cy="118080"/>
              </a:xfrm>
              <a:custGeom>
                <a:avLst/>
                <a:gdLst/>
                <a:ahLst/>
                <a:rect l="l" t="t" r="r" b="b"/>
                <a:pathLst>
                  <a:path w="690" h="782">
                    <a:moveTo>
                      <a:pt x="684" y="29"/>
                    </a:moveTo>
                    <a:lnTo>
                      <a:pt x="681" y="28"/>
                    </a:lnTo>
                    <a:lnTo>
                      <a:pt x="670" y="25"/>
                    </a:lnTo>
                    <a:lnTo>
                      <a:pt x="652" y="21"/>
                    </a:lnTo>
                    <a:lnTo>
                      <a:pt x="628" y="16"/>
                    </a:lnTo>
                    <a:lnTo>
                      <a:pt x="600" y="11"/>
                    </a:lnTo>
                    <a:lnTo>
                      <a:pt x="566" y="7"/>
                    </a:lnTo>
                    <a:lnTo>
                      <a:pt x="527" y="3"/>
                    </a:lnTo>
                    <a:lnTo>
                      <a:pt x="483" y="1"/>
                    </a:lnTo>
                    <a:lnTo>
                      <a:pt x="436" y="0"/>
                    </a:lnTo>
                    <a:lnTo>
                      <a:pt x="386" y="2"/>
                    </a:lnTo>
                    <a:lnTo>
                      <a:pt x="333" y="7"/>
                    </a:lnTo>
                    <a:lnTo>
                      <a:pt x="277" y="16"/>
                    </a:lnTo>
                    <a:lnTo>
                      <a:pt x="221" y="28"/>
                    </a:lnTo>
                    <a:lnTo>
                      <a:pt x="163" y="45"/>
                    </a:lnTo>
                    <a:lnTo>
                      <a:pt x="104" y="65"/>
                    </a:lnTo>
                    <a:lnTo>
                      <a:pt x="44" y="93"/>
                    </a:lnTo>
                    <a:lnTo>
                      <a:pt x="40" y="108"/>
                    </a:lnTo>
                    <a:lnTo>
                      <a:pt x="29" y="150"/>
                    </a:lnTo>
                    <a:lnTo>
                      <a:pt x="17" y="216"/>
                    </a:lnTo>
                    <a:lnTo>
                      <a:pt x="5" y="301"/>
                    </a:lnTo>
                    <a:lnTo>
                      <a:pt x="0" y="402"/>
                    </a:lnTo>
                    <a:lnTo>
                      <a:pt x="4" y="516"/>
                    </a:lnTo>
                    <a:lnTo>
                      <a:pt x="21" y="638"/>
                    </a:lnTo>
                    <a:lnTo>
                      <a:pt x="57" y="763"/>
                    </a:lnTo>
                    <a:lnTo>
                      <a:pt x="60" y="763"/>
                    </a:lnTo>
                    <a:lnTo>
                      <a:pt x="69" y="762"/>
                    </a:lnTo>
                    <a:lnTo>
                      <a:pt x="84" y="759"/>
                    </a:lnTo>
                    <a:lnTo>
                      <a:pt x="105" y="758"/>
                    </a:lnTo>
                    <a:lnTo>
                      <a:pt x="131" y="756"/>
                    </a:lnTo>
                    <a:lnTo>
                      <a:pt x="162" y="754"/>
                    </a:lnTo>
                    <a:lnTo>
                      <a:pt x="198" y="753"/>
                    </a:lnTo>
                    <a:lnTo>
                      <a:pt x="239" y="751"/>
                    </a:lnTo>
                    <a:lnTo>
                      <a:pt x="283" y="750"/>
                    </a:lnTo>
                    <a:lnTo>
                      <a:pt x="331" y="751"/>
                    </a:lnTo>
                    <a:lnTo>
                      <a:pt x="384" y="753"/>
                    </a:lnTo>
                    <a:lnTo>
                      <a:pt x="440" y="755"/>
                    </a:lnTo>
                    <a:lnTo>
                      <a:pt x="498" y="759"/>
                    </a:lnTo>
                    <a:lnTo>
                      <a:pt x="560" y="765"/>
                    </a:lnTo>
                    <a:lnTo>
                      <a:pt x="624" y="773"/>
                    </a:lnTo>
                    <a:lnTo>
                      <a:pt x="690" y="782"/>
                    </a:lnTo>
                    <a:lnTo>
                      <a:pt x="687" y="759"/>
                    </a:lnTo>
                    <a:lnTo>
                      <a:pt x="680" y="697"/>
                    </a:lnTo>
                    <a:lnTo>
                      <a:pt x="670" y="604"/>
                    </a:lnTo>
                    <a:lnTo>
                      <a:pt x="662" y="492"/>
                    </a:lnTo>
                    <a:lnTo>
                      <a:pt x="656" y="368"/>
                    </a:lnTo>
                    <a:lnTo>
                      <a:pt x="656" y="244"/>
                    </a:lnTo>
                    <a:lnTo>
                      <a:pt x="665" y="128"/>
                    </a:lnTo>
                    <a:lnTo>
                      <a:pt x="684" y="2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992920" y="3668040"/>
                <a:ext cx="168480" cy="116640"/>
              </a:xfrm>
              <a:custGeom>
                <a:avLst/>
                <a:gdLst/>
                <a:ahLst/>
                <a:rect l="l" t="t" r="r" b="b"/>
                <a:pathLst>
                  <a:path w="1139" h="778">
                    <a:moveTo>
                      <a:pt x="7" y="587"/>
                    </a:moveTo>
                    <a:lnTo>
                      <a:pt x="0" y="682"/>
                    </a:lnTo>
                    <a:lnTo>
                      <a:pt x="742" y="778"/>
                    </a:lnTo>
                    <a:lnTo>
                      <a:pt x="748" y="775"/>
                    </a:lnTo>
                    <a:lnTo>
                      <a:pt x="763" y="767"/>
                    </a:lnTo>
                    <a:lnTo>
                      <a:pt x="787" y="755"/>
                    </a:lnTo>
                    <a:lnTo>
                      <a:pt x="816" y="737"/>
                    </a:lnTo>
                    <a:lnTo>
                      <a:pt x="852" y="714"/>
                    </a:lnTo>
                    <a:lnTo>
                      <a:pt x="891" y="686"/>
                    </a:lnTo>
                    <a:lnTo>
                      <a:pt x="932" y="652"/>
                    </a:lnTo>
                    <a:lnTo>
                      <a:pt x="973" y="613"/>
                    </a:lnTo>
                    <a:lnTo>
                      <a:pt x="1013" y="570"/>
                    </a:lnTo>
                    <a:lnTo>
                      <a:pt x="1051" y="521"/>
                    </a:lnTo>
                    <a:lnTo>
                      <a:pt x="1083" y="466"/>
                    </a:lnTo>
                    <a:lnTo>
                      <a:pt x="1109" y="406"/>
                    </a:lnTo>
                    <a:lnTo>
                      <a:pt x="1129" y="342"/>
                    </a:lnTo>
                    <a:lnTo>
                      <a:pt x="1139" y="271"/>
                    </a:lnTo>
                    <a:lnTo>
                      <a:pt x="1138" y="196"/>
                    </a:lnTo>
                    <a:lnTo>
                      <a:pt x="1124" y="115"/>
                    </a:lnTo>
                    <a:lnTo>
                      <a:pt x="1122" y="110"/>
                    </a:lnTo>
                    <a:lnTo>
                      <a:pt x="1115" y="97"/>
                    </a:lnTo>
                    <a:lnTo>
                      <a:pt x="1102" y="80"/>
                    </a:lnTo>
                    <a:lnTo>
                      <a:pt x="1086" y="59"/>
                    </a:lnTo>
                    <a:lnTo>
                      <a:pt x="1066" y="39"/>
                    </a:lnTo>
                    <a:lnTo>
                      <a:pt x="1041" y="20"/>
                    </a:lnTo>
                    <a:lnTo>
                      <a:pt x="1011" y="7"/>
                    </a:lnTo>
                    <a:lnTo>
                      <a:pt x="978" y="0"/>
                    </a:lnTo>
                    <a:lnTo>
                      <a:pt x="982" y="12"/>
                    </a:lnTo>
                    <a:lnTo>
                      <a:pt x="994" y="46"/>
                    </a:lnTo>
                    <a:lnTo>
                      <a:pt x="1007" y="100"/>
                    </a:lnTo>
                    <a:lnTo>
                      <a:pt x="1019" y="169"/>
                    </a:lnTo>
                    <a:lnTo>
                      <a:pt x="1022" y="252"/>
                    </a:lnTo>
                    <a:lnTo>
                      <a:pt x="1013" y="344"/>
                    </a:lnTo>
                    <a:lnTo>
                      <a:pt x="987" y="444"/>
                    </a:lnTo>
                    <a:lnTo>
                      <a:pt x="940" y="549"/>
                    </a:lnTo>
                    <a:lnTo>
                      <a:pt x="939" y="550"/>
                    </a:lnTo>
                    <a:lnTo>
                      <a:pt x="934" y="553"/>
                    </a:lnTo>
                    <a:lnTo>
                      <a:pt x="927" y="559"/>
                    </a:lnTo>
                    <a:lnTo>
                      <a:pt x="917" y="567"/>
                    </a:lnTo>
                    <a:lnTo>
                      <a:pt x="904" y="575"/>
                    </a:lnTo>
                    <a:lnTo>
                      <a:pt x="890" y="585"/>
                    </a:lnTo>
                    <a:lnTo>
                      <a:pt x="871" y="594"/>
                    </a:lnTo>
                    <a:lnTo>
                      <a:pt x="851" y="603"/>
                    </a:lnTo>
                    <a:lnTo>
                      <a:pt x="828" y="611"/>
                    </a:lnTo>
                    <a:lnTo>
                      <a:pt x="802" y="619"/>
                    </a:lnTo>
                    <a:lnTo>
                      <a:pt x="773" y="625"/>
                    </a:lnTo>
                    <a:lnTo>
                      <a:pt x="741" y="629"/>
                    </a:lnTo>
                    <a:lnTo>
                      <a:pt x="708" y="630"/>
                    </a:lnTo>
                    <a:lnTo>
                      <a:pt x="671" y="629"/>
                    </a:lnTo>
                    <a:lnTo>
                      <a:pt x="631" y="626"/>
                    </a:lnTo>
                    <a:lnTo>
                      <a:pt x="590" y="618"/>
                    </a:lnTo>
                    <a:lnTo>
                      <a:pt x="590" y="720"/>
                    </a:lnTo>
                    <a:lnTo>
                      <a:pt x="26" y="663"/>
                    </a:lnTo>
                    <a:lnTo>
                      <a:pt x="7" y="5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972040" y="3782880"/>
                <a:ext cx="123120" cy="39960"/>
              </a:xfrm>
              <a:custGeom>
                <a:avLst/>
                <a:gdLst/>
                <a:ahLst/>
                <a:rect l="l" t="t" r="r" b="b"/>
                <a:pathLst>
                  <a:path w="837" h="269">
                    <a:moveTo>
                      <a:pt x="837" y="96"/>
                    </a:moveTo>
                    <a:lnTo>
                      <a:pt x="12" y="0"/>
                    </a:lnTo>
                    <a:lnTo>
                      <a:pt x="0" y="96"/>
                    </a:lnTo>
                    <a:lnTo>
                      <a:pt x="812" y="269"/>
                    </a:lnTo>
                    <a:lnTo>
                      <a:pt x="837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033240" y="3795480"/>
                <a:ext cx="52560" cy="19080"/>
              </a:xfrm>
              <a:custGeom>
                <a:avLst/>
                <a:gdLst/>
                <a:ahLst/>
                <a:rect l="l" t="t" r="r" b="b"/>
                <a:pathLst>
                  <a:path w="358" h="122">
                    <a:moveTo>
                      <a:pt x="358" y="53"/>
                    </a:moveTo>
                    <a:lnTo>
                      <a:pt x="5" y="0"/>
                    </a:lnTo>
                    <a:lnTo>
                      <a:pt x="0" y="51"/>
                    </a:lnTo>
                    <a:lnTo>
                      <a:pt x="348" y="122"/>
                    </a:lnTo>
                    <a:lnTo>
                      <a:pt x="358" y="53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979240" y="3785760"/>
                <a:ext cx="34920" cy="13680"/>
              </a:xfrm>
              <a:custGeom>
                <a:avLst/>
                <a:gdLst/>
                <a:ahLst/>
                <a:rect l="l" t="t" r="r" b="b"/>
                <a:pathLst>
                  <a:path w="239" h="91">
                    <a:moveTo>
                      <a:pt x="239" y="42"/>
                    </a:moveTo>
                    <a:lnTo>
                      <a:pt x="0" y="0"/>
                    </a:lnTo>
                    <a:lnTo>
                      <a:pt x="2" y="44"/>
                    </a:lnTo>
                    <a:lnTo>
                      <a:pt x="231" y="91"/>
                    </a:lnTo>
                    <a:lnTo>
                      <a:pt x="239" y="42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890680" y="3799800"/>
                <a:ext cx="208440" cy="70200"/>
              </a:xfrm>
              <a:custGeom>
                <a:avLst/>
                <a:gdLst/>
                <a:ahLst/>
                <a:rect l="l" t="t" r="r" b="b"/>
                <a:pathLst>
                  <a:path w="1409" h="466">
                    <a:moveTo>
                      <a:pt x="0" y="140"/>
                    </a:moveTo>
                    <a:lnTo>
                      <a:pt x="4" y="140"/>
                    </a:lnTo>
                    <a:lnTo>
                      <a:pt x="12" y="138"/>
                    </a:lnTo>
                    <a:lnTo>
                      <a:pt x="27" y="135"/>
                    </a:lnTo>
                    <a:lnTo>
                      <a:pt x="45" y="132"/>
                    </a:lnTo>
                    <a:lnTo>
                      <a:pt x="67" y="128"/>
                    </a:lnTo>
                    <a:lnTo>
                      <a:pt x="92" y="123"/>
                    </a:lnTo>
                    <a:lnTo>
                      <a:pt x="120" y="116"/>
                    </a:lnTo>
                    <a:lnTo>
                      <a:pt x="150" y="108"/>
                    </a:lnTo>
                    <a:lnTo>
                      <a:pt x="181" y="100"/>
                    </a:lnTo>
                    <a:lnTo>
                      <a:pt x="212" y="89"/>
                    </a:lnTo>
                    <a:lnTo>
                      <a:pt x="243" y="78"/>
                    </a:lnTo>
                    <a:lnTo>
                      <a:pt x="273" y="65"/>
                    </a:lnTo>
                    <a:lnTo>
                      <a:pt x="303" y="50"/>
                    </a:lnTo>
                    <a:lnTo>
                      <a:pt x="330" y="35"/>
                    </a:lnTo>
                    <a:lnTo>
                      <a:pt x="355" y="18"/>
                    </a:lnTo>
                    <a:lnTo>
                      <a:pt x="375" y="0"/>
                    </a:lnTo>
                    <a:lnTo>
                      <a:pt x="1409" y="236"/>
                    </a:lnTo>
                    <a:lnTo>
                      <a:pt x="1407" y="239"/>
                    </a:lnTo>
                    <a:lnTo>
                      <a:pt x="1401" y="245"/>
                    </a:lnTo>
                    <a:lnTo>
                      <a:pt x="1392" y="254"/>
                    </a:lnTo>
                    <a:lnTo>
                      <a:pt x="1379" y="265"/>
                    </a:lnTo>
                    <a:lnTo>
                      <a:pt x="1363" y="279"/>
                    </a:lnTo>
                    <a:lnTo>
                      <a:pt x="1345" y="295"/>
                    </a:lnTo>
                    <a:lnTo>
                      <a:pt x="1325" y="313"/>
                    </a:lnTo>
                    <a:lnTo>
                      <a:pt x="1303" y="332"/>
                    </a:lnTo>
                    <a:lnTo>
                      <a:pt x="1279" y="351"/>
                    </a:lnTo>
                    <a:lnTo>
                      <a:pt x="1253" y="371"/>
                    </a:lnTo>
                    <a:lnTo>
                      <a:pt x="1227" y="390"/>
                    </a:lnTo>
                    <a:lnTo>
                      <a:pt x="1200" y="409"/>
                    </a:lnTo>
                    <a:lnTo>
                      <a:pt x="1172" y="426"/>
                    </a:lnTo>
                    <a:lnTo>
                      <a:pt x="1145" y="441"/>
                    </a:lnTo>
                    <a:lnTo>
                      <a:pt x="1117" y="455"/>
                    </a:lnTo>
                    <a:lnTo>
                      <a:pt x="1091" y="466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098400" y="3792240"/>
                <a:ext cx="74520" cy="33480"/>
              </a:xfrm>
              <a:custGeom>
                <a:avLst/>
                <a:gdLst/>
                <a:ahLst/>
                <a:rect l="l" t="t" r="r" b="b"/>
                <a:pathLst>
                  <a:path w="502" h="223">
                    <a:moveTo>
                      <a:pt x="51" y="223"/>
                    </a:moveTo>
                    <a:lnTo>
                      <a:pt x="502" y="90"/>
                    </a:lnTo>
                    <a:lnTo>
                      <a:pt x="229" y="0"/>
                    </a:lnTo>
                    <a:lnTo>
                      <a:pt x="6" y="26"/>
                    </a:lnTo>
                    <a:lnTo>
                      <a:pt x="0" y="211"/>
                    </a:lnTo>
                    <a:lnTo>
                      <a:pt x="51" y="2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906880" y="3647880"/>
                <a:ext cx="39240" cy="160200"/>
              </a:xfrm>
              <a:custGeom>
                <a:avLst/>
                <a:gdLst/>
                <a:ahLst/>
                <a:rect l="l" t="t" r="r" b="b"/>
                <a:pathLst>
                  <a:path w="267" h="1064">
                    <a:moveTo>
                      <a:pt x="267" y="26"/>
                    </a:moveTo>
                    <a:lnTo>
                      <a:pt x="266" y="24"/>
                    </a:lnTo>
                    <a:lnTo>
                      <a:pt x="262" y="22"/>
                    </a:lnTo>
                    <a:lnTo>
                      <a:pt x="254" y="20"/>
                    </a:lnTo>
                    <a:lnTo>
                      <a:pt x="244" y="16"/>
                    </a:lnTo>
                    <a:lnTo>
                      <a:pt x="232" y="12"/>
                    </a:lnTo>
                    <a:lnTo>
                      <a:pt x="218" y="8"/>
                    </a:lnTo>
                    <a:lnTo>
                      <a:pt x="202" y="5"/>
                    </a:lnTo>
                    <a:lnTo>
                      <a:pt x="184" y="1"/>
                    </a:lnTo>
                    <a:lnTo>
                      <a:pt x="164" y="0"/>
                    </a:lnTo>
                    <a:lnTo>
                      <a:pt x="143" y="0"/>
                    </a:lnTo>
                    <a:lnTo>
                      <a:pt x="121" y="3"/>
                    </a:lnTo>
                    <a:lnTo>
                      <a:pt x="98" y="6"/>
                    </a:lnTo>
                    <a:lnTo>
                      <a:pt x="74" y="13"/>
                    </a:lnTo>
                    <a:lnTo>
                      <a:pt x="50" y="22"/>
                    </a:lnTo>
                    <a:lnTo>
                      <a:pt x="25" y="35"/>
                    </a:lnTo>
                    <a:lnTo>
                      <a:pt x="0" y="51"/>
                    </a:lnTo>
                    <a:lnTo>
                      <a:pt x="0" y="1064"/>
                    </a:lnTo>
                    <a:lnTo>
                      <a:pt x="1" y="1064"/>
                    </a:lnTo>
                    <a:lnTo>
                      <a:pt x="7" y="1064"/>
                    </a:lnTo>
                    <a:lnTo>
                      <a:pt x="15" y="1063"/>
                    </a:lnTo>
                    <a:lnTo>
                      <a:pt x="25" y="1062"/>
                    </a:lnTo>
                    <a:lnTo>
                      <a:pt x="37" y="1060"/>
                    </a:lnTo>
                    <a:lnTo>
                      <a:pt x="52" y="1057"/>
                    </a:lnTo>
                    <a:lnTo>
                      <a:pt x="69" y="1054"/>
                    </a:lnTo>
                    <a:lnTo>
                      <a:pt x="88" y="1049"/>
                    </a:lnTo>
                    <a:lnTo>
                      <a:pt x="108" y="1044"/>
                    </a:lnTo>
                    <a:lnTo>
                      <a:pt x="129" y="1037"/>
                    </a:lnTo>
                    <a:lnTo>
                      <a:pt x="152" y="1029"/>
                    </a:lnTo>
                    <a:lnTo>
                      <a:pt x="175" y="1018"/>
                    </a:lnTo>
                    <a:lnTo>
                      <a:pt x="198" y="1007"/>
                    </a:lnTo>
                    <a:lnTo>
                      <a:pt x="222" y="994"/>
                    </a:lnTo>
                    <a:lnTo>
                      <a:pt x="244" y="979"/>
                    </a:lnTo>
                    <a:lnTo>
                      <a:pt x="267" y="962"/>
                    </a:lnTo>
                    <a:lnTo>
                      <a:pt x="267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907960" y="3650040"/>
                <a:ext cx="33840" cy="134640"/>
              </a:xfrm>
              <a:custGeom>
                <a:avLst/>
                <a:gdLst/>
                <a:ahLst/>
                <a:rect l="l" t="t" r="r" b="b"/>
                <a:pathLst>
                  <a:path w="228" h="898">
                    <a:moveTo>
                      <a:pt x="228" y="21"/>
                    </a:moveTo>
                    <a:lnTo>
                      <a:pt x="227" y="20"/>
                    </a:lnTo>
                    <a:lnTo>
                      <a:pt x="224" y="19"/>
                    </a:lnTo>
                    <a:lnTo>
                      <a:pt x="217" y="17"/>
                    </a:lnTo>
                    <a:lnTo>
                      <a:pt x="209" y="13"/>
                    </a:lnTo>
                    <a:lnTo>
                      <a:pt x="199" y="10"/>
                    </a:lnTo>
                    <a:lnTo>
                      <a:pt x="186" y="6"/>
                    </a:lnTo>
                    <a:lnTo>
                      <a:pt x="172" y="4"/>
                    </a:lnTo>
                    <a:lnTo>
                      <a:pt x="157" y="2"/>
                    </a:lnTo>
                    <a:lnTo>
                      <a:pt x="140" y="0"/>
                    </a:lnTo>
                    <a:lnTo>
                      <a:pt x="122" y="0"/>
                    </a:lnTo>
                    <a:lnTo>
                      <a:pt x="104" y="2"/>
                    </a:lnTo>
                    <a:lnTo>
                      <a:pt x="83" y="5"/>
                    </a:lnTo>
                    <a:lnTo>
                      <a:pt x="64" y="11"/>
                    </a:lnTo>
                    <a:lnTo>
                      <a:pt x="42" y="19"/>
                    </a:lnTo>
                    <a:lnTo>
                      <a:pt x="21" y="29"/>
                    </a:lnTo>
                    <a:lnTo>
                      <a:pt x="0" y="43"/>
                    </a:lnTo>
                    <a:lnTo>
                      <a:pt x="0" y="898"/>
                    </a:lnTo>
                    <a:lnTo>
                      <a:pt x="1" y="898"/>
                    </a:lnTo>
                    <a:lnTo>
                      <a:pt x="5" y="898"/>
                    </a:lnTo>
                    <a:lnTo>
                      <a:pt x="12" y="897"/>
                    </a:lnTo>
                    <a:lnTo>
                      <a:pt x="21" y="896"/>
                    </a:lnTo>
                    <a:lnTo>
                      <a:pt x="32" y="894"/>
                    </a:lnTo>
                    <a:lnTo>
                      <a:pt x="45" y="892"/>
                    </a:lnTo>
                    <a:lnTo>
                      <a:pt x="59" y="889"/>
                    </a:lnTo>
                    <a:lnTo>
                      <a:pt x="75" y="884"/>
                    </a:lnTo>
                    <a:lnTo>
                      <a:pt x="92" y="879"/>
                    </a:lnTo>
                    <a:lnTo>
                      <a:pt x="111" y="874"/>
                    </a:lnTo>
                    <a:lnTo>
                      <a:pt x="130" y="867"/>
                    </a:lnTo>
                    <a:lnTo>
                      <a:pt x="149" y="858"/>
                    </a:lnTo>
                    <a:lnTo>
                      <a:pt x="169" y="848"/>
                    </a:lnTo>
                    <a:lnTo>
                      <a:pt x="190" y="837"/>
                    </a:lnTo>
                    <a:lnTo>
                      <a:pt x="209" y="824"/>
                    </a:lnTo>
                    <a:lnTo>
                      <a:pt x="228" y="809"/>
                    </a:lnTo>
                    <a:lnTo>
                      <a:pt x="228" y="21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909040" y="3651120"/>
                <a:ext cx="27720" cy="109440"/>
              </a:xfrm>
              <a:custGeom>
                <a:avLst/>
                <a:gdLst/>
                <a:ahLst/>
                <a:rect l="l" t="t" r="r" b="b"/>
                <a:pathLst>
                  <a:path w="192" h="729">
                    <a:moveTo>
                      <a:pt x="192" y="17"/>
                    </a:moveTo>
                    <a:lnTo>
                      <a:pt x="191" y="17"/>
                    </a:lnTo>
                    <a:lnTo>
                      <a:pt x="187" y="15"/>
                    </a:lnTo>
                    <a:lnTo>
                      <a:pt x="183" y="12"/>
                    </a:lnTo>
                    <a:lnTo>
                      <a:pt x="176" y="10"/>
                    </a:lnTo>
                    <a:lnTo>
                      <a:pt x="167" y="8"/>
                    </a:lnTo>
                    <a:lnTo>
                      <a:pt x="156" y="4"/>
                    </a:lnTo>
                    <a:lnTo>
                      <a:pt x="145" y="2"/>
                    </a:lnTo>
                    <a:lnTo>
                      <a:pt x="132" y="0"/>
                    </a:lnTo>
                    <a:lnTo>
                      <a:pt x="117" y="0"/>
                    </a:lnTo>
                    <a:lnTo>
                      <a:pt x="102" y="0"/>
                    </a:lnTo>
                    <a:lnTo>
                      <a:pt x="86" y="1"/>
                    </a:lnTo>
                    <a:lnTo>
                      <a:pt x="70" y="3"/>
                    </a:lnTo>
                    <a:lnTo>
                      <a:pt x="53" y="8"/>
                    </a:lnTo>
                    <a:lnTo>
                      <a:pt x="35" y="15"/>
                    </a:lnTo>
                    <a:lnTo>
                      <a:pt x="18" y="24"/>
                    </a:lnTo>
                    <a:lnTo>
                      <a:pt x="0" y="35"/>
                    </a:lnTo>
                    <a:lnTo>
                      <a:pt x="0" y="729"/>
                    </a:lnTo>
                    <a:lnTo>
                      <a:pt x="1" y="729"/>
                    </a:lnTo>
                    <a:lnTo>
                      <a:pt x="4" y="729"/>
                    </a:lnTo>
                    <a:lnTo>
                      <a:pt x="10" y="728"/>
                    </a:lnTo>
                    <a:lnTo>
                      <a:pt x="18" y="727"/>
                    </a:lnTo>
                    <a:lnTo>
                      <a:pt x="27" y="726"/>
                    </a:lnTo>
                    <a:lnTo>
                      <a:pt x="37" y="725"/>
                    </a:lnTo>
                    <a:lnTo>
                      <a:pt x="50" y="721"/>
                    </a:lnTo>
                    <a:lnTo>
                      <a:pt x="64" y="719"/>
                    </a:lnTo>
                    <a:lnTo>
                      <a:pt x="77" y="714"/>
                    </a:lnTo>
                    <a:lnTo>
                      <a:pt x="92" y="710"/>
                    </a:lnTo>
                    <a:lnTo>
                      <a:pt x="108" y="704"/>
                    </a:lnTo>
                    <a:lnTo>
                      <a:pt x="125" y="697"/>
                    </a:lnTo>
                    <a:lnTo>
                      <a:pt x="141" y="689"/>
                    </a:lnTo>
                    <a:lnTo>
                      <a:pt x="159" y="680"/>
                    </a:lnTo>
                    <a:lnTo>
                      <a:pt x="176" y="668"/>
                    </a:lnTo>
                    <a:lnTo>
                      <a:pt x="192" y="657"/>
                    </a:lnTo>
                    <a:lnTo>
                      <a:pt x="192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910120" y="3651840"/>
                <a:ext cx="22680" cy="85320"/>
              </a:xfrm>
              <a:custGeom>
                <a:avLst/>
                <a:gdLst/>
                <a:ahLst/>
                <a:rect l="l" t="t" r="r" b="b"/>
                <a:pathLst>
                  <a:path w="156" h="564">
                    <a:moveTo>
                      <a:pt x="156" y="15"/>
                    </a:moveTo>
                    <a:lnTo>
                      <a:pt x="153" y="14"/>
                    </a:lnTo>
                    <a:lnTo>
                      <a:pt x="142" y="9"/>
                    </a:lnTo>
                    <a:lnTo>
                      <a:pt x="127" y="4"/>
                    </a:lnTo>
                    <a:lnTo>
                      <a:pt x="108" y="1"/>
                    </a:lnTo>
                    <a:lnTo>
                      <a:pt x="84" y="0"/>
                    </a:lnTo>
                    <a:lnTo>
                      <a:pt x="58" y="3"/>
                    </a:lnTo>
                    <a:lnTo>
                      <a:pt x="29" y="12"/>
                    </a:lnTo>
                    <a:lnTo>
                      <a:pt x="0" y="28"/>
                    </a:lnTo>
                    <a:lnTo>
                      <a:pt x="0" y="564"/>
                    </a:lnTo>
                    <a:lnTo>
                      <a:pt x="4" y="564"/>
                    </a:lnTo>
                    <a:lnTo>
                      <a:pt x="15" y="563"/>
                    </a:lnTo>
                    <a:lnTo>
                      <a:pt x="31" y="560"/>
                    </a:lnTo>
                    <a:lnTo>
                      <a:pt x="52" y="555"/>
                    </a:lnTo>
                    <a:lnTo>
                      <a:pt x="76" y="548"/>
                    </a:lnTo>
                    <a:lnTo>
                      <a:pt x="102" y="537"/>
                    </a:lnTo>
                    <a:lnTo>
                      <a:pt x="128" y="524"/>
                    </a:lnTo>
                    <a:lnTo>
                      <a:pt x="156" y="505"/>
                    </a:lnTo>
                    <a:lnTo>
                      <a:pt x="156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911200" y="3654000"/>
                <a:ext cx="17280" cy="59040"/>
              </a:xfrm>
              <a:custGeom>
                <a:avLst/>
                <a:gdLst/>
                <a:ahLst/>
                <a:rect l="l" t="t" r="r" b="b"/>
                <a:pathLst>
                  <a:path w="117" h="396">
                    <a:moveTo>
                      <a:pt x="117" y="10"/>
                    </a:moveTo>
                    <a:lnTo>
                      <a:pt x="115" y="9"/>
                    </a:lnTo>
                    <a:lnTo>
                      <a:pt x="107" y="6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63" y="0"/>
                    </a:lnTo>
                    <a:lnTo>
                      <a:pt x="43" y="2"/>
                    </a:lnTo>
                    <a:lnTo>
                      <a:pt x="22" y="9"/>
                    </a:lnTo>
                    <a:lnTo>
                      <a:pt x="0" y="22"/>
                    </a:lnTo>
                    <a:lnTo>
                      <a:pt x="0" y="396"/>
                    </a:lnTo>
                    <a:lnTo>
                      <a:pt x="3" y="396"/>
                    </a:lnTo>
                    <a:lnTo>
                      <a:pt x="11" y="395"/>
                    </a:lnTo>
                    <a:lnTo>
                      <a:pt x="23" y="393"/>
                    </a:lnTo>
                    <a:lnTo>
                      <a:pt x="39" y="389"/>
                    </a:lnTo>
                    <a:lnTo>
                      <a:pt x="58" y="385"/>
                    </a:lnTo>
                    <a:lnTo>
                      <a:pt x="77" y="377"/>
                    </a:lnTo>
                    <a:lnTo>
                      <a:pt x="96" y="365"/>
                    </a:lnTo>
                    <a:lnTo>
                      <a:pt x="117" y="351"/>
                    </a:lnTo>
                    <a:lnTo>
                      <a:pt x="117" y="10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911920" y="3655440"/>
                <a:ext cx="11160" cy="34560"/>
              </a:xfrm>
              <a:custGeom>
                <a:avLst/>
                <a:gdLst/>
                <a:ahLst/>
                <a:rect l="l" t="t" r="r" b="b"/>
                <a:pathLst>
                  <a:path w="80" h="230">
                    <a:moveTo>
                      <a:pt x="80" y="7"/>
                    </a:moveTo>
                    <a:lnTo>
                      <a:pt x="78" y="6"/>
                    </a:lnTo>
                    <a:lnTo>
                      <a:pt x="73" y="5"/>
                    </a:lnTo>
                    <a:lnTo>
                      <a:pt x="65" y="2"/>
                    </a:lnTo>
                    <a:lnTo>
                      <a:pt x="55" y="0"/>
                    </a:lnTo>
                    <a:lnTo>
                      <a:pt x="44" y="0"/>
                    </a:lnTo>
                    <a:lnTo>
                      <a:pt x="30" y="1"/>
                    </a:lnTo>
                    <a:lnTo>
                      <a:pt x="15" y="7"/>
                    </a:lnTo>
                    <a:lnTo>
                      <a:pt x="0" y="15"/>
                    </a:lnTo>
                    <a:lnTo>
                      <a:pt x="0" y="230"/>
                    </a:lnTo>
                    <a:lnTo>
                      <a:pt x="3" y="230"/>
                    </a:lnTo>
                    <a:lnTo>
                      <a:pt x="7" y="229"/>
                    </a:lnTo>
                    <a:lnTo>
                      <a:pt x="16" y="228"/>
                    </a:lnTo>
                    <a:lnTo>
                      <a:pt x="27" y="225"/>
                    </a:lnTo>
                    <a:lnTo>
                      <a:pt x="39" y="222"/>
                    </a:lnTo>
                    <a:lnTo>
                      <a:pt x="53" y="216"/>
                    </a:lnTo>
                    <a:lnTo>
                      <a:pt x="67" y="208"/>
                    </a:lnTo>
                    <a:lnTo>
                      <a:pt x="80" y="199"/>
                    </a:lnTo>
                    <a:lnTo>
                      <a:pt x="80" y="7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054840" y="3754440"/>
                <a:ext cx="16200" cy="17640"/>
              </a:xfrm>
              <a:custGeom>
                <a:avLst/>
                <a:gdLst/>
                <a:ahLst/>
                <a:rect l="l" t="t" r="r" b="b"/>
                <a:pathLst>
                  <a:path w="117" h="117">
                    <a:moveTo>
                      <a:pt x="58" y="117"/>
                    </a:moveTo>
                    <a:lnTo>
                      <a:pt x="70" y="116"/>
                    </a:lnTo>
                    <a:lnTo>
                      <a:pt x="81" y="112"/>
                    </a:lnTo>
                    <a:lnTo>
                      <a:pt x="90" y="106"/>
                    </a:lnTo>
                    <a:lnTo>
                      <a:pt x="100" y="100"/>
                    </a:lnTo>
                    <a:lnTo>
                      <a:pt x="106" y="90"/>
                    </a:lnTo>
                    <a:lnTo>
                      <a:pt x="112" y="81"/>
                    </a:lnTo>
                    <a:lnTo>
                      <a:pt x="116" y="70"/>
                    </a:lnTo>
                    <a:lnTo>
                      <a:pt x="117" y="58"/>
                    </a:lnTo>
                    <a:lnTo>
                      <a:pt x="116" y="46"/>
                    </a:lnTo>
                    <a:lnTo>
                      <a:pt x="112" y="35"/>
                    </a:lnTo>
                    <a:lnTo>
                      <a:pt x="106" y="25"/>
                    </a:lnTo>
                    <a:lnTo>
                      <a:pt x="100" y="17"/>
                    </a:lnTo>
                    <a:lnTo>
                      <a:pt x="90" y="9"/>
                    </a:lnTo>
                    <a:lnTo>
                      <a:pt x="81" y="4"/>
                    </a:lnTo>
                    <a:lnTo>
                      <a:pt x="70" y="1"/>
                    </a:lnTo>
                    <a:lnTo>
                      <a:pt x="58" y="0"/>
                    </a:lnTo>
                    <a:lnTo>
                      <a:pt x="47" y="1"/>
                    </a:lnTo>
                    <a:lnTo>
                      <a:pt x="36" y="4"/>
                    </a:lnTo>
                    <a:lnTo>
                      <a:pt x="26" y="9"/>
                    </a:lnTo>
                    <a:lnTo>
                      <a:pt x="17" y="17"/>
                    </a:lnTo>
                    <a:lnTo>
                      <a:pt x="10" y="25"/>
                    </a:lnTo>
                    <a:lnTo>
                      <a:pt x="5" y="35"/>
                    </a:lnTo>
                    <a:lnTo>
                      <a:pt x="1" y="46"/>
                    </a:lnTo>
                    <a:lnTo>
                      <a:pt x="0" y="58"/>
                    </a:lnTo>
                    <a:lnTo>
                      <a:pt x="1" y="70"/>
                    </a:lnTo>
                    <a:lnTo>
                      <a:pt x="5" y="81"/>
                    </a:lnTo>
                    <a:lnTo>
                      <a:pt x="10" y="90"/>
                    </a:lnTo>
                    <a:lnTo>
                      <a:pt x="17" y="100"/>
                    </a:lnTo>
                    <a:lnTo>
                      <a:pt x="26" y="106"/>
                    </a:lnTo>
                    <a:lnTo>
                      <a:pt x="36" y="112"/>
                    </a:lnTo>
                    <a:lnTo>
                      <a:pt x="47" y="116"/>
                    </a:lnTo>
                    <a:lnTo>
                      <a:pt x="58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001200" y="375444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29" y="59"/>
                    </a:moveTo>
                    <a:lnTo>
                      <a:pt x="40" y="56"/>
                    </a:lnTo>
                    <a:lnTo>
                      <a:pt x="50" y="49"/>
                    </a:lnTo>
                    <a:lnTo>
                      <a:pt x="56" y="40"/>
                    </a:lnTo>
                    <a:lnTo>
                      <a:pt x="58" y="29"/>
                    </a:lnTo>
                    <a:lnTo>
                      <a:pt x="56" y="17"/>
                    </a:lnTo>
                    <a:lnTo>
                      <a:pt x="50" y="8"/>
                    </a:lnTo>
                    <a:lnTo>
                      <a:pt x="40" y="2"/>
                    </a:lnTo>
                    <a:lnTo>
                      <a:pt x="29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9"/>
                    </a:lnTo>
                    <a:lnTo>
                      <a:pt x="2" y="40"/>
                    </a:lnTo>
                    <a:lnTo>
                      <a:pt x="8" y="49"/>
                    </a:lnTo>
                    <a:lnTo>
                      <a:pt x="17" y="56"/>
                    </a:lnTo>
                    <a:lnTo>
                      <a:pt x="29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016680" y="3755520"/>
                <a:ext cx="7920" cy="828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29" y="59"/>
                    </a:moveTo>
                    <a:lnTo>
                      <a:pt x="41" y="57"/>
                    </a:lnTo>
                    <a:lnTo>
                      <a:pt x="50" y="51"/>
                    </a:lnTo>
                    <a:lnTo>
                      <a:pt x="56" y="42"/>
                    </a:lnTo>
                    <a:lnTo>
                      <a:pt x="58" y="30"/>
                    </a:lnTo>
                    <a:lnTo>
                      <a:pt x="56" y="19"/>
                    </a:lnTo>
                    <a:lnTo>
                      <a:pt x="50" y="9"/>
                    </a:lnTo>
                    <a:lnTo>
                      <a:pt x="41" y="3"/>
                    </a:lnTo>
                    <a:lnTo>
                      <a:pt x="29" y="0"/>
                    </a:lnTo>
                    <a:lnTo>
                      <a:pt x="18" y="3"/>
                    </a:lnTo>
                    <a:lnTo>
                      <a:pt x="9" y="9"/>
                    </a:lnTo>
                    <a:lnTo>
                      <a:pt x="2" y="19"/>
                    </a:lnTo>
                    <a:lnTo>
                      <a:pt x="0" y="30"/>
                    </a:lnTo>
                    <a:lnTo>
                      <a:pt x="2" y="42"/>
                    </a:lnTo>
                    <a:lnTo>
                      <a:pt x="9" y="51"/>
                    </a:lnTo>
                    <a:lnTo>
                      <a:pt x="18" y="57"/>
                    </a:lnTo>
                    <a:lnTo>
                      <a:pt x="29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958720" y="3634200"/>
                <a:ext cx="23400" cy="120240"/>
              </a:xfrm>
              <a:custGeom>
                <a:avLst/>
                <a:gdLst/>
                <a:ahLst/>
                <a:rect l="l" t="t" r="r" b="b"/>
                <a:pathLst>
                  <a:path w="166" h="800">
                    <a:moveTo>
                      <a:pt x="52" y="16"/>
                    </a:moveTo>
                    <a:lnTo>
                      <a:pt x="47" y="32"/>
                    </a:lnTo>
                    <a:lnTo>
                      <a:pt x="36" y="77"/>
                    </a:lnTo>
                    <a:lnTo>
                      <a:pt x="21" y="148"/>
                    </a:lnTo>
                    <a:lnTo>
                      <a:pt x="8" y="244"/>
                    </a:lnTo>
                    <a:lnTo>
                      <a:pt x="0" y="359"/>
                    </a:lnTo>
                    <a:lnTo>
                      <a:pt x="2" y="492"/>
                    </a:lnTo>
                    <a:lnTo>
                      <a:pt x="15" y="640"/>
                    </a:lnTo>
                    <a:lnTo>
                      <a:pt x="46" y="800"/>
                    </a:lnTo>
                    <a:lnTo>
                      <a:pt x="161" y="794"/>
                    </a:lnTo>
                    <a:lnTo>
                      <a:pt x="156" y="770"/>
                    </a:lnTo>
                    <a:lnTo>
                      <a:pt x="145" y="706"/>
                    </a:lnTo>
                    <a:lnTo>
                      <a:pt x="131" y="610"/>
                    </a:lnTo>
                    <a:lnTo>
                      <a:pt x="118" y="493"/>
                    </a:lnTo>
                    <a:lnTo>
                      <a:pt x="111" y="364"/>
                    </a:lnTo>
                    <a:lnTo>
                      <a:pt x="115" y="235"/>
                    </a:lnTo>
                    <a:lnTo>
                      <a:pt x="132" y="113"/>
                    </a:lnTo>
                    <a:lnTo>
                      <a:pt x="166" y="9"/>
                    </a:lnTo>
                    <a:lnTo>
                      <a:pt x="166" y="8"/>
                    </a:lnTo>
                    <a:lnTo>
                      <a:pt x="166" y="6"/>
                    </a:lnTo>
                    <a:lnTo>
                      <a:pt x="164" y="4"/>
                    </a:lnTo>
                    <a:lnTo>
                      <a:pt x="157" y="0"/>
                    </a:lnTo>
                    <a:lnTo>
                      <a:pt x="143" y="0"/>
                    </a:lnTo>
                    <a:lnTo>
                      <a:pt x="123" y="1"/>
                    </a:lnTo>
                    <a:lnTo>
                      <a:pt x="93" y="7"/>
                    </a:lnTo>
                    <a:lnTo>
                      <a:pt x="52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085080" y="3619440"/>
                <a:ext cx="32760" cy="134640"/>
              </a:xfrm>
              <a:custGeom>
                <a:avLst/>
                <a:gdLst/>
                <a:ahLst/>
                <a:rect l="l" t="t" r="r" b="b"/>
                <a:pathLst>
                  <a:path w="225" h="893">
                    <a:moveTo>
                      <a:pt x="225" y="6"/>
                    </a:moveTo>
                    <a:lnTo>
                      <a:pt x="219" y="12"/>
                    </a:lnTo>
                    <a:lnTo>
                      <a:pt x="204" y="35"/>
                    </a:lnTo>
                    <a:lnTo>
                      <a:pt x="185" y="82"/>
                    </a:lnTo>
                    <a:lnTo>
                      <a:pt x="165" y="158"/>
                    </a:lnTo>
                    <a:lnTo>
                      <a:pt x="149" y="270"/>
                    </a:lnTo>
                    <a:lnTo>
                      <a:pt x="141" y="427"/>
                    </a:lnTo>
                    <a:lnTo>
                      <a:pt x="146" y="631"/>
                    </a:lnTo>
                    <a:lnTo>
                      <a:pt x="168" y="893"/>
                    </a:lnTo>
                    <a:lnTo>
                      <a:pt x="41" y="893"/>
                    </a:lnTo>
                    <a:lnTo>
                      <a:pt x="36" y="867"/>
                    </a:lnTo>
                    <a:lnTo>
                      <a:pt x="26" y="794"/>
                    </a:lnTo>
                    <a:lnTo>
                      <a:pt x="13" y="686"/>
                    </a:lnTo>
                    <a:lnTo>
                      <a:pt x="3" y="554"/>
                    </a:lnTo>
                    <a:lnTo>
                      <a:pt x="0" y="408"/>
                    </a:lnTo>
                    <a:lnTo>
                      <a:pt x="6" y="260"/>
                    </a:lnTo>
                    <a:lnTo>
                      <a:pt x="30" y="121"/>
                    </a:lnTo>
                    <a:lnTo>
                      <a:pt x="73" y="0"/>
                    </a:lnTo>
                    <a:lnTo>
                      <a:pt x="225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958720" y="3641400"/>
                <a:ext cx="21240" cy="105120"/>
              </a:xfrm>
              <a:custGeom>
                <a:avLst/>
                <a:gdLst/>
                <a:ahLst/>
                <a:rect l="l" t="t" r="r" b="b"/>
                <a:pathLst>
                  <a:path w="145" h="699">
                    <a:moveTo>
                      <a:pt x="46" y="14"/>
                    </a:moveTo>
                    <a:lnTo>
                      <a:pt x="41" y="28"/>
                    </a:lnTo>
                    <a:lnTo>
                      <a:pt x="32" y="67"/>
                    </a:lnTo>
                    <a:lnTo>
                      <a:pt x="20" y="130"/>
                    </a:lnTo>
                    <a:lnTo>
                      <a:pt x="7" y="213"/>
                    </a:lnTo>
                    <a:lnTo>
                      <a:pt x="0" y="314"/>
                    </a:lnTo>
                    <a:lnTo>
                      <a:pt x="1" y="430"/>
                    </a:lnTo>
                    <a:lnTo>
                      <a:pt x="13" y="559"/>
                    </a:lnTo>
                    <a:lnTo>
                      <a:pt x="40" y="699"/>
                    </a:lnTo>
                    <a:lnTo>
                      <a:pt x="140" y="693"/>
                    </a:lnTo>
                    <a:lnTo>
                      <a:pt x="135" y="672"/>
                    </a:lnTo>
                    <a:lnTo>
                      <a:pt x="126" y="616"/>
                    </a:lnTo>
                    <a:lnTo>
                      <a:pt x="113" y="532"/>
                    </a:lnTo>
                    <a:lnTo>
                      <a:pt x="103" y="430"/>
                    </a:lnTo>
                    <a:lnTo>
                      <a:pt x="97" y="317"/>
                    </a:lnTo>
                    <a:lnTo>
                      <a:pt x="100" y="205"/>
                    </a:lnTo>
                    <a:lnTo>
                      <a:pt x="115" y="98"/>
                    </a:lnTo>
                    <a:lnTo>
                      <a:pt x="145" y="8"/>
                    </a:lnTo>
                    <a:lnTo>
                      <a:pt x="145" y="7"/>
                    </a:lnTo>
                    <a:lnTo>
                      <a:pt x="145" y="5"/>
                    </a:lnTo>
                    <a:lnTo>
                      <a:pt x="143" y="3"/>
                    </a:lnTo>
                    <a:lnTo>
                      <a:pt x="137" y="0"/>
                    </a:lnTo>
                    <a:lnTo>
                      <a:pt x="126" y="0"/>
                    </a:lnTo>
                    <a:lnTo>
                      <a:pt x="108" y="1"/>
                    </a:lnTo>
                    <a:lnTo>
                      <a:pt x="81" y="6"/>
                    </a:lnTo>
                    <a:lnTo>
                      <a:pt x="46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959800" y="3648960"/>
                <a:ext cx="18720" cy="89640"/>
              </a:xfrm>
              <a:custGeom>
                <a:avLst/>
                <a:gdLst/>
                <a:ahLst/>
                <a:rect l="l" t="t" r="r" b="b"/>
                <a:pathLst>
                  <a:path w="123" h="597">
                    <a:moveTo>
                      <a:pt x="39" y="12"/>
                    </a:moveTo>
                    <a:lnTo>
                      <a:pt x="35" y="23"/>
                    </a:lnTo>
                    <a:lnTo>
                      <a:pt x="26" y="57"/>
                    </a:lnTo>
                    <a:lnTo>
                      <a:pt x="16" y="111"/>
                    </a:lnTo>
                    <a:lnTo>
                      <a:pt x="6" y="181"/>
                    </a:lnTo>
                    <a:lnTo>
                      <a:pt x="0" y="267"/>
                    </a:lnTo>
                    <a:lnTo>
                      <a:pt x="1" y="367"/>
                    </a:lnTo>
                    <a:lnTo>
                      <a:pt x="11" y="477"/>
                    </a:lnTo>
                    <a:lnTo>
                      <a:pt x="34" y="597"/>
                    </a:lnTo>
                    <a:lnTo>
                      <a:pt x="119" y="591"/>
                    </a:lnTo>
                    <a:lnTo>
                      <a:pt x="115" y="574"/>
                    </a:lnTo>
                    <a:lnTo>
                      <a:pt x="107" y="526"/>
                    </a:lnTo>
                    <a:lnTo>
                      <a:pt x="97" y="454"/>
                    </a:lnTo>
                    <a:lnTo>
                      <a:pt x="88" y="367"/>
                    </a:lnTo>
                    <a:lnTo>
                      <a:pt x="82" y="272"/>
                    </a:lnTo>
                    <a:lnTo>
                      <a:pt x="84" y="175"/>
                    </a:lnTo>
                    <a:lnTo>
                      <a:pt x="97" y="84"/>
                    </a:lnTo>
                    <a:lnTo>
                      <a:pt x="123" y="7"/>
                    </a:lnTo>
                    <a:lnTo>
                      <a:pt x="123" y="6"/>
                    </a:lnTo>
                    <a:lnTo>
                      <a:pt x="123" y="5"/>
                    </a:lnTo>
                    <a:lnTo>
                      <a:pt x="121" y="3"/>
                    </a:lnTo>
                    <a:lnTo>
                      <a:pt x="117" y="0"/>
                    </a:lnTo>
                    <a:lnTo>
                      <a:pt x="106" y="0"/>
                    </a:lnTo>
                    <a:lnTo>
                      <a:pt x="91" y="2"/>
                    </a:lnTo>
                    <a:lnTo>
                      <a:pt x="70" y="5"/>
                    </a:lnTo>
                    <a:lnTo>
                      <a:pt x="39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960880" y="3655440"/>
                <a:ext cx="15120" cy="74520"/>
              </a:xfrm>
              <a:custGeom>
                <a:avLst/>
                <a:gdLst/>
                <a:ahLst/>
                <a:rect l="l" t="t" r="r" b="b"/>
                <a:pathLst>
                  <a:path w="103" h="492">
                    <a:moveTo>
                      <a:pt x="32" y="9"/>
                    </a:moveTo>
                    <a:lnTo>
                      <a:pt x="28" y="18"/>
                    </a:lnTo>
                    <a:lnTo>
                      <a:pt x="21" y="47"/>
                    </a:lnTo>
                    <a:lnTo>
                      <a:pt x="12" y="90"/>
                    </a:lnTo>
                    <a:lnTo>
                      <a:pt x="4" y="149"/>
                    </a:lnTo>
                    <a:lnTo>
                      <a:pt x="0" y="220"/>
                    </a:lnTo>
                    <a:lnTo>
                      <a:pt x="0" y="303"/>
                    </a:lnTo>
                    <a:lnTo>
                      <a:pt x="9" y="394"/>
                    </a:lnTo>
                    <a:lnTo>
                      <a:pt x="27" y="492"/>
                    </a:lnTo>
                    <a:lnTo>
                      <a:pt x="98" y="489"/>
                    </a:lnTo>
                    <a:lnTo>
                      <a:pt x="95" y="474"/>
                    </a:lnTo>
                    <a:lnTo>
                      <a:pt x="88" y="434"/>
                    </a:lnTo>
                    <a:lnTo>
                      <a:pt x="80" y="375"/>
                    </a:lnTo>
                    <a:lnTo>
                      <a:pt x="72" y="303"/>
                    </a:lnTo>
                    <a:lnTo>
                      <a:pt x="68" y="224"/>
                    </a:lnTo>
                    <a:lnTo>
                      <a:pt x="70" y="144"/>
                    </a:lnTo>
                    <a:lnTo>
                      <a:pt x="81" y="68"/>
                    </a:lnTo>
                    <a:lnTo>
                      <a:pt x="103" y="5"/>
                    </a:lnTo>
                    <a:lnTo>
                      <a:pt x="103" y="4"/>
                    </a:lnTo>
                    <a:lnTo>
                      <a:pt x="103" y="3"/>
                    </a:lnTo>
                    <a:lnTo>
                      <a:pt x="100" y="1"/>
                    </a:lnTo>
                    <a:lnTo>
                      <a:pt x="97" y="0"/>
                    </a:lnTo>
                    <a:lnTo>
                      <a:pt x="89" y="0"/>
                    </a:lnTo>
                    <a:lnTo>
                      <a:pt x="75" y="0"/>
                    </a:lnTo>
                    <a:lnTo>
                      <a:pt x="57" y="3"/>
                    </a:lnTo>
                    <a:lnTo>
                      <a:pt x="32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961960" y="3662640"/>
                <a:ext cx="12240" cy="58680"/>
              </a:xfrm>
              <a:custGeom>
                <a:avLst/>
                <a:gdLst/>
                <a:ahLst/>
                <a:rect l="l" t="t" r="r" b="b"/>
                <a:pathLst>
                  <a:path w="82" h="390">
                    <a:moveTo>
                      <a:pt x="25" y="8"/>
                    </a:moveTo>
                    <a:lnTo>
                      <a:pt x="23" y="16"/>
                    </a:lnTo>
                    <a:lnTo>
                      <a:pt x="17" y="38"/>
                    </a:lnTo>
                    <a:lnTo>
                      <a:pt x="11" y="72"/>
                    </a:lnTo>
                    <a:lnTo>
                      <a:pt x="4" y="118"/>
                    </a:lnTo>
                    <a:lnTo>
                      <a:pt x="0" y="174"/>
                    </a:lnTo>
                    <a:lnTo>
                      <a:pt x="0" y="240"/>
                    </a:lnTo>
                    <a:lnTo>
                      <a:pt x="7" y="312"/>
                    </a:lnTo>
                    <a:lnTo>
                      <a:pt x="22" y="390"/>
                    </a:lnTo>
                    <a:lnTo>
                      <a:pt x="78" y="387"/>
                    </a:lnTo>
                    <a:lnTo>
                      <a:pt x="76" y="375"/>
                    </a:lnTo>
                    <a:lnTo>
                      <a:pt x="70" y="343"/>
                    </a:lnTo>
                    <a:lnTo>
                      <a:pt x="63" y="297"/>
                    </a:lnTo>
                    <a:lnTo>
                      <a:pt x="57" y="240"/>
                    </a:lnTo>
                    <a:lnTo>
                      <a:pt x="54" y="178"/>
                    </a:lnTo>
                    <a:lnTo>
                      <a:pt x="56" y="113"/>
                    </a:lnTo>
                    <a:lnTo>
                      <a:pt x="64" y="55"/>
                    </a:lnTo>
                    <a:lnTo>
                      <a:pt x="82" y="4"/>
                    </a:lnTo>
                    <a:lnTo>
                      <a:pt x="82" y="4"/>
                    </a:lnTo>
                    <a:lnTo>
                      <a:pt x="82" y="2"/>
                    </a:lnTo>
                    <a:lnTo>
                      <a:pt x="80" y="1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0" y="1"/>
                    </a:lnTo>
                    <a:lnTo>
                      <a:pt x="46" y="3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962680" y="3669840"/>
                <a:ext cx="8280" cy="43200"/>
              </a:xfrm>
              <a:custGeom>
                <a:avLst/>
                <a:gdLst/>
                <a:ahLst/>
                <a:rect l="l" t="t" r="r" b="b"/>
                <a:pathLst>
                  <a:path w="59" h="288">
                    <a:moveTo>
                      <a:pt x="18" y="6"/>
                    </a:moveTo>
                    <a:lnTo>
                      <a:pt x="17" y="11"/>
                    </a:lnTo>
                    <a:lnTo>
                      <a:pt x="13" y="27"/>
                    </a:lnTo>
                    <a:lnTo>
                      <a:pt x="7" y="53"/>
                    </a:lnTo>
                    <a:lnTo>
                      <a:pt x="2" y="87"/>
                    </a:lnTo>
                    <a:lnTo>
                      <a:pt x="0" y="130"/>
                    </a:lnTo>
                    <a:lnTo>
                      <a:pt x="0" y="177"/>
                    </a:lnTo>
                    <a:lnTo>
                      <a:pt x="5" y="231"/>
                    </a:lnTo>
                    <a:lnTo>
                      <a:pt x="16" y="288"/>
                    </a:lnTo>
                    <a:lnTo>
                      <a:pt x="57" y="286"/>
                    </a:lnTo>
                    <a:lnTo>
                      <a:pt x="56" y="278"/>
                    </a:lnTo>
                    <a:lnTo>
                      <a:pt x="51" y="254"/>
                    </a:lnTo>
                    <a:lnTo>
                      <a:pt x="47" y="219"/>
                    </a:lnTo>
                    <a:lnTo>
                      <a:pt x="42" y="177"/>
                    </a:lnTo>
                    <a:lnTo>
                      <a:pt x="40" y="131"/>
                    </a:lnTo>
                    <a:lnTo>
                      <a:pt x="41" y="84"/>
                    </a:lnTo>
                    <a:lnTo>
                      <a:pt x="47" y="40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33" y="2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085800" y="3627720"/>
                <a:ext cx="28800" cy="116640"/>
              </a:xfrm>
              <a:custGeom>
                <a:avLst/>
                <a:gdLst/>
                <a:ahLst/>
                <a:rect l="l" t="t" r="r" b="b"/>
                <a:pathLst>
                  <a:path w="198" h="779">
                    <a:moveTo>
                      <a:pt x="198" y="6"/>
                    </a:moveTo>
                    <a:lnTo>
                      <a:pt x="194" y="12"/>
                    </a:lnTo>
                    <a:lnTo>
                      <a:pt x="180" y="31"/>
                    </a:lnTo>
                    <a:lnTo>
                      <a:pt x="163" y="72"/>
                    </a:lnTo>
                    <a:lnTo>
                      <a:pt x="146" y="138"/>
                    </a:lnTo>
                    <a:lnTo>
                      <a:pt x="132" y="236"/>
                    </a:lnTo>
                    <a:lnTo>
                      <a:pt x="125" y="373"/>
                    </a:lnTo>
                    <a:lnTo>
                      <a:pt x="130" y="551"/>
                    </a:lnTo>
                    <a:lnTo>
                      <a:pt x="148" y="779"/>
                    </a:lnTo>
                    <a:lnTo>
                      <a:pt x="37" y="779"/>
                    </a:lnTo>
                    <a:lnTo>
                      <a:pt x="34" y="756"/>
                    </a:lnTo>
                    <a:lnTo>
                      <a:pt x="23" y="693"/>
                    </a:lnTo>
                    <a:lnTo>
                      <a:pt x="13" y="599"/>
                    </a:lnTo>
                    <a:lnTo>
                      <a:pt x="4" y="483"/>
                    </a:lnTo>
                    <a:lnTo>
                      <a:pt x="0" y="357"/>
                    </a:lnTo>
                    <a:lnTo>
                      <a:pt x="7" y="227"/>
                    </a:lnTo>
                    <a:lnTo>
                      <a:pt x="27" y="105"/>
                    </a:lnTo>
                    <a:lnTo>
                      <a:pt x="65" y="0"/>
                    </a:lnTo>
                    <a:lnTo>
                      <a:pt x="198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086880" y="3635280"/>
                <a:ext cx="24480" cy="101160"/>
              </a:xfrm>
              <a:custGeom>
                <a:avLst/>
                <a:gdLst/>
                <a:ahLst/>
                <a:rect l="l" t="t" r="r" b="b"/>
                <a:pathLst>
                  <a:path w="169" h="666">
                    <a:moveTo>
                      <a:pt x="169" y="5"/>
                    </a:moveTo>
                    <a:lnTo>
                      <a:pt x="164" y="10"/>
                    </a:lnTo>
                    <a:lnTo>
                      <a:pt x="154" y="27"/>
                    </a:lnTo>
                    <a:lnTo>
                      <a:pt x="139" y="61"/>
                    </a:lnTo>
                    <a:lnTo>
                      <a:pt x="124" y="118"/>
                    </a:lnTo>
                    <a:lnTo>
                      <a:pt x="113" y="201"/>
                    </a:lnTo>
                    <a:lnTo>
                      <a:pt x="107" y="318"/>
                    </a:lnTo>
                    <a:lnTo>
                      <a:pt x="110" y="470"/>
                    </a:lnTo>
                    <a:lnTo>
                      <a:pt x="126" y="666"/>
                    </a:lnTo>
                    <a:lnTo>
                      <a:pt x="31" y="666"/>
                    </a:lnTo>
                    <a:lnTo>
                      <a:pt x="28" y="646"/>
                    </a:lnTo>
                    <a:lnTo>
                      <a:pt x="20" y="592"/>
                    </a:lnTo>
                    <a:lnTo>
                      <a:pt x="11" y="512"/>
                    </a:lnTo>
                    <a:lnTo>
                      <a:pt x="3" y="413"/>
                    </a:lnTo>
                    <a:lnTo>
                      <a:pt x="0" y="305"/>
                    </a:lnTo>
                    <a:lnTo>
                      <a:pt x="6" y="195"/>
                    </a:lnTo>
                    <a:lnTo>
                      <a:pt x="23" y="90"/>
                    </a:lnTo>
                    <a:lnTo>
                      <a:pt x="55" y="0"/>
                    </a:lnTo>
                    <a:lnTo>
                      <a:pt x="16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87960" y="3643560"/>
                <a:ext cx="20520" cy="83160"/>
              </a:xfrm>
              <a:custGeom>
                <a:avLst/>
                <a:gdLst/>
                <a:ahLst/>
                <a:rect l="l" t="t" r="r" b="b"/>
                <a:pathLst>
                  <a:path w="140" h="551">
                    <a:moveTo>
                      <a:pt x="140" y="5"/>
                    </a:moveTo>
                    <a:lnTo>
                      <a:pt x="136" y="8"/>
                    </a:lnTo>
                    <a:lnTo>
                      <a:pt x="127" y="23"/>
                    </a:lnTo>
                    <a:lnTo>
                      <a:pt x="116" y="51"/>
                    </a:lnTo>
                    <a:lnTo>
                      <a:pt x="103" y="98"/>
                    </a:lnTo>
                    <a:lnTo>
                      <a:pt x="94" y="167"/>
                    </a:lnTo>
                    <a:lnTo>
                      <a:pt x="90" y="264"/>
                    </a:lnTo>
                    <a:lnTo>
                      <a:pt x="92" y="390"/>
                    </a:lnTo>
                    <a:lnTo>
                      <a:pt x="106" y="551"/>
                    </a:lnTo>
                    <a:lnTo>
                      <a:pt x="27" y="551"/>
                    </a:lnTo>
                    <a:lnTo>
                      <a:pt x="24" y="535"/>
                    </a:lnTo>
                    <a:lnTo>
                      <a:pt x="17" y="490"/>
                    </a:lnTo>
                    <a:lnTo>
                      <a:pt x="9" y="423"/>
                    </a:lnTo>
                    <a:lnTo>
                      <a:pt x="3" y="342"/>
                    </a:lnTo>
                    <a:lnTo>
                      <a:pt x="0" y="252"/>
                    </a:lnTo>
                    <a:lnTo>
                      <a:pt x="5" y="161"/>
                    </a:lnTo>
                    <a:lnTo>
                      <a:pt x="20" y="75"/>
                    </a:lnTo>
                    <a:lnTo>
                      <a:pt x="46" y="0"/>
                    </a:lnTo>
                    <a:lnTo>
                      <a:pt x="14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089040" y="3651840"/>
                <a:ext cx="16560" cy="65520"/>
              </a:xfrm>
              <a:custGeom>
                <a:avLst/>
                <a:gdLst/>
                <a:ahLst/>
                <a:rect l="l" t="t" r="r" b="b"/>
                <a:pathLst>
                  <a:path w="111" h="437">
                    <a:moveTo>
                      <a:pt x="111" y="4"/>
                    </a:moveTo>
                    <a:lnTo>
                      <a:pt x="108" y="7"/>
                    </a:lnTo>
                    <a:lnTo>
                      <a:pt x="101" y="18"/>
                    </a:lnTo>
                    <a:lnTo>
                      <a:pt x="92" y="41"/>
                    </a:lnTo>
                    <a:lnTo>
                      <a:pt x="82" y="77"/>
                    </a:lnTo>
                    <a:lnTo>
                      <a:pt x="75" y="133"/>
                    </a:lnTo>
                    <a:lnTo>
                      <a:pt x="70" y="208"/>
                    </a:lnTo>
                    <a:lnTo>
                      <a:pt x="72" y="309"/>
                    </a:lnTo>
                    <a:lnTo>
                      <a:pt x="83" y="437"/>
                    </a:lnTo>
                    <a:lnTo>
                      <a:pt x="21" y="437"/>
                    </a:lnTo>
                    <a:lnTo>
                      <a:pt x="19" y="424"/>
                    </a:lnTo>
                    <a:lnTo>
                      <a:pt x="13" y="389"/>
                    </a:lnTo>
                    <a:lnTo>
                      <a:pt x="7" y="336"/>
                    </a:lnTo>
                    <a:lnTo>
                      <a:pt x="3" y="272"/>
                    </a:lnTo>
                    <a:lnTo>
                      <a:pt x="0" y="200"/>
                    </a:lnTo>
                    <a:lnTo>
                      <a:pt x="5" y="128"/>
                    </a:lnTo>
                    <a:lnTo>
                      <a:pt x="16" y="59"/>
                    </a:lnTo>
                    <a:lnTo>
                      <a:pt x="37" y="0"/>
                    </a:lnTo>
                    <a:lnTo>
                      <a:pt x="111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090120" y="3660480"/>
                <a:ext cx="12240" cy="48240"/>
              </a:xfrm>
              <a:custGeom>
                <a:avLst/>
                <a:gdLst/>
                <a:ahLst/>
                <a:rect l="l" t="t" r="r" b="b"/>
                <a:pathLst>
                  <a:path w="82" h="322">
                    <a:moveTo>
                      <a:pt x="82" y="3"/>
                    </a:moveTo>
                    <a:lnTo>
                      <a:pt x="79" y="5"/>
                    </a:lnTo>
                    <a:lnTo>
                      <a:pt x="75" y="13"/>
                    </a:lnTo>
                    <a:lnTo>
                      <a:pt x="67" y="30"/>
                    </a:lnTo>
                    <a:lnTo>
                      <a:pt x="60" y="57"/>
                    </a:lnTo>
                    <a:lnTo>
                      <a:pt x="54" y="98"/>
                    </a:lnTo>
                    <a:lnTo>
                      <a:pt x="52" y="154"/>
                    </a:lnTo>
                    <a:lnTo>
                      <a:pt x="53" y="228"/>
                    </a:lnTo>
                    <a:lnTo>
                      <a:pt x="61" y="322"/>
                    </a:lnTo>
                    <a:lnTo>
                      <a:pt x="15" y="322"/>
                    </a:lnTo>
                    <a:lnTo>
                      <a:pt x="14" y="313"/>
                    </a:lnTo>
                    <a:lnTo>
                      <a:pt x="9" y="287"/>
                    </a:lnTo>
                    <a:lnTo>
                      <a:pt x="5" y="247"/>
                    </a:lnTo>
                    <a:lnTo>
                      <a:pt x="1" y="200"/>
                    </a:lnTo>
                    <a:lnTo>
                      <a:pt x="0" y="147"/>
                    </a:lnTo>
                    <a:lnTo>
                      <a:pt x="3" y="95"/>
                    </a:lnTo>
                    <a:lnTo>
                      <a:pt x="11" y="44"/>
                    </a:lnTo>
                    <a:lnTo>
                      <a:pt x="27" y="0"/>
                    </a:lnTo>
                    <a:lnTo>
                      <a:pt x="8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932800" y="3647880"/>
                <a:ext cx="3960" cy="1537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986800" y="3645720"/>
                <a:ext cx="58680" cy="70200"/>
              </a:xfrm>
              <a:custGeom>
                <a:avLst/>
                <a:gdLst/>
                <a:ahLst/>
                <a:rect l="l" t="t" r="r" b="b"/>
                <a:pathLst>
                  <a:path w="398" h="469">
                    <a:moveTo>
                      <a:pt x="37" y="44"/>
                    </a:moveTo>
                    <a:lnTo>
                      <a:pt x="33" y="53"/>
                    </a:lnTo>
                    <a:lnTo>
                      <a:pt x="27" y="79"/>
                    </a:lnTo>
                    <a:lnTo>
                      <a:pt x="17" y="120"/>
                    </a:lnTo>
                    <a:lnTo>
                      <a:pt x="8" y="174"/>
                    </a:lnTo>
                    <a:lnTo>
                      <a:pt x="1" y="238"/>
                    </a:lnTo>
                    <a:lnTo>
                      <a:pt x="0" y="309"/>
                    </a:lnTo>
                    <a:lnTo>
                      <a:pt x="7" y="387"/>
                    </a:lnTo>
                    <a:lnTo>
                      <a:pt x="24" y="469"/>
                    </a:lnTo>
                    <a:lnTo>
                      <a:pt x="24" y="466"/>
                    </a:lnTo>
                    <a:lnTo>
                      <a:pt x="24" y="455"/>
                    </a:lnTo>
                    <a:lnTo>
                      <a:pt x="24" y="438"/>
                    </a:lnTo>
                    <a:lnTo>
                      <a:pt x="24" y="417"/>
                    </a:lnTo>
                    <a:lnTo>
                      <a:pt x="27" y="391"/>
                    </a:lnTo>
                    <a:lnTo>
                      <a:pt x="30" y="363"/>
                    </a:lnTo>
                    <a:lnTo>
                      <a:pt x="35" y="332"/>
                    </a:lnTo>
                    <a:lnTo>
                      <a:pt x="41" y="300"/>
                    </a:lnTo>
                    <a:lnTo>
                      <a:pt x="52" y="268"/>
                    </a:lnTo>
                    <a:lnTo>
                      <a:pt x="64" y="237"/>
                    </a:lnTo>
                    <a:lnTo>
                      <a:pt x="79" y="207"/>
                    </a:lnTo>
                    <a:lnTo>
                      <a:pt x="99" y="179"/>
                    </a:lnTo>
                    <a:lnTo>
                      <a:pt x="123" y="155"/>
                    </a:lnTo>
                    <a:lnTo>
                      <a:pt x="150" y="136"/>
                    </a:lnTo>
                    <a:lnTo>
                      <a:pt x="183" y="122"/>
                    </a:lnTo>
                    <a:lnTo>
                      <a:pt x="221" y="114"/>
                    </a:lnTo>
                    <a:lnTo>
                      <a:pt x="223" y="112"/>
                    </a:lnTo>
                    <a:lnTo>
                      <a:pt x="230" y="107"/>
                    </a:lnTo>
                    <a:lnTo>
                      <a:pt x="242" y="99"/>
                    </a:lnTo>
                    <a:lnTo>
                      <a:pt x="260" y="88"/>
                    </a:lnTo>
                    <a:lnTo>
                      <a:pt x="284" y="74"/>
                    </a:lnTo>
                    <a:lnTo>
                      <a:pt x="315" y="58"/>
                    </a:lnTo>
                    <a:lnTo>
                      <a:pt x="352" y="39"/>
                    </a:lnTo>
                    <a:lnTo>
                      <a:pt x="398" y="19"/>
                    </a:lnTo>
                    <a:lnTo>
                      <a:pt x="396" y="17"/>
                    </a:lnTo>
                    <a:lnTo>
                      <a:pt x="389" y="16"/>
                    </a:lnTo>
                    <a:lnTo>
                      <a:pt x="379" y="14"/>
                    </a:lnTo>
                    <a:lnTo>
                      <a:pt x="364" y="12"/>
                    </a:lnTo>
                    <a:lnTo>
                      <a:pt x="347" y="8"/>
                    </a:lnTo>
                    <a:lnTo>
                      <a:pt x="326" y="6"/>
                    </a:lnTo>
                    <a:lnTo>
                      <a:pt x="302" y="4"/>
                    </a:lnTo>
                    <a:lnTo>
                      <a:pt x="277" y="1"/>
                    </a:lnTo>
                    <a:lnTo>
                      <a:pt x="250" y="0"/>
                    </a:lnTo>
                    <a:lnTo>
                      <a:pt x="221" y="1"/>
                    </a:lnTo>
                    <a:lnTo>
                      <a:pt x="191" y="3"/>
                    </a:lnTo>
                    <a:lnTo>
                      <a:pt x="160" y="6"/>
                    </a:lnTo>
                    <a:lnTo>
                      <a:pt x="129" y="12"/>
                    </a:lnTo>
                    <a:lnTo>
                      <a:pt x="97" y="20"/>
                    </a:lnTo>
                    <a:lnTo>
                      <a:pt x="67" y="30"/>
                    </a:lnTo>
                    <a:lnTo>
                      <a:pt x="37" y="44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904720" y="3698280"/>
                <a:ext cx="47520" cy="13680"/>
              </a:xfrm>
              <a:custGeom>
                <a:avLst/>
                <a:gdLst/>
                <a:ahLst/>
                <a:rect l="l" t="t" r="r" b="b"/>
                <a:pathLst>
                  <a:path w="325" h="89">
                    <a:moveTo>
                      <a:pt x="0" y="57"/>
                    </a:moveTo>
                    <a:lnTo>
                      <a:pt x="0" y="55"/>
                    </a:lnTo>
                    <a:lnTo>
                      <a:pt x="2" y="52"/>
                    </a:lnTo>
                    <a:lnTo>
                      <a:pt x="6" y="47"/>
                    </a:lnTo>
                    <a:lnTo>
                      <a:pt x="12" y="41"/>
                    </a:lnTo>
                    <a:lnTo>
                      <a:pt x="20" y="34"/>
                    </a:lnTo>
                    <a:lnTo>
                      <a:pt x="29" y="27"/>
                    </a:lnTo>
                    <a:lnTo>
                      <a:pt x="41" y="20"/>
                    </a:lnTo>
                    <a:lnTo>
                      <a:pt x="57" y="13"/>
                    </a:lnTo>
                    <a:lnTo>
                      <a:pt x="77" y="7"/>
                    </a:lnTo>
                    <a:lnTo>
                      <a:pt x="98" y="3"/>
                    </a:lnTo>
                    <a:lnTo>
                      <a:pt x="126" y="0"/>
                    </a:lnTo>
                    <a:lnTo>
                      <a:pt x="156" y="0"/>
                    </a:lnTo>
                    <a:lnTo>
                      <a:pt x="191" y="3"/>
                    </a:lnTo>
                    <a:lnTo>
                      <a:pt x="230" y="8"/>
                    </a:lnTo>
                    <a:lnTo>
                      <a:pt x="275" y="18"/>
                    </a:lnTo>
                    <a:lnTo>
                      <a:pt x="325" y="31"/>
                    </a:lnTo>
                    <a:lnTo>
                      <a:pt x="318" y="51"/>
                    </a:lnTo>
                    <a:lnTo>
                      <a:pt x="316" y="50"/>
                    </a:lnTo>
                    <a:lnTo>
                      <a:pt x="308" y="47"/>
                    </a:lnTo>
                    <a:lnTo>
                      <a:pt x="295" y="44"/>
                    </a:lnTo>
                    <a:lnTo>
                      <a:pt x="279" y="39"/>
                    </a:lnTo>
                    <a:lnTo>
                      <a:pt x="260" y="35"/>
                    </a:lnTo>
                    <a:lnTo>
                      <a:pt x="238" y="30"/>
                    </a:lnTo>
                    <a:lnTo>
                      <a:pt x="214" y="27"/>
                    </a:lnTo>
                    <a:lnTo>
                      <a:pt x="188" y="24"/>
                    </a:lnTo>
                    <a:lnTo>
                      <a:pt x="161" y="23"/>
                    </a:lnTo>
                    <a:lnTo>
                      <a:pt x="134" y="23"/>
                    </a:lnTo>
                    <a:lnTo>
                      <a:pt x="108" y="26"/>
                    </a:lnTo>
                    <a:lnTo>
                      <a:pt x="82" y="31"/>
                    </a:lnTo>
                    <a:lnTo>
                      <a:pt x="58" y="41"/>
                    </a:lnTo>
                    <a:lnTo>
                      <a:pt x="36" y="52"/>
                    </a:lnTo>
                    <a:lnTo>
                      <a:pt x="16" y="68"/>
                    </a:lnTo>
                    <a:lnTo>
                      <a:pt x="0" y="89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904720" y="3666960"/>
                <a:ext cx="47520" cy="13320"/>
              </a:xfrm>
              <a:custGeom>
                <a:avLst/>
                <a:gdLst/>
                <a:ahLst/>
                <a:rect l="l" t="t" r="r" b="b"/>
                <a:pathLst>
                  <a:path w="325" h="89">
                    <a:moveTo>
                      <a:pt x="0" y="56"/>
                    </a:moveTo>
                    <a:lnTo>
                      <a:pt x="0" y="55"/>
                    </a:lnTo>
                    <a:lnTo>
                      <a:pt x="2" y="52"/>
                    </a:lnTo>
                    <a:lnTo>
                      <a:pt x="6" y="47"/>
                    </a:lnTo>
                    <a:lnTo>
                      <a:pt x="12" y="40"/>
                    </a:lnTo>
                    <a:lnTo>
                      <a:pt x="20" y="33"/>
                    </a:lnTo>
                    <a:lnTo>
                      <a:pt x="29" y="27"/>
                    </a:lnTo>
                    <a:lnTo>
                      <a:pt x="41" y="18"/>
                    </a:lnTo>
                    <a:lnTo>
                      <a:pt x="57" y="13"/>
                    </a:lnTo>
                    <a:lnTo>
                      <a:pt x="77" y="7"/>
                    </a:lnTo>
                    <a:lnTo>
                      <a:pt x="98" y="2"/>
                    </a:lnTo>
                    <a:lnTo>
                      <a:pt x="126" y="0"/>
                    </a:lnTo>
                    <a:lnTo>
                      <a:pt x="156" y="0"/>
                    </a:lnTo>
                    <a:lnTo>
                      <a:pt x="191" y="2"/>
                    </a:lnTo>
                    <a:lnTo>
                      <a:pt x="230" y="8"/>
                    </a:lnTo>
                    <a:lnTo>
                      <a:pt x="275" y="17"/>
                    </a:lnTo>
                    <a:lnTo>
                      <a:pt x="325" y="31"/>
                    </a:lnTo>
                    <a:lnTo>
                      <a:pt x="318" y="49"/>
                    </a:lnTo>
                    <a:lnTo>
                      <a:pt x="316" y="48"/>
                    </a:lnTo>
                    <a:lnTo>
                      <a:pt x="308" y="46"/>
                    </a:lnTo>
                    <a:lnTo>
                      <a:pt x="295" y="43"/>
                    </a:lnTo>
                    <a:lnTo>
                      <a:pt x="279" y="38"/>
                    </a:lnTo>
                    <a:lnTo>
                      <a:pt x="260" y="35"/>
                    </a:lnTo>
                    <a:lnTo>
                      <a:pt x="238" y="30"/>
                    </a:lnTo>
                    <a:lnTo>
                      <a:pt x="214" y="27"/>
                    </a:lnTo>
                    <a:lnTo>
                      <a:pt x="188" y="23"/>
                    </a:lnTo>
                    <a:lnTo>
                      <a:pt x="161" y="22"/>
                    </a:lnTo>
                    <a:lnTo>
                      <a:pt x="134" y="23"/>
                    </a:lnTo>
                    <a:lnTo>
                      <a:pt x="108" y="25"/>
                    </a:lnTo>
                    <a:lnTo>
                      <a:pt x="82" y="31"/>
                    </a:lnTo>
                    <a:lnTo>
                      <a:pt x="58" y="40"/>
                    </a:lnTo>
                    <a:lnTo>
                      <a:pt x="36" y="52"/>
                    </a:lnTo>
                    <a:lnTo>
                      <a:pt x="16" y="68"/>
                    </a:lnTo>
                    <a:lnTo>
                      <a:pt x="0" y="89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950440" y="3651120"/>
                <a:ext cx="77400" cy="146520"/>
              </a:xfrm>
              <a:custGeom>
                <a:avLst/>
                <a:gdLst/>
                <a:ahLst/>
                <a:rect l="l" t="t" r="r" b="b"/>
                <a:pathLst>
                  <a:path w="528" h="975">
                    <a:moveTo>
                      <a:pt x="0" y="0"/>
                    </a:moveTo>
                    <a:lnTo>
                      <a:pt x="0" y="943"/>
                    </a:lnTo>
                    <a:lnTo>
                      <a:pt x="159" y="975"/>
                    </a:lnTo>
                    <a:lnTo>
                      <a:pt x="152" y="848"/>
                    </a:lnTo>
                    <a:lnTo>
                      <a:pt x="528" y="905"/>
                    </a:lnTo>
                    <a:lnTo>
                      <a:pt x="521" y="855"/>
                    </a:lnTo>
                    <a:lnTo>
                      <a:pt x="261" y="822"/>
                    </a:lnTo>
                    <a:lnTo>
                      <a:pt x="254" y="713"/>
                    </a:lnTo>
                    <a:lnTo>
                      <a:pt x="77" y="713"/>
                    </a:lnTo>
                    <a:lnTo>
                      <a:pt x="72" y="699"/>
                    </a:lnTo>
                    <a:lnTo>
                      <a:pt x="60" y="659"/>
                    </a:lnTo>
                    <a:lnTo>
                      <a:pt x="44" y="595"/>
                    </a:lnTo>
                    <a:lnTo>
                      <a:pt x="28" y="511"/>
                    </a:lnTo>
                    <a:lnTo>
                      <a:pt x="16" y="410"/>
                    </a:lnTo>
                    <a:lnTo>
                      <a:pt x="12" y="294"/>
                    </a:lnTo>
                    <a:lnTo>
                      <a:pt x="21" y="167"/>
                    </a:lnTo>
                    <a:lnTo>
                      <a:pt x="45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988960" y="3617280"/>
                <a:ext cx="100080" cy="19800"/>
              </a:xfrm>
              <a:custGeom>
                <a:avLst/>
                <a:gdLst/>
                <a:ahLst/>
                <a:rect l="l" t="t" r="r" b="b"/>
                <a:pathLst>
                  <a:path w="678" h="133">
                    <a:moveTo>
                      <a:pt x="0" y="133"/>
                    </a:moveTo>
                    <a:lnTo>
                      <a:pt x="4" y="132"/>
                    </a:lnTo>
                    <a:lnTo>
                      <a:pt x="15" y="127"/>
                    </a:lnTo>
                    <a:lnTo>
                      <a:pt x="32" y="122"/>
                    </a:lnTo>
                    <a:lnTo>
                      <a:pt x="56" y="114"/>
                    </a:lnTo>
                    <a:lnTo>
                      <a:pt x="86" y="104"/>
                    </a:lnTo>
                    <a:lnTo>
                      <a:pt x="120" y="95"/>
                    </a:lnTo>
                    <a:lnTo>
                      <a:pt x="160" y="86"/>
                    </a:lnTo>
                    <a:lnTo>
                      <a:pt x="204" y="78"/>
                    </a:lnTo>
                    <a:lnTo>
                      <a:pt x="252" y="70"/>
                    </a:lnTo>
                    <a:lnTo>
                      <a:pt x="303" y="64"/>
                    </a:lnTo>
                    <a:lnTo>
                      <a:pt x="358" y="60"/>
                    </a:lnTo>
                    <a:lnTo>
                      <a:pt x="414" y="58"/>
                    </a:lnTo>
                    <a:lnTo>
                      <a:pt x="474" y="60"/>
                    </a:lnTo>
                    <a:lnTo>
                      <a:pt x="534" y="65"/>
                    </a:lnTo>
                    <a:lnTo>
                      <a:pt x="596" y="74"/>
                    </a:lnTo>
                    <a:lnTo>
                      <a:pt x="659" y="88"/>
                    </a:lnTo>
                    <a:lnTo>
                      <a:pt x="678" y="0"/>
                    </a:lnTo>
                    <a:lnTo>
                      <a:pt x="674" y="0"/>
                    </a:lnTo>
                    <a:lnTo>
                      <a:pt x="659" y="0"/>
                    </a:lnTo>
                    <a:lnTo>
                      <a:pt x="636" y="0"/>
                    </a:lnTo>
                    <a:lnTo>
                      <a:pt x="606" y="1"/>
                    </a:lnTo>
                    <a:lnTo>
                      <a:pt x="570" y="2"/>
                    </a:lnTo>
                    <a:lnTo>
                      <a:pt x="527" y="3"/>
                    </a:lnTo>
                    <a:lnTo>
                      <a:pt x="480" y="7"/>
                    </a:lnTo>
                    <a:lnTo>
                      <a:pt x="430" y="9"/>
                    </a:lnTo>
                    <a:lnTo>
                      <a:pt x="376" y="14"/>
                    </a:lnTo>
                    <a:lnTo>
                      <a:pt x="320" y="18"/>
                    </a:lnTo>
                    <a:lnTo>
                      <a:pt x="264" y="24"/>
                    </a:lnTo>
                    <a:lnTo>
                      <a:pt x="208" y="32"/>
                    </a:lnTo>
                    <a:lnTo>
                      <a:pt x="152" y="40"/>
                    </a:lnTo>
                    <a:lnTo>
                      <a:pt x="98" y="50"/>
                    </a:lnTo>
                    <a:lnTo>
                      <a:pt x="47" y="62"/>
                    </a:lnTo>
                    <a:lnTo>
                      <a:pt x="0" y="76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29560" y="3801960"/>
                <a:ext cx="168480" cy="56880"/>
              </a:xfrm>
              <a:custGeom>
                <a:avLst/>
                <a:gdLst/>
                <a:ahLst/>
                <a:rect l="l" t="t" r="r" b="b"/>
                <a:pathLst>
                  <a:path w="1142" h="379">
                    <a:moveTo>
                      <a:pt x="482" y="367"/>
                    </a:moveTo>
                    <a:lnTo>
                      <a:pt x="485" y="366"/>
                    </a:lnTo>
                    <a:lnTo>
                      <a:pt x="492" y="363"/>
                    </a:lnTo>
                    <a:lnTo>
                      <a:pt x="502" y="359"/>
                    </a:lnTo>
                    <a:lnTo>
                      <a:pt x="516" y="353"/>
                    </a:lnTo>
                    <a:lnTo>
                      <a:pt x="533" y="346"/>
                    </a:lnTo>
                    <a:lnTo>
                      <a:pt x="551" y="338"/>
                    </a:lnTo>
                    <a:lnTo>
                      <a:pt x="572" y="328"/>
                    </a:lnTo>
                    <a:lnTo>
                      <a:pt x="593" y="317"/>
                    </a:lnTo>
                    <a:lnTo>
                      <a:pt x="616" y="306"/>
                    </a:lnTo>
                    <a:lnTo>
                      <a:pt x="638" y="292"/>
                    </a:lnTo>
                    <a:lnTo>
                      <a:pt x="660" y="279"/>
                    </a:lnTo>
                    <a:lnTo>
                      <a:pt x="680" y="264"/>
                    </a:lnTo>
                    <a:lnTo>
                      <a:pt x="700" y="249"/>
                    </a:lnTo>
                    <a:lnTo>
                      <a:pt x="717" y="233"/>
                    </a:lnTo>
                    <a:lnTo>
                      <a:pt x="732" y="217"/>
                    </a:lnTo>
                    <a:lnTo>
                      <a:pt x="743" y="201"/>
                    </a:lnTo>
                    <a:lnTo>
                      <a:pt x="0" y="20"/>
                    </a:lnTo>
                    <a:lnTo>
                      <a:pt x="57" y="0"/>
                    </a:lnTo>
                    <a:lnTo>
                      <a:pt x="1142" y="267"/>
                    </a:lnTo>
                    <a:lnTo>
                      <a:pt x="1098" y="292"/>
                    </a:lnTo>
                    <a:lnTo>
                      <a:pt x="784" y="212"/>
                    </a:lnTo>
                    <a:lnTo>
                      <a:pt x="783" y="213"/>
                    </a:lnTo>
                    <a:lnTo>
                      <a:pt x="781" y="216"/>
                    </a:lnTo>
                    <a:lnTo>
                      <a:pt x="776" y="221"/>
                    </a:lnTo>
                    <a:lnTo>
                      <a:pt x="769" y="228"/>
                    </a:lnTo>
                    <a:lnTo>
                      <a:pt x="761" y="237"/>
                    </a:lnTo>
                    <a:lnTo>
                      <a:pt x="750" y="246"/>
                    </a:lnTo>
                    <a:lnTo>
                      <a:pt x="737" y="258"/>
                    </a:lnTo>
                    <a:lnTo>
                      <a:pt x="721" y="269"/>
                    </a:lnTo>
                    <a:lnTo>
                      <a:pt x="703" y="282"/>
                    </a:lnTo>
                    <a:lnTo>
                      <a:pt x="684" y="295"/>
                    </a:lnTo>
                    <a:lnTo>
                      <a:pt x="660" y="309"/>
                    </a:lnTo>
                    <a:lnTo>
                      <a:pt x="635" y="323"/>
                    </a:lnTo>
                    <a:lnTo>
                      <a:pt x="606" y="338"/>
                    </a:lnTo>
                    <a:lnTo>
                      <a:pt x="574" y="352"/>
                    </a:lnTo>
                    <a:lnTo>
                      <a:pt x="540" y="366"/>
                    </a:lnTo>
                    <a:lnTo>
                      <a:pt x="502" y="379"/>
                    </a:lnTo>
                    <a:lnTo>
                      <a:pt x="482" y="3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894640" y="3816720"/>
                <a:ext cx="172800" cy="50400"/>
              </a:xfrm>
              <a:custGeom>
                <a:avLst/>
                <a:gdLst/>
                <a:ahLst/>
                <a:rect l="l" t="t" r="r" b="b"/>
                <a:pathLst>
                  <a:path w="1163" h="340">
                    <a:moveTo>
                      <a:pt x="0" y="0"/>
                    </a:moveTo>
                    <a:lnTo>
                      <a:pt x="1137" y="340"/>
                    </a:lnTo>
                    <a:lnTo>
                      <a:pt x="1163" y="34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923440" y="3809160"/>
                <a:ext cx="169560" cy="46080"/>
              </a:xfrm>
              <a:custGeom>
                <a:avLst/>
                <a:gdLst/>
                <a:ahLst/>
                <a:rect l="l" t="t" r="r" b="b"/>
                <a:pathLst>
                  <a:path w="1149" h="303">
                    <a:moveTo>
                      <a:pt x="0" y="1"/>
                    </a:moveTo>
                    <a:lnTo>
                      <a:pt x="1124" y="303"/>
                    </a:lnTo>
                    <a:lnTo>
                      <a:pt x="1149" y="302"/>
                    </a:lnTo>
                    <a:lnTo>
                      <a:pt x="34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910120" y="3812400"/>
                <a:ext cx="170280" cy="50400"/>
              </a:xfrm>
              <a:custGeom>
                <a:avLst/>
                <a:gdLst/>
                <a:ahLst/>
                <a:rect l="l" t="t" r="r" b="b"/>
                <a:pathLst>
                  <a:path w="1155" h="336">
                    <a:moveTo>
                      <a:pt x="0" y="0"/>
                    </a:moveTo>
                    <a:lnTo>
                      <a:pt x="1134" y="336"/>
                    </a:lnTo>
                    <a:lnTo>
                      <a:pt x="1155" y="328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657840" y="3621240"/>
              <a:ext cx="359640" cy="279000"/>
              <a:chOff x="6657840" y="3621240"/>
              <a:chExt cx="359640" cy="279000"/>
            </a:xfrm>
          </p:grpSpPr>
          <p:sp>
            <p:nvSpPr>
              <p:cNvPr id="313" name=""/>
              <p:cNvSpPr/>
              <p:nvPr/>
            </p:nvSpPr>
            <p:spPr>
              <a:xfrm>
                <a:off x="6657840" y="3621240"/>
                <a:ext cx="359640" cy="279000"/>
              </a:xfrm>
              <a:custGeom>
                <a:avLst/>
                <a:gdLst/>
                <a:ahLst/>
                <a:rect l="l" t="t" r="r" b="b"/>
                <a:pathLst>
                  <a:path w="2150" h="1804">
                    <a:moveTo>
                      <a:pt x="582" y="239"/>
                    </a:moveTo>
                    <a:lnTo>
                      <a:pt x="606" y="129"/>
                    </a:lnTo>
                    <a:lnTo>
                      <a:pt x="607" y="129"/>
                    </a:lnTo>
                    <a:lnTo>
                      <a:pt x="611" y="128"/>
                    </a:lnTo>
                    <a:lnTo>
                      <a:pt x="616" y="125"/>
                    </a:lnTo>
                    <a:lnTo>
                      <a:pt x="623" y="123"/>
                    </a:lnTo>
                    <a:lnTo>
                      <a:pt x="633" y="120"/>
                    </a:lnTo>
                    <a:lnTo>
                      <a:pt x="645" y="115"/>
                    </a:lnTo>
                    <a:lnTo>
                      <a:pt x="659" y="112"/>
                    </a:lnTo>
                    <a:lnTo>
                      <a:pt x="676" y="107"/>
                    </a:lnTo>
                    <a:lnTo>
                      <a:pt x="694" y="101"/>
                    </a:lnTo>
                    <a:lnTo>
                      <a:pt x="715" y="95"/>
                    </a:lnTo>
                    <a:lnTo>
                      <a:pt x="738" y="90"/>
                    </a:lnTo>
                    <a:lnTo>
                      <a:pt x="763" y="84"/>
                    </a:lnTo>
                    <a:lnTo>
                      <a:pt x="790" y="78"/>
                    </a:lnTo>
                    <a:lnTo>
                      <a:pt x="820" y="71"/>
                    </a:lnTo>
                    <a:lnTo>
                      <a:pt x="852" y="64"/>
                    </a:lnTo>
                    <a:lnTo>
                      <a:pt x="886" y="59"/>
                    </a:lnTo>
                    <a:lnTo>
                      <a:pt x="922" y="52"/>
                    </a:lnTo>
                    <a:lnTo>
                      <a:pt x="961" y="46"/>
                    </a:lnTo>
                    <a:lnTo>
                      <a:pt x="1002" y="40"/>
                    </a:lnTo>
                    <a:lnTo>
                      <a:pt x="1044" y="35"/>
                    </a:lnTo>
                    <a:lnTo>
                      <a:pt x="1090" y="29"/>
                    </a:lnTo>
                    <a:lnTo>
                      <a:pt x="1138" y="23"/>
                    </a:lnTo>
                    <a:lnTo>
                      <a:pt x="1187" y="18"/>
                    </a:lnTo>
                    <a:lnTo>
                      <a:pt x="1240" y="14"/>
                    </a:lnTo>
                    <a:lnTo>
                      <a:pt x="1294" y="10"/>
                    </a:lnTo>
                    <a:lnTo>
                      <a:pt x="1350" y="7"/>
                    </a:lnTo>
                    <a:lnTo>
                      <a:pt x="1410" y="4"/>
                    </a:lnTo>
                    <a:lnTo>
                      <a:pt x="1470" y="1"/>
                    </a:lnTo>
                    <a:lnTo>
                      <a:pt x="1535" y="0"/>
                    </a:lnTo>
                    <a:lnTo>
                      <a:pt x="1601" y="0"/>
                    </a:lnTo>
                    <a:lnTo>
                      <a:pt x="1668" y="0"/>
                    </a:lnTo>
                    <a:lnTo>
                      <a:pt x="1739" y="1"/>
                    </a:lnTo>
                    <a:lnTo>
                      <a:pt x="1816" y="44"/>
                    </a:lnTo>
                    <a:lnTo>
                      <a:pt x="1799" y="248"/>
                    </a:lnTo>
                    <a:lnTo>
                      <a:pt x="1804" y="251"/>
                    </a:lnTo>
                    <a:lnTo>
                      <a:pt x="1820" y="259"/>
                    </a:lnTo>
                    <a:lnTo>
                      <a:pt x="1842" y="272"/>
                    </a:lnTo>
                    <a:lnTo>
                      <a:pt x="1868" y="292"/>
                    </a:lnTo>
                    <a:lnTo>
                      <a:pt x="1896" y="318"/>
                    </a:lnTo>
                    <a:lnTo>
                      <a:pt x="1920" y="351"/>
                    </a:lnTo>
                    <a:lnTo>
                      <a:pt x="1939" y="390"/>
                    </a:lnTo>
                    <a:lnTo>
                      <a:pt x="1951" y="436"/>
                    </a:lnTo>
                    <a:lnTo>
                      <a:pt x="2125" y="593"/>
                    </a:lnTo>
                    <a:lnTo>
                      <a:pt x="2078" y="1009"/>
                    </a:lnTo>
                    <a:lnTo>
                      <a:pt x="1799" y="1149"/>
                    </a:lnTo>
                    <a:lnTo>
                      <a:pt x="2129" y="1247"/>
                    </a:lnTo>
                    <a:lnTo>
                      <a:pt x="2131" y="1251"/>
                    </a:lnTo>
                    <a:lnTo>
                      <a:pt x="2137" y="1264"/>
                    </a:lnTo>
                    <a:lnTo>
                      <a:pt x="2143" y="1284"/>
                    </a:lnTo>
                    <a:lnTo>
                      <a:pt x="2149" y="1310"/>
                    </a:lnTo>
                    <a:lnTo>
                      <a:pt x="2150" y="1342"/>
                    </a:lnTo>
                    <a:lnTo>
                      <a:pt x="2147" y="1380"/>
                    </a:lnTo>
                    <a:lnTo>
                      <a:pt x="2136" y="1423"/>
                    </a:lnTo>
                    <a:lnTo>
                      <a:pt x="2117" y="1468"/>
                    </a:lnTo>
                    <a:lnTo>
                      <a:pt x="1244" y="1804"/>
                    </a:lnTo>
                    <a:lnTo>
                      <a:pt x="0" y="1413"/>
                    </a:lnTo>
                    <a:lnTo>
                      <a:pt x="22" y="1367"/>
                    </a:lnTo>
                    <a:lnTo>
                      <a:pt x="212" y="1302"/>
                    </a:lnTo>
                    <a:lnTo>
                      <a:pt x="212" y="248"/>
                    </a:lnTo>
                    <a:lnTo>
                      <a:pt x="213" y="247"/>
                    </a:lnTo>
                    <a:lnTo>
                      <a:pt x="217" y="244"/>
                    </a:lnTo>
                    <a:lnTo>
                      <a:pt x="223" y="240"/>
                    </a:lnTo>
                    <a:lnTo>
                      <a:pt x="232" y="234"/>
                    </a:lnTo>
                    <a:lnTo>
                      <a:pt x="245" y="228"/>
                    </a:lnTo>
                    <a:lnTo>
                      <a:pt x="258" y="221"/>
                    </a:lnTo>
                    <a:lnTo>
                      <a:pt x="276" y="214"/>
                    </a:lnTo>
                    <a:lnTo>
                      <a:pt x="294" y="207"/>
                    </a:lnTo>
                    <a:lnTo>
                      <a:pt x="316" y="201"/>
                    </a:lnTo>
                    <a:lnTo>
                      <a:pt x="340" y="197"/>
                    </a:lnTo>
                    <a:lnTo>
                      <a:pt x="366" y="194"/>
                    </a:lnTo>
                    <a:lnTo>
                      <a:pt x="393" y="192"/>
                    </a:lnTo>
                    <a:lnTo>
                      <a:pt x="424" y="193"/>
                    </a:lnTo>
                    <a:lnTo>
                      <a:pt x="457" y="197"/>
                    </a:lnTo>
                    <a:lnTo>
                      <a:pt x="493" y="203"/>
                    </a:lnTo>
                    <a:lnTo>
                      <a:pt x="529" y="214"/>
                    </a:lnTo>
                    <a:lnTo>
                      <a:pt x="582" y="2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794640" y="3675240"/>
                <a:ext cx="190800" cy="119880"/>
              </a:xfrm>
              <a:custGeom>
                <a:avLst/>
                <a:gdLst/>
                <a:ahLst/>
                <a:rect l="l" t="t" r="r" b="b"/>
                <a:pathLst>
                  <a:path w="1139" h="778">
                    <a:moveTo>
                      <a:pt x="7" y="587"/>
                    </a:moveTo>
                    <a:lnTo>
                      <a:pt x="0" y="682"/>
                    </a:lnTo>
                    <a:lnTo>
                      <a:pt x="742" y="778"/>
                    </a:lnTo>
                    <a:lnTo>
                      <a:pt x="748" y="775"/>
                    </a:lnTo>
                    <a:lnTo>
                      <a:pt x="763" y="767"/>
                    </a:lnTo>
                    <a:lnTo>
                      <a:pt x="787" y="755"/>
                    </a:lnTo>
                    <a:lnTo>
                      <a:pt x="816" y="737"/>
                    </a:lnTo>
                    <a:lnTo>
                      <a:pt x="852" y="714"/>
                    </a:lnTo>
                    <a:lnTo>
                      <a:pt x="891" y="686"/>
                    </a:lnTo>
                    <a:lnTo>
                      <a:pt x="932" y="652"/>
                    </a:lnTo>
                    <a:lnTo>
                      <a:pt x="973" y="613"/>
                    </a:lnTo>
                    <a:lnTo>
                      <a:pt x="1013" y="570"/>
                    </a:lnTo>
                    <a:lnTo>
                      <a:pt x="1051" y="521"/>
                    </a:lnTo>
                    <a:lnTo>
                      <a:pt x="1083" y="466"/>
                    </a:lnTo>
                    <a:lnTo>
                      <a:pt x="1109" y="406"/>
                    </a:lnTo>
                    <a:lnTo>
                      <a:pt x="1129" y="342"/>
                    </a:lnTo>
                    <a:lnTo>
                      <a:pt x="1139" y="271"/>
                    </a:lnTo>
                    <a:lnTo>
                      <a:pt x="1138" y="196"/>
                    </a:lnTo>
                    <a:lnTo>
                      <a:pt x="1124" y="115"/>
                    </a:lnTo>
                    <a:lnTo>
                      <a:pt x="1122" y="110"/>
                    </a:lnTo>
                    <a:lnTo>
                      <a:pt x="1115" y="97"/>
                    </a:lnTo>
                    <a:lnTo>
                      <a:pt x="1102" y="80"/>
                    </a:lnTo>
                    <a:lnTo>
                      <a:pt x="1086" y="59"/>
                    </a:lnTo>
                    <a:lnTo>
                      <a:pt x="1066" y="39"/>
                    </a:lnTo>
                    <a:lnTo>
                      <a:pt x="1041" y="20"/>
                    </a:lnTo>
                    <a:lnTo>
                      <a:pt x="1011" y="7"/>
                    </a:lnTo>
                    <a:lnTo>
                      <a:pt x="978" y="0"/>
                    </a:lnTo>
                    <a:lnTo>
                      <a:pt x="982" y="12"/>
                    </a:lnTo>
                    <a:lnTo>
                      <a:pt x="994" y="46"/>
                    </a:lnTo>
                    <a:lnTo>
                      <a:pt x="1007" y="100"/>
                    </a:lnTo>
                    <a:lnTo>
                      <a:pt x="1019" y="169"/>
                    </a:lnTo>
                    <a:lnTo>
                      <a:pt x="1022" y="252"/>
                    </a:lnTo>
                    <a:lnTo>
                      <a:pt x="1013" y="344"/>
                    </a:lnTo>
                    <a:lnTo>
                      <a:pt x="987" y="444"/>
                    </a:lnTo>
                    <a:lnTo>
                      <a:pt x="940" y="549"/>
                    </a:lnTo>
                    <a:lnTo>
                      <a:pt x="939" y="550"/>
                    </a:lnTo>
                    <a:lnTo>
                      <a:pt x="934" y="553"/>
                    </a:lnTo>
                    <a:lnTo>
                      <a:pt x="927" y="559"/>
                    </a:lnTo>
                    <a:lnTo>
                      <a:pt x="917" y="567"/>
                    </a:lnTo>
                    <a:lnTo>
                      <a:pt x="904" y="575"/>
                    </a:lnTo>
                    <a:lnTo>
                      <a:pt x="890" y="585"/>
                    </a:lnTo>
                    <a:lnTo>
                      <a:pt x="871" y="594"/>
                    </a:lnTo>
                    <a:lnTo>
                      <a:pt x="851" y="603"/>
                    </a:lnTo>
                    <a:lnTo>
                      <a:pt x="828" y="611"/>
                    </a:lnTo>
                    <a:lnTo>
                      <a:pt x="802" y="619"/>
                    </a:lnTo>
                    <a:lnTo>
                      <a:pt x="773" y="625"/>
                    </a:lnTo>
                    <a:lnTo>
                      <a:pt x="741" y="629"/>
                    </a:lnTo>
                    <a:lnTo>
                      <a:pt x="708" y="630"/>
                    </a:lnTo>
                    <a:lnTo>
                      <a:pt x="671" y="629"/>
                    </a:lnTo>
                    <a:lnTo>
                      <a:pt x="631" y="626"/>
                    </a:lnTo>
                    <a:lnTo>
                      <a:pt x="590" y="618"/>
                    </a:lnTo>
                    <a:lnTo>
                      <a:pt x="590" y="720"/>
                    </a:lnTo>
                    <a:lnTo>
                      <a:pt x="26" y="663"/>
                    </a:lnTo>
                    <a:lnTo>
                      <a:pt x="7" y="58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771240" y="3793320"/>
                <a:ext cx="139320" cy="40680"/>
              </a:xfrm>
              <a:custGeom>
                <a:avLst/>
                <a:gdLst/>
                <a:ahLst/>
                <a:rect l="l" t="t" r="r" b="b"/>
                <a:pathLst>
                  <a:path w="837" h="269">
                    <a:moveTo>
                      <a:pt x="837" y="96"/>
                    </a:moveTo>
                    <a:lnTo>
                      <a:pt x="12" y="0"/>
                    </a:lnTo>
                    <a:lnTo>
                      <a:pt x="0" y="96"/>
                    </a:lnTo>
                    <a:lnTo>
                      <a:pt x="812" y="269"/>
                    </a:lnTo>
                    <a:lnTo>
                      <a:pt x="837" y="9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840360" y="3806640"/>
                <a:ext cx="59760" cy="19080"/>
              </a:xfrm>
              <a:custGeom>
                <a:avLst/>
                <a:gdLst/>
                <a:ahLst/>
                <a:rect l="l" t="t" r="r" b="b"/>
                <a:pathLst>
                  <a:path w="358" h="122">
                    <a:moveTo>
                      <a:pt x="358" y="53"/>
                    </a:moveTo>
                    <a:lnTo>
                      <a:pt x="5" y="0"/>
                    </a:lnTo>
                    <a:lnTo>
                      <a:pt x="0" y="51"/>
                    </a:lnTo>
                    <a:lnTo>
                      <a:pt x="348" y="122"/>
                    </a:lnTo>
                    <a:lnTo>
                      <a:pt x="358" y="53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779520" y="3796560"/>
                <a:ext cx="39600" cy="13680"/>
              </a:xfrm>
              <a:custGeom>
                <a:avLst/>
                <a:gdLst/>
                <a:ahLst/>
                <a:rect l="l" t="t" r="r" b="b"/>
                <a:pathLst>
                  <a:path w="239" h="91">
                    <a:moveTo>
                      <a:pt x="239" y="42"/>
                    </a:moveTo>
                    <a:lnTo>
                      <a:pt x="0" y="0"/>
                    </a:lnTo>
                    <a:lnTo>
                      <a:pt x="2" y="44"/>
                    </a:lnTo>
                    <a:lnTo>
                      <a:pt x="231" y="91"/>
                    </a:lnTo>
                    <a:lnTo>
                      <a:pt x="239" y="42"/>
                    </a:ln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79080" y="3810600"/>
                <a:ext cx="236160" cy="72360"/>
              </a:xfrm>
              <a:custGeom>
                <a:avLst/>
                <a:gdLst/>
                <a:ahLst/>
                <a:rect l="l" t="t" r="r" b="b"/>
                <a:pathLst>
                  <a:path w="1409" h="466">
                    <a:moveTo>
                      <a:pt x="0" y="140"/>
                    </a:moveTo>
                    <a:lnTo>
                      <a:pt x="4" y="140"/>
                    </a:lnTo>
                    <a:lnTo>
                      <a:pt x="12" y="138"/>
                    </a:lnTo>
                    <a:lnTo>
                      <a:pt x="27" y="135"/>
                    </a:lnTo>
                    <a:lnTo>
                      <a:pt x="45" y="132"/>
                    </a:lnTo>
                    <a:lnTo>
                      <a:pt x="67" y="128"/>
                    </a:lnTo>
                    <a:lnTo>
                      <a:pt x="92" y="123"/>
                    </a:lnTo>
                    <a:lnTo>
                      <a:pt x="120" y="116"/>
                    </a:lnTo>
                    <a:lnTo>
                      <a:pt x="150" y="108"/>
                    </a:lnTo>
                    <a:lnTo>
                      <a:pt x="181" y="100"/>
                    </a:lnTo>
                    <a:lnTo>
                      <a:pt x="212" y="89"/>
                    </a:lnTo>
                    <a:lnTo>
                      <a:pt x="243" y="78"/>
                    </a:lnTo>
                    <a:lnTo>
                      <a:pt x="273" y="65"/>
                    </a:lnTo>
                    <a:lnTo>
                      <a:pt x="303" y="50"/>
                    </a:lnTo>
                    <a:lnTo>
                      <a:pt x="330" y="35"/>
                    </a:lnTo>
                    <a:lnTo>
                      <a:pt x="355" y="18"/>
                    </a:lnTo>
                    <a:lnTo>
                      <a:pt x="375" y="0"/>
                    </a:lnTo>
                    <a:lnTo>
                      <a:pt x="1409" y="236"/>
                    </a:lnTo>
                    <a:lnTo>
                      <a:pt x="1407" y="239"/>
                    </a:lnTo>
                    <a:lnTo>
                      <a:pt x="1401" y="245"/>
                    </a:lnTo>
                    <a:lnTo>
                      <a:pt x="1392" y="254"/>
                    </a:lnTo>
                    <a:lnTo>
                      <a:pt x="1379" y="265"/>
                    </a:lnTo>
                    <a:lnTo>
                      <a:pt x="1363" y="279"/>
                    </a:lnTo>
                    <a:lnTo>
                      <a:pt x="1345" y="295"/>
                    </a:lnTo>
                    <a:lnTo>
                      <a:pt x="1325" y="313"/>
                    </a:lnTo>
                    <a:lnTo>
                      <a:pt x="1303" y="332"/>
                    </a:lnTo>
                    <a:lnTo>
                      <a:pt x="1279" y="351"/>
                    </a:lnTo>
                    <a:lnTo>
                      <a:pt x="1253" y="371"/>
                    </a:lnTo>
                    <a:lnTo>
                      <a:pt x="1227" y="390"/>
                    </a:lnTo>
                    <a:lnTo>
                      <a:pt x="1200" y="409"/>
                    </a:lnTo>
                    <a:lnTo>
                      <a:pt x="1172" y="426"/>
                    </a:lnTo>
                    <a:lnTo>
                      <a:pt x="1145" y="441"/>
                    </a:lnTo>
                    <a:lnTo>
                      <a:pt x="1117" y="455"/>
                    </a:lnTo>
                    <a:lnTo>
                      <a:pt x="1091" y="466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914160" y="3803040"/>
                <a:ext cx="84240" cy="34560"/>
              </a:xfrm>
              <a:custGeom>
                <a:avLst/>
                <a:gdLst/>
                <a:ahLst/>
                <a:rect l="l" t="t" r="r" b="b"/>
                <a:pathLst>
                  <a:path w="502" h="223">
                    <a:moveTo>
                      <a:pt x="51" y="223"/>
                    </a:moveTo>
                    <a:lnTo>
                      <a:pt x="502" y="90"/>
                    </a:lnTo>
                    <a:lnTo>
                      <a:pt x="229" y="0"/>
                    </a:lnTo>
                    <a:lnTo>
                      <a:pt x="6" y="26"/>
                    </a:lnTo>
                    <a:lnTo>
                      <a:pt x="0" y="211"/>
                    </a:lnTo>
                    <a:lnTo>
                      <a:pt x="51" y="22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697440" y="3654720"/>
                <a:ext cx="44280" cy="164520"/>
              </a:xfrm>
              <a:custGeom>
                <a:avLst/>
                <a:gdLst/>
                <a:ahLst/>
                <a:rect l="l" t="t" r="r" b="b"/>
                <a:pathLst>
                  <a:path w="267" h="1064">
                    <a:moveTo>
                      <a:pt x="267" y="26"/>
                    </a:moveTo>
                    <a:lnTo>
                      <a:pt x="266" y="24"/>
                    </a:lnTo>
                    <a:lnTo>
                      <a:pt x="262" y="22"/>
                    </a:lnTo>
                    <a:lnTo>
                      <a:pt x="254" y="20"/>
                    </a:lnTo>
                    <a:lnTo>
                      <a:pt x="244" y="16"/>
                    </a:lnTo>
                    <a:lnTo>
                      <a:pt x="232" y="12"/>
                    </a:lnTo>
                    <a:lnTo>
                      <a:pt x="218" y="8"/>
                    </a:lnTo>
                    <a:lnTo>
                      <a:pt x="202" y="5"/>
                    </a:lnTo>
                    <a:lnTo>
                      <a:pt x="184" y="1"/>
                    </a:lnTo>
                    <a:lnTo>
                      <a:pt x="164" y="0"/>
                    </a:lnTo>
                    <a:lnTo>
                      <a:pt x="143" y="0"/>
                    </a:lnTo>
                    <a:lnTo>
                      <a:pt x="121" y="3"/>
                    </a:lnTo>
                    <a:lnTo>
                      <a:pt x="98" y="6"/>
                    </a:lnTo>
                    <a:lnTo>
                      <a:pt x="74" y="13"/>
                    </a:lnTo>
                    <a:lnTo>
                      <a:pt x="50" y="22"/>
                    </a:lnTo>
                    <a:lnTo>
                      <a:pt x="25" y="35"/>
                    </a:lnTo>
                    <a:lnTo>
                      <a:pt x="0" y="51"/>
                    </a:lnTo>
                    <a:lnTo>
                      <a:pt x="0" y="1064"/>
                    </a:lnTo>
                    <a:lnTo>
                      <a:pt x="1" y="1064"/>
                    </a:lnTo>
                    <a:lnTo>
                      <a:pt x="7" y="1064"/>
                    </a:lnTo>
                    <a:lnTo>
                      <a:pt x="15" y="1063"/>
                    </a:lnTo>
                    <a:lnTo>
                      <a:pt x="25" y="1062"/>
                    </a:lnTo>
                    <a:lnTo>
                      <a:pt x="37" y="1060"/>
                    </a:lnTo>
                    <a:lnTo>
                      <a:pt x="52" y="1057"/>
                    </a:lnTo>
                    <a:lnTo>
                      <a:pt x="69" y="1054"/>
                    </a:lnTo>
                    <a:lnTo>
                      <a:pt x="88" y="1049"/>
                    </a:lnTo>
                    <a:lnTo>
                      <a:pt x="108" y="1044"/>
                    </a:lnTo>
                    <a:lnTo>
                      <a:pt x="129" y="1037"/>
                    </a:lnTo>
                    <a:lnTo>
                      <a:pt x="152" y="1029"/>
                    </a:lnTo>
                    <a:lnTo>
                      <a:pt x="175" y="1018"/>
                    </a:lnTo>
                    <a:lnTo>
                      <a:pt x="198" y="1007"/>
                    </a:lnTo>
                    <a:lnTo>
                      <a:pt x="222" y="994"/>
                    </a:lnTo>
                    <a:lnTo>
                      <a:pt x="244" y="979"/>
                    </a:lnTo>
                    <a:lnTo>
                      <a:pt x="267" y="962"/>
                    </a:lnTo>
                    <a:lnTo>
                      <a:pt x="267" y="2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698880" y="3656880"/>
                <a:ext cx="38160" cy="138240"/>
              </a:xfrm>
              <a:custGeom>
                <a:avLst/>
                <a:gdLst/>
                <a:ahLst/>
                <a:rect l="l" t="t" r="r" b="b"/>
                <a:pathLst>
                  <a:path w="228" h="898">
                    <a:moveTo>
                      <a:pt x="228" y="21"/>
                    </a:moveTo>
                    <a:lnTo>
                      <a:pt x="227" y="20"/>
                    </a:lnTo>
                    <a:lnTo>
                      <a:pt x="224" y="19"/>
                    </a:lnTo>
                    <a:lnTo>
                      <a:pt x="217" y="17"/>
                    </a:lnTo>
                    <a:lnTo>
                      <a:pt x="209" y="13"/>
                    </a:lnTo>
                    <a:lnTo>
                      <a:pt x="199" y="10"/>
                    </a:lnTo>
                    <a:lnTo>
                      <a:pt x="186" y="6"/>
                    </a:lnTo>
                    <a:lnTo>
                      <a:pt x="172" y="4"/>
                    </a:lnTo>
                    <a:lnTo>
                      <a:pt x="157" y="2"/>
                    </a:lnTo>
                    <a:lnTo>
                      <a:pt x="140" y="0"/>
                    </a:lnTo>
                    <a:lnTo>
                      <a:pt x="122" y="0"/>
                    </a:lnTo>
                    <a:lnTo>
                      <a:pt x="104" y="2"/>
                    </a:lnTo>
                    <a:lnTo>
                      <a:pt x="83" y="5"/>
                    </a:lnTo>
                    <a:lnTo>
                      <a:pt x="64" y="11"/>
                    </a:lnTo>
                    <a:lnTo>
                      <a:pt x="42" y="19"/>
                    </a:lnTo>
                    <a:lnTo>
                      <a:pt x="21" y="29"/>
                    </a:lnTo>
                    <a:lnTo>
                      <a:pt x="0" y="43"/>
                    </a:lnTo>
                    <a:lnTo>
                      <a:pt x="0" y="898"/>
                    </a:lnTo>
                    <a:lnTo>
                      <a:pt x="1" y="898"/>
                    </a:lnTo>
                    <a:lnTo>
                      <a:pt x="5" y="898"/>
                    </a:lnTo>
                    <a:lnTo>
                      <a:pt x="12" y="897"/>
                    </a:lnTo>
                    <a:lnTo>
                      <a:pt x="21" y="896"/>
                    </a:lnTo>
                    <a:lnTo>
                      <a:pt x="32" y="894"/>
                    </a:lnTo>
                    <a:lnTo>
                      <a:pt x="45" y="892"/>
                    </a:lnTo>
                    <a:lnTo>
                      <a:pt x="59" y="889"/>
                    </a:lnTo>
                    <a:lnTo>
                      <a:pt x="75" y="884"/>
                    </a:lnTo>
                    <a:lnTo>
                      <a:pt x="92" y="879"/>
                    </a:lnTo>
                    <a:lnTo>
                      <a:pt x="111" y="874"/>
                    </a:lnTo>
                    <a:lnTo>
                      <a:pt x="130" y="867"/>
                    </a:lnTo>
                    <a:lnTo>
                      <a:pt x="149" y="858"/>
                    </a:lnTo>
                    <a:lnTo>
                      <a:pt x="169" y="848"/>
                    </a:lnTo>
                    <a:lnTo>
                      <a:pt x="190" y="837"/>
                    </a:lnTo>
                    <a:lnTo>
                      <a:pt x="209" y="824"/>
                    </a:lnTo>
                    <a:lnTo>
                      <a:pt x="228" y="809"/>
                    </a:lnTo>
                    <a:lnTo>
                      <a:pt x="228" y="2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699960" y="3657960"/>
                <a:ext cx="31320" cy="112680"/>
              </a:xfrm>
              <a:custGeom>
                <a:avLst/>
                <a:gdLst/>
                <a:ahLst/>
                <a:rect l="l" t="t" r="r" b="b"/>
                <a:pathLst>
                  <a:path w="192" h="729">
                    <a:moveTo>
                      <a:pt x="192" y="17"/>
                    </a:moveTo>
                    <a:lnTo>
                      <a:pt x="191" y="17"/>
                    </a:lnTo>
                    <a:lnTo>
                      <a:pt x="187" y="15"/>
                    </a:lnTo>
                    <a:lnTo>
                      <a:pt x="183" y="12"/>
                    </a:lnTo>
                    <a:lnTo>
                      <a:pt x="176" y="10"/>
                    </a:lnTo>
                    <a:lnTo>
                      <a:pt x="167" y="8"/>
                    </a:lnTo>
                    <a:lnTo>
                      <a:pt x="156" y="4"/>
                    </a:lnTo>
                    <a:lnTo>
                      <a:pt x="145" y="2"/>
                    </a:lnTo>
                    <a:lnTo>
                      <a:pt x="132" y="0"/>
                    </a:lnTo>
                    <a:lnTo>
                      <a:pt x="117" y="0"/>
                    </a:lnTo>
                    <a:lnTo>
                      <a:pt x="102" y="0"/>
                    </a:lnTo>
                    <a:lnTo>
                      <a:pt x="86" y="1"/>
                    </a:lnTo>
                    <a:lnTo>
                      <a:pt x="70" y="3"/>
                    </a:lnTo>
                    <a:lnTo>
                      <a:pt x="53" y="8"/>
                    </a:lnTo>
                    <a:lnTo>
                      <a:pt x="35" y="15"/>
                    </a:lnTo>
                    <a:lnTo>
                      <a:pt x="18" y="24"/>
                    </a:lnTo>
                    <a:lnTo>
                      <a:pt x="0" y="35"/>
                    </a:lnTo>
                    <a:lnTo>
                      <a:pt x="0" y="729"/>
                    </a:lnTo>
                    <a:lnTo>
                      <a:pt x="1" y="729"/>
                    </a:lnTo>
                    <a:lnTo>
                      <a:pt x="4" y="729"/>
                    </a:lnTo>
                    <a:lnTo>
                      <a:pt x="10" y="728"/>
                    </a:lnTo>
                    <a:lnTo>
                      <a:pt x="18" y="727"/>
                    </a:lnTo>
                    <a:lnTo>
                      <a:pt x="27" y="726"/>
                    </a:lnTo>
                    <a:lnTo>
                      <a:pt x="37" y="725"/>
                    </a:lnTo>
                    <a:lnTo>
                      <a:pt x="50" y="721"/>
                    </a:lnTo>
                    <a:lnTo>
                      <a:pt x="64" y="719"/>
                    </a:lnTo>
                    <a:lnTo>
                      <a:pt x="77" y="714"/>
                    </a:lnTo>
                    <a:lnTo>
                      <a:pt x="92" y="710"/>
                    </a:lnTo>
                    <a:lnTo>
                      <a:pt x="108" y="704"/>
                    </a:lnTo>
                    <a:lnTo>
                      <a:pt x="125" y="697"/>
                    </a:lnTo>
                    <a:lnTo>
                      <a:pt x="141" y="689"/>
                    </a:lnTo>
                    <a:lnTo>
                      <a:pt x="159" y="680"/>
                    </a:lnTo>
                    <a:lnTo>
                      <a:pt x="176" y="668"/>
                    </a:lnTo>
                    <a:lnTo>
                      <a:pt x="192" y="657"/>
                    </a:lnTo>
                    <a:lnTo>
                      <a:pt x="192" y="1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01040" y="3659040"/>
                <a:ext cx="25920" cy="87480"/>
              </a:xfrm>
              <a:custGeom>
                <a:avLst/>
                <a:gdLst/>
                <a:ahLst/>
                <a:rect l="l" t="t" r="r" b="b"/>
                <a:pathLst>
                  <a:path w="156" h="564">
                    <a:moveTo>
                      <a:pt x="156" y="15"/>
                    </a:moveTo>
                    <a:lnTo>
                      <a:pt x="153" y="14"/>
                    </a:lnTo>
                    <a:lnTo>
                      <a:pt x="142" y="9"/>
                    </a:lnTo>
                    <a:lnTo>
                      <a:pt x="127" y="4"/>
                    </a:lnTo>
                    <a:lnTo>
                      <a:pt x="108" y="1"/>
                    </a:lnTo>
                    <a:lnTo>
                      <a:pt x="84" y="0"/>
                    </a:lnTo>
                    <a:lnTo>
                      <a:pt x="58" y="3"/>
                    </a:lnTo>
                    <a:lnTo>
                      <a:pt x="29" y="12"/>
                    </a:lnTo>
                    <a:lnTo>
                      <a:pt x="0" y="28"/>
                    </a:lnTo>
                    <a:lnTo>
                      <a:pt x="0" y="564"/>
                    </a:lnTo>
                    <a:lnTo>
                      <a:pt x="4" y="564"/>
                    </a:lnTo>
                    <a:lnTo>
                      <a:pt x="15" y="563"/>
                    </a:lnTo>
                    <a:lnTo>
                      <a:pt x="31" y="560"/>
                    </a:lnTo>
                    <a:lnTo>
                      <a:pt x="52" y="555"/>
                    </a:lnTo>
                    <a:lnTo>
                      <a:pt x="76" y="548"/>
                    </a:lnTo>
                    <a:lnTo>
                      <a:pt x="102" y="537"/>
                    </a:lnTo>
                    <a:lnTo>
                      <a:pt x="128" y="524"/>
                    </a:lnTo>
                    <a:lnTo>
                      <a:pt x="156" y="505"/>
                    </a:lnTo>
                    <a:lnTo>
                      <a:pt x="156" y="1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702120" y="3661200"/>
                <a:ext cx="19800" cy="60480"/>
              </a:xfrm>
              <a:custGeom>
                <a:avLst/>
                <a:gdLst/>
                <a:ahLst/>
                <a:rect l="l" t="t" r="r" b="b"/>
                <a:pathLst>
                  <a:path w="117" h="396">
                    <a:moveTo>
                      <a:pt x="117" y="10"/>
                    </a:moveTo>
                    <a:lnTo>
                      <a:pt x="115" y="9"/>
                    </a:lnTo>
                    <a:lnTo>
                      <a:pt x="107" y="6"/>
                    </a:lnTo>
                    <a:lnTo>
                      <a:pt x="95" y="2"/>
                    </a:lnTo>
                    <a:lnTo>
                      <a:pt x="80" y="0"/>
                    </a:lnTo>
                    <a:lnTo>
                      <a:pt x="63" y="0"/>
                    </a:lnTo>
                    <a:lnTo>
                      <a:pt x="43" y="2"/>
                    </a:lnTo>
                    <a:lnTo>
                      <a:pt x="22" y="9"/>
                    </a:lnTo>
                    <a:lnTo>
                      <a:pt x="0" y="22"/>
                    </a:lnTo>
                    <a:lnTo>
                      <a:pt x="0" y="396"/>
                    </a:lnTo>
                    <a:lnTo>
                      <a:pt x="3" y="396"/>
                    </a:lnTo>
                    <a:lnTo>
                      <a:pt x="11" y="395"/>
                    </a:lnTo>
                    <a:lnTo>
                      <a:pt x="23" y="393"/>
                    </a:lnTo>
                    <a:lnTo>
                      <a:pt x="39" y="389"/>
                    </a:lnTo>
                    <a:lnTo>
                      <a:pt x="58" y="385"/>
                    </a:lnTo>
                    <a:lnTo>
                      <a:pt x="77" y="377"/>
                    </a:lnTo>
                    <a:lnTo>
                      <a:pt x="96" y="365"/>
                    </a:lnTo>
                    <a:lnTo>
                      <a:pt x="117" y="351"/>
                    </a:lnTo>
                    <a:lnTo>
                      <a:pt x="117" y="1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703200" y="3662280"/>
                <a:ext cx="12960" cy="35640"/>
              </a:xfrm>
              <a:custGeom>
                <a:avLst/>
                <a:gdLst/>
                <a:ahLst/>
                <a:rect l="l" t="t" r="r" b="b"/>
                <a:pathLst>
                  <a:path w="80" h="230">
                    <a:moveTo>
                      <a:pt x="80" y="7"/>
                    </a:moveTo>
                    <a:lnTo>
                      <a:pt x="78" y="6"/>
                    </a:lnTo>
                    <a:lnTo>
                      <a:pt x="73" y="5"/>
                    </a:lnTo>
                    <a:lnTo>
                      <a:pt x="65" y="2"/>
                    </a:lnTo>
                    <a:lnTo>
                      <a:pt x="55" y="0"/>
                    </a:lnTo>
                    <a:lnTo>
                      <a:pt x="44" y="0"/>
                    </a:lnTo>
                    <a:lnTo>
                      <a:pt x="30" y="1"/>
                    </a:lnTo>
                    <a:lnTo>
                      <a:pt x="15" y="7"/>
                    </a:lnTo>
                    <a:lnTo>
                      <a:pt x="0" y="15"/>
                    </a:lnTo>
                    <a:lnTo>
                      <a:pt x="0" y="230"/>
                    </a:lnTo>
                    <a:lnTo>
                      <a:pt x="3" y="230"/>
                    </a:lnTo>
                    <a:lnTo>
                      <a:pt x="7" y="229"/>
                    </a:lnTo>
                    <a:lnTo>
                      <a:pt x="16" y="228"/>
                    </a:lnTo>
                    <a:lnTo>
                      <a:pt x="27" y="225"/>
                    </a:lnTo>
                    <a:lnTo>
                      <a:pt x="39" y="222"/>
                    </a:lnTo>
                    <a:lnTo>
                      <a:pt x="53" y="216"/>
                    </a:lnTo>
                    <a:lnTo>
                      <a:pt x="67" y="208"/>
                    </a:lnTo>
                    <a:lnTo>
                      <a:pt x="80" y="199"/>
                    </a:lnTo>
                    <a:lnTo>
                      <a:pt x="80" y="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865200" y="376416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117" h="117">
                    <a:moveTo>
                      <a:pt x="58" y="117"/>
                    </a:moveTo>
                    <a:lnTo>
                      <a:pt x="70" y="116"/>
                    </a:lnTo>
                    <a:lnTo>
                      <a:pt x="81" y="112"/>
                    </a:lnTo>
                    <a:lnTo>
                      <a:pt x="90" y="106"/>
                    </a:lnTo>
                    <a:lnTo>
                      <a:pt x="100" y="100"/>
                    </a:lnTo>
                    <a:lnTo>
                      <a:pt x="106" y="90"/>
                    </a:lnTo>
                    <a:lnTo>
                      <a:pt x="112" y="81"/>
                    </a:lnTo>
                    <a:lnTo>
                      <a:pt x="116" y="70"/>
                    </a:lnTo>
                    <a:lnTo>
                      <a:pt x="117" y="58"/>
                    </a:lnTo>
                    <a:lnTo>
                      <a:pt x="116" y="46"/>
                    </a:lnTo>
                    <a:lnTo>
                      <a:pt x="112" y="35"/>
                    </a:lnTo>
                    <a:lnTo>
                      <a:pt x="106" y="25"/>
                    </a:lnTo>
                    <a:lnTo>
                      <a:pt x="100" y="17"/>
                    </a:lnTo>
                    <a:lnTo>
                      <a:pt x="90" y="9"/>
                    </a:lnTo>
                    <a:lnTo>
                      <a:pt x="81" y="4"/>
                    </a:lnTo>
                    <a:lnTo>
                      <a:pt x="70" y="1"/>
                    </a:lnTo>
                    <a:lnTo>
                      <a:pt x="58" y="0"/>
                    </a:lnTo>
                    <a:lnTo>
                      <a:pt x="47" y="1"/>
                    </a:lnTo>
                    <a:lnTo>
                      <a:pt x="36" y="4"/>
                    </a:lnTo>
                    <a:lnTo>
                      <a:pt x="26" y="9"/>
                    </a:lnTo>
                    <a:lnTo>
                      <a:pt x="17" y="17"/>
                    </a:lnTo>
                    <a:lnTo>
                      <a:pt x="10" y="25"/>
                    </a:lnTo>
                    <a:lnTo>
                      <a:pt x="5" y="35"/>
                    </a:lnTo>
                    <a:lnTo>
                      <a:pt x="1" y="46"/>
                    </a:lnTo>
                    <a:lnTo>
                      <a:pt x="0" y="58"/>
                    </a:lnTo>
                    <a:lnTo>
                      <a:pt x="1" y="70"/>
                    </a:lnTo>
                    <a:lnTo>
                      <a:pt x="5" y="81"/>
                    </a:lnTo>
                    <a:lnTo>
                      <a:pt x="10" y="90"/>
                    </a:lnTo>
                    <a:lnTo>
                      <a:pt x="17" y="100"/>
                    </a:lnTo>
                    <a:lnTo>
                      <a:pt x="26" y="106"/>
                    </a:lnTo>
                    <a:lnTo>
                      <a:pt x="36" y="112"/>
                    </a:lnTo>
                    <a:lnTo>
                      <a:pt x="47" y="116"/>
                    </a:lnTo>
                    <a:lnTo>
                      <a:pt x="58" y="117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804360" y="3764160"/>
                <a:ext cx="10080" cy="936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29" y="59"/>
                    </a:moveTo>
                    <a:lnTo>
                      <a:pt x="40" y="56"/>
                    </a:lnTo>
                    <a:lnTo>
                      <a:pt x="50" y="49"/>
                    </a:lnTo>
                    <a:lnTo>
                      <a:pt x="56" y="40"/>
                    </a:lnTo>
                    <a:lnTo>
                      <a:pt x="58" y="29"/>
                    </a:lnTo>
                    <a:lnTo>
                      <a:pt x="56" y="17"/>
                    </a:lnTo>
                    <a:lnTo>
                      <a:pt x="50" y="8"/>
                    </a:lnTo>
                    <a:lnTo>
                      <a:pt x="40" y="2"/>
                    </a:lnTo>
                    <a:lnTo>
                      <a:pt x="29" y="0"/>
                    </a:lnTo>
                    <a:lnTo>
                      <a:pt x="17" y="2"/>
                    </a:lnTo>
                    <a:lnTo>
                      <a:pt x="8" y="8"/>
                    </a:lnTo>
                    <a:lnTo>
                      <a:pt x="2" y="17"/>
                    </a:lnTo>
                    <a:lnTo>
                      <a:pt x="0" y="29"/>
                    </a:lnTo>
                    <a:lnTo>
                      <a:pt x="2" y="40"/>
                    </a:lnTo>
                    <a:lnTo>
                      <a:pt x="8" y="49"/>
                    </a:lnTo>
                    <a:lnTo>
                      <a:pt x="17" y="56"/>
                    </a:lnTo>
                    <a:lnTo>
                      <a:pt x="29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821640" y="3765240"/>
                <a:ext cx="9000" cy="828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29" y="59"/>
                    </a:moveTo>
                    <a:lnTo>
                      <a:pt x="41" y="57"/>
                    </a:lnTo>
                    <a:lnTo>
                      <a:pt x="50" y="51"/>
                    </a:lnTo>
                    <a:lnTo>
                      <a:pt x="56" y="42"/>
                    </a:lnTo>
                    <a:lnTo>
                      <a:pt x="58" y="30"/>
                    </a:lnTo>
                    <a:lnTo>
                      <a:pt x="56" y="19"/>
                    </a:lnTo>
                    <a:lnTo>
                      <a:pt x="50" y="9"/>
                    </a:lnTo>
                    <a:lnTo>
                      <a:pt x="41" y="3"/>
                    </a:lnTo>
                    <a:lnTo>
                      <a:pt x="29" y="0"/>
                    </a:lnTo>
                    <a:lnTo>
                      <a:pt x="18" y="3"/>
                    </a:lnTo>
                    <a:lnTo>
                      <a:pt x="9" y="9"/>
                    </a:lnTo>
                    <a:lnTo>
                      <a:pt x="2" y="19"/>
                    </a:lnTo>
                    <a:lnTo>
                      <a:pt x="0" y="30"/>
                    </a:lnTo>
                    <a:lnTo>
                      <a:pt x="2" y="42"/>
                    </a:lnTo>
                    <a:lnTo>
                      <a:pt x="9" y="51"/>
                    </a:lnTo>
                    <a:lnTo>
                      <a:pt x="18" y="57"/>
                    </a:lnTo>
                    <a:lnTo>
                      <a:pt x="29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56120" y="3640680"/>
                <a:ext cx="26640" cy="123480"/>
              </a:xfrm>
              <a:custGeom>
                <a:avLst/>
                <a:gdLst/>
                <a:ahLst/>
                <a:rect l="l" t="t" r="r" b="b"/>
                <a:pathLst>
                  <a:path w="166" h="800">
                    <a:moveTo>
                      <a:pt x="52" y="16"/>
                    </a:moveTo>
                    <a:lnTo>
                      <a:pt x="47" y="32"/>
                    </a:lnTo>
                    <a:lnTo>
                      <a:pt x="36" y="77"/>
                    </a:lnTo>
                    <a:lnTo>
                      <a:pt x="21" y="148"/>
                    </a:lnTo>
                    <a:lnTo>
                      <a:pt x="8" y="244"/>
                    </a:lnTo>
                    <a:lnTo>
                      <a:pt x="0" y="359"/>
                    </a:lnTo>
                    <a:lnTo>
                      <a:pt x="2" y="492"/>
                    </a:lnTo>
                    <a:lnTo>
                      <a:pt x="15" y="640"/>
                    </a:lnTo>
                    <a:lnTo>
                      <a:pt x="46" y="800"/>
                    </a:lnTo>
                    <a:lnTo>
                      <a:pt x="161" y="794"/>
                    </a:lnTo>
                    <a:lnTo>
                      <a:pt x="156" y="770"/>
                    </a:lnTo>
                    <a:lnTo>
                      <a:pt x="145" y="706"/>
                    </a:lnTo>
                    <a:lnTo>
                      <a:pt x="131" y="610"/>
                    </a:lnTo>
                    <a:lnTo>
                      <a:pt x="118" y="493"/>
                    </a:lnTo>
                    <a:lnTo>
                      <a:pt x="111" y="364"/>
                    </a:lnTo>
                    <a:lnTo>
                      <a:pt x="115" y="235"/>
                    </a:lnTo>
                    <a:lnTo>
                      <a:pt x="132" y="113"/>
                    </a:lnTo>
                    <a:lnTo>
                      <a:pt x="166" y="9"/>
                    </a:lnTo>
                    <a:lnTo>
                      <a:pt x="166" y="8"/>
                    </a:lnTo>
                    <a:lnTo>
                      <a:pt x="166" y="6"/>
                    </a:lnTo>
                    <a:lnTo>
                      <a:pt x="164" y="4"/>
                    </a:lnTo>
                    <a:lnTo>
                      <a:pt x="157" y="0"/>
                    </a:lnTo>
                    <a:lnTo>
                      <a:pt x="143" y="0"/>
                    </a:lnTo>
                    <a:lnTo>
                      <a:pt x="123" y="1"/>
                    </a:lnTo>
                    <a:lnTo>
                      <a:pt x="93" y="7"/>
                    </a:lnTo>
                    <a:lnTo>
                      <a:pt x="52" y="1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899040" y="3625560"/>
                <a:ext cx="37440" cy="138600"/>
              </a:xfrm>
              <a:custGeom>
                <a:avLst/>
                <a:gdLst/>
                <a:ahLst/>
                <a:rect l="l" t="t" r="r" b="b"/>
                <a:pathLst>
                  <a:path w="225" h="893">
                    <a:moveTo>
                      <a:pt x="225" y="6"/>
                    </a:moveTo>
                    <a:lnTo>
                      <a:pt x="219" y="12"/>
                    </a:lnTo>
                    <a:lnTo>
                      <a:pt x="204" y="35"/>
                    </a:lnTo>
                    <a:lnTo>
                      <a:pt x="185" y="82"/>
                    </a:lnTo>
                    <a:lnTo>
                      <a:pt x="165" y="158"/>
                    </a:lnTo>
                    <a:lnTo>
                      <a:pt x="149" y="270"/>
                    </a:lnTo>
                    <a:lnTo>
                      <a:pt x="141" y="427"/>
                    </a:lnTo>
                    <a:lnTo>
                      <a:pt x="146" y="631"/>
                    </a:lnTo>
                    <a:lnTo>
                      <a:pt x="168" y="893"/>
                    </a:lnTo>
                    <a:lnTo>
                      <a:pt x="41" y="893"/>
                    </a:lnTo>
                    <a:lnTo>
                      <a:pt x="36" y="867"/>
                    </a:lnTo>
                    <a:lnTo>
                      <a:pt x="26" y="794"/>
                    </a:lnTo>
                    <a:lnTo>
                      <a:pt x="13" y="686"/>
                    </a:lnTo>
                    <a:lnTo>
                      <a:pt x="3" y="554"/>
                    </a:lnTo>
                    <a:lnTo>
                      <a:pt x="0" y="408"/>
                    </a:lnTo>
                    <a:lnTo>
                      <a:pt x="6" y="260"/>
                    </a:lnTo>
                    <a:lnTo>
                      <a:pt x="30" y="121"/>
                    </a:lnTo>
                    <a:lnTo>
                      <a:pt x="73" y="0"/>
                    </a:lnTo>
                    <a:lnTo>
                      <a:pt x="225" y="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56120" y="3648240"/>
                <a:ext cx="24120" cy="108000"/>
              </a:xfrm>
              <a:custGeom>
                <a:avLst/>
                <a:gdLst/>
                <a:ahLst/>
                <a:rect l="l" t="t" r="r" b="b"/>
                <a:pathLst>
                  <a:path w="145" h="699">
                    <a:moveTo>
                      <a:pt x="46" y="14"/>
                    </a:moveTo>
                    <a:lnTo>
                      <a:pt x="41" y="28"/>
                    </a:lnTo>
                    <a:lnTo>
                      <a:pt x="32" y="67"/>
                    </a:lnTo>
                    <a:lnTo>
                      <a:pt x="20" y="130"/>
                    </a:lnTo>
                    <a:lnTo>
                      <a:pt x="7" y="213"/>
                    </a:lnTo>
                    <a:lnTo>
                      <a:pt x="0" y="314"/>
                    </a:lnTo>
                    <a:lnTo>
                      <a:pt x="1" y="430"/>
                    </a:lnTo>
                    <a:lnTo>
                      <a:pt x="13" y="559"/>
                    </a:lnTo>
                    <a:lnTo>
                      <a:pt x="40" y="699"/>
                    </a:lnTo>
                    <a:lnTo>
                      <a:pt x="140" y="693"/>
                    </a:lnTo>
                    <a:lnTo>
                      <a:pt x="135" y="672"/>
                    </a:lnTo>
                    <a:lnTo>
                      <a:pt x="126" y="616"/>
                    </a:lnTo>
                    <a:lnTo>
                      <a:pt x="113" y="532"/>
                    </a:lnTo>
                    <a:lnTo>
                      <a:pt x="103" y="430"/>
                    </a:lnTo>
                    <a:lnTo>
                      <a:pt x="97" y="317"/>
                    </a:lnTo>
                    <a:lnTo>
                      <a:pt x="100" y="205"/>
                    </a:lnTo>
                    <a:lnTo>
                      <a:pt x="115" y="98"/>
                    </a:lnTo>
                    <a:lnTo>
                      <a:pt x="145" y="8"/>
                    </a:lnTo>
                    <a:lnTo>
                      <a:pt x="145" y="7"/>
                    </a:lnTo>
                    <a:lnTo>
                      <a:pt x="145" y="5"/>
                    </a:lnTo>
                    <a:lnTo>
                      <a:pt x="143" y="3"/>
                    </a:lnTo>
                    <a:lnTo>
                      <a:pt x="137" y="0"/>
                    </a:lnTo>
                    <a:lnTo>
                      <a:pt x="126" y="0"/>
                    </a:lnTo>
                    <a:lnTo>
                      <a:pt x="108" y="1"/>
                    </a:lnTo>
                    <a:lnTo>
                      <a:pt x="81" y="6"/>
                    </a:lnTo>
                    <a:lnTo>
                      <a:pt x="46" y="1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57200" y="3655800"/>
                <a:ext cx="21240" cy="91800"/>
              </a:xfrm>
              <a:custGeom>
                <a:avLst/>
                <a:gdLst/>
                <a:ahLst/>
                <a:rect l="l" t="t" r="r" b="b"/>
                <a:pathLst>
                  <a:path w="123" h="597">
                    <a:moveTo>
                      <a:pt x="39" y="12"/>
                    </a:moveTo>
                    <a:lnTo>
                      <a:pt x="35" y="23"/>
                    </a:lnTo>
                    <a:lnTo>
                      <a:pt x="26" y="57"/>
                    </a:lnTo>
                    <a:lnTo>
                      <a:pt x="16" y="111"/>
                    </a:lnTo>
                    <a:lnTo>
                      <a:pt x="6" y="181"/>
                    </a:lnTo>
                    <a:lnTo>
                      <a:pt x="0" y="267"/>
                    </a:lnTo>
                    <a:lnTo>
                      <a:pt x="1" y="367"/>
                    </a:lnTo>
                    <a:lnTo>
                      <a:pt x="11" y="477"/>
                    </a:lnTo>
                    <a:lnTo>
                      <a:pt x="34" y="597"/>
                    </a:lnTo>
                    <a:lnTo>
                      <a:pt x="119" y="591"/>
                    </a:lnTo>
                    <a:lnTo>
                      <a:pt x="115" y="574"/>
                    </a:lnTo>
                    <a:lnTo>
                      <a:pt x="107" y="526"/>
                    </a:lnTo>
                    <a:lnTo>
                      <a:pt x="97" y="454"/>
                    </a:lnTo>
                    <a:lnTo>
                      <a:pt x="88" y="367"/>
                    </a:lnTo>
                    <a:lnTo>
                      <a:pt x="82" y="272"/>
                    </a:lnTo>
                    <a:lnTo>
                      <a:pt x="84" y="175"/>
                    </a:lnTo>
                    <a:lnTo>
                      <a:pt x="97" y="84"/>
                    </a:lnTo>
                    <a:lnTo>
                      <a:pt x="123" y="7"/>
                    </a:lnTo>
                    <a:lnTo>
                      <a:pt x="123" y="6"/>
                    </a:lnTo>
                    <a:lnTo>
                      <a:pt x="123" y="5"/>
                    </a:lnTo>
                    <a:lnTo>
                      <a:pt x="121" y="3"/>
                    </a:lnTo>
                    <a:lnTo>
                      <a:pt x="117" y="0"/>
                    </a:lnTo>
                    <a:lnTo>
                      <a:pt x="106" y="0"/>
                    </a:lnTo>
                    <a:lnTo>
                      <a:pt x="91" y="2"/>
                    </a:lnTo>
                    <a:lnTo>
                      <a:pt x="70" y="5"/>
                    </a:lnTo>
                    <a:lnTo>
                      <a:pt x="39" y="1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58640" y="3662280"/>
                <a:ext cx="17280" cy="76680"/>
              </a:xfrm>
              <a:custGeom>
                <a:avLst/>
                <a:gdLst/>
                <a:ahLst/>
                <a:rect l="l" t="t" r="r" b="b"/>
                <a:pathLst>
                  <a:path w="103" h="492">
                    <a:moveTo>
                      <a:pt x="32" y="9"/>
                    </a:moveTo>
                    <a:lnTo>
                      <a:pt x="28" y="18"/>
                    </a:lnTo>
                    <a:lnTo>
                      <a:pt x="21" y="47"/>
                    </a:lnTo>
                    <a:lnTo>
                      <a:pt x="12" y="90"/>
                    </a:lnTo>
                    <a:lnTo>
                      <a:pt x="4" y="149"/>
                    </a:lnTo>
                    <a:lnTo>
                      <a:pt x="0" y="220"/>
                    </a:lnTo>
                    <a:lnTo>
                      <a:pt x="0" y="303"/>
                    </a:lnTo>
                    <a:lnTo>
                      <a:pt x="9" y="394"/>
                    </a:lnTo>
                    <a:lnTo>
                      <a:pt x="27" y="492"/>
                    </a:lnTo>
                    <a:lnTo>
                      <a:pt x="98" y="489"/>
                    </a:lnTo>
                    <a:lnTo>
                      <a:pt x="95" y="474"/>
                    </a:lnTo>
                    <a:lnTo>
                      <a:pt x="88" y="434"/>
                    </a:lnTo>
                    <a:lnTo>
                      <a:pt x="80" y="375"/>
                    </a:lnTo>
                    <a:lnTo>
                      <a:pt x="72" y="303"/>
                    </a:lnTo>
                    <a:lnTo>
                      <a:pt x="68" y="224"/>
                    </a:lnTo>
                    <a:lnTo>
                      <a:pt x="70" y="144"/>
                    </a:lnTo>
                    <a:lnTo>
                      <a:pt x="81" y="68"/>
                    </a:lnTo>
                    <a:lnTo>
                      <a:pt x="103" y="5"/>
                    </a:lnTo>
                    <a:lnTo>
                      <a:pt x="103" y="4"/>
                    </a:lnTo>
                    <a:lnTo>
                      <a:pt x="103" y="3"/>
                    </a:lnTo>
                    <a:lnTo>
                      <a:pt x="100" y="1"/>
                    </a:lnTo>
                    <a:lnTo>
                      <a:pt x="97" y="0"/>
                    </a:lnTo>
                    <a:lnTo>
                      <a:pt x="89" y="0"/>
                    </a:lnTo>
                    <a:lnTo>
                      <a:pt x="75" y="0"/>
                    </a:lnTo>
                    <a:lnTo>
                      <a:pt x="57" y="3"/>
                    </a:lnTo>
                    <a:lnTo>
                      <a:pt x="32" y="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59720" y="3669840"/>
                <a:ext cx="14040" cy="60480"/>
              </a:xfrm>
              <a:custGeom>
                <a:avLst/>
                <a:gdLst/>
                <a:ahLst/>
                <a:rect l="l" t="t" r="r" b="b"/>
                <a:pathLst>
                  <a:path w="82" h="390">
                    <a:moveTo>
                      <a:pt x="25" y="8"/>
                    </a:moveTo>
                    <a:lnTo>
                      <a:pt x="23" y="16"/>
                    </a:lnTo>
                    <a:lnTo>
                      <a:pt x="17" y="38"/>
                    </a:lnTo>
                    <a:lnTo>
                      <a:pt x="11" y="72"/>
                    </a:lnTo>
                    <a:lnTo>
                      <a:pt x="4" y="118"/>
                    </a:lnTo>
                    <a:lnTo>
                      <a:pt x="0" y="174"/>
                    </a:lnTo>
                    <a:lnTo>
                      <a:pt x="0" y="240"/>
                    </a:lnTo>
                    <a:lnTo>
                      <a:pt x="7" y="312"/>
                    </a:lnTo>
                    <a:lnTo>
                      <a:pt x="22" y="390"/>
                    </a:lnTo>
                    <a:lnTo>
                      <a:pt x="78" y="387"/>
                    </a:lnTo>
                    <a:lnTo>
                      <a:pt x="76" y="375"/>
                    </a:lnTo>
                    <a:lnTo>
                      <a:pt x="70" y="343"/>
                    </a:lnTo>
                    <a:lnTo>
                      <a:pt x="63" y="297"/>
                    </a:lnTo>
                    <a:lnTo>
                      <a:pt x="57" y="240"/>
                    </a:lnTo>
                    <a:lnTo>
                      <a:pt x="54" y="178"/>
                    </a:lnTo>
                    <a:lnTo>
                      <a:pt x="56" y="113"/>
                    </a:lnTo>
                    <a:lnTo>
                      <a:pt x="64" y="55"/>
                    </a:lnTo>
                    <a:lnTo>
                      <a:pt x="82" y="4"/>
                    </a:lnTo>
                    <a:lnTo>
                      <a:pt x="82" y="4"/>
                    </a:lnTo>
                    <a:lnTo>
                      <a:pt x="82" y="2"/>
                    </a:lnTo>
                    <a:lnTo>
                      <a:pt x="80" y="1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0" y="1"/>
                    </a:lnTo>
                    <a:lnTo>
                      <a:pt x="46" y="3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60800" y="3677400"/>
                <a:ext cx="9360" cy="44280"/>
              </a:xfrm>
              <a:custGeom>
                <a:avLst/>
                <a:gdLst/>
                <a:ahLst/>
                <a:rect l="l" t="t" r="r" b="b"/>
                <a:pathLst>
                  <a:path w="59" h="288">
                    <a:moveTo>
                      <a:pt x="18" y="6"/>
                    </a:moveTo>
                    <a:lnTo>
                      <a:pt x="17" y="11"/>
                    </a:lnTo>
                    <a:lnTo>
                      <a:pt x="13" y="27"/>
                    </a:lnTo>
                    <a:lnTo>
                      <a:pt x="7" y="53"/>
                    </a:lnTo>
                    <a:lnTo>
                      <a:pt x="2" y="87"/>
                    </a:lnTo>
                    <a:lnTo>
                      <a:pt x="0" y="130"/>
                    </a:lnTo>
                    <a:lnTo>
                      <a:pt x="0" y="177"/>
                    </a:lnTo>
                    <a:lnTo>
                      <a:pt x="5" y="231"/>
                    </a:lnTo>
                    <a:lnTo>
                      <a:pt x="16" y="288"/>
                    </a:lnTo>
                    <a:lnTo>
                      <a:pt x="57" y="286"/>
                    </a:lnTo>
                    <a:lnTo>
                      <a:pt x="56" y="278"/>
                    </a:lnTo>
                    <a:lnTo>
                      <a:pt x="51" y="254"/>
                    </a:lnTo>
                    <a:lnTo>
                      <a:pt x="47" y="219"/>
                    </a:lnTo>
                    <a:lnTo>
                      <a:pt x="42" y="177"/>
                    </a:lnTo>
                    <a:lnTo>
                      <a:pt x="40" y="131"/>
                    </a:lnTo>
                    <a:lnTo>
                      <a:pt x="41" y="84"/>
                    </a:lnTo>
                    <a:lnTo>
                      <a:pt x="47" y="40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5" y="0"/>
                    </a:lnTo>
                    <a:lnTo>
                      <a:pt x="33" y="2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900120" y="3634200"/>
                <a:ext cx="32760" cy="120240"/>
              </a:xfrm>
              <a:custGeom>
                <a:avLst/>
                <a:gdLst/>
                <a:ahLst/>
                <a:rect l="l" t="t" r="r" b="b"/>
                <a:pathLst>
                  <a:path w="198" h="779">
                    <a:moveTo>
                      <a:pt x="198" y="6"/>
                    </a:moveTo>
                    <a:lnTo>
                      <a:pt x="194" y="12"/>
                    </a:lnTo>
                    <a:lnTo>
                      <a:pt x="180" y="31"/>
                    </a:lnTo>
                    <a:lnTo>
                      <a:pt x="163" y="72"/>
                    </a:lnTo>
                    <a:lnTo>
                      <a:pt x="146" y="138"/>
                    </a:lnTo>
                    <a:lnTo>
                      <a:pt x="132" y="236"/>
                    </a:lnTo>
                    <a:lnTo>
                      <a:pt x="125" y="373"/>
                    </a:lnTo>
                    <a:lnTo>
                      <a:pt x="130" y="551"/>
                    </a:lnTo>
                    <a:lnTo>
                      <a:pt x="148" y="779"/>
                    </a:lnTo>
                    <a:lnTo>
                      <a:pt x="37" y="779"/>
                    </a:lnTo>
                    <a:lnTo>
                      <a:pt x="34" y="756"/>
                    </a:lnTo>
                    <a:lnTo>
                      <a:pt x="23" y="693"/>
                    </a:lnTo>
                    <a:lnTo>
                      <a:pt x="13" y="599"/>
                    </a:lnTo>
                    <a:lnTo>
                      <a:pt x="4" y="483"/>
                    </a:lnTo>
                    <a:lnTo>
                      <a:pt x="0" y="357"/>
                    </a:lnTo>
                    <a:lnTo>
                      <a:pt x="7" y="227"/>
                    </a:lnTo>
                    <a:lnTo>
                      <a:pt x="27" y="105"/>
                    </a:lnTo>
                    <a:lnTo>
                      <a:pt x="65" y="0"/>
                    </a:lnTo>
                    <a:lnTo>
                      <a:pt x="198" y="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901560" y="3641760"/>
                <a:ext cx="27720" cy="104040"/>
              </a:xfrm>
              <a:custGeom>
                <a:avLst/>
                <a:gdLst/>
                <a:ahLst/>
                <a:rect l="l" t="t" r="r" b="b"/>
                <a:pathLst>
                  <a:path w="169" h="666">
                    <a:moveTo>
                      <a:pt x="169" y="5"/>
                    </a:moveTo>
                    <a:lnTo>
                      <a:pt x="164" y="10"/>
                    </a:lnTo>
                    <a:lnTo>
                      <a:pt x="154" y="27"/>
                    </a:lnTo>
                    <a:lnTo>
                      <a:pt x="139" y="61"/>
                    </a:lnTo>
                    <a:lnTo>
                      <a:pt x="124" y="118"/>
                    </a:lnTo>
                    <a:lnTo>
                      <a:pt x="113" y="201"/>
                    </a:lnTo>
                    <a:lnTo>
                      <a:pt x="107" y="318"/>
                    </a:lnTo>
                    <a:lnTo>
                      <a:pt x="110" y="470"/>
                    </a:lnTo>
                    <a:lnTo>
                      <a:pt x="126" y="666"/>
                    </a:lnTo>
                    <a:lnTo>
                      <a:pt x="31" y="666"/>
                    </a:lnTo>
                    <a:lnTo>
                      <a:pt x="28" y="646"/>
                    </a:lnTo>
                    <a:lnTo>
                      <a:pt x="20" y="592"/>
                    </a:lnTo>
                    <a:lnTo>
                      <a:pt x="11" y="512"/>
                    </a:lnTo>
                    <a:lnTo>
                      <a:pt x="3" y="413"/>
                    </a:lnTo>
                    <a:lnTo>
                      <a:pt x="0" y="305"/>
                    </a:lnTo>
                    <a:lnTo>
                      <a:pt x="6" y="195"/>
                    </a:lnTo>
                    <a:lnTo>
                      <a:pt x="23" y="90"/>
                    </a:lnTo>
                    <a:lnTo>
                      <a:pt x="55" y="0"/>
                    </a:lnTo>
                    <a:lnTo>
                      <a:pt x="169" y="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902640" y="3650400"/>
                <a:ext cx="23040" cy="85320"/>
              </a:xfrm>
              <a:custGeom>
                <a:avLst/>
                <a:gdLst/>
                <a:ahLst/>
                <a:rect l="l" t="t" r="r" b="b"/>
                <a:pathLst>
                  <a:path w="140" h="551">
                    <a:moveTo>
                      <a:pt x="140" y="5"/>
                    </a:moveTo>
                    <a:lnTo>
                      <a:pt x="136" y="8"/>
                    </a:lnTo>
                    <a:lnTo>
                      <a:pt x="127" y="23"/>
                    </a:lnTo>
                    <a:lnTo>
                      <a:pt x="116" y="51"/>
                    </a:lnTo>
                    <a:lnTo>
                      <a:pt x="103" y="98"/>
                    </a:lnTo>
                    <a:lnTo>
                      <a:pt x="94" y="167"/>
                    </a:lnTo>
                    <a:lnTo>
                      <a:pt x="90" y="264"/>
                    </a:lnTo>
                    <a:lnTo>
                      <a:pt x="92" y="390"/>
                    </a:lnTo>
                    <a:lnTo>
                      <a:pt x="106" y="551"/>
                    </a:lnTo>
                    <a:lnTo>
                      <a:pt x="27" y="551"/>
                    </a:lnTo>
                    <a:lnTo>
                      <a:pt x="24" y="535"/>
                    </a:lnTo>
                    <a:lnTo>
                      <a:pt x="17" y="490"/>
                    </a:lnTo>
                    <a:lnTo>
                      <a:pt x="9" y="423"/>
                    </a:lnTo>
                    <a:lnTo>
                      <a:pt x="3" y="342"/>
                    </a:lnTo>
                    <a:lnTo>
                      <a:pt x="0" y="252"/>
                    </a:lnTo>
                    <a:lnTo>
                      <a:pt x="5" y="161"/>
                    </a:lnTo>
                    <a:lnTo>
                      <a:pt x="20" y="75"/>
                    </a:lnTo>
                    <a:lnTo>
                      <a:pt x="46" y="0"/>
                    </a:lnTo>
                    <a:lnTo>
                      <a:pt x="140" y="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903720" y="3659040"/>
                <a:ext cx="18720" cy="66960"/>
              </a:xfrm>
              <a:custGeom>
                <a:avLst/>
                <a:gdLst/>
                <a:ahLst/>
                <a:rect l="l" t="t" r="r" b="b"/>
                <a:pathLst>
                  <a:path w="111" h="437">
                    <a:moveTo>
                      <a:pt x="111" y="4"/>
                    </a:moveTo>
                    <a:lnTo>
                      <a:pt x="108" y="7"/>
                    </a:lnTo>
                    <a:lnTo>
                      <a:pt x="101" y="18"/>
                    </a:lnTo>
                    <a:lnTo>
                      <a:pt x="92" y="41"/>
                    </a:lnTo>
                    <a:lnTo>
                      <a:pt x="82" y="77"/>
                    </a:lnTo>
                    <a:lnTo>
                      <a:pt x="75" y="133"/>
                    </a:lnTo>
                    <a:lnTo>
                      <a:pt x="70" y="208"/>
                    </a:lnTo>
                    <a:lnTo>
                      <a:pt x="72" y="309"/>
                    </a:lnTo>
                    <a:lnTo>
                      <a:pt x="83" y="437"/>
                    </a:lnTo>
                    <a:lnTo>
                      <a:pt x="21" y="437"/>
                    </a:lnTo>
                    <a:lnTo>
                      <a:pt x="19" y="424"/>
                    </a:lnTo>
                    <a:lnTo>
                      <a:pt x="13" y="389"/>
                    </a:lnTo>
                    <a:lnTo>
                      <a:pt x="7" y="336"/>
                    </a:lnTo>
                    <a:lnTo>
                      <a:pt x="3" y="272"/>
                    </a:lnTo>
                    <a:lnTo>
                      <a:pt x="0" y="200"/>
                    </a:lnTo>
                    <a:lnTo>
                      <a:pt x="5" y="128"/>
                    </a:lnTo>
                    <a:lnTo>
                      <a:pt x="16" y="59"/>
                    </a:lnTo>
                    <a:lnTo>
                      <a:pt x="37" y="0"/>
                    </a:lnTo>
                    <a:lnTo>
                      <a:pt x="111" y="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904800" y="3667680"/>
                <a:ext cx="14040" cy="49680"/>
              </a:xfrm>
              <a:custGeom>
                <a:avLst/>
                <a:gdLst/>
                <a:ahLst/>
                <a:rect l="l" t="t" r="r" b="b"/>
                <a:pathLst>
                  <a:path w="82" h="322">
                    <a:moveTo>
                      <a:pt x="82" y="3"/>
                    </a:moveTo>
                    <a:lnTo>
                      <a:pt x="79" y="5"/>
                    </a:lnTo>
                    <a:lnTo>
                      <a:pt x="75" y="13"/>
                    </a:lnTo>
                    <a:lnTo>
                      <a:pt x="67" y="30"/>
                    </a:lnTo>
                    <a:lnTo>
                      <a:pt x="60" y="57"/>
                    </a:lnTo>
                    <a:lnTo>
                      <a:pt x="54" y="98"/>
                    </a:lnTo>
                    <a:lnTo>
                      <a:pt x="52" y="154"/>
                    </a:lnTo>
                    <a:lnTo>
                      <a:pt x="53" y="228"/>
                    </a:lnTo>
                    <a:lnTo>
                      <a:pt x="61" y="322"/>
                    </a:lnTo>
                    <a:lnTo>
                      <a:pt x="15" y="322"/>
                    </a:lnTo>
                    <a:lnTo>
                      <a:pt x="14" y="313"/>
                    </a:lnTo>
                    <a:lnTo>
                      <a:pt x="9" y="287"/>
                    </a:lnTo>
                    <a:lnTo>
                      <a:pt x="5" y="247"/>
                    </a:lnTo>
                    <a:lnTo>
                      <a:pt x="1" y="200"/>
                    </a:lnTo>
                    <a:lnTo>
                      <a:pt x="0" y="147"/>
                    </a:lnTo>
                    <a:lnTo>
                      <a:pt x="3" y="95"/>
                    </a:lnTo>
                    <a:lnTo>
                      <a:pt x="11" y="44"/>
                    </a:lnTo>
                    <a:lnTo>
                      <a:pt x="27" y="0"/>
                    </a:lnTo>
                    <a:lnTo>
                      <a:pt x="82" y="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726960" y="3654720"/>
                <a:ext cx="4320" cy="158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787800" y="3652560"/>
                <a:ext cx="66600" cy="72360"/>
              </a:xfrm>
              <a:custGeom>
                <a:avLst/>
                <a:gdLst/>
                <a:ahLst/>
                <a:rect l="l" t="t" r="r" b="b"/>
                <a:pathLst>
                  <a:path w="398" h="469">
                    <a:moveTo>
                      <a:pt x="37" y="44"/>
                    </a:moveTo>
                    <a:lnTo>
                      <a:pt x="33" y="53"/>
                    </a:lnTo>
                    <a:lnTo>
                      <a:pt x="27" y="79"/>
                    </a:lnTo>
                    <a:lnTo>
                      <a:pt x="17" y="120"/>
                    </a:lnTo>
                    <a:lnTo>
                      <a:pt x="8" y="174"/>
                    </a:lnTo>
                    <a:lnTo>
                      <a:pt x="1" y="238"/>
                    </a:lnTo>
                    <a:lnTo>
                      <a:pt x="0" y="309"/>
                    </a:lnTo>
                    <a:lnTo>
                      <a:pt x="7" y="387"/>
                    </a:lnTo>
                    <a:lnTo>
                      <a:pt x="24" y="469"/>
                    </a:lnTo>
                    <a:lnTo>
                      <a:pt x="24" y="466"/>
                    </a:lnTo>
                    <a:lnTo>
                      <a:pt x="24" y="455"/>
                    </a:lnTo>
                    <a:lnTo>
                      <a:pt x="24" y="438"/>
                    </a:lnTo>
                    <a:lnTo>
                      <a:pt x="24" y="417"/>
                    </a:lnTo>
                    <a:lnTo>
                      <a:pt x="27" y="391"/>
                    </a:lnTo>
                    <a:lnTo>
                      <a:pt x="30" y="363"/>
                    </a:lnTo>
                    <a:lnTo>
                      <a:pt x="35" y="332"/>
                    </a:lnTo>
                    <a:lnTo>
                      <a:pt x="41" y="300"/>
                    </a:lnTo>
                    <a:lnTo>
                      <a:pt x="52" y="268"/>
                    </a:lnTo>
                    <a:lnTo>
                      <a:pt x="64" y="237"/>
                    </a:lnTo>
                    <a:lnTo>
                      <a:pt x="79" y="207"/>
                    </a:lnTo>
                    <a:lnTo>
                      <a:pt x="99" y="179"/>
                    </a:lnTo>
                    <a:lnTo>
                      <a:pt x="123" y="155"/>
                    </a:lnTo>
                    <a:lnTo>
                      <a:pt x="150" y="136"/>
                    </a:lnTo>
                    <a:lnTo>
                      <a:pt x="183" y="122"/>
                    </a:lnTo>
                    <a:lnTo>
                      <a:pt x="221" y="114"/>
                    </a:lnTo>
                    <a:lnTo>
                      <a:pt x="223" y="112"/>
                    </a:lnTo>
                    <a:lnTo>
                      <a:pt x="230" y="107"/>
                    </a:lnTo>
                    <a:lnTo>
                      <a:pt x="242" y="99"/>
                    </a:lnTo>
                    <a:lnTo>
                      <a:pt x="260" y="88"/>
                    </a:lnTo>
                    <a:lnTo>
                      <a:pt x="284" y="74"/>
                    </a:lnTo>
                    <a:lnTo>
                      <a:pt x="315" y="58"/>
                    </a:lnTo>
                    <a:lnTo>
                      <a:pt x="352" y="39"/>
                    </a:lnTo>
                    <a:lnTo>
                      <a:pt x="398" y="19"/>
                    </a:lnTo>
                    <a:lnTo>
                      <a:pt x="396" y="17"/>
                    </a:lnTo>
                    <a:lnTo>
                      <a:pt x="389" y="16"/>
                    </a:lnTo>
                    <a:lnTo>
                      <a:pt x="379" y="14"/>
                    </a:lnTo>
                    <a:lnTo>
                      <a:pt x="364" y="12"/>
                    </a:lnTo>
                    <a:lnTo>
                      <a:pt x="347" y="8"/>
                    </a:lnTo>
                    <a:lnTo>
                      <a:pt x="326" y="6"/>
                    </a:lnTo>
                    <a:lnTo>
                      <a:pt x="302" y="4"/>
                    </a:lnTo>
                    <a:lnTo>
                      <a:pt x="277" y="1"/>
                    </a:lnTo>
                    <a:lnTo>
                      <a:pt x="250" y="0"/>
                    </a:lnTo>
                    <a:lnTo>
                      <a:pt x="221" y="1"/>
                    </a:lnTo>
                    <a:lnTo>
                      <a:pt x="191" y="3"/>
                    </a:lnTo>
                    <a:lnTo>
                      <a:pt x="160" y="6"/>
                    </a:lnTo>
                    <a:lnTo>
                      <a:pt x="129" y="12"/>
                    </a:lnTo>
                    <a:lnTo>
                      <a:pt x="97" y="20"/>
                    </a:lnTo>
                    <a:lnTo>
                      <a:pt x="67" y="30"/>
                    </a:lnTo>
                    <a:lnTo>
                      <a:pt x="37" y="44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695280" y="3706560"/>
                <a:ext cx="53640" cy="13680"/>
              </a:xfrm>
              <a:custGeom>
                <a:avLst/>
                <a:gdLst/>
                <a:ahLst/>
                <a:rect l="l" t="t" r="r" b="b"/>
                <a:pathLst>
                  <a:path w="325" h="89">
                    <a:moveTo>
                      <a:pt x="0" y="57"/>
                    </a:moveTo>
                    <a:lnTo>
                      <a:pt x="0" y="55"/>
                    </a:lnTo>
                    <a:lnTo>
                      <a:pt x="2" y="52"/>
                    </a:lnTo>
                    <a:lnTo>
                      <a:pt x="6" y="47"/>
                    </a:lnTo>
                    <a:lnTo>
                      <a:pt x="12" y="41"/>
                    </a:lnTo>
                    <a:lnTo>
                      <a:pt x="20" y="34"/>
                    </a:lnTo>
                    <a:lnTo>
                      <a:pt x="29" y="27"/>
                    </a:lnTo>
                    <a:lnTo>
                      <a:pt x="41" y="20"/>
                    </a:lnTo>
                    <a:lnTo>
                      <a:pt x="57" y="13"/>
                    </a:lnTo>
                    <a:lnTo>
                      <a:pt x="77" y="7"/>
                    </a:lnTo>
                    <a:lnTo>
                      <a:pt x="98" y="3"/>
                    </a:lnTo>
                    <a:lnTo>
                      <a:pt x="126" y="0"/>
                    </a:lnTo>
                    <a:lnTo>
                      <a:pt x="156" y="0"/>
                    </a:lnTo>
                    <a:lnTo>
                      <a:pt x="191" y="3"/>
                    </a:lnTo>
                    <a:lnTo>
                      <a:pt x="230" y="8"/>
                    </a:lnTo>
                    <a:lnTo>
                      <a:pt x="275" y="18"/>
                    </a:lnTo>
                    <a:lnTo>
                      <a:pt x="325" y="31"/>
                    </a:lnTo>
                    <a:lnTo>
                      <a:pt x="318" y="51"/>
                    </a:lnTo>
                    <a:lnTo>
                      <a:pt x="316" y="50"/>
                    </a:lnTo>
                    <a:lnTo>
                      <a:pt x="308" y="47"/>
                    </a:lnTo>
                    <a:lnTo>
                      <a:pt x="295" y="44"/>
                    </a:lnTo>
                    <a:lnTo>
                      <a:pt x="279" y="39"/>
                    </a:lnTo>
                    <a:lnTo>
                      <a:pt x="260" y="35"/>
                    </a:lnTo>
                    <a:lnTo>
                      <a:pt x="238" y="30"/>
                    </a:lnTo>
                    <a:lnTo>
                      <a:pt x="214" y="27"/>
                    </a:lnTo>
                    <a:lnTo>
                      <a:pt x="188" y="24"/>
                    </a:lnTo>
                    <a:lnTo>
                      <a:pt x="161" y="23"/>
                    </a:lnTo>
                    <a:lnTo>
                      <a:pt x="134" y="23"/>
                    </a:lnTo>
                    <a:lnTo>
                      <a:pt x="108" y="26"/>
                    </a:lnTo>
                    <a:lnTo>
                      <a:pt x="82" y="31"/>
                    </a:lnTo>
                    <a:lnTo>
                      <a:pt x="58" y="41"/>
                    </a:lnTo>
                    <a:lnTo>
                      <a:pt x="36" y="52"/>
                    </a:lnTo>
                    <a:lnTo>
                      <a:pt x="16" y="68"/>
                    </a:lnTo>
                    <a:lnTo>
                      <a:pt x="0" y="89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95280" y="3674160"/>
                <a:ext cx="53640" cy="13680"/>
              </a:xfrm>
              <a:custGeom>
                <a:avLst/>
                <a:gdLst/>
                <a:ahLst/>
                <a:rect l="l" t="t" r="r" b="b"/>
                <a:pathLst>
                  <a:path w="325" h="89">
                    <a:moveTo>
                      <a:pt x="0" y="56"/>
                    </a:moveTo>
                    <a:lnTo>
                      <a:pt x="0" y="55"/>
                    </a:lnTo>
                    <a:lnTo>
                      <a:pt x="2" y="52"/>
                    </a:lnTo>
                    <a:lnTo>
                      <a:pt x="6" y="47"/>
                    </a:lnTo>
                    <a:lnTo>
                      <a:pt x="12" y="40"/>
                    </a:lnTo>
                    <a:lnTo>
                      <a:pt x="20" y="33"/>
                    </a:lnTo>
                    <a:lnTo>
                      <a:pt x="29" y="27"/>
                    </a:lnTo>
                    <a:lnTo>
                      <a:pt x="41" y="18"/>
                    </a:lnTo>
                    <a:lnTo>
                      <a:pt x="57" y="13"/>
                    </a:lnTo>
                    <a:lnTo>
                      <a:pt x="77" y="7"/>
                    </a:lnTo>
                    <a:lnTo>
                      <a:pt x="98" y="2"/>
                    </a:lnTo>
                    <a:lnTo>
                      <a:pt x="126" y="0"/>
                    </a:lnTo>
                    <a:lnTo>
                      <a:pt x="156" y="0"/>
                    </a:lnTo>
                    <a:lnTo>
                      <a:pt x="191" y="2"/>
                    </a:lnTo>
                    <a:lnTo>
                      <a:pt x="230" y="8"/>
                    </a:lnTo>
                    <a:lnTo>
                      <a:pt x="275" y="17"/>
                    </a:lnTo>
                    <a:lnTo>
                      <a:pt x="325" y="31"/>
                    </a:lnTo>
                    <a:lnTo>
                      <a:pt x="318" y="49"/>
                    </a:lnTo>
                    <a:lnTo>
                      <a:pt x="316" y="48"/>
                    </a:lnTo>
                    <a:lnTo>
                      <a:pt x="308" y="46"/>
                    </a:lnTo>
                    <a:lnTo>
                      <a:pt x="295" y="43"/>
                    </a:lnTo>
                    <a:lnTo>
                      <a:pt x="279" y="38"/>
                    </a:lnTo>
                    <a:lnTo>
                      <a:pt x="260" y="35"/>
                    </a:lnTo>
                    <a:lnTo>
                      <a:pt x="238" y="30"/>
                    </a:lnTo>
                    <a:lnTo>
                      <a:pt x="214" y="27"/>
                    </a:lnTo>
                    <a:lnTo>
                      <a:pt x="188" y="23"/>
                    </a:lnTo>
                    <a:lnTo>
                      <a:pt x="161" y="22"/>
                    </a:lnTo>
                    <a:lnTo>
                      <a:pt x="134" y="23"/>
                    </a:lnTo>
                    <a:lnTo>
                      <a:pt x="108" y="25"/>
                    </a:lnTo>
                    <a:lnTo>
                      <a:pt x="82" y="31"/>
                    </a:lnTo>
                    <a:lnTo>
                      <a:pt x="58" y="40"/>
                    </a:lnTo>
                    <a:lnTo>
                      <a:pt x="36" y="52"/>
                    </a:lnTo>
                    <a:lnTo>
                      <a:pt x="16" y="68"/>
                    </a:lnTo>
                    <a:lnTo>
                      <a:pt x="0" y="89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746760" y="3657960"/>
                <a:ext cx="87840" cy="150480"/>
              </a:xfrm>
              <a:custGeom>
                <a:avLst/>
                <a:gdLst/>
                <a:ahLst/>
                <a:rect l="l" t="t" r="r" b="b"/>
                <a:pathLst>
                  <a:path w="528" h="975">
                    <a:moveTo>
                      <a:pt x="0" y="0"/>
                    </a:moveTo>
                    <a:lnTo>
                      <a:pt x="0" y="943"/>
                    </a:lnTo>
                    <a:lnTo>
                      <a:pt x="159" y="975"/>
                    </a:lnTo>
                    <a:lnTo>
                      <a:pt x="152" y="848"/>
                    </a:lnTo>
                    <a:lnTo>
                      <a:pt x="528" y="905"/>
                    </a:lnTo>
                    <a:lnTo>
                      <a:pt x="521" y="855"/>
                    </a:lnTo>
                    <a:lnTo>
                      <a:pt x="261" y="822"/>
                    </a:lnTo>
                    <a:lnTo>
                      <a:pt x="254" y="713"/>
                    </a:lnTo>
                    <a:lnTo>
                      <a:pt x="77" y="713"/>
                    </a:lnTo>
                    <a:lnTo>
                      <a:pt x="72" y="699"/>
                    </a:lnTo>
                    <a:lnTo>
                      <a:pt x="60" y="659"/>
                    </a:lnTo>
                    <a:lnTo>
                      <a:pt x="44" y="595"/>
                    </a:lnTo>
                    <a:lnTo>
                      <a:pt x="28" y="511"/>
                    </a:lnTo>
                    <a:lnTo>
                      <a:pt x="16" y="410"/>
                    </a:lnTo>
                    <a:lnTo>
                      <a:pt x="12" y="294"/>
                    </a:lnTo>
                    <a:lnTo>
                      <a:pt x="21" y="167"/>
                    </a:lnTo>
                    <a:lnTo>
                      <a:pt x="45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90320" y="3623400"/>
                <a:ext cx="113400" cy="20520"/>
              </a:xfrm>
              <a:custGeom>
                <a:avLst/>
                <a:gdLst/>
                <a:ahLst/>
                <a:rect l="l" t="t" r="r" b="b"/>
                <a:pathLst>
                  <a:path w="678" h="133">
                    <a:moveTo>
                      <a:pt x="0" y="133"/>
                    </a:moveTo>
                    <a:lnTo>
                      <a:pt x="4" y="132"/>
                    </a:lnTo>
                    <a:lnTo>
                      <a:pt x="15" y="127"/>
                    </a:lnTo>
                    <a:lnTo>
                      <a:pt x="32" y="122"/>
                    </a:lnTo>
                    <a:lnTo>
                      <a:pt x="56" y="114"/>
                    </a:lnTo>
                    <a:lnTo>
                      <a:pt x="86" y="104"/>
                    </a:lnTo>
                    <a:lnTo>
                      <a:pt x="120" y="95"/>
                    </a:lnTo>
                    <a:lnTo>
                      <a:pt x="160" y="86"/>
                    </a:lnTo>
                    <a:lnTo>
                      <a:pt x="204" y="78"/>
                    </a:lnTo>
                    <a:lnTo>
                      <a:pt x="252" y="70"/>
                    </a:lnTo>
                    <a:lnTo>
                      <a:pt x="303" y="64"/>
                    </a:lnTo>
                    <a:lnTo>
                      <a:pt x="358" y="60"/>
                    </a:lnTo>
                    <a:lnTo>
                      <a:pt x="414" y="58"/>
                    </a:lnTo>
                    <a:lnTo>
                      <a:pt x="474" y="60"/>
                    </a:lnTo>
                    <a:lnTo>
                      <a:pt x="534" y="65"/>
                    </a:lnTo>
                    <a:lnTo>
                      <a:pt x="596" y="74"/>
                    </a:lnTo>
                    <a:lnTo>
                      <a:pt x="659" y="88"/>
                    </a:lnTo>
                    <a:lnTo>
                      <a:pt x="678" y="0"/>
                    </a:lnTo>
                    <a:lnTo>
                      <a:pt x="674" y="0"/>
                    </a:lnTo>
                    <a:lnTo>
                      <a:pt x="659" y="0"/>
                    </a:lnTo>
                    <a:lnTo>
                      <a:pt x="636" y="0"/>
                    </a:lnTo>
                    <a:lnTo>
                      <a:pt x="606" y="1"/>
                    </a:lnTo>
                    <a:lnTo>
                      <a:pt x="570" y="2"/>
                    </a:lnTo>
                    <a:lnTo>
                      <a:pt x="527" y="3"/>
                    </a:lnTo>
                    <a:lnTo>
                      <a:pt x="480" y="7"/>
                    </a:lnTo>
                    <a:lnTo>
                      <a:pt x="430" y="9"/>
                    </a:lnTo>
                    <a:lnTo>
                      <a:pt x="376" y="14"/>
                    </a:lnTo>
                    <a:lnTo>
                      <a:pt x="320" y="18"/>
                    </a:lnTo>
                    <a:lnTo>
                      <a:pt x="264" y="24"/>
                    </a:lnTo>
                    <a:lnTo>
                      <a:pt x="208" y="32"/>
                    </a:lnTo>
                    <a:lnTo>
                      <a:pt x="152" y="40"/>
                    </a:lnTo>
                    <a:lnTo>
                      <a:pt x="98" y="50"/>
                    </a:lnTo>
                    <a:lnTo>
                      <a:pt x="47" y="62"/>
                    </a:lnTo>
                    <a:lnTo>
                      <a:pt x="0" y="76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23360" y="3812760"/>
                <a:ext cx="190800" cy="58320"/>
              </a:xfrm>
              <a:custGeom>
                <a:avLst/>
                <a:gdLst/>
                <a:ahLst/>
                <a:rect l="l" t="t" r="r" b="b"/>
                <a:pathLst>
                  <a:path w="1142" h="379">
                    <a:moveTo>
                      <a:pt x="482" y="367"/>
                    </a:moveTo>
                    <a:lnTo>
                      <a:pt x="485" y="366"/>
                    </a:lnTo>
                    <a:lnTo>
                      <a:pt x="492" y="363"/>
                    </a:lnTo>
                    <a:lnTo>
                      <a:pt x="502" y="359"/>
                    </a:lnTo>
                    <a:lnTo>
                      <a:pt x="516" y="353"/>
                    </a:lnTo>
                    <a:lnTo>
                      <a:pt x="533" y="346"/>
                    </a:lnTo>
                    <a:lnTo>
                      <a:pt x="551" y="338"/>
                    </a:lnTo>
                    <a:lnTo>
                      <a:pt x="572" y="328"/>
                    </a:lnTo>
                    <a:lnTo>
                      <a:pt x="593" y="317"/>
                    </a:lnTo>
                    <a:lnTo>
                      <a:pt x="616" y="306"/>
                    </a:lnTo>
                    <a:lnTo>
                      <a:pt x="638" y="292"/>
                    </a:lnTo>
                    <a:lnTo>
                      <a:pt x="660" y="279"/>
                    </a:lnTo>
                    <a:lnTo>
                      <a:pt x="680" y="264"/>
                    </a:lnTo>
                    <a:lnTo>
                      <a:pt x="700" y="249"/>
                    </a:lnTo>
                    <a:lnTo>
                      <a:pt x="717" y="233"/>
                    </a:lnTo>
                    <a:lnTo>
                      <a:pt x="732" y="217"/>
                    </a:lnTo>
                    <a:lnTo>
                      <a:pt x="743" y="201"/>
                    </a:lnTo>
                    <a:lnTo>
                      <a:pt x="0" y="20"/>
                    </a:lnTo>
                    <a:lnTo>
                      <a:pt x="57" y="0"/>
                    </a:lnTo>
                    <a:lnTo>
                      <a:pt x="1142" y="267"/>
                    </a:lnTo>
                    <a:lnTo>
                      <a:pt x="1098" y="292"/>
                    </a:lnTo>
                    <a:lnTo>
                      <a:pt x="784" y="212"/>
                    </a:lnTo>
                    <a:lnTo>
                      <a:pt x="783" y="213"/>
                    </a:lnTo>
                    <a:lnTo>
                      <a:pt x="781" y="216"/>
                    </a:lnTo>
                    <a:lnTo>
                      <a:pt x="776" y="221"/>
                    </a:lnTo>
                    <a:lnTo>
                      <a:pt x="769" y="228"/>
                    </a:lnTo>
                    <a:lnTo>
                      <a:pt x="761" y="237"/>
                    </a:lnTo>
                    <a:lnTo>
                      <a:pt x="750" y="246"/>
                    </a:lnTo>
                    <a:lnTo>
                      <a:pt x="737" y="258"/>
                    </a:lnTo>
                    <a:lnTo>
                      <a:pt x="721" y="269"/>
                    </a:lnTo>
                    <a:lnTo>
                      <a:pt x="703" y="282"/>
                    </a:lnTo>
                    <a:lnTo>
                      <a:pt x="684" y="295"/>
                    </a:lnTo>
                    <a:lnTo>
                      <a:pt x="660" y="309"/>
                    </a:lnTo>
                    <a:lnTo>
                      <a:pt x="635" y="323"/>
                    </a:lnTo>
                    <a:lnTo>
                      <a:pt x="606" y="338"/>
                    </a:lnTo>
                    <a:lnTo>
                      <a:pt x="574" y="352"/>
                    </a:lnTo>
                    <a:lnTo>
                      <a:pt x="540" y="366"/>
                    </a:lnTo>
                    <a:lnTo>
                      <a:pt x="502" y="379"/>
                    </a:lnTo>
                    <a:lnTo>
                      <a:pt x="482" y="3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83400" y="3828240"/>
                <a:ext cx="195480" cy="51480"/>
              </a:xfrm>
              <a:custGeom>
                <a:avLst/>
                <a:gdLst/>
                <a:ahLst/>
                <a:rect l="l" t="t" r="r" b="b"/>
                <a:pathLst>
                  <a:path w="1163" h="340">
                    <a:moveTo>
                      <a:pt x="0" y="0"/>
                    </a:moveTo>
                    <a:lnTo>
                      <a:pt x="1137" y="340"/>
                    </a:lnTo>
                    <a:lnTo>
                      <a:pt x="1163" y="34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16520" y="3820320"/>
                <a:ext cx="191880" cy="47520"/>
              </a:xfrm>
              <a:custGeom>
                <a:avLst/>
                <a:gdLst/>
                <a:ahLst/>
                <a:rect l="l" t="t" r="r" b="b"/>
                <a:pathLst>
                  <a:path w="1149" h="303">
                    <a:moveTo>
                      <a:pt x="0" y="1"/>
                    </a:moveTo>
                    <a:lnTo>
                      <a:pt x="1124" y="303"/>
                    </a:lnTo>
                    <a:lnTo>
                      <a:pt x="1149" y="302"/>
                    </a:lnTo>
                    <a:lnTo>
                      <a:pt x="34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701040" y="3823560"/>
                <a:ext cx="193320" cy="51840"/>
              </a:xfrm>
              <a:custGeom>
                <a:avLst/>
                <a:gdLst/>
                <a:ahLst/>
                <a:rect l="l" t="t" r="r" b="b"/>
                <a:pathLst>
                  <a:path w="1155" h="336">
                    <a:moveTo>
                      <a:pt x="0" y="0"/>
                    </a:moveTo>
                    <a:lnTo>
                      <a:pt x="1134" y="336"/>
                    </a:lnTo>
                    <a:lnTo>
                      <a:pt x="1155" y="328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5997600" y="3864600"/>
              <a:ext cx="809280" cy="164520"/>
              <a:chOff x="5997600" y="3864600"/>
              <a:chExt cx="809280" cy="164520"/>
            </a:xfrm>
          </p:grpSpPr>
          <p:sp>
            <p:nvSpPr>
              <p:cNvPr id="352" name=""/>
              <p:cNvSpPr/>
              <p:nvPr/>
            </p:nvSpPr>
            <p:spPr>
              <a:xfrm flipV="1" rot="10800000">
                <a:off x="5997600" y="3864600"/>
                <a:ext cx="809280" cy="50400"/>
              </a:xfrm>
              <a:custGeom>
                <a:avLst/>
                <a:gdLst/>
                <a:ahLst/>
                <a:rect l="l" t="t" r="r" b="b"/>
                <a:pathLst>
                  <a:path w="720" h="56">
                    <a:moveTo>
                      <a:pt x="0" y="0"/>
                    </a:moveTo>
                    <a:lnTo>
                      <a:pt x="0" y="56"/>
                    </a:lnTo>
                    <a:lnTo>
                      <a:pt x="720" y="56"/>
                    </a:lnTo>
                    <a:lnTo>
                      <a:pt x="720" y="8"/>
                    </a:lnTo>
                  </a:path>
                </a:pathLst>
              </a:custGeom>
              <a:noFill/>
              <a:ln w="1260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6409440" y="3916800"/>
                <a:ext cx="0" cy="112320"/>
              </a:xfrm>
              <a:prstGeom prst="line">
                <a:avLst/>
              </a:prstGeom>
              <a:ln w="1908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5754240" y="3929040"/>
              <a:ext cx="45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Comic Sans MS"/>
                </a:rPr>
                <a:t>R1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7886880" y="6019920"/>
              <a:ext cx="547560" cy="232920"/>
              <a:chOff x="7886880" y="6019920"/>
              <a:chExt cx="547560" cy="232920"/>
            </a:xfrm>
          </p:grpSpPr>
          <p:sp>
            <p:nvSpPr>
              <p:cNvPr id="356" name=""/>
              <p:cNvSpPr/>
              <p:nvPr/>
            </p:nvSpPr>
            <p:spPr>
              <a:xfrm>
                <a:off x="7891200" y="6123960"/>
                <a:ext cx="542880" cy="1288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891200" y="6112800"/>
                <a:ext cx="0" cy="79920"/>
              </a:xfrm>
              <a:prstGeom prst="line">
                <a:avLst/>
              </a:prstGeom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434440" y="6112800"/>
                <a:ext cx="0" cy="79920"/>
              </a:xfrm>
              <a:prstGeom prst="line">
                <a:avLst/>
              </a:prstGeom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891200" y="6112800"/>
                <a:ext cx="538200" cy="788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886880" y="6019920"/>
                <a:ext cx="542520" cy="1504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361" name=""/>
              <p:cNvGrpSpPr/>
              <p:nvPr/>
            </p:nvGrpSpPr>
            <p:grpSpPr>
              <a:xfrm>
                <a:off x="8017560" y="6052680"/>
                <a:ext cx="268920" cy="88200"/>
                <a:chOff x="8017560" y="6052680"/>
                <a:chExt cx="268920" cy="88200"/>
              </a:xfrm>
            </p:grpSpPr>
            <p:sp>
              <p:nvSpPr>
                <p:cNvPr id="362" name=""/>
                <p:cNvSpPr/>
                <p:nvPr/>
              </p:nvSpPr>
              <p:spPr>
                <a:xfrm flipV="1">
                  <a:off x="8017560" y="6052680"/>
                  <a:ext cx="95760" cy="180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201880" y="6140880"/>
                  <a:ext cx="84600" cy="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8106120" y="6054840"/>
                  <a:ext cx="99720" cy="8604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8017560" y="6051960"/>
                <a:ext cx="268920" cy="88200"/>
                <a:chOff x="8017560" y="6051960"/>
                <a:chExt cx="268920" cy="8820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8017560" y="6138360"/>
                  <a:ext cx="95760" cy="180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8201880" y="6051960"/>
                  <a:ext cx="84600" cy="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V="1">
                  <a:off x="8106120" y="6051960"/>
                  <a:ext cx="99720" cy="8604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9" name=""/>
            <p:cNvSpPr/>
            <p:nvPr/>
          </p:nvSpPr>
          <p:spPr>
            <a:xfrm>
              <a:off x="5383440" y="4718160"/>
              <a:ext cx="45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Comic Sans MS"/>
                </a:rPr>
                <a:t>R2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70440" y="5715000"/>
              <a:ext cx="45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Comic Sans MS"/>
                </a:rPr>
                <a:t>R3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16800" y="4135680"/>
              <a:ext cx="45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Comic Sans MS"/>
                </a:rPr>
                <a:t>R4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959960" y="5273640"/>
              <a:ext cx="45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Comic Sans MS"/>
                </a:rPr>
                <a:t>R5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724800" y="6007320"/>
              <a:ext cx="45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Comic Sans MS"/>
                </a:rPr>
                <a:t>R6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45520" y="5964480"/>
              <a:ext cx="45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Comic Sans MS"/>
                </a:rPr>
                <a:t>R7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81800" y="3567240"/>
              <a:ext cx="114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S: source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5990760" y="4256280"/>
              <a:ext cx="228600" cy="511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578200" y="5148360"/>
              <a:ext cx="228600" cy="511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148440" y="5113440"/>
              <a:ext cx="511200" cy="592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649920" y="4218120"/>
              <a:ext cx="698760" cy="336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7608960" y="4748400"/>
              <a:ext cx="1440" cy="49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723080" y="5573880"/>
              <a:ext cx="241560" cy="419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7158600" y="5543640"/>
              <a:ext cx="311760" cy="302040"/>
              <a:chOff x="7158600" y="5543640"/>
              <a:chExt cx="311760" cy="302040"/>
            </a:xfrm>
          </p:grpSpPr>
          <p:sp>
            <p:nvSpPr>
              <p:cNvPr id="383" name=""/>
              <p:cNvSpPr/>
              <p:nvPr/>
            </p:nvSpPr>
            <p:spPr>
              <a:xfrm flipH="1">
                <a:off x="7195680" y="5543640"/>
                <a:ext cx="274680" cy="249120"/>
              </a:xfrm>
              <a:prstGeom prst="line">
                <a:avLst/>
              </a:prstGeom>
              <a:ln w="19080">
                <a:solidFill>
                  <a:srgbClr val="ff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158600" y="5743080"/>
                <a:ext cx="83160" cy="102600"/>
              </a:xfrm>
              <a:prstGeom prst="line">
                <a:avLst/>
              </a:prstGeom>
              <a:ln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356960" y="5581800"/>
              <a:ext cx="313200" cy="300240"/>
              <a:chOff x="7356960" y="5581800"/>
              <a:chExt cx="313200" cy="300240"/>
            </a:xfrm>
          </p:grpSpPr>
          <p:sp>
            <p:nvSpPr>
              <p:cNvPr id="386" name=""/>
              <p:cNvSpPr/>
              <p:nvPr/>
            </p:nvSpPr>
            <p:spPr>
              <a:xfrm flipV="1">
                <a:off x="7356960" y="5635080"/>
                <a:ext cx="276480" cy="246960"/>
              </a:xfrm>
              <a:prstGeom prst="line">
                <a:avLst/>
              </a:prstGeom>
              <a:ln w="19080">
                <a:solidFill>
                  <a:srgbClr val="ff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 flipV="1">
                <a:off x="7588080" y="5581800"/>
                <a:ext cx="82080" cy="103320"/>
              </a:xfrm>
              <a:prstGeom prst="line">
                <a:avLst/>
              </a:prstGeom>
              <a:ln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 flipV="1">
              <a:off x="6415920" y="4717440"/>
              <a:ext cx="1019160" cy="255960"/>
            </a:xfrm>
            <a:prstGeom prst="line">
              <a:avLst/>
            </a:prstGeom>
            <a:ln w="1908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7401240" y="4666680"/>
              <a:ext cx="33480" cy="12924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6385320" y="4570200"/>
              <a:ext cx="980280" cy="249840"/>
            </a:xfrm>
            <a:prstGeom prst="line">
              <a:avLst/>
            </a:prstGeom>
            <a:ln w="19080">
              <a:solidFill>
                <a:srgbClr val="ff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366240" y="4743000"/>
              <a:ext cx="33480" cy="12924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16240" y="5808240"/>
              <a:ext cx="632880" cy="4320"/>
            </a:xfrm>
            <a:prstGeom prst="line">
              <a:avLst/>
            </a:prstGeom>
            <a:ln w="1908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6562800" y="5731560"/>
              <a:ext cx="7920" cy="14976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966280" y="6001920"/>
              <a:ext cx="639000" cy="2880"/>
            </a:xfrm>
            <a:prstGeom prst="line">
              <a:avLst/>
            </a:prstGeom>
            <a:ln w="19080">
              <a:solidFill>
                <a:srgbClr val="ff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5946840" y="5934600"/>
              <a:ext cx="7920" cy="14940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423200" y="4464000"/>
              <a:ext cx="547560" cy="233280"/>
              <a:chOff x="7423200" y="4464000"/>
              <a:chExt cx="547560" cy="233280"/>
            </a:xfrm>
          </p:grpSpPr>
          <p:sp>
            <p:nvSpPr>
              <p:cNvPr id="397" name=""/>
              <p:cNvSpPr/>
              <p:nvPr/>
            </p:nvSpPr>
            <p:spPr>
              <a:xfrm>
                <a:off x="7427520" y="4568040"/>
                <a:ext cx="542880" cy="12924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427520" y="4557240"/>
                <a:ext cx="0" cy="80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970760" y="4557240"/>
                <a:ext cx="0" cy="80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427520" y="4557240"/>
                <a:ext cx="538200" cy="788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423200" y="4464000"/>
                <a:ext cx="542520" cy="15084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7553880" y="4496760"/>
                <a:ext cx="268920" cy="88560"/>
                <a:chOff x="7553880" y="4496760"/>
                <a:chExt cx="268920" cy="88560"/>
              </a:xfrm>
            </p:grpSpPr>
            <p:sp>
              <p:nvSpPr>
                <p:cNvPr id="403" name=""/>
                <p:cNvSpPr/>
                <p:nvPr/>
              </p:nvSpPr>
              <p:spPr>
                <a:xfrm flipV="1">
                  <a:off x="7553880" y="4496760"/>
                  <a:ext cx="95760" cy="180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738200" y="4585320"/>
                  <a:ext cx="84600" cy="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642440" y="4498920"/>
                  <a:ext cx="99720" cy="8640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7553880" y="4495680"/>
                <a:ext cx="268920" cy="88560"/>
                <a:chOff x="7553880" y="4495680"/>
                <a:chExt cx="268920" cy="885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7553880" y="4582440"/>
                  <a:ext cx="95760" cy="180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738200" y="4495680"/>
                  <a:ext cx="84600" cy="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V="1">
                  <a:off x="7642440" y="4495680"/>
                  <a:ext cx="99720" cy="8640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0" name=""/>
            <p:cNvGrpSpPr/>
            <p:nvPr/>
          </p:nvGrpSpPr>
          <p:grpSpPr>
            <a:xfrm>
              <a:off x="6647040" y="5786640"/>
              <a:ext cx="547560" cy="232920"/>
              <a:chOff x="6647040" y="5786640"/>
              <a:chExt cx="547560" cy="232920"/>
            </a:xfrm>
          </p:grpSpPr>
          <p:sp>
            <p:nvSpPr>
              <p:cNvPr id="411" name=""/>
              <p:cNvSpPr/>
              <p:nvPr/>
            </p:nvSpPr>
            <p:spPr>
              <a:xfrm>
                <a:off x="6651360" y="5890680"/>
                <a:ext cx="542880" cy="1288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651360" y="5879520"/>
                <a:ext cx="0" cy="79920"/>
              </a:xfrm>
              <a:prstGeom prst="line">
                <a:avLst/>
              </a:prstGeom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194600" y="5879520"/>
                <a:ext cx="0" cy="79920"/>
              </a:xfrm>
              <a:prstGeom prst="line">
                <a:avLst/>
              </a:prstGeom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651360" y="5879520"/>
                <a:ext cx="538200" cy="788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647040" y="5786640"/>
                <a:ext cx="542520" cy="1504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6777720" y="5819400"/>
                <a:ext cx="268920" cy="88200"/>
                <a:chOff x="6777720" y="5819400"/>
                <a:chExt cx="268920" cy="88200"/>
              </a:xfrm>
            </p:grpSpPr>
            <p:sp>
              <p:nvSpPr>
                <p:cNvPr id="417" name=""/>
                <p:cNvSpPr/>
                <p:nvPr/>
              </p:nvSpPr>
              <p:spPr>
                <a:xfrm flipV="1">
                  <a:off x="6777720" y="5819400"/>
                  <a:ext cx="95760" cy="180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962040" y="5907600"/>
                  <a:ext cx="84600" cy="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866280" y="5821560"/>
                  <a:ext cx="99720" cy="8604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6777720" y="5818680"/>
                <a:ext cx="268920" cy="88200"/>
                <a:chOff x="6777720" y="5818680"/>
                <a:chExt cx="268920" cy="8820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6777720" y="5905080"/>
                  <a:ext cx="95760" cy="180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962040" y="5818680"/>
                  <a:ext cx="84600" cy="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6866280" y="5818680"/>
                  <a:ext cx="99720" cy="8604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4" name=""/>
            <p:cNvGrpSpPr/>
            <p:nvPr/>
          </p:nvGrpSpPr>
          <p:grpSpPr>
            <a:xfrm>
              <a:off x="5303880" y="5765760"/>
              <a:ext cx="547560" cy="233280"/>
              <a:chOff x="5303880" y="5765760"/>
              <a:chExt cx="547560" cy="233280"/>
            </a:xfrm>
          </p:grpSpPr>
          <p:sp>
            <p:nvSpPr>
              <p:cNvPr id="425" name=""/>
              <p:cNvSpPr/>
              <p:nvPr/>
            </p:nvSpPr>
            <p:spPr>
              <a:xfrm>
                <a:off x="5308200" y="5869800"/>
                <a:ext cx="542880" cy="12924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308200" y="5859000"/>
                <a:ext cx="0" cy="80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51440" y="5859000"/>
                <a:ext cx="0" cy="80280"/>
              </a:xfrm>
              <a:prstGeom prst="line">
                <a:avLst/>
              </a:prstGeom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308200" y="5859000"/>
                <a:ext cx="538200" cy="788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303880" y="5765760"/>
                <a:ext cx="542520" cy="15084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5434560" y="5798520"/>
                <a:ext cx="268920" cy="88560"/>
                <a:chOff x="5434560" y="5798520"/>
                <a:chExt cx="268920" cy="88560"/>
              </a:xfrm>
            </p:grpSpPr>
            <p:sp>
              <p:nvSpPr>
                <p:cNvPr id="431" name=""/>
                <p:cNvSpPr/>
                <p:nvPr/>
              </p:nvSpPr>
              <p:spPr>
                <a:xfrm flipV="1">
                  <a:off x="5434560" y="5798520"/>
                  <a:ext cx="95760" cy="180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618880" y="5887080"/>
                  <a:ext cx="84600" cy="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5523120" y="5800680"/>
                  <a:ext cx="99720" cy="8640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5434560" y="5797440"/>
                <a:ext cx="268920" cy="88560"/>
                <a:chOff x="5434560" y="5797440"/>
                <a:chExt cx="268920" cy="8856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5434560" y="5884200"/>
                  <a:ext cx="95760" cy="180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618880" y="5797440"/>
                  <a:ext cx="84600" cy="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V="1">
                  <a:off x="5523120" y="5797440"/>
                  <a:ext cx="99720" cy="8640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8" name=""/>
            <p:cNvGrpSpPr/>
            <p:nvPr/>
          </p:nvGrpSpPr>
          <p:grpSpPr>
            <a:xfrm>
              <a:off x="6159600" y="3965760"/>
              <a:ext cx="547560" cy="232920"/>
              <a:chOff x="6159600" y="3965760"/>
              <a:chExt cx="547560" cy="232920"/>
            </a:xfrm>
          </p:grpSpPr>
          <p:sp>
            <p:nvSpPr>
              <p:cNvPr id="439" name=""/>
              <p:cNvSpPr/>
              <p:nvPr/>
            </p:nvSpPr>
            <p:spPr>
              <a:xfrm>
                <a:off x="6163920" y="4069800"/>
                <a:ext cx="542880" cy="1288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163920" y="4058640"/>
                <a:ext cx="0" cy="79920"/>
              </a:xfrm>
              <a:prstGeom prst="line">
                <a:avLst/>
              </a:prstGeom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707160" y="4058640"/>
                <a:ext cx="0" cy="79920"/>
              </a:xfrm>
              <a:prstGeom prst="line">
                <a:avLst/>
              </a:prstGeom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163920" y="4058640"/>
                <a:ext cx="538200" cy="788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159600" y="3965760"/>
                <a:ext cx="542520" cy="15048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444" name=""/>
              <p:cNvGrpSpPr/>
              <p:nvPr/>
            </p:nvGrpSpPr>
            <p:grpSpPr>
              <a:xfrm>
                <a:off x="6290280" y="3998520"/>
                <a:ext cx="268920" cy="88200"/>
                <a:chOff x="6290280" y="3998520"/>
                <a:chExt cx="268920" cy="88200"/>
              </a:xfrm>
            </p:grpSpPr>
            <p:sp>
              <p:nvSpPr>
                <p:cNvPr id="445" name=""/>
                <p:cNvSpPr/>
                <p:nvPr/>
              </p:nvSpPr>
              <p:spPr>
                <a:xfrm flipV="1">
                  <a:off x="6290280" y="3998520"/>
                  <a:ext cx="95760" cy="180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474600" y="4086720"/>
                  <a:ext cx="84600" cy="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378840" y="4000680"/>
                  <a:ext cx="99720" cy="8604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6290280" y="3997800"/>
                <a:ext cx="268920" cy="88200"/>
                <a:chOff x="6290280" y="3997800"/>
                <a:chExt cx="268920" cy="8820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290280" y="4084200"/>
                  <a:ext cx="95760" cy="180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474600" y="3997800"/>
                  <a:ext cx="84600" cy="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V="1">
                  <a:off x="6378840" y="3997800"/>
                  <a:ext cx="99720" cy="8604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52" name=""/>
          <p:cNvSpPr/>
          <p:nvPr/>
        </p:nvSpPr>
        <p:spPr>
          <a:xfrm>
            <a:off x="798480" y="1461960"/>
            <a:ext cx="71866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datagram received on incoming link on shortest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ath back to sender)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forward datagram onto all outgoing link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gnore datagram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2F7CB-C9AD-4D07-A906-035A0A1AFF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Narrow"/>
              </a:rPr>
              <a:t>Classless (Supernet) Addressing</a:t>
            </a: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38280" y="1447920"/>
            <a:ext cx="78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tend variable-length subnet technology to prefix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erge 256 class C numbers into single prefix equivalent to class B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lock of contiguous addresses represented b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network address, count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(192.5.48.0, 3) specifies 3 network addresses: 192.5.48.0, 192.5.49.0, 192.5.50.0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247CC-A40C-42BF-9C4B-FFE57DEF0C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Narrow"/>
              </a:rPr>
              <a:t>Routing to Supernets</a:t>
            </a: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llapse block of contiguous class C addresses into single routing table entr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network address, count, next hop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192.5.48.0 , 3, 10.0.0.2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oute datagrams bound for networks 192.5.48.0, 192.5.49.0, 192.5.50.0 to next hop 10.0.0.2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5FC2-505E-4847-A4F5-0DA1B174A4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48920" y="151920"/>
            <a:ext cx="83977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Narrow"/>
              </a:rPr>
              <a:t>Classless Inter-Domain Routing (CIDR)</a:t>
            </a:r>
            <a:endParaRPr b="0" lang="en-US" sz="4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12920" y="1081080"/>
            <a:ext cx="838656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presents block of contiguous IP addresses as pai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lowest address in block, 32-bit mask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2625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IDR uses </a:t>
            </a:r>
            <a:r>
              <a:rPr b="0" i="1" lang="en-US" sz="2800" spc="-1" strike="noStrike">
                <a:solidFill>
                  <a:srgbClr val="0033cc"/>
                </a:solidFill>
                <a:latin typeface="Arial Narrow"/>
              </a:rPr>
              <a:t>slash notatio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represent mas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sk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IDR Not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1111111 11111111 11111000 00000000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/21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"/>
          <p:cNvSpPr/>
          <p:nvPr/>
        </p:nvSpPr>
        <p:spPr>
          <a:xfrm>
            <a:off x="398520" y="3862440"/>
            <a:ext cx="83455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33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tation </a:t>
            </a:r>
            <a:r>
              <a:rPr b="0" lang="en-US" sz="2800" spc="-1" strike="noStrike">
                <a:solidFill>
                  <a:srgbClr val="0033cc"/>
                </a:solidFill>
                <a:latin typeface="Arial Narrow"/>
              </a:rPr>
              <a:t>128.211.168.0 /21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means block of 2048 addresses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055520" y="5162400"/>
          <a:ext cx="6964200" cy="1095480"/>
        </p:xfrm>
        <a:graphic>
          <a:graphicData uri="http://schemas.openxmlformats.org/drawingml/2006/table">
            <a:tbl>
              <a:tblPr/>
              <a:tblGrid>
                <a:gridCol w="1344600"/>
                <a:gridCol w="1755720"/>
                <a:gridCol w="3863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P Address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otted Decimal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nary Equivalent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west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211.168.0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0000000  11010011  1010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00  00000000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ighest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211.175.255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0000000  11010011  1010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 11111111</a:t>
                      </a:r>
                      <a:endParaRPr b="0" lang="en-US" sz="1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 rot="5400000">
            <a:off x="2907360" y="3621600"/>
            <a:ext cx="82440" cy="1712880"/>
          </a:xfrm>
          <a:custGeom>
            <a:avLst/>
            <a:gdLst>
              <a:gd name="textAreaLeft" fmla="*/ 0 w 82440"/>
              <a:gd name="textAreaRight" fmla="*/ 29880 w 82440"/>
              <a:gd name="textAreaTop" fmla="*/ 44640 h 1712880"/>
              <a:gd name="textAreaBottom" fmla="*/ 1668240 h 17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5400000">
            <a:off x="4113000" y="4279680"/>
            <a:ext cx="82440" cy="378000"/>
          </a:xfrm>
          <a:custGeom>
            <a:avLst/>
            <a:gdLst>
              <a:gd name="textAreaLeft" fmla="*/ 0 w 82440"/>
              <a:gd name="textAreaRight" fmla="*/ 29880 w 82440"/>
              <a:gd name="textAreaTop" fmla="*/ 9720 h 378000"/>
              <a:gd name="textAreaBottom" fmla="*/ 368280 h 3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371680" y="4535640"/>
            <a:ext cx="12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 Narrow"/>
              </a:rPr>
              <a:t>IP prefix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714840" y="4537080"/>
            <a:ext cx="14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 Narrow"/>
              </a:rPr>
              <a:t>mask length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C37A-B680-46EE-AC0B-3CE78DF64F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0560" y="142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Narrow"/>
              </a:rPr>
              <a:t>Minimizing Network Numbers</a:t>
            </a:r>
            <a:endParaRPr b="0" lang="en-US" sz="4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8680" y="1347480"/>
            <a:ext cx="7823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unning Out of ADdress Space (ROADS) proble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Growth of Internet has led to address space (especially popular class B) being exhaust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chniques to minimize address us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857160" indent="-399960"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xy AR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57160" indent="-399960"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ubnet Address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857160" indent="-399960"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assless Addressing (Supernett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F7E5-585E-4914-80C8-4F12E53A2F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9440" y="151920"/>
            <a:ext cx="770724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Narrow"/>
              </a:rPr>
              <a:t>Proxy ARP</a:t>
            </a: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15884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wo physical networks share single IP network addres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xy ARP router hides host’s hardware address on one network from another networ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38160" y="3855960"/>
            <a:ext cx="7303680" cy="2541240"/>
            <a:chOff x="938160" y="3855960"/>
            <a:chExt cx="7303680" cy="2541240"/>
          </a:xfrm>
        </p:grpSpPr>
        <p:sp>
          <p:nvSpPr>
            <p:cNvPr id="87" name=""/>
            <p:cNvSpPr/>
            <p:nvPr/>
          </p:nvSpPr>
          <p:spPr>
            <a:xfrm>
              <a:off x="4119840" y="6243840"/>
              <a:ext cx="401508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71400" y="5014440"/>
              <a:ext cx="605880" cy="525600"/>
            </a:xfrm>
            <a:prstGeom prst="rect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88720" y="4593960"/>
              <a:ext cx="454320" cy="450360"/>
            </a:xfrm>
            <a:prstGeom prst="rect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01320" y="4593960"/>
              <a:ext cx="454320" cy="450360"/>
            </a:xfrm>
            <a:prstGeom prst="rect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64280" y="4991040"/>
              <a:ext cx="42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66"/>
                  </a:solidFill>
                  <a:latin typeface="Arial Narrow"/>
                </a:rPr>
                <a:t>R</a:t>
              </a:r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69640" y="4593960"/>
              <a:ext cx="4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 Narrow"/>
                </a:rPr>
                <a:t>H1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80080" y="4593960"/>
              <a:ext cx="4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 Narrow"/>
                </a:rPr>
                <a:t>H2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7400" y="5937480"/>
              <a:ext cx="195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Hidden Network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08880" y="4608000"/>
              <a:ext cx="454320" cy="450360"/>
            </a:xfrm>
            <a:prstGeom prst="rect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86920" y="4608000"/>
              <a:ext cx="4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 Narrow"/>
                </a:rPr>
                <a:t>H3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38160" y="4142160"/>
              <a:ext cx="469692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16240" y="4142160"/>
              <a:ext cx="0" cy="45036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28480" y="4142160"/>
              <a:ext cx="0" cy="45036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36040" y="4155840"/>
              <a:ext cx="0" cy="45036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64720" y="5868360"/>
              <a:ext cx="0" cy="37512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25280" y="5868360"/>
              <a:ext cx="0" cy="37512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4160" y="4142160"/>
              <a:ext cx="0" cy="87408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90000" y="5555880"/>
              <a:ext cx="0" cy="67212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72880" y="3855960"/>
              <a:ext cx="170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Main Network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45840" y="4489200"/>
              <a:ext cx="30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Router running proxy ARP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944960" y="4881600"/>
              <a:ext cx="395640" cy="389160"/>
            </a:xfrm>
            <a:prstGeom prst="line">
              <a:avLst/>
            </a:prstGeom>
            <a:ln w="93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37200" y="5418000"/>
              <a:ext cx="454320" cy="450360"/>
            </a:xfrm>
            <a:prstGeom prst="rect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16320" y="5414760"/>
              <a:ext cx="4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 Narrow"/>
                </a:rPr>
                <a:t>H4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97760" y="5418000"/>
              <a:ext cx="454320" cy="450360"/>
            </a:xfrm>
            <a:prstGeom prst="rect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76880" y="5414760"/>
              <a:ext cx="4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 Narrow"/>
                </a:rPr>
                <a:t>H5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4AE90-BF33-4F8A-8EA9-8936B418AC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1240" y="152280"/>
            <a:ext cx="87282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Narrow"/>
              </a:rPr>
              <a:t>Subnetting</a:t>
            </a:r>
            <a:endParaRPr b="0" lang="en-US" sz="44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9440" y="1187280"/>
            <a:ext cx="807732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rtition local portion of IP address into physical subnet part and host part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590840" y="2935440"/>
          <a:ext cx="6095880" cy="807840"/>
        </p:xfrm>
        <a:graphic>
          <a:graphicData uri="http://schemas.openxmlformats.org/drawingml/2006/table">
            <a:tbl>
              <a:tblPr/>
              <a:tblGrid>
                <a:gridCol w="2530440"/>
                <a:gridCol w="3565440"/>
              </a:tblGrid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net Part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Local Part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593720" y="4232160"/>
          <a:ext cx="6100920" cy="820800"/>
        </p:xfrm>
        <a:graphic>
          <a:graphicData uri="http://schemas.openxmlformats.org/drawingml/2006/table">
            <a:tbl>
              <a:tblPr/>
              <a:tblGrid>
                <a:gridCol w="2500200"/>
                <a:gridCol w="1828800"/>
                <a:gridCol w="177192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net Part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Physical Network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cc"/>
                          </a:solidFill>
                          <a:latin typeface="Arial Narrow"/>
                        </a:rPr>
                        <a:t>Host Identifier</a:t>
                      </a:r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660066"/>
                      </a:solidFill>
                    </a:lnR>
                    <a:lnT w="13680">
                      <a:solidFill>
                        <a:srgbClr val="660066"/>
                      </a:solidFill>
                    </a:lnT>
                    <a:lnB w="13680">
                      <a:solidFill>
                        <a:srgbClr val="66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6" name=""/>
          <p:cNvGrpSpPr/>
          <p:nvPr/>
        </p:nvGrpSpPr>
        <p:grpSpPr>
          <a:xfrm>
            <a:off x="1582560" y="5283360"/>
            <a:ext cx="4343400" cy="450720"/>
            <a:chOff x="1582560" y="5283360"/>
            <a:chExt cx="4343400" cy="450720"/>
          </a:xfrm>
        </p:grpSpPr>
        <p:sp>
          <p:nvSpPr>
            <p:cNvPr id="117" name=""/>
            <p:cNvSpPr/>
            <p:nvPr/>
          </p:nvSpPr>
          <p:spPr>
            <a:xfrm>
              <a:off x="1582560" y="5283360"/>
              <a:ext cx="0" cy="45072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25960" y="5283360"/>
              <a:ext cx="0" cy="45072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21480" y="5310360"/>
              <a:ext cx="152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Arial Narrow"/>
                </a:rPr>
                <a:t>Subnet Prefix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40400" y="5508720"/>
              <a:ext cx="1241280" cy="0"/>
            </a:xfrm>
            <a:prstGeom prst="line">
              <a:avLst/>
            </a:prstGeom>
            <a:ln w="93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681200" y="5508720"/>
              <a:ext cx="1241280" cy="0"/>
            </a:xfrm>
            <a:prstGeom prst="line">
              <a:avLst/>
            </a:prstGeom>
            <a:ln w="93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5AFB-6AAA-4BC0-A710-9355223086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1240" y="152280"/>
            <a:ext cx="87282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Narrow"/>
              </a:rPr>
              <a:t>Subnetting Example</a:t>
            </a:r>
            <a:endParaRPr b="0" lang="en-US" sz="4400" spc="-1" strike="noStrike">
              <a:solidFill>
                <a:srgbClr val="0000ff"/>
              </a:solidFill>
              <a:latin typeface="Arial Narrow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611360" y="2281320"/>
            <a:ext cx="5842440" cy="3757320"/>
            <a:chOff x="1611360" y="2281320"/>
            <a:chExt cx="5842440" cy="3757320"/>
          </a:xfrm>
        </p:grpSpPr>
        <p:sp>
          <p:nvSpPr>
            <p:cNvPr id="124" name=""/>
            <p:cNvSpPr/>
            <p:nvPr/>
          </p:nvSpPr>
          <p:spPr>
            <a:xfrm>
              <a:off x="1611360" y="3113640"/>
              <a:ext cx="1211760" cy="1128960"/>
            </a:xfrm>
            <a:custGeom>
              <a:avLst/>
              <a:gdLst>
                <a:gd name="textAreaLeft" fmla="*/ 276480 w 1211760"/>
                <a:gd name="textAreaRight" fmla="*/ 935280 w 1211760"/>
                <a:gd name="textAreaTop" fmla="*/ 257760 h 1128960"/>
                <a:gd name="textAreaBottom" fmla="*/ 871200 h 112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 Narrow"/>
                </a:rPr>
                <a:t>Rest of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 Narrow"/>
                </a:rPr>
                <a:t>the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Arial Narrow"/>
                </a:rPr>
                <a:t>Internet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51160" y="2649240"/>
              <a:ext cx="3422160" cy="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36280" y="4308840"/>
              <a:ext cx="3137040" cy="265680"/>
            </a:xfrm>
            <a:prstGeom prst="ellipse">
              <a:avLst/>
            </a:prstGeom>
            <a:noFill/>
            <a:ln w="284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51160" y="3512160"/>
              <a:ext cx="427680" cy="3981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 Narrow"/>
                </a:rPr>
                <a:t>R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23120" y="3711240"/>
              <a:ext cx="427680" cy="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465000" y="2648880"/>
              <a:ext cx="0" cy="86292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65000" y="3910680"/>
              <a:ext cx="213840" cy="46476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92000" y="2914560"/>
              <a:ext cx="427680" cy="331920"/>
            </a:xfrm>
            <a:prstGeom prst="rect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04120" y="2914560"/>
              <a:ext cx="427680" cy="331920"/>
            </a:xfrm>
            <a:prstGeom prst="rect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27920" y="5172120"/>
              <a:ext cx="427680" cy="331560"/>
            </a:xfrm>
            <a:prstGeom prst="rect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47720" y="5172120"/>
              <a:ext cx="427680" cy="331560"/>
            </a:xfrm>
            <a:prstGeom prst="rect">
              <a:avLst/>
            </a:prstGeom>
            <a:noFill/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24920" y="2649240"/>
              <a:ext cx="0" cy="26532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17960" y="2649240"/>
              <a:ext cx="0" cy="26532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34560" y="4574520"/>
              <a:ext cx="0" cy="597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61560" y="4574520"/>
              <a:ext cx="0" cy="597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2751840" y="3777840"/>
              <a:ext cx="213840" cy="995760"/>
            </a:xfrm>
            <a:prstGeom prst="line">
              <a:avLst/>
            </a:prstGeom>
            <a:ln w="93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15120" y="4872240"/>
              <a:ext cx="164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 Narrow"/>
                </a:rPr>
                <a:t>All traffic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 Narrow"/>
                </a:rPr>
                <a:t>to 128.10.0.0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13840" y="2281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 Narrow"/>
                </a:rPr>
                <a:t>Network 128.10.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 Narrow"/>
                </a:rPr>
                <a:t>1</a:t>
              </a:r>
              <a:r>
                <a:rPr b="1" lang="en-US" sz="1800" spc="-1" strike="noStrike">
                  <a:solidFill>
                    <a:srgbClr val="660066"/>
                  </a:solidFill>
                  <a:latin typeface="Arial Narrow"/>
                </a:rPr>
                <a:t>.0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12120" y="40086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 Narrow"/>
                </a:rPr>
                <a:t>Network 128.10.</a:t>
              </a:r>
              <a:r>
                <a:rPr b="1" lang="en-US" sz="1800" spc="-1" strike="noStrike">
                  <a:solidFill>
                    <a:srgbClr val="0033cc"/>
                  </a:solidFill>
                  <a:latin typeface="Arial Narrow"/>
                </a:rPr>
                <a:t>2</a:t>
              </a:r>
              <a:r>
                <a:rPr b="1" lang="en-US" sz="1800" spc="-1" strike="noStrike">
                  <a:solidFill>
                    <a:srgbClr val="660066"/>
                  </a:solidFill>
                  <a:latin typeface="Arial Narrow"/>
                </a:rPr>
                <a:t>.0</a:t>
              </a:r>
              <a:endParaRPr b="0" lang="en-US" sz="1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91920" y="2880000"/>
              <a:ext cx="13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 Narrow"/>
                </a:rPr>
                <a:t>128.10.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 Narrow"/>
                </a:rPr>
                <a:t>1</a:t>
              </a:r>
              <a:r>
                <a:rPr b="0" lang="en-US" sz="2400" spc="-1" strike="noStrike">
                  <a:solidFill>
                    <a:srgbClr val="660066"/>
                  </a:solidFill>
                  <a:latin typeface="Arial Narrow"/>
                </a:rPr>
                <a:t>.2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22040" y="5536080"/>
              <a:ext cx="13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 Narrow"/>
                </a:rPr>
                <a:t>128.10.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 Narrow"/>
                </a:rPr>
                <a:t>2</a:t>
              </a:r>
              <a:r>
                <a:rPr b="0" lang="en-US" sz="2400" spc="-1" strike="noStrike">
                  <a:solidFill>
                    <a:srgbClr val="660066"/>
                  </a:solidFill>
                  <a:latin typeface="Arial Narrow"/>
                </a:rPr>
                <a:t>.8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98360" y="5578920"/>
              <a:ext cx="13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 Narrow"/>
                </a:rPr>
                <a:t>128.10.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 Narrow"/>
                </a:rPr>
                <a:t>2</a:t>
              </a:r>
              <a:r>
                <a:rPr b="0" lang="en-US" sz="2400" spc="-1" strike="noStrike">
                  <a:solidFill>
                    <a:srgbClr val="660066"/>
                  </a:solidFill>
                  <a:latin typeface="Arial Narrow"/>
                </a:rPr>
                <a:t>.7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52520" y="3250800"/>
              <a:ext cx="13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Arial Narrow"/>
                </a:rPr>
                <a:t>128.10.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 Narrow"/>
                </a:rPr>
                <a:t>1</a:t>
              </a:r>
              <a:r>
                <a:rPr b="0" lang="en-US" sz="2400" spc="-1" strike="noStrike">
                  <a:solidFill>
                    <a:srgbClr val="660066"/>
                  </a:solidFill>
                  <a:latin typeface="Arial Narrow"/>
                </a:rPr>
                <a:t>.1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9440" y="1187280"/>
            <a:ext cx="807732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ierarchical addressing results in hierarchical rout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5816-E2E4-492D-8F18-A2DB96DAA8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Narrow"/>
              </a:rPr>
              <a:t>Subnet Masks</a:t>
            </a: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0360" y="1133280"/>
            <a:ext cx="83628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te using subnet addressing chooses 32-bit subnet mask for each networ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tiguous bits in subnet mask are set t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 if corresponding bits in IP address represent subnet prefix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 if corresponding bits in IP address represent host identifi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"/>
          <p:cNvSpPr/>
          <p:nvPr/>
        </p:nvSpPr>
        <p:spPr>
          <a:xfrm>
            <a:off x="725400" y="5194440"/>
            <a:ext cx="76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ubnet Mask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1111111  11111111  11111111  00000000        255.255.255.0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25400" y="3863880"/>
            <a:ext cx="7628040" cy="1035720"/>
            <a:chOff x="725400" y="3863880"/>
            <a:chExt cx="7628040" cy="1035720"/>
          </a:xfrm>
        </p:grpSpPr>
        <p:sp>
          <p:nvSpPr>
            <p:cNvPr id="152" name=""/>
            <p:cNvSpPr/>
            <p:nvPr/>
          </p:nvSpPr>
          <p:spPr>
            <a:xfrm>
              <a:off x="725400" y="4500720"/>
              <a:ext cx="762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482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IP Addres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10000010  10100110  01100001  00011001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82600" y="3863880"/>
              <a:ext cx="10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0066"/>
                  </a:solidFill>
                  <a:latin typeface="Arial Narrow"/>
                </a:rPr>
                <a:t>Binary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74200" y="3863880"/>
              <a:ext cx="123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0066"/>
                  </a:solidFill>
                  <a:latin typeface="Arial Narrow"/>
                </a:rPr>
                <a:t>Decimal</a:t>
              </a:r>
              <a:endParaRPr b="0" lang="en-US" sz="28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301920" y="4424400"/>
            <a:ext cx="2063880" cy="1243080"/>
            <a:chOff x="3301920" y="4424400"/>
            <a:chExt cx="2063880" cy="1243080"/>
          </a:xfrm>
        </p:grpSpPr>
        <p:sp>
          <p:nvSpPr>
            <p:cNvPr id="156" name=""/>
            <p:cNvSpPr/>
            <p:nvPr/>
          </p:nvSpPr>
          <p:spPr>
            <a:xfrm>
              <a:off x="3301920" y="4424400"/>
              <a:ext cx="0" cy="124308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65800" y="4424400"/>
              <a:ext cx="0" cy="124308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29000" y="4424400"/>
              <a:ext cx="0" cy="124308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702480" y="4476600"/>
            <a:ext cx="15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30.166.97.25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6BB1-8245-4757-A8F0-CDBB8842D3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Narrow"/>
              </a:rPr>
              <a:t>Mask Assignments</a:t>
            </a: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Fixed-length subnet mask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rganization uses same mask on all network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800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Variable-length subnet mask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rganization chooses size for each physical networ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sk assigned on per-network basi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63A09-92EE-4114-92F1-2063A63468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Narrow"/>
              </a:rPr>
              <a:t>Fixed-Length Subnet Masks</a:t>
            </a:r>
            <a:endParaRPr b="0" lang="en-US" sz="4800" spc="-1" strike="noStrike">
              <a:solidFill>
                <a:srgbClr val="0000ff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l networks assigned same mas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niformit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ase of debugging / maintena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00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umber of nets fixed for entire organiz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ze of physical nets fixed for entire organiz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34DF5-7CE8-452C-982C-35ACA838A3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0T18:53:18Z</dcterms:created>
  <dc:creator/>
  <dc:description/>
  <dc:language>en-US</dc:language>
  <cp:lastModifiedBy> </cp:lastModifiedBy>
  <dcterms:modified xsi:type="dcterms:W3CDTF">2004-11-08T01:02:58Z</dcterms:modified>
  <cp:revision>68</cp:revision>
  <dc:subject/>
  <dc:title>Chap. 10 - Classless and Subnet Address Extensions (CIDR)</dc:title>
</cp:coreProperties>
</file>