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5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030A-A535-4741-8F13-3395F768E32D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360" y="555120"/>
            <a:ext cx="8462880" cy="49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Bef>
                <a:spcPts val="5000"/>
              </a:spcBef>
              <a:spcAft>
                <a:spcPts val="275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Transport Layer Protoco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Ch. 11: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tocol Layering</a:t>
            </a:r>
            <a:br>
              <a:rPr sz="4000"/>
            </a:b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Ch. 12: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ser Datagram Protocol (UDP)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Ch. 13: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ransmission Control Protocol (TCP) </a:t>
            </a:r>
            <a:endParaRPr b="0" lang="en-US" sz="40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UDP Encapsulation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30640" y="2693880"/>
            <a:ext cx="0" cy="601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31160" y="2679840"/>
            <a:ext cx="1440" cy="64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629160" y="1833480"/>
          <a:ext cx="4344840" cy="827280"/>
        </p:xfrm>
        <a:graphic>
          <a:graphicData uri="http://schemas.openxmlformats.org/drawingml/2006/table">
            <a:tbl>
              <a:tblPr/>
              <a:tblGrid>
                <a:gridCol w="1133280"/>
                <a:gridCol w="321156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DP Hea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DP Data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333520" y="3322800"/>
          <a:ext cx="5656320" cy="820440"/>
        </p:xfrm>
        <a:graphic>
          <a:graphicData uri="http://schemas.openxmlformats.org/drawingml/2006/table">
            <a:tbl>
              <a:tblPr/>
              <a:tblGrid>
                <a:gridCol w="1292400"/>
                <a:gridCol w="43639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Hea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Datagram Data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011240" y="4799160"/>
          <a:ext cx="6972120" cy="820440"/>
        </p:xfrm>
        <a:graphic>
          <a:graphicData uri="http://schemas.openxmlformats.org/drawingml/2006/table">
            <a:tbl>
              <a:tblPr/>
              <a:tblGrid>
                <a:gridCol w="1292400"/>
                <a:gridCol w="5679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me Hea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rame Data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132440" y="4156200"/>
            <a:ext cx="0" cy="60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32600" y="4141800"/>
            <a:ext cx="1440" cy="64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UDP Header &amp; UDP Pseudo-Header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2948040" y="6066000"/>
            <a:ext cx="2746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UDP Pseudo-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4840" y="1501920"/>
          <a:ext cx="5769000" cy="1892160"/>
        </p:xfrm>
        <a:graphic>
          <a:graphicData uri="http://schemas.openxmlformats.org/drawingml/2006/table">
            <a:tbl>
              <a:tblPr/>
              <a:tblGrid>
                <a:gridCol w="2884320"/>
                <a:gridCol w="28846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DP Source 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DP Dest. 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DP Mesg. 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DP Checks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271520" y="1027080"/>
            <a:ext cx="62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16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98600" y="4446720"/>
          <a:ext cx="5740200" cy="1552320"/>
        </p:xfrm>
        <a:graphic>
          <a:graphicData uri="http://schemas.openxmlformats.org/drawingml/2006/table">
            <a:tbl>
              <a:tblPr/>
              <a:tblGrid>
                <a:gridCol w="1422360"/>
                <a:gridCol w="1447920"/>
                <a:gridCol w="28699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urce IP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to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DP 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7483320" y="2319480"/>
            <a:ext cx="389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56520" y="1496880"/>
            <a:ext cx="196920" cy="982800"/>
          </a:xfrm>
          <a:custGeom>
            <a:avLst/>
            <a:gdLst>
              <a:gd name="textAreaLeft" fmla="*/ 0 w 196920"/>
              <a:gd name="textAreaRight" fmla="*/ 70920 w 196920"/>
              <a:gd name="textAreaTop" fmla="*/ 25560 h 982800"/>
              <a:gd name="textAreaBottom" fmla="*/ 957240 h 98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29320" y="1631880"/>
            <a:ext cx="88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84120" y="4002120"/>
            <a:ext cx="62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8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16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94000" y="3432240"/>
            <a:ext cx="206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UDP 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Example of checksum calculation 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31840" y="1986120"/>
            <a:ext cx="7772400" cy="334476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131760" y="2622600"/>
            <a:ext cx="922320" cy="2006640"/>
            <a:chOff x="131760" y="2622600"/>
            <a:chExt cx="922320" cy="2006640"/>
          </a:xfrm>
        </p:grpSpPr>
        <p:sp>
          <p:nvSpPr>
            <p:cNvPr id="188" name=""/>
            <p:cNvSpPr/>
            <p:nvPr/>
          </p:nvSpPr>
          <p:spPr>
            <a:xfrm>
              <a:off x="131760" y="2693880"/>
              <a:ext cx="8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seudo-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6920" y="3451320"/>
              <a:ext cx="7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D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6120" y="4152960"/>
              <a:ext cx="61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5160" y="2622600"/>
              <a:ext cx="88920" cy="74304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19080 h 743040"/>
                <a:gd name="textAreaBottom" fmla="*/ 72396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47880" y="3443400"/>
              <a:ext cx="88920" cy="5508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14040 h 550800"/>
                <a:gd name="textAreaBottom" fmla="*/ 5367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33480" y="4065480"/>
              <a:ext cx="88920" cy="56376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14400 h 563760"/>
                <a:gd name="textAreaBottom" fmla="*/ 54936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eserved &amp; Available Port Number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ell-known port numbers (0 through 1023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igned to core services systems of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, port 69 reserved for trivial file transfer protocol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ynamic port numbers (1024 through 65535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d by client hosts as temporary ports for specific communic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8026560" cy="49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Bef>
                <a:spcPts val="6001"/>
              </a:spcBef>
              <a:spcAft>
                <a:spcPts val="33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Protocol Layering</a:t>
            </a:r>
            <a:br>
              <a:rPr sz="4800"/>
            </a:b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(Chapter 11)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CP/IP Internet Layering Model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973080" y="1701720"/>
            <a:ext cx="209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ceptua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34480" y="1389240"/>
            <a:ext cx="1938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48800" y="1701720"/>
            <a:ext cx="190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760" y="2638440"/>
            <a:ext cx="1487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28080" y="3514680"/>
            <a:ext cx="2033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27720" y="4429080"/>
            <a:ext cx="153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dat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60120" y="5140440"/>
            <a:ext cx="184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03120" y="295740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003120" y="380988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978280" y="46101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15720" y="5460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8280" y="2085840"/>
            <a:ext cx="2847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invoke applic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 with transport layer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62680" y="2981160"/>
            <a:ext cx="2809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, flow contro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with multipl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1680" y="3884760"/>
            <a:ext cx="265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&amp; error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MP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95080" y="4668840"/>
            <a:ext cx="2436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Acces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-level erro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36520" y="2152800"/>
            <a:ext cx="1822680" cy="4024080"/>
            <a:chOff x="1136520" y="2152800"/>
            <a:chExt cx="1822680" cy="4024080"/>
          </a:xfrm>
        </p:grpSpPr>
        <p:grpSp>
          <p:nvGrpSpPr>
            <p:cNvPr id="61" name=""/>
            <p:cNvGrpSpPr/>
            <p:nvPr/>
          </p:nvGrpSpPr>
          <p:grpSpPr>
            <a:xfrm>
              <a:off x="1143000" y="2152800"/>
              <a:ext cx="1816200" cy="3251160"/>
              <a:chOff x="1143000" y="2152800"/>
              <a:chExt cx="1816200" cy="3251160"/>
            </a:xfrm>
          </p:grpSpPr>
          <p:sp>
            <p:nvSpPr>
              <p:cNvPr id="62" name=""/>
              <p:cNvSpPr/>
              <p:nvPr/>
            </p:nvSpPr>
            <p:spPr>
              <a:xfrm>
                <a:off x="1143000" y="2152800"/>
                <a:ext cx="1816200" cy="75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3000" y="2985840"/>
                <a:ext cx="1816200" cy="75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3000" y="3818880"/>
                <a:ext cx="1816200" cy="75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3000" y="4651920"/>
                <a:ext cx="1816200" cy="752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04560" y="2329200"/>
                <a:ext cx="1693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255680" y="3231360"/>
                <a:ext cx="15912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88880" y="3995280"/>
                <a:ext cx="1324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12920" y="4689000"/>
                <a:ext cx="1476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136520" y="5621400"/>
              <a:ext cx="1789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50920" y="5483160"/>
              <a:ext cx="1778040" cy="6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043680" y="2979720"/>
            <a:ext cx="2543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45120" y="3897360"/>
            <a:ext cx="2543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73920" y="4611600"/>
            <a:ext cx="2543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he Layering Principl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77840" y="1335240"/>
            <a:ext cx="7294680" cy="4884480"/>
            <a:chOff x="1077840" y="1335240"/>
            <a:chExt cx="7294680" cy="4884480"/>
          </a:xfrm>
        </p:grpSpPr>
        <p:sp>
          <p:nvSpPr>
            <p:cNvPr id="77" name=""/>
            <p:cNvSpPr/>
            <p:nvPr/>
          </p:nvSpPr>
          <p:spPr>
            <a:xfrm>
              <a:off x="1550880" y="5622840"/>
              <a:ext cx="2425680" cy="596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65640" y="5622840"/>
              <a:ext cx="2425680" cy="5968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57760" y="3654360"/>
              <a:ext cx="15825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40120" y="4657680"/>
              <a:ext cx="16048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network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86800" y="133524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3480" y="3255840"/>
              <a:ext cx="1161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OUTER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25760" y="1335240"/>
              <a:ext cx="89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77840" y="1778040"/>
              <a:ext cx="1739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77840" y="2692440"/>
              <a:ext cx="1739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77840" y="3606840"/>
              <a:ext cx="1739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13280" y="1895400"/>
              <a:ext cx="116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6520" y="2809800"/>
              <a:ext cx="1002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0600" y="372420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1080" y="4657680"/>
              <a:ext cx="17733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network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47960" y="23875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47960" y="33019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47960" y="421632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92240" y="5056200"/>
              <a:ext cx="1396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754440" y="5008320"/>
              <a:ext cx="23508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2320" y="5060880"/>
              <a:ext cx="185760" cy="6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110360" y="5049720"/>
              <a:ext cx="34452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146480" y="4010040"/>
              <a:ext cx="108000" cy="6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720" y="4022640"/>
              <a:ext cx="1270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02640" y="1647720"/>
              <a:ext cx="896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21720" y="2333520"/>
              <a:ext cx="856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 Narrow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 Narrow"/>
                </a:rPr>
                <a:t>pa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610000" y="1917360"/>
              <a:ext cx="1511280" cy="622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5520" y="1897200"/>
              <a:ext cx="1647720" cy="657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45080" y="4149720"/>
              <a:ext cx="931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76880" y="5045040"/>
              <a:ext cx="856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</a:rPr>
                <a:t>fr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7760" y="5748480"/>
              <a:ext cx="1671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hysical networ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82520" y="5748480"/>
              <a:ext cx="1671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hysical networ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08880" y="1792440"/>
              <a:ext cx="1739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08880" y="2706840"/>
              <a:ext cx="1739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08880" y="3621240"/>
              <a:ext cx="1739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3960" y="1909800"/>
              <a:ext cx="1167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7200" y="2824200"/>
              <a:ext cx="1002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1280" y="373860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8640" y="24019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78640" y="331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477200" y="4230720"/>
              <a:ext cx="144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666880" y="2793600"/>
              <a:ext cx="1511280" cy="622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4760" y="2786040"/>
              <a:ext cx="1647720" cy="657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11760" y="4657680"/>
              <a:ext cx="17607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network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3080" y="4151160"/>
              <a:ext cx="931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 Narrow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 Narrow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51880" y="5019840"/>
              <a:ext cx="856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 Narrow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 Narrow"/>
                </a:rPr>
                <a:t>fr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052720" y="4387320"/>
              <a:ext cx="857160" cy="78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208480" y="4417560"/>
              <a:ext cx="447840" cy="97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24000" y="5317920"/>
              <a:ext cx="530280" cy="507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506920" y="5345280"/>
              <a:ext cx="489240" cy="633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476760" y="4362480"/>
              <a:ext cx="857160" cy="777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6697440" y="5319360"/>
              <a:ext cx="515880" cy="507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681360" y="4416480"/>
              <a:ext cx="43200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325680" y="5348160"/>
              <a:ext cx="447840" cy="777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92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Building an Internet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6760" y="1611360"/>
            <a:ext cx="8224920" cy="4116240"/>
            <a:chOff x="536760" y="1611360"/>
            <a:chExt cx="8224920" cy="4116240"/>
          </a:xfrm>
        </p:grpSpPr>
        <p:sp>
          <p:nvSpPr>
            <p:cNvPr id="134" name=""/>
            <p:cNvSpPr/>
            <p:nvPr/>
          </p:nvSpPr>
          <p:spPr>
            <a:xfrm>
              <a:off x="1171440" y="3570120"/>
              <a:ext cx="6782040" cy="5335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P - Connectionless Datagram Delivery (Unreliab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35280" y="4341960"/>
              <a:ext cx="1600200" cy="5331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99160" y="4356000"/>
              <a:ext cx="1600200" cy="533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RA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4160" y="5194440"/>
              <a:ext cx="7386840" cy="5331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etwork Hardware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92320" y="2819520"/>
              <a:ext cx="1981080" cy="4572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32360" y="2819520"/>
              <a:ext cx="2057400" cy="4572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6760" y="2174760"/>
              <a:ext cx="1736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nection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(Unreliab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48040" y="2174760"/>
              <a:ext cx="221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nection ori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(Reliab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02120" y="1611360"/>
              <a:ext cx="2971800" cy="8380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(email, FTP, web, etc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26720" y="555120"/>
            <a:ext cx="7085160" cy="49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Bef>
                <a:spcPts val="6001"/>
              </a:spcBef>
              <a:spcAft>
                <a:spcPts val="33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User Datagram Protocol (UDP)</a:t>
            </a:r>
            <a:br>
              <a:rPr sz="4800"/>
            </a:b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(Chapter 12)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User Datagram Protocol (UDP)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7400" y="1409400"/>
            <a:ext cx="80424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function: Linking application layer to internet lay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ds ability to distinguish among multiple applications within given host (w/ Port Number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vides unreliable, connectionless deliver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 error recovery -- messages can be lost, duplicated or arrive out of or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1924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Protocol Ports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6520" y="1287000"/>
            <a:ext cx="7977240" cy="480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tocol port: Abstract destination identified by positive integ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cal OS on each host uses set of port numbers to identify application proce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contact application on foreign host, both dest-IP address and dest-port number need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rts are buffered to prevent data lo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UDP Demultiplexing and Ports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2155680" y="1244520"/>
            <a:ext cx="1365480" cy="574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68960" y="1258920"/>
            <a:ext cx="1365120" cy="5745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4880" y="1244520"/>
            <a:ext cx="1365120" cy="57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17600" y="2230560"/>
          <a:ext cx="1211400" cy="2344680"/>
        </p:xfrm>
        <a:graphic>
          <a:graphicData uri="http://schemas.openxmlformats.org/drawingml/2006/table">
            <a:tbl>
              <a:tblPr/>
              <a:tblGrid>
                <a:gridCol w="1211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459160" y="18302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r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0120" y="5018040"/>
            <a:ext cx="160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multiple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7760" y="300996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2880" y="5270400"/>
            <a:ext cx="25401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80040" y="60976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ackets ar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076720" y="581508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894040" y="4613040"/>
            <a:ext cx="1131840" cy="58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141960" y="4653000"/>
            <a:ext cx="121284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76720" y="465300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57880" y="2233440"/>
          <a:ext cx="1211040" cy="2344680"/>
        </p:xfrm>
        <a:graphic>
          <a:graphicData uri="http://schemas.openxmlformats.org/drawingml/2006/table">
            <a:tbl>
              <a:tblPr/>
              <a:tblGrid>
                <a:gridCol w="1211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684840" y="2222640"/>
          <a:ext cx="1211400" cy="2344680"/>
        </p:xfrm>
        <a:graphic>
          <a:graphicData uri="http://schemas.openxmlformats.org/drawingml/2006/table">
            <a:tbl>
              <a:tblPr/>
              <a:tblGrid>
                <a:gridCol w="1211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6946920" y="4925880"/>
            <a:ext cx="1187280" cy="3128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91160" y="1839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r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26400" y="18176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r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6T10:57:22Z</dcterms:created>
  <dc:creator>L. Richard Ye</dc:creator>
  <dc:description/>
  <dc:language>en-US</dc:language>
  <cp:lastModifiedBy> </cp:lastModifiedBy>
  <cp:lastPrinted>1995-01-17T15:42:40Z</cp:lastPrinted>
  <dcterms:modified xsi:type="dcterms:W3CDTF">2004-11-24T00:12:37Z</dcterms:modified>
  <cp:revision>138</cp:revision>
  <dc:subject/>
  <dc:title>Transport Layer Protocols</dc:title>
</cp:coreProperties>
</file>