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makes sense if send a fax and want to know it gets t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n acknowledgeent of receipt wait for answer or 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on’t hear anything for some time, res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6512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6512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9216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spcBef>
                <a:spcPts val="1599"/>
              </a:spcBef>
              <a:buClr>
                <a:srgbClr val="0033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1992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54440" indent="-217080">
              <a:spcBef>
                <a:spcPts val="15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C9F2-7247-41E3-9CDC-2F2CDBD557C4}" type="slidenum">
              <a:rPr b="0" lang="en-US" sz="18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1280" y="555120"/>
            <a:ext cx="8475840" cy="496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30000"/>
              </a:lnSpc>
              <a:spcBef>
                <a:spcPts val="6001"/>
              </a:spcBef>
              <a:spcAft>
                <a:spcPts val="3300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Transmission Control Protocol (TCP)</a:t>
            </a:r>
            <a:br>
              <a:rPr sz="4800"/>
            </a:b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(Chapter 13)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CP Header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eader Length (4 bits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eeded because options field makes header variable leng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ressed in number of 32 bit word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ximum Segment Size (MSS) Op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ows TCP to specify MSS it is willing to receiv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21708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Acknowledgement and Retransmission</a:t>
            </a:r>
            <a:endParaRPr b="0" lang="en-US" sz="40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3724200" y="1525680"/>
            <a:ext cx="0" cy="472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8240" y="1525680"/>
            <a:ext cx="0" cy="472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88000" y="1515960"/>
            <a:ext cx="249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segment seq=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10160" y="1733400"/>
            <a:ext cx="2009520" cy="21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09960" y="1712880"/>
            <a:ext cx="188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0320" y="2025720"/>
            <a:ext cx="160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ACK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712680" y="2166840"/>
            <a:ext cx="1992600" cy="2923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11880" y="2206800"/>
            <a:ext cx="188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ACK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79440" y="4148280"/>
            <a:ext cx="1493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Segment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711240" y="3203640"/>
            <a:ext cx="2004840" cy="277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95320" y="3270240"/>
            <a:ext cx="1900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ACK 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6800" y="3665520"/>
            <a:ext cx="932040" cy="889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02400" y="3605040"/>
            <a:ext cx="249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segment seq=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46440" y="1077840"/>
            <a:ext cx="1942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Events at Host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8360" y="1077840"/>
            <a:ext cx="1806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Events at Host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68080" y="1077840"/>
            <a:ext cx="117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 Narrow"/>
              </a:rPr>
              <a:t>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02400" y="2527200"/>
            <a:ext cx="2496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segment seq=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40040" y="2692440"/>
            <a:ext cx="1997280" cy="21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09960" y="2658960"/>
            <a:ext cx="188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0320" y="3025800"/>
            <a:ext cx="160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ACK 2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572000" y="3873240"/>
            <a:ext cx="0" cy="32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41840" y="5110200"/>
            <a:ext cx="1996920" cy="21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4959360"/>
            <a:ext cx="274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send segment seq=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0680" y="4619520"/>
            <a:ext cx="320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ransmission timer exp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0040" y="4896000"/>
            <a:ext cx="193680" cy="7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09960" y="5076720"/>
            <a:ext cx="188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ceive 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0320" y="5375160"/>
            <a:ext cx="160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nd ACK 3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714480" y="5526000"/>
            <a:ext cx="2004840" cy="2779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imeout and Retransmiss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ceiver must acknowledge receipt of all packe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nder sets timer, if ack has not arrived before timer expires then sender will retransmit packet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daptive retransmission: timer value computed as function of average round trip tim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Adaptive Retransmission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3040" y="1411200"/>
            <a:ext cx="7923240" cy="258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alue of retransmission timer depends 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9960" indent="-3254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tance to destin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9960" indent="-3254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urrent traffic cond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1493" t="10194" r="8056" b="12321"/>
          <a:stretch/>
        </p:blipFill>
        <p:spPr>
          <a:xfrm>
            <a:off x="4730760" y="2475000"/>
            <a:ext cx="4025880" cy="3452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84200" y="3317760"/>
            <a:ext cx="431964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eep estimate of round trip time on each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current estimate to set t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4288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TCP Round Trip Time and Timeout</a:t>
            </a:r>
            <a:endParaRPr b="0" lang="en-US" sz="40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80680" y="1380960"/>
            <a:ext cx="81406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timate RT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ord time when segment sent and time when ack arrives (sample round trip tim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se new round trip samples to change average slowl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TT = (</a:t>
            </a:r>
            <a:r>
              <a:rPr b="0" lang="en-US" sz="2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* Old_RTT) + ((1 - </a:t>
            </a:r>
            <a:r>
              <a:rPr b="0" lang="en-US" sz="2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* New_RTT),   (0&lt; </a:t>
            </a:r>
            <a:r>
              <a:rPr b="0" lang="en-US" sz="2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&lt;1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mpute timeout as function of RT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out = </a:t>
            </a:r>
            <a:r>
              <a:rPr b="0" lang="en-US" sz="2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* RTT,    (</a:t>
            </a:r>
            <a:r>
              <a:rPr b="0" lang="en-US" sz="2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&gt; 1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49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riginal TCP recommended </a:t>
            </a:r>
            <a:r>
              <a:rPr b="0" lang="en-US" sz="2800" spc="-1" strike="noStrike">
                <a:solidFill>
                  <a:srgbClr val="000000"/>
                </a:solidFill>
                <a:latin typeface="WP Greek Century"/>
                <a:ea typeface="WP Greek Century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2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93560" y="501480"/>
            <a:ext cx="77724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 Narrow"/>
              </a:rPr>
              <a:t>TC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6880" y="1657440"/>
            <a:ext cx="803124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onnection-oriented, reliable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nsures successful delivery of data through acknowledgements and sequence number tra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Timeout and retransmission mechanism is used to recover lost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Narrow"/>
              </a:rPr>
              <a:t>TCP Connections</a:t>
            </a:r>
            <a:endParaRPr b="0" lang="en-US" sz="48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9360" y="1456920"/>
            <a:ext cx="8385480" cy="46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CP uses </a:t>
            </a: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connection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as its fundamental abstrac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nections are identified as pair of </a:t>
            </a:r>
            <a:r>
              <a:rPr b="1" i="1" lang="en-US" sz="3200" spc="-1" strike="noStrike">
                <a:solidFill>
                  <a:srgbClr val="0033cc"/>
                </a:solidFill>
                <a:latin typeface="Arial Narrow"/>
              </a:rPr>
              <a:t>endpoi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(host, por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rvers have their endpoints open in passive mo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ent makes active open call to get endpoint assigned by local 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.g., (128.10.2.3, 53) and (128.2.254.139, 1184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39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Reliable Byte Stream Transpor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8960" y="1437840"/>
            <a:ext cx="7950240" cy="442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CP views application data as continuous stream of by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CP divides byte stream into </a:t>
            </a:r>
            <a:r>
              <a:rPr b="0" i="1" lang="en-US" sz="2800" spc="-1" strike="noStrike">
                <a:solidFill>
                  <a:srgbClr val="0033cc"/>
                </a:solidFill>
                <a:latin typeface="Arial Narrow"/>
              </a:rPr>
              <a:t>segment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transmission. Each segment placed in single IP datagram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nder uses </a:t>
            </a:r>
            <a:r>
              <a:rPr b="0" i="1" lang="en-US" sz="2800" spc="-1" strike="noStrike">
                <a:solidFill>
                  <a:srgbClr val="0033cc"/>
                </a:solidFill>
                <a:latin typeface="Arial Narrow"/>
              </a:rPr>
              <a:t>Sequence Numbe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track each segment transmit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eiver uses </a:t>
            </a:r>
            <a:r>
              <a:rPr b="0" i="1" lang="en-US" sz="2800" spc="-1" strike="noStrike">
                <a:solidFill>
                  <a:srgbClr val="0033cc"/>
                </a:solidFill>
                <a:latin typeface="Arial Narrow"/>
              </a:rPr>
              <a:t>Acknowledge Numbe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indicate sequence number of next byte in stream it expec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Narrow"/>
              </a:rPr>
              <a:t>TCP segment structure</a:t>
            </a:r>
            <a:endParaRPr b="0" lang="en-US" sz="4000" spc="-1" strike="noStrike">
              <a:solidFill>
                <a:srgbClr val="0033cc"/>
              </a:solidFill>
              <a:latin typeface="Arial Narrow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48240" y="1103400"/>
            <a:ext cx="4100040" cy="5330880"/>
            <a:chOff x="2748240" y="1103400"/>
            <a:chExt cx="4100040" cy="5330880"/>
          </a:xfrm>
        </p:grpSpPr>
        <p:sp>
          <p:nvSpPr>
            <p:cNvPr id="51" name=""/>
            <p:cNvSpPr/>
            <p:nvPr/>
          </p:nvSpPr>
          <p:spPr>
            <a:xfrm>
              <a:off x="2896920" y="1513080"/>
              <a:ext cx="3951360" cy="4824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1240" y="1629000"/>
              <a:ext cx="3951360" cy="48052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94760" y="1594080"/>
              <a:ext cx="178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ource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97520" y="1598760"/>
              <a:ext cx="149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st port 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4480" y="2003400"/>
              <a:ext cx="394668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08000" y="238284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754520" y="16286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78960" y="110340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97400" y="1344600"/>
              <a:ext cx="142704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788560" y="1355760"/>
              <a:ext cx="134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5200" y="4573800"/>
              <a:ext cx="2122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variable lengt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44840" y="1982880"/>
              <a:ext cx="24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quence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17720" y="27640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4520" y="2382840"/>
              <a:ext cx="34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cknowledgeme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13040" y="3159360"/>
              <a:ext cx="3951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08000" y="35496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08000" y="4111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4768560" y="2766600"/>
              <a:ext cx="5040" cy="77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764600" y="2774880"/>
              <a:ext cx="196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cvr window si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94920" y="3170160"/>
              <a:ext cx="182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tr urgent 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56120" y="31514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43200" y="28036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611600" y="27572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44960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28292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120920" y="2766960"/>
              <a:ext cx="0" cy="39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96396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792240" y="277164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78680" y="279900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03720" y="2799000"/>
              <a:ext cx="3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38480" y="27939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3320" y="279396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11960" y="279396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8240" y="2700360"/>
              <a:ext cx="601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9560" y="2700360"/>
              <a:ext cx="5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u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3287520" y="2761920"/>
              <a:ext cx="0" cy="39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0040" y="3654360"/>
              <a:ext cx="31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ions (variable lengt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03480" y="157644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G: urg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280" y="22701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K: ACK #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2960" y="308304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000" y="3638520"/>
            <a:ext cx="20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on estab,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71680" y="1800360"/>
            <a:ext cx="1495440" cy="961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3240" y="2476440"/>
            <a:ext cx="1647720" cy="352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352600" y="2828880"/>
            <a:ext cx="183852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35800" y="3013200"/>
            <a:ext cx="13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51040" y="1527120"/>
            <a:ext cx="113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5840" y="50529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CP Header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339560"/>
            <a:ext cx="7772400" cy="47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quence Number Field ( 32 bit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dicates number of first byte in seg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ceiver Window Size (16 bit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ndow like for Go-Back-N or selective repeat, but window size not fixed – variable based on receiver feedba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knowledgment Field (32 bit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ains sequence number of next byte receiver exp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umulative acks: acknowledge all previous seg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CP Header: Code Bits (6 bits) 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894800" cy="47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nection establishment/termin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N – establish; sequence number field contains valid initial sequence numb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33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 - termin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SET - abort connection because one side received something unexpecte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USH - sender invoked push to se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RG – indicated urgent pointer field is valid; special 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K - indicates acknowledgement field is vali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CP Header: URG Bi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en URG bit set, urgent pointer specifies position in segment where urgent data end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CP layer informs receiving process there is urgent da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lnet and Rlogin use URG when user types interrupt ke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TP uses URG when user aborts file transfe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Narrow"/>
              </a:rPr>
              <a:t>TCP Header: PSH Bit</a:t>
            </a:r>
            <a:endParaRPr b="0" lang="en-US" sz="4400" spc="-1" strike="noStrike">
              <a:solidFill>
                <a:srgbClr val="0033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se to indicate not to leave data in TCP buffer waiting for buffer to fil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ceiver supposed to deliver data to application immediatel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6T10:57:22Z</dcterms:created>
  <dc:creator>L. Richard Ye</dc:creator>
  <dc:description/>
  <dc:language>en-US</dc:language>
  <cp:lastModifiedBy> </cp:lastModifiedBy>
  <cp:lastPrinted>1995-01-17T15:42:40Z</cp:lastPrinted>
  <dcterms:modified xsi:type="dcterms:W3CDTF">2004-11-29T00:20:22Z</dcterms:modified>
  <cp:revision>140</cp:revision>
  <dc:subject/>
  <dc:title>Transport Layer Protocols</dc:title>
</cp:coreProperties>
</file>