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Narrow"/>
              </a:rPr>
              <a:t>Click to move the slide</a:t>
            </a: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796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796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92160" y="3796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7480" y="14479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65120" y="14479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796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7480" y="3796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865120" y="3796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92160" y="14479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92160" y="14479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796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9216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92160" y="3796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9216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796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05600" indent="-271440">
              <a:spcBef>
                <a:spcPts val="159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17080">
              <a:spcBef>
                <a:spcPts val="1599"/>
              </a:spcBef>
              <a:buClr>
                <a:srgbClr val="0033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19920" indent="-217080">
              <a:spcBef>
                <a:spcPts val="15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54440" indent="-217080">
              <a:spcBef>
                <a:spcPts val="15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54440" indent="-217080">
              <a:spcBef>
                <a:spcPts val="15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54440" indent="-217080">
              <a:spcBef>
                <a:spcPts val="15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"/>
          <p:cNvSpPr/>
          <p:nvPr/>
        </p:nvSpPr>
        <p:spPr>
          <a:xfrm>
            <a:off x="8534520" y="62485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7521A-8B4B-46BB-A721-B8E50A3952E9}" type="slidenum"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1280" y="555120"/>
            <a:ext cx="8475840" cy="496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30000"/>
              </a:lnSpc>
              <a:spcBef>
                <a:spcPts val="6001"/>
              </a:spcBef>
              <a:spcAft>
                <a:spcPts val="3300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Arial Narrow"/>
              </a:rPr>
              <a:t>Transmission Control Protocol (TCP)</a:t>
            </a:r>
            <a:br>
              <a:rPr sz="4800"/>
            </a:br>
            <a:r>
              <a:rPr b="0" lang="en-US" sz="4800" spc="-1" strike="noStrike">
                <a:solidFill>
                  <a:srgbClr val="0033cc"/>
                </a:solidFill>
                <a:latin typeface="Arial Narrow"/>
              </a:rPr>
              <a:t>(Chapter 13)</a:t>
            </a:r>
            <a:endParaRPr b="0" lang="en-US" sz="4800" spc="-1" strike="noStrike">
              <a:solidFill>
                <a:srgbClr val="0033cc"/>
              </a:solidFill>
              <a:latin typeface="Arial Narrow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Narrow"/>
              </a:rPr>
              <a:t>Multiplicative Decrease</a:t>
            </a: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29840" y="1447920"/>
            <a:ext cx="830268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n steady state (no congestion), congestion window equals receiver’s window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When segment lost, reduce congestion window by half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Never reduce congestion window to less than one maximum sized segmen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Double timeout values before retransmitting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Narrow"/>
              </a:rPr>
              <a:t>Slow Start</a:t>
            </a: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29840" y="1447920"/>
            <a:ext cx="830268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4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Used when starting traffic or recovering from conges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4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tart congestion window at size of single segmen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4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crease congestion window by one segment each time ACK arriv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4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When congestion window reaches one half of its original size before congestion, increase congestion window by one segment only if all segments in window acknowledged (</a:t>
            </a: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congestion avoidance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Narrow"/>
              </a:rPr>
              <a:t>Silly Window Syndrome</a:t>
            </a: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CK advertises small amount of space available, and each segment carries small amount of dat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olutions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04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ceiver doesn’t advertise small windows; instead waits till larger window opens up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04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nder holds off sending data till larger amount accumulate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44320" y="15192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Narrow"/>
              </a:rPr>
              <a:t>Receiver-Side Silly Window Avoidance</a:t>
            </a: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eceiver delays advertising increase in window size until available space reaches one half of total buffer size </a:t>
            </a:r>
            <a:r>
              <a:rPr b="0" i="1" lang="en-US" sz="3200" spc="-1" strike="noStrike">
                <a:solidFill>
                  <a:srgbClr val="000000"/>
                </a:solidFill>
                <a:latin typeface="Arial Narrow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maximum-sized segmen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mplementati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CP acknowledges each segment arrives, but doesn’t advertise increase in its window until window reaches specified limi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CP delays sending ACK when window is not sufficiently large to advertise (</a:t>
            </a: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recommende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1320" y="151920"/>
            <a:ext cx="7986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Narrow"/>
              </a:rPr>
              <a:t>Sender-Side Silly Window Avoidance</a:t>
            </a: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nder waits to transmit until there is sufficient data to fill maximum sized segment </a:t>
            </a:r>
            <a:r>
              <a:rPr b="0" i="1" lang="en-US" sz="3200" spc="-1" strike="noStrike">
                <a:solidFill>
                  <a:srgbClr val="000000"/>
                </a:solidFill>
                <a:latin typeface="Arial Narrow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until ACK arrives (send all data accumulated in buffer)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212760"/>
            <a:ext cx="84531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Narrow"/>
              </a:rPr>
              <a:t>Opening and Closing TCP Conn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07880" y="1469880"/>
            <a:ext cx="832320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21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CP connection begins with three-way handshake between two hos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376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o ensure destination host is available and listening on correct 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376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o start tracking byte stream sequence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11440" y="3784680"/>
            <a:ext cx="1800" cy="245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645160" y="3808440"/>
            <a:ext cx="0" cy="244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709640" y="3521160"/>
            <a:ext cx="1779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cc"/>
                </a:solidFill>
                <a:latin typeface="Arial Narrow"/>
              </a:rPr>
              <a:t>Events at 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03920" y="3521160"/>
            <a:ext cx="1889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cc"/>
                </a:solidFill>
                <a:latin typeface="Arial Narrow"/>
              </a:rPr>
              <a:t>Events at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20000" y="4046400"/>
            <a:ext cx="1833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nd SYN seq=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24400" y="4308480"/>
            <a:ext cx="2120760" cy="39672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13200" y="4476600"/>
            <a:ext cx="2813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ceive SYN seg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nd SYN seq=y, ACK x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3525480" y="4978440"/>
            <a:ext cx="2103480" cy="463680"/>
          </a:xfrm>
          <a:prstGeom prst="line">
            <a:avLst/>
          </a:prstGeom>
          <a:ln w="284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2920" y="5224320"/>
            <a:ext cx="3087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ceive SYN + ACK seg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93880" y="5560920"/>
            <a:ext cx="1706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nd ACK y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38440" y="5634000"/>
            <a:ext cx="2106720" cy="35568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04560" y="5840280"/>
            <a:ext cx="2397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ceive ACK seg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77280" y="3521160"/>
            <a:ext cx="1178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cc"/>
                </a:solidFill>
                <a:latin typeface="Arial Narrow"/>
              </a:rPr>
              <a:t>Mess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Narrow"/>
              </a:rPr>
              <a:t>Establishing Connection</a:t>
            </a: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Both data channels opened at onc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ree-way handshake used to agree on set of parameters for this communication chann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04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itial sequence number for both sid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04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ceiver advertised window size for both sid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04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Optionally, Maximum Segment Size (MSS) for each side; if not specified MSS of 536 bytes is assumed to fit into 576 byte datagram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Narrow"/>
              </a:rPr>
              <a:t>Initial Sequence Numbers</a:t>
            </a: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hosen randomly, changed over time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Vary initial sequence number to avoid packets delayed in network from being delivered later and interpreted as part of newly established connecti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7720"/>
            <a:ext cx="7772400" cy="113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Narrow"/>
              </a:rPr>
              <a:t>Closing Connection</a:t>
            </a: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63" name=""/>
          <p:cNvSpPr/>
          <p:nvPr/>
        </p:nvSpPr>
        <p:spPr>
          <a:xfrm>
            <a:off x="3602160" y="2386080"/>
            <a:ext cx="0" cy="369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95840" y="2441520"/>
            <a:ext cx="0" cy="363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03960" y="2554200"/>
            <a:ext cx="1742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nd FIN seq=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629160" y="2746440"/>
            <a:ext cx="1968480" cy="4302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87920" y="2894040"/>
            <a:ext cx="1364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ceive 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593320" y="3192480"/>
            <a:ext cx="1613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nd ACK x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3591000" y="3397320"/>
            <a:ext cx="1992240" cy="29196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38720" y="3546360"/>
            <a:ext cx="1891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ceive ACK x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77840" y="3495600"/>
            <a:ext cx="2133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(Inform applic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603600" y="4583160"/>
            <a:ext cx="2005200" cy="27792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86120" y="4362480"/>
            <a:ext cx="272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nd FIN seq=y, ACK x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91480" y="4622760"/>
            <a:ext cx="2054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ceive FIN + 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29160" y="5032440"/>
            <a:ext cx="1954080" cy="430200"/>
          </a:xfrm>
          <a:prstGeom prst="line">
            <a:avLst/>
          </a:prstGeom>
          <a:ln w="284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31040" y="4957920"/>
            <a:ext cx="1613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nd ACK y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587200" y="5229360"/>
            <a:ext cx="2397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ceive ACK seg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62120" y="1579680"/>
            <a:ext cx="1779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cc"/>
                </a:solidFill>
                <a:latin typeface="Arial Narrow"/>
              </a:rPr>
              <a:t>Events at 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686560" y="1579680"/>
            <a:ext cx="1903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cc"/>
                </a:solidFill>
                <a:latin typeface="Arial Narrow"/>
              </a:rPr>
              <a:t>Events at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83760" y="1579680"/>
            <a:ext cx="1178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cc"/>
                </a:solidFill>
                <a:latin typeface="Arial Narrow"/>
              </a:rPr>
              <a:t>Mess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70000" y="2206800"/>
            <a:ext cx="3305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(application closes conne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65600" y="4044960"/>
            <a:ext cx="3305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(application closes conne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360" y="132840"/>
            <a:ext cx="7772400" cy="98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 Narrow"/>
              </a:rPr>
              <a:t>TCP State Machine</a:t>
            </a:r>
            <a:endParaRPr b="0" lang="en-US" sz="4000" spc="-1" strike="noStrike">
              <a:solidFill>
                <a:srgbClr val="0033cc"/>
              </a:solidFill>
              <a:latin typeface="Arial Narrow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1182600"/>
            <a:ext cx="4848120" cy="2605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832200" y="3551400"/>
            <a:ext cx="4702320" cy="2793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91040" y="3808440"/>
            <a:ext cx="134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CP 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fe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17680" y="2722680"/>
            <a:ext cx="145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CP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fe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1400" y="20916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Narrow"/>
              </a:rPr>
              <a:t>Time Wait State</a:t>
            </a: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38280" y="14256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Wait twice Maximum Segment Lifetime (max time old segment can remain alive in internet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voids having segments from previous connection interfere with current connecti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During this time, combination of client IP and port, server IP and port cannot be reused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3560"/>
            <a:ext cx="7772400" cy="10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Narrow"/>
              </a:rPr>
              <a:t>TCP Flow Control</a:t>
            </a: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15520" y="1466640"/>
            <a:ext cx="8240760" cy="473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CP uses sliding window for end-to-end flow contro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eceiver advertises available buffer space (window size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nder can send up to entire window before ACK arriv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ach ACK from receiver carries new window siz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04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an be zero (stop transmission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Narrow"/>
              </a:rPr>
              <a:t>TCP Congestion Control</a:t>
            </a: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29840" y="1447920"/>
            <a:ext cx="8302680" cy="474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4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ngestion occurred when routers become overloaded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4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Congestion window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used to restrict data flow to less than receiver’s buffer size when congestion occur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llowed_window = min(receiver_advertisement, congestion_window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4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o estimate congestion window size, TCP assumes most datagram loss comes from conges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4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CP avoids congestion using two techniqu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901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low-star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901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ultiplicative decreas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1-16T10:57:22Z</dcterms:created>
  <dc:creator>L. Richard Ye</dc:creator>
  <dc:description/>
  <dc:language>en-US</dc:language>
  <cp:lastModifiedBy> </cp:lastModifiedBy>
  <cp:lastPrinted>1995-01-17T15:42:40Z</cp:lastPrinted>
  <dcterms:modified xsi:type="dcterms:W3CDTF">2004-12-01T01:15:38Z</dcterms:modified>
  <cp:revision>145</cp:revision>
  <dc:subject/>
  <dc:title>Transport Layer Protocols</dc:title>
</cp:coreProperties>
</file>