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59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9461-5201-4050-817F-28A82505321A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3120" y="2642760"/>
            <a:ext cx="8521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Ch.15:</a:t>
            </a:r>
            <a:r>
              <a:rPr b="0" lang="en-US" sz="4400" spc="-1" strike="noStrike">
                <a:solidFill>
                  <a:srgbClr val="0099ff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xterior Gateway Protoco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(BGP)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Ch.16:</a:t>
            </a:r>
            <a:r>
              <a:rPr b="0" lang="en-US" sz="4400" spc="-1" strike="noStrike">
                <a:solidFill>
                  <a:srgbClr val="0099ff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terior Gateway Protoco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(RIP, OSPF)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OSPF Messages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8520" y="1317600"/>
            <a:ext cx="821700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pair of neighbor routers exchange </a:t>
            </a:r>
            <a:r>
              <a:rPr b="0" i="1" lang="en-US" sz="2800" spc="-1" strike="noStrike">
                <a:solidFill>
                  <a:srgbClr val="0066ff"/>
                </a:solidFill>
                <a:latin typeface="Arial Narrow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essages periodically to test reach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ers exchange </a:t>
            </a:r>
            <a:r>
              <a:rPr b="0" i="1" lang="en-US" sz="2800" spc="-1" strike="noStrike">
                <a:solidFill>
                  <a:srgbClr val="0066ff"/>
                </a:solidFill>
                <a:latin typeface="Arial Narrow"/>
              </a:rPr>
              <a:t>database descrip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essages to initialize their network topology databa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er sends </a:t>
            </a:r>
            <a:r>
              <a:rPr b="0" i="1" lang="en-US" sz="2800" spc="-1" strike="noStrike">
                <a:solidFill>
                  <a:srgbClr val="0066ff"/>
                </a:solidFill>
                <a:latin typeface="Arial Narrow"/>
              </a:rPr>
              <a:t>link status reques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essage to neighbor to request updated info about specific set of link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ers broadcast status of links with </a:t>
            </a:r>
            <a:r>
              <a:rPr b="0" i="1" lang="en-US" sz="2800" spc="-1" strike="noStrike">
                <a:solidFill>
                  <a:srgbClr val="0066ff"/>
                </a:solidFill>
                <a:latin typeface="Arial Narrow"/>
              </a:rPr>
              <a:t>link status upd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ess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Autonomous System (AS)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3200" y="1447920"/>
            <a:ext cx="8407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roup of networks under one administrative author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ree to choose internal routing update mechanis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nects to one or more other A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408400" y="3941640"/>
            <a:ext cx="4660560" cy="1876320"/>
            <a:chOff x="2408400" y="3941640"/>
            <a:chExt cx="4660560" cy="18763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rcRect l="6518" t="12155" r="6518" b="14631"/>
            <a:stretch/>
          </p:blipFill>
          <p:spPr>
            <a:xfrm>
              <a:off x="2408400" y="3941640"/>
              <a:ext cx="46605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>
              <a:off x="5468760" y="4451400"/>
              <a:ext cx="812160" cy="419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157200" y="4870440"/>
              <a:ext cx="799920" cy="406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3169800" y="4438080"/>
              <a:ext cx="799920" cy="406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481000" y="4870080"/>
              <a:ext cx="799560" cy="406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8407440" cy="85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 Narrow"/>
              </a:rPr>
              <a:t>Classifications of Internet Routing Protocols</a:t>
            </a:r>
            <a:endParaRPr b="0" lang="en-US" sz="40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128700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terior Gateway Protocols (EGP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d among A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stinations lie throughout Intern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order Gateway Protocol (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BG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erior Gateway Protocols (IGP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d among routers within 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stinations lie within 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ing Information Protocol (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RIP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en Shortest Path First (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OSPF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0960" y="145800"/>
            <a:ext cx="867888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Narrow"/>
              </a:rPr>
              <a:t>Routing on Internet with BGP, RIP, and OSPF</a:t>
            </a:r>
            <a:endParaRPr b="0" lang="en-US" sz="3600" spc="-1" strike="noStrike">
              <a:solidFill>
                <a:srgbClr val="0066ff"/>
              </a:solidFill>
              <a:latin typeface="Arial Narrow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79560" y="1066680"/>
            <a:ext cx="535932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Border Gateway Protocol (BGP)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vides inter-autonomous system commun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agates reachability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llows next-hop paradig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nds path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ows authentic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ports CIDR addre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es reliable trans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TC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BGP Message Types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5120" y="144792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ype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ssage Typ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     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----------------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PE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      Initialize commun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      Advertise or withdraw rou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3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TIFIC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      Response to incorrect mess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KEEPALIV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      Actively test peer connectiv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Routing Information Protocol (RIP)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0320" y="1324080"/>
            <a:ext cx="81723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s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vecto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oth routers and hosts can particip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s can run RIP in active mode (advertise routes to other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sts must use passive mode (listen and update their own routing table based on advertisements receiv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ers broadcasts RIP update message every 30 s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pdate contains pairs o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network address, distanc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stance of 16 is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finity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i.e., no route)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262560" y="1841400"/>
            <a:ext cx="157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90960" y="2527200"/>
            <a:ext cx="347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15000" y="3365640"/>
            <a:ext cx="347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15000" y="4508640"/>
            <a:ext cx="195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76960" y="4508640"/>
            <a:ext cx="172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2000160"/>
            <a:ext cx="2156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01080" y="185580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01080" y="231300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40240" y="2838600"/>
            <a:ext cx="2160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73960" y="2838600"/>
            <a:ext cx="2160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48240" y="25416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48240" y="315108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1960" y="25416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81960" y="315108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45160" y="3753000"/>
            <a:ext cx="2160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8880" y="3828960"/>
            <a:ext cx="2156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53160" y="3379680"/>
            <a:ext cx="0" cy="3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53160" y="406548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86880" y="337968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86880" y="4141800"/>
            <a:ext cx="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2560" y="1460520"/>
            <a:ext cx="67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Ne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00440" y="199404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8680" y="2222640"/>
            <a:ext cx="67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7960" y="283212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43520" y="283212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3080" y="3441600"/>
            <a:ext cx="67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Ne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91480" y="4584600"/>
            <a:ext cx="67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Ne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7280" y="4584600"/>
            <a:ext cx="67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Ne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52880" y="374652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86240" y="382284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8200" y="1295280"/>
            <a:ext cx="421812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1 broadcasts to Net 2 the pair (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 meaning R1 reaches Net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 cost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2 and R3 receive the message and install a route to Net 1 through R1 (at cost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ter R2 and R3 will broadcast the pair (1, 2) to Net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ually, all routers and hosts w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all a route to Ne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RIP Example*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718320" y="2311560"/>
            <a:ext cx="317520" cy="152280"/>
            <a:chOff x="6718320" y="2311560"/>
            <a:chExt cx="317520" cy="152280"/>
          </a:xfrm>
        </p:grpSpPr>
        <p:sp>
          <p:nvSpPr>
            <p:cNvPr id="94" name=""/>
            <p:cNvSpPr/>
            <p:nvPr/>
          </p:nvSpPr>
          <p:spPr>
            <a:xfrm>
              <a:off x="7035840" y="2311560"/>
              <a:ext cx="0" cy="1522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718320" y="2450880"/>
              <a:ext cx="3175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52880" y="3137040"/>
            <a:ext cx="317520" cy="152280"/>
            <a:chOff x="4952880" y="3137040"/>
            <a:chExt cx="317520" cy="152280"/>
          </a:xfrm>
        </p:grpSpPr>
        <p:sp>
          <p:nvSpPr>
            <p:cNvPr id="97" name=""/>
            <p:cNvSpPr/>
            <p:nvPr/>
          </p:nvSpPr>
          <p:spPr>
            <a:xfrm>
              <a:off x="5270400" y="3137040"/>
              <a:ext cx="0" cy="1522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952880" y="3276360"/>
              <a:ext cx="3175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378560" y="2298600"/>
            <a:ext cx="317520" cy="152640"/>
            <a:chOff x="7378560" y="2298600"/>
            <a:chExt cx="317520" cy="152640"/>
          </a:xfrm>
        </p:grpSpPr>
        <p:sp>
          <p:nvSpPr>
            <p:cNvPr id="100" name=""/>
            <p:cNvSpPr/>
            <p:nvPr/>
          </p:nvSpPr>
          <p:spPr>
            <a:xfrm>
              <a:off x="7378560" y="2298600"/>
              <a:ext cx="0" cy="1526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78560" y="2438280"/>
              <a:ext cx="3175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72400" y="3149640"/>
            <a:ext cx="317520" cy="152280"/>
            <a:chOff x="7772400" y="3149640"/>
            <a:chExt cx="317520" cy="152280"/>
          </a:xfrm>
        </p:grpSpPr>
        <p:sp>
          <p:nvSpPr>
            <p:cNvPr id="103" name=""/>
            <p:cNvSpPr/>
            <p:nvPr/>
          </p:nvSpPr>
          <p:spPr>
            <a:xfrm>
              <a:off x="7772400" y="3149640"/>
              <a:ext cx="0" cy="1522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2400" y="3288960"/>
              <a:ext cx="3175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676840" y="3137040"/>
            <a:ext cx="317520" cy="152280"/>
            <a:chOff x="5676840" y="3137040"/>
            <a:chExt cx="317520" cy="152280"/>
          </a:xfrm>
        </p:grpSpPr>
        <p:sp>
          <p:nvSpPr>
            <p:cNvPr id="106" name=""/>
            <p:cNvSpPr/>
            <p:nvPr/>
          </p:nvSpPr>
          <p:spPr>
            <a:xfrm>
              <a:off x="5676840" y="3137040"/>
              <a:ext cx="0" cy="1522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76840" y="3276360"/>
              <a:ext cx="3175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124760" y="3149640"/>
            <a:ext cx="317520" cy="152280"/>
            <a:chOff x="7124760" y="3149640"/>
            <a:chExt cx="317520" cy="152280"/>
          </a:xfrm>
        </p:grpSpPr>
        <p:sp>
          <p:nvSpPr>
            <p:cNvPr id="109" name=""/>
            <p:cNvSpPr/>
            <p:nvPr/>
          </p:nvSpPr>
          <p:spPr>
            <a:xfrm>
              <a:off x="7442280" y="3149640"/>
              <a:ext cx="0" cy="1522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124760" y="3288960"/>
              <a:ext cx="3175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257800" y="4280040"/>
            <a:ext cx="977760" cy="152280"/>
            <a:chOff x="5257800" y="4280040"/>
            <a:chExt cx="977760" cy="152280"/>
          </a:xfrm>
        </p:grpSpPr>
        <p:grpSp>
          <p:nvGrpSpPr>
            <p:cNvPr id="112" name=""/>
            <p:cNvGrpSpPr/>
            <p:nvPr/>
          </p:nvGrpSpPr>
          <p:grpSpPr>
            <a:xfrm>
              <a:off x="5257800" y="4280040"/>
              <a:ext cx="317520" cy="152280"/>
              <a:chOff x="5257800" y="4280040"/>
              <a:chExt cx="317520" cy="152280"/>
            </a:xfrm>
          </p:grpSpPr>
          <p:sp>
            <p:nvSpPr>
              <p:cNvPr id="113" name=""/>
              <p:cNvSpPr/>
              <p:nvPr/>
            </p:nvSpPr>
            <p:spPr>
              <a:xfrm>
                <a:off x="5575320" y="4280040"/>
                <a:ext cx="0" cy="1522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5257800" y="4419360"/>
                <a:ext cx="31752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918040" y="4280040"/>
              <a:ext cx="317520" cy="152280"/>
              <a:chOff x="5918040" y="4280040"/>
              <a:chExt cx="317520" cy="1522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18040" y="4280040"/>
                <a:ext cx="0" cy="1522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18040" y="4419360"/>
                <a:ext cx="31752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7378560" y="4267080"/>
            <a:ext cx="978120" cy="152640"/>
            <a:chOff x="7378560" y="4267080"/>
            <a:chExt cx="978120" cy="152640"/>
          </a:xfrm>
        </p:grpSpPr>
        <p:grpSp>
          <p:nvGrpSpPr>
            <p:cNvPr id="119" name=""/>
            <p:cNvGrpSpPr/>
            <p:nvPr/>
          </p:nvGrpSpPr>
          <p:grpSpPr>
            <a:xfrm>
              <a:off x="7378560" y="4267080"/>
              <a:ext cx="317520" cy="152640"/>
              <a:chOff x="7378560" y="4267080"/>
              <a:chExt cx="317520" cy="152640"/>
            </a:xfrm>
          </p:grpSpPr>
          <p:sp>
            <p:nvSpPr>
              <p:cNvPr id="120" name=""/>
              <p:cNvSpPr/>
              <p:nvPr/>
            </p:nvSpPr>
            <p:spPr>
              <a:xfrm>
                <a:off x="7696080" y="4267080"/>
                <a:ext cx="0" cy="1526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378560" y="4406760"/>
                <a:ext cx="31752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039160" y="4267080"/>
              <a:ext cx="317520" cy="152640"/>
              <a:chOff x="8039160" y="4267080"/>
              <a:chExt cx="317520" cy="152640"/>
            </a:xfrm>
          </p:grpSpPr>
          <p:sp>
            <p:nvSpPr>
              <p:cNvPr id="123" name=""/>
              <p:cNvSpPr/>
              <p:nvPr/>
            </p:nvSpPr>
            <p:spPr>
              <a:xfrm>
                <a:off x="8039160" y="4267080"/>
                <a:ext cx="0" cy="1526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39160" y="4406760"/>
                <a:ext cx="31752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564840" y="5745240"/>
            <a:ext cx="68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Arial Narrow"/>
              </a:rPr>
              <a:t>* In RIP, from a router to a directly attached network is counted as 1 h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2280" y="19368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Narrow"/>
              </a:rPr>
              <a:t>Open Shortest Path First (OSPF)</a:t>
            </a:r>
            <a:endParaRPr b="0" lang="en-US" sz="4400" spc="-1" strike="noStrike">
              <a:solidFill>
                <a:srgbClr val="0066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6360" y="1133640"/>
            <a:ext cx="77724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s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link st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routing algorith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ch participating router independently calculates the complete internet topolog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ludes type of service routin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vides load balancing across multiple ro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ows site to partition its networks and routers into subset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re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status information is propagated within an are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66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 has detailed area topology; Only knows direction (shortest path) to networks in other are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6T10:57:22Z</dcterms:created>
  <dc:creator>L. Richard Ye</dc:creator>
  <dc:description/>
  <dc:language>en-US</dc:language>
  <cp:lastModifiedBy> </cp:lastModifiedBy>
  <cp:lastPrinted>1995-01-17T15:42:40Z</cp:lastPrinted>
  <dcterms:modified xsi:type="dcterms:W3CDTF">2004-12-29T06:54:24Z</dcterms:modified>
  <cp:revision>112</cp:revision>
  <dc:subject/>
  <dc:title>Internet Routing: Ch. 15-16</dc:title>
</cp:coreProperties>
</file>