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6512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6512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spcBef>
                <a:spcPts val="159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B0E1-3973-4965-8731-7DE882095758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69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 Narrow"/>
              </a:rPr>
              <a:t>IGMP: </a:t>
            </a:r>
            <a:br>
              <a:rPr sz="4800"/>
            </a:b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Internet Group Management Protoco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(Chapter 17)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IGMP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d by mrouters to learn about multicast group memberships on their directly attached subne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lemented over IP, but considered part of I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ch network has local mrou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IGMP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st sends IGMP message to local mrouter to join or leave group; local mrouter propagates info to other remote mrout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cal mrouter periodically polls members on local network to determine status of group; multicast group needs at least one member to be kept al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IGMP Message Encapsulation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84200" y="2174760"/>
            <a:ext cx="6695640" cy="1804680"/>
            <a:chOff x="1384200" y="2174760"/>
            <a:chExt cx="6695640" cy="1804680"/>
          </a:xfrm>
        </p:grpSpPr>
        <p:sp>
          <p:nvSpPr>
            <p:cNvPr id="46" name=""/>
            <p:cNvSpPr/>
            <p:nvPr/>
          </p:nvSpPr>
          <p:spPr>
            <a:xfrm>
              <a:off x="1464840" y="3409560"/>
              <a:ext cx="6373080" cy="569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84200" y="3439080"/>
              <a:ext cx="66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P Header                       IP Datagram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00920" y="3409560"/>
              <a:ext cx="0" cy="56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28720" y="2174760"/>
              <a:ext cx="4194720" cy="569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76880" y="2174760"/>
              <a:ext cx="42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GMP Mess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88320" y="274464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89240" y="274464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IGMP Message Format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42880" y="1685880"/>
            <a:ext cx="6353280" cy="1112760"/>
            <a:chOff x="1442880" y="1685880"/>
            <a:chExt cx="6353280" cy="1112760"/>
          </a:xfrm>
        </p:grpSpPr>
        <p:sp>
          <p:nvSpPr>
            <p:cNvPr id="55" name=""/>
            <p:cNvSpPr/>
            <p:nvPr/>
          </p:nvSpPr>
          <p:spPr>
            <a:xfrm>
              <a:off x="1442880" y="1685880"/>
              <a:ext cx="63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0                          8                           16                                                    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49360" y="2085840"/>
              <a:ext cx="6242040" cy="698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4040" y="2430360"/>
              <a:ext cx="6242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57400" y="2085840"/>
              <a:ext cx="0" cy="34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16560" y="2085840"/>
              <a:ext cx="0" cy="34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06600" y="2430360"/>
              <a:ext cx="62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ROUP ADDRESS (ZERO IN QUER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11280" y="2085840"/>
              <a:ext cx="62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YP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             RESP TIME                    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1200240" y="3551400"/>
          <a:ext cx="6879960" cy="1976400"/>
        </p:xfrm>
        <a:graphic>
          <a:graphicData uri="http://schemas.openxmlformats.org/drawingml/2006/table">
            <a:tbl>
              <a:tblPr/>
              <a:tblGrid>
                <a:gridCol w="893520"/>
                <a:gridCol w="2214720"/>
                <a:gridCol w="3771720"/>
              </a:tblGrid>
              <a:tr h="3988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oup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used (zero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neral membership query (to all hos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sed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ecific group membership qu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mbership repor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av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IGMP Message Format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SP TIME (Max Response Time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ecifies the maximum allowed time before sending a responding repo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host in the group delays a random time between zero and RESP TIME before responding to the router’s que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ault value is 10 secon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16T10:57:22Z</dcterms:created>
  <dc:creator>L. Richard Ye</dc:creator>
  <dc:description/>
  <dc:language>en-US</dc:language>
  <cp:lastModifiedBy> </cp:lastModifiedBy>
  <cp:lastPrinted>1995-01-17T15:42:40Z</cp:lastPrinted>
  <dcterms:modified xsi:type="dcterms:W3CDTF">2004-12-19T21:59:52Z</dcterms:modified>
  <cp:revision>122</cp:revision>
  <dc:subject/>
  <dc:title>Internet Routing: Ch. 15-16</dc:title>
</cp:coreProperties>
</file>