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8E0D-7907-48DC-8C61-E9B4632E2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89B2-2C93-4A98-86C3-0C3A6412A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2EC5C-217F-4722-BCD0-6C0203FD3B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6340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5840" y="135360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096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6340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5840" y="3718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1921A-B0DA-496C-858F-D722FB1B4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1428-4F09-458C-BBB4-E24D60D9F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F2861-5F6C-42B1-BF9D-4CE9AF7950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BA6F0-D4B5-4DF5-8989-90C723746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EF004-3B6C-4811-BDB0-7A0395530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6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F91F2-3BA7-4D0B-A414-9ED6A4DE7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D04B-7997-4D68-8DBA-F8A79B8180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98000" y="3718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67EAF-3DB9-4812-BB89-C386B42FAE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488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8000" y="135360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960" y="3718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63AD1-68CB-4E6C-A5BA-84974F7E8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24280" indent="-22428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586800" indent="-27216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2" marL="1035720" indent="-270720">
              <a:spcBef>
                <a:spcPts val="1749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3" marL="130680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4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5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6" marL="1625040" indent="-180360">
              <a:spcBef>
                <a:spcPts val="174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87720" y="61592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5296-E401-486C-9B95-280E5259AD4C}" type="slidenum">
              <a:rPr b="0" lang="en-US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80880" y="1901880"/>
            <a:ext cx="8229600" cy="34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404640" indent="-404640" algn="ctr"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 Narrow"/>
              </a:rPr>
              <a:t>Private Network Interconne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 algn="ctr">
              <a:lnSpc>
                <a:spcPct val="100000"/>
              </a:lnSpc>
              <a:spcBef>
                <a:spcPts val="23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rial Narrow"/>
              </a:rPr>
              <a:t>(VPN, NAT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404640" indent="-404640"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 Narrow"/>
              </a:rPr>
              <a:t>(Chapter 20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0E79F-DEEC-4DBD-966F-9C2A7B19CC6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Network Address Translation (NAT)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3840" y="1287000"/>
            <a:ext cx="81914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Replaces source IP address in each outgoing datagram with globally valid IP address of NAT box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 Narrow"/>
              </a:rPr>
              <a:t>to outsider, all datagrams come from NAT box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Uses </a:t>
            </a:r>
            <a:r>
              <a:rPr b="0" i="1" lang="en-AU" sz="3600" spc="-1" strike="noStrike">
                <a:solidFill>
                  <a:srgbClr val="3366ff"/>
                </a:solidFill>
                <a:latin typeface="Arial Narrow"/>
              </a:rPr>
              <a:t>translation table</a:t>
            </a: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 to replace destination IP address in each incoming datagram with private address of correct internal host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08B3D-5BA5-4EC3-95FE-C595FFB0D6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3366ff"/>
                </a:solidFill>
                <a:latin typeface="Arial Narrow"/>
              </a:rPr>
              <a:t>Creating Translation Table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2040" y="132408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On the fly (most popular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Assumption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A private host must initiate communication (to access public serv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 Narrow"/>
              </a:rPr>
              <a:t>Public hosts cannot access private serv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NAT examines all outgoing datagrams;           it creates entry in translation table to record address of internal host and address of destination (1-to-1 mapping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1CC29-D7B0-4438-92EB-A4DCFDD6F5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66ff"/>
                </a:solidFill>
                <a:latin typeface="Arial Narrow"/>
              </a:rPr>
              <a:t>Network Address Port Translation (NAPT)</a:t>
            </a:r>
            <a:endParaRPr b="0" lang="en-US" sz="4000" spc="-1" strike="noStrike">
              <a:solidFill>
                <a:srgbClr val="3366ff"/>
              </a:solidFill>
              <a:latin typeface="Arial Narrow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17480" y="2560680"/>
          <a:ext cx="7593120" cy="2522520"/>
        </p:xfrm>
        <a:graphic>
          <a:graphicData uri="http://schemas.openxmlformats.org/drawingml/2006/table">
            <a:tbl>
              <a:tblPr/>
              <a:tblGrid>
                <a:gridCol w="1219320"/>
                <a:gridCol w="1563480"/>
                <a:gridCol w="1940040"/>
                <a:gridCol w="1319400"/>
                <a:gridCol w="1550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rivate 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riv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External 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Exter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 Narrow"/>
                        </a:rPr>
                        <a:t>Unique NAT 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.0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0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2743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10.19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.0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8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10.19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.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6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7.20.79.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.0.0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27432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27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8.210.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388800" y="1260360"/>
            <a:ext cx="82695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4040" indent="-284040">
              <a:lnSpc>
                <a:spcPct val="100000"/>
              </a:lnSpc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ranslates TCP/UDP port numbers as well as IP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8623-ED4E-4872-BBDB-5BCEE2E9E0E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3366ff"/>
                </a:solidFill>
                <a:latin typeface="Arial Narrow"/>
              </a:rPr>
              <a:t>Network Address Port Translation (NAPT)</a:t>
            </a:r>
            <a:endParaRPr b="0" lang="en-US" sz="40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0960" y="13539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For the first two items in the table, the TCP connections identification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NAPT trans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311120" indent="-34272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10.0.0.5,  23023,  128.10.19.20,  80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11120" indent="-34272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10.0.0.1,      386,  128.10.19.20,  80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NAPT translati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311120" indent="-34272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G,  14003,  128.10.19.20,  80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311120" indent="-342720">
              <a:spcBef>
                <a:spcPts val="700"/>
              </a:spcBef>
              <a:buClr>
                <a:srgbClr val="3366ff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G,  14010,  128.10.19.20,  80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1851120" y="5886360"/>
            <a:ext cx="44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: globally valid address of NAT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4DF2-FF30-4011-BAF5-31BF863E4F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6680"/>
            <a:ext cx="82296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3366ff"/>
                </a:solidFill>
                <a:latin typeface="Arial Narrow"/>
              </a:rPr>
              <a:t>Side Effects of NAT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0400" y="1218960"/>
            <a:ext cx="8318520" cy="49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-34452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Application protocol that passes IP addresses or protocol port numbers as data will not operate correctly across NAT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4520" indent="-34452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NAT must analyze the data area and perform translation if necessar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4520" indent="-344520"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Arial Narrow"/>
              </a:rPr>
              <a:t>NAT supports few protocols such as ICMP and FTP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7AE0-5D88-4271-931D-976CD4F974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Private and Hybrid Network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80960" y="1353960"/>
            <a:ext cx="8229600" cy="46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n internet is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vate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o one group (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solated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 if none of the facilities or traffic is accessible to other group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vate network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uses leased lines to interconnect routers at various sites of the group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400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ybrid network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permits some traffic to go over private connections and allows contact with global Interne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D15D-1AEA-4352-BF52-16836D8286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Private and Hybrid Network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280" y="1662120"/>
            <a:ext cx="754380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F4F93-5D8B-4DF4-841A-FB1796EB82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Virtual Private Network (VPN)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onnect all sites to global Internet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spcBef>
                <a:spcPts val="1749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tect data as it passes from one site to another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901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cryptio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spcBef>
                <a:spcPts val="901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P-in-IP tunneling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FE41-444E-4909-8E63-5F14BA0755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3120"/>
            <a:ext cx="82296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IP-in-IP Encapsulation               used with VPN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41360" y="2305080"/>
            <a:ext cx="827712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44CDD-3AB5-4A48-B5F6-56864F3A51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VPN Addressing and Routing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17480" y="1549440"/>
            <a:ext cx="7724880" cy="451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F7E97-432D-4CD5-A057-CE33BD343C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VPN With Private Address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1480" y="2157480"/>
            <a:ext cx="7601040" cy="254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EBFC0-8830-4107-8F4F-B2E0AD980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VPN With Private Addresses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80960" y="13536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How can a site provide access to Internet services without assigning each host a valid IP addres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84040" indent="-284040">
              <a:lnSpc>
                <a:spcPct val="90000"/>
              </a:lnSpc>
              <a:spcBef>
                <a:spcPts val="1576"/>
              </a:spcBef>
              <a:buClr>
                <a:srgbClr val="3366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Two solution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pplication gateway (one needed for each service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34452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etwork Address Translation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AT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D55F7-D455-4BB7-85D7-2755830594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5720" y="285840"/>
            <a:ext cx="8483400" cy="83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Arial Narrow"/>
              </a:rPr>
              <a:t>Network Address Translation (NAT)</a:t>
            </a:r>
            <a:endParaRPr b="0" lang="en-US" sz="4800" spc="-1" strike="noStrike">
              <a:solidFill>
                <a:srgbClr val="3366ff"/>
              </a:solidFill>
              <a:latin typeface="Arial Narrow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23720" y="2021040"/>
            <a:ext cx="8261280" cy="3200760"/>
            <a:chOff x="423720" y="2021040"/>
            <a:chExt cx="8261280" cy="3200760"/>
          </a:xfrm>
        </p:grpSpPr>
        <p:sp>
          <p:nvSpPr>
            <p:cNvPr id="56" name=""/>
            <p:cNvSpPr/>
            <p:nvPr/>
          </p:nvSpPr>
          <p:spPr>
            <a:xfrm>
              <a:off x="1036440" y="2581200"/>
              <a:ext cx="3722400" cy="1881360"/>
            </a:xfrm>
            <a:prstGeom prst="ellipse">
              <a:avLst/>
            </a:prstGeom>
            <a:solidFill>
              <a:srgbClr val="cc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1848960" y="2782800"/>
              <a:ext cx="67644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1983960" y="2917800"/>
              <a:ext cx="6778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2118960" y="3051360"/>
              <a:ext cx="677880" cy="60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4"/>
            <a:stretch/>
          </p:blipFill>
          <p:spPr>
            <a:xfrm>
              <a:off x="2255400" y="3186360"/>
              <a:ext cx="676440" cy="60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5"/>
            <a:stretch/>
          </p:blipFill>
          <p:spPr>
            <a:xfrm>
              <a:off x="2390400" y="3321000"/>
              <a:ext cx="676440" cy="60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489200" y="2917800"/>
              <a:ext cx="947520" cy="1141560"/>
            </a:xfrm>
            <a:prstGeom prst="rect">
              <a:avLst/>
            </a:prstGeom>
            <a:solidFill>
              <a:srgbClr val="aeeeb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NA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Bo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706720" y="2178000"/>
              <a:ext cx="2774880" cy="2486160"/>
            </a:xfrm>
            <a:custGeom>
              <a:avLst/>
              <a:gdLst/>
              <a:ahLst/>
              <a:rect l="l" t="t" r="r" b="b"/>
              <a:pathLst>
                <a:path w="1974" h="1253">
                  <a:moveTo>
                    <a:pt x="314" y="296"/>
                  </a:moveTo>
                  <a:lnTo>
                    <a:pt x="330" y="262"/>
                  </a:lnTo>
                  <a:lnTo>
                    <a:pt x="355" y="227"/>
                  </a:lnTo>
                  <a:lnTo>
                    <a:pt x="394" y="200"/>
                  </a:lnTo>
                  <a:lnTo>
                    <a:pt x="443" y="176"/>
                  </a:lnTo>
                  <a:lnTo>
                    <a:pt x="484" y="164"/>
                  </a:lnTo>
                  <a:lnTo>
                    <a:pt x="535" y="151"/>
                  </a:lnTo>
                  <a:lnTo>
                    <a:pt x="611" y="146"/>
                  </a:lnTo>
                  <a:lnTo>
                    <a:pt x="685" y="151"/>
                  </a:lnTo>
                  <a:lnTo>
                    <a:pt x="753" y="166"/>
                  </a:lnTo>
                  <a:lnTo>
                    <a:pt x="804" y="183"/>
                  </a:lnTo>
                  <a:lnTo>
                    <a:pt x="833" y="125"/>
                  </a:lnTo>
                  <a:lnTo>
                    <a:pt x="872" y="81"/>
                  </a:lnTo>
                  <a:lnTo>
                    <a:pt x="925" y="46"/>
                  </a:lnTo>
                  <a:lnTo>
                    <a:pt x="993" y="20"/>
                  </a:lnTo>
                  <a:lnTo>
                    <a:pt x="1077" y="1"/>
                  </a:lnTo>
                  <a:lnTo>
                    <a:pt x="1159" y="0"/>
                  </a:lnTo>
                  <a:lnTo>
                    <a:pt x="1233" y="10"/>
                  </a:lnTo>
                  <a:lnTo>
                    <a:pt x="1315" y="32"/>
                  </a:lnTo>
                  <a:lnTo>
                    <a:pt x="1378" y="71"/>
                  </a:lnTo>
                  <a:lnTo>
                    <a:pt x="1423" y="110"/>
                  </a:lnTo>
                  <a:lnTo>
                    <a:pt x="1452" y="147"/>
                  </a:lnTo>
                  <a:lnTo>
                    <a:pt x="1458" y="194"/>
                  </a:lnTo>
                  <a:lnTo>
                    <a:pt x="1516" y="179"/>
                  </a:lnTo>
                  <a:lnTo>
                    <a:pt x="1585" y="185"/>
                  </a:lnTo>
                  <a:lnTo>
                    <a:pt x="1641" y="200"/>
                  </a:lnTo>
                  <a:lnTo>
                    <a:pt x="1690" y="233"/>
                  </a:lnTo>
                  <a:lnTo>
                    <a:pt x="1725" y="276"/>
                  </a:lnTo>
                  <a:lnTo>
                    <a:pt x="1739" y="325"/>
                  </a:lnTo>
                  <a:lnTo>
                    <a:pt x="1737" y="360"/>
                  </a:lnTo>
                  <a:lnTo>
                    <a:pt x="1770" y="357"/>
                  </a:lnTo>
                  <a:lnTo>
                    <a:pt x="1811" y="366"/>
                  </a:lnTo>
                  <a:lnTo>
                    <a:pt x="1852" y="382"/>
                  </a:lnTo>
                  <a:lnTo>
                    <a:pt x="1885" y="401"/>
                  </a:lnTo>
                  <a:lnTo>
                    <a:pt x="1907" y="418"/>
                  </a:lnTo>
                  <a:lnTo>
                    <a:pt x="1926" y="440"/>
                  </a:lnTo>
                  <a:lnTo>
                    <a:pt x="1948" y="467"/>
                  </a:lnTo>
                  <a:lnTo>
                    <a:pt x="1959" y="501"/>
                  </a:lnTo>
                  <a:lnTo>
                    <a:pt x="1961" y="526"/>
                  </a:lnTo>
                  <a:lnTo>
                    <a:pt x="1956" y="553"/>
                  </a:lnTo>
                  <a:lnTo>
                    <a:pt x="1942" y="587"/>
                  </a:lnTo>
                  <a:lnTo>
                    <a:pt x="1959" y="623"/>
                  </a:lnTo>
                  <a:lnTo>
                    <a:pt x="1967" y="653"/>
                  </a:lnTo>
                  <a:lnTo>
                    <a:pt x="1971" y="689"/>
                  </a:lnTo>
                  <a:lnTo>
                    <a:pt x="1961" y="731"/>
                  </a:lnTo>
                  <a:lnTo>
                    <a:pt x="1954" y="756"/>
                  </a:lnTo>
                  <a:lnTo>
                    <a:pt x="1932" y="787"/>
                  </a:lnTo>
                  <a:lnTo>
                    <a:pt x="1961" y="829"/>
                  </a:lnTo>
                  <a:lnTo>
                    <a:pt x="1971" y="856"/>
                  </a:lnTo>
                  <a:lnTo>
                    <a:pt x="1973" y="895"/>
                  </a:lnTo>
                  <a:lnTo>
                    <a:pt x="1967" y="932"/>
                  </a:lnTo>
                  <a:lnTo>
                    <a:pt x="1949" y="976"/>
                  </a:lnTo>
                  <a:lnTo>
                    <a:pt x="1926" y="1007"/>
                  </a:lnTo>
                  <a:lnTo>
                    <a:pt x="1891" y="1035"/>
                  </a:lnTo>
                  <a:lnTo>
                    <a:pt x="1832" y="1064"/>
                  </a:lnTo>
                  <a:lnTo>
                    <a:pt x="1770" y="1074"/>
                  </a:lnTo>
                  <a:lnTo>
                    <a:pt x="1713" y="1066"/>
                  </a:lnTo>
                  <a:lnTo>
                    <a:pt x="1676" y="1051"/>
                  </a:lnTo>
                  <a:lnTo>
                    <a:pt x="1651" y="1081"/>
                  </a:lnTo>
                  <a:lnTo>
                    <a:pt x="1624" y="1105"/>
                  </a:lnTo>
                  <a:lnTo>
                    <a:pt x="1600" y="1120"/>
                  </a:lnTo>
                  <a:lnTo>
                    <a:pt x="1555" y="1140"/>
                  </a:lnTo>
                  <a:lnTo>
                    <a:pt x="1516" y="1154"/>
                  </a:lnTo>
                  <a:lnTo>
                    <a:pt x="1458" y="1164"/>
                  </a:lnTo>
                  <a:lnTo>
                    <a:pt x="1401" y="1162"/>
                  </a:lnTo>
                  <a:lnTo>
                    <a:pt x="1345" y="1149"/>
                  </a:lnTo>
                  <a:lnTo>
                    <a:pt x="1296" y="1125"/>
                  </a:lnTo>
                  <a:lnTo>
                    <a:pt x="1267" y="1166"/>
                  </a:lnTo>
                  <a:lnTo>
                    <a:pt x="1239" y="1189"/>
                  </a:lnTo>
                  <a:lnTo>
                    <a:pt x="1204" y="1210"/>
                  </a:lnTo>
                  <a:lnTo>
                    <a:pt x="1163" y="1226"/>
                  </a:lnTo>
                  <a:lnTo>
                    <a:pt x="1116" y="1233"/>
                  </a:lnTo>
                  <a:lnTo>
                    <a:pt x="1073" y="1233"/>
                  </a:lnTo>
                  <a:lnTo>
                    <a:pt x="1032" y="1226"/>
                  </a:lnTo>
                  <a:lnTo>
                    <a:pt x="981" y="1205"/>
                  </a:lnTo>
                  <a:lnTo>
                    <a:pt x="952" y="1184"/>
                  </a:lnTo>
                  <a:lnTo>
                    <a:pt x="925" y="1210"/>
                  </a:lnTo>
                  <a:lnTo>
                    <a:pt x="896" y="1226"/>
                  </a:lnTo>
                  <a:lnTo>
                    <a:pt x="861" y="1240"/>
                  </a:lnTo>
                  <a:lnTo>
                    <a:pt x="810" y="1252"/>
                  </a:lnTo>
                  <a:lnTo>
                    <a:pt x="757" y="1249"/>
                  </a:lnTo>
                  <a:lnTo>
                    <a:pt x="702" y="1237"/>
                  </a:lnTo>
                  <a:lnTo>
                    <a:pt x="662" y="1217"/>
                  </a:lnTo>
                  <a:lnTo>
                    <a:pt x="623" y="1183"/>
                  </a:lnTo>
                  <a:lnTo>
                    <a:pt x="599" y="1149"/>
                  </a:lnTo>
                  <a:lnTo>
                    <a:pt x="558" y="1160"/>
                  </a:lnTo>
                  <a:lnTo>
                    <a:pt x="511" y="1169"/>
                  </a:lnTo>
                  <a:lnTo>
                    <a:pt x="455" y="1166"/>
                  </a:lnTo>
                  <a:lnTo>
                    <a:pt x="406" y="1151"/>
                  </a:lnTo>
                  <a:lnTo>
                    <a:pt x="369" y="1128"/>
                  </a:lnTo>
                  <a:lnTo>
                    <a:pt x="338" y="1105"/>
                  </a:lnTo>
                  <a:lnTo>
                    <a:pt x="312" y="1071"/>
                  </a:lnTo>
                  <a:lnTo>
                    <a:pt x="306" y="1035"/>
                  </a:lnTo>
                  <a:lnTo>
                    <a:pt x="279" y="1044"/>
                  </a:lnTo>
                  <a:lnTo>
                    <a:pt x="234" y="1046"/>
                  </a:lnTo>
                  <a:lnTo>
                    <a:pt x="184" y="1035"/>
                  </a:lnTo>
                  <a:lnTo>
                    <a:pt x="133" y="1012"/>
                  </a:lnTo>
                  <a:lnTo>
                    <a:pt x="97" y="980"/>
                  </a:lnTo>
                  <a:lnTo>
                    <a:pt x="68" y="938"/>
                  </a:lnTo>
                  <a:lnTo>
                    <a:pt x="51" y="895"/>
                  </a:lnTo>
                  <a:lnTo>
                    <a:pt x="45" y="836"/>
                  </a:lnTo>
                  <a:lnTo>
                    <a:pt x="47" y="795"/>
                  </a:lnTo>
                  <a:lnTo>
                    <a:pt x="63" y="736"/>
                  </a:lnTo>
                  <a:lnTo>
                    <a:pt x="27" y="702"/>
                  </a:lnTo>
                  <a:lnTo>
                    <a:pt x="10" y="658"/>
                  </a:lnTo>
                  <a:lnTo>
                    <a:pt x="0" y="611"/>
                  </a:lnTo>
                  <a:lnTo>
                    <a:pt x="0" y="562"/>
                  </a:lnTo>
                  <a:lnTo>
                    <a:pt x="12" y="509"/>
                  </a:lnTo>
                  <a:lnTo>
                    <a:pt x="35" y="470"/>
                  </a:lnTo>
                  <a:lnTo>
                    <a:pt x="74" y="428"/>
                  </a:lnTo>
                  <a:lnTo>
                    <a:pt x="115" y="396"/>
                  </a:lnTo>
                  <a:lnTo>
                    <a:pt x="164" y="366"/>
                  </a:lnTo>
                  <a:lnTo>
                    <a:pt x="226" y="345"/>
                  </a:lnTo>
                  <a:lnTo>
                    <a:pt x="285" y="333"/>
                  </a:lnTo>
                  <a:lnTo>
                    <a:pt x="312" y="328"/>
                  </a:lnTo>
                  <a:lnTo>
                    <a:pt x="314" y="296"/>
                  </a:lnTo>
                </a:path>
              </a:pathLst>
            </a:custGeom>
            <a:solidFill>
              <a:srgbClr val="aca3f1"/>
            </a:solidFill>
            <a:ln cap="rnd" w="12600">
              <a:solidFill>
                <a:srgbClr val="000000"/>
              </a:solidFill>
              <a:round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36720" y="3454560"/>
              <a:ext cx="27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3680" y="2849760"/>
              <a:ext cx="3181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Global, Publ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 Narrow"/>
                </a:rPr>
                <a:t>Intern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3000240" y="3723840"/>
              <a:ext cx="1488960" cy="13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390400" y="2849760"/>
              <a:ext cx="209880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96840" y="3252960"/>
              <a:ext cx="169236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61840" y="3119400"/>
              <a:ext cx="182736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25400" y="2984760"/>
              <a:ext cx="1963800" cy="33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45920" y="3925800"/>
              <a:ext cx="297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Inside Organiz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11280" y="4518000"/>
              <a:ext cx="2060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Globally valid IP address (G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5571720" y="3522600"/>
              <a:ext cx="0" cy="107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23720" y="2021040"/>
              <a:ext cx="1973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Narrow"/>
                </a:rPr>
                <a:t>Uses many private IP addres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2880" y="2716200"/>
              <a:ext cx="40608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5D77D-4B23-4106-A820-E6F0E5BBE4F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22:11:22Z</dcterms:created>
  <dc:creator>L. Richard Ye</dc:creator>
  <dc:description/>
  <dc:language>en-US</dc:language>
  <cp:lastModifiedBy> </cp:lastModifiedBy>
  <dcterms:modified xsi:type="dcterms:W3CDTF">2004-12-15T06:47:00Z</dcterms:modified>
  <cp:revision>107</cp:revision>
  <dc:subject/>
  <dc:title>IP Address Management: NAT, DHCP, and DNS</dc:title>
</cp:coreProperties>
</file>