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FEC9-E300-4451-9C99-EA117A4A6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960" y="3718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ED57-D027-437D-BF35-13FE35882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096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800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0DAF-7901-4BD6-9808-8B76543D4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584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096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584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2839-1584-4C3C-BD61-3AAA2DDBC1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80F9-1BC9-4EAD-AA06-42CD8BD60A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8038-2981-4C31-9200-D720FEA73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1CDD-BE12-4020-822A-272105EF4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A3F4-21B9-4928-A3D8-142AC9C92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6C76-3293-4088-A064-E96D24781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096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800B-17A8-4EF7-B1A1-C0EF5D9E6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800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504F-7141-4AE7-9661-6F829B01C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0960" y="3718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5753-FCC8-4B8B-A6E4-92FA597C3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24280" indent="-224280"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586800" indent="-272160">
              <a:spcBef>
                <a:spcPts val="174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2" marL="1035720" indent="-270720">
              <a:spcBef>
                <a:spcPts val="1749"/>
              </a:spcBef>
              <a:buClr>
                <a:srgbClr val="3366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3" marL="1306800" indent="-180360">
              <a:spcBef>
                <a:spcPts val="17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4" marL="1625040" indent="-180360"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5" marL="1625040" indent="-180360"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6" marL="1625040" indent="-180360"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87720" y="61592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F24C-6A18-49F4-BFB9-97B0F5870A8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Narrow"/>
              </a:rPr>
              <a:t>Ch. 21: Client-Server Model</a:t>
            </a:r>
            <a:br>
              <a:rPr sz="4400"/>
            </a:br>
            <a:br>
              <a:rPr sz="1200"/>
            </a:br>
            <a:r>
              <a:rPr b="0" lang="en-US" sz="4400" spc="-1" strike="noStrike">
                <a:solidFill>
                  <a:srgbClr val="3333cc"/>
                </a:solidFill>
                <a:latin typeface="Arial Narrow"/>
              </a:rPr>
              <a:t>Ch. 22: Socket interface</a:t>
            </a:r>
            <a:br>
              <a:rPr sz="4400"/>
            </a:br>
            <a:br>
              <a:rPr sz="1200"/>
            </a:br>
            <a:r>
              <a:rPr b="0" lang="en-US" sz="4400" spc="-1" strike="noStrike">
                <a:solidFill>
                  <a:srgbClr val="3333cc"/>
                </a:solidFill>
                <a:latin typeface="Arial Narrow"/>
              </a:rPr>
              <a:t>Ch. 24: Domain Name System</a:t>
            </a:r>
            <a:endParaRPr b="0" lang="en-US" sz="4400" spc="-1" strike="noStrike">
              <a:solidFill>
                <a:srgbClr val="3366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Second-Level Domain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2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Internet authority – Network Information Center (NIC) must be informed of the second-level domain name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NIC must be given IP addresses of at least two DNS servers for the domain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Additional DNS servers can be used independent of the Internet authority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Narrow"/>
              </a:rPr>
              <a:t>Domain Names within an Organization</a:t>
            </a:r>
            <a:endParaRPr b="0" lang="en-US" sz="40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57280" y="1265400"/>
            <a:ext cx="7988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Given a second-level domain name, an organization has complete authority over its lower level structur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x.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s.purdue.edu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xinu.ecn.purdue.edu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38480" y="1346040"/>
            <a:ext cx="4711680" cy="2351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Name Servers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57000"/>
            <a:ext cx="394956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tain network address inform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rward name reques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"/>
          <p:cNvSpPr/>
          <p:nvPr/>
        </p:nvSpPr>
        <p:spPr>
          <a:xfrm>
            <a:off x="455760" y="3919680"/>
            <a:ext cx="687060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rouped by geographic zones or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ses UDP first fo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ses TCP if return data is trun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36160"/>
            <a:ext cx="8407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Narrow"/>
              </a:rPr>
              <a:t>Name Resolution: Recursive Queries</a:t>
            </a:r>
            <a:endParaRPr b="0" lang="en-US" sz="4400" spc="-1" strike="noStrike">
              <a:solidFill>
                <a:srgbClr val="3366ff"/>
              </a:solidFill>
              <a:latin typeface="Arial Narrow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22480" y="1552680"/>
            <a:ext cx="7070760" cy="4057560"/>
            <a:chOff x="1122480" y="1552680"/>
            <a:chExt cx="7070760" cy="405756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1122480" y="1552680"/>
              <a:ext cx="707076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571840" y="3838680"/>
              <a:ext cx="135000" cy="83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19520" y="3859200"/>
              <a:ext cx="21096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05240" y="4440240"/>
              <a:ext cx="21096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641680" y="3836520"/>
              <a:ext cx="0" cy="8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92600" y="4108320"/>
              <a:ext cx="88920" cy="5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16360" y="3863880"/>
              <a:ext cx="0" cy="78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Iterative Query Steps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0960" y="127800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0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NS Resolver on client sends a recursive query to local DNS server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0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cal server checks zone, sends iterative query to root DNS server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0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ot server returns top-level DNS server’s IP addres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0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cal server sends iterative query to top-level server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0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p-level server returns second-level DNS server’s IP addres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0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cal server sends iterative query to second-level name server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0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-level server returns IP address of DNS query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0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cal server returns address to Resolver on client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Name Caching and Time to Live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35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1160" indent="-28116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Name server caches all name-address bindings it receives from other server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1160" indent="-28116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All cache entries are kept for the duration of Time to Live (TTL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1160" indent="-28116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The TTL is specified by the authoritative sourc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1160" indent="-28116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aching makes DNS service fast and effici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Name Caching in Hosts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35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t startup, a host downloads all name-address mappings from the local name server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Client-Server Model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Natural extension of interprocess communication on single machin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erver: program (machine) offers service reached over network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ent: program sends request to server and waits for response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Client-Server Model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spcBef>
                <a:spcPts val="901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Time-of-day server: returns current tim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spcBef>
                <a:spcPts val="901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eb server: receives requests from browser and returns copy of Web pag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Simple Example: UDP Echo Server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sed to determine if remote machine reacha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DP echo server uses reserved port (echo por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rver waits for datagram to arrive at echo port, and returns datagram to original send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DP echo client allocates unused port, sends UDP message to server, and waits reply (same data sen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Socket API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600" y="1353600"/>
            <a:ext cx="8094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69640" indent="-269640">
              <a:lnSpc>
                <a:spcPct val="9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terface between application programs and TCP/IP protoco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69640" indent="-269640">
              <a:lnSpc>
                <a:spcPct val="9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milar to file access mechanis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69640" indent="-269640">
              <a:lnSpc>
                <a:spcPct val="9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pplication program requests OS to create socket, OS returns socket descriptor (small integer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69640" indent="-269640">
              <a:lnSpc>
                <a:spcPct val="9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ocket descriptor bound to specific destination addr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69640" indent="-269640">
              <a:lnSpc>
                <a:spcPct val="9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pplication program uses created socket to send and receive da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Socket Library Calls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49" name=""/>
          <p:cNvSpPr/>
          <p:nvPr/>
        </p:nvSpPr>
        <p:spPr>
          <a:xfrm>
            <a:off x="1249200" y="2349360"/>
            <a:ext cx="6708960" cy="135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35160" y="3900600"/>
            <a:ext cx="6723000" cy="99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2600" y="2548080"/>
            <a:ext cx="28717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3440" y="3035160"/>
            <a:ext cx="3108600" cy="4510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76720" y="2913120"/>
            <a:ext cx="649440" cy="314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2925720"/>
            <a:ext cx="0" cy="12715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54640" y="3398760"/>
            <a:ext cx="0" cy="8492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2600" y="4241880"/>
            <a:ext cx="39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in Computer’s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60520" y="25876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8440" y="3067200"/>
            <a:ext cx="25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y Routin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22600" y="19368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plication program bound with library routines it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Socket API Functions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socket()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– create socke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bind()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– bind socket to address/por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connect()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– connect socket to remote hos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send()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– send data through socke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recv()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– receive data through socke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setsockopt()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– set socket option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6400" y="202680"/>
            <a:ext cx="86612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Domain Name System (DNS)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7680" y="1265400"/>
            <a:ext cx="803592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ymbolic naming hierarchy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4520" indent="-34452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DNS servers provide necessary name-to-address transla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4520" indent="-34452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DNS client (name resolver) uses one or more DNS servers when translating a nam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Narrow"/>
              </a:rPr>
              <a:t>The Hierarchy of Domain Name Space</a:t>
            </a:r>
            <a:endParaRPr b="0" lang="en-US" sz="4000" spc="-1" strike="noStrike">
              <a:solidFill>
                <a:srgbClr val="3366ff"/>
              </a:solidFill>
              <a:latin typeface="Arial Narrow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03440" y="1282680"/>
            <a:ext cx="7912080" cy="4130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09880" y="5716440"/>
            <a:ext cx="69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The hierarchy can be organizational or geograp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2:11:22Z</dcterms:created>
  <dc:creator>L. Richard Ye</dc:creator>
  <dc:description/>
  <dc:language>en-US</dc:language>
  <cp:lastModifiedBy> </cp:lastModifiedBy>
  <dcterms:modified xsi:type="dcterms:W3CDTF">2004-12-08T01:33:03Z</dcterms:modified>
  <cp:revision>102</cp:revision>
  <dc:subject/>
  <dc:title>IP Address Management: NAT, DHCP, and DNS</dc:title>
</cp:coreProperties>
</file>