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6E885-FC0B-48A0-8493-C3E34B2F1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0960" y="13536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0960" y="3718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2E42B-C102-416C-AF37-B64C72A099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096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800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0960" y="3718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98000" y="3718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6346A-D182-4A35-8C94-96924CC0E6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0960" y="13536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13536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5840" y="13536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0960" y="3718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18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5840" y="3718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263CD-93A4-4660-8A7C-F3894EE8EB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0960" y="13536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5D98B-6700-422B-AB1A-F979654C72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0960" y="13536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15612-18F0-401B-AE28-AA6DE2488E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0960" y="13536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98000" y="13536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7849F-EE3F-4A05-9058-525020B6B8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43D23-3C37-459E-8843-11710361B7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67FAE-6DE9-4AF4-B4C6-31211D423A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096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8000" y="13536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0960" y="3718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D574F-5594-457B-97A5-47DD38A729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0960" y="13536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800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98000" y="3718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4E222-D208-4C62-92A7-EFC907EA24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096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800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0960" y="3718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415CA-E047-436D-BBD5-487C2374D4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0960" y="13536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24280" indent="-224280">
              <a:spcBef>
                <a:spcPts val="1749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1" marL="586800" indent="-272160">
              <a:spcBef>
                <a:spcPts val="1749"/>
              </a:spcBef>
              <a:buClr>
                <a:srgbClr val="3366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2" marL="1035720" indent="-270720">
              <a:spcBef>
                <a:spcPts val="1749"/>
              </a:spcBef>
              <a:buClr>
                <a:srgbClr val="3366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3" marL="1306800" indent="-180360">
              <a:spcBef>
                <a:spcPts val="174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4" marL="1625040" indent="-180360">
              <a:spcBef>
                <a:spcPts val="174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5" marL="1625040" indent="-180360">
              <a:spcBef>
                <a:spcPts val="174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6" marL="1625040" indent="-180360">
              <a:spcBef>
                <a:spcPts val="174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687720" y="61592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369F-ACAA-4FBA-8856-A09A1D3293B4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1200" y="345600"/>
            <a:ext cx="77724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ff"/>
                </a:solidFill>
                <a:latin typeface="Arial Narrow"/>
              </a:rPr>
              <a:t>Chapters 3 - 4</a:t>
            </a:r>
            <a:endParaRPr b="0" lang="en-US" sz="54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40" name=""/>
          <p:cNvSpPr/>
          <p:nvPr/>
        </p:nvSpPr>
        <p:spPr>
          <a:xfrm>
            <a:off x="466560" y="1730520"/>
            <a:ext cx="8229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4640" indent="-404640">
              <a:lnSpc>
                <a:spcPct val="100000"/>
              </a:lnSpc>
              <a:spcBef>
                <a:spcPts val="1749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Internetworking Concept &amp;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00000"/>
              </a:lnSpc>
              <a:spcBef>
                <a:spcPts val="1749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Classful Internet Addr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C9D09-2531-4D1F-9318-83E9C40609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0720" y="37440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IPv4 Logical Addresses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0520" y="1531440"/>
            <a:ext cx="8077320" cy="468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spcBef>
                <a:spcPts val="1576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Each host on TCP/IP internet assigned </a:t>
            </a:r>
            <a:r>
              <a:rPr b="0" lang="en-US" sz="3600" spc="-1" strike="noStrike">
                <a:solidFill>
                  <a:srgbClr val="ff3300"/>
                </a:solidFill>
                <a:latin typeface="Arial Narrow"/>
              </a:rPr>
              <a:t>unique 32-bit integer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IP address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spcBef>
                <a:spcPts val="1576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IP address encodes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344520">
              <a:spcBef>
                <a:spcPts val="799"/>
              </a:spcBef>
              <a:buClr>
                <a:srgbClr val="3366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dentification of </a:t>
            </a:r>
            <a:r>
              <a:rPr b="0" i="1" lang="en-US" sz="3200" spc="-1" strike="noStrike">
                <a:solidFill>
                  <a:srgbClr val="3366ff"/>
                </a:solidFill>
                <a:latin typeface="Arial Narrow"/>
              </a:rPr>
              <a:t>network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to which host attaches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344520">
              <a:spcBef>
                <a:spcPts val="799"/>
              </a:spcBef>
              <a:buClr>
                <a:srgbClr val="3366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dentification of unique </a:t>
            </a:r>
            <a:r>
              <a:rPr b="0" i="1" lang="en-US" sz="3200" spc="-1" strike="noStrike">
                <a:solidFill>
                  <a:srgbClr val="3366ff"/>
                </a:solidFill>
                <a:latin typeface="Arial Narrow"/>
              </a:rPr>
              <a:t>host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on that networ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spcBef>
                <a:spcPts val="1576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IP address = </a:t>
            </a:r>
            <a:r>
              <a:rPr b="0" lang="en-US" sz="3600" spc="-1" strike="noStrike">
                <a:solidFill>
                  <a:srgbClr val="ff3300"/>
                </a:solidFill>
                <a:latin typeface="Arial Narrow"/>
              </a:rPr>
              <a:t>(netid, hostid)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56058-3F96-48D7-891F-F8B87A47202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057400" y="4759200"/>
            <a:ext cx="6699240" cy="4446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6800" y="3790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Classful Internet Addresses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135" name=""/>
          <p:cNvSpPr/>
          <p:nvPr/>
        </p:nvSpPr>
        <p:spPr>
          <a:xfrm>
            <a:off x="2063880" y="2006640"/>
            <a:ext cx="6692760" cy="4446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63880" y="2730600"/>
            <a:ext cx="6692760" cy="4442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63880" y="3422520"/>
            <a:ext cx="6692760" cy="4446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63880" y="4118040"/>
            <a:ext cx="6692760" cy="4446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4120" y="273060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72000" y="20066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01000" y="342252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15720" y="1577880"/>
            <a:ext cx="75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0 1 2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03440" y="1577880"/>
            <a:ext cx="492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7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44120" y="1577880"/>
            <a:ext cx="388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920640" y="1577880"/>
            <a:ext cx="388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498520" y="1577880"/>
            <a:ext cx="388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12840" y="2048040"/>
            <a:ext cx="273240" cy="363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1400" y="2031840"/>
            <a:ext cx="68148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22200" y="2031840"/>
            <a:ext cx="80928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os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15720" y="2771640"/>
            <a:ext cx="440640" cy="363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92440" y="2755800"/>
            <a:ext cx="68148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57480" y="2755800"/>
            <a:ext cx="80928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os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21480" y="3462480"/>
            <a:ext cx="595800" cy="363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49400" y="3435480"/>
            <a:ext cx="68148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89160" y="3448080"/>
            <a:ext cx="80928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os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00240" y="4159080"/>
            <a:ext cx="863640" cy="363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53160" y="4129200"/>
            <a:ext cx="220176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ulticast 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71800" y="4800600"/>
            <a:ext cx="1100160" cy="363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 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31840" y="4797360"/>
            <a:ext cx="2455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served for futur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19200" y="200340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54200" y="27273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06840" y="342252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9400" y="411480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05280" y="4762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6880" y="2003400"/>
            <a:ext cx="1041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2725560"/>
            <a:ext cx="1041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ass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7240" y="3417840"/>
            <a:ext cx="1054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ass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7240" y="4114800"/>
            <a:ext cx="1054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ass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6880" y="4756320"/>
            <a:ext cx="1041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ass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ED9BB-8384-42EA-9D1A-8B35A4CDA41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Class A Addresses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80960" y="1170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90000"/>
              </a:lnSpc>
              <a:spcBef>
                <a:spcPts val="1400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pressed in binary form (ones and zeroes only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lnSpc>
                <a:spcPct val="90000"/>
              </a:lnSpc>
              <a:spcBef>
                <a:spcPts val="1400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ass A addresses take the form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Narrow"/>
              </a:rPr>
              <a:t>    </a:t>
            </a:r>
            <a:r>
              <a:rPr b="0" i="1" lang="en-US" sz="3200" spc="-1" strike="noStrike">
                <a:solidFill>
                  <a:srgbClr val="ff3300"/>
                </a:solidFill>
                <a:latin typeface="Arial Narrow"/>
              </a:rPr>
              <a:t>0</a:t>
            </a:r>
            <a:r>
              <a:rPr b="0" i="1" lang="en-US" sz="3200" spc="-1" strike="noStrike">
                <a:solidFill>
                  <a:srgbClr val="3366ff"/>
                </a:solidFill>
                <a:latin typeface="Arial Narrow"/>
              </a:rPr>
              <a:t>nnnnnnn.</a:t>
            </a:r>
            <a:r>
              <a:rPr b="0" i="1" lang="en-US" sz="3200" spc="-1" strike="noStrike">
                <a:solidFill>
                  <a:srgbClr val="009999"/>
                </a:solidFill>
                <a:latin typeface="Arial Narrow"/>
              </a:rPr>
              <a:t>hhhhhhhh.hhhhhhhh.hhhhhhhh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lnSpc>
                <a:spcPct val="90000"/>
              </a:lnSpc>
              <a:spcBef>
                <a:spcPts val="2001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P addresses consisting of all zeroes and all ones reserved for special us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lnSpc>
                <a:spcPct val="90000"/>
              </a:lnSpc>
              <a:spcBef>
                <a:spcPts val="2001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f 128 possible Class A network addresses (</a:t>
            </a:r>
            <a:r>
              <a:rPr b="0" i="1" lang="en-US" sz="3200" spc="-1" strike="noStrike">
                <a:solidFill>
                  <a:srgbClr val="3366ff"/>
                </a:solidFill>
                <a:latin typeface="Arial Narrow"/>
              </a:rPr>
              <a:t>netid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), only those from 00000001 to 01111110 (or 1 to 126) considered usab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9B2BA-5D72-4A23-9D5D-E09CE4B43C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Private Class A Addresses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80960" y="135360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1576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Address </a:t>
            </a:r>
            <a:r>
              <a:rPr b="0" i="1" lang="en-US" sz="3600" spc="-1" strike="noStrike">
                <a:solidFill>
                  <a:srgbClr val="000000"/>
                </a:solidFill>
                <a:latin typeface="Arial Narrow"/>
              </a:rPr>
              <a:t>127.</a:t>
            </a:r>
            <a:r>
              <a:rPr b="0" i="1" lang="en-US" sz="3600" spc="-1" strike="noStrike">
                <a:solidFill>
                  <a:srgbClr val="009999"/>
                </a:solidFill>
                <a:latin typeface="Arial Narrow"/>
              </a:rPr>
              <a:t>x.x.x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reserved for</a:t>
            </a:r>
            <a:r>
              <a:rPr b="0" lang="en-US" sz="3600" spc="-1" strike="noStrike">
                <a:solidFill>
                  <a:srgbClr val="009999"/>
                </a:solidFill>
                <a:latin typeface="Arial Narrow"/>
              </a:rPr>
              <a:t> </a:t>
            </a:r>
            <a:r>
              <a:rPr b="0" lang="en-US" sz="3600" spc="-1" strike="noStrike">
                <a:solidFill>
                  <a:srgbClr val="3366ff"/>
                </a:solidFill>
                <a:latin typeface="Arial Narrow"/>
              </a:rPr>
              <a:t>loopback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spcBef>
                <a:spcPts val="1576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Used for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344520">
              <a:spcBef>
                <a:spcPts val="799"/>
              </a:spcBef>
              <a:buClr>
                <a:srgbClr val="3366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esting TCP/IP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344520">
              <a:spcBef>
                <a:spcPts val="799"/>
              </a:spcBef>
              <a:buClr>
                <a:srgbClr val="3366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ter-process communication on local compute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0E5EC-E263-476F-A408-286E50A279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Address Classes B and C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80960" y="13536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1576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Class B addresses take the form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i="1" lang="en-US" sz="3200" spc="-1" strike="noStrike">
                <a:solidFill>
                  <a:srgbClr val="ff3300"/>
                </a:solidFill>
                <a:latin typeface="Arial Narrow"/>
              </a:rPr>
              <a:t>10</a:t>
            </a:r>
            <a:r>
              <a:rPr b="0" i="1" lang="en-US" sz="3200" spc="-1" strike="noStrike">
                <a:solidFill>
                  <a:srgbClr val="3366ff"/>
                </a:solidFill>
                <a:latin typeface="Arial Narrow"/>
              </a:rPr>
              <a:t>nnnnnn.nnnnnnnn.</a:t>
            </a:r>
            <a:r>
              <a:rPr b="0" i="1" lang="en-US" sz="3200" spc="-1" strike="noStrike">
                <a:solidFill>
                  <a:srgbClr val="009999"/>
                </a:solidFill>
                <a:latin typeface="Arial Narrow"/>
              </a:rPr>
              <a:t>hhhhhhhh.hhhhhhhh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spcBef>
                <a:spcPts val="2251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Class C addresses take the form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Narrow"/>
              </a:rPr>
              <a:t>     </a:t>
            </a:r>
            <a:r>
              <a:rPr b="0" i="1" lang="en-US" sz="3200" spc="-1" strike="noStrike">
                <a:solidFill>
                  <a:srgbClr val="ff3300"/>
                </a:solidFill>
                <a:latin typeface="Arial Narrow"/>
              </a:rPr>
              <a:t>110</a:t>
            </a:r>
            <a:r>
              <a:rPr b="0" i="1" lang="en-US" sz="3200" spc="-1" strike="noStrike">
                <a:solidFill>
                  <a:srgbClr val="3366ff"/>
                </a:solidFill>
                <a:latin typeface="Arial Narrow"/>
              </a:rPr>
              <a:t>nnnnn.nnnnnnnn.nnnnnnnn.</a:t>
            </a:r>
            <a:r>
              <a:rPr b="0" i="1" lang="en-US" sz="3200" spc="-1" strike="noStrike">
                <a:solidFill>
                  <a:srgbClr val="009999"/>
                </a:solidFill>
                <a:latin typeface="Arial Narrow"/>
              </a:rPr>
              <a:t>hhhhhhhh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4C60D-4AA8-4664-A4FE-01EE1C6637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Address Classes D and E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80960" y="13536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75400" indent="-275400">
              <a:lnSpc>
                <a:spcPct val="90000"/>
              </a:lnSpc>
              <a:spcBef>
                <a:spcPts val="2401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ass D addresses always take the form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 Narrow"/>
              </a:rPr>
              <a:t>1110</a:t>
            </a:r>
            <a:r>
              <a:rPr b="0" i="1" lang="en-US" sz="2800" spc="-1" strike="noStrike">
                <a:solidFill>
                  <a:srgbClr val="3366ff"/>
                </a:solidFill>
                <a:latin typeface="Arial Narrow"/>
              </a:rPr>
              <a:t>bbbb.bbbbbbbb.bbbbbbbb.bbbbbbbb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5400" indent="-275400">
              <a:lnSpc>
                <a:spcPct val="90000"/>
              </a:lnSpc>
              <a:spcBef>
                <a:spcPts val="2401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ass E addresses always take the form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 Narrow"/>
              </a:rPr>
              <a:t>11110</a:t>
            </a:r>
            <a:r>
              <a:rPr b="0" i="1" lang="en-US" sz="2800" spc="-1" strike="noStrike">
                <a:solidFill>
                  <a:srgbClr val="3366ff"/>
                </a:solidFill>
                <a:latin typeface="Arial Narrow"/>
              </a:rPr>
              <a:t>bbb.bbbbbbbb.bbbbbbbb.bbbbbbbbb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5400" indent="-275400">
              <a:lnSpc>
                <a:spcPct val="90000"/>
              </a:lnSpc>
              <a:spcBef>
                <a:spcPts val="2401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 Narrow"/>
              </a:rPr>
              <a:t>Class D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is used for </a:t>
            </a:r>
            <a:r>
              <a:rPr b="0" lang="en-US" sz="3200" spc="-1" strike="noStrike">
                <a:solidFill>
                  <a:srgbClr val="008080"/>
                </a:solidFill>
                <a:latin typeface="Arial Narrow"/>
              </a:rPr>
              <a:t>multicast address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1440">
              <a:lnSpc>
                <a:spcPct val="90000"/>
              </a:lnSpc>
              <a:spcBef>
                <a:spcPts val="2100"/>
              </a:spcBef>
              <a:buClr>
                <a:srgbClr val="3366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ultiple users “share” single IP address and receive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ame packet across network from single transmiss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09FF1-3BD5-436B-ADAD-35991A8546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IP Network Address Space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861840" y="1353960"/>
          <a:ext cx="7380360" cy="4313520"/>
        </p:xfrm>
        <a:graphic>
          <a:graphicData uri="http://schemas.openxmlformats.org/drawingml/2006/table">
            <a:tbl>
              <a:tblPr/>
              <a:tblGrid>
                <a:gridCol w="1086120"/>
                <a:gridCol w="2995560"/>
                <a:gridCol w="3298680"/>
              </a:tblGrid>
              <a:tr h="71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66ff"/>
                          </a:solidFill>
                          <a:latin typeface="Arial Narrow"/>
                        </a:rPr>
                        <a:t>Clas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576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66ff"/>
                          </a:solidFill>
                          <a:latin typeface="Arial Narrow"/>
                        </a:rPr>
                        <a:t>Lowest Addres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36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66ff"/>
                          </a:solidFill>
                          <a:latin typeface="Arial Narrow"/>
                        </a:rPr>
                        <a:t>Highest Addres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576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.0.0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36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148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6.0.0.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148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576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8.1.0.0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36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148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1.255.0.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148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576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2.0.1.0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36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148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3.255.255.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148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576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4.0.0.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36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148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9.255.255.25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148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576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0.0.0.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36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148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5.255.255.25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148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E68AE-915E-4547-BE87-DB62EF731E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7240" y="380880"/>
            <a:ext cx="85201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ff"/>
                </a:solidFill>
                <a:latin typeface="Arial Narrow"/>
              </a:rPr>
              <a:t>Using Network and Host Portions of IP Address</a:t>
            </a:r>
            <a:endParaRPr b="0" lang="en-US" sz="3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39560" y="1616040"/>
            <a:ext cx="822960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110000"/>
              </a:lnSpc>
              <a:spcBef>
                <a:spcPts val="4051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Router uses network portion (</a:t>
            </a:r>
            <a:r>
              <a:rPr b="0" i="1" lang="en-US" sz="3600" spc="-1" strike="noStrike">
                <a:solidFill>
                  <a:srgbClr val="3366ff"/>
                </a:solidFill>
                <a:latin typeface="Arial Narrow"/>
              </a:rPr>
              <a:t>netid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) when forwarding packet from source host’s network to destination host’s network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lnSpc>
                <a:spcPct val="110000"/>
              </a:lnSpc>
              <a:spcBef>
                <a:spcPts val="2251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Host portion (</a:t>
            </a:r>
            <a:r>
              <a:rPr b="0" i="1" lang="en-US" sz="3600" spc="-1" strike="noStrike">
                <a:solidFill>
                  <a:srgbClr val="3366ff"/>
                </a:solidFill>
                <a:latin typeface="Arial Narrow"/>
              </a:rPr>
              <a:t>hostid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) used when packet reaches router attached to final network where destination host reside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0E140-191D-4B76-925F-1BD196B24B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27200" y="331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Special IP Addresses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72840" y="1507680"/>
            <a:ext cx="79707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spcBef>
                <a:spcPts val="1576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IP address with hostid all 0’s refers to network itself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spcBef>
                <a:spcPts val="1576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 Narrow"/>
              </a:rPr>
              <a:t>Directed broadcast address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refers to all hosts on network with hostid all 1’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spcBef>
                <a:spcPts val="1576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Narrow"/>
              </a:rPr>
              <a:t>Limited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Arial Narrow"/>
              </a:rPr>
              <a:t>broadcast address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(all 32 bits 1’s) may be used in startup process to learn host’s or network’s IP addres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C94F8-F0F0-4316-8311-6E0B8CB55AA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21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Special IP Addresses Summary 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162080" y="1727280"/>
            <a:ext cx="7087320" cy="3289320"/>
            <a:chOff x="1162080" y="1727280"/>
            <a:chExt cx="7087320" cy="3289320"/>
          </a:xfrm>
        </p:grpSpPr>
        <p:sp>
          <p:nvSpPr>
            <p:cNvPr id="186" name=""/>
            <p:cNvSpPr/>
            <p:nvPr/>
          </p:nvSpPr>
          <p:spPr>
            <a:xfrm>
              <a:off x="1162080" y="1727280"/>
              <a:ext cx="379728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62080" y="2489400"/>
              <a:ext cx="379728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62080" y="3175200"/>
              <a:ext cx="379728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62080" y="3861000"/>
              <a:ext cx="379728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62080" y="4572360"/>
              <a:ext cx="3797280" cy="44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80920" y="1752840"/>
              <a:ext cx="760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Arial Narrow"/>
                </a:rPr>
                <a:t>all 0’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00840" y="1752840"/>
              <a:ext cx="1110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This h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08080" y="248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32160" y="2509920"/>
              <a:ext cx="623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 Narrow"/>
                </a:rPr>
                <a:t>h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99040" y="2514960"/>
              <a:ext cx="1761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Host on this n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50320" y="3200760"/>
              <a:ext cx="818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Arial Narrow"/>
                </a:rPr>
                <a:t>all  1’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96880" y="3205440"/>
              <a:ext cx="3026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Limited broadcast (local ne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908080" y="38610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80200" y="3864240"/>
              <a:ext cx="495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 Narrow"/>
                </a:rPr>
                <a:t>n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349080" y="3886560"/>
              <a:ext cx="818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 Narrow"/>
                </a:rPr>
                <a:t>all  1’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99040" y="3886560"/>
              <a:ext cx="2781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irected broadcast for n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070000" y="457236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93840" y="4597560"/>
              <a:ext cx="52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80"/>
                  </a:solidFill>
                  <a:latin typeface="Arial Narrow"/>
                </a:rPr>
                <a:t>12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92280" y="4597560"/>
              <a:ext cx="1937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80"/>
                  </a:solidFill>
                  <a:latin typeface="Arial Narrow"/>
                </a:rPr>
                <a:t>anything (often 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85360" y="4569120"/>
              <a:ext cx="3164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Loop-back address (127.0.0.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28720" y="2513160"/>
              <a:ext cx="760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 Narrow"/>
                </a:rPr>
                <a:t>all 0’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03BA8-1D97-4D73-81B9-2D78828C198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Internetworking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80960" y="126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Interconnect heterogeneous network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spcBef>
                <a:spcPts val="1749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Scheme hides details of underlying network hardware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0CF47-26F2-4884-B259-167F0208B8C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Narrow"/>
              </a:rPr>
              <a:t>Example of IP addressing</a:t>
            </a:r>
            <a:endParaRPr b="0" lang="en-US" sz="44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>
            <a:off x="828720" y="18511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93920" y="2612880"/>
            <a:ext cx="301680" cy="3049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32440" y="2143080"/>
            <a:ext cx="1600200" cy="1447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486320" y="4441680"/>
            <a:ext cx="3657600" cy="1067040"/>
          </a:xfrm>
          <a:prstGeom prst="irregularSeal1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34240" y="3908520"/>
            <a:ext cx="304560" cy="3045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00320" y="18511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00320" y="2765520"/>
            <a:ext cx="99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95600" y="276552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86520" y="3564000"/>
            <a:ext cx="0" cy="34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6520" y="4213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12520" y="148104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thernet  131.108.0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276640" y="284148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51680" y="330984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131.108.99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876480" y="284148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09080" y="330984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223.240.129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96520" y="2509920"/>
            <a:ext cx="15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oken 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223.240.129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126120" y="3527280"/>
            <a:ext cx="798480" cy="21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909480" y="3233880"/>
            <a:ext cx="16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223.240.129.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48440" y="4213080"/>
            <a:ext cx="8380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218840" y="406224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78.0.0.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537520" y="4757760"/>
            <a:ext cx="14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AN 78.0.0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76640" y="2243160"/>
            <a:ext cx="44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24400" y="3843360"/>
            <a:ext cx="44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17560" y="2195640"/>
            <a:ext cx="380880" cy="30456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06560" y="185580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3080" y="258768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131.108.2.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65880" y="5648400"/>
            <a:ext cx="380880" cy="304560"/>
          </a:xfrm>
          <a:prstGeom prst="rect">
            <a:avLst/>
          </a:prstGeom>
          <a:solidFill>
            <a:srgbClr val="cc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39040" y="530856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639840" y="6014880"/>
            <a:ext cx="12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78.0.81.1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46120" y="4892760"/>
            <a:ext cx="356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uter has two or more physical connections, called multi-homed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861B1-9DB6-4420-B3DF-FD7B09502A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5640" y="2170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Approaches to Hiding Heterogeneity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79600" y="1201680"/>
            <a:ext cx="8107200" cy="514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spcBef>
                <a:spcPts val="1749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Using application program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344520">
              <a:spcBef>
                <a:spcPts val="799"/>
              </a:spcBef>
              <a:buClr>
                <a:srgbClr val="3366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pplication level program executes on each machine in networ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344520">
              <a:spcBef>
                <a:spcPts val="799"/>
              </a:spcBef>
              <a:buClr>
                <a:srgbClr val="3366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ach program can inter-operate with application programs on other compute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344520">
              <a:spcBef>
                <a:spcPts val="799"/>
              </a:spcBef>
              <a:buClr>
                <a:srgbClr val="3366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.g., mailer programs forward mails from machines one-at-a-time with path involving many different network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D287C-39A4-4591-B790-E7477266B37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63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Approaches to Hiding Heterogeneity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5920" y="1091880"/>
            <a:ext cx="8148600" cy="25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6760" indent="-266760">
              <a:spcBef>
                <a:spcPts val="1749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Network Level Approach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323640">
              <a:spcBef>
                <a:spcPts val="799"/>
              </a:spcBef>
              <a:buClr>
                <a:srgbClr val="3366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parates data communication from application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323640">
              <a:spcBef>
                <a:spcPts val="799"/>
              </a:spcBef>
              <a:buClr>
                <a:srgbClr val="3366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ncentrates on moving small packets across networ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"/>
          <p:cNvSpPr/>
          <p:nvPr/>
        </p:nvSpPr>
        <p:spPr>
          <a:xfrm>
            <a:off x="1544760" y="3825720"/>
            <a:ext cx="2120760" cy="44460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44760" y="4587840"/>
            <a:ext cx="2120760" cy="825480"/>
          </a:xfrm>
          <a:prstGeom prst="roundRect">
            <a:avLst>
              <a:gd name="adj" fmla="val 1249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0320" y="5756400"/>
            <a:ext cx="749520" cy="29196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51040" y="5756400"/>
            <a:ext cx="749160" cy="2919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41760" y="5756400"/>
            <a:ext cx="749160" cy="29196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32120" y="5756400"/>
            <a:ext cx="749520" cy="291960"/>
          </a:xfrm>
          <a:prstGeom prst="rect">
            <a:avLst/>
          </a:prstGeom>
          <a:solidFill>
            <a:srgbClr val="cc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13840" y="3805200"/>
            <a:ext cx="152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0400" y="5492880"/>
            <a:ext cx="3870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verse underlying physical networks connected by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18520" y="4567320"/>
            <a:ext cx="45417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ew software hides low-level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d makes it a single universal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4795920"/>
            <a:ext cx="10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80409-E804-400A-BACC-3C907DC4B30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Internet Architecture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366920" y="1316160"/>
            <a:ext cx="6616080" cy="1195920"/>
            <a:chOff x="1366920" y="1316160"/>
            <a:chExt cx="6616080" cy="1195920"/>
          </a:xfrm>
        </p:grpSpPr>
        <p:sp>
          <p:nvSpPr>
            <p:cNvPr id="59" name=""/>
            <p:cNvSpPr/>
            <p:nvPr/>
          </p:nvSpPr>
          <p:spPr>
            <a:xfrm>
              <a:off x="1366920" y="1316160"/>
              <a:ext cx="977760" cy="977760"/>
            </a:xfrm>
            <a:custGeom>
              <a:avLst/>
              <a:gdLst>
                <a:gd name="textAreaLeft" fmla="*/ 223200 w 977760"/>
                <a:gd name="textAreaRight" fmla="*/ 754560 w 977760"/>
                <a:gd name="textAreaTop" fmla="*/ 223200 h 977760"/>
                <a:gd name="textAreaBottom" fmla="*/ 754560 h 97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262400" y="1392120"/>
              <a:ext cx="977400" cy="977400"/>
            </a:xfrm>
            <a:custGeom>
              <a:avLst/>
              <a:gdLst>
                <a:gd name="textAreaLeft" fmla="*/ 223200 w 977400"/>
                <a:gd name="textAreaRight" fmla="*/ 754200 w 977400"/>
                <a:gd name="textAreaTop" fmla="*/ 223200 h 977400"/>
                <a:gd name="textAreaBottom" fmla="*/ 754200 h 97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005600" y="1316160"/>
              <a:ext cx="977400" cy="977760"/>
            </a:xfrm>
            <a:custGeom>
              <a:avLst/>
              <a:gdLst>
                <a:gd name="textAreaLeft" fmla="*/ 223200 w 977400"/>
                <a:gd name="textAreaRight" fmla="*/ 754200 w 977400"/>
                <a:gd name="textAreaTop" fmla="*/ 223200 h 977760"/>
                <a:gd name="textAreaBottom" fmla="*/ 754560 h 97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2" name=""/>
            <p:cNvGraphicFramePr/>
            <p:nvPr/>
          </p:nvGraphicFramePr>
          <p:xfrm>
            <a:off x="2776320" y="1538280"/>
            <a:ext cx="1022040" cy="472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76320" y="1538280"/>
                      <a:ext cx="1022040" cy="47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" name=""/>
            <p:cNvGraphicFramePr/>
            <p:nvPr/>
          </p:nvGraphicFramePr>
          <p:xfrm>
            <a:off x="5595840" y="1614240"/>
            <a:ext cx="1022040" cy="472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95840" y="1614240"/>
                      <a:ext cx="1022040" cy="47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2280960" y="1842840"/>
              <a:ext cx="52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5200" y="191916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252760" y="19191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4360" y="191916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423440" y="1523880"/>
              <a:ext cx="66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net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95240" y="1600200"/>
              <a:ext cx="66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net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138440" y="1600200"/>
              <a:ext cx="66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net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46960" y="1981080"/>
              <a:ext cx="50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R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918760" y="2057400"/>
              <a:ext cx="50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R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0600" y="2652480"/>
            <a:ext cx="8370720" cy="34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spcBef>
                <a:spcPts val="1400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etworks connected by gateways or IP route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spcBef>
                <a:spcPts val="1400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outer forwards packets to next-hop router, based on destination IP addres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spcBef>
                <a:spcPts val="1400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outing decisions become complex as size of internet expand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3628C-E8C3-429F-BFAC-274A95D80F7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The User’s View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77" name=""/>
          <p:cNvSpPr/>
          <p:nvPr/>
        </p:nvSpPr>
        <p:spPr>
          <a:xfrm>
            <a:off x="1476360" y="2111400"/>
            <a:ext cx="2000160" cy="1720800"/>
          </a:xfrm>
          <a:custGeom>
            <a:avLst/>
            <a:gdLst/>
            <a:ahLst/>
            <a:rect l="l" t="t" r="r" b="b"/>
            <a:pathLst>
              <a:path w="1260" h="1084">
                <a:moveTo>
                  <a:pt x="60" y="437"/>
                </a:moveTo>
                <a:lnTo>
                  <a:pt x="73" y="380"/>
                </a:lnTo>
                <a:lnTo>
                  <a:pt x="73" y="336"/>
                </a:lnTo>
                <a:lnTo>
                  <a:pt x="73" y="292"/>
                </a:lnTo>
                <a:lnTo>
                  <a:pt x="73" y="234"/>
                </a:lnTo>
                <a:lnTo>
                  <a:pt x="88" y="190"/>
                </a:lnTo>
                <a:lnTo>
                  <a:pt x="132" y="161"/>
                </a:lnTo>
                <a:lnTo>
                  <a:pt x="176" y="117"/>
                </a:lnTo>
                <a:lnTo>
                  <a:pt x="220" y="102"/>
                </a:lnTo>
                <a:lnTo>
                  <a:pt x="264" y="88"/>
                </a:lnTo>
                <a:lnTo>
                  <a:pt x="308" y="88"/>
                </a:lnTo>
                <a:lnTo>
                  <a:pt x="352" y="88"/>
                </a:lnTo>
                <a:lnTo>
                  <a:pt x="410" y="88"/>
                </a:lnTo>
                <a:lnTo>
                  <a:pt x="469" y="88"/>
                </a:lnTo>
                <a:lnTo>
                  <a:pt x="527" y="102"/>
                </a:lnTo>
                <a:lnTo>
                  <a:pt x="571" y="73"/>
                </a:lnTo>
                <a:lnTo>
                  <a:pt x="615" y="44"/>
                </a:lnTo>
                <a:lnTo>
                  <a:pt x="659" y="14"/>
                </a:lnTo>
                <a:lnTo>
                  <a:pt x="703" y="0"/>
                </a:lnTo>
                <a:lnTo>
                  <a:pt x="747" y="0"/>
                </a:lnTo>
                <a:lnTo>
                  <a:pt x="791" y="0"/>
                </a:lnTo>
                <a:lnTo>
                  <a:pt x="864" y="14"/>
                </a:lnTo>
                <a:lnTo>
                  <a:pt x="922" y="29"/>
                </a:lnTo>
                <a:lnTo>
                  <a:pt x="966" y="73"/>
                </a:lnTo>
                <a:lnTo>
                  <a:pt x="1010" y="117"/>
                </a:lnTo>
                <a:lnTo>
                  <a:pt x="1039" y="161"/>
                </a:lnTo>
                <a:lnTo>
                  <a:pt x="1054" y="205"/>
                </a:lnTo>
                <a:lnTo>
                  <a:pt x="1054" y="249"/>
                </a:lnTo>
                <a:lnTo>
                  <a:pt x="1098" y="278"/>
                </a:lnTo>
                <a:lnTo>
                  <a:pt x="1142" y="307"/>
                </a:lnTo>
                <a:lnTo>
                  <a:pt x="1200" y="336"/>
                </a:lnTo>
                <a:lnTo>
                  <a:pt x="1230" y="380"/>
                </a:lnTo>
                <a:lnTo>
                  <a:pt x="1244" y="424"/>
                </a:lnTo>
                <a:lnTo>
                  <a:pt x="1259" y="468"/>
                </a:lnTo>
                <a:lnTo>
                  <a:pt x="1259" y="512"/>
                </a:lnTo>
                <a:lnTo>
                  <a:pt x="1259" y="556"/>
                </a:lnTo>
                <a:lnTo>
                  <a:pt x="1259" y="600"/>
                </a:lnTo>
                <a:lnTo>
                  <a:pt x="1259" y="644"/>
                </a:lnTo>
                <a:lnTo>
                  <a:pt x="1230" y="688"/>
                </a:lnTo>
                <a:lnTo>
                  <a:pt x="1186" y="731"/>
                </a:lnTo>
                <a:lnTo>
                  <a:pt x="1156" y="775"/>
                </a:lnTo>
                <a:lnTo>
                  <a:pt x="1112" y="790"/>
                </a:lnTo>
                <a:lnTo>
                  <a:pt x="1054" y="805"/>
                </a:lnTo>
                <a:lnTo>
                  <a:pt x="1025" y="849"/>
                </a:lnTo>
                <a:lnTo>
                  <a:pt x="1010" y="907"/>
                </a:lnTo>
                <a:lnTo>
                  <a:pt x="981" y="951"/>
                </a:lnTo>
                <a:lnTo>
                  <a:pt x="952" y="995"/>
                </a:lnTo>
                <a:lnTo>
                  <a:pt x="908" y="1024"/>
                </a:lnTo>
                <a:lnTo>
                  <a:pt x="864" y="1053"/>
                </a:lnTo>
                <a:lnTo>
                  <a:pt x="820" y="1068"/>
                </a:lnTo>
                <a:lnTo>
                  <a:pt x="776" y="1083"/>
                </a:lnTo>
                <a:lnTo>
                  <a:pt x="732" y="1083"/>
                </a:lnTo>
                <a:lnTo>
                  <a:pt x="688" y="1083"/>
                </a:lnTo>
                <a:lnTo>
                  <a:pt x="644" y="1083"/>
                </a:lnTo>
                <a:lnTo>
                  <a:pt x="600" y="1083"/>
                </a:lnTo>
                <a:lnTo>
                  <a:pt x="556" y="1039"/>
                </a:lnTo>
                <a:lnTo>
                  <a:pt x="512" y="995"/>
                </a:lnTo>
                <a:lnTo>
                  <a:pt x="469" y="936"/>
                </a:lnTo>
                <a:lnTo>
                  <a:pt x="425" y="907"/>
                </a:lnTo>
                <a:lnTo>
                  <a:pt x="381" y="907"/>
                </a:lnTo>
                <a:lnTo>
                  <a:pt x="337" y="922"/>
                </a:lnTo>
                <a:lnTo>
                  <a:pt x="293" y="922"/>
                </a:lnTo>
                <a:lnTo>
                  <a:pt x="249" y="922"/>
                </a:lnTo>
                <a:lnTo>
                  <a:pt x="205" y="922"/>
                </a:lnTo>
                <a:lnTo>
                  <a:pt x="161" y="922"/>
                </a:lnTo>
                <a:lnTo>
                  <a:pt x="103" y="892"/>
                </a:lnTo>
                <a:lnTo>
                  <a:pt x="59" y="863"/>
                </a:lnTo>
                <a:lnTo>
                  <a:pt x="30" y="819"/>
                </a:lnTo>
                <a:lnTo>
                  <a:pt x="15" y="775"/>
                </a:lnTo>
                <a:lnTo>
                  <a:pt x="0" y="731"/>
                </a:lnTo>
                <a:lnTo>
                  <a:pt x="0" y="673"/>
                </a:lnTo>
                <a:lnTo>
                  <a:pt x="0" y="629"/>
                </a:lnTo>
                <a:lnTo>
                  <a:pt x="0" y="585"/>
                </a:lnTo>
                <a:lnTo>
                  <a:pt x="0" y="541"/>
                </a:lnTo>
                <a:lnTo>
                  <a:pt x="0" y="497"/>
                </a:lnTo>
                <a:lnTo>
                  <a:pt x="30" y="453"/>
                </a:lnTo>
                <a:lnTo>
                  <a:pt x="60" y="437"/>
                </a:lnTo>
              </a:path>
            </a:pathLst>
          </a:custGeom>
          <a:solidFill>
            <a:srgbClr val="99cc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25600" y="1592280"/>
            <a:ext cx="291960" cy="2919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54400" y="1592280"/>
            <a:ext cx="291960" cy="2919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63880" y="2887560"/>
            <a:ext cx="292320" cy="2923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68600" y="4183200"/>
            <a:ext cx="291960" cy="2919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68400" y="3649680"/>
            <a:ext cx="291960" cy="2919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30520" y="1897200"/>
            <a:ext cx="21564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936880" y="1897200"/>
            <a:ext cx="31752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470040" y="3033720"/>
            <a:ext cx="39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479320" y="3789360"/>
            <a:ext cx="16524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273320" y="3484080"/>
            <a:ext cx="36828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63000" y="2714760"/>
            <a:ext cx="103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860200" y="4329000"/>
            <a:ext cx="698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15480" y="4086360"/>
            <a:ext cx="695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76480" y="5170320"/>
            <a:ext cx="276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) Single large c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095800" y="1455840"/>
            <a:ext cx="3502440" cy="4170960"/>
            <a:chOff x="5095800" y="1455840"/>
            <a:chExt cx="3502440" cy="4170960"/>
          </a:xfrm>
        </p:grpSpPr>
        <p:sp>
          <p:nvSpPr>
            <p:cNvPr id="93" name=""/>
            <p:cNvSpPr/>
            <p:nvPr/>
          </p:nvSpPr>
          <p:spPr>
            <a:xfrm>
              <a:off x="5756400" y="2376360"/>
              <a:ext cx="2000160" cy="1720800"/>
            </a:xfrm>
            <a:custGeom>
              <a:avLst/>
              <a:gdLst/>
              <a:ahLst/>
              <a:rect l="l" t="t" r="r" b="b"/>
              <a:pathLst>
                <a:path w="1260" h="1084">
                  <a:moveTo>
                    <a:pt x="60" y="437"/>
                  </a:moveTo>
                  <a:lnTo>
                    <a:pt x="73" y="380"/>
                  </a:lnTo>
                  <a:lnTo>
                    <a:pt x="73" y="336"/>
                  </a:lnTo>
                  <a:lnTo>
                    <a:pt x="73" y="292"/>
                  </a:lnTo>
                  <a:lnTo>
                    <a:pt x="73" y="234"/>
                  </a:lnTo>
                  <a:lnTo>
                    <a:pt x="88" y="190"/>
                  </a:lnTo>
                  <a:lnTo>
                    <a:pt x="132" y="161"/>
                  </a:lnTo>
                  <a:lnTo>
                    <a:pt x="176" y="117"/>
                  </a:lnTo>
                  <a:lnTo>
                    <a:pt x="220" y="102"/>
                  </a:lnTo>
                  <a:lnTo>
                    <a:pt x="264" y="88"/>
                  </a:lnTo>
                  <a:lnTo>
                    <a:pt x="308" y="88"/>
                  </a:lnTo>
                  <a:lnTo>
                    <a:pt x="352" y="88"/>
                  </a:lnTo>
                  <a:lnTo>
                    <a:pt x="410" y="88"/>
                  </a:lnTo>
                  <a:lnTo>
                    <a:pt x="469" y="88"/>
                  </a:lnTo>
                  <a:lnTo>
                    <a:pt x="527" y="102"/>
                  </a:lnTo>
                  <a:lnTo>
                    <a:pt x="571" y="73"/>
                  </a:lnTo>
                  <a:lnTo>
                    <a:pt x="615" y="44"/>
                  </a:lnTo>
                  <a:lnTo>
                    <a:pt x="659" y="14"/>
                  </a:lnTo>
                  <a:lnTo>
                    <a:pt x="703" y="0"/>
                  </a:lnTo>
                  <a:lnTo>
                    <a:pt x="747" y="0"/>
                  </a:lnTo>
                  <a:lnTo>
                    <a:pt x="791" y="0"/>
                  </a:lnTo>
                  <a:lnTo>
                    <a:pt x="864" y="14"/>
                  </a:lnTo>
                  <a:lnTo>
                    <a:pt x="922" y="29"/>
                  </a:lnTo>
                  <a:lnTo>
                    <a:pt x="966" y="73"/>
                  </a:lnTo>
                  <a:lnTo>
                    <a:pt x="1010" y="117"/>
                  </a:lnTo>
                  <a:lnTo>
                    <a:pt x="1039" y="161"/>
                  </a:lnTo>
                  <a:lnTo>
                    <a:pt x="1054" y="205"/>
                  </a:lnTo>
                  <a:lnTo>
                    <a:pt x="1054" y="249"/>
                  </a:lnTo>
                  <a:lnTo>
                    <a:pt x="1098" y="278"/>
                  </a:lnTo>
                  <a:lnTo>
                    <a:pt x="1142" y="307"/>
                  </a:lnTo>
                  <a:lnTo>
                    <a:pt x="1200" y="336"/>
                  </a:lnTo>
                  <a:lnTo>
                    <a:pt x="1230" y="380"/>
                  </a:lnTo>
                  <a:lnTo>
                    <a:pt x="1244" y="424"/>
                  </a:lnTo>
                  <a:lnTo>
                    <a:pt x="1259" y="468"/>
                  </a:lnTo>
                  <a:lnTo>
                    <a:pt x="1259" y="512"/>
                  </a:lnTo>
                  <a:lnTo>
                    <a:pt x="1259" y="556"/>
                  </a:lnTo>
                  <a:lnTo>
                    <a:pt x="1259" y="600"/>
                  </a:lnTo>
                  <a:lnTo>
                    <a:pt x="1259" y="644"/>
                  </a:lnTo>
                  <a:lnTo>
                    <a:pt x="1230" y="688"/>
                  </a:lnTo>
                  <a:lnTo>
                    <a:pt x="1186" y="731"/>
                  </a:lnTo>
                  <a:lnTo>
                    <a:pt x="1156" y="775"/>
                  </a:lnTo>
                  <a:lnTo>
                    <a:pt x="1112" y="790"/>
                  </a:lnTo>
                  <a:lnTo>
                    <a:pt x="1054" y="805"/>
                  </a:lnTo>
                  <a:lnTo>
                    <a:pt x="1025" y="849"/>
                  </a:lnTo>
                  <a:lnTo>
                    <a:pt x="1010" y="907"/>
                  </a:lnTo>
                  <a:lnTo>
                    <a:pt x="981" y="951"/>
                  </a:lnTo>
                  <a:lnTo>
                    <a:pt x="952" y="995"/>
                  </a:lnTo>
                  <a:lnTo>
                    <a:pt x="908" y="1024"/>
                  </a:lnTo>
                  <a:lnTo>
                    <a:pt x="864" y="1053"/>
                  </a:lnTo>
                  <a:lnTo>
                    <a:pt x="820" y="1068"/>
                  </a:lnTo>
                  <a:lnTo>
                    <a:pt x="776" y="1083"/>
                  </a:lnTo>
                  <a:lnTo>
                    <a:pt x="732" y="1083"/>
                  </a:lnTo>
                  <a:lnTo>
                    <a:pt x="688" y="1083"/>
                  </a:lnTo>
                  <a:lnTo>
                    <a:pt x="644" y="1083"/>
                  </a:lnTo>
                  <a:lnTo>
                    <a:pt x="600" y="1083"/>
                  </a:lnTo>
                  <a:lnTo>
                    <a:pt x="556" y="1039"/>
                  </a:lnTo>
                  <a:lnTo>
                    <a:pt x="512" y="995"/>
                  </a:lnTo>
                  <a:lnTo>
                    <a:pt x="469" y="936"/>
                  </a:lnTo>
                  <a:lnTo>
                    <a:pt x="425" y="907"/>
                  </a:lnTo>
                  <a:lnTo>
                    <a:pt x="381" y="907"/>
                  </a:lnTo>
                  <a:lnTo>
                    <a:pt x="337" y="922"/>
                  </a:lnTo>
                  <a:lnTo>
                    <a:pt x="293" y="922"/>
                  </a:lnTo>
                  <a:lnTo>
                    <a:pt x="249" y="922"/>
                  </a:lnTo>
                  <a:lnTo>
                    <a:pt x="205" y="922"/>
                  </a:lnTo>
                  <a:lnTo>
                    <a:pt x="161" y="922"/>
                  </a:lnTo>
                  <a:lnTo>
                    <a:pt x="103" y="892"/>
                  </a:lnTo>
                  <a:lnTo>
                    <a:pt x="59" y="863"/>
                  </a:lnTo>
                  <a:lnTo>
                    <a:pt x="30" y="819"/>
                  </a:lnTo>
                  <a:lnTo>
                    <a:pt x="15" y="775"/>
                  </a:lnTo>
                  <a:lnTo>
                    <a:pt x="0" y="731"/>
                  </a:lnTo>
                  <a:lnTo>
                    <a:pt x="0" y="673"/>
                  </a:lnTo>
                  <a:lnTo>
                    <a:pt x="0" y="629"/>
                  </a:lnTo>
                  <a:lnTo>
                    <a:pt x="0" y="585"/>
                  </a:lnTo>
                  <a:lnTo>
                    <a:pt x="0" y="541"/>
                  </a:lnTo>
                  <a:lnTo>
                    <a:pt x="0" y="497"/>
                  </a:lnTo>
                  <a:lnTo>
                    <a:pt x="30" y="453"/>
                  </a:lnTo>
                  <a:lnTo>
                    <a:pt x="60" y="437"/>
                  </a:lnTo>
                </a:path>
              </a:pathLst>
            </a:cu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095800" y="3762360"/>
              <a:ext cx="292320" cy="29196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00720" y="1781280"/>
              <a:ext cx="291960" cy="29196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58120" y="1781280"/>
              <a:ext cx="291960" cy="29196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220240" y="3076560"/>
              <a:ext cx="291960" cy="29196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077240" y="4371840"/>
              <a:ext cx="291960" cy="29232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62840" y="2771640"/>
              <a:ext cx="291960" cy="292320"/>
            </a:xfrm>
            <a:custGeom>
              <a:avLst/>
              <a:gdLst>
                <a:gd name="textAreaLeft" fmla="*/ 66600 w 291960"/>
                <a:gd name="textAreaRight" fmla="*/ 225360 w 291960"/>
                <a:gd name="textAreaTop" fmla="*/ 66600 h 292320"/>
                <a:gd name="textAreaBottom" fmla="*/ 225720 h 29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24600" y="2543040"/>
              <a:ext cx="292320" cy="292320"/>
            </a:xfrm>
            <a:custGeom>
              <a:avLst/>
              <a:gdLst>
                <a:gd name="textAreaLeft" fmla="*/ 66600 w 292320"/>
                <a:gd name="textAreaRight" fmla="*/ 225720 w 292320"/>
                <a:gd name="textAreaTop" fmla="*/ 66600 h 292320"/>
                <a:gd name="textAreaBottom" fmla="*/ 225720 h 29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29520" y="3076560"/>
              <a:ext cx="291960" cy="291960"/>
            </a:xfrm>
            <a:custGeom>
              <a:avLst/>
              <a:gdLst>
                <a:gd name="textAreaLeft" fmla="*/ 66600 w 291960"/>
                <a:gd name="textAreaRight" fmla="*/ 225360 w 291960"/>
                <a:gd name="textAreaTop" fmla="*/ 66600 h 291960"/>
                <a:gd name="textAreaBottom" fmla="*/ 22536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72320" y="3610080"/>
              <a:ext cx="291960" cy="291960"/>
            </a:xfrm>
            <a:custGeom>
              <a:avLst/>
              <a:gdLst>
                <a:gd name="textAreaLeft" fmla="*/ 66600 w 291960"/>
                <a:gd name="textAreaRight" fmla="*/ 225360 w 291960"/>
                <a:gd name="textAreaTop" fmla="*/ 66600 h 291960"/>
                <a:gd name="textAreaBottom" fmla="*/ 22536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10200" y="3381480"/>
              <a:ext cx="292320" cy="291960"/>
            </a:xfrm>
            <a:custGeom>
              <a:avLst/>
              <a:gdLst>
                <a:gd name="textAreaLeft" fmla="*/ 66600 w 292320"/>
                <a:gd name="textAreaRight" fmla="*/ 225720 w 292320"/>
                <a:gd name="textAreaTop" fmla="*/ 66600 h 291960"/>
                <a:gd name="textAreaBottom" fmla="*/ 22536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05640" y="2085840"/>
              <a:ext cx="520560" cy="74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7140600" y="2085840"/>
              <a:ext cx="31752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4440" y="322272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6988320" y="3825360"/>
              <a:ext cx="24120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5400720" y="3596760"/>
              <a:ext cx="59688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0040" y="2695680"/>
              <a:ext cx="139680" cy="139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6467400" y="2758680"/>
              <a:ext cx="1396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6772320" y="2682360"/>
              <a:ext cx="1396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91440" y="3228840"/>
              <a:ext cx="139680" cy="139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15120" y="3076560"/>
              <a:ext cx="13968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6315120" y="3292560"/>
              <a:ext cx="13968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77240" y="3381480"/>
              <a:ext cx="139680" cy="139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6924600" y="3521160"/>
              <a:ext cx="21600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7229520" y="3292200"/>
              <a:ext cx="633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696000" y="3305160"/>
              <a:ext cx="139680" cy="139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6315120" y="3444480"/>
              <a:ext cx="3682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6848640" y="3139560"/>
              <a:ext cx="44424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7140240" y="3825720"/>
              <a:ext cx="46980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65840" y="1857240"/>
              <a:ext cx="0" cy="82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16080" y="4199040"/>
              <a:ext cx="10821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hysic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18280" y="1455840"/>
              <a:ext cx="835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rou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10240" y="5172120"/>
              <a:ext cx="2211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b) Actual structu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A3A6E-9D21-48C7-8448-BC6CB519E02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Classful Internet Addresses</a:t>
            </a:r>
            <a:br>
              <a:rPr sz="4800"/>
            </a:b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(Chapter 4)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F7394-04B4-4AD4-8490-039E5B8B4A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ff"/>
                </a:solidFill>
                <a:latin typeface="Arial Narrow"/>
              </a:rPr>
              <a:t>Internet Addresses</a:t>
            </a:r>
            <a:endParaRPr b="0" lang="en-US" sz="54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38360" y="1360440"/>
            <a:ext cx="7866000" cy="366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1576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Universal internet requires method of identifying computers attached to interne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lnSpc>
                <a:spcPct val="90000"/>
              </a:lnSpc>
              <a:spcBef>
                <a:spcPts val="1576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Host identifiers classified as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34452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ames,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34452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ddresses, or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34452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outes (interfaces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E8A83-AF63-4E11-82B8-F3E523B0226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IPv4 Addressing Bas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5400" y="1465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1160" indent="-281160">
              <a:lnSpc>
                <a:spcPct val="110000"/>
              </a:lnSpc>
              <a:spcBef>
                <a:spcPts val="2701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IPv4 uses three-part addressing schem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340920">
              <a:lnSpc>
                <a:spcPct val="110000"/>
              </a:lnSpc>
              <a:spcBef>
                <a:spcPts val="2701"/>
              </a:spcBef>
              <a:buClr>
                <a:srgbClr val="3366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Symbolic</a:t>
            </a:r>
            <a:r>
              <a:rPr b="0" i="1" lang="en-U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 e.g.,</a:t>
            </a:r>
            <a:r>
              <a:rPr b="0" i="1" lang="en-U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www.csun.ed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340920">
              <a:lnSpc>
                <a:spcPct val="110000"/>
              </a:lnSpc>
              <a:spcBef>
                <a:spcPts val="2701"/>
              </a:spcBef>
              <a:buClr>
                <a:srgbClr val="3366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Logical numeric</a:t>
            </a:r>
            <a:r>
              <a:rPr b="0" i="1" lang="en-U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130.166.1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340920">
              <a:lnSpc>
                <a:spcPct val="110000"/>
              </a:lnSpc>
              <a:spcBef>
                <a:spcPts val="2701"/>
              </a:spcBef>
              <a:buClr>
                <a:srgbClr val="3366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Physical numeric</a:t>
            </a:r>
            <a:r>
              <a:rPr b="0" i="1" lang="en-U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ef.09.35.a6.00.b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93C4E-7261-48CE-8314-5752CBE244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22:11:22Z</dcterms:created>
  <dc:creator/>
  <dc:description/>
  <dc:language>en-US</dc:language>
  <cp:lastModifiedBy> </cp:lastModifiedBy>
  <dcterms:modified xsi:type="dcterms:W3CDTF">2004-10-10T23:46:56Z</dcterms:modified>
  <cp:revision>55</cp:revision>
  <dc:subject/>
  <dc:title>Chap. 3 - 6</dc:title>
</cp:coreProperties>
</file>