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E8C0-16D6-4D45-9CFA-D120FE3B2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FF05-AFE4-4367-B14B-31B47A54F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800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50AC-3F58-4E6E-933A-5A6B29EBA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584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96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584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9C26-EF84-402E-B175-2D2FEA2592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CA4B-2F70-48DF-B0A2-336B8CFDF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FDCA-01CD-47EC-8163-A8E3B01EC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34A2-09C0-4E3A-9E08-0D22F4237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ADB2-F541-42FC-A3D7-84921058D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0419-7DEE-43A7-8ACB-248D61579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C5E7-EC7E-47D1-AB34-AD57B968F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800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5838-C1D3-444F-94BD-B88D3EE95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0621-893E-4414-A37E-043DE153A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24280" indent="-22428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586800" indent="-272160">
              <a:spcBef>
                <a:spcPts val="174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2" marL="1035720" indent="-270720">
              <a:spcBef>
                <a:spcPts val="1749"/>
              </a:spcBef>
              <a:buClr>
                <a:srgbClr val="33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3" marL="130680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4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5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6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87720" y="6159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CB1C-B1EB-426F-8514-88BB944AE94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ddress Resolution:</a:t>
            </a:r>
            <a:br>
              <a:rPr sz="4800"/>
            </a:b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RP and RARP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(Chapters 5 &amp; 6)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2B8E-BDFC-440F-A794-036DB3D0F6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5520" y="219240"/>
            <a:ext cx="6902640" cy="78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RP/RARP Message Format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68440" y="1066680"/>
            <a:ext cx="5747040" cy="3568680"/>
            <a:chOff x="2368440" y="1066680"/>
            <a:chExt cx="5747040" cy="3568680"/>
          </a:xfrm>
        </p:grpSpPr>
        <p:sp>
          <p:nvSpPr>
            <p:cNvPr id="94" name=""/>
            <p:cNvSpPr/>
            <p:nvPr/>
          </p:nvSpPr>
          <p:spPr>
            <a:xfrm>
              <a:off x="2389320" y="1490760"/>
              <a:ext cx="562608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89320" y="1947960"/>
              <a:ext cx="562608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9320" y="2390760"/>
              <a:ext cx="56260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89320" y="2847960"/>
              <a:ext cx="56260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89320" y="3290760"/>
              <a:ext cx="56260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89320" y="3747960"/>
              <a:ext cx="56260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89320" y="4191120"/>
              <a:ext cx="562608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68440" y="1066680"/>
              <a:ext cx="297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02560" y="1066680"/>
              <a:ext cx="412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26040" y="1490760"/>
              <a:ext cx="0" cy="90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78120" y="194796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49720" y="2847960"/>
              <a:ext cx="0" cy="90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38600" y="1552680"/>
              <a:ext cx="1838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ARDWARE 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3840" y="1523880"/>
              <a:ext cx="1786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OTOCOL 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12240" y="1995480"/>
              <a:ext cx="69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5360" y="1995480"/>
              <a:ext cx="68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7560" y="1981080"/>
              <a:ext cx="1297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120" y="2438280"/>
              <a:ext cx="23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ENDER HA  (octets 0-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24760" y="2895480"/>
              <a:ext cx="233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ENDER HA (octets 4-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50400" y="2957400"/>
              <a:ext cx="224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ENDER IP (octets 0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7600" y="3338640"/>
              <a:ext cx="224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ENDER IP (octets 2-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2080" y="3324240"/>
              <a:ext cx="237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ARGET  HA (octets 0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49280" y="3871800"/>
              <a:ext cx="237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ARGET  HA (octets 2-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91400" y="4253040"/>
              <a:ext cx="2281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ARGET  IP (octets 0-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984320" y="1627200"/>
            <a:ext cx="792360" cy="127080"/>
          </a:xfrm>
          <a:prstGeom prst="line">
            <a:avLst/>
          </a:prstGeom>
          <a:ln w="9360">
            <a:solidFill>
              <a:srgbClr val="5db6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437600" y="941400"/>
            <a:ext cx="350640" cy="679320"/>
          </a:xfrm>
          <a:prstGeom prst="line">
            <a:avLst/>
          </a:prstGeom>
          <a:ln w="9360">
            <a:solidFill>
              <a:srgbClr val="5db6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17600" y="2227320"/>
            <a:ext cx="466920" cy="573120"/>
          </a:xfrm>
          <a:prstGeom prst="line">
            <a:avLst/>
          </a:prstGeom>
          <a:ln w="9360">
            <a:solidFill>
              <a:srgbClr val="5db6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92400" y="2255760"/>
            <a:ext cx="1752480" cy="1540080"/>
          </a:xfrm>
          <a:prstGeom prst="line">
            <a:avLst/>
          </a:prstGeom>
          <a:ln w="9360">
            <a:solidFill>
              <a:srgbClr val="5db6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381440" y="2220840"/>
            <a:ext cx="1112760" cy="1695600"/>
          </a:xfrm>
          <a:prstGeom prst="line">
            <a:avLst/>
          </a:prstGeom>
          <a:ln w="9360">
            <a:solidFill>
              <a:srgbClr val="5db6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8520" y="4889520"/>
            <a:ext cx="8096400" cy="1788840"/>
            <a:chOff x="128520" y="4889520"/>
            <a:chExt cx="8096400" cy="1788840"/>
          </a:xfrm>
        </p:grpSpPr>
        <p:grpSp>
          <p:nvGrpSpPr>
            <p:cNvPr id="124" name=""/>
            <p:cNvGrpSpPr/>
            <p:nvPr/>
          </p:nvGrpSpPr>
          <p:grpSpPr>
            <a:xfrm>
              <a:off x="128520" y="4889520"/>
              <a:ext cx="8096400" cy="1788840"/>
              <a:chOff x="128520" y="4889520"/>
              <a:chExt cx="8096400" cy="1788840"/>
            </a:xfrm>
          </p:grpSpPr>
          <p:sp>
            <p:nvSpPr>
              <p:cNvPr id="125" name=""/>
              <p:cNvSpPr/>
              <p:nvPr/>
            </p:nvSpPr>
            <p:spPr>
              <a:xfrm>
                <a:off x="128520" y="4889520"/>
                <a:ext cx="8096400" cy="178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920" y="4930560"/>
                <a:ext cx="8001000" cy="1713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2949480" y="5367240"/>
              <a:ext cx="103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AR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00320" y="4995720"/>
              <a:ext cx="25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: 0x0835 (RAR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3680" y="5859360"/>
              <a:ext cx="500040" cy="59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10960" y="1332000"/>
            <a:ext cx="1816200" cy="77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for Ether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4600" y="2346480"/>
            <a:ext cx="2093760" cy="966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in oct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thernet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3160" y="3622680"/>
            <a:ext cx="2093760" cy="938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in oct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Pv4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84880" y="214200"/>
            <a:ext cx="1816200" cy="78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Pv4 is 0x08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02440" y="3862440"/>
            <a:ext cx="194148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 Requ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 Repl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P Requ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P Repl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4807-EDEE-4449-B63D-E0BEB179FFF3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ddress Resolution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80960" y="119520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tocol addresses are logical abstractions provided by softwa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urrent physical network hardware cannot locate computer from its protocol add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tocol address must be mapped (</a:t>
            </a:r>
            <a:r>
              <a:rPr b="0" lang="en-US" sz="3200" spc="-1" strike="noStrike">
                <a:solidFill>
                  <a:srgbClr val="3366ff"/>
                </a:solidFill>
                <a:latin typeface="Arial Narrow"/>
              </a:rPr>
              <a:t>resolved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) to equivalent physical address before packet sent across physical 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ff"/>
                </a:solidFill>
                <a:latin typeface="Arial Narrow"/>
              </a:rPr>
              <a:t>Address Resolu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is local to net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ne computer can resolve physical address of another computer only if both attached to same physical 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C96D-A2EB-4792-B94E-F1C280B233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ddress Resolution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668160" y="3854520"/>
            <a:ext cx="76550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st or router uses address resolution when it needs to send to another computer on same 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225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uter does not resolve physical address of computer attached to remot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77920" y="1512720"/>
            <a:ext cx="6781680" cy="1999080"/>
            <a:chOff x="1177920" y="1512720"/>
            <a:chExt cx="6781680" cy="1999080"/>
          </a:xfrm>
        </p:grpSpPr>
        <p:sp>
          <p:nvSpPr>
            <p:cNvPr id="45" name=""/>
            <p:cNvSpPr/>
            <p:nvPr/>
          </p:nvSpPr>
          <p:spPr>
            <a:xfrm>
              <a:off x="3083040" y="2459160"/>
              <a:ext cx="22860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67480" y="2444760"/>
              <a:ext cx="228600" cy="228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8120" y="2568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11640" y="2563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69040" y="25686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02200" y="2568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87400" y="1654200"/>
              <a:ext cx="15264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78320" y="16542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69240" y="16542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40040" y="31780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54640" y="325440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21520" y="31780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63720" y="18828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16000" y="27972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54640" y="1882800"/>
              <a:ext cx="612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0600" y="2797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45200" y="18828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97840" y="27972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25640" y="15127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77920" y="303696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03480" y="2079720"/>
              <a:ext cx="44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16560" y="15127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92520" y="31129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07840" y="1512720"/>
              <a:ext cx="3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59040" y="3036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86480" y="2050920"/>
              <a:ext cx="44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77920" y="2340000"/>
              <a:ext cx="1600200" cy="457200"/>
            </a:xfrm>
            <a:custGeom>
              <a:avLst/>
              <a:gdLst>
                <a:gd name="textAreaLeft" fmla="*/ 365040 w 1600200"/>
                <a:gd name="textAreaRight" fmla="*/ 1235160 w 1600200"/>
                <a:gd name="textAreaTop" fmla="*/ 104400 h 457200"/>
                <a:gd name="textAreaBottom" fmla="*/ 352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e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68840" y="2340000"/>
              <a:ext cx="1600200" cy="457200"/>
            </a:xfrm>
            <a:custGeom>
              <a:avLst/>
              <a:gdLst>
                <a:gd name="textAreaLeft" fmla="*/ 365040 w 1600200"/>
                <a:gd name="textAreaRight" fmla="*/ 1235160 w 1600200"/>
                <a:gd name="textAreaTop" fmla="*/ 104400 h 457200"/>
                <a:gd name="textAreaBottom" fmla="*/ 352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e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59400" y="2340000"/>
              <a:ext cx="1600200" cy="457200"/>
            </a:xfrm>
            <a:custGeom>
              <a:avLst/>
              <a:gdLst>
                <a:gd name="textAreaLeft" fmla="*/ 365040 w 1600200"/>
                <a:gd name="textAreaRight" fmla="*/ 1235160 w 1600200"/>
                <a:gd name="textAreaTop" fmla="*/ 104400 h 457200"/>
                <a:gd name="textAreaBottom" fmla="*/ 352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e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9B63-EBB9-4D7C-8578-4E80572837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9360" y="299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ddress Resolution Approache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32732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able look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ppings stored in table in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ftware searches table to resolve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osed-form comput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uter’s physical address </a:t>
            </a:r>
            <a:r>
              <a:rPr b="0" i="1" lang="en-US" sz="2800" spc="-1" strike="noStrike">
                <a:solidFill>
                  <a:srgbClr val="3333cc"/>
                </a:solidFill>
                <a:latin typeface="Arial Narrow"/>
              </a:rPr>
              <a:t>comput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rom protocol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ssage exchan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uters exchange messages across network to resolve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8ACE-8305-4054-AAC9-58947165B5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ddress Resolution in TCP/IP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9160" y="119232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rawback of </a:t>
            </a:r>
            <a:r>
              <a:rPr b="0" lang="en-US" sz="3600" spc="-1" strike="noStrike">
                <a:solidFill>
                  <a:srgbClr val="3333cc"/>
                </a:solidFill>
                <a:latin typeface="Arial Narrow"/>
              </a:rPr>
              <a:t>table lookup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space and search tim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Resolution through </a:t>
            </a:r>
            <a:r>
              <a:rPr b="0" lang="en-US" sz="3600" spc="-1" strike="noStrike">
                <a:solidFill>
                  <a:srgbClr val="3333cc"/>
                </a:solidFill>
                <a:latin typeface="Arial Narrow"/>
              </a:rPr>
              <a:t>closed-form comput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.g., ProNet allows user to choose physical add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tch hostid portion of IP address equal to  actual physical add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146320" y="5398920"/>
            <a:ext cx="5006520" cy="896760"/>
            <a:chOff x="2146320" y="5398920"/>
            <a:chExt cx="5006520" cy="896760"/>
          </a:xfrm>
        </p:grpSpPr>
        <p:sp>
          <p:nvSpPr>
            <p:cNvPr id="79" name=""/>
            <p:cNvSpPr/>
            <p:nvPr/>
          </p:nvSpPr>
          <p:spPr>
            <a:xfrm>
              <a:off x="2146320" y="5398920"/>
              <a:ext cx="50065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P Addres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hysical 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 Narrow"/>
                </a:rPr>
                <a:t>192.5.4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 Narrow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67200" y="5837040"/>
              <a:ext cx="387360" cy="43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0797-3766-4CFA-B301-AFE0EBFB98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600" y="247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Dynamic Resolution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42520" y="1233360"/>
            <a:ext cx="82170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P address does not easily map to Ethernet address through comput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olution: dynamic binding using low-level protocol </a:t>
            </a:r>
            <a:r>
              <a:rPr b="0" lang="en-US" sz="3600" spc="-1" strike="noStrike">
                <a:solidFill>
                  <a:srgbClr val="3333cc"/>
                </a:solidFill>
                <a:latin typeface="Arial Narrow"/>
              </a:rPr>
              <a:t>ARP</a:t>
            </a:r>
            <a:r>
              <a:rPr b="0" lang="en-US" sz="3600" spc="-1" strike="noStrike">
                <a:solidFill>
                  <a:srgbClr val="3366ff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Address Resolution Protocol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ynamic resolution with AR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s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wants to resolve hos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’s IP address </a:t>
            </a:r>
            <a:r>
              <a:rPr b="0" lang="en-US" sz="3200" spc="-1" strike="noStrike">
                <a:solidFill>
                  <a:srgbClr val="3366ff"/>
                </a:solidFill>
                <a:latin typeface="Arial Narrow"/>
              </a:rPr>
              <a:t>I</a:t>
            </a:r>
            <a:r>
              <a:rPr b="0" lang="en-US" sz="3200" spc="-1" strike="noStrike" baseline="-18000">
                <a:solidFill>
                  <a:srgbClr val="3366ff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s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broadcast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special packet asks hos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to respond with its physical address </a:t>
            </a:r>
            <a:r>
              <a:rPr b="0" lang="en-US" sz="3200" spc="-1" strike="noStrike">
                <a:solidFill>
                  <a:srgbClr val="ff3300"/>
                </a:solidFill>
                <a:latin typeface="Arial Narrow"/>
              </a:rPr>
              <a:t>P</a:t>
            </a:r>
            <a:r>
              <a:rPr b="0" lang="en-US" sz="3200" spc="-1" strike="noStrike" baseline="-18000">
                <a:solidFill>
                  <a:srgbClr val="ff33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46F9-9524-4D8C-8C29-12AE3E8C3F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5480" y="189000"/>
            <a:ext cx="806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RP Protoc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81000" y="1506600"/>
            <a:ext cx="7221600" cy="5172120"/>
            <a:chOff x="981000" y="1506600"/>
            <a:chExt cx="7221600" cy="5172120"/>
          </a:xfrm>
        </p:grpSpPr>
        <p:graphicFrame>
          <p:nvGraphicFramePr>
            <p:cNvPr id="85" name=""/>
            <p:cNvGraphicFramePr/>
            <p:nvPr/>
          </p:nvGraphicFramePr>
          <p:xfrm>
            <a:off x="1379520" y="1506600"/>
            <a:ext cx="6764400" cy="507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9520" y="1506600"/>
                      <a:ext cx="6764400" cy="507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981000" y="6321600"/>
              <a:ext cx="722160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86D2-A4A0-4F6E-AA88-8C16D23C2E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06320" y="361800"/>
            <a:ext cx="7772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ARP Cac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0520" y="1338120"/>
            <a:ext cx="825012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P hosts maintain </a:t>
            </a:r>
            <a:r>
              <a:rPr b="0" lang="en-US" sz="3200" spc="-1" strike="noStrike">
                <a:solidFill>
                  <a:srgbClr val="3366ff"/>
                </a:solidFill>
                <a:latin typeface="Arial Narrow"/>
              </a:rPr>
              <a:t>ARP cach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able of hardware addresses learned through ARP process)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formation kept in </a:t>
            </a:r>
            <a:r>
              <a:rPr b="0" lang="en-US" sz="3200" spc="-1" strike="noStrike">
                <a:solidFill>
                  <a:srgbClr val="3366ff"/>
                </a:solidFill>
                <a:latin typeface="Arial Narrow"/>
                <a:ea typeface="Arial"/>
              </a:rPr>
              <a:t>ARP cach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periodically removed (TTL) to allow timely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4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nder’s IP-to-physical address binding included in every ARP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4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eivers use information to update their </a:t>
            </a:r>
            <a:r>
              <a:rPr b="0" lang="en-US" sz="2800" spc="-1" strike="noStrike">
                <a:solidFill>
                  <a:srgbClr val="3366ff"/>
                </a:solidFill>
                <a:latin typeface="Arial Narrow"/>
              </a:rPr>
              <a:t>cach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efore processing ARP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8B4E-2BDC-4055-A469-CCD416430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0600" y="247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Reverse ARP (RARP)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6400" y="1147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Diskless computer does not know its IP address at startup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olution: Obtain its IP address from server by broadcasting its hardware address (</a:t>
            </a:r>
            <a:r>
              <a:rPr b="0" lang="en-US" sz="4000" spc="-1" strike="noStrike">
                <a:solidFill>
                  <a:srgbClr val="3333cc"/>
                </a:solidFill>
                <a:latin typeface="Arial Narrow"/>
              </a:rPr>
              <a:t>RARP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ARP servers perform table lookup to find mapping and reply to sender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28DA-7BA0-4EBE-A763-54EC43EA43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2:11:22Z</dcterms:created>
  <dc:creator/>
  <dc:description/>
  <dc:language>en-US</dc:language>
  <cp:lastModifiedBy> </cp:lastModifiedBy>
  <dcterms:modified xsi:type="dcterms:W3CDTF">2004-10-13T05:44:55Z</dcterms:modified>
  <cp:revision>59</cp:revision>
  <dc:subject/>
  <dc:title>Chap. 3 - 6</dc:title>
</cp:coreProperties>
</file>