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5177-D7E0-40B2-A8B4-BEAD74D75A75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9240" y="555480"/>
            <a:ext cx="8042040" cy="44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70000"/>
              </a:lnSpc>
              <a:spcBef>
                <a:spcPts val="450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	</a:t>
            </a: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	</a:t>
            </a: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Internet Protocol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 Narrow"/>
              </a:rPr>
              <a:t>Chapter 7: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nectionless Datagram Delivery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 Narrow"/>
              </a:rPr>
              <a:t>Chapter 8: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outing IP Datagrams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 Narrow"/>
              </a:rPr>
              <a:t>Chapter 9: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rror and Control Messages (ICMP)</a:t>
            </a:r>
            <a:endParaRPr b="0" lang="en-US" sz="36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Fragmentation</a:t>
            </a:r>
            <a:endParaRPr b="0" lang="en-US" sz="5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822840" y="3314880"/>
            <a:ext cx="1465200" cy="1371600"/>
          </a:xfrm>
          <a:custGeom>
            <a:avLst/>
            <a:gdLst/>
            <a:ahLst/>
            <a:rect l="l" t="t" r="r" b="b"/>
            <a:pathLst>
              <a:path w="923" h="864">
                <a:moveTo>
                  <a:pt x="80" y="331"/>
                </a:moveTo>
                <a:lnTo>
                  <a:pt x="102" y="278"/>
                </a:lnTo>
                <a:lnTo>
                  <a:pt x="88" y="234"/>
                </a:lnTo>
                <a:lnTo>
                  <a:pt x="88" y="190"/>
                </a:lnTo>
                <a:lnTo>
                  <a:pt x="88" y="146"/>
                </a:lnTo>
                <a:lnTo>
                  <a:pt x="102" y="102"/>
                </a:lnTo>
                <a:lnTo>
                  <a:pt x="146" y="73"/>
                </a:lnTo>
                <a:lnTo>
                  <a:pt x="190" y="44"/>
                </a:lnTo>
                <a:lnTo>
                  <a:pt x="234" y="29"/>
                </a:lnTo>
                <a:lnTo>
                  <a:pt x="278" y="29"/>
                </a:lnTo>
                <a:lnTo>
                  <a:pt x="322" y="29"/>
                </a:lnTo>
                <a:lnTo>
                  <a:pt x="366" y="44"/>
                </a:lnTo>
                <a:lnTo>
                  <a:pt x="424" y="58"/>
                </a:lnTo>
                <a:lnTo>
                  <a:pt x="468" y="29"/>
                </a:lnTo>
                <a:lnTo>
                  <a:pt x="512" y="14"/>
                </a:lnTo>
                <a:lnTo>
                  <a:pt x="556" y="0"/>
                </a:lnTo>
                <a:lnTo>
                  <a:pt x="600" y="0"/>
                </a:lnTo>
                <a:lnTo>
                  <a:pt x="644" y="0"/>
                </a:lnTo>
                <a:lnTo>
                  <a:pt x="688" y="14"/>
                </a:lnTo>
                <a:lnTo>
                  <a:pt x="717" y="58"/>
                </a:lnTo>
                <a:lnTo>
                  <a:pt x="732" y="102"/>
                </a:lnTo>
                <a:lnTo>
                  <a:pt x="732" y="146"/>
                </a:lnTo>
                <a:lnTo>
                  <a:pt x="746" y="190"/>
                </a:lnTo>
                <a:lnTo>
                  <a:pt x="790" y="205"/>
                </a:lnTo>
                <a:lnTo>
                  <a:pt x="834" y="234"/>
                </a:lnTo>
                <a:lnTo>
                  <a:pt x="863" y="278"/>
                </a:lnTo>
                <a:lnTo>
                  <a:pt x="907" y="307"/>
                </a:lnTo>
                <a:lnTo>
                  <a:pt x="907" y="351"/>
                </a:lnTo>
                <a:lnTo>
                  <a:pt x="922" y="395"/>
                </a:lnTo>
                <a:lnTo>
                  <a:pt x="922" y="439"/>
                </a:lnTo>
                <a:lnTo>
                  <a:pt x="922" y="497"/>
                </a:lnTo>
                <a:lnTo>
                  <a:pt x="922" y="541"/>
                </a:lnTo>
                <a:lnTo>
                  <a:pt x="878" y="570"/>
                </a:lnTo>
                <a:lnTo>
                  <a:pt x="819" y="614"/>
                </a:lnTo>
                <a:lnTo>
                  <a:pt x="775" y="629"/>
                </a:lnTo>
                <a:lnTo>
                  <a:pt x="732" y="687"/>
                </a:lnTo>
                <a:lnTo>
                  <a:pt x="732" y="731"/>
                </a:lnTo>
                <a:lnTo>
                  <a:pt x="717" y="775"/>
                </a:lnTo>
                <a:lnTo>
                  <a:pt x="688" y="819"/>
                </a:lnTo>
                <a:lnTo>
                  <a:pt x="629" y="848"/>
                </a:lnTo>
                <a:lnTo>
                  <a:pt x="585" y="863"/>
                </a:lnTo>
                <a:lnTo>
                  <a:pt x="541" y="863"/>
                </a:lnTo>
                <a:lnTo>
                  <a:pt x="497" y="863"/>
                </a:lnTo>
                <a:lnTo>
                  <a:pt x="453" y="863"/>
                </a:lnTo>
                <a:lnTo>
                  <a:pt x="395" y="848"/>
                </a:lnTo>
                <a:lnTo>
                  <a:pt x="351" y="775"/>
                </a:lnTo>
                <a:lnTo>
                  <a:pt x="322" y="731"/>
                </a:lnTo>
                <a:lnTo>
                  <a:pt x="263" y="717"/>
                </a:lnTo>
                <a:lnTo>
                  <a:pt x="219" y="717"/>
                </a:lnTo>
                <a:lnTo>
                  <a:pt x="175" y="731"/>
                </a:lnTo>
                <a:lnTo>
                  <a:pt x="117" y="731"/>
                </a:lnTo>
                <a:lnTo>
                  <a:pt x="73" y="717"/>
                </a:lnTo>
                <a:lnTo>
                  <a:pt x="44" y="673"/>
                </a:lnTo>
                <a:lnTo>
                  <a:pt x="14" y="629"/>
                </a:lnTo>
                <a:lnTo>
                  <a:pt x="0" y="585"/>
                </a:lnTo>
                <a:lnTo>
                  <a:pt x="0" y="541"/>
                </a:lnTo>
                <a:lnTo>
                  <a:pt x="0" y="497"/>
                </a:lnTo>
                <a:lnTo>
                  <a:pt x="0" y="453"/>
                </a:lnTo>
                <a:lnTo>
                  <a:pt x="0" y="409"/>
                </a:lnTo>
                <a:lnTo>
                  <a:pt x="0" y="351"/>
                </a:lnTo>
                <a:lnTo>
                  <a:pt x="44" y="351"/>
                </a:lnTo>
                <a:lnTo>
                  <a:pt x="80" y="331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2160" y="2697120"/>
            <a:ext cx="23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3222720"/>
            <a:ext cx="227196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46440" y="1712880"/>
            <a:ext cx="10299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18360" y="2170080"/>
            <a:ext cx="10573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3541680"/>
            <a:ext cx="520920" cy="520560"/>
          </a:xfrm>
          <a:prstGeom prst="octagon">
            <a:avLst>
              <a:gd name="adj" fmla="val 29278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4840" y="3618000"/>
            <a:ext cx="520560" cy="520560"/>
          </a:xfrm>
          <a:prstGeom prst="octagon">
            <a:avLst>
              <a:gd name="adj" fmla="val 29278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25680" y="222552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4280" y="2703600"/>
            <a:ext cx="0" cy="10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4280" y="3763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840120"/>
            <a:ext cx="4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78320" y="3992400"/>
            <a:ext cx="50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83280" y="3219480"/>
            <a:ext cx="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697120"/>
            <a:ext cx="0" cy="5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46440" y="1790640"/>
            <a:ext cx="106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37080" y="2249640"/>
            <a:ext cx="10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4800" y="4199040"/>
            <a:ext cx="47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40280" y="4275000"/>
            <a:ext cx="47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4480" y="358920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35520" y="40464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U=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040" y="22939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1440" y="2827440"/>
            <a:ext cx="131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U=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17160" y="282744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6280" y="3284640"/>
            <a:ext cx="131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U=1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Datagram Fragments: An Exampl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0720" y="2658960"/>
            <a:ext cx="6761880" cy="2443320"/>
            <a:chOff x="1440720" y="2658960"/>
            <a:chExt cx="6761880" cy="2443320"/>
          </a:xfrm>
        </p:grpSpPr>
        <p:sp>
          <p:nvSpPr>
            <p:cNvPr id="145" name=""/>
            <p:cNvSpPr/>
            <p:nvPr/>
          </p:nvSpPr>
          <p:spPr>
            <a:xfrm>
              <a:off x="1465200" y="2663640"/>
              <a:ext cx="3873600" cy="700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65200" y="3557520"/>
              <a:ext cx="3873600" cy="66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65200" y="4435560"/>
              <a:ext cx="2578320" cy="660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82960" y="2658960"/>
              <a:ext cx="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2960" y="353844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82960" y="4443480"/>
              <a:ext cx="0" cy="65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5920" y="2725560"/>
              <a:ext cx="1498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72800" y="284796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0720" y="3598920"/>
              <a:ext cx="1498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74240" y="372096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16680" y="4483080"/>
              <a:ext cx="1498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1520" y="460512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7480" y="2847960"/>
              <a:ext cx="235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1 (offset 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87840" y="3720960"/>
              <a:ext cx="263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 2 (offset 6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6160" y="4605120"/>
              <a:ext cx="27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GMENT 3 (offset 12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14480" y="1533600"/>
            <a:ext cx="7215120" cy="608040"/>
            <a:chOff x="1014480" y="1533600"/>
            <a:chExt cx="7215120" cy="608040"/>
          </a:xfrm>
        </p:grpSpPr>
        <p:sp>
          <p:nvSpPr>
            <p:cNvPr id="161" name=""/>
            <p:cNvSpPr/>
            <p:nvPr/>
          </p:nvSpPr>
          <p:spPr>
            <a:xfrm>
              <a:off x="1014480" y="1539720"/>
              <a:ext cx="7162560" cy="596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90760" y="1546200"/>
              <a:ext cx="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2040" y="1558800"/>
              <a:ext cx="0" cy="582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72200" y="1533600"/>
              <a:ext cx="0" cy="58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29240" y="1562040"/>
              <a:ext cx="1362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66760" y="1536840"/>
              <a:ext cx="1172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 oct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5280" y="1562040"/>
              <a:ext cx="1172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 oct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7440" y="1562040"/>
              <a:ext cx="1172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 oct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46200" y="5513400"/>
            <a:ext cx="78786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LAGS and FRAGMENT OFFSET fields, fragment header is same as original datagram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Fragmentation Control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" y="1228680"/>
            <a:ext cx="812484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ICATION field uniquely identifies datagr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RAGMENT OFFSET field specifies, in units of 8 octets, distance of fragment from start of original data bloc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w-order 2 bits of FLAG control fragmen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3200" indent="-40032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o-not-fragm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it prohibits fragmentation when s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3200" indent="-40032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more-fragm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it indicates whether this is last fragment in original datagra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assembly of Fragment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680" y="1166760"/>
            <a:ext cx="8043840" cy="511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re should fragments be reassembled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TCP/IP fragments proceed independently to destination before reassemb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duce router workloa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efficiency of carrying small frag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ability of datagram loss increases due to loss of frag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Other Fields in Datagram Header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5840" y="1108080"/>
            <a:ext cx="8132760" cy="509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Time to Liv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(TTL) specifies how many hops datagram is allowed to take before it is dropp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field identifies which high-level protocol was used to create datagram (TCP,UDP,ICMP,..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Header-Checksum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nsures integrity of header val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Destination IP Addre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 Narrow"/>
              </a:rPr>
              <a:t>IP Op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P Option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54120" y="2455920"/>
            <a:ext cx="7772400" cy="349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12880" y="1278000"/>
            <a:ext cx="73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ly used for network testing and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No Opera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figure0711" descr=""/>
          <p:cNvPicPr/>
          <p:nvPr/>
        </p:nvPicPr>
        <p:blipFill>
          <a:blip r:embed="rId1"/>
          <a:stretch/>
        </p:blipFill>
        <p:spPr>
          <a:xfrm>
            <a:off x="460440" y="2847960"/>
            <a:ext cx="8277120" cy="2712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66640" y="1450800"/>
            <a:ext cx="78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align octets in a list of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igure0712" descr=""/>
          <p:cNvPicPr/>
          <p:nvPr/>
        </p:nvPicPr>
        <p:blipFill>
          <a:blip r:embed="rId1"/>
          <a:stretch/>
        </p:blipFill>
        <p:spPr>
          <a:xfrm>
            <a:off x="1041480" y="3246480"/>
            <a:ext cx="7292880" cy="2368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nd of Op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40796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if options do not end at end of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cord Route Op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rce creates empty list of IP addresses in hea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Record route optio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de 7, length (including first three), and poin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router that handles datagram appends its IP address to li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tination machine can extract and process route inform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cord Rout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2560" y="3009960"/>
            <a:ext cx="7772400" cy="293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84080" y="1335240"/>
            <a:ext cx="77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source to create empty list of IP addresses and arrange for each router that handles datagram to add its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54120" y="1600200"/>
            <a:ext cx="792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Connectionless Datagram Delivery</a:t>
            </a: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ource Route Op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dictates path through internet over which datagram must tra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lists IP addresses (in order) of route  datagram should tak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sets source route op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ource Route Option (cont)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72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rict source rou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th between two successive addresses in list must consist of  single physical net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ose source rou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gram must follow sequence of IP addresses in li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ows multiple network hops between successive addresses on li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Strict Source Rout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849320"/>
            <a:ext cx="77724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12880" y="1800360"/>
            <a:ext cx="7950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Loose Source Rout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1854360"/>
            <a:ext cx="7772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imestamp Op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creates empty list in hea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enables timestamp op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router that handles datagram appends to list it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P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cal timestamp (in Universal Ti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nternet Timestamp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68360" y="1447920"/>
            <a:ext cx="625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36760" y="581040"/>
            <a:ext cx="6299280" cy="1684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22360" y="2960640"/>
            <a:ext cx="62992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5720" y="366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Processing Options During Fragmentation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5760" y="1447920"/>
            <a:ext cx="80802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fragmenting datagr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 replicates some IP options in all frag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Rou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 replicates some IP options in only one frag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ord Rou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080" y="255600"/>
            <a:ext cx="8751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onceptual Layers of Internet Servic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2" name=""/>
          <p:cNvSpPr/>
          <p:nvPr/>
        </p:nvSpPr>
        <p:spPr>
          <a:xfrm>
            <a:off x="1550880" y="3790800"/>
            <a:ext cx="6388200" cy="749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03640" y="3048120"/>
            <a:ext cx="4940280" cy="749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38600" y="2217600"/>
            <a:ext cx="38732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65240" y="2403360"/>
            <a:ext cx="38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65840" y="3195720"/>
            <a:ext cx="501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TRANSPOR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63280" y="3938760"/>
            <a:ext cx="596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699080"/>
            <a:ext cx="76201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42440" y="4770360"/>
            <a:ext cx="29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Network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968640"/>
            <a:ext cx="420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22596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8120" y="2247840"/>
            <a:ext cx="2260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,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, Web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5840" y="217440"/>
            <a:ext cx="8443800" cy="82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Purpose of Internet Protocol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6160" y="1201320"/>
            <a:ext cx="8196120" cy="50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provides </a:t>
            </a:r>
            <a:r>
              <a:rPr b="0" i="1" lang="en-US" sz="3200" spc="-1" strike="noStrike">
                <a:solidFill>
                  <a:srgbClr val="0066ff"/>
                </a:solidFill>
                <a:latin typeface="Arial Narrow"/>
              </a:rPr>
              <a:t>connectionles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3200" spc="-1" strike="noStrike">
                <a:solidFill>
                  <a:srgbClr val="0066ff"/>
                </a:solidFill>
                <a:latin typeface="Arial Narrow"/>
              </a:rPr>
              <a:t>unreliabl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3200" spc="-1" strike="noStrike">
                <a:solidFill>
                  <a:srgbClr val="0066ff"/>
                </a:solidFill>
                <a:latin typeface="Arial Narrow"/>
              </a:rPr>
              <a:t>best-effor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cket delivery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defines hardware-independent packet format:   IP datagr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software performs link-to-link routing fun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defines set of rules hosts and routers follow to process datagrams and handle error condi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Pv4 Datagram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3960" y="1468440"/>
            <a:ext cx="6464160" cy="450720"/>
            <a:chOff x="1353960" y="1468440"/>
            <a:chExt cx="6464160" cy="450720"/>
          </a:xfrm>
        </p:grpSpPr>
        <p:sp>
          <p:nvSpPr>
            <p:cNvPr id="57" name=""/>
            <p:cNvSpPr/>
            <p:nvPr/>
          </p:nvSpPr>
          <p:spPr>
            <a:xfrm>
              <a:off x="1353960" y="1474920"/>
              <a:ext cx="6464160" cy="44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8840" y="14684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62960" y="1500120"/>
              <a:ext cx="21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datagram 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58000" y="150192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159920" y="2690640"/>
            <a:ext cx="6941520" cy="393840"/>
            <a:chOff x="1159920" y="2690640"/>
            <a:chExt cx="6941520" cy="393840"/>
          </a:xfrm>
        </p:grpSpPr>
        <p:sp>
          <p:nvSpPr>
            <p:cNvPr id="62" name=""/>
            <p:cNvSpPr/>
            <p:nvPr/>
          </p:nvSpPr>
          <p:spPr>
            <a:xfrm>
              <a:off x="1159920" y="26906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94800" y="26906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36680" y="26906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21680" y="26906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7920" y="26906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98400" y="26906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72840" y="26906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784680" y="1936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IP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05000" y="3133800"/>
          <a:ext cx="6568920" cy="2987640"/>
        </p:xfrm>
        <a:graphic>
          <a:graphicData uri="http://schemas.openxmlformats.org/drawingml/2006/table">
            <a:tbl>
              <a:tblPr/>
              <a:tblGrid>
                <a:gridCol w="755640"/>
                <a:gridCol w="876240"/>
                <a:gridCol w="1647720"/>
                <a:gridCol w="851040"/>
                <a:gridCol w="482400"/>
                <a:gridCol w="1955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IC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GMENT OFF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 TO L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ADER CHECKS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 IP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 gridSpan="5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OPTIONS (IF A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D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Service Type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25532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-bit field specifies how datagram should be handl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430524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00  n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1  networ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1120" y="4305240"/>
            <a:ext cx="324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 of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10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gh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01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g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141640" y="1984320"/>
            <a:ext cx="4809960" cy="798480"/>
            <a:chOff x="2141640" y="1984320"/>
            <a:chExt cx="4809960" cy="798480"/>
          </a:xfrm>
        </p:grpSpPr>
        <p:sp>
          <p:nvSpPr>
            <p:cNvPr id="76" name=""/>
            <p:cNvSpPr/>
            <p:nvPr/>
          </p:nvSpPr>
          <p:spPr>
            <a:xfrm>
              <a:off x="2141640" y="2414520"/>
              <a:ext cx="48099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13400" y="2421000"/>
              <a:ext cx="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3960" y="2421000"/>
              <a:ext cx="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21440" y="2421000"/>
              <a:ext cx="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29480" y="2421000"/>
              <a:ext cx="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43240" y="1984320"/>
              <a:ext cx="4466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        1         2         3         4         5        6       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5840" y="2432160"/>
              <a:ext cx="1591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ED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09760" y="243216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32200" y="2432160"/>
              <a:ext cx="30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52840" y="243216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7640" y="2427120"/>
              <a:ext cx="103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93560" y="3162240"/>
            <a:ext cx="83077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EDENCE bits indicate importance of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D, T, R specify type of transport desired for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Differentiated Services (DS)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507960" y="1255680"/>
            <a:ext cx="77724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efine meaning of 8-bit SERVICE TYP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27240" y="1913040"/>
            <a:ext cx="4809960" cy="798480"/>
            <a:chOff x="2127240" y="1913040"/>
            <a:chExt cx="4809960" cy="798480"/>
          </a:xfrm>
        </p:grpSpPr>
        <p:sp>
          <p:nvSpPr>
            <p:cNvPr id="91" name=""/>
            <p:cNvSpPr/>
            <p:nvPr/>
          </p:nvSpPr>
          <p:spPr>
            <a:xfrm>
              <a:off x="2127240" y="2343240"/>
              <a:ext cx="48099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5080" y="2349720"/>
              <a:ext cx="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8840" y="1913040"/>
              <a:ext cx="4466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        1         2         3         4         5        6       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65200" y="2359080"/>
              <a:ext cx="213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POINT (DSC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53240" y="2355840"/>
              <a:ext cx="103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79520" y="3013200"/>
            <a:ext cx="83073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backward compatibility with origin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x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edence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dministrative groups for codepoin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336920" y="3774960"/>
            <a:ext cx="88920" cy="542880"/>
          </a:xfrm>
          <a:custGeom>
            <a:avLst/>
            <a:gdLst>
              <a:gd name="textAreaLeft" fmla="*/ 0 w 88920"/>
              <a:gd name="textAreaRight" fmla="*/ 32040 w 88920"/>
              <a:gd name="textAreaTop" fmla="*/ 14040 h 542880"/>
              <a:gd name="textAreaBottom" fmla="*/ 5288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9280" y="4997520"/>
            <a:ext cx="6316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o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depoi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Assigned By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xxx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organ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xxx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experimental           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xxx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experimental for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Datagram Encapsulat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" y="3979800"/>
            <a:ext cx="781344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network limits amount of data transferred in one physical frame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9560">
              <a:lnSpc>
                <a:spcPct val="10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MTU = 150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349560">
              <a:lnSpc>
                <a:spcPct val="10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 MTU = 447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0440" y="1327320"/>
            <a:ext cx="7187040" cy="1911240"/>
            <a:chOff x="820440" y="1327320"/>
            <a:chExt cx="7187040" cy="1911240"/>
          </a:xfrm>
        </p:grpSpPr>
        <p:sp>
          <p:nvSpPr>
            <p:cNvPr id="102" name=""/>
            <p:cNvSpPr/>
            <p:nvPr/>
          </p:nvSpPr>
          <p:spPr>
            <a:xfrm>
              <a:off x="3121200" y="1455840"/>
              <a:ext cx="4878360" cy="53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87680" y="2627280"/>
              <a:ext cx="6319800" cy="61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84600" y="1444680"/>
              <a:ext cx="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29120" y="26161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0000" y="2016000"/>
              <a:ext cx="0" cy="5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2016000"/>
              <a:ext cx="0" cy="5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51080" y="1467000"/>
              <a:ext cx="1393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GRAM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69800" y="1555920"/>
              <a:ext cx="272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 DATA 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19440" y="2643120"/>
              <a:ext cx="1185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65800" y="2765520"/>
              <a:ext cx="226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 DATA 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0440" y="1327320"/>
              <a:ext cx="2049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IPv4, dat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be up to 65,5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ctets in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137040" y="3373560"/>
            <a:ext cx="4871880" cy="442440"/>
            <a:chOff x="3137040" y="3373560"/>
            <a:chExt cx="4871880" cy="442440"/>
          </a:xfrm>
        </p:grpSpPr>
        <p:sp>
          <p:nvSpPr>
            <p:cNvPr id="114" name=""/>
            <p:cNvSpPr/>
            <p:nvPr/>
          </p:nvSpPr>
          <p:spPr>
            <a:xfrm>
              <a:off x="3137040" y="3373560"/>
              <a:ext cx="487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0520" y="3452760"/>
              <a:ext cx="315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Maximum transfer unit (MT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00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fficiency Vs. Siz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3200" y="1177920"/>
            <a:ext cx="810756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imiting datagrams to fit smallest MTU makes transfers inefficient for network with larger M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rger datagrams may not fit entirely into single network frame with smaller M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CP/IP software chooses initial size of datagra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uters perform </a:t>
            </a:r>
            <a:r>
              <a:rPr b="0" lang="en-US" sz="3200" spc="-1" strike="noStrike">
                <a:solidFill>
                  <a:srgbClr val="0066ff"/>
                </a:solidFill>
                <a:latin typeface="Arial Narrow"/>
              </a:rPr>
              <a:t>fragmenta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hen forwarding datagrams over networks with smaller MTU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0-20T00:14:21Z</dcterms:modified>
  <cp:revision>76</cp:revision>
  <dc:subject/>
  <dc:title>Chap 7 - 9</dc:title>
</cp:coreProperties>
</file>