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4625-C421-4793-A6A5-037117F134FA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600200"/>
            <a:ext cx="7772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Routing IP Datagram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(Chapter 8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Hosts Vs. Router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03280" y="1335240"/>
            <a:ext cx="4907160" cy="3706560"/>
            <a:chOff x="503280" y="1335240"/>
            <a:chExt cx="4907160" cy="3706560"/>
          </a:xfrm>
        </p:grpSpPr>
        <p:sp>
          <p:nvSpPr>
            <p:cNvPr id="42" name=""/>
            <p:cNvSpPr/>
            <p:nvPr/>
          </p:nvSpPr>
          <p:spPr>
            <a:xfrm>
              <a:off x="1636560" y="1335240"/>
              <a:ext cx="0" cy="37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23920" y="1643040"/>
              <a:ext cx="1130400" cy="44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23920" y="3841560"/>
              <a:ext cx="1130400" cy="44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0080" y="29206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50960" y="185400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50960" y="40636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1960" y="1698480"/>
              <a:ext cx="44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1960" y="3897000"/>
              <a:ext cx="44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03280" y="2647800"/>
              <a:ext cx="765000" cy="520200"/>
              <a:chOff x="503280" y="2647800"/>
              <a:chExt cx="765000" cy="520200"/>
            </a:xfrm>
          </p:grpSpPr>
          <p:sp>
            <p:nvSpPr>
              <p:cNvPr id="51" name=""/>
              <p:cNvSpPr/>
              <p:nvPr/>
            </p:nvSpPr>
            <p:spPr>
              <a:xfrm>
                <a:off x="503280" y="2647800"/>
                <a:ext cx="765000" cy="52020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800" y="2741040"/>
                <a:ext cx="7437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3174840" y="1854000"/>
              <a:ext cx="58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74840" y="4063680"/>
              <a:ext cx="58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43280" y="1514160"/>
              <a:ext cx="1641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hs to s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tin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2920" y="3876480"/>
              <a:ext cx="16675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hs to o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tin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54160" y="1323720"/>
            <a:ext cx="3103560" cy="47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rs’ primary purpose is making IP routing decis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9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sts must also make routing decisions, even if they connect to only one net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9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sts should not handle datagram-forwarding fun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Direct Vs. Indirect Delivery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0200" y="1176120"/>
            <a:ext cx="8132760" cy="507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Arial Narrow"/>
              </a:rPr>
              <a:t>Direct delivery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ccurs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source and destination hosts attached to same physical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 does source know if destination is on same network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rect delivery is final step of routing  datagra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Arial Narrow"/>
              </a:rPr>
              <a:t>Indirect delivery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ccurs when destination is not on directly attached network, so source seeks help of rou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7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outing Table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139400"/>
            <a:ext cx="7851960" cy="521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software only keeps info about destination network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ze of routing table depends on number of networks in inter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default routes wherever appropriate - collapse multiple entries into one default ca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P software allows host-specific routes for testing or control access for security purpo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2087640" y="4911480"/>
            <a:ext cx="9936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9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Next-Hop Routing Table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725560" y="1216080"/>
          <a:ext cx="3756240" cy="2009880"/>
        </p:xfrm>
        <a:graphic>
          <a:graphicData uri="http://schemas.openxmlformats.org/drawingml/2006/table">
            <a:tbl>
              <a:tblPr/>
              <a:tblGrid>
                <a:gridCol w="1738440"/>
                <a:gridCol w="201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work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xt Hop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137.145.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Direct Deli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151.20.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Direct Deli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202.74.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Direct Deli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130.166.9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80"/>
                          </a:solidFill>
                          <a:latin typeface="Arial Narrow"/>
                        </a:rPr>
                        <a:t>202.74.5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Arial Narrow"/>
                        </a:rPr>
                        <a:t>All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151.20.0.5 (defaul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743280" y="4160880"/>
            <a:ext cx="3651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6360" y="5072040"/>
            <a:ext cx="2617560" cy="460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97320" y="4160520"/>
            <a:ext cx="625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52760" y="5046840"/>
            <a:ext cx="766800" cy="34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9960" y="4362480"/>
            <a:ext cx="45540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4349880"/>
            <a:ext cx="457200" cy="236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417348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311520" y="4160880"/>
            <a:ext cx="468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7760" y="5532480"/>
            <a:ext cx="144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954760" y="5532480"/>
            <a:ext cx="648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4760" y="331632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37.145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2320" y="3789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 151.20.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88480" y="51195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 202.74.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29680" y="431784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51.20.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71800" y="3938760"/>
            <a:ext cx="1440" cy="21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1360440" y="5000400"/>
            <a:ext cx="4269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1360440" y="5659200"/>
            <a:ext cx="4269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360440" y="4359240"/>
            <a:ext cx="42696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79400" y="4490640"/>
            <a:ext cx="4129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81200" y="5808600"/>
            <a:ext cx="42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2640" y="5156280"/>
            <a:ext cx="42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07840" y="595008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2.74.5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40560" y="5792760"/>
            <a:ext cx="455400" cy="2365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9680" y="5794200"/>
            <a:ext cx="457200" cy="2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4363920"/>
            <a:ext cx="4557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21120" y="4175280"/>
            <a:ext cx="18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4329000"/>
            <a:ext cx="457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51360" y="5775480"/>
            <a:ext cx="457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4762440"/>
            <a:ext cx="457200" cy="28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65520" y="32670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outing table in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IP Routing Algorithm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649880" y="1238400"/>
            <a:ext cx="593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RouteDatagram (Datagram, Routing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5480" y="1812960"/>
            <a:ext cx="6885000" cy="39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destination IP address, D from datagr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estination network address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matches any directly connected network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atagram directly over that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D appears as a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ost-specific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atagram to next-hop specified i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in routing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atagram to next-hop specified i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the table contains a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faul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atagram to the defaul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declare routing err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outing with IP Addresses Only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97640" y="1743120"/>
            <a:ext cx="7070040" cy="4142880"/>
            <a:chOff x="1097640" y="1743120"/>
            <a:chExt cx="7070040" cy="4142880"/>
          </a:xfrm>
        </p:grpSpPr>
        <p:sp>
          <p:nvSpPr>
            <p:cNvPr id="100" name=""/>
            <p:cNvSpPr/>
            <p:nvPr/>
          </p:nvSpPr>
          <p:spPr>
            <a:xfrm>
              <a:off x="1157400" y="4800600"/>
              <a:ext cx="7010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7960" y="3282840"/>
              <a:ext cx="2502000" cy="1054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8840" y="3359160"/>
              <a:ext cx="128268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38960" y="2389320"/>
              <a:ext cx="0" cy="10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67080" y="3809880"/>
              <a:ext cx="17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38960" y="425592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59040" y="1743120"/>
              <a:ext cx="1959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GRAM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 ROU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69040" y="3344760"/>
              <a:ext cx="21384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IP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2600" y="3490920"/>
              <a:ext cx="1235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52600" y="4383000"/>
              <a:ext cx="218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 addresses u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7640" y="4879800"/>
              <a:ext cx="289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ysical addresses u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16440" y="5248440"/>
              <a:ext cx="3203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GRAM TO BE S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US </a:t>
              </a: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NEXT HO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69440" y="1871640"/>
              <a:ext cx="267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AMINATION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DATES OF ROU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76600" y="2567160"/>
              <a:ext cx="0" cy="81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0-27T02:42:17Z</dcterms:modified>
  <cp:revision>73</cp:revision>
  <dc:subject/>
  <dc:title>Chap 7 - 9</dc:title>
</cp:coreProperties>
</file>