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03FC-1C45-4F5A-89AC-BE8444AD36A6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600200"/>
            <a:ext cx="7772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Error and Control Messages (ICM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(Chapter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9680" y="15192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ource Quench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st routers have limited queue in which to store arriving datagra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gestion - router is overrun with traffi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-speed computer sends datagrams faster than router can retransmit th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ny computers send datagrams to same router at o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ource Quench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800" y="1305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ongested routers send one message for every datagram they drop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Host that receives source quench messages lowers transmission rate until it stops receiving messages; it then gradually increases the rat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93840" y="4030560"/>
            <a:ext cx="8318520" cy="2362320"/>
            <a:chOff x="393840" y="4030560"/>
            <a:chExt cx="8318520" cy="2362320"/>
          </a:xfrm>
        </p:grpSpPr>
        <p:sp>
          <p:nvSpPr>
            <p:cNvPr id="100" name=""/>
            <p:cNvSpPr/>
            <p:nvPr/>
          </p:nvSpPr>
          <p:spPr>
            <a:xfrm>
              <a:off x="470160" y="403056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8 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840" y="4564080"/>
              <a:ext cx="82296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320" y="54784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0320" y="59356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0320" y="50212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81400" y="456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38800" y="456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280" y="4564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(4)              CODE (0)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0160" y="502128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USED (MUST BE ZER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6280" y="547848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GRAM HEADER AND FIRST 64 BITS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direct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s initialize routing table at start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router detects host using nonoptimal route it sends the host ICMP redirect mess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ter also forwards datagram to its destin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04800" y="4410000"/>
            <a:ext cx="6054480" cy="1417680"/>
            <a:chOff x="1504800" y="4410000"/>
            <a:chExt cx="6054480" cy="1417680"/>
          </a:xfrm>
        </p:grpSpPr>
        <p:grpSp>
          <p:nvGrpSpPr>
            <p:cNvPr id="113" name=""/>
            <p:cNvGrpSpPr/>
            <p:nvPr/>
          </p:nvGrpSpPr>
          <p:grpSpPr>
            <a:xfrm>
              <a:off x="2876400" y="4815000"/>
              <a:ext cx="533160" cy="411120"/>
              <a:chOff x="2876400" y="4815000"/>
              <a:chExt cx="533160" cy="411120"/>
            </a:xfrm>
          </p:grpSpPr>
          <p:sp>
            <p:nvSpPr>
              <p:cNvPr id="114" name=""/>
              <p:cNvSpPr/>
              <p:nvPr/>
            </p:nvSpPr>
            <p:spPr>
              <a:xfrm>
                <a:off x="2876400" y="4815000"/>
                <a:ext cx="414720" cy="38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76400" y="48578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7026120" y="4829400"/>
              <a:ext cx="533160" cy="380880"/>
              <a:chOff x="7026120" y="4829400"/>
              <a:chExt cx="533160" cy="380880"/>
            </a:xfrm>
          </p:grpSpPr>
          <p:sp>
            <p:nvSpPr>
              <p:cNvPr id="117" name=""/>
              <p:cNvSpPr/>
              <p:nvPr/>
            </p:nvSpPr>
            <p:spPr>
              <a:xfrm>
                <a:off x="7026120" y="4829400"/>
                <a:ext cx="4147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26120" y="482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33800" y="4829400"/>
              <a:ext cx="533160" cy="380880"/>
              <a:chOff x="4933800" y="4829400"/>
              <a:chExt cx="533160" cy="380880"/>
            </a:xfrm>
          </p:grpSpPr>
          <p:sp>
            <p:nvSpPr>
              <p:cNvPr id="120" name=""/>
              <p:cNvSpPr/>
              <p:nvPr/>
            </p:nvSpPr>
            <p:spPr>
              <a:xfrm>
                <a:off x="4933800" y="4829400"/>
                <a:ext cx="4147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33800" y="482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562200" y="4410000"/>
              <a:ext cx="1218960" cy="1218960"/>
              <a:chOff x="3562200" y="4410000"/>
              <a:chExt cx="1218960" cy="1218960"/>
            </a:xfrm>
          </p:grpSpPr>
          <p:sp>
            <p:nvSpPr>
              <p:cNvPr id="123" name=""/>
              <p:cNvSpPr/>
              <p:nvPr/>
            </p:nvSpPr>
            <p:spPr>
              <a:xfrm>
                <a:off x="3562200" y="4410000"/>
                <a:ext cx="121896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28600" y="483552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t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504800" y="4410000"/>
              <a:ext cx="1218960" cy="1218960"/>
              <a:chOff x="1504800" y="4410000"/>
              <a:chExt cx="1218960" cy="1218960"/>
            </a:xfrm>
          </p:grpSpPr>
          <p:sp>
            <p:nvSpPr>
              <p:cNvPr id="126" name=""/>
              <p:cNvSpPr/>
              <p:nvPr/>
            </p:nvSpPr>
            <p:spPr>
              <a:xfrm>
                <a:off x="1504800" y="4410000"/>
                <a:ext cx="121896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71200" y="483552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t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723760" y="50198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90760" y="5019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81160" y="50198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48160" y="50198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38560" y="501984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/>
            <p:nvPr/>
          </p:nvCxnSpPr>
          <p:spPr>
            <a:xfrm flipV="1" rot="16200000">
              <a:off x="4470480" y="3853080"/>
              <a:ext cx="405360" cy="3087000"/>
            </a:xfrm>
            <a:prstGeom prst="bentConnector3">
              <a:avLst>
                <a:gd name="adj1" fmla="val -56444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34" name=""/>
            <p:cNvGrpSpPr/>
            <p:nvPr/>
          </p:nvGrpSpPr>
          <p:grpSpPr>
            <a:xfrm>
              <a:off x="5619600" y="4410000"/>
              <a:ext cx="1218960" cy="1218960"/>
              <a:chOff x="5619600" y="4410000"/>
              <a:chExt cx="1218960" cy="1218960"/>
            </a:xfrm>
          </p:grpSpPr>
          <p:sp>
            <p:nvSpPr>
              <p:cNvPr id="135" name=""/>
              <p:cNvSpPr/>
              <p:nvPr/>
            </p:nvSpPr>
            <p:spPr>
              <a:xfrm>
                <a:off x="5619600" y="4410000"/>
                <a:ext cx="1218960" cy="121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86000" y="4835520"/>
                <a:ext cx="685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t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direct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4880" y="2001960"/>
            <a:ext cx="8318520" cy="2361600"/>
            <a:chOff x="434880" y="2001960"/>
            <a:chExt cx="8318520" cy="2361600"/>
          </a:xfrm>
        </p:grpSpPr>
        <p:sp>
          <p:nvSpPr>
            <p:cNvPr id="139" name=""/>
            <p:cNvSpPr/>
            <p:nvPr/>
          </p:nvSpPr>
          <p:spPr>
            <a:xfrm>
              <a:off x="511200" y="200196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8 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4880" y="2535120"/>
              <a:ext cx="8229600" cy="182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60" y="34495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360" y="39067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1360" y="29923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22440" y="2535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9840" y="2535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7320" y="25351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(5)            CODE (0-3)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1200" y="299232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R IP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320" y="344952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GRAM HEADER AND FIRST 64 BITS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ime Exceeded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de 0 - Datagram dropped because TTL reached 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de 1 - Datagram dropped because fragment reassembly time exceed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42800" y="3500280"/>
            <a:ext cx="8318520" cy="2362320"/>
            <a:chOff x="442800" y="3500280"/>
            <a:chExt cx="8318520" cy="2362320"/>
          </a:xfrm>
        </p:grpSpPr>
        <p:sp>
          <p:nvSpPr>
            <p:cNvPr id="152" name=""/>
            <p:cNvSpPr/>
            <p:nvPr/>
          </p:nvSpPr>
          <p:spPr>
            <a:xfrm>
              <a:off x="519120" y="350028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8 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800" y="4033800"/>
              <a:ext cx="82296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9280" y="494820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280" y="540540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280" y="449100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0360" y="4033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87760" y="4033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240" y="40338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(11)           CODE (0-1)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9120" y="449100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USED (MUST BE ZER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5240" y="494820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GRAM HEADER AND FIRST 64 BITS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CMP Timestamp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d to synchronize cloc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esting machine sends ICMP </a:t>
            </a: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timestamp reques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message to another machine, asking current 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ceiving machine returns </a:t>
            </a: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timestamp repl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back to requesting machi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CMP Timestamp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s use three timestamp fields to compute estimates of delay time between them and to synchronize their cloc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8640" y="3306600"/>
            <a:ext cx="8325000" cy="2876400"/>
            <a:chOff x="458640" y="3306600"/>
            <a:chExt cx="8325000" cy="2876400"/>
          </a:xfrm>
        </p:grpSpPr>
        <p:sp>
          <p:nvSpPr>
            <p:cNvPr id="167" name=""/>
            <p:cNvSpPr/>
            <p:nvPr/>
          </p:nvSpPr>
          <p:spPr>
            <a:xfrm>
              <a:off x="541440" y="330660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 8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120" y="3840120"/>
              <a:ext cx="8229600" cy="234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1600" y="47545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1600" y="52117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1600" y="42973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6680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100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440" y="38401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(13 or 14)     CODE (0)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10080" y="4297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560" y="429732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IER                       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8360" y="475452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IGINATE TIMEST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560" y="567684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8640" y="526860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EIVE TIMEST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0440" y="568296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MIT TIMEST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outer Advertisement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3701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CMP supports router discovery scheme allows host to discover router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ters advertise their info periodically, and host discards route if timer for route expi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9440" y="3641760"/>
            <a:ext cx="8325000" cy="2876400"/>
            <a:chOff x="379440" y="3641760"/>
            <a:chExt cx="8325000" cy="2876400"/>
          </a:xfrm>
        </p:grpSpPr>
        <p:sp>
          <p:nvSpPr>
            <p:cNvPr id="184" name=""/>
            <p:cNvSpPr/>
            <p:nvPr/>
          </p:nvSpPr>
          <p:spPr>
            <a:xfrm>
              <a:off x="462240" y="364176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 8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920" y="4175280"/>
              <a:ext cx="8229600" cy="234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00" y="50896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2400" y="55468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2400" y="46324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87600" y="4175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30880" y="4175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240" y="41752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(9)             CODE (0)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30880" y="463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360" y="463248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 ADDRS   ADDR SIZ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LIFE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9160" y="508968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R ADDRESS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360" y="601200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9440" y="555624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FERENCE LEVEL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240" y="601812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2920" y="4626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outer Solicitation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ows host to request immediate advertisement from rout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rrival of solicitation message causes router to send router advertisement mess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63680" y="3800520"/>
            <a:ext cx="8312040" cy="1461960"/>
            <a:chOff x="463680" y="3800520"/>
            <a:chExt cx="8312040" cy="1461960"/>
          </a:xfrm>
        </p:grpSpPr>
        <p:sp>
          <p:nvSpPr>
            <p:cNvPr id="202" name=""/>
            <p:cNvSpPr/>
            <p:nvPr/>
          </p:nvSpPr>
          <p:spPr>
            <a:xfrm>
              <a:off x="539640" y="380052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8 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3680" y="4334040"/>
              <a:ext cx="8229600" cy="92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9800" y="479124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51240" y="43340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08640" y="43340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6120" y="433404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(10)           CODE (0)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9640" y="479124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542520"/>
            <a:ext cx="7958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Internet Control Message Protocol (ICMP)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4840" y="1496520"/>
            <a:ext cx="7489800" cy="466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P defines unreliable, best-effort servi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grams can be lost, duplicated, delayed or delivered out of ord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MP provides information to senders about routing or reachability probl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1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MP only reports errors; it’s up to the host receives ICMP report to take action to correct the err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1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MP can only send report back to original 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CMP Message Delivery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06440" y="4129200"/>
            <a:ext cx="8229600" cy="457200"/>
            <a:chOff x="406440" y="4129200"/>
            <a:chExt cx="8229600" cy="457200"/>
          </a:xfrm>
        </p:grpSpPr>
        <p:sp>
          <p:nvSpPr>
            <p:cNvPr id="44" name=""/>
            <p:cNvSpPr/>
            <p:nvPr/>
          </p:nvSpPr>
          <p:spPr>
            <a:xfrm>
              <a:off x="406440" y="458640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63840" y="412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6440" y="412920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me Header                                                 Frame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6440" y="4129200"/>
              <a:ext cx="8229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463840" y="2986200"/>
            <a:ext cx="6324480" cy="457200"/>
            <a:chOff x="2463840" y="2986200"/>
            <a:chExt cx="6324480" cy="457200"/>
          </a:xfrm>
        </p:grpSpPr>
        <p:sp>
          <p:nvSpPr>
            <p:cNvPr id="49" name=""/>
            <p:cNvSpPr/>
            <p:nvPr/>
          </p:nvSpPr>
          <p:spPr>
            <a:xfrm>
              <a:off x="2540160" y="2986200"/>
              <a:ext cx="60195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63840" y="2986200"/>
              <a:ext cx="63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gram Header                       Datagram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68960" y="29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407440" y="344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8760" y="344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40240" y="1995480"/>
            <a:ext cx="4044960" cy="457200"/>
            <a:chOff x="4440240" y="1995480"/>
            <a:chExt cx="4044960" cy="457200"/>
          </a:xfrm>
        </p:grpSpPr>
        <p:sp>
          <p:nvSpPr>
            <p:cNvPr id="55" name=""/>
            <p:cNvSpPr/>
            <p:nvPr/>
          </p:nvSpPr>
          <p:spPr>
            <a:xfrm>
              <a:off x="4489560" y="1995480"/>
              <a:ext cx="3962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0240" y="1995480"/>
              <a:ext cx="40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CMP Header        ICMP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58080" y="19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207040" y="2452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69360" y="2452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CMP Message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80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ICMP message has its own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ICMP messages begin with same three field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 (1 byte) - identifies mess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DE (1 byte) - information about message ty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ECKSUM (2 bytes) - covers ICMP mess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jor ICMP message typ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Control/information mess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MP error messages include header and first 64 data bits of datagram causing probl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CMP TYPE Field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52760" y="1263600"/>
            <a:ext cx="637200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ype Fiel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CMP Message Typ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------------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Echo Rep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Destination Unreach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Source Quen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Redirec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Echo Requ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Router Advertise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Router Solicit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Time Exceeded for Dat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Parameter Problem on Dat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Timestamp Requ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Timestamp Rep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Address Mask Requ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 Narrow"/>
              </a:rPr>
              <a:t>Address Mask Rep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Echo Request and Reply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DENTIFIER and SEQUENCE NUMB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d by sender to match replies with reques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ONAL DA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data in request and rep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5880" y="3936960"/>
            <a:ext cx="8318520" cy="2362320"/>
            <a:chOff x="515880" y="3936960"/>
            <a:chExt cx="8318520" cy="2362320"/>
          </a:xfrm>
        </p:grpSpPr>
        <p:sp>
          <p:nvSpPr>
            <p:cNvPr id="67" name=""/>
            <p:cNvSpPr/>
            <p:nvPr/>
          </p:nvSpPr>
          <p:spPr>
            <a:xfrm>
              <a:off x="591840" y="393696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8 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5880" y="4470480"/>
              <a:ext cx="82296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000" y="53848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2000" y="58420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000" y="49276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03440" y="4470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0840" y="4470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8320" y="44704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(8 or 0)      CODE (0)   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60840" y="4927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8320" y="492768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IER                         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8320" y="538488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TIONAL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Ping Utility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bugging tool invokes ICMP echo request and reply mess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s whether destination reachable and respon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vides statistics about datagram lo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lculates round-trip time (RT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ows user to specify length of data being sent and interval between reque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Destination Unreachable Messag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t when router cannot deliver or forward datagr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93560" y="3038400"/>
            <a:ext cx="8318520" cy="2362320"/>
            <a:chOff x="493560" y="3038400"/>
            <a:chExt cx="8318520" cy="2362320"/>
          </a:xfrm>
        </p:grpSpPr>
        <p:sp>
          <p:nvSpPr>
            <p:cNvPr id="83" name=""/>
            <p:cNvSpPr/>
            <p:nvPr/>
          </p:nvSpPr>
          <p:spPr>
            <a:xfrm>
              <a:off x="569880" y="303840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8                         16                                             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560" y="3571920"/>
              <a:ext cx="82296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0040" y="44863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040" y="49435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0040" y="40291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1120" y="3571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38520" y="3571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6000" y="35719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(3)          CODE (0-12)                     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9880" y="4029120"/>
              <a:ext cx="82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USED (MUST BE ZER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6000" y="4486320"/>
              <a:ext cx="82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GRAM HEADER AND FIRST 64 BITS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Destination Unreachable CODE Field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04920" y="1312920"/>
            <a:ext cx="7221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de Valu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-------------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----------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twork Unreach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st Unreach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tocol Unreach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 Unreach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gmentation needed and DF s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urce Route Fail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tination Network unkn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tination Host Unkn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urce Host Isol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. Administratively prohibited (network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. Administratively prohibited (hos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twork unreachable for type of servi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st unreachable for type of servi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0-31T23:32:21Z</dcterms:modified>
  <cp:revision>81</cp:revision>
  <dc:subject/>
  <dc:title>Chap 7 - 9</dc:title>
</cp:coreProperties>
</file>