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4520" y="838080"/>
            <a:ext cx="845676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520120" y="6310440"/>
            <a:ext cx="4856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D1272E50-7282-46D7-A2E1-828B4BBEECE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764400" y="6462720"/>
            <a:ext cx="1857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pter S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s control signals along just like the data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pelin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54040" y="1800360"/>
            <a:ext cx="6248520" cy="1641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392200" y="4095720"/>
            <a:ext cx="43736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apath wit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05000" y="1209600"/>
            <a:ext cx="6532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5360" y="312840"/>
            <a:ext cx="21542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860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with starting next instruction before first is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endencies that “go backward in time” are data hazard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pend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08280" y="2628720"/>
            <a:ext cx="5541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5360" y="312840"/>
            <a:ext cx="26686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ve compiler guarantee no haz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 do we insert the “nops” ?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, $1, $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12, $2, $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13, $6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14, $2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15, 100($2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:  this really slows us dow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ftwar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5360" y="312840"/>
            <a:ext cx="2755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60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temporary results, don’t wait for them to be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ister file forwarding to handle read/write to same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U forwardin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81240" y="6014880"/>
            <a:ext cx="1468440" cy="544680"/>
            <a:chOff x="1281240" y="6014880"/>
            <a:chExt cx="1468440" cy="544680"/>
          </a:xfrm>
        </p:grpSpPr>
        <p:sp>
          <p:nvSpPr>
            <p:cNvPr id="83" name=""/>
            <p:cNvSpPr txBox="1"/>
            <p:nvPr/>
          </p:nvSpPr>
          <p:spPr>
            <a:xfrm>
              <a:off x="1281240" y="6318360"/>
              <a:ext cx="1468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if this $2 was $13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293920" y="6014880"/>
              <a:ext cx="138240" cy="31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5320" y="2467080"/>
            <a:ext cx="55656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62240" y="1790640"/>
            <a:ext cx="64198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5360" y="312840"/>
            <a:ext cx="31194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1143000"/>
            <a:ext cx="8381880" cy="45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ad word can still cause a haza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struction tries to read a register following a load instruction that writes to the same register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we need a hazard detection unit to “stall” the loa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't always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84240" y="2438280"/>
            <a:ext cx="53895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an stall the pipeline by keeping an instruction in the same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54120" y="1973160"/>
            <a:ext cx="60498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zard Detection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ll by letting an instruction that won’t write anything go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57200" y="2200320"/>
            <a:ext cx="64436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5360" y="312840"/>
            <a:ext cx="24051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600" y="1143000"/>
            <a:ext cx="838188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we decide to branch, other instructions are in the pipeline!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re predicting “branch not tak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to add hardware for flushing instructions if we are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anch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25560" y="1992240"/>
            <a:ext cx="55054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1143000"/>
            <a:ext cx="8381880" cy="44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perfomance by increasing instruction throughpu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 speedup is number of stages in the pipeline.  Do we achieve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54320" y="3460680"/>
            <a:ext cx="663876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9800" y="1795320"/>
            <a:ext cx="533700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5360" y="312840"/>
            <a:ext cx="2166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lushing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5000" y="1362240"/>
            <a:ext cx="65325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v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y and avoid stalls!  E.g., reorder these instruction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w $t0, 0($t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w $t2, 4($t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 $t2, 0($t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 $t0, 4($t1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a “branch delay slo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xt instruction after a branch is alway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y on compiler to “fill” the slot with something usefu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erscalar:  start more than one instruction in the sam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ynamic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1143000"/>
            <a:ext cx="8381880" cy="43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ardware performs the “scheduling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tries to find instructions to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 of order execution i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ulative execution and dynamic branch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modern processors are very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 Alpha 21264:  9 stage pipeline, 6 instruction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PC and Pentium:  branch histor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r technology importa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class has given you the background you need to learn mo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deo:  An Overview of Intel’s Pentium Processor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available from University Video Communic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600" y="1143000"/>
            <a:ext cx="8381880" cy="450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makes it 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instructions are the sam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st a few instruction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 operands appear only in loads and stor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makes it har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al hazards:   suppose we had only on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hazards:  need to worry about branch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hazards:  an instruction depends on a previous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’ll build a simple pipeline and look at these issu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’ll talk about modern processors and what really makes it ha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ption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ying to improve performance with out-of-order execut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ic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1143000"/>
            <a:ext cx="8381880" cy="44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we need to add to actually split the datapath into sta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3720" y="1863720"/>
            <a:ext cx="5429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pelined Data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143000"/>
            <a:ext cx="838188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find a problem even if there are no dependencies? 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nstructions can we execute to manifest the 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48040" y="2066760"/>
            <a:ext cx="505944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ected Data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48040" y="2048040"/>
            <a:ext cx="50594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ically Representing Pip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help with answering questions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many cycles does it take to execute this co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ALU doing during cycle 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this representation to help understand data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8400" y="1390680"/>
            <a:ext cx="487980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pelin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80960" y="1305000"/>
            <a:ext cx="63802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5360" y="312840"/>
            <a:ext cx="13525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have 5 stages.  What needs to be controlled in each st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ion Fetch and PC Inc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ion Decode / Register F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 B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would control be handled in an automobile pl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fancy control center telling everyone what to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uld we use a finite state machin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pelin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d Amon</dc:creator>
  <dc:description/>
  <dc:language>en-US</dc:language>
  <cp:lastModifiedBy>MORGAN KAUFMANN PUBLISHERS</cp:lastModifiedBy>
  <cp:revision>0</cp:revision>
  <dc:subject/>
  <dc:title>Chapter Six</dc:title>
</cp:coreProperties>
</file>