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23.png" ContentType="image/png"/>
  <Override PartName="/ppt/media/image22.wmf" ContentType="image/x-wmf"/>
  <Override PartName="/ppt/media/image11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png" ContentType="image/png"/>
  <Override PartName="/ppt/media/image6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7760" cy="3886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afd8b"/>
                </a:solidFill>
                <a:latin typeface="Times New Roman"/>
              </a:rPr>
              <a:t>Click to move the slide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838188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v1.0 -- 9/29/97 -- Page </a:t>
            </a:r>
            <a:fld id="{EC9AD1B9-EFD9-4525-B366-27C91AECF4C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7760" cy="3886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for inviting me here today to introduce you to The Baan Company. My presentation will take about one hour … then I’ll be happy to answer any questions you might h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I get into exactly why Baan has the best solution for your needs … let me spend just a minute telling you a little bit about our compan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just another way to present the ledger account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7760" cy="3886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ild dimensions are linked to the parent 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7760" cy="3886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dger balance will be updated up to the amount of the sales 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7760" cy="3886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dger balance will be updated up to the amount of the sales 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7760" cy="3886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dger balance will be updated up to the amount of the sales 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7760" cy="3886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dger balance will be updated up to the amount of the sales 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7760" cy="3886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dger balance will be updated up to the amount of the sales 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7760" cy="3886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dger balance will be updated up to the amount of the sales 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company wants to store and report financial information per month. In this case, the fiscal year consists of 12 peri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more, the company wants to store and report financial information per quarter. So, 4 reporting periods will be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tax reports must be delivered per month, 12 tax periods will be crea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purchase invoices a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control purchaes invo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on line means always up to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aging analysis split up invoices (0-30 days; 30-60 days; 60 - &gt; d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customer statement account (outstanding invoices per custom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n doing the pre registration, no financial transactions are made. Pre registration is done by the Maintain Received Purchase Invoices (tfacp1100m000) s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fter approval by the Approve Received Purchase Invoices (tfacp1104m000) session, it is possible to copy the approved invoice to a real purchase invoice by the Copy Received Purchased Invoices (tfacp1210s000) session. This session is to be reached by the Maintain Transactions (tfgld1101m000) session and the Maintain Purchase Invoices (tfacp1110s000) s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no matching with purchase orders is required, ledger accounts and dimensions are entered in the Maintain Purchase Invoice Transactions (tfacp1120s000) ses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ther the matching procedure is used or it is not depends on the Match Purchase Invoices field setting in the Maintain Transaction Types (tfgld0111m000) s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lectronic ba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 used to convert the elctronic bank statesments, and if available, the remittance advice messages and matched them with sales and purchase invoices in BAAN IV FIN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roforma 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sures a sales order is not started until a down payment is made for wich a certain percentage of the order amount can be spec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7760" cy="3886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>
              <a:lnSpc>
                <a:spcPct val="85000"/>
              </a:lnSpc>
              <a:spcBef>
                <a:spcPts val="624"/>
              </a:spcBef>
              <a:buClr>
                <a:srgbClr val="618ffd"/>
              </a:buClr>
              <a:buFont typeface="Monotype Sort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utomatic postings of the integration transaction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o a pre-defined ledger sche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24"/>
              </a:spcBef>
              <a:buClr>
                <a:srgbClr val="618ffd"/>
              </a:buClr>
              <a:buFont typeface="Monotype Sort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utomatic postings to the dimens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(data retrieved from logistic modu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24"/>
              </a:spcBef>
              <a:buClr>
                <a:srgbClr val="618ffd"/>
              </a:buClr>
              <a:buFont typeface="Monotype Sort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l-Time update of the ledger histo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(as soon as the transactions are created in the logistic modu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914400" y="2458800"/>
            <a:ext cx="5029200" cy="603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ancial Integ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AN IV Finance is fully integrated with the other BAAN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ldImg"/>
          </p:nvPr>
        </p:nvSpPr>
        <p:spPr>
          <a:xfrm>
            <a:off x="2344680" y="617400"/>
            <a:ext cx="2135160" cy="1602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inancial Statements module enables the user to define statements, which can be copied, adjusted or printed for a company. Financial statements are based on the data recorded in the other modules of BAAN IV Finance. The basis can, f.e. be ledger accounts and dim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7760" cy="3886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an Finance is fully integrated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actions generated automa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s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s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defined transaction types, dimension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ll down possi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Ledger transactions in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P\ACR detailed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modules are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and quick access to th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multi site f.i. for business units by using dimensions for finance. On the logistic site warehouses and/or workcenters can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33400" y="35892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21960" y="2463480"/>
            <a:ext cx="7389720" cy="172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21960" y="4352400"/>
            <a:ext cx="7389720" cy="172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33400" y="35892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21960" y="2463480"/>
            <a:ext cx="3606120" cy="172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800" y="2463480"/>
            <a:ext cx="3606120" cy="172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21960" y="4352400"/>
            <a:ext cx="3606120" cy="172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8800" y="4352400"/>
            <a:ext cx="3606120" cy="172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33400" y="35892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21960" y="2463480"/>
            <a:ext cx="2379240" cy="172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20720" y="2463480"/>
            <a:ext cx="2379240" cy="172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9120" y="2463480"/>
            <a:ext cx="2379240" cy="172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21960" y="4352400"/>
            <a:ext cx="2379240" cy="172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20720" y="4352400"/>
            <a:ext cx="2379240" cy="172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9120" y="4352400"/>
            <a:ext cx="2379240" cy="172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33400" y="35892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21960" y="2463480"/>
            <a:ext cx="7389720" cy="36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33400" y="35892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21960" y="2463480"/>
            <a:ext cx="7389720" cy="361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33400" y="35892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1960" y="2463480"/>
            <a:ext cx="3606120" cy="361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8800" y="2463480"/>
            <a:ext cx="3606120" cy="361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33400" y="35892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33400" y="358920"/>
            <a:ext cx="72360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33400" y="35892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21960" y="2463480"/>
            <a:ext cx="3606120" cy="172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800" y="2463480"/>
            <a:ext cx="3606120" cy="361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21960" y="4352400"/>
            <a:ext cx="3606120" cy="172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33400" y="35892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21960" y="2463480"/>
            <a:ext cx="3606120" cy="361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800" y="2463480"/>
            <a:ext cx="3606120" cy="172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8800" y="4352400"/>
            <a:ext cx="3606120" cy="172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3400" y="35892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21960" y="2463480"/>
            <a:ext cx="3606120" cy="172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800" y="2463480"/>
            <a:ext cx="3606120" cy="172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21960" y="4352400"/>
            <a:ext cx="7389720" cy="172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640" y="9360"/>
            <a:ext cx="9131040" cy="6845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21960" y="2463480"/>
            <a:ext cx="7389720" cy="361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1000"/>
          </a:bodyPr>
          <a:p>
            <a:pPr marL="258120" indent="-25812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9640" indent="-219600">
              <a:lnSpc>
                <a:spcPct val="95000"/>
              </a:lnSpc>
              <a:spcAft>
                <a:spcPts val="162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48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95000"/>
              </a:lnSpc>
              <a:spcAft>
                <a:spcPts val="1624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lnSpc>
                <a:spcPct val="95000"/>
              </a:lnSpc>
              <a:spcAft>
                <a:spcPts val="1624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872000" indent="-207720">
              <a:lnSpc>
                <a:spcPct val="95000"/>
              </a:lnSpc>
              <a:spcAft>
                <a:spcPts val="1624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872000" indent="-207720">
              <a:lnSpc>
                <a:spcPct val="95000"/>
              </a:lnSpc>
              <a:spcAft>
                <a:spcPts val="1624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33400" y="358920"/>
            <a:ext cx="7236000" cy="133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afd8b"/>
                </a:solidFill>
                <a:latin typeface="Times New Roman"/>
              </a:rPr>
              <a:t>Click to edit the title text format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" Target="slide7.xml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27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34.xml"/><Relationship Id="rId8" Type="http://schemas.openxmlformats.org/officeDocument/2006/relationships/slide" Target="slide8.xml"/><Relationship Id="rId9" Type="http://schemas.openxmlformats.org/officeDocument/2006/relationships/slide" Target="slide39.xml"/><Relationship Id="rId10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33400" y="669600"/>
            <a:ext cx="7236000" cy="71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afd8b"/>
                </a:solidFill>
                <a:latin typeface="Times New Roman"/>
              </a:rPr>
              <a:t>Goal of this presentation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1960" y="2463480"/>
            <a:ext cx="7389720" cy="361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ow the KEY Features  of Baan Fin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how its extensive functionality’s match the company’s requireme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om a Financial Accounting as well as from a Management Accounting point of view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33400" y="35892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46080" bIns="4608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Parent - Child Relation</a:t>
            </a:r>
            <a:br>
              <a:rPr sz="4800"/>
            </a:br>
            <a:r>
              <a:rPr b="1" i="1" lang="en-GB" sz="3200" spc="-1" strike="noStrike">
                <a:solidFill>
                  <a:srgbClr val="fafd8b"/>
                </a:solidFill>
                <a:latin typeface="Times New Roman"/>
              </a:rPr>
              <a:t>Create a user defined  ledger structure</a:t>
            </a:r>
            <a:endParaRPr b="1" i="1" lang="en-US" sz="32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9680" y="2698920"/>
            <a:ext cx="1663560" cy="672840"/>
          </a:xfrm>
          <a:prstGeom prst="cube">
            <a:avLst>
              <a:gd name="adj" fmla="val 24995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Current ass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11840" y="3660840"/>
            <a:ext cx="1663560" cy="673200"/>
          </a:xfrm>
          <a:prstGeom prst="cube">
            <a:avLst>
              <a:gd name="adj" fmla="val 24995"/>
            </a:avLst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AC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9680" y="3689280"/>
            <a:ext cx="1663560" cy="673200"/>
          </a:xfrm>
          <a:prstGeom prst="cube">
            <a:avLst>
              <a:gd name="adj" fmla="val 24995"/>
            </a:avLst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Goods to b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invoic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5960" y="3689280"/>
            <a:ext cx="1663560" cy="673200"/>
          </a:xfrm>
          <a:prstGeom prst="cube">
            <a:avLst>
              <a:gd name="adj" fmla="val 24995"/>
            </a:avLst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Interim Ac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6760" y="4680000"/>
            <a:ext cx="1663560" cy="67320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81520" y="4680000"/>
            <a:ext cx="1663560" cy="67320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65520" y="4638600"/>
            <a:ext cx="1663560" cy="67320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97196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evel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447920" y="3384720"/>
            <a:ext cx="4267080" cy="291960"/>
            <a:chOff x="1447920" y="3384720"/>
            <a:chExt cx="4267080" cy="291960"/>
          </a:xfrm>
        </p:grpSpPr>
        <p:sp>
          <p:nvSpPr>
            <p:cNvPr id="103" name=""/>
            <p:cNvSpPr/>
            <p:nvPr/>
          </p:nvSpPr>
          <p:spPr>
            <a:xfrm>
              <a:off x="3505320" y="3384720"/>
              <a:ext cx="0" cy="29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54040" y="3530520"/>
              <a:ext cx="4254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7920" y="353700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353700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581280" y="4375080"/>
            <a:ext cx="4267440" cy="291960"/>
            <a:chOff x="3581280" y="4375080"/>
            <a:chExt cx="4267440" cy="291960"/>
          </a:xfrm>
        </p:grpSpPr>
        <p:sp>
          <p:nvSpPr>
            <p:cNvPr id="108" name=""/>
            <p:cNvSpPr/>
            <p:nvPr/>
          </p:nvSpPr>
          <p:spPr>
            <a:xfrm>
              <a:off x="5638680" y="4375080"/>
              <a:ext cx="0" cy="29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87760" y="4521240"/>
              <a:ext cx="4254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81280" y="452736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48720" y="452736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285320" y="38289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evel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21960" y="28386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evel 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70280" y="4884840"/>
            <a:ext cx="12160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Times New Roman"/>
              </a:rPr>
              <a:t>ACR U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83040" y="4921200"/>
            <a:ext cx="12160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Times New Roman"/>
              </a:rPr>
              <a:t>ACR E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121520" y="4892760"/>
            <a:ext cx="13161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Times New Roman"/>
              </a:rPr>
              <a:t>ACR A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33400" y="669600"/>
            <a:ext cx="7236000" cy="71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Parent-child relation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33360" y="1457280"/>
            <a:ext cx="6962760" cy="4753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20800" y="3430440"/>
            <a:ext cx="5886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65160" y="1824120"/>
            <a:ext cx="7737480" cy="13716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62280" y="461520"/>
            <a:ext cx="710856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Dimensions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92240" y="3656160"/>
            <a:ext cx="84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.g.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38960" y="4132440"/>
            <a:ext cx="1911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st Cen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76040" y="4595760"/>
            <a:ext cx="12168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41400" y="5369040"/>
            <a:ext cx="1839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4360" y="4113360"/>
            <a:ext cx="352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 Costs per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18800" y="4633920"/>
            <a:ext cx="1809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 Reven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9320" y="5160960"/>
            <a:ext cx="4272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 Other financial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92320" y="1900080"/>
            <a:ext cx="7419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IMENSIONS MAKE IT POSSIBLE TO ANALYSE AND REPORT THE SAME FINANCIAL DATA BY FIVE DIFFERENT VIEW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91160" y="5029200"/>
            <a:ext cx="15048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teg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89040" y="20016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Dimensions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9520" y="5033880"/>
            <a:ext cx="2320920" cy="609840"/>
          </a:xfrm>
          <a:prstGeom prst="roundRect">
            <a:avLst>
              <a:gd name="adj" fmla="val 12495"/>
            </a:avLst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edger ac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48080" y="5076720"/>
            <a:ext cx="2320920" cy="609840"/>
          </a:xfrm>
          <a:prstGeom prst="roundRect">
            <a:avLst>
              <a:gd name="adj" fmla="val 12495"/>
            </a:avLst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imension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88120" y="5479920"/>
            <a:ext cx="2320920" cy="609840"/>
          </a:xfrm>
          <a:prstGeom prst="roundRect">
            <a:avLst>
              <a:gd name="adj" fmla="val 12495"/>
            </a:avLst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imension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9440" y="4554360"/>
            <a:ext cx="2320920" cy="609840"/>
          </a:xfrm>
          <a:prstGeom prst="roundRect">
            <a:avLst>
              <a:gd name="adj" fmla="val 12495"/>
            </a:avLst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imension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20960" y="5294160"/>
            <a:ext cx="620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757840" y="4793760"/>
            <a:ext cx="504720" cy="37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42000" y="5400720"/>
            <a:ext cx="549360" cy="24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39880" y="1328760"/>
            <a:ext cx="4871880" cy="3325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522680" y="2970360"/>
            <a:ext cx="1278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Times New Roman"/>
              </a:rPr>
              <a:t>Cost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Times New Roman"/>
              </a:rPr>
              <a:t>Item Gro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Times New Roman"/>
              </a:rPr>
              <a:t>Business Un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Times New Roman"/>
              </a:rPr>
              <a:t>Sales 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33400" y="35892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Dimensions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360" y="3867120"/>
            <a:ext cx="2320920" cy="609480"/>
          </a:xfrm>
          <a:prstGeom prst="roundRect">
            <a:avLst>
              <a:gd name="adj" fmla="val 12495"/>
            </a:avLst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edger ac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c5e"/>
                </a:solidFill>
                <a:latin typeface="Arial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95520" y="3867120"/>
            <a:ext cx="2320920" cy="609480"/>
          </a:xfrm>
          <a:prstGeom prst="roundRect">
            <a:avLst>
              <a:gd name="adj" fmla="val 12495"/>
            </a:avLst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imension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c5e"/>
                </a:solidFill>
                <a:latin typeface="Arial"/>
              </a:rPr>
              <a:t>SALES REG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50040" y="3867120"/>
            <a:ext cx="2320920" cy="609480"/>
          </a:xfrm>
          <a:prstGeom prst="roundRect">
            <a:avLst>
              <a:gd name="adj" fmla="val 12495"/>
            </a:avLst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imension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c5e"/>
                </a:solidFill>
                <a:latin typeface="Arial"/>
              </a:rPr>
              <a:t>100 =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50040" y="4629240"/>
            <a:ext cx="2320920" cy="609480"/>
          </a:xfrm>
          <a:prstGeom prst="roundRect">
            <a:avLst>
              <a:gd name="adj" fmla="val 12495"/>
            </a:avLst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imension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c5e"/>
                </a:solidFill>
                <a:latin typeface="Arial"/>
              </a:rPr>
              <a:t>200 = Braz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68760" y="4172040"/>
            <a:ext cx="620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22920" y="4172040"/>
            <a:ext cx="620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095640" y="3733920"/>
            <a:ext cx="280800" cy="761760"/>
            <a:chOff x="3095640" y="3733920"/>
            <a:chExt cx="280800" cy="761760"/>
          </a:xfrm>
        </p:grpSpPr>
        <p:sp>
          <p:nvSpPr>
            <p:cNvPr id="149" name=""/>
            <p:cNvSpPr/>
            <p:nvPr/>
          </p:nvSpPr>
          <p:spPr>
            <a:xfrm>
              <a:off x="3095640" y="3733920"/>
              <a:ext cx="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95640" y="4495680"/>
              <a:ext cx="280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512440" y="5192640"/>
            <a:ext cx="3241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 maximum of five </a:t>
            </a: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user defin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imensions can be link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o a ledger accou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87800" y="4716360"/>
            <a:ext cx="0" cy="270000"/>
          </a:xfrm>
          <a:prstGeom prst="line">
            <a:avLst/>
          </a:prstGeom>
          <a:ln w="12708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92200" y="2073240"/>
            <a:ext cx="724716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2400" spc="-1" strike="noStrike">
                <a:solidFill>
                  <a:srgbClr val="fafd8b"/>
                </a:solidFill>
                <a:latin typeface="Times New Roman"/>
              </a:rPr>
              <a:t>Integration Transactions can be posted automatical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2400" spc="-1" strike="noStrike">
                <a:solidFill>
                  <a:srgbClr val="fafd8b"/>
                </a:solidFill>
                <a:latin typeface="Times New Roman"/>
              </a:rPr>
              <a:t>to the financial dimensions based on logistic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2400" spc="-1" strike="noStrike">
                <a:solidFill>
                  <a:srgbClr val="fafd8b"/>
                </a:solidFill>
                <a:latin typeface="Times New Roman"/>
              </a:rPr>
              <a:t>(warehouse etc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54000" y="2082960"/>
            <a:ext cx="486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72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33400" y="403200"/>
            <a:ext cx="7236000" cy="711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afd8b"/>
                </a:solidFill>
                <a:latin typeface="Times New Roman"/>
              </a:rPr>
              <a:t>Dimension Set-up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85960" y="2000160"/>
            <a:ext cx="7486560" cy="3886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3260880" y="1523880"/>
            <a:ext cx="2251080" cy="11779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92960" y="1284120"/>
            <a:ext cx="23583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Parent Dimen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70080" y="3747960"/>
            <a:ext cx="1601640" cy="749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27360" y="4383000"/>
            <a:ext cx="720720" cy="981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16120" y="5122800"/>
            <a:ext cx="2189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Child Dimen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50880" y="390600"/>
            <a:ext cx="7772400" cy="658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8b"/>
                </a:solidFill>
                <a:latin typeface="Times New Roman"/>
              </a:rPr>
              <a:t>Create a sales invoice for Brazil</a:t>
            </a:r>
            <a:endParaRPr b="1" i="1" lang="en-US" sz="4400" spc="-1" strike="noStrike">
              <a:solidFill>
                <a:srgbClr val="fafd8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52680" y="1357200"/>
            <a:ext cx="6038640" cy="4905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124600" y="2395440"/>
            <a:ext cx="706320" cy="563760"/>
          </a:xfrm>
          <a:prstGeom prst="ellipse">
            <a:avLst/>
          </a:prstGeom>
          <a:noFill/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57840" y="2187360"/>
            <a:ext cx="504720" cy="33804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4400" y="1889280"/>
            <a:ext cx="14104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Dimen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50880" y="287280"/>
            <a:ext cx="7772400" cy="866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8b"/>
                </a:solidFill>
                <a:latin typeface="Times New Roman"/>
              </a:rPr>
              <a:t>Display the transactions per Dimension</a:t>
            </a:r>
            <a:br>
              <a:rPr sz="3600"/>
            </a:b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from the Dimensions</a:t>
            </a:r>
            <a:endParaRPr b="1" i="1" lang="en-US" sz="2400" spc="-1" strike="noStrike">
              <a:solidFill>
                <a:srgbClr val="fafd8b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82760" y="1486080"/>
            <a:ext cx="7267680" cy="4695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097160" y="2606760"/>
            <a:ext cx="1371600" cy="352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05360" y="3176640"/>
            <a:ext cx="1371600" cy="352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97560" y="2800440"/>
            <a:ext cx="708120" cy="0"/>
          </a:xfrm>
          <a:prstGeom prst="line">
            <a:avLst/>
          </a:prstGeom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-51120" bIns="-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7480" y="3376440"/>
            <a:ext cx="865080" cy="0"/>
          </a:xfrm>
          <a:prstGeom prst="line">
            <a:avLst/>
          </a:prstGeom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-51120" bIns="-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29800" y="2571840"/>
            <a:ext cx="17960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Child-Dimen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60120" y="3135240"/>
            <a:ext cx="18723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Parent-Dimen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65280" y="325440"/>
            <a:ext cx="7772400" cy="1022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8b"/>
                </a:solidFill>
                <a:latin typeface="Times New Roman"/>
              </a:rPr>
              <a:t>Display the transactions per Dimension</a:t>
            </a:r>
            <a:br>
              <a:rPr sz="3600"/>
            </a:br>
            <a:r>
              <a:rPr b="1" i="1" lang="en-US" sz="3600" spc="-1" strike="noStrike">
                <a:solidFill>
                  <a:srgbClr val="fafd8b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from the Dimensions</a:t>
            </a:r>
            <a:endParaRPr b="1" i="1" lang="en-US" sz="2400" spc="-1" strike="noStrike">
              <a:solidFill>
                <a:srgbClr val="fafd8b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62040" y="1274760"/>
            <a:ext cx="7581960" cy="5162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992240" y="3289320"/>
            <a:ext cx="1327320" cy="390600"/>
          </a:xfrm>
          <a:prstGeom prst="ellipse">
            <a:avLst/>
          </a:prstGeom>
          <a:noFill/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1760" y="3724200"/>
            <a:ext cx="260280" cy="563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78240" y="4344840"/>
            <a:ext cx="1434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Sales 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-829080" y="3825720"/>
            <a:ext cx="325908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Drill Down Pos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50880" y="287280"/>
            <a:ext cx="7772400" cy="866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8b"/>
                </a:solidFill>
                <a:latin typeface="Times New Roman"/>
              </a:rPr>
              <a:t>Display the transactions per Dimension</a:t>
            </a:r>
            <a:br>
              <a:rPr sz="3600"/>
            </a:b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from the ledger account</a:t>
            </a:r>
            <a:endParaRPr b="1" i="1" lang="en-US" sz="2400" spc="-1" strike="noStrike">
              <a:solidFill>
                <a:srgbClr val="fafd8b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76440" y="1236600"/>
            <a:ext cx="7229520" cy="4962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573200" y="4068720"/>
            <a:ext cx="1111320" cy="246240"/>
          </a:xfrm>
          <a:prstGeom prst="ellipse">
            <a:avLst/>
          </a:prstGeom>
          <a:noFill/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10800" y="4016520"/>
            <a:ext cx="12110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Dimen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33400" y="669600"/>
            <a:ext cx="7236000" cy="71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afd8b"/>
                </a:solidFill>
                <a:latin typeface="Times New Roman"/>
              </a:rPr>
              <a:t>Agenda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53920" y="1676520"/>
            <a:ext cx="738972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osition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tailed conte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mpetitive functionali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d we meet the objectiv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50880" y="287280"/>
            <a:ext cx="7772400" cy="866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8b"/>
                </a:solidFill>
                <a:latin typeface="Times New Roman"/>
              </a:rPr>
              <a:t>Display the transactions per Dimension</a:t>
            </a:r>
            <a:br>
              <a:rPr sz="3600"/>
            </a:b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from the ledger account</a:t>
            </a:r>
            <a:endParaRPr b="1" i="1" lang="en-US" sz="2400" spc="-1" strike="noStrike">
              <a:solidFill>
                <a:srgbClr val="fafd8b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62040" y="1236600"/>
            <a:ext cx="7229520" cy="4962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205000" y="1741320"/>
            <a:ext cx="5972040" cy="4067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395440" y="4387680"/>
            <a:ext cx="3073320" cy="230400"/>
          </a:xfrm>
          <a:prstGeom prst="ellipse">
            <a:avLst/>
          </a:prstGeom>
          <a:noFill/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-829080" y="3825720"/>
            <a:ext cx="325908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Drill Down Pos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50880" y="287280"/>
            <a:ext cx="7772400" cy="866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8b"/>
                </a:solidFill>
                <a:latin typeface="Times New Roman"/>
              </a:rPr>
              <a:t>Display the transactions per Dimension</a:t>
            </a:r>
            <a:br>
              <a:rPr sz="3600"/>
            </a:b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from the ledger account</a:t>
            </a:r>
            <a:endParaRPr b="1" i="1" lang="en-US" sz="2400" spc="-1" strike="noStrike">
              <a:solidFill>
                <a:srgbClr val="fafd8b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393920" y="1327320"/>
            <a:ext cx="7191360" cy="4724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44480" y="3693960"/>
            <a:ext cx="1170000" cy="4334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4113360"/>
            <a:ext cx="289080" cy="433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39240" y="4476600"/>
            <a:ext cx="12110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Dimen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-829080" y="3825720"/>
            <a:ext cx="325908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Drill Down Pos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3400" y="35892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3 Calendars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3600" y="1423800"/>
            <a:ext cx="7880400" cy="361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 fontScale="85000"/>
          </a:bodyPr>
          <a:p>
            <a:pPr marL="28440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6000" spc="-1" strike="noStrike">
                <a:solidFill>
                  <a:srgbClr val="ff3300"/>
                </a:solidFill>
                <a:latin typeface="Times New Roman"/>
              </a:rPr>
              <a:t>!</a:t>
            </a:r>
            <a:r>
              <a:rPr b="1" lang="en-GB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cc"/>
                </a:solidFill>
                <a:latin typeface="Arial"/>
              </a:rPr>
              <a:t>Financial reports created for Fiscal or Reporting calenda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5000"/>
              </a:lnSpc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iscal Perio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0800" indent="-213120">
              <a:lnSpc>
                <a:spcPct val="95000"/>
              </a:lnSpc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o split up a fiscal year in standard reporting periods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5000"/>
              </a:lnSpc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porting Perio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0800" indent="-213120">
              <a:lnSpc>
                <a:spcPct val="95000"/>
              </a:lnSpc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d to define alternate reporting periods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5000"/>
              </a:lnSpc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ax Perio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0800" indent="-213120">
              <a:lnSpc>
                <a:spcPct val="95000"/>
              </a:lnSpc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o store tax amounts in periods used for tax repor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30160" y="581040"/>
            <a:ext cx="3948120" cy="6746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i="1" lang="en-GB" sz="4000" spc="-1" strike="noStrike">
                <a:solidFill>
                  <a:srgbClr val="fafd8b"/>
                </a:solidFill>
                <a:latin typeface="Times New Roman"/>
              </a:rPr>
              <a:t>Accounts Payable KEY Features</a:t>
            </a:r>
            <a:endParaRPr b="1" i="1" lang="en-US" sz="40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6280" y="1352160"/>
            <a:ext cx="7418520" cy="43671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 fontScale="97000"/>
          </a:bodyPr>
          <a:p>
            <a:pPr marL="32472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720" indent="-324720">
              <a:lnSpc>
                <a:spcPct val="95000"/>
              </a:lnSpc>
              <a:spcAft>
                <a:spcPts val="150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inition of Financial Supplier Group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720" indent="-324720">
              <a:lnSpc>
                <a:spcPct val="95000"/>
              </a:lnSpc>
              <a:spcAft>
                <a:spcPts val="150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locking of purchase invo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720" indent="-324720">
              <a:lnSpc>
                <a:spcPct val="95000"/>
              </a:lnSpc>
              <a:spcAft>
                <a:spcPts val="150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erms of Pay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720" indent="-324720">
              <a:lnSpc>
                <a:spcPct val="95000"/>
              </a:lnSpc>
              <a:spcAft>
                <a:spcPts val="150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Pre-) Registering of Received Purchase Invo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720" indent="-324720">
              <a:lnSpc>
                <a:spcPct val="95000"/>
              </a:lnSpc>
              <a:spcAft>
                <a:spcPts val="150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tegration with Purchase Modul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720" indent="-324720">
              <a:lnSpc>
                <a:spcPct val="95000"/>
              </a:lnSpc>
              <a:spcAft>
                <a:spcPts val="150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Full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rill down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 from invoice to or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720" indent="-324720">
              <a:lnSpc>
                <a:spcPct val="95000"/>
              </a:lnSpc>
              <a:spcAft>
                <a:spcPts val="150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pproval Proced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720" indent="0" algn="ctr">
              <a:lnSpc>
                <a:spcPct val="95000"/>
              </a:lnSpc>
              <a:spcAft>
                <a:spcPts val="1250"/>
              </a:spcAft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72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4793760" y="3200400"/>
            <a:ext cx="2908440" cy="2432160"/>
            <a:chOff x="4793760" y="3200400"/>
            <a:chExt cx="2908440" cy="2432160"/>
          </a:xfrm>
        </p:grpSpPr>
        <p:sp>
          <p:nvSpPr>
            <p:cNvPr id="201" name=""/>
            <p:cNvSpPr/>
            <p:nvPr/>
          </p:nvSpPr>
          <p:spPr>
            <a:xfrm>
              <a:off x="4799520" y="3206880"/>
              <a:ext cx="0" cy="2044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4793760" y="3200400"/>
              <a:ext cx="2908440" cy="2432160"/>
              <a:chOff x="4793760" y="3200400"/>
              <a:chExt cx="2908440" cy="2432160"/>
            </a:xfrm>
          </p:grpSpPr>
          <p:sp>
            <p:nvSpPr>
              <p:cNvPr id="203" name=""/>
              <p:cNvSpPr/>
              <p:nvPr/>
            </p:nvSpPr>
            <p:spPr>
              <a:xfrm flipH="1">
                <a:off x="4793760" y="3200400"/>
                <a:ext cx="16887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6318360" y="3200400"/>
                <a:ext cx="13838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696440" y="3206880"/>
                <a:ext cx="0" cy="2044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05640" y="5257800"/>
                <a:ext cx="2884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48160" y="5264280"/>
                <a:ext cx="0" cy="368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3587760" y="3435480"/>
            <a:ext cx="2502000" cy="672840"/>
          </a:xfrm>
          <a:prstGeom prst="rect">
            <a:avLst/>
          </a:prstGeom>
          <a:solidFill>
            <a:srgbClr val="cc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Matching wi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Or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7760" y="4349880"/>
            <a:ext cx="2502000" cy="672840"/>
          </a:xfrm>
          <a:prstGeom prst="rect">
            <a:avLst/>
          </a:prstGeom>
          <a:solidFill>
            <a:srgbClr val="cc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30560" y="1752480"/>
            <a:ext cx="2273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48520" y="2901960"/>
            <a:ext cx="0" cy="291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1987560"/>
            <a:ext cx="0" cy="291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35680" y="2292480"/>
            <a:ext cx="2501640" cy="672840"/>
          </a:xfrm>
          <a:prstGeom prst="rect">
            <a:avLst/>
          </a:prstGeom>
          <a:solidFill>
            <a:srgbClr val="cc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Maintain Purch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Invo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063880"/>
            <a:ext cx="0" cy="596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60240" y="0"/>
            <a:ext cx="784548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afd8b"/>
                </a:solidFill>
                <a:latin typeface="Times New Roman"/>
              </a:rPr>
              <a:t>Registration of Purchase Invoices</a:t>
            </a:r>
            <a:endParaRPr b="1" i="1" lang="en-US" sz="40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7360" y="1378080"/>
            <a:ext cx="2502000" cy="672840"/>
          </a:xfrm>
          <a:prstGeom prst="rect">
            <a:avLst/>
          </a:prstGeom>
          <a:gradFill rotWithShape="0">
            <a:gsLst>
              <a:gs pos="0">
                <a:srgbClr val="edfeed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Pre Regis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7360" y="2417760"/>
            <a:ext cx="2502000" cy="673200"/>
          </a:xfrm>
          <a:prstGeom prst="rect">
            <a:avLst/>
          </a:prstGeom>
          <a:gradFill rotWithShape="0">
            <a:gsLst>
              <a:gs pos="0">
                <a:srgbClr val="d9fed9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35680" y="1378080"/>
            <a:ext cx="2501640" cy="672840"/>
          </a:xfrm>
          <a:prstGeom prst="rect">
            <a:avLst/>
          </a:prstGeom>
          <a:solidFill>
            <a:srgbClr val="cc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Transa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35680" y="5568840"/>
            <a:ext cx="2501640" cy="673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GLD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3054240"/>
            <a:ext cx="0" cy="1968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6680" y="5029200"/>
            <a:ext cx="151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124080" y="1746000"/>
            <a:ext cx="0" cy="3289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07280" y="3435480"/>
            <a:ext cx="2501640" cy="672840"/>
          </a:xfrm>
          <a:prstGeom prst="rect">
            <a:avLst/>
          </a:prstGeom>
          <a:solidFill>
            <a:srgbClr val="cc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Register Dif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717560" y="865080"/>
            <a:ext cx="2409840" cy="5427720"/>
          </a:xfrm>
          <a:prstGeom prst="lin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2880" y="5380920"/>
            <a:ext cx="19411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sp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Times New Roman"/>
              </a:rPr>
              <a:t>NO POST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56840" y="5360040"/>
            <a:ext cx="28555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sp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Times New Roman"/>
              </a:rPr>
              <a:t>POSTINGS to the GL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Times New Roman"/>
              </a:rPr>
              <a:t>will be gene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989000" y="1511280"/>
            <a:ext cx="5118120" cy="5346720"/>
            <a:chOff x="1989000" y="1511280"/>
            <a:chExt cx="5118120" cy="5346720"/>
          </a:xfrm>
        </p:grpSpPr>
        <p:graphicFrame>
          <p:nvGraphicFramePr>
            <p:cNvPr id="228" name=""/>
            <p:cNvGraphicFramePr/>
            <p:nvPr/>
          </p:nvGraphicFramePr>
          <p:xfrm>
            <a:off x="1989000" y="1554120"/>
            <a:ext cx="5118120" cy="5303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9000" y="1554120"/>
                      <a:ext cx="5118120" cy="530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0" name=""/>
            <p:cNvSpPr/>
            <p:nvPr/>
          </p:nvSpPr>
          <p:spPr>
            <a:xfrm>
              <a:off x="3088800" y="1511280"/>
              <a:ext cx="296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3000" spc="-1" strike="noStrike">
                  <a:solidFill>
                    <a:srgbClr val="0000cc"/>
                  </a:solidFill>
                  <a:latin typeface="Times New Roman"/>
                </a:rPr>
                <a:t>Purchase Invoic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82280" y="492120"/>
            <a:ext cx="7239240" cy="711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Invoice Matching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0640" y="2552760"/>
            <a:ext cx="3980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300" spc="-1" strike="noStrike">
                <a:solidFill>
                  <a:srgbClr val="333300"/>
                </a:solidFill>
                <a:latin typeface="Times New Roman"/>
              </a:rPr>
              <a:t>Baan offers you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300" spc="-1" strike="noStrike">
                <a:solidFill>
                  <a:srgbClr val="333300"/>
                </a:solidFill>
                <a:latin typeface="Times New Roman"/>
              </a:rPr>
              <a:t>      </a:t>
            </a:r>
            <a:r>
              <a:rPr b="1" lang="en-GB" sz="2300" spc="-1" strike="noStrike">
                <a:solidFill>
                  <a:srgbClr val="333300"/>
                </a:solidFill>
                <a:latin typeface="Times New Roman"/>
              </a:rPr>
              <a:t>efficient facilities to match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3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n-GB" sz="2300" spc="-1" strike="noStrike">
                <a:solidFill>
                  <a:srgbClr val="333300"/>
                </a:solidFill>
                <a:latin typeface="Times New Roman"/>
              </a:rPr>
              <a:t>invoices into the system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91120" y="3960720"/>
            <a:ext cx="1593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700" spc="-1" strike="noStrike">
                <a:solidFill>
                  <a:srgbClr val="990033"/>
                </a:solidFill>
                <a:latin typeface="Times New Roman"/>
              </a:rPr>
              <a:t>Manuall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33240" y="4468680"/>
            <a:ext cx="248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3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en-GB" sz="2700" spc="-1" strike="noStrike">
                <a:solidFill>
                  <a:srgbClr val="990033"/>
                </a:solidFill>
                <a:latin typeface="Times New Roman"/>
              </a:rPr>
              <a:t>Automaticall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685800" y="1295280"/>
            <a:ext cx="6876360" cy="3879360"/>
            <a:chOff x="685800" y="1295280"/>
            <a:chExt cx="6876360" cy="3879360"/>
          </a:xfrm>
        </p:grpSpPr>
        <p:graphicFrame>
          <p:nvGraphicFramePr>
            <p:cNvPr id="236" name=""/>
            <p:cNvGraphicFramePr/>
            <p:nvPr/>
          </p:nvGraphicFramePr>
          <p:xfrm>
            <a:off x="685800" y="1295280"/>
            <a:ext cx="2228760" cy="2262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295280"/>
                      <a:ext cx="2228760" cy="22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8" name=""/>
            <p:cNvSpPr/>
            <p:nvPr/>
          </p:nvSpPr>
          <p:spPr>
            <a:xfrm>
              <a:off x="3961440" y="4775760"/>
              <a:ext cx="36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afd8b"/>
                  </a:solidFill>
                  <a:latin typeface="Arial Black"/>
                </a:rPr>
                <a:t>3. </a:t>
              </a:r>
              <a:r>
                <a:rPr b="0" lang="en-GB" sz="2000" spc="-1" strike="noStrike">
                  <a:solidFill>
                    <a:srgbClr val="fafd8b"/>
                  </a:solidFill>
                  <a:latin typeface="Arial Black"/>
                </a:rPr>
                <a:t>System offers default da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73080" y="358920"/>
            <a:ext cx="619596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Automatic Matching</a:t>
            </a: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	</a:t>
            </a: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	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629400" y="1755720"/>
          <a:ext cx="187812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1755720"/>
                    <a:ext cx="18781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2" name=""/>
          <p:cNvGrpSpPr/>
          <p:nvPr/>
        </p:nvGrpSpPr>
        <p:grpSpPr>
          <a:xfrm>
            <a:off x="3958560" y="1905120"/>
            <a:ext cx="2351520" cy="799920"/>
            <a:chOff x="3958560" y="1905120"/>
            <a:chExt cx="2351520" cy="799920"/>
          </a:xfrm>
        </p:grpSpPr>
        <p:graphicFrame>
          <p:nvGraphicFramePr>
            <p:cNvPr id="243" name=""/>
            <p:cNvGraphicFramePr/>
            <p:nvPr/>
          </p:nvGraphicFramePr>
          <p:xfrm>
            <a:off x="5003640" y="1905120"/>
            <a:ext cx="1306440" cy="799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3640" y="1905120"/>
                      <a:ext cx="130644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5" name=""/>
            <p:cNvSpPr/>
            <p:nvPr/>
          </p:nvSpPr>
          <p:spPr>
            <a:xfrm>
              <a:off x="3958560" y="214884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afd8b"/>
                  </a:solidFill>
                  <a:latin typeface="Arial Black"/>
                </a:rPr>
                <a:t>Invo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937320" y="3580560"/>
            <a:ext cx="469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8b"/>
                </a:solidFill>
                <a:latin typeface="Arial Black"/>
              </a:rPr>
              <a:t>1. </a:t>
            </a:r>
            <a:r>
              <a:rPr b="0" lang="en-GB" sz="2000" spc="-1" strike="noStrike">
                <a:solidFill>
                  <a:srgbClr val="fafd8b"/>
                </a:solidFill>
                <a:latin typeface="Arial Black"/>
              </a:rPr>
              <a:t>Enter Order number or Packing sl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1593720"/>
            <a:ext cx="14162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8b"/>
                </a:solidFill>
                <a:latin typeface="Arial Black"/>
              </a:rPr>
              <a:t>~~~~~ ~~~~ ~~~~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8b"/>
                </a:solidFill>
                <a:latin typeface="Arial Black"/>
              </a:rPr>
              <a:t>~~~~~~~ ~~  ~~~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8b"/>
                </a:solidFill>
                <a:latin typeface="Arial Black"/>
              </a:rPr>
              <a:t>~~~~~ ~~~~ ~~~~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8b"/>
                </a:solidFill>
                <a:latin typeface="Arial Black"/>
              </a:rPr>
              <a:t>~~~  ~~~    ~~~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8b"/>
                </a:solidFill>
                <a:latin typeface="Arial Black"/>
              </a:rPr>
              <a:t>~~~~   ~~~  ~~~ ~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8920" y="4037400"/>
            <a:ext cx="397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8b"/>
                </a:solidFill>
                <a:latin typeface="Arial Black"/>
              </a:rPr>
              <a:t>2. </a:t>
            </a:r>
            <a:r>
              <a:rPr b="0" lang="en-GB" sz="2000" spc="-1" strike="noStrike">
                <a:solidFill>
                  <a:srgbClr val="fafd8b"/>
                </a:solidFill>
                <a:latin typeface="Arial Black"/>
              </a:rPr>
              <a:t>System is collecting data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8b"/>
                </a:solidFill>
                <a:latin typeface="Arial Black"/>
              </a:rPr>
              <a:t>matches invoice to or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59560" y="5256720"/>
            <a:ext cx="19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8b"/>
                </a:solidFill>
                <a:latin typeface="Arial Black"/>
              </a:rPr>
              <a:t>4. </a:t>
            </a:r>
            <a:r>
              <a:rPr b="0" lang="en-GB" sz="2000" spc="-1" strike="noStrike">
                <a:solidFill>
                  <a:srgbClr val="fafd8b"/>
                </a:solidFill>
                <a:latin typeface="Arial Black"/>
              </a:rPr>
              <a:t>Visual che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97720" y="5790240"/>
            <a:ext cx="30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8b"/>
                </a:solidFill>
                <a:latin typeface="Arial Black"/>
              </a:rPr>
              <a:t>5. </a:t>
            </a:r>
            <a:r>
              <a:rPr b="0" lang="en-GB" sz="2000" spc="-1" strike="noStrike">
                <a:solidFill>
                  <a:srgbClr val="fafd8b"/>
                </a:solidFill>
                <a:latin typeface="Arial Black"/>
              </a:rPr>
              <a:t>Press Button Appro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76760" y="624744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8b"/>
                </a:solidFill>
                <a:latin typeface="Arial Black"/>
              </a:rPr>
              <a:t>6. </a:t>
            </a:r>
            <a:r>
              <a:rPr b="0" lang="en-GB" sz="2000" spc="-1" strike="noStrike">
                <a:solidFill>
                  <a:srgbClr val="fafd8b"/>
                </a:solidFill>
                <a:latin typeface="Arial Black"/>
              </a:rPr>
              <a:t>RE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85800" y="4800600"/>
            <a:ext cx="2514600" cy="838080"/>
            <a:chOff x="685800" y="4800600"/>
            <a:chExt cx="2514600" cy="838080"/>
          </a:xfrm>
        </p:grpSpPr>
        <p:sp>
          <p:nvSpPr>
            <p:cNvPr id="253" name=""/>
            <p:cNvSpPr/>
            <p:nvPr/>
          </p:nvSpPr>
          <p:spPr>
            <a:xfrm>
              <a:off x="685800" y="4800600"/>
              <a:ext cx="2514600" cy="838080"/>
            </a:xfrm>
            <a:custGeom>
              <a:avLst/>
              <a:gdLst>
                <a:gd name="textAreaLeft" fmla="*/ 88920 w 2514600"/>
                <a:gd name="textAreaRight" fmla="*/ 2425680 w 2514600"/>
                <a:gd name="textAreaTop" fmla="*/ 88920 h 838080"/>
                <a:gd name="textAreaBottom" fmla="*/ 749160 h 838080"/>
              </a:gdLst>
              <a:ahLst/>
              <a:rect l="textAreaLeft" t="textAreaTop" r="textAreaRight" b="textAreaBottom"/>
              <a:pathLst>
                <a:path w="64791" h="21600">
                  <a:moveTo>
                    <a:pt x="0" y="0"/>
                  </a:moveTo>
                  <a:lnTo>
                    <a:pt x="64791" y="0"/>
                  </a:lnTo>
                  <a:lnTo>
                    <a:pt x="64791" y="21600"/>
                  </a:lnTo>
                  <a:lnTo>
                    <a:pt x="0" y="21600"/>
                  </a:lnTo>
                  <a:close/>
                </a:path>
                <a:path fill="lightenLess" w="64791" h="21600">
                  <a:moveTo>
                    <a:pt x="0" y="0"/>
                  </a:moveTo>
                  <a:lnTo>
                    <a:pt x="64791" y="0"/>
                  </a:lnTo>
                  <a:lnTo>
                    <a:pt x="62500" y="2291"/>
                  </a:lnTo>
                  <a:lnTo>
                    <a:pt x="2291" y="2291"/>
                  </a:lnTo>
                  <a:close/>
                </a:path>
                <a:path fill="darken" w="64791" h="21600">
                  <a:moveTo>
                    <a:pt x="64791" y="0"/>
                  </a:moveTo>
                  <a:lnTo>
                    <a:pt x="64791" y="21600"/>
                  </a:lnTo>
                  <a:lnTo>
                    <a:pt x="62500" y="19309"/>
                  </a:lnTo>
                  <a:lnTo>
                    <a:pt x="62500" y="2291"/>
                  </a:lnTo>
                  <a:close/>
                </a:path>
                <a:path fill="darkenLess" w="64791" h="21600">
                  <a:moveTo>
                    <a:pt x="64791" y="21600"/>
                  </a:moveTo>
                  <a:lnTo>
                    <a:pt x="0" y="21600"/>
                  </a:lnTo>
                  <a:lnTo>
                    <a:pt x="2291" y="19309"/>
                  </a:lnTo>
                  <a:lnTo>
                    <a:pt x="62500" y="19309"/>
                  </a:lnTo>
                  <a:close/>
                </a:path>
                <a:path fill="lighten" w="64791" h="21600">
                  <a:moveTo>
                    <a:pt x="0" y="21600"/>
                  </a:moveTo>
                  <a:lnTo>
                    <a:pt x="0" y="0"/>
                  </a:lnTo>
                  <a:lnTo>
                    <a:pt x="2291" y="2291"/>
                  </a:lnTo>
                  <a:lnTo>
                    <a:pt x="2291" y="19309"/>
                  </a:lnTo>
                  <a:close/>
                </a:path>
              </a:pathLst>
            </a:custGeom>
            <a:solidFill>
              <a:srgbClr val="fc0128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14400" y="4951440"/>
              <a:ext cx="2076480" cy="45972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afd8b"/>
                  </a:solidFill>
                  <a:latin typeface="Arial Black"/>
                </a:rPr>
                <a:t>Appro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 rot="19683600">
            <a:off x="5060520" y="216144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Black"/>
              </a:rPr>
              <a:t>APPR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>
            <a:hlinkClick r:id="rId7" action="ppaction://hlinksldjump"/>
          </p:cNvPr>
          <p:cNvSpPr/>
          <p:nvPr/>
        </p:nvSpPr>
        <p:spPr>
          <a:xfrm>
            <a:off x="8224920" y="555624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33400" y="35892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Accounts Receivable</a:t>
            </a:r>
            <a:br>
              <a:rPr sz="4800"/>
            </a:b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KEY Features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21960" y="1785960"/>
            <a:ext cx="7389720" cy="42940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3480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5000"/>
              </a:lnSpc>
              <a:spcAft>
                <a:spcPts val="150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inancial Customer Grou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5000"/>
              </a:lnSpc>
              <a:spcAft>
                <a:spcPts val="150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erms of Pay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5000"/>
              </a:lnSpc>
              <a:spcAft>
                <a:spcPts val="150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veral ways of recording Sales Invoices (pre-registr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5000"/>
              </a:lnSpc>
              <a:spcAft>
                <a:spcPts val="150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lexible Credit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88760" y="0"/>
            <a:ext cx="723564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afd8b"/>
                </a:solidFill>
                <a:latin typeface="Times New Roman"/>
              </a:rPr>
              <a:t>Accounts Receivable</a:t>
            </a:r>
            <a:endParaRPr b="1" i="1" lang="en-US" sz="54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46480" y="1146240"/>
            <a:ext cx="479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Sales Invoices Regis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3120" y="1776240"/>
            <a:ext cx="2335320" cy="932040"/>
          </a:xfrm>
          <a:prstGeom prst="roundRect">
            <a:avLst>
              <a:gd name="adj" fmla="val 12495"/>
            </a:avLst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Manual Registr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in Fi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1520" y="1619280"/>
            <a:ext cx="2292480" cy="743040"/>
          </a:xfrm>
          <a:prstGeom prst="roundRect">
            <a:avLst>
              <a:gd name="adj" fmla="val 12495"/>
            </a:avLst>
          </a:prstGeom>
          <a:solidFill>
            <a:srgbClr val="ffcc99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Arial"/>
              </a:rPr>
              <a:t>Invoic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c0128"/>
                </a:solidFill>
                <a:latin typeface="Arial"/>
              </a:rPr>
              <a:t>BAAN</a:t>
            </a:r>
            <a:r>
              <a:rPr b="1" lang="en-GB" sz="1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c0128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30600" y="2666880"/>
            <a:ext cx="1860480" cy="1095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Arial"/>
              </a:rPr>
              <a:t>Invoices post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Arial"/>
              </a:rPr>
              <a:t>to the G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27440" y="4114800"/>
            <a:ext cx="1689120" cy="10666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pen-Ent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20920" y="5562720"/>
            <a:ext cx="1687320" cy="685800"/>
          </a:xfrm>
          <a:prstGeom prst="roundRect">
            <a:avLst>
              <a:gd name="adj" fmla="val 12495"/>
            </a:avLst>
          </a:prstGeom>
          <a:solidFill>
            <a:srgbClr val="ccffcc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ae00"/>
                </a:solidFill>
                <a:latin typeface="Arial"/>
              </a:rPr>
              <a:t>Remin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27440" y="5562720"/>
            <a:ext cx="1689120" cy="685800"/>
          </a:xfrm>
          <a:prstGeom prst="roundRect">
            <a:avLst>
              <a:gd name="adj" fmla="val 12495"/>
            </a:avLst>
          </a:prstGeom>
          <a:solidFill>
            <a:srgbClr val="ccffcc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ae00"/>
                </a:solidFill>
                <a:latin typeface="Arial"/>
              </a:rPr>
              <a:t>Interest Invo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49800" y="5562720"/>
            <a:ext cx="1687680" cy="685800"/>
          </a:xfrm>
          <a:prstGeom prst="roundRect">
            <a:avLst>
              <a:gd name="adj" fmla="val 12495"/>
            </a:avLst>
          </a:prstGeom>
          <a:solidFill>
            <a:srgbClr val="ccffcc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ae00"/>
                </a:solidFill>
                <a:latin typeface="Arial"/>
              </a:rPr>
              <a:t>Check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ae00"/>
                </a:solidFill>
                <a:latin typeface="Arial"/>
              </a:rPr>
              <a:t>invoice bal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211400" y="2736720"/>
            <a:ext cx="2446200" cy="463680"/>
            <a:chOff x="1211400" y="2736720"/>
            <a:chExt cx="2446200" cy="463680"/>
          </a:xfrm>
        </p:grpSpPr>
        <p:sp>
          <p:nvSpPr>
            <p:cNvPr id="269" name=""/>
            <p:cNvSpPr/>
            <p:nvPr/>
          </p:nvSpPr>
          <p:spPr>
            <a:xfrm>
              <a:off x="1211400" y="2736720"/>
              <a:ext cx="0" cy="463680"/>
            </a:xfrm>
            <a:prstGeom prst="line">
              <a:avLst/>
            </a:prstGeom>
            <a:ln w="12600">
              <a:solidFill>
                <a:srgbClr val="eaec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11400" y="3200400"/>
              <a:ext cx="2446200" cy="0"/>
            </a:xfrm>
            <a:prstGeom prst="line">
              <a:avLst/>
            </a:prstGeom>
            <a:ln w="12600">
              <a:solidFill>
                <a:srgbClr val="eaec5e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416200" y="2362320"/>
            <a:ext cx="2460960" cy="838080"/>
            <a:chOff x="5416200" y="2362320"/>
            <a:chExt cx="2460960" cy="838080"/>
          </a:xfrm>
        </p:grpSpPr>
        <p:sp>
          <p:nvSpPr>
            <p:cNvPr id="272" name=""/>
            <p:cNvSpPr/>
            <p:nvPr/>
          </p:nvSpPr>
          <p:spPr>
            <a:xfrm>
              <a:off x="7877160" y="2362320"/>
              <a:ext cx="0" cy="838080"/>
            </a:xfrm>
            <a:prstGeom prst="line">
              <a:avLst/>
            </a:prstGeom>
            <a:ln w="12600">
              <a:solidFill>
                <a:srgbClr val="eaec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416200" y="3200400"/>
              <a:ext cx="2460600" cy="0"/>
            </a:xfrm>
            <a:prstGeom prst="line">
              <a:avLst/>
            </a:prstGeom>
            <a:ln w="12600">
              <a:solidFill>
                <a:srgbClr val="eaec5e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572000" y="3733920"/>
            <a:ext cx="0" cy="380880"/>
          </a:xfrm>
          <a:prstGeom prst="line">
            <a:avLst/>
          </a:prstGeom>
          <a:ln w="12600">
            <a:solidFill>
              <a:srgbClr val="eaec5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5181480"/>
            <a:ext cx="0" cy="381240"/>
          </a:xfrm>
          <a:prstGeom prst="line">
            <a:avLst/>
          </a:prstGeom>
          <a:ln w="12600">
            <a:solidFill>
              <a:srgbClr val="eaec5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51080" y="5181480"/>
            <a:ext cx="0" cy="381240"/>
          </a:xfrm>
          <a:prstGeom prst="line">
            <a:avLst/>
          </a:prstGeom>
          <a:ln w="12600">
            <a:solidFill>
              <a:srgbClr val="eaec5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92920" y="5181480"/>
            <a:ext cx="0" cy="381240"/>
          </a:xfrm>
          <a:prstGeom prst="line">
            <a:avLst/>
          </a:prstGeom>
          <a:ln w="12600">
            <a:solidFill>
              <a:srgbClr val="eaec5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51080" y="5181480"/>
            <a:ext cx="4641840" cy="0"/>
          </a:xfrm>
          <a:prstGeom prst="line">
            <a:avLst/>
          </a:prstGeom>
          <a:ln w="1260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058840" y="415440"/>
            <a:ext cx="6437520" cy="122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Credit Management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737480" cy="349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3880" indent="-26388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n line Credit Management : information very easily accessible and updated on the fl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lexible reminder proced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Interest Invoi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Statement of Accou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Aging-analysi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7880" y="6580080"/>
            <a:ext cx="66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8224920" y="544212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33400" y="669600"/>
            <a:ext cx="7236000" cy="71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afd8b"/>
                </a:solidFill>
                <a:latin typeface="Times New Roman"/>
              </a:rPr>
              <a:t>Introduction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21960" y="2463480"/>
            <a:ext cx="7389720" cy="361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 am ….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rk for ….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ave experience in …..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33400" y="35892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Cash Management 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28480" y="1596960"/>
            <a:ext cx="7073640" cy="3803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 fontScale="83000"/>
          </a:bodyPr>
          <a:p>
            <a:pPr marL="277560" indent="-277560">
              <a:lnSpc>
                <a:spcPct val="100000"/>
              </a:lnSpc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veral Payment/Receipt Method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5680" indent="-208080">
              <a:lnSpc>
                <a:spcPct val="100000"/>
              </a:lnSpc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ank orders/Disket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5680" indent="-208080">
              <a:lnSpc>
                <a:spcPct val="100000"/>
              </a:lnSpc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ade note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5680" indent="-208080">
              <a:lnSpc>
                <a:spcPct val="100000"/>
              </a:lnSpc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heck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fc0128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5680" indent="-208080">
              <a:lnSpc>
                <a:spcPct val="100000"/>
              </a:lnSpc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rect Debit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utomatic Payment/Direct Debit Proced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lectronic Bank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ustomer Statis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ash Forec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o-forma Invoic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37040" y="1998720"/>
            <a:ext cx="290520" cy="1814400"/>
          </a:xfrm>
          <a:custGeom>
            <a:avLst/>
            <a:gdLst>
              <a:gd name="textAreaLeft" fmla="*/ 0 w 290520"/>
              <a:gd name="textAreaRight" fmla="*/ 104760 w 290520"/>
              <a:gd name="textAreaTop" fmla="*/ 47160 h 1814400"/>
              <a:gd name="textAreaBottom" fmla="*/ 1767240 h 18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99000" y="2310480"/>
            <a:ext cx="2722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Arial"/>
              </a:rPr>
              <a:t>Corresponding post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Arial"/>
              </a:rPr>
              <a:t>generated automatica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200400" y="2133720"/>
            <a:ext cx="2363760" cy="2516040"/>
          </a:xfrm>
          <a:custGeom>
            <a:avLst/>
            <a:gdLst/>
            <a:ahLst/>
            <a:rect l="l" t="t" r="r" b="b"/>
            <a:pathLst>
              <a:path w="1613" h="1585">
                <a:moveTo>
                  <a:pt x="0" y="1584"/>
                </a:moveTo>
                <a:lnTo>
                  <a:pt x="691" y="1584"/>
                </a:lnTo>
                <a:lnTo>
                  <a:pt x="691" y="48"/>
                </a:lnTo>
                <a:lnTo>
                  <a:pt x="691" y="48"/>
                </a:lnTo>
                <a:lnTo>
                  <a:pt x="691" y="0"/>
                </a:lnTo>
                <a:lnTo>
                  <a:pt x="1612" y="0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33720" y="3968640"/>
            <a:ext cx="0" cy="3682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09680" y="4940280"/>
            <a:ext cx="0" cy="444600"/>
          </a:xfrm>
          <a:prstGeom prst="line">
            <a:avLst/>
          </a:prstGeom>
          <a:ln w="25560">
            <a:solidFill>
              <a:srgbClr val="ff33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04960" y="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afd8b"/>
                </a:solidFill>
                <a:latin typeface="Times New Roman"/>
              </a:rPr>
              <a:t>EX :Supplier Payment Procedure</a:t>
            </a:r>
            <a:br>
              <a:rPr sz="4000"/>
            </a:br>
            <a:r>
              <a:rPr b="1" lang="en-GB" sz="2400" spc="-1" strike="noStrike">
                <a:solidFill>
                  <a:srgbClr val="fafd8b"/>
                </a:solidFill>
                <a:latin typeface="Times New Roman"/>
              </a:rPr>
              <a:t>(Bank order/Check)</a:t>
            </a:r>
            <a:endParaRPr b="1" i="1" lang="en-US" sz="2400" spc="-1" strike="noStrike">
              <a:solidFill>
                <a:srgbClr val="fafd8b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225440" y="1301760"/>
            <a:ext cx="1511280" cy="1816200"/>
            <a:chOff x="1225440" y="1301760"/>
            <a:chExt cx="1511280" cy="1816200"/>
          </a:xfrm>
        </p:grpSpPr>
        <p:grpSp>
          <p:nvGrpSpPr>
            <p:cNvPr id="292" name=""/>
            <p:cNvGrpSpPr/>
            <p:nvPr/>
          </p:nvGrpSpPr>
          <p:grpSpPr>
            <a:xfrm>
              <a:off x="1225440" y="1301760"/>
              <a:ext cx="1206720" cy="1511280"/>
              <a:chOff x="1225440" y="1301760"/>
              <a:chExt cx="1206720" cy="1511280"/>
            </a:xfrm>
          </p:grpSpPr>
          <p:sp>
            <p:nvSpPr>
              <p:cNvPr id="293" name=""/>
              <p:cNvSpPr/>
              <p:nvPr/>
            </p:nvSpPr>
            <p:spPr>
              <a:xfrm>
                <a:off x="1225440" y="1301760"/>
                <a:ext cx="1206720" cy="151128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285920" y="1395360"/>
                <a:ext cx="936000" cy="5151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Purchas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Invoic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01400" y="1981080"/>
                <a:ext cx="97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01400" y="2133720"/>
                <a:ext cx="97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01400" y="2286000"/>
                <a:ext cx="97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301400" y="2438280"/>
                <a:ext cx="97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01400" y="2590920"/>
                <a:ext cx="97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377360" y="1454040"/>
              <a:ext cx="1206720" cy="1511280"/>
              <a:chOff x="1377360" y="1454040"/>
              <a:chExt cx="1206720" cy="1511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377360" y="1454040"/>
                <a:ext cx="1206720" cy="151128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437840" y="1547640"/>
                <a:ext cx="936000" cy="5151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Purchas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Invoic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453320" y="2133720"/>
                <a:ext cx="978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453320" y="2286000"/>
                <a:ext cx="978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453320" y="2438280"/>
                <a:ext cx="978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453320" y="2590920"/>
                <a:ext cx="978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453320" y="2743200"/>
                <a:ext cx="978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530000" y="1606680"/>
              <a:ext cx="1206720" cy="1511280"/>
              <a:chOff x="1530000" y="1606680"/>
              <a:chExt cx="1206720" cy="1511280"/>
            </a:xfrm>
          </p:grpSpPr>
          <p:sp>
            <p:nvSpPr>
              <p:cNvPr id="309" name=""/>
              <p:cNvSpPr/>
              <p:nvPr/>
            </p:nvSpPr>
            <p:spPr>
              <a:xfrm>
                <a:off x="1530000" y="1606680"/>
                <a:ext cx="1206720" cy="151128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590840" y="1700280"/>
                <a:ext cx="983160" cy="5151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ff"/>
                    </a:solidFill>
                    <a:latin typeface="Arial"/>
                  </a:rPr>
                  <a:t>Purchas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GB" sz="1400" spc="-1" strike="noStrike">
                    <a:solidFill>
                      <a:srgbClr val="0000ff"/>
                    </a:solidFill>
                    <a:latin typeface="Arial"/>
                  </a:rPr>
                  <a:t>Invoic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605960" y="2286000"/>
                <a:ext cx="97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05960" y="2438280"/>
                <a:ext cx="97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605960" y="2590920"/>
                <a:ext cx="97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605960" y="2743200"/>
                <a:ext cx="97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605960" y="2895480"/>
                <a:ext cx="97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2886480" y="1349280"/>
            <a:ext cx="245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election of Invo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96840" y="3435480"/>
            <a:ext cx="2273400" cy="596880"/>
          </a:xfrm>
          <a:prstGeom prst="rect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Payment Ad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96840" y="4349880"/>
            <a:ext cx="2273400" cy="596880"/>
          </a:xfrm>
          <a:prstGeom prst="rect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Process Pay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6840" y="5340240"/>
            <a:ext cx="2578320" cy="596880"/>
          </a:xfrm>
          <a:prstGeom prst="rect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afd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Open Ent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68840" y="1835280"/>
            <a:ext cx="2121120" cy="444240"/>
          </a:xfrm>
          <a:prstGeom prst="rect">
            <a:avLst/>
          </a:prstGeom>
          <a:solidFill>
            <a:srgbClr val="ff7c8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afd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68840" y="2521080"/>
            <a:ext cx="2121120" cy="444240"/>
          </a:xfrm>
          <a:prstGeom prst="rect">
            <a:avLst/>
          </a:prstGeom>
          <a:solidFill>
            <a:srgbClr val="ff7c8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afd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 to Ba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416560" y="3892680"/>
            <a:ext cx="2730240" cy="977760"/>
            <a:chOff x="5416560" y="3892680"/>
            <a:chExt cx="2730240" cy="977760"/>
          </a:xfrm>
        </p:grpSpPr>
        <p:sp>
          <p:nvSpPr>
            <p:cNvPr id="323" name=""/>
            <p:cNvSpPr/>
            <p:nvPr/>
          </p:nvSpPr>
          <p:spPr>
            <a:xfrm>
              <a:off x="5416560" y="3892680"/>
              <a:ext cx="2425680" cy="67284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afd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Bank Statem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68840" y="4044960"/>
              <a:ext cx="2425320" cy="67320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afd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Bank Statem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21480" y="4197240"/>
              <a:ext cx="2425320" cy="67320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afd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Bank Statem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8007480" y="1987560"/>
            <a:ext cx="672840" cy="216000"/>
          </a:xfrm>
          <a:prstGeom prst="rightArrow">
            <a:avLst>
              <a:gd name="adj1" fmla="val 50000"/>
              <a:gd name="adj2" fmla="val 155764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afd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8235360" y="4349880"/>
            <a:ext cx="672840" cy="215640"/>
          </a:xfrm>
          <a:prstGeom prst="rightArrow">
            <a:avLst>
              <a:gd name="adj1" fmla="val 50000"/>
              <a:gd name="adj2" fmla="val 156024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afd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07480" y="2673360"/>
            <a:ext cx="672840" cy="216000"/>
          </a:xfrm>
          <a:prstGeom prst="rightArrow">
            <a:avLst>
              <a:gd name="adj1" fmla="val 50000"/>
              <a:gd name="adj2" fmla="val 155764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afd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33720" y="3130560"/>
            <a:ext cx="0" cy="2919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81280" y="4876920"/>
            <a:ext cx="3354480" cy="839520"/>
          </a:xfrm>
          <a:custGeom>
            <a:avLst/>
            <a:gdLst/>
            <a:ahLst/>
            <a:rect l="l" t="t" r="r" b="b"/>
            <a:pathLst>
              <a:path w="2289" h="529">
                <a:moveTo>
                  <a:pt x="2288" y="0"/>
                </a:moveTo>
                <a:lnTo>
                  <a:pt x="2288" y="528"/>
                </a:lnTo>
                <a:lnTo>
                  <a:pt x="0" y="52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8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97240" y="2743200"/>
            <a:ext cx="135900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94040" y="5331600"/>
            <a:ext cx="345744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Compare the invoice amount 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the bank statement amou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Arial"/>
              </a:rPr>
              <a:t>SUPPLIER RECONCIL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33400" y="35892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i="1" lang="en-US" sz="4800" spc="-1" strike="noStrike">
                <a:solidFill>
                  <a:srgbClr val="fafd8b"/>
                </a:solidFill>
                <a:latin typeface="Times New Roman"/>
              </a:rPr>
              <a:t>Cash Forecast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59120" y="3359160"/>
            <a:ext cx="2425680" cy="1434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sh Foreca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01920" y="1987560"/>
            <a:ext cx="1587600" cy="7491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les 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40360" y="5645160"/>
            <a:ext cx="1587240" cy="7491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07040" y="1987560"/>
            <a:ext cx="1587600" cy="7491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rcha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83560" y="3664080"/>
            <a:ext cx="1587240" cy="7491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75393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dget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3640" y="3206880"/>
            <a:ext cx="1587600" cy="7491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rch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63640" y="4121280"/>
            <a:ext cx="1587600" cy="749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les 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63640" y="5035680"/>
            <a:ext cx="1587600" cy="74916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otations (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63640" y="2292480"/>
            <a:ext cx="1587600" cy="7491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ct 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91080" y="27496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81800" y="27496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184440" y="4038480"/>
            <a:ext cx="698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57360" y="2666880"/>
            <a:ext cx="1297080" cy="1373400"/>
          </a:xfrm>
          <a:custGeom>
            <a:avLst/>
            <a:gdLst/>
            <a:ahLst/>
            <a:rect l="l" t="t" r="r" b="b"/>
            <a:pathLst>
              <a:path w="885" h="865">
                <a:moveTo>
                  <a:pt x="884" y="864"/>
                </a:moveTo>
                <a:lnTo>
                  <a:pt x="416" y="864"/>
                </a:lnTo>
                <a:lnTo>
                  <a:pt x="41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57360" y="4038480"/>
            <a:ext cx="611280" cy="1373400"/>
          </a:xfrm>
          <a:custGeom>
            <a:avLst/>
            <a:gdLst/>
            <a:ahLst/>
            <a:rect l="l" t="t" r="r" b="b"/>
            <a:pathLst>
              <a:path w="417" h="865">
                <a:moveTo>
                  <a:pt x="0" y="864"/>
                </a:moveTo>
                <a:lnTo>
                  <a:pt x="416" y="864"/>
                </a:lnTo>
                <a:lnTo>
                  <a:pt x="41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63840" y="3657600"/>
            <a:ext cx="59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63840" y="4495680"/>
            <a:ext cx="59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896000" y="4794120"/>
            <a:ext cx="0" cy="851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57160" y="417240"/>
            <a:ext cx="7947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Customer Statistics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58720" y="1679040"/>
            <a:ext cx="85852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Statistics by credit analy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ree definable statistics period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Average days payme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Average days outstand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Average days overd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Allowed Versus taken discou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Calculated Versus paid late payment surcharg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8255160" y="552780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33400" y="35892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99"/>
                </a:solidFill>
                <a:latin typeface="Times New Roman"/>
              </a:rPr>
              <a:t>Fixed Assets Key Features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61600" y="160020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34800" indent="-334800">
              <a:lnSpc>
                <a:spcPct val="120000"/>
              </a:lnSpc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ixed Asset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20000"/>
              </a:lnSpc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ther Information on Fixed Assets (Business Informatio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20000"/>
              </a:lnSpc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 Depreciation Metho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20000"/>
              </a:lnSpc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limited Number of Depreciation Systems : Commercial &amp; Fiscal Depreciation Syst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20000"/>
              </a:lnSpc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su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20000"/>
              </a:lnSpc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utomatic Posting of Fixed Asset Transa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20000"/>
              </a:lnSpc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imulation Too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945040" y="4713120"/>
          <a:ext cx="290700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5040" y="4713120"/>
                    <a:ext cx="29070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95600" y="-3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99"/>
                </a:solidFill>
                <a:latin typeface="Times New Roman"/>
              </a:rPr>
              <a:t>Fixed Assets</a:t>
            </a:r>
            <a:br>
              <a:rPr sz="4800"/>
            </a:br>
            <a:r>
              <a:rPr b="1" lang="en-GB" sz="3200" spc="-1" strike="noStrike">
                <a:solidFill>
                  <a:srgbClr val="ffff99"/>
                </a:solidFill>
                <a:latin typeface="Times New Roman"/>
              </a:rPr>
              <a:t>Relation with other modules</a:t>
            </a:r>
            <a:endParaRPr b="1" i="1" lang="en-US" sz="32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978280" y="3008160"/>
            <a:ext cx="2501640" cy="1435320"/>
          </a:xfrm>
          <a:prstGeom prst="hexagon">
            <a:avLst>
              <a:gd name="adj" fmla="val 43564"/>
              <a:gd name="vf" fmla="val 115470"/>
            </a:avLst>
          </a:prstGeom>
          <a:gradFill rotWithShape="0">
            <a:gsLst>
              <a:gs pos="0">
                <a:srgbClr val="0032ca"/>
              </a:gs>
              <a:gs pos="100000">
                <a:srgbClr val="002cb4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xed As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70000" y="1393920"/>
            <a:ext cx="2085840" cy="1282680"/>
            <a:chOff x="270000" y="1393920"/>
            <a:chExt cx="2085840" cy="1282680"/>
          </a:xfrm>
        </p:grpSpPr>
        <p:sp>
          <p:nvSpPr>
            <p:cNvPr id="361" name=""/>
            <p:cNvSpPr/>
            <p:nvPr/>
          </p:nvSpPr>
          <p:spPr>
            <a:xfrm>
              <a:off x="270000" y="1393920"/>
              <a:ext cx="208584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5880" y="1533960"/>
              <a:ext cx="1335240" cy="3866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c0128"/>
                  </a:solidFill>
                  <a:latin typeface="Arial"/>
                </a:rPr>
                <a:t>BAAN IV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7000" y="1927440"/>
              <a:ext cx="369000" cy="3682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7880" y="2156040"/>
              <a:ext cx="369000" cy="3682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</a:rPr>
                <a:t>T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529640" y="2156040"/>
              <a:ext cx="369000" cy="3682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48760" y="1927440"/>
              <a:ext cx="369000" cy="3682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10160" y="1927440"/>
              <a:ext cx="369000" cy="3682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1911240" y="5218200"/>
            <a:ext cx="1892520" cy="1054080"/>
          </a:xfrm>
          <a:prstGeom prst="hexagon">
            <a:avLst>
              <a:gd name="adj" fmla="val 44877"/>
              <a:gd name="vf" fmla="val 115470"/>
            </a:avLst>
          </a:prstGeom>
          <a:gradFill rotWithShape="0">
            <a:gsLst>
              <a:gs pos="0">
                <a:srgbClr val="ff7c80"/>
              </a:gs>
              <a:gs pos="100000">
                <a:srgbClr val="e46e72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ceiv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78480" y="5218200"/>
            <a:ext cx="1815840" cy="1054080"/>
          </a:xfrm>
          <a:prstGeom prst="hexagon">
            <a:avLst>
              <a:gd name="adj" fmla="val 43059"/>
              <a:gd name="vf" fmla="val 115470"/>
            </a:avLst>
          </a:prstGeom>
          <a:gradFill rotWithShape="0">
            <a:gsLst>
              <a:gs pos="0">
                <a:srgbClr val="ff7c80"/>
              </a:gs>
              <a:gs pos="100000">
                <a:srgbClr val="e46e72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30760" y="1484280"/>
            <a:ext cx="1739880" cy="977760"/>
          </a:xfrm>
          <a:prstGeom prst="hexagon">
            <a:avLst>
              <a:gd name="adj" fmla="val 44478"/>
              <a:gd name="vf" fmla="val 115470"/>
            </a:avLst>
          </a:prstGeom>
          <a:gradFill rotWithShape="0">
            <a:gsLst>
              <a:gs pos="0">
                <a:srgbClr val="984a4c"/>
              </a:gs>
              <a:gs pos="100000">
                <a:srgbClr val="ff7c8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ed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4830840"/>
            <a:ext cx="1296720" cy="382680"/>
          </a:xfrm>
          <a:custGeom>
            <a:avLst/>
            <a:gdLst/>
            <a:ahLst/>
            <a:rect l="l" t="t" r="r" b="b"/>
            <a:pathLst>
              <a:path w="885" h="241">
                <a:moveTo>
                  <a:pt x="0" y="0"/>
                </a:moveTo>
                <a:lnTo>
                  <a:pt x="884" y="0"/>
                </a:lnTo>
                <a:lnTo>
                  <a:pt x="884" y="2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47920" y="2697120"/>
            <a:ext cx="1525320" cy="1068480"/>
          </a:xfrm>
          <a:custGeom>
            <a:avLst/>
            <a:gdLst/>
            <a:ahLst/>
            <a:rect l="l" t="t" r="r" b="b"/>
            <a:pathLst>
              <a:path w="1041" h="673">
                <a:moveTo>
                  <a:pt x="1040" y="672"/>
                </a:moveTo>
                <a:lnTo>
                  <a:pt x="0" y="6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8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267080" y="2468520"/>
            <a:ext cx="1373400" cy="534960"/>
          </a:xfrm>
          <a:custGeom>
            <a:avLst/>
            <a:gdLst/>
            <a:ahLst/>
            <a:rect l="l" t="t" r="r" b="b"/>
            <a:pathLst>
              <a:path w="937" h="337">
                <a:moveTo>
                  <a:pt x="0" y="336"/>
                </a:moveTo>
                <a:lnTo>
                  <a:pt x="0" y="192"/>
                </a:lnTo>
                <a:lnTo>
                  <a:pt x="936" y="192"/>
                </a:lnTo>
                <a:lnTo>
                  <a:pt x="93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6330960" y="2017800"/>
            <a:ext cx="2730240" cy="1128960"/>
            <a:chOff x="6330960" y="2017800"/>
            <a:chExt cx="2730240" cy="1128960"/>
          </a:xfrm>
        </p:grpSpPr>
        <p:grpSp>
          <p:nvGrpSpPr>
            <p:cNvPr id="375" name=""/>
            <p:cNvGrpSpPr/>
            <p:nvPr/>
          </p:nvGrpSpPr>
          <p:grpSpPr>
            <a:xfrm>
              <a:off x="6330960" y="2080800"/>
              <a:ext cx="2730240" cy="1065960"/>
              <a:chOff x="6330960" y="2080800"/>
              <a:chExt cx="2730240" cy="106596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6330960" y="2245680"/>
                <a:ext cx="2730240" cy="901080"/>
                <a:chOff x="6330960" y="2245680"/>
                <a:chExt cx="2730240" cy="9010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8158680" y="2550240"/>
                  <a:ext cx="902520" cy="59652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fff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ff"/>
                      </a:solidFill>
                      <a:latin typeface="Arial"/>
                    </a:rPr>
                    <a:t>Dim 5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8" name=""/>
                <p:cNvGrpSpPr/>
                <p:nvPr/>
              </p:nvGrpSpPr>
              <p:grpSpPr>
                <a:xfrm>
                  <a:off x="6330960" y="2245680"/>
                  <a:ext cx="2273040" cy="824760"/>
                  <a:chOff x="6330960" y="2245680"/>
                  <a:chExt cx="2273040" cy="82476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7701840" y="2473920"/>
                    <a:ext cx="902160" cy="59652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ffffcc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00ff"/>
                        </a:solidFill>
                        <a:latin typeface="Arial"/>
                      </a:rPr>
                      <a:t>Dim 4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7245000" y="2397960"/>
                    <a:ext cx="902160" cy="59652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ffffcc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00ff"/>
                        </a:solidFill>
                        <a:latin typeface="Arial"/>
                      </a:rPr>
                      <a:t>Dim 3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6787800" y="2321640"/>
                    <a:ext cx="902160" cy="59652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ffffcc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00ff"/>
                        </a:solidFill>
                        <a:latin typeface="Arial"/>
                      </a:rPr>
                      <a:t>Dim 2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6330960" y="2245680"/>
                    <a:ext cx="902160" cy="59652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ffffcc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00ff"/>
                        </a:solidFill>
                        <a:latin typeface="Arial"/>
                      </a:rPr>
                      <a:t>Dim 1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3" name=""/>
              <p:cNvSpPr/>
              <p:nvPr/>
            </p:nvSpPr>
            <p:spPr>
              <a:xfrm flipV="1">
                <a:off x="6858360" y="2080800"/>
                <a:ext cx="0" cy="164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7467480" y="2156760"/>
                <a:ext cx="0" cy="164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7924680" y="2233080"/>
                <a:ext cx="0" cy="164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8381880" y="2309040"/>
                <a:ext cx="0" cy="164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8838360" y="2385360"/>
                <a:ext cx="0" cy="164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6483240" y="2017800"/>
              <a:ext cx="2349360" cy="36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819520" y="4449600"/>
            <a:ext cx="1373040" cy="763920"/>
          </a:xfrm>
          <a:custGeom>
            <a:avLst/>
            <a:gdLst/>
            <a:ahLst/>
            <a:rect l="l" t="t" r="r" b="b"/>
            <a:pathLst>
              <a:path w="937" h="481">
                <a:moveTo>
                  <a:pt x="936" y="0"/>
                </a:moveTo>
                <a:lnTo>
                  <a:pt x="936" y="240"/>
                </a:lnTo>
                <a:lnTo>
                  <a:pt x="0" y="240"/>
                </a:lnTo>
                <a:lnTo>
                  <a:pt x="0" y="48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76800" y="1046520"/>
            <a:ext cx="306720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Automatic Post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25520" y="6390360"/>
            <a:ext cx="147600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Dispo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14920" y="6390360"/>
            <a:ext cx="18158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Inves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6006600">
            <a:off x="6132960" y="411732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6399200">
            <a:off x="367920" y="3578040"/>
            <a:ext cx="1214640" cy="7318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282600">
            <a:off x="3597840" y="157068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31880" y="24300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99"/>
                </a:solidFill>
                <a:latin typeface="Times New Roman"/>
              </a:rPr>
              <a:t>Fixed Asset Structure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40040" y="1454040"/>
            <a:ext cx="1816200" cy="901800"/>
          </a:xfrm>
          <a:prstGeom prst="rect">
            <a:avLst/>
          </a:prstGeom>
          <a:solidFill>
            <a:srgbClr val="ffcc99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F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11840" y="2811600"/>
            <a:ext cx="1816200" cy="901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C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06680" y="2825640"/>
            <a:ext cx="1815840" cy="901800"/>
          </a:xfrm>
          <a:prstGeom prst="rect">
            <a:avLst/>
          </a:prstGeom>
          <a:solidFill>
            <a:srgbClr val="ccffcc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uild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49680" y="4807080"/>
            <a:ext cx="1511280" cy="901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omb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9640" y="4807080"/>
            <a:ext cx="1587600" cy="901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Warsa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59360" y="4807080"/>
            <a:ext cx="1511280" cy="901440"/>
          </a:xfrm>
          <a:prstGeom prst="rect">
            <a:avLst/>
          </a:prstGeom>
          <a:solidFill>
            <a:srgbClr val="ffffcc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V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4807080"/>
            <a:ext cx="1511280" cy="901440"/>
          </a:xfrm>
          <a:prstGeom prst="rect">
            <a:avLst/>
          </a:prstGeom>
          <a:solidFill>
            <a:srgbClr val="ffffcc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Vol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2438280"/>
            <a:ext cx="2058840" cy="382680"/>
          </a:xfrm>
          <a:custGeom>
            <a:avLst/>
            <a:gdLst/>
            <a:ahLst/>
            <a:rect l="l" t="t" r="r" b="b"/>
            <a:pathLst>
              <a:path w="1405" h="241">
                <a:moveTo>
                  <a:pt x="1404" y="0"/>
                </a:moveTo>
                <a:lnTo>
                  <a:pt x="1404" y="144"/>
                </a:lnTo>
                <a:lnTo>
                  <a:pt x="0" y="144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8320" y="2666880"/>
            <a:ext cx="2058840" cy="154080"/>
          </a:xfrm>
          <a:custGeom>
            <a:avLst/>
            <a:gdLst/>
            <a:ahLst/>
            <a:rect l="l" t="t" r="r" b="b"/>
            <a:pathLst>
              <a:path w="1405" h="97">
                <a:moveTo>
                  <a:pt x="0" y="0"/>
                </a:moveTo>
                <a:lnTo>
                  <a:pt x="1404" y="0"/>
                </a:lnTo>
                <a:lnTo>
                  <a:pt x="1404" y="9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3809880"/>
            <a:ext cx="1068120" cy="992160"/>
          </a:xfrm>
          <a:custGeom>
            <a:avLst/>
            <a:gdLst/>
            <a:ahLst/>
            <a:rect l="l" t="t" r="r" b="b"/>
            <a:pathLst>
              <a:path w="729" h="625">
                <a:moveTo>
                  <a:pt x="728" y="0"/>
                </a:moveTo>
                <a:lnTo>
                  <a:pt x="728" y="288"/>
                </a:lnTo>
                <a:lnTo>
                  <a:pt x="0" y="288"/>
                </a:lnTo>
                <a:lnTo>
                  <a:pt x="0" y="6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14600" y="4267080"/>
            <a:ext cx="992160" cy="534960"/>
          </a:xfrm>
          <a:custGeom>
            <a:avLst/>
            <a:gdLst/>
            <a:ahLst/>
            <a:rect l="l" t="t" r="r" b="b"/>
            <a:pathLst>
              <a:path w="677" h="337">
                <a:moveTo>
                  <a:pt x="0" y="0"/>
                </a:moveTo>
                <a:lnTo>
                  <a:pt x="676" y="0"/>
                </a:lnTo>
                <a:lnTo>
                  <a:pt x="676" y="33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91320" y="3809880"/>
            <a:ext cx="992160" cy="992160"/>
          </a:xfrm>
          <a:custGeom>
            <a:avLst/>
            <a:gdLst/>
            <a:ahLst/>
            <a:rect l="l" t="t" r="r" b="b"/>
            <a:pathLst>
              <a:path w="677" h="625">
                <a:moveTo>
                  <a:pt x="676" y="0"/>
                </a:moveTo>
                <a:lnTo>
                  <a:pt x="676" y="288"/>
                </a:lnTo>
                <a:lnTo>
                  <a:pt x="0" y="288"/>
                </a:lnTo>
                <a:lnTo>
                  <a:pt x="0" y="6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81680" y="4267080"/>
            <a:ext cx="1068480" cy="534960"/>
          </a:xfrm>
          <a:custGeom>
            <a:avLst/>
            <a:gdLst/>
            <a:ahLst/>
            <a:rect l="l" t="t" r="r" b="b"/>
            <a:pathLst>
              <a:path w="729" h="337">
                <a:moveTo>
                  <a:pt x="0" y="0"/>
                </a:moveTo>
                <a:lnTo>
                  <a:pt x="728" y="0"/>
                </a:lnTo>
                <a:lnTo>
                  <a:pt x="728" y="33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2840" y="1680480"/>
            <a:ext cx="20509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Arial"/>
              </a:rPr>
              <a:t>FAS Main Group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50120" y="3174480"/>
            <a:ext cx="15415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Arial"/>
              </a:rPr>
              <a:t>FAS Grou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5400000">
            <a:off x="4282920" y="1823760"/>
            <a:ext cx="671400" cy="8374320"/>
          </a:xfrm>
          <a:custGeom>
            <a:avLst/>
            <a:gdLst>
              <a:gd name="textAreaLeft" fmla="*/ 0 w 671400"/>
              <a:gd name="textAreaRight" fmla="*/ 242280 w 671400"/>
              <a:gd name="textAreaTop" fmla="*/ 218160 h 8374320"/>
              <a:gd name="textAreaBottom" fmla="*/ 8156160 h 837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988"/>
                </a:lnTo>
                <a:cubicBezTo>
                  <a:pt x="10800" y="8888"/>
                  <a:pt x="16200" y="9788"/>
                  <a:pt x="21600" y="9788"/>
                </a:cubicBezTo>
                <a:cubicBezTo>
                  <a:pt x="16200" y="9788"/>
                  <a:pt x="10800" y="10688"/>
                  <a:pt x="10800" y="1158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40440" y="6328800"/>
            <a:ext cx="1614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Arial"/>
              </a:rPr>
              <a:t>Fixed Ass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Multiple Depreciation Systems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673360" y="1301760"/>
            <a:ext cx="4254480" cy="74916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7c80"/>
                </a:solidFill>
                <a:latin typeface="Arial"/>
              </a:rPr>
              <a:t>Depreciation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682640" y="2368440"/>
            <a:ext cx="1587600" cy="97812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Method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Deprec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92680" y="2368440"/>
            <a:ext cx="1587240" cy="97812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Base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Deprec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483240" y="2368440"/>
            <a:ext cx="1435320" cy="97812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Start &amp; 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of Depr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73160" y="3587760"/>
            <a:ext cx="2044800" cy="21970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Fixed % Base Va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Variable % Base Va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Sum of the Year’s Y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Annu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Fixed Amou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Variable Amou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Number of Year of U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Performed Un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Degressive &amp; Line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64080" y="3587760"/>
            <a:ext cx="2044440" cy="82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Purchase Va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Book Va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83240" y="3587760"/>
            <a:ext cx="2273400" cy="27306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ff"/>
                </a:solidFill>
                <a:uFillTx/>
                <a:latin typeface="Arial"/>
              </a:rPr>
              <a:t>Date in U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Period after Date in U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Period in U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Second half in Year in U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First Period Year in U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Next Year, First Peri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First/Second half of Y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ff"/>
                </a:solidFill>
                <a:uFillTx/>
                <a:latin typeface="Arial"/>
              </a:rPr>
              <a:t>Dispos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Out of U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Year before Disposal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Out of U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14600" y="2057400"/>
            <a:ext cx="2211480" cy="306360"/>
          </a:xfrm>
          <a:custGeom>
            <a:avLst/>
            <a:gdLst/>
            <a:ahLst/>
            <a:rect l="l" t="t" r="r" b="b"/>
            <a:pathLst>
              <a:path w="1509" h="193">
                <a:moveTo>
                  <a:pt x="1508" y="0"/>
                </a:moveTo>
                <a:lnTo>
                  <a:pt x="1508" y="96"/>
                </a:lnTo>
                <a:lnTo>
                  <a:pt x="0" y="96"/>
                </a:lnTo>
                <a:lnTo>
                  <a:pt x="0" y="19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24280" y="2209680"/>
            <a:ext cx="2440080" cy="154080"/>
          </a:xfrm>
          <a:custGeom>
            <a:avLst/>
            <a:gdLst/>
            <a:ahLst/>
            <a:rect l="l" t="t" r="r" b="b"/>
            <a:pathLst>
              <a:path w="1665" h="97">
                <a:moveTo>
                  <a:pt x="0" y="0"/>
                </a:moveTo>
                <a:lnTo>
                  <a:pt x="1664" y="0"/>
                </a:lnTo>
                <a:lnTo>
                  <a:pt x="1664" y="9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24280" y="2209680"/>
            <a:ext cx="1800" cy="154080"/>
          </a:xfrm>
          <a:custGeom>
            <a:avLst/>
            <a:gdLst/>
            <a:ahLst/>
            <a:rect l="l" t="t" r="r" b="b"/>
            <a:pathLst>
              <a:path w="1" h="97">
                <a:moveTo>
                  <a:pt x="0" y="0"/>
                </a:moveTo>
                <a:lnTo>
                  <a:pt x="0" y="9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977760" y="1244520"/>
            <a:ext cx="7378920" cy="4864320"/>
          </a:xfrm>
          <a:prstGeom prst="ellipse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66320" y="247680"/>
            <a:ext cx="807732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Finance Integration Concept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4923000" y="4971960"/>
          <a:ext cx="119520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3000" y="4971960"/>
                    <a:ext cx="119520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1487520" y="3903840"/>
          <a:ext cx="113184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87520" y="3903840"/>
                    <a:ext cx="11318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1650960" y="1962000"/>
          <a:ext cx="1454040" cy="7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50960" y="1962000"/>
                    <a:ext cx="145404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4870440" y="1695600"/>
          <a:ext cx="1965240" cy="66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0440" y="1695600"/>
                    <a:ext cx="19652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5340600" y="2305080"/>
            <a:ext cx="149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377360" y="2685960"/>
            <a:ext cx="2187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anufactu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01080" y="5657760"/>
            <a:ext cx="219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54760" y="4971960"/>
            <a:ext cx="1908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stribu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14520" y="1457280"/>
            <a:ext cx="1872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A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06560" y="2463840"/>
            <a:ext cx="3679920" cy="242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40080" y="2809800"/>
            <a:ext cx="2577960" cy="1698840"/>
          </a:xfrm>
          <a:prstGeom prst="ellipse">
            <a:avLst/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3635280" y="3219480"/>
          <a:ext cx="1814760" cy="78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5280" y="3219480"/>
                    <a:ext cx="18147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3815280" y="4057560"/>
            <a:ext cx="1554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in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513240" y="4514760"/>
            <a:ext cx="249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gration 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648480" y="3139920"/>
            <a:ext cx="1104840" cy="949320"/>
            <a:chOff x="6648480" y="3139920"/>
            <a:chExt cx="1104840" cy="949320"/>
          </a:xfrm>
        </p:grpSpPr>
        <p:graphicFrame>
          <p:nvGraphicFramePr>
            <p:cNvPr id="447" name=""/>
            <p:cNvGraphicFramePr/>
            <p:nvPr/>
          </p:nvGraphicFramePr>
          <p:xfrm>
            <a:off x="6658200" y="3139920"/>
            <a:ext cx="1095120" cy="949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658200" y="3139920"/>
                      <a:ext cx="1095120" cy="94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9" name=""/>
            <p:cNvGraphicFramePr/>
            <p:nvPr/>
          </p:nvGraphicFramePr>
          <p:xfrm>
            <a:off x="6648480" y="3704760"/>
            <a:ext cx="1095480" cy="257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5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648480" y="3704760"/>
                      <a:ext cx="1095480" cy="2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1" name=""/>
          <p:cNvSpPr/>
          <p:nvPr/>
        </p:nvSpPr>
        <p:spPr>
          <a:xfrm>
            <a:off x="6071400" y="4057560"/>
            <a:ext cx="199548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ervice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74760" y="399240"/>
            <a:ext cx="8356320" cy="49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en-GB" sz="4800" spc="-1" strike="noStrike">
                <a:solidFill>
                  <a:srgbClr val="ffff99"/>
                </a:solidFill>
                <a:latin typeface="Times New Roman"/>
              </a:rPr>
              <a:t>Financial Integration’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en-GB" sz="4800" spc="-1" strike="noStrike">
                <a:solidFill>
                  <a:srgbClr val="ffff99"/>
                </a:solidFill>
                <a:latin typeface="Times New Roman"/>
              </a:rPr>
              <a:t>KEY Featur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buClr>
                <a:srgbClr val="618ffd"/>
              </a:buClr>
              <a:buFont typeface="Monotype Sorts" charset="2"/>
              <a:buChar char="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utomatic postings of the integration transac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a pre-defined ledger sche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buClr>
                <a:srgbClr val="618ffd"/>
              </a:buClr>
              <a:buFont typeface="Monotype Sorts" charset="2"/>
              <a:buChar char="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buClr>
                <a:srgbClr val="618ffd"/>
              </a:buClr>
              <a:buFont typeface="Monotype Sorts" charset="2"/>
              <a:buChar char="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utomatic postings to the dimen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buClr>
                <a:srgbClr val="618ffd"/>
              </a:buClr>
              <a:buFont typeface="Monotype Sorts" charset="2"/>
              <a:buChar char="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-Time update of the ledger his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33400" y="669600"/>
            <a:ext cx="7236000" cy="71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afd8b"/>
                </a:solidFill>
                <a:latin typeface="Times New Roman"/>
              </a:rPr>
              <a:t>Positioning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1960" y="2463480"/>
            <a:ext cx="7389720" cy="361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aan IV Finance: a fully integrated packag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aan IV Finance is a comprehensive financial solution allowing bo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fficient data ent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6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on line” management report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660760" y="436680"/>
            <a:ext cx="4937040" cy="6760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i="1" lang="en-GB" sz="4300" spc="-1" strike="noStrike">
                <a:solidFill>
                  <a:srgbClr val="ffff99"/>
                </a:solidFill>
                <a:latin typeface="Times New Roman"/>
              </a:rPr>
              <a:t>Financial Integrations</a:t>
            </a:r>
            <a:endParaRPr b="1" i="1" lang="en-US" sz="43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67200" y="5985000"/>
            <a:ext cx="958680" cy="583920"/>
          </a:xfrm>
          <a:prstGeom prst="rect">
            <a:avLst/>
          </a:prstGeom>
          <a:solidFill>
            <a:srgbClr val="ccffcc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Gener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Led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22920" y="5986440"/>
            <a:ext cx="958680" cy="585720"/>
          </a:xfrm>
          <a:prstGeom prst="rect">
            <a:avLst/>
          </a:prstGeom>
          <a:solidFill>
            <a:srgbClr val="ccffcc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Acc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Payable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Receiv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28920" y="1376280"/>
            <a:ext cx="1149120" cy="760320"/>
          </a:xfrm>
          <a:prstGeom prst="rect">
            <a:avLst/>
          </a:prstGeom>
          <a:gradFill rotWithShape="0">
            <a:gsLst>
              <a:gs pos="0">
                <a:srgbClr val="000032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90960" y="1376280"/>
            <a:ext cx="1270080" cy="760320"/>
          </a:xfrm>
          <a:prstGeom prst="rect">
            <a:avLst/>
          </a:prstGeom>
          <a:gradFill rotWithShape="0">
            <a:gsLst>
              <a:gs pos="0">
                <a:srgbClr val="000032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51280" y="1376280"/>
            <a:ext cx="1149480" cy="760320"/>
          </a:xfrm>
          <a:prstGeom prst="rect">
            <a:avLst/>
          </a:prstGeom>
          <a:gradFill rotWithShape="0">
            <a:gsLst>
              <a:gs pos="0">
                <a:srgbClr val="000032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91360" y="1376280"/>
            <a:ext cx="1150920" cy="760320"/>
          </a:xfrm>
          <a:prstGeom prst="rect">
            <a:avLst/>
          </a:prstGeom>
          <a:gradFill rotWithShape="0">
            <a:gsLst>
              <a:gs pos="0">
                <a:srgbClr val="000032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834320" y="1376280"/>
            <a:ext cx="1150920" cy="760320"/>
          </a:xfrm>
          <a:prstGeom prst="rect">
            <a:avLst/>
          </a:prstGeom>
          <a:gradFill rotWithShape="0">
            <a:gsLst>
              <a:gs pos="0">
                <a:srgbClr val="000032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98320" y="2637000"/>
            <a:ext cx="7479000" cy="607680"/>
          </a:xfrm>
          <a:prstGeom prst="rect">
            <a:avLst/>
          </a:prstGeom>
          <a:solidFill>
            <a:srgbClr val="eaec5e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Central Integration Transaction 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527200" y="3740040"/>
            <a:ext cx="3409920" cy="604800"/>
          </a:xfrm>
          <a:prstGeom prst="rect">
            <a:avLst/>
          </a:prstGeom>
          <a:gradFill rotWithShape="0">
            <a:gsLst>
              <a:gs pos="0">
                <a:srgbClr val="000032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inancial Integration 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8680" y="4807080"/>
            <a:ext cx="3149640" cy="637920"/>
          </a:xfrm>
          <a:prstGeom prst="rect">
            <a:avLst/>
          </a:prstGeom>
          <a:gradFill rotWithShape="0">
            <a:gsLst>
              <a:gs pos="0">
                <a:srgbClr val="000032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ansactions posted to Fi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90840" y="1432080"/>
            <a:ext cx="112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603760" y="1432080"/>
            <a:ext cx="8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94360" y="1432080"/>
            <a:ext cx="90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1376280"/>
            <a:ext cx="1149480" cy="760320"/>
          </a:xfrm>
          <a:prstGeom prst="rect">
            <a:avLst/>
          </a:prstGeom>
          <a:gradFill rotWithShape="0">
            <a:gsLst>
              <a:gs pos="0">
                <a:srgbClr val="000032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anufac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rot="16200000">
            <a:off x="676800" y="2224080"/>
            <a:ext cx="381240" cy="352440"/>
          </a:xfrm>
          <a:prstGeom prst="rightArrow">
            <a:avLst>
              <a:gd name="adj1" fmla="val 50000"/>
              <a:gd name="adj2" fmla="val 54091"/>
            </a:avLst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rot="16200000">
            <a:off x="5109480" y="5577840"/>
            <a:ext cx="380880" cy="350640"/>
          </a:xfrm>
          <a:prstGeom prst="rightArrow">
            <a:avLst>
              <a:gd name="adj1" fmla="val 50000"/>
              <a:gd name="adj2" fmla="val 54317"/>
            </a:avLst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rot="16200000">
            <a:off x="3208680" y="5576760"/>
            <a:ext cx="380880" cy="352440"/>
          </a:xfrm>
          <a:prstGeom prst="rightArrow">
            <a:avLst>
              <a:gd name="adj1" fmla="val 50000"/>
              <a:gd name="adj2" fmla="val 54040"/>
            </a:avLst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rot="16200000">
            <a:off x="4123080" y="4433760"/>
            <a:ext cx="380880" cy="352440"/>
          </a:xfrm>
          <a:prstGeom prst="rightArrow">
            <a:avLst>
              <a:gd name="adj1" fmla="val 50000"/>
              <a:gd name="adj2" fmla="val 54040"/>
            </a:avLst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16200000">
            <a:off x="4123080" y="3367080"/>
            <a:ext cx="381240" cy="352440"/>
          </a:xfrm>
          <a:prstGeom prst="rightArrow">
            <a:avLst>
              <a:gd name="adj1" fmla="val 50000"/>
              <a:gd name="adj2" fmla="val 54091"/>
            </a:avLst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rot="16200000">
            <a:off x="7780680" y="2224080"/>
            <a:ext cx="381240" cy="352440"/>
          </a:xfrm>
          <a:prstGeom prst="rightArrow">
            <a:avLst>
              <a:gd name="adj1" fmla="val 50000"/>
              <a:gd name="adj2" fmla="val 54091"/>
            </a:avLst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rot="16200000">
            <a:off x="6725880" y="2224800"/>
            <a:ext cx="381240" cy="351000"/>
          </a:xfrm>
          <a:prstGeom prst="rightArrow">
            <a:avLst>
              <a:gd name="adj1" fmla="val 50000"/>
              <a:gd name="adj2" fmla="val 54313"/>
            </a:avLst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5178960" y="2224080"/>
            <a:ext cx="381240" cy="352440"/>
          </a:xfrm>
          <a:prstGeom prst="rightArrow">
            <a:avLst>
              <a:gd name="adj1" fmla="val 50000"/>
              <a:gd name="adj2" fmla="val 54091"/>
            </a:avLst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rot="16200000">
            <a:off x="3561120" y="2224080"/>
            <a:ext cx="381240" cy="352440"/>
          </a:xfrm>
          <a:prstGeom prst="rightArrow">
            <a:avLst>
              <a:gd name="adj1" fmla="val 50000"/>
              <a:gd name="adj2" fmla="val 54091"/>
            </a:avLst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 rot="16200000">
            <a:off x="1943640" y="2224800"/>
            <a:ext cx="381240" cy="350640"/>
          </a:xfrm>
          <a:prstGeom prst="rightArrow">
            <a:avLst>
              <a:gd name="adj1" fmla="val 50000"/>
              <a:gd name="adj2" fmla="val 54368"/>
            </a:avLst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>
            <a:hlinkClick r:id="rId1" action="ppaction://hlinksldjump"/>
          </p:cNvPr>
          <p:cNvSpPr/>
          <p:nvPr/>
        </p:nvSpPr>
        <p:spPr>
          <a:xfrm>
            <a:off x="8145360" y="540540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7493"/>
                </a:moveTo>
                <a:lnTo>
                  <a:pt x="7309" y="7493"/>
                </a:lnTo>
                <a:lnTo>
                  <a:pt x="7309" y="12828"/>
                </a:lnTo>
                <a:cubicBezTo>
                  <a:pt x="7309" y="13751"/>
                  <a:pt x="8109" y="14482"/>
                  <a:pt x="9145" y="14482"/>
                </a:cubicBezTo>
                <a:lnTo>
                  <a:pt x="10807" y="14482"/>
                </a:lnTo>
                <a:cubicBezTo>
                  <a:pt x="11843" y="14482"/>
                  <a:pt x="12644" y="13751"/>
                  <a:pt x="12644" y="12828"/>
                </a:cubicBezTo>
                <a:lnTo>
                  <a:pt x="12644" y="7493"/>
                </a:lnTo>
                <a:lnTo>
                  <a:pt x="10807" y="7493"/>
                </a:lnTo>
                <a:lnTo>
                  <a:pt x="14315" y="3985"/>
                </a:lnTo>
                <a:lnTo>
                  <a:pt x="17988" y="7493"/>
                </a:lnTo>
                <a:lnTo>
                  <a:pt x="16152" y="7493"/>
                </a:lnTo>
                <a:lnTo>
                  <a:pt x="16152" y="12828"/>
                </a:lnTo>
                <a:cubicBezTo>
                  <a:pt x="16152" y="15596"/>
                  <a:pt x="13575" y="18155"/>
                  <a:pt x="10807" y="18155"/>
                </a:cubicBezTo>
                <a:lnTo>
                  <a:pt x="9145" y="18155"/>
                </a:lnTo>
                <a:cubicBezTo>
                  <a:pt x="6377" y="18155"/>
                  <a:pt x="3801" y="15596"/>
                  <a:pt x="3801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33400" y="35892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99"/>
                </a:solidFill>
                <a:latin typeface="Times New Roman"/>
              </a:rPr>
              <a:t>Financial Budget System</a:t>
            </a:r>
            <a:br>
              <a:rPr sz="4800"/>
            </a:br>
            <a:r>
              <a:rPr b="1" i="1" lang="en-GB" sz="4800" spc="-1" strike="noStrike">
                <a:solidFill>
                  <a:srgbClr val="ffff99"/>
                </a:solidFill>
                <a:latin typeface="Times New Roman"/>
              </a:rPr>
              <a:t>KEY Features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6280" y="1757160"/>
            <a:ext cx="7389720" cy="361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84400" indent="-284400">
              <a:lnSpc>
                <a:spcPct val="95000"/>
              </a:lnSpc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limited number of budgets per y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5000"/>
              </a:lnSpc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udgets are based on general ledger accounts or dimensions/or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5000"/>
              </a:lnSpc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ree definable number of perio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5000"/>
              </a:lnSpc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udgets can have a parent child structure, with facility for currency conver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1000"/>
              </a:lnSpc>
              <a:spcBef>
                <a:spcPts val="1525"/>
              </a:spcBef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op-Down and Bottom-Up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1000"/>
              </a:lnSpc>
              <a:spcBef>
                <a:spcPts val="1525"/>
              </a:spcBef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atest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1000"/>
              </a:lnSpc>
              <a:spcBef>
                <a:spcPts val="1525"/>
              </a:spcBef>
              <a:spcAft>
                <a:spcPts val="125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mparing Actual and Budgeted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33400" y="669600"/>
            <a:ext cx="7236000" cy="71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Budget Inquiry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865080" y="1504800"/>
            <a:ext cx="6229440" cy="5353200"/>
          </a:xfrm>
          <a:prstGeom prst="rect">
            <a:avLst/>
          </a:prstGeom>
          <a:ln w="0">
            <a:noFill/>
          </a:ln>
        </p:spPr>
      </p:pic>
      <p:sp>
        <p:nvSpPr>
          <p:cNvPr id="483" name="">
            <a:hlinkClick r:id="rId2" action="ppaction://hlinksldjump"/>
          </p:cNvPr>
          <p:cNvSpPr/>
          <p:nvPr/>
        </p:nvSpPr>
        <p:spPr>
          <a:xfrm>
            <a:off x="8238960" y="5468760"/>
            <a:ext cx="520920" cy="52092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897200" y="547560"/>
            <a:ext cx="4238640" cy="6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46080" bIns="4608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i="1" lang="en-GB" sz="4800" spc="-1" strike="noStrike">
                <a:solidFill>
                  <a:srgbClr val="ffff99"/>
                </a:solidFill>
                <a:latin typeface="Times New Roman"/>
              </a:rPr>
              <a:t>Cost Allocation</a:t>
            </a:r>
            <a:br>
              <a:rPr sz="4800"/>
            </a:br>
            <a:r>
              <a:rPr b="1" i="1" lang="en-GB" sz="4800" spc="-1" strike="noStrike">
                <a:solidFill>
                  <a:srgbClr val="ffff99"/>
                </a:solidFill>
                <a:latin typeface="Times New Roman"/>
              </a:rPr>
              <a:t> KEY Features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90400" y="2398320"/>
            <a:ext cx="7880400" cy="361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Allocation on Dimension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Allocation to activities based on Cost Drive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Cost Drivers automatically imported from logistic packag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lexible Allocation Structu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ost allocation result to Fin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33400" y="35892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Activity Based Costing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79120" y="1726920"/>
            <a:ext cx="7389720" cy="361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 fontScale="88000"/>
          </a:bodyPr>
          <a:p>
            <a:pPr marL="294480" indent="-294480">
              <a:lnSpc>
                <a:spcPct val="85000"/>
              </a:lnSpc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inition of activ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480" indent="0">
              <a:lnSpc>
                <a:spcPct val="85000"/>
              </a:lnSpc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480" indent="-294480">
              <a:lnSpc>
                <a:spcPct val="85000"/>
              </a:lnSpc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st allocation from dimensions to activ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480" indent="0">
              <a:lnSpc>
                <a:spcPct val="85000"/>
              </a:lnSpc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480" indent="-294480">
              <a:lnSpc>
                <a:spcPct val="85000"/>
              </a:lnSpc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ocation of activities to cost objects by means of cost driv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480" indent="0">
              <a:lnSpc>
                <a:spcPct val="85000"/>
              </a:lnSpc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480" indent="-294480">
              <a:lnSpc>
                <a:spcPct val="85000"/>
              </a:lnSpc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inal result is an amount per activity per cost 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480" indent="0">
              <a:lnSpc>
                <a:spcPct val="85000"/>
              </a:lnSpc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480" indent="-294480">
              <a:lnSpc>
                <a:spcPct val="85000"/>
              </a:lnSpc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xport ABC Surcharge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to Cost Accoun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480" indent="0">
              <a:lnSpc>
                <a:spcPct val="85000"/>
              </a:lnSpc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480" indent="-294480">
              <a:lnSpc>
                <a:spcPct val="85000"/>
              </a:lnSpc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int a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ill of Activitie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to view Consumption rate per Cost Object (Item Group 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480" indent="0">
              <a:lnSpc>
                <a:spcPct val="95000"/>
              </a:lnSpc>
              <a:spcAft>
                <a:spcPts val="1500"/>
              </a:spcAft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33400" y="358920"/>
            <a:ext cx="7236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Financial Statements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82720" y="2085840"/>
            <a:ext cx="654192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marL="487440" indent="-487440">
              <a:lnSpc>
                <a:spcPct val="91000"/>
              </a:lnSpc>
              <a:spcBef>
                <a:spcPts val="1599"/>
              </a:spcBef>
              <a:spcAft>
                <a:spcPts val="1312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r" pos="42084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Flexible Reporting Structur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-487440">
              <a:lnSpc>
                <a:spcPct val="91000"/>
              </a:lnSpc>
              <a:spcBef>
                <a:spcPts val="1599"/>
              </a:spcBef>
              <a:spcAft>
                <a:spcPts val="1312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r" pos="42084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Data from General Ledger and Budget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-487440">
              <a:lnSpc>
                <a:spcPct val="91000"/>
              </a:lnSpc>
              <a:spcBef>
                <a:spcPts val="1599"/>
              </a:spcBef>
              <a:spcAft>
                <a:spcPts val="1312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r" pos="42084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Ratio Analysi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-487440">
              <a:lnSpc>
                <a:spcPct val="91000"/>
              </a:lnSpc>
              <a:spcBef>
                <a:spcPts val="1599"/>
              </a:spcBef>
              <a:spcAft>
                <a:spcPts val="1312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r" pos="42084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Graphical Output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-487440">
              <a:lnSpc>
                <a:spcPct val="91000"/>
              </a:lnSpc>
              <a:spcBef>
                <a:spcPts val="1599"/>
              </a:spcBef>
              <a:spcAft>
                <a:spcPts val="1312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r" pos="42084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Consolidated Statements with elimination posting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407960" y="2462040"/>
            <a:ext cx="898560" cy="298800"/>
          </a:xfrm>
          <a:custGeom>
            <a:avLst/>
            <a:gdLst/>
            <a:ahLst/>
            <a:rect l="l" t="t" r="r" b="b"/>
            <a:pathLst>
              <a:path w="613" h="188">
                <a:moveTo>
                  <a:pt x="0" y="0"/>
                </a:moveTo>
                <a:lnTo>
                  <a:pt x="0" y="75"/>
                </a:lnTo>
                <a:lnTo>
                  <a:pt x="612" y="75"/>
                </a:lnTo>
                <a:lnTo>
                  <a:pt x="612" y="187"/>
                </a:lnTo>
              </a:path>
            </a:pathLst>
          </a:custGeom>
          <a:noFill/>
          <a:ln cap="rnd" w="12600">
            <a:solidFill>
              <a:srgbClr val="fef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46440" y="2587680"/>
            <a:ext cx="0" cy="146160"/>
          </a:xfrm>
          <a:prstGeom prst="line">
            <a:avLst/>
          </a:prstGeom>
          <a:ln w="12600">
            <a:solidFill>
              <a:srgbClr val="fef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25600" y="2587680"/>
            <a:ext cx="0" cy="164880"/>
          </a:xfrm>
          <a:prstGeom prst="line">
            <a:avLst/>
          </a:prstGeom>
          <a:ln w="12600">
            <a:solidFill>
              <a:srgbClr val="fef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6280" y="2581200"/>
            <a:ext cx="933480" cy="179640"/>
          </a:xfrm>
          <a:custGeom>
            <a:avLst/>
            <a:gdLst/>
            <a:ahLst/>
            <a:rect l="l" t="t" r="r" b="b"/>
            <a:pathLst>
              <a:path w="637" h="113">
                <a:moveTo>
                  <a:pt x="636" y="0"/>
                </a:moveTo>
                <a:lnTo>
                  <a:pt x="0" y="0"/>
                </a:lnTo>
                <a:lnTo>
                  <a:pt x="0" y="112"/>
                </a:lnTo>
              </a:path>
            </a:pathLst>
          </a:custGeom>
          <a:noFill/>
          <a:ln cap="rnd" w="12600">
            <a:solidFill>
              <a:srgbClr val="fef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50760" y="2587680"/>
            <a:ext cx="0" cy="183960"/>
          </a:xfrm>
          <a:prstGeom prst="line">
            <a:avLst/>
          </a:prstGeom>
          <a:ln w="12600">
            <a:solidFill>
              <a:srgbClr val="fef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46400" y="3105000"/>
            <a:ext cx="2462400" cy="1295640"/>
          </a:xfrm>
          <a:prstGeom prst="rect">
            <a:avLst/>
          </a:prstGeom>
          <a:gradFill rotWithShape="0">
            <a:gsLst>
              <a:gs pos="0">
                <a:srgbClr val="003900"/>
              </a:gs>
              <a:gs pos="50000">
                <a:srgbClr val="00c200"/>
              </a:gs>
              <a:gs pos="100000">
                <a:srgbClr val="003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87040" y="592200"/>
            <a:ext cx="4692600" cy="6760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Financial Statements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95960" y="3440520"/>
            <a:ext cx="182448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inancial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t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13120" y="2008080"/>
            <a:ext cx="1753920" cy="989280"/>
          </a:xfrm>
          <a:custGeom>
            <a:avLst/>
            <a:gdLst/>
            <a:ahLst/>
            <a:rect l="l" t="t" r="r" b="b"/>
            <a:pathLst>
              <a:path w="1197" h="623">
                <a:moveTo>
                  <a:pt x="0" y="0"/>
                </a:moveTo>
                <a:lnTo>
                  <a:pt x="1196" y="0"/>
                </a:lnTo>
                <a:lnTo>
                  <a:pt x="1196" y="622"/>
                </a:lnTo>
              </a:path>
            </a:pathLst>
          </a:custGeom>
          <a:noFill/>
          <a:ln cap="rnd" w="25560">
            <a:solidFill>
              <a:srgbClr val="ffff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81600" y="2008080"/>
            <a:ext cx="2012760" cy="1009800"/>
          </a:xfrm>
          <a:custGeom>
            <a:avLst/>
            <a:gdLst/>
            <a:ahLst/>
            <a:rect l="l" t="t" r="r" b="b"/>
            <a:pathLst>
              <a:path w="1374" h="636">
                <a:moveTo>
                  <a:pt x="1373" y="0"/>
                </a:moveTo>
                <a:lnTo>
                  <a:pt x="0" y="0"/>
                </a:lnTo>
                <a:lnTo>
                  <a:pt x="0" y="635"/>
                </a:lnTo>
              </a:path>
            </a:pathLst>
          </a:custGeom>
          <a:noFill/>
          <a:ln cap="rnd" w="25560">
            <a:solidFill>
              <a:srgbClr val="ffff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7520" y="2784600"/>
            <a:ext cx="3380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4d4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82640" y="2774880"/>
            <a:ext cx="334800" cy="26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4d4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30480" y="2763720"/>
            <a:ext cx="33804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4d4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95320" y="1657440"/>
            <a:ext cx="914400" cy="685800"/>
          </a:xfrm>
          <a:prstGeom prst="rect">
            <a:avLst/>
          </a:prstGeom>
          <a:gradFill rotWithShape="0">
            <a:gsLst>
              <a:gs pos="0">
                <a:srgbClr val="002c28"/>
              </a:gs>
              <a:gs pos="50000">
                <a:srgbClr val="009688"/>
              </a:gs>
              <a:gs pos="100000">
                <a:srgbClr val="002c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97040" y="2774880"/>
            <a:ext cx="334800" cy="26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4d4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143080" y="2763720"/>
            <a:ext cx="335160" cy="26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4d4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73840" y="1504800"/>
            <a:ext cx="1336680" cy="1067040"/>
          </a:xfrm>
          <a:prstGeom prst="rect">
            <a:avLst/>
          </a:prstGeom>
          <a:gradFill rotWithShape="0">
            <a:gsLst>
              <a:gs pos="0">
                <a:srgbClr val="002c28"/>
              </a:gs>
              <a:gs pos="50000">
                <a:srgbClr val="009688"/>
              </a:gs>
              <a:gs pos="100000">
                <a:srgbClr val="002c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992520" y="1837080"/>
            <a:ext cx="78336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GL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04240" y="1848600"/>
            <a:ext cx="8445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B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12520" y="3057480"/>
            <a:ext cx="13136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121480" y="1670040"/>
            <a:ext cx="17406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mounts/Quant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036800" y="4781520"/>
            <a:ext cx="914400" cy="685800"/>
          </a:xfrm>
          <a:prstGeom prst="rect">
            <a:avLst/>
          </a:prstGeom>
          <a:gradFill rotWithShape="0">
            <a:gsLst>
              <a:gs pos="0">
                <a:srgbClr val="002c28"/>
              </a:gs>
              <a:gs pos="50000">
                <a:srgbClr val="009688"/>
              </a:gs>
              <a:gs pos="100000">
                <a:srgbClr val="002c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00240" y="2055960"/>
            <a:ext cx="10731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(Report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159520" y="2044800"/>
            <a:ext cx="10731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(Report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186880" y="1700280"/>
            <a:ext cx="15012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udget Amou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59160" y="4640400"/>
            <a:ext cx="0" cy="546120"/>
          </a:xfrm>
          <a:prstGeom prst="line">
            <a:avLst/>
          </a:prstGeom>
          <a:ln w="127080">
            <a:solidFill>
              <a:srgbClr val="bf46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729520" y="5362560"/>
            <a:ext cx="34473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Reporting Purpose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01880" y="5916600"/>
            <a:ext cx="50688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(External/Internal Information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089360" y="4956480"/>
            <a:ext cx="78336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GL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27400" y="3618000"/>
            <a:ext cx="25999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Eliminations/Adjustment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536840" y="4003560"/>
            <a:ext cx="1481040" cy="792360"/>
          </a:xfrm>
          <a:custGeom>
            <a:avLst/>
            <a:gdLst/>
            <a:ahLst/>
            <a:rect l="l" t="t" r="r" b="b"/>
            <a:pathLst>
              <a:path w="1010" h="499">
                <a:moveTo>
                  <a:pt x="1009" y="0"/>
                </a:moveTo>
                <a:lnTo>
                  <a:pt x="0" y="0"/>
                </a:lnTo>
                <a:lnTo>
                  <a:pt x="0" y="498"/>
                </a:lnTo>
              </a:path>
            </a:pathLst>
          </a:custGeom>
          <a:noFill/>
          <a:ln cap="rnd" w="25560">
            <a:solidFill>
              <a:srgbClr val="ffff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>
            <a:hlinkClick r:id="rId1" action="ppaction://hlinksldjump"/>
          </p:cNvPr>
          <p:cNvSpPr/>
          <p:nvPr/>
        </p:nvSpPr>
        <p:spPr>
          <a:xfrm>
            <a:off x="8264520" y="5418000"/>
            <a:ext cx="520560" cy="52092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7500"/>
                </a:moveTo>
                <a:lnTo>
                  <a:pt x="7301" y="7500"/>
                </a:lnTo>
                <a:lnTo>
                  <a:pt x="7301" y="12835"/>
                </a:lnTo>
                <a:cubicBezTo>
                  <a:pt x="7301" y="13758"/>
                  <a:pt x="8102" y="14489"/>
                  <a:pt x="9138" y="14489"/>
                </a:cubicBezTo>
                <a:lnTo>
                  <a:pt x="10800" y="14489"/>
                </a:lnTo>
                <a:cubicBezTo>
                  <a:pt x="11836" y="14489"/>
                  <a:pt x="12636" y="13758"/>
                  <a:pt x="12636" y="12835"/>
                </a:cubicBezTo>
                <a:lnTo>
                  <a:pt x="12636" y="7500"/>
                </a:lnTo>
                <a:lnTo>
                  <a:pt x="10800" y="7500"/>
                </a:lnTo>
                <a:lnTo>
                  <a:pt x="14308" y="3992"/>
                </a:lnTo>
                <a:lnTo>
                  <a:pt x="17981" y="7500"/>
                </a:lnTo>
                <a:lnTo>
                  <a:pt x="16144" y="7500"/>
                </a:lnTo>
                <a:lnTo>
                  <a:pt x="16144" y="12835"/>
                </a:lnTo>
                <a:cubicBezTo>
                  <a:pt x="16144" y="15603"/>
                  <a:pt x="13568" y="18162"/>
                  <a:pt x="10800" y="18162"/>
                </a:cubicBezTo>
                <a:lnTo>
                  <a:pt x="9138" y="18162"/>
                </a:lnTo>
                <a:cubicBezTo>
                  <a:pt x="6370" y="18162"/>
                  <a:pt x="3794" y="15603"/>
                  <a:pt x="3794" y="1283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33400" y="669600"/>
            <a:ext cx="7236000" cy="71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afd8b"/>
                </a:solidFill>
                <a:latin typeface="Times New Roman"/>
              </a:rPr>
              <a:t>Competitive functionality</a:t>
            </a:r>
            <a:r>
              <a:rPr b="1" i="1" lang="en-US" sz="4800" spc="-1" strike="noStrike">
                <a:solidFill>
                  <a:srgbClr val="fafd8b"/>
                </a:solidFill>
                <a:latin typeface="Times New Roman"/>
              </a:rPr>
              <a:t>	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14080" y="2138040"/>
            <a:ext cx="7389720" cy="361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73000"/>
          </a:bodyPr>
          <a:p>
            <a:pPr marL="207000" indent="-207000">
              <a:lnSpc>
                <a:spcPct val="90000"/>
              </a:lnSpc>
              <a:spcBef>
                <a:spcPts val="1826"/>
              </a:spcBef>
              <a:spcAft>
                <a:spcPts val="150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lete integration with the logist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000" indent="-207000">
              <a:lnSpc>
                <a:spcPct val="90000"/>
              </a:lnSpc>
              <a:spcBef>
                <a:spcPts val="1826"/>
              </a:spcBef>
              <a:spcAft>
                <a:spcPts val="150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duced manual inpu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000" indent="-207000">
              <a:lnSpc>
                <a:spcPct val="90000"/>
              </a:lnSpc>
              <a:spcBef>
                <a:spcPts val="1826"/>
              </a:spcBef>
              <a:spcAft>
                <a:spcPts val="150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ports day-to-day oper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000" indent="-207000">
              <a:lnSpc>
                <a:spcPct val="90000"/>
              </a:lnSpc>
              <a:spcBef>
                <a:spcPts val="1826"/>
              </a:spcBef>
              <a:spcAft>
                <a:spcPts val="150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ull Drill Down (Dimens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000" indent="-207000">
              <a:lnSpc>
                <a:spcPct val="90000"/>
              </a:lnSpc>
              <a:spcBef>
                <a:spcPts val="1826"/>
              </a:spcBef>
              <a:spcAft>
                <a:spcPts val="150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ment Informa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000" indent="-207000">
              <a:lnSpc>
                <a:spcPct val="90000"/>
              </a:lnSpc>
              <a:spcBef>
                <a:spcPts val="1826"/>
              </a:spcBef>
              <a:spcAft>
                <a:spcPts val="1500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lti-Company solu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000" indent="0">
              <a:lnSpc>
                <a:spcPct val="90000"/>
              </a:lnSpc>
              <a:spcBef>
                <a:spcPts val="1675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33400" y="669600"/>
            <a:ext cx="7236000" cy="71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afd8b"/>
                </a:solidFill>
                <a:latin typeface="Times New Roman"/>
              </a:rPr>
              <a:t>Best fit for the Midmarket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75880" y="2168640"/>
            <a:ext cx="7916760" cy="364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81000"/>
          </a:bodyPr>
          <a:p>
            <a:pPr marL="230040" indent="-230040">
              <a:lnSpc>
                <a:spcPct val="70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aan Finance is fully integrated packag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70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70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ransactions generated automaticall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70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70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eneral Ledger insigh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70000"/>
              </a:lnSpc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70000"/>
              </a:lnSpc>
              <a:spcAft>
                <a:spcPts val="1624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asy and quick access to the information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3400" y="669600"/>
            <a:ext cx="7236000" cy="71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Day-to-Day Operations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5920" y="1805040"/>
            <a:ext cx="2754720" cy="590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GB" sz="3200" spc="-1" strike="noStrike" u="sng">
                <a:solidFill>
                  <a:srgbClr val="fc0128"/>
                </a:solidFill>
                <a:uFillTx/>
                <a:latin typeface="Times New Roman"/>
                <a:hlinkClick r:id="rId1" action="ppaction://hlinksldjump"/>
              </a:rPr>
              <a:t>General Led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7160" y="3281400"/>
            <a:ext cx="3297240" cy="59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GB" sz="3200" spc="-1" strike="noStrike" u="sng">
                <a:solidFill>
                  <a:srgbClr val="fc0128"/>
                </a:solidFill>
                <a:uFillTx/>
                <a:latin typeface="Times New Roman"/>
                <a:hlinkClick r:id="rId2" action="ppaction://hlinksldjump"/>
              </a:rPr>
              <a:t>Sales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7880" y="3295800"/>
            <a:ext cx="4044240" cy="59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3200" spc="-1" strike="noStrike">
                <a:solidFill>
                  <a:srgbClr val="3333ff"/>
                </a:solidFill>
                <a:latin typeface="Times New Roman"/>
              </a:rPr>
              <a:t>Purchase</a:t>
            </a:r>
            <a:r>
              <a:rPr b="0" lang="en-GB" sz="3200" spc="-1" strike="noStrike" u="sng">
                <a:solidFill>
                  <a:srgbClr val="fc0128"/>
                </a:solidFill>
                <a:uFillTx/>
                <a:latin typeface="Times New Roman"/>
                <a:hlinkClick r:id="rId3" action="ppaction://hlinksldjump"/>
              </a:rPr>
              <a:t> </a:t>
            </a:r>
            <a:r>
              <a:rPr b="0" lang="en-GB" sz="3200" spc="-1" strike="noStrike" u="sng">
                <a:solidFill>
                  <a:srgbClr val="fc0128"/>
                </a:solidFill>
                <a:uFillTx/>
                <a:latin typeface="Times New Roman"/>
                <a:hlinkClick r:id="rId4" action="ppaction://hlinksldjump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7560" y="4838760"/>
            <a:ext cx="3501360" cy="590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GB" sz="3200" spc="-1" strike="noStrike" u="sng">
                <a:solidFill>
                  <a:srgbClr val="fc0128"/>
                </a:solidFill>
                <a:uFillTx/>
                <a:latin typeface="Times New Roman"/>
                <a:hlinkClick r:id="rId5" action="ppaction://hlinksldjump"/>
              </a:rPr>
              <a:t>Payment Proc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4640" y="5992920"/>
            <a:ext cx="2300760" cy="590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GB" sz="3200" spc="-1" strike="noStrike" u="sng">
                <a:solidFill>
                  <a:srgbClr val="fc0128"/>
                </a:solidFill>
                <a:uFillTx/>
                <a:latin typeface="Times New Roman"/>
                <a:hlinkClick r:id="rId6" action="ppaction://hlinksldjump"/>
              </a:rPr>
              <a:t>Fixed </a:t>
            </a:r>
            <a:r>
              <a:rPr b="0" lang="en-GB" sz="3200" spc="-1" strike="noStrike" u="sng">
                <a:solidFill>
                  <a:srgbClr val="fc0128"/>
                </a:solidFill>
                <a:uFillTx/>
                <a:latin typeface="Times New Roman"/>
                <a:hlinkClick r:id="rId7" action="ppaction://hlinksldjump"/>
              </a:rPr>
              <a:t>Ass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60680" y="408456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31040" y="40417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8265960" y="567072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7493"/>
                </a:moveTo>
                <a:lnTo>
                  <a:pt x="7309" y="7493"/>
                </a:lnTo>
                <a:lnTo>
                  <a:pt x="7309" y="12828"/>
                </a:lnTo>
                <a:cubicBezTo>
                  <a:pt x="7309" y="13751"/>
                  <a:pt x="8109" y="14482"/>
                  <a:pt x="9145" y="14482"/>
                </a:cubicBezTo>
                <a:lnTo>
                  <a:pt x="10807" y="14482"/>
                </a:lnTo>
                <a:cubicBezTo>
                  <a:pt x="11843" y="14482"/>
                  <a:pt x="12644" y="13751"/>
                  <a:pt x="12644" y="12828"/>
                </a:cubicBezTo>
                <a:lnTo>
                  <a:pt x="12644" y="7493"/>
                </a:lnTo>
                <a:lnTo>
                  <a:pt x="10807" y="7493"/>
                </a:lnTo>
                <a:lnTo>
                  <a:pt x="14315" y="3985"/>
                </a:lnTo>
                <a:lnTo>
                  <a:pt x="17988" y="7493"/>
                </a:lnTo>
                <a:lnTo>
                  <a:pt x="16152" y="7493"/>
                </a:lnTo>
                <a:lnTo>
                  <a:pt x="16152" y="12828"/>
                </a:lnTo>
                <a:cubicBezTo>
                  <a:pt x="16152" y="15596"/>
                  <a:pt x="13575" y="18155"/>
                  <a:pt x="10807" y="18155"/>
                </a:cubicBezTo>
                <a:lnTo>
                  <a:pt x="9145" y="18155"/>
                </a:lnTo>
                <a:cubicBezTo>
                  <a:pt x="6377" y="18155"/>
                  <a:pt x="3801" y="15596"/>
                  <a:pt x="3801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89160" y="5964120"/>
            <a:ext cx="2154240" cy="59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GB" sz="3200" spc="-1" strike="noStrike" u="sng">
                <a:solidFill>
                  <a:srgbClr val="fc0128"/>
                </a:solidFill>
                <a:uFillTx/>
                <a:latin typeface="Times New Roman"/>
                <a:hlinkClick r:id="rId9" action="ppaction://hlinksldjump"/>
              </a:rPr>
              <a:t>Integ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9840" y="533160"/>
            <a:ext cx="6661440" cy="7556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i="1" lang="en-GB" sz="4000" spc="-1" strike="noStrike">
                <a:solidFill>
                  <a:srgbClr val="ffff99"/>
                </a:solidFill>
                <a:latin typeface="Times New Roman"/>
              </a:rPr>
              <a:t>General Ledger KEY Features</a:t>
            </a:r>
            <a:endParaRPr b="1" i="1" lang="en-US" sz="40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9640" y="1800000"/>
            <a:ext cx="74008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409320" indent="-409320">
              <a:lnSpc>
                <a:spcPct val="115000"/>
              </a:lnSpc>
              <a:spcAft>
                <a:spcPts val="1312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r" pos="42084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Financial Multi Company Structur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09320" indent="-409320">
              <a:lnSpc>
                <a:spcPct val="115000"/>
              </a:lnSpc>
              <a:spcAft>
                <a:spcPts val="1312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r" pos="42084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Euro/Year 2000 Compliant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09320" indent="-409320">
              <a:lnSpc>
                <a:spcPct val="115000"/>
              </a:lnSpc>
              <a:spcAft>
                <a:spcPts val="1312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r" pos="42084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Chart of Accounts</a:t>
            </a:r>
            <a:br>
              <a:rPr sz="2100"/>
            </a:b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- Parent-child relations</a:t>
            </a:r>
            <a:br>
              <a:rPr sz="2100"/>
            </a:b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- User-definable dimension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09320" indent="-409320">
              <a:lnSpc>
                <a:spcPct val="115000"/>
              </a:lnSpc>
              <a:spcAft>
                <a:spcPts val="1312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r" pos="42084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Drill Down on Financial Information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09320" indent="-409320">
              <a:lnSpc>
                <a:spcPct val="115000"/>
              </a:lnSpc>
              <a:spcAft>
                <a:spcPts val="1312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r" pos="42084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Multiple Calendar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09320" indent="-409320">
              <a:lnSpc>
                <a:spcPct val="115000"/>
              </a:lnSpc>
              <a:spcAft>
                <a:spcPts val="1312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r" pos="42084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Central Transaction Processing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09320" indent="-409320">
              <a:lnSpc>
                <a:spcPct val="115000"/>
              </a:lnSpc>
              <a:spcAft>
                <a:spcPts val="1312"/>
              </a:spcAft>
              <a:buClr>
                <a:srgbClr val="618ffd"/>
              </a:buClr>
              <a:buSzPct val="65000"/>
              <a:buFont typeface="Monotype Sorts" charset="2"/>
              <a:buChar char=""/>
              <a:tabLst>
                <a:tab algn="r" pos="42084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Multiple Currencie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265800" y="4572000"/>
            <a:ext cx="104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35640" y="5943600"/>
            <a:ext cx="97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95960" y="4883040"/>
            <a:ext cx="1184400" cy="74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195960" y="4870440"/>
            <a:ext cx="1184400" cy="851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343160" y="5251320"/>
            <a:ext cx="901440" cy="47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245280" y="2145960"/>
            <a:ext cx="1042920" cy="469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5280" y="2768760"/>
            <a:ext cx="111276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01680" y="4654440"/>
            <a:ext cx="104292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9120" y="259920"/>
            <a:ext cx="645300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afd8b"/>
                </a:solidFill>
                <a:latin typeface="Times New Roman"/>
              </a:rPr>
              <a:t>Multi-Site Scenarios</a:t>
            </a:r>
            <a:endParaRPr b="1" i="1" lang="en-US" sz="4800" spc="-1" strike="noStrike">
              <a:solidFill>
                <a:srgbClr val="fafd8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8440" y="1789200"/>
            <a:ext cx="664920" cy="720720"/>
          </a:xfrm>
          <a:prstGeom prst="ellipse">
            <a:avLst/>
          </a:prstGeom>
          <a:gradFill rotWithShape="0">
            <a:gsLst>
              <a:gs pos="0">
                <a:srgbClr val="0032ca"/>
              </a:gs>
              <a:gs pos="100000">
                <a:srgbClr val="000e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8b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3480" y="5432400"/>
            <a:ext cx="665280" cy="720720"/>
          </a:xfrm>
          <a:prstGeom prst="ellipse">
            <a:avLst/>
          </a:prstGeom>
          <a:gradFill rotWithShape="0">
            <a:gsLst>
              <a:gs pos="0">
                <a:srgbClr val="0032ca"/>
              </a:gs>
              <a:gs pos="100000">
                <a:srgbClr val="000e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8b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6440" y="4233960"/>
            <a:ext cx="664920" cy="720720"/>
          </a:xfrm>
          <a:prstGeom prst="ellipse">
            <a:avLst/>
          </a:prstGeom>
          <a:gradFill rotWithShape="0">
            <a:gsLst>
              <a:gs pos="0">
                <a:srgbClr val="0032ca"/>
              </a:gs>
              <a:gs pos="100000">
                <a:srgbClr val="000e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8b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20840" y="4795920"/>
            <a:ext cx="665280" cy="720720"/>
          </a:xfrm>
          <a:prstGeom prst="ellipse">
            <a:avLst/>
          </a:prstGeom>
          <a:gradFill rotWithShape="0">
            <a:gsLst>
              <a:gs pos="0">
                <a:srgbClr val="00c200"/>
              </a:gs>
              <a:gs pos="100000">
                <a:srgbClr val="003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8b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97640" y="4287960"/>
            <a:ext cx="664920" cy="720720"/>
          </a:xfrm>
          <a:prstGeom prst="ellipse">
            <a:avLst/>
          </a:prstGeom>
          <a:gradFill rotWithShape="0">
            <a:gsLst>
              <a:gs pos="0">
                <a:srgbClr val="0032ca"/>
              </a:gs>
              <a:gs pos="100000">
                <a:srgbClr val="000e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8b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51000" y="2152800"/>
            <a:ext cx="90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91440" y="2928960"/>
            <a:ext cx="665280" cy="720720"/>
          </a:xfrm>
          <a:prstGeom prst="ellipse">
            <a:avLst/>
          </a:prstGeom>
          <a:gradFill rotWithShape="0">
            <a:gsLst>
              <a:gs pos="0">
                <a:srgbClr val="00c200"/>
              </a:gs>
              <a:gs pos="100000">
                <a:srgbClr val="003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8b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29320" y="2309760"/>
            <a:ext cx="665280" cy="720720"/>
          </a:xfrm>
          <a:prstGeom prst="ellipse">
            <a:avLst/>
          </a:prstGeom>
          <a:gradFill rotWithShape="0">
            <a:gsLst>
              <a:gs pos="0">
                <a:srgbClr val="0032ca"/>
              </a:gs>
              <a:gs pos="100000">
                <a:srgbClr val="000e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8b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99360" y="4268880"/>
            <a:ext cx="665280" cy="720720"/>
          </a:xfrm>
          <a:prstGeom prst="ellipse">
            <a:avLst/>
          </a:prstGeom>
          <a:gradFill rotWithShape="0">
            <a:gsLst>
              <a:gs pos="0">
                <a:srgbClr val="00c200"/>
              </a:gs>
              <a:gs pos="100000">
                <a:srgbClr val="003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8b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64240" y="5570640"/>
            <a:ext cx="665280" cy="720720"/>
          </a:xfrm>
          <a:prstGeom prst="ellipse">
            <a:avLst/>
          </a:prstGeom>
          <a:gradFill rotWithShape="0">
            <a:gsLst>
              <a:gs pos="0">
                <a:srgbClr val="0032ca"/>
              </a:gs>
              <a:gs pos="100000">
                <a:srgbClr val="000e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8b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15200" y="5499000"/>
            <a:ext cx="692280" cy="749520"/>
          </a:xfrm>
          <a:prstGeom prst="ellipse">
            <a:avLst/>
          </a:prstGeom>
          <a:gradFill rotWithShape="0">
            <a:gsLst>
              <a:gs pos="0">
                <a:srgbClr val="00c200"/>
              </a:gs>
              <a:gs pos="100000">
                <a:srgbClr val="003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8b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28680" y="1805040"/>
            <a:ext cx="665280" cy="720720"/>
          </a:xfrm>
          <a:prstGeom prst="ellipse">
            <a:avLst/>
          </a:prstGeom>
          <a:gradFill rotWithShape="0">
            <a:gsLst>
              <a:gs pos="0">
                <a:srgbClr val="00c200"/>
              </a:gs>
              <a:gs pos="100000">
                <a:srgbClr val="003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8b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62640" y="1728720"/>
            <a:ext cx="665280" cy="720720"/>
          </a:xfrm>
          <a:prstGeom prst="ellipse">
            <a:avLst/>
          </a:prstGeom>
          <a:gradFill rotWithShape="0">
            <a:gsLst>
              <a:gs pos="0">
                <a:srgbClr val="00c200"/>
              </a:gs>
              <a:gs pos="100000">
                <a:srgbClr val="003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8b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3160" y="1346040"/>
            <a:ext cx="4009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8b"/>
                </a:solidFill>
                <a:latin typeface="Arial"/>
              </a:rPr>
              <a:t>Single Finance-Single Logis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4080" y="3765600"/>
            <a:ext cx="369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8b"/>
                </a:solidFill>
                <a:latin typeface="Arial"/>
              </a:rPr>
              <a:t>Multi Finance-Single Logis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7840" y="1346040"/>
            <a:ext cx="384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8b"/>
                </a:solidFill>
                <a:latin typeface="Arial"/>
              </a:rPr>
              <a:t>Single Finance-Multi Logis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38600" y="3765600"/>
            <a:ext cx="352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8b"/>
                </a:solidFill>
                <a:latin typeface="Arial"/>
              </a:rPr>
              <a:t>Multi Finance-Multi Logis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3T14:57:58Z</dcterms:created>
  <dc:creator>Rent-a-Computer</dc:creator>
  <dc:description/>
  <dc:language>en-US</dc:language>
  <cp:lastModifiedBy>Viraf S. Adajania</cp:lastModifiedBy>
  <cp:lastPrinted>1998-09-29T07:20:53Z</cp:lastPrinted>
  <dcterms:modified xsi:type="dcterms:W3CDTF">1999-09-18T07:49:10Z</dcterms:modified>
  <cp:revision>343</cp:revision>
  <dc:subject/>
  <dc:title>No Slide Title</dc:title>
</cp:coreProperties>
</file>